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A24-265F-40CE-A72C-B040A05E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94F-9DEF-4E5E-85EF-B63F4BE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591-9E81-4107-82C7-74F4B26E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377-9BAD-4FAE-8DB4-A809B6E5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34E2-B16B-48A5-94F7-C6803888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A30-8B04-42B3-A563-AA8E1BE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C32-09B0-47CA-A655-9B92EC80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F73B-8FFD-424C-9FC4-5775F15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1BAD-EECA-44DE-9763-3A9E2AD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392C-7648-436F-9FDF-0EB8FF18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2528-04AF-401F-B3B9-B877255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EE7-7240-4D80-9999-DAD5829F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69C7-8D81-43E8-9F9C-D6F6A33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C064-3EF5-4197-A70F-9DC619C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A99-256E-421E-81AB-866E97C5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A87-5645-4E05-A663-4B0CA163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67E-C337-4E99-8FD8-F0DBD5A8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1555-1A15-4510-A937-50247424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3D22-5F8E-4459-8D93-C650172E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8F52-BD8D-4D9F-864A-EFC709D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8253-54A5-4D2B-BA91-4CE77675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72D1-B929-4AFD-BDE5-CE0552F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CA8-5D46-4FAB-B8B6-B3FC3A75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EC5E-90DF-4461-9B90-EEF5C12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5DCB-C68F-4D9A-81B5-6DFE6F4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4C41-63E6-4798-925B-CC6EC7E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F006-1FF2-4517-9661-424B335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74C1-82B2-44D4-9DAE-DA9C4176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0830-65D2-4F77-980A-02BA0C2A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4144-AEFC-42AF-A66D-28BF9110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2CB8-7F45-4A0B-99C2-8965732F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E75F-AD97-417B-A9E6-9A59FA5E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22695-14E8-4448-B9D2-E1EE4D52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5A5-296C-4958-92C8-ACC132E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483B-4982-4179-B9D6-E4D916DE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57F5-10BD-4DB5-8EDE-5BE111D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BE3E-580E-4C1C-AF59-FA66922F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1530-B261-449E-9BE3-53BEC2E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DAAA-AAF7-4843-88E0-61465DC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CD30-D2BF-4E42-B83A-3B7DE54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54E1-DE3F-4C63-91AB-B48F639F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BBA4-2266-4FDC-ADE1-3EB49C45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D59A-08BB-465C-B47C-9EE7352C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F5C-C2C4-4210-BC87-4748AD6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FB2-2099-4DFE-B885-3DB29F75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BB3-55A5-4259-9789-806A2BD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326-27BB-416A-B101-25A23019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602-0893-4487-BAE4-E366E6F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1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3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10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16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37D779-3500-43BB-9276-CFF6AF214FD5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65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66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67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9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3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74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80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1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2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3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4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78FAAE4-4F7B-478A-888A-F36EE69F92B1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129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130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131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138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9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0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1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2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144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5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6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7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8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4812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09440" y="2500200"/>
            <a:ext cx="3481200" cy="25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9B3A6B6-C7DF-4F45-81B0-C6F971382732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479200" y="1436760"/>
            <a:ext cx="1086120" cy="10861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7" name="Oval 32"/>
          <p:cNvSpPr/>
          <p:nvPr/>
        </p:nvSpPr>
        <p:spPr>
          <a:xfrm>
            <a:off x="5650560" y="1411920"/>
            <a:ext cx="830160" cy="83016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8" name="Oval 28"/>
          <p:cNvSpPr/>
          <p:nvPr/>
        </p:nvSpPr>
        <p:spPr>
          <a:xfrm>
            <a:off x="5256360" y="1894320"/>
            <a:ext cx="601920" cy="6019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5424120" y="1811160"/>
            <a:ext cx="489240" cy="48924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4718880" y="2083320"/>
            <a:ext cx="256320" cy="2563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1" name="Oval 29"/>
          <p:cNvSpPr/>
          <p:nvPr/>
        </p:nvSpPr>
        <p:spPr>
          <a:xfrm>
            <a:off x="6132240" y="993240"/>
            <a:ext cx="256320" cy="2563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2" name="Oval 33"/>
          <p:cNvSpPr/>
          <p:nvPr/>
        </p:nvSpPr>
        <p:spPr>
          <a:xfrm>
            <a:off x="5059440" y="1894320"/>
            <a:ext cx="196920" cy="19692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3" name="Oval 34"/>
          <p:cNvSpPr/>
          <p:nvPr/>
        </p:nvSpPr>
        <p:spPr>
          <a:xfrm>
            <a:off x="6148800" y="1060560"/>
            <a:ext cx="196920" cy="19692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body"/>
          </p:nvPr>
        </p:nvSpPr>
        <p:spPr>
          <a:xfrm>
            <a:off x="4876920" y="1600200"/>
            <a:ext cx="3428640" cy="3428640"/>
          </a:xfrm>
          <a:prstGeom prst="rect">
            <a:avLst/>
          </a:prstGeom>
          <a:noFill/>
          <a:ln w="76320">
            <a:solidFill>
              <a:srgbClr val="175c88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авка рисунк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202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203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204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0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211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6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217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21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348200" y="1812960"/>
            <a:ext cx="3132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1009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5001480" y="1812960"/>
            <a:ext cx="3132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663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dt" idx="10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 type="ftr" idx="11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8"/>
          <p:cNvSpPr>
            <a:spLocks noGrp="1"/>
          </p:cNvSpPr>
          <p:nvPr>
            <p:ph type="sldNum" idx="12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BF56253-67F3-484A-90B0-1990C014F0F5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bzik.pri.ee/modules/news/article.php?storyid=70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640"/>
            <a:ext cx="8136720" cy="172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99cdee"/>
                </a:solidFill>
                <a:latin typeface="Candara"/>
                <a:ea typeface="Calibri"/>
              </a:rPr>
              <a:t>лыжный спорт</a:t>
            </a:r>
            <a:endParaRPr b="0" lang="ru-RU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9440" y="4221000"/>
            <a:ext cx="78105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Презентацию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                   </a:t>
            </a: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МБОУ СОШ №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Хлопунова Н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2" descr="C:\Users\Дом\Desktop\c12820d0-1485-11e8-809c-c53acc783ce8.jpg"/>
          <p:cNvPicPr/>
          <p:nvPr/>
        </p:nvPicPr>
        <p:blipFill>
          <a:blip r:embed="rId1"/>
          <a:stretch/>
        </p:blipFill>
        <p:spPr>
          <a:xfrm>
            <a:off x="251640" y="3141000"/>
            <a:ext cx="4311720" cy="33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Чтобы участвовать в лыжных гонках надо освоить:</a:t>
            </a:r>
            <a:br>
              <a:rPr sz="2500"/>
            </a:b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ходьбу скользящем шагом без палок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4160"/>
            <a:ext cx="496332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4" descr="Картинки лыжи 1"/>
          <p:cNvPicPr/>
          <p:nvPr/>
        </p:nvPicPr>
        <p:blipFill>
          <a:blip r:embed="rId1"/>
          <a:srcRect l="6711" t="58760" r="70370" b="15250"/>
          <a:stretch/>
        </p:blipFill>
        <p:spPr>
          <a:xfrm>
            <a:off x="827640" y="1989000"/>
            <a:ext cx="691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Научиться подниматься полуёлочкой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378828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83000"/>
              </a:lnSpc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2500" spc="-1" strike="noStrike">
                <a:solidFill>
                  <a:srgbClr val="0000cc"/>
                </a:solidFill>
                <a:latin typeface="Verdana"/>
              </a:rPr>
              <a:t>.                                                                                                                                                                                                     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4" descr="Картинки лыжи 1"/>
          <p:cNvPicPr/>
          <p:nvPr/>
        </p:nvPicPr>
        <p:blipFill>
          <a:blip r:embed="rId1"/>
          <a:srcRect l="29253" t="50002" r="46860" b="13987"/>
          <a:stretch/>
        </p:blipFill>
        <p:spPr>
          <a:xfrm>
            <a:off x="1259640" y="1917000"/>
            <a:ext cx="648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А также подниматься лесенкой</a:t>
            </a:r>
            <a:endParaRPr b="0" lang="ru-RU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378828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4" descr="Картинки 2"/>
          <p:cNvPicPr/>
          <p:nvPr/>
        </p:nvPicPr>
        <p:blipFill>
          <a:blip r:embed="rId1"/>
          <a:srcRect l="53251" t="61391" r="27328" b="8962"/>
          <a:stretch/>
        </p:blipFill>
        <p:spPr>
          <a:xfrm>
            <a:off x="1331640" y="1700640"/>
            <a:ext cx="5976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3333cc"/>
                </a:solidFill>
                <a:latin typeface="Verdana"/>
              </a:rPr>
              <a:t>Хорошо освоить спуск на лыжах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424620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4" descr="Картинки лыжи 1"/>
          <p:cNvPicPr/>
          <p:nvPr/>
        </p:nvPicPr>
        <p:blipFill>
          <a:blip r:embed="rId1"/>
          <a:srcRect l="67181" t="55933" r="8666" b="16270"/>
          <a:stretch/>
        </p:blipFill>
        <p:spPr>
          <a:xfrm>
            <a:off x="1331640" y="1917000"/>
            <a:ext cx="6480360" cy="43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480" y="188640"/>
            <a:ext cx="82278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Знать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попеременный двушажный ход</a:t>
            </a:r>
            <a:endParaRPr b="0" lang="ru-RU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5840" y="881280"/>
            <a:ext cx="84884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4" descr="Картинки 2"/>
          <p:cNvPicPr/>
          <p:nvPr/>
        </p:nvPicPr>
        <p:blipFill>
          <a:blip r:embed="rId1"/>
          <a:srcRect l="5076" t="50002" r="49948" b="9525"/>
          <a:stretch/>
        </p:blipFill>
        <p:spPr>
          <a:xfrm>
            <a:off x="755640" y="1403280"/>
            <a:ext cx="7128360" cy="49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Уметь тормозить плугом</a:t>
            </a:r>
            <a:endParaRPr b="0" lang="ru-RU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35276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4" descr="Картинки 2"/>
          <p:cNvPicPr/>
          <p:nvPr/>
        </p:nvPicPr>
        <p:blipFill>
          <a:blip r:embed="rId1"/>
          <a:srcRect l="77188" t="58106" r="-1352" b="6760"/>
          <a:stretch/>
        </p:blipFill>
        <p:spPr>
          <a:xfrm>
            <a:off x="1331640" y="1845000"/>
            <a:ext cx="640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7640" y="675720"/>
            <a:ext cx="75603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 горжус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земляками-чемпион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по лыжному спорту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79640" y="1916640"/>
            <a:ext cx="6588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ихали́на Анато́льевна Лы́сов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01480" y="1812960"/>
            <a:ext cx="3132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683640" y="5733360"/>
            <a:ext cx="7776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2060"/>
              </a:solidFill>
              <a:latin typeface="Verdana"/>
            </a:endParaRPr>
          </a:p>
        </p:txBody>
      </p:sp>
      <p:pic>
        <p:nvPicPr>
          <p:cNvPr id="354" name="Picture 2" descr="C:\Users\Дом\Desktop\255px-Mikhalina_Lysova_2018.jpg"/>
          <p:cNvPicPr/>
          <p:nvPr/>
        </p:nvPicPr>
        <p:blipFill>
          <a:blip r:embed="rId1"/>
          <a:stretch/>
        </p:blipFill>
        <p:spPr>
          <a:xfrm>
            <a:off x="2627640" y="2925000"/>
            <a:ext cx="4392000" cy="338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3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09440" y="3501000"/>
            <a:ext cx="71247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йская биатлонистка и лыжница, выступающая среди спортсменов с ограниченными возможностями, шестикратная паралимпийская чемпионка, восьмикратный серебряный призёр и трёхкратный бронзовый призёр зимних Паралимпийских игр в лыжных гонках и биатлоне, выступающая в классе спортсменов с нарушением зрения. Четырёхкратная чемпионка мира и трёхкратный серебряный призёр чемпионата мира (2011). Заслуженный мастер спорта.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3" descr="C:\Users\Дом\Desktop\images.jpg"/>
          <p:cNvPicPr/>
          <p:nvPr/>
        </p:nvPicPr>
        <p:blipFill>
          <a:blip r:embed="rId1"/>
          <a:stretch/>
        </p:blipFill>
        <p:spPr>
          <a:xfrm>
            <a:off x="1691640" y="404640"/>
            <a:ext cx="518436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61" name="Прямоугольник с одним скругленным углом 6"/>
          <p:cNvSpPr/>
          <p:nvPr/>
        </p:nvSpPr>
        <p:spPr>
          <a:xfrm rot="10800000">
            <a:off x="428760" y="2145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96640" y="45360"/>
            <a:ext cx="298224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28800" y="1192320"/>
            <a:ext cx="72864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нятия спортом – это залог здоровь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порт укрепляет организм, делает нас выносливее. Занятия спортом разнообразны и популяр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66" name="Прямоугольник с одним скругленным углом 6"/>
          <p:cNvSpPr/>
          <p:nvPr/>
        </p:nvSpPr>
        <p:spPr>
          <a:xfrm rot="10800000">
            <a:off x="428760" y="2145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00040" y="383400"/>
            <a:ext cx="592884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Со спортом нужно подружи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Всем тем, кто с ним еще не друже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Поможет вам он всем взбодри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Он для здоровья очень н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Ни для кого секрета нет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Что может дать всем людям спор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Поможет всем он на планет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Добиться сказочных высот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K:\iTBM2K5IR.jpg"/>
          <p:cNvPicPr/>
          <p:nvPr/>
        </p:nvPicPr>
        <p:blipFill>
          <a:blip r:embed="rId1"/>
          <a:stretch/>
        </p:blipFill>
        <p:spPr>
          <a:xfrm>
            <a:off x="6986520" y="2305080"/>
            <a:ext cx="2071440" cy="2084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K:\iIQJZUAL8.jpg"/>
          <p:cNvPicPr/>
          <p:nvPr/>
        </p:nvPicPr>
        <p:blipFill>
          <a:blip r:embed="rId2"/>
          <a:stretch/>
        </p:blipFill>
        <p:spPr>
          <a:xfrm>
            <a:off x="6199200" y="444600"/>
            <a:ext cx="2201400" cy="3614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K:\iN6DMGDZ2.jpg"/>
          <p:cNvPicPr/>
          <p:nvPr/>
        </p:nvPicPr>
        <p:blipFill>
          <a:blip r:embed="rId3"/>
          <a:stretch/>
        </p:blipFill>
        <p:spPr>
          <a:xfrm>
            <a:off x="6132600" y="4151160"/>
            <a:ext cx="2230200" cy="39193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9"/>
          <p:cNvSpPr/>
          <p:nvPr/>
        </p:nvSpPr>
        <p:spPr>
          <a:xfrm>
            <a:off x="3076920" y="5643720"/>
            <a:ext cx="221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етлана Оле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5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5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96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9440" y="908640"/>
            <a:ext cx="7450560" cy="53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Чтотакое лыжный спорт</a:t>
            </a: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ru-RU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Лыжный спорт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это сочетание различных видов зимнего спорта в соревнованиях по которым спортсмены используют лыжи.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родился лыжный спорт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в Норвегии в 18 веке. 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ыжный спорт можно поделить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на  следующие большие категории: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Рисунок 8" descr="C:\Users\User2\AppData\Local\Microsoft\Windows\Temporary Internet Files\Content.IE5\WW38NOWO\MC900088782[1].wmf"/>
          <p:cNvPicPr/>
          <p:nvPr/>
        </p:nvPicPr>
        <p:blipFill>
          <a:blip r:embed="rId1"/>
          <a:stretch/>
        </p:blipFill>
        <p:spPr>
          <a:xfrm>
            <a:off x="6804360" y="4005000"/>
            <a:ext cx="2298960" cy="27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ru-RU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277" name="Прямоугольник с одним скругленным углом 6"/>
          <p:cNvSpPr/>
          <p:nvPr/>
        </p:nvSpPr>
        <p:spPr>
          <a:xfrm rot="10800000">
            <a:off x="-499680" y="571680"/>
            <a:ext cx="8286480" cy="6286320"/>
          </a:xfrm>
          <a:prstGeom prst="round1Rect">
            <a:avLst>
              <a:gd name="adj" fmla="val 79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78" name="Блок-схема: альтернативный процесс 9"/>
          <p:cNvSpPr/>
          <p:nvPr/>
        </p:nvSpPr>
        <p:spPr>
          <a:xfrm>
            <a:off x="3286080" y="2714760"/>
            <a:ext cx="2428560" cy="928440"/>
          </a:xfrm>
          <a:prstGeom prst="flowChartAlternateProcess">
            <a:avLst/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Verdana"/>
              </a:rPr>
              <a:t>Лы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5" descr="Pryzhki-s-tramplina2729.jpg"/>
          <p:cNvPicPr/>
          <p:nvPr/>
        </p:nvPicPr>
        <p:blipFill>
          <a:blip r:embed="rId1"/>
          <a:stretch/>
        </p:blipFill>
        <p:spPr>
          <a:xfrm>
            <a:off x="2437200" y="206640"/>
            <a:ext cx="2445840" cy="1734840"/>
          </a:xfrm>
          <a:prstGeom prst="rect">
            <a:avLst/>
          </a:prstGeom>
          <a:ln w="0">
            <a:noFill/>
          </a:ln>
          <a:effectLst>
            <a:outerShdw algn="tl" rotWithShape="0">
              <a:srgbClr val="000000">
                <a:alpha val="70000"/>
              </a:srgbClr>
            </a:outerShdw>
          </a:effectLst>
        </p:spPr>
      </p:pic>
      <p:pic>
        <p:nvPicPr>
          <p:cNvPr id="280" name="Рисунок 4" descr="9fd36ee52d64.jpg"/>
          <p:cNvPicPr/>
          <p:nvPr/>
        </p:nvPicPr>
        <p:blipFill>
          <a:blip r:embed="rId2"/>
          <a:stretch/>
        </p:blipFill>
        <p:spPr>
          <a:xfrm>
            <a:off x="6170760" y="246600"/>
            <a:ext cx="1517400" cy="20570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8" descr="1228637206_snowboarding.jpg"/>
          <p:cNvPicPr/>
          <p:nvPr/>
        </p:nvPicPr>
        <p:blipFill>
          <a:blip r:embed="rId3"/>
          <a:stretch/>
        </p:blipFill>
        <p:spPr>
          <a:xfrm>
            <a:off x="304920" y="4788360"/>
            <a:ext cx="2533320" cy="15948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" descr="Ski_freestyle.jpg"/>
          <p:cNvPicPr/>
          <p:nvPr/>
        </p:nvPicPr>
        <p:blipFill>
          <a:blip r:embed="rId4"/>
          <a:stretch/>
        </p:blipFill>
        <p:spPr>
          <a:xfrm>
            <a:off x="3286080" y="4357800"/>
            <a:ext cx="1922040" cy="24379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9" descr="1505.jpg"/>
          <p:cNvPicPr/>
          <p:nvPr/>
        </p:nvPicPr>
        <p:blipFill>
          <a:blip r:embed="rId5"/>
          <a:stretch/>
        </p:blipFill>
        <p:spPr>
          <a:xfrm>
            <a:off x="5940000" y="5064840"/>
            <a:ext cx="2088000" cy="1474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6"/>
          <a:stretch/>
        </p:blipFill>
        <p:spPr>
          <a:xfrm>
            <a:off x="304920" y="127440"/>
            <a:ext cx="1746720" cy="2528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8"/>
          <p:cNvSpPr/>
          <p:nvPr/>
        </p:nvSpPr>
        <p:spPr>
          <a:xfrm>
            <a:off x="0" y="2643120"/>
            <a:ext cx="2285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Лыжные го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2928960" y="1928880"/>
            <a:ext cx="31428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Прыжки с трамп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0"/>
          <p:cNvSpPr/>
          <p:nvPr/>
        </p:nvSpPr>
        <p:spPr>
          <a:xfrm>
            <a:off x="6352920" y="2214720"/>
            <a:ext cx="14112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Биатл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1"/>
          <p:cNvSpPr/>
          <p:nvPr/>
        </p:nvSpPr>
        <p:spPr>
          <a:xfrm>
            <a:off x="461160" y="4286160"/>
            <a:ext cx="2382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Сноуборд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2"/>
          <p:cNvSpPr/>
          <p:nvPr/>
        </p:nvSpPr>
        <p:spPr>
          <a:xfrm>
            <a:off x="3129120" y="4000680"/>
            <a:ext cx="1644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Фристай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3"/>
          <p:cNvSpPr/>
          <p:nvPr/>
        </p:nvSpPr>
        <p:spPr>
          <a:xfrm>
            <a:off x="5786280" y="4286160"/>
            <a:ext cx="2817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Горнолыжный  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4"/>
          <p:cNvSpPr/>
          <p:nvPr/>
        </p:nvSpPr>
        <p:spPr>
          <a:xfrm>
            <a:off x="6496560" y="3214800"/>
            <a:ext cx="1737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Лыж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двоебор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27"/>
          <p:cNvCxnSpPr/>
          <p:nvPr/>
        </p:nvCxnSpPr>
        <p:spPr>
          <a:xfrm>
            <a:off x="5643360" y="3643200"/>
            <a:ext cx="1143360" cy="71460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3" name="Прямая со стрелкой 29"/>
          <p:cNvCxnSpPr/>
          <p:nvPr/>
        </p:nvCxnSpPr>
        <p:spPr>
          <a:xfrm>
            <a:off x="5786280" y="3143160"/>
            <a:ext cx="929160" cy="21456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4" name="Прямая со стрелкой 31"/>
          <p:cNvCxnSpPr/>
          <p:nvPr/>
        </p:nvCxnSpPr>
        <p:spPr>
          <a:xfrm flipV="1">
            <a:off x="5572080" y="2500200"/>
            <a:ext cx="928800" cy="28620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5" name="Прямая со стрелкой 33"/>
          <p:cNvCxnSpPr>
            <a:stCxn id="278" idx="0"/>
            <a:endCxn id="286" idx="2"/>
          </p:cNvCxnSpPr>
          <p:nvPr/>
        </p:nvCxnSpPr>
        <p:spPr>
          <a:xfrm flipV="1">
            <a:off x="4500360" y="2360520"/>
            <a:ext cx="1800" cy="35424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6" name="Прямая со стрелкой 35"/>
          <p:cNvCxnSpPr/>
          <p:nvPr/>
        </p:nvCxnSpPr>
        <p:spPr>
          <a:xfrm flipH="1" flipV="1">
            <a:off x="2214360" y="2857320"/>
            <a:ext cx="1072080" cy="14328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7" name="Прямая со стрелкой 37"/>
          <p:cNvCxnSpPr/>
          <p:nvPr/>
        </p:nvCxnSpPr>
        <p:spPr>
          <a:xfrm flipH="1">
            <a:off x="1571400" y="3429000"/>
            <a:ext cx="1715040" cy="92880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8" name="Прямая со стрелкой 39"/>
          <p:cNvCxnSpPr/>
          <p:nvPr/>
        </p:nvCxnSpPr>
        <p:spPr>
          <a:xfrm flipH="1">
            <a:off x="4143240" y="3714480"/>
            <a:ext cx="143280" cy="42912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вые лыжи были ступающие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7640" y="1989000"/>
            <a:ext cx="4023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Одна из </a:t>
            </a: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самых древних – сделана около 4300 лет назад.</a:t>
            </a:r>
            <a:br>
              <a:rPr sz="2800"/>
            </a:b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Такие лыжи </a:t>
            </a: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использова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лись</a:t>
            </a: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 народами Севера во время охоты за зверем. 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356000" y="1772640"/>
            <a:ext cx="37440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418200" cy="96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640" y="908640"/>
            <a:ext cx="460800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3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GB" sz="4000" spc="-1" strike="noStrike">
                <a:solidFill>
                  <a:srgbClr val="0000cc"/>
                </a:solidFill>
                <a:latin typeface="Verdana"/>
              </a:rPr>
              <a:t>Кроме  охоты, лыжи стали использовать как средство связи и в военном деле</a:t>
            </a:r>
            <a:r>
              <a:rPr b="0" lang="ru-RU" sz="4000" spc="-1" strike="noStrike">
                <a:solidFill>
                  <a:srgbClr val="0000cc"/>
                </a:solidFill>
                <a:latin typeface="Verdana"/>
              </a:rPr>
              <a:t>.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4" name="Picture 2" descr="http://www.lobzik.pri.ee/catalog/341/old_skis_09.jpg">
            <a:hlinkClick r:id="rId1"/>
          </p:cNvPr>
          <p:cNvPicPr/>
          <p:nvPr/>
        </p:nvPicPr>
        <p:blipFill>
          <a:blip r:embed="rId2"/>
          <a:srcRect l="18364" t="0" r="18364" b="0"/>
          <a:stretch/>
        </p:blipFill>
        <p:spPr>
          <a:xfrm>
            <a:off x="4572000" y="1628640"/>
            <a:ext cx="3672000" cy="3428640"/>
          </a:xfrm>
          <a:prstGeom prst="rect">
            <a:avLst/>
          </a:prstGeom>
          <a:ln w="76200">
            <a:solidFill>
              <a:srgbClr val="1f7bb6">
                <a:lumMod val="7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418200" cy="96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7640" y="1052640"/>
            <a:ext cx="460800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На Руси л</a:t>
            </a:r>
            <a:r>
              <a:rPr b="0" lang="en-GB" sz="3200" spc="-1" strike="noStrike">
                <a:solidFill>
                  <a:srgbClr val="0000cc"/>
                </a:solidFill>
                <a:latin typeface="Verdana"/>
              </a:rPr>
              <a:t>ыжи использовались в армиях Петра I и Екатерины II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, 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а ещё во время </a:t>
            </a:r>
            <a:r>
              <a:rPr b="0" lang="en-GB" sz="3200" spc="-1" strike="noStrike">
                <a:solidFill>
                  <a:srgbClr val="0000cc"/>
                </a:solidFill>
                <a:latin typeface="Verdana"/>
              </a:rPr>
              <a:t>народных потех, забав, игрищ, развлечений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.</a:t>
            </a:r>
            <a:r>
              <a:rPr b="0" lang="en-GB" sz="32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2" descr="C:\Users\Дом\Desktop\лыыы.jpg"/>
          <p:cNvPicPr/>
          <p:nvPr/>
        </p:nvPicPr>
        <p:blipFill>
          <a:blip r:embed="rId1"/>
          <a:srcRect l="0" t="13032" r="0" b="13032"/>
          <a:stretch/>
        </p:blipFill>
        <p:spPr>
          <a:xfrm>
            <a:off x="4356000" y="3501000"/>
            <a:ext cx="3805560" cy="2952000"/>
          </a:xfrm>
          <a:prstGeom prst="rect">
            <a:avLst/>
          </a:prstGeom>
          <a:ln w="76200">
            <a:solidFill>
              <a:srgbClr val="1f7bb6">
                <a:lumMod val="75000"/>
              </a:srgbClr>
            </a:solidFill>
            <a:round/>
          </a:ln>
        </p:spPr>
      </p:pic>
      <p:pic>
        <p:nvPicPr>
          <p:cNvPr id="308" name="Picture 3" descr="C:\Users\Дом\Desktop\Без названия (1).jpg"/>
          <p:cNvPicPr/>
          <p:nvPr/>
        </p:nvPicPr>
        <p:blipFill>
          <a:blip r:embed="rId2"/>
          <a:stretch/>
        </p:blipFill>
        <p:spPr>
          <a:xfrm>
            <a:off x="4788000" y="620640"/>
            <a:ext cx="2892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11" name="Прямоугольник с одним скругленным углом 6"/>
          <p:cNvSpPr/>
          <p:nvPr/>
        </p:nvSpPr>
        <p:spPr>
          <a:xfrm rot="10800000">
            <a:off x="428760" y="2145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12" name="Picture 1" descr="I:\лыжи\FotoTeleWow33.jpg"/>
          <p:cNvPicPr/>
          <p:nvPr/>
        </p:nvPicPr>
        <p:blipFill>
          <a:blip r:embed="rId1"/>
          <a:stretch/>
        </p:blipFill>
        <p:spPr>
          <a:xfrm>
            <a:off x="1143000" y="285840"/>
            <a:ext cx="6714720" cy="386280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7"/>
          <p:cNvSpPr/>
          <p:nvPr/>
        </p:nvSpPr>
        <p:spPr>
          <a:xfrm>
            <a:off x="1143000" y="3429000"/>
            <a:ext cx="68576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днее, с 1910 по 1955 гг. было проведено  76 чемпионатов страны по лыжным го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16" name="Прямоугольник с одним скругленным углом 6"/>
          <p:cNvSpPr/>
          <p:nvPr/>
        </p:nvSpPr>
        <p:spPr>
          <a:xfrm rot="10800000">
            <a:off x="722160" y="3891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17" name="Содержимое 4" descr=""/>
          <p:cNvPicPr/>
          <p:nvPr/>
        </p:nvPicPr>
        <p:blipFill>
          <a:blip r:embed="rId1"/>
          <a:stretch/>
        </p:blipFill>
        <p:spPr>
          <a:xfrm>
            <a:off x="2500200" y="2421000"/>
            <a:ext cx="4500360" cy="349056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7"/>
          <p:cNvSpPr/>
          <p:nvPr/>
        </p:nvSpPr>
        <p:spPr>
          <a:xfrm>
            <a:off x="1763640" y="857160"/>
            <a:ext cx="644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Лыжный спорт развива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лево 8"/>
          <p:cNvSpPr/>
          <p:nvPr/>
        </p:nvSpPr>
        <p:spPr>
          <a:xfrm rot="20163000">
            <a:off x="6357600" y="1785600"/>
            <a:ext cx="2071440" cy="713880"/>
          </a:xfrm>
          <a:prstGeom prst="leftArrow">
            <a:avLst>
              <a:gd name="adj1" fmla="val 59253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право 9"/>
          <p:cNvSpPr/>
          <p:nvPr/>
        </p:nvSpPr>
        <p:spPr>
          <a:xfrm rot="1415400">
            <a:off x="857160" y="1785600"/>
            <a:ext cx="2356920" cy="856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ынос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право 10"/>
          <p:cNvSpPr/>
          <p:nvPr/>
        </p:nvSpPr>
        <p:spPr>
          <a:xfrm rot="20047800">
            <a:off x="785520" y="4071960"/>
            <a:ext cx="21427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лов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трелка влево 11"/>
          <p:cNvSpPr/>
          <p:nvPr/>
        </p:nvSpPr>
        <p:spPr>
          <a:xfrm rot="2326200">
            <a:off x="5929200" y="3928680"/>
            <a:ext cx="2285640" cy="7855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25" name="Прямоугольник с одним скругленным углом 6"/>
          <p:cNvSpPr/>
          <p:nvPr/>
        </p:nvSpPr>
        <p:spPr>
          <a:xfrm rot="10800000">
            <a:off x="747360" y="28584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26" name="Содержимое 4" descr=""/>
          <p:cNvPicPr/>
          <p:nvPr/>
        </p:nvPicPr>
        <p:blipFill>
          <a:blip r:embed="rId1"/>
          <a:stretch/>
        </p:blipFill>
        <p:spPr>
          <a:xfrm>
            <a:off x="1420920" y="1920960"/>
            <a:ext cx="5370120" cy="40161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1259640" y="500040"/>
            <a:ext cx="69843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А ещё занятие лыжным  спор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благотворно воздействует н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трелка влево 12"/>
          <p:cNvSpPr/>
          <p:nvPr/>
        </p:nvSpPr>
        <p:spPr>
          <a:xfrm>
            <a:off x="5429160" y="1428840"/>
            <a:ext cx="3428640" cy="1213920"/>
          </a:xfrm>
          <a:prstGeom prst="leftArrow">
            <a:avLst>
              <a:gd name="adj1" fmla="val 50000"/>
              <a:gd name="adj2" fmla="val 39114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казатели умствен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право 13"/>
          <p:cNvSpPr/>
          <p:nvPr/>
        </p:nvSpPr>
        <p:spPr>
          <a:xfrm>
            <a:off x="714240" y="3429000"/>
            <a:ext cx="2928600" cy="999720"/>
          </a:xfrm>
          <a:prstGeom prst="rightArrow">
            <a:avLst>
              <a:gd name="adj1" fmla="val 50000"/>
              <a:gd name="adj2" fmla="val 39114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рв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лево 16"/>
          <p:cNvSpPr/>
          <p:nvPr/>
        </p:nvSpPr>
        <p:spPr>
          <a:xfrm>
            <a:off x="5429160" y="3143160"/>
            <a:ext cx="3357360" cy="1213920"/>
          </a:xfrm>
          <a:prstGeom prst="leftArrow">
            <a:avLst>
              <a:gd name="adj1" fmla="val 48187"/>
              <a:gd name="adj2" fmla="val 38207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 сердечно - сосудист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право 17"/>
          <p:cNvSpPr/>
          <p:nvPr/>
        </p:nvSpPr>
        <p:spPr>
          <a:xfrm>
            <a:off x="928800" y="1857240"/>
            <a:ext cx="3571560" cy="1213920"/>
          </a:xfrm>
          <a:prstGeom prst="rightArrow">
            <a:avLst>
              <a:gd name="adj1" fmla="val 46371"/>
              <a:gd name="adj2" fmla="val 40021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ыхатель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Зима</Template>
  <TotalTime>336</TotalTime>
  <Application>LibreOffice/7.4.7.2$Linux_X86_64 LibreOffice_project/40$Build-2</Application>
  <AppVersion>15.0000</AppVersion>
  <Words>210</Words>
  <Paragraphs>6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5:50:49Z</dcterms:created>
  <dc:creator>Дмитрий Каленюк</dc:creator>
  <dc:description/>
  <dc:language>en-US</dc:language>
  <cp:lastModifiedBy>Дом</cp:lastModifiedBy>
  <dcterms:modified xsi:type="dcterms:W3CDTF">2024-06-26T03:53:44Z</dcterms:modified>
  <cp:revision>32</cp:revision>
  <dc:subject/>
  <dc:title>Мой любимый вид спорта-  ЛЫЖНЫЕ ГОН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