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16A8-2B62-4EDD-96B4-D227C17CD3AA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Google Shape;275;p8:notes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24C5-3F29-424C-AD54-99272EF8BA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Google Shape;310;p9:notes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6D60-7A75-47C8-B175-ACC0743E33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Google Shape;336;p10:notes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963D-AA39-4414-8F5F-C0AB2AAB79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F00-77C4-40DF-B79A-79208734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86F-379E-4E57-A2EA-4E93C63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111-A05B-4E35-9A24-6EC85331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4F4-33D7-49A7-9B25-5C6EB84F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C2C1-F4FE-4078-AC9C-A2C1B7B5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0549-5EB7-49B5-9C25-D91775B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B14-42DB-45EA-BF65-EBDDDBB4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32FF-58FF-4572-B4F7-A873C23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FC14-AA65-4C2E-A0EE-25195596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DE16-F791-4DC2-8D91-470095A4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5525-09BA-4656-9553-416A453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BF8-0EDF-4B4D-9669-827F115A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5EC0-207E-4154-89E4-39101A1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3E92-DBEE-478D-B51F-366AD50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88C2-7A57-490A-95C5-ACFDBFF2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1BDA-13F3-4ED7-9CED-43A3F78D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A9D6-F890-4C2F-9B50-504C20F6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BC5-40ED-43C4-81A6-800CCA61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76D-4EAF-4AD3-A359-98665A84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EFE-8B8E-49FC-94CB-E6E50736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49F-5449-4277-8924-DE57B3A7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316-6E9A-479F-B952-0CDACEE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A36-8C5D-454B-99F4-2A7A9ABF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6EF-0C3F-441C-ACCE-57826A77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A50E-C3CA-4208-B974-282B4BE40462}" type="slidenum">
              <a:rPr b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9B9B-7EAC-4684-8A29-930044F79B8E}" type="slidenum">
              <a:rPr b="1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6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348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acc6"/>
                </a:solidFill>
                <a:latin typeface="Calibri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1600200" y="456840"/>
            <a:ext cx="6477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399 : 19                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91 : 13                   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300 : 15                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75 : 15                    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25"/>
          <p:cNvSpPr/>
          <p:nvPr/>
        </p:nvSpPr>
        <p:spPr>
          <a:xfrm>
            <a:off x="2133720" y="45720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873"/>
          <p:cNvSpPr/>
          <p:nvPr/>
        </p:nvSpPr>
        <p:spPr>
          <a:xfrm>
            <a:off x="1066680" y="838080"/>
            <a:ext cx="77724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4241"/>
          <p:cNvSpPr/>
          <p:nvPr/>
        </p:nvSpPr>
        <p:spPr>
          <a:xfrm>
            <a:off x="1447920" y="380880"/>
            <a:ext cx="723888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ы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 означает черта в обыкновенной дроби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черту дроби заменить знаком деления, то чем будет числитель дроби? А знаменатель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деление выполняется нацело, то каким числом будет частное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деление не выполняется нацело, то каким числом будет частное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2133720" y="45720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743200" y="1440360"/>
            <a:ext cx="6400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.30, вопросы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236,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23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23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24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флексия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600200" y="2877120"/>
            <a:ext cx="579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акое открытие мы сегодня сделал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понравилось на урок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 чём затруднени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роб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7696080" cy="1981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5720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676520" y="528120"/>
            <a:ext cx="701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жения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6 : 12    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75 : 15  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2 : 17   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51 : 17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523880" y="51055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ое выражение лишнее или вызывает у вас затруднение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формулируем тему урока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371600" y="609480"/>
            <a:ext cx="7772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Деление натуральных чисел  и дроби</a:t>
            </a:r>
            <a:endParaRPr b="1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42667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2 : 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D:\открытый урок\images.jpg"/>
          <p:cNvPicPr/>
          <p:nvPr/>
        </p:nvPicPr>
        <p:blipFill>
          <a:blip r:embed="rId2"/>
          <a:stretch/>
        </p:blipFill>
        <p:spPr>
          <a:xfrm>
            <a:off x="1600200" y="1523880"/>
            <a:ext cx="302256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:\открытый урок\images.jpg"/>
          <p:cNvPicPr/>
          <p:nvPr/>
        </p:nvPicPr>
        <p:blipFill>
          <a:blip r:embed="rId3"/>
          <a:stretch/>
        </p:blipFill>
        <p:spPr>
          <a:xfrm>
            <a:off x="5410080" y="1523880"/>
            <a:ext cx="3141720" cy="2019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2971800" y="3049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Задача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Users\user\Desktop\открытый урок\35939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523880" y="5335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Черта дроби – знак деления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14600" y="2819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Числитель дроби - делимое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438280" y="46483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Знаменатель дроби - делитель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Google Shape;279;p22"/>
          <p:cNvSpPr/>
          <p:nvPr/>
        </p:nvSpPr>
        <p:spPr>
          <a:xfrm>
            <a:off x="611280" y="1844640"/>
            <a:ext cx="93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7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Google Shape;280;p22"/>
          <p:cNvSpPr/>
          <p:nvPr/>
        </p:nvSpPr>
        <p:spPr>
          <a:xfrm>
            <a:off x="2700360" y="135252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7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Google Shape;281;p22"/>
          <p:cNvSpPr/>
          <p:nvPr/>
        </p:nvSpPr>
        <p:spPr>
          <a:xfrm>
            <a:off x="2716200" y="235728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Google Shape;282;p22"/>
          <p:cNvSpPr/>
          <p:nvPr/>
        </p:nvSpPr>
        <p:spPr>
          <a:xfrm>
            <a:off x="1619280" y="177336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Google Shape;283;p22"/>
          <p:cNvSpPr/>
          <p:nvPr/>
        </p:nvSpPr>
        <p:spPr>
          <a:xfrm>
            <a:off x="1366920" y="1878120"/>
            <a:ext cx="38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  <a:ea typeface="Comic Sans MS"/>
              </a:rPr>
              <a:t>: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6" name="Google Shape;284;p22"/>
          <p:cNvCxnSpPr/>
          <p:nvPr/>
        </p:nvCxnSpPr>
        <p:spPr>
          <a:xfrm>
            <a:off x="2771640" y="234900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17" name="Google Shape;285;p22"/>
          <p:cNvSpPr/>
          <p:nvPr/>
        </p:nvSpPr>
        <p:spPr>
          <a:xfrm>
            <a:off x="2124000" y="1916280"/>
            <a:ext cx="58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Google Shape;286;p22"/>
          <p:cNvSpPr/>
          <p:nvPr/>
        </p:nvSpPr>
        <p:spPr>
          <a:xfrm>
            <a:off x="3492360" y="1916280"/>
            <a:ext cx="1106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Google Shape;287;p22"/>
          <p:cNvSpPr/>
          <p:nvPr/>
        </p:nvSpPr>
        <p:spPr>
          <a:xfrm>
            <a:off x="719280" y="3827520"/>
            <a:ext cx="72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Google Shape;288;p22"/>
          <p:cNvSpPr/>
          <p:nvPr/>
        </p:nvSpPr>
        <p:spPr>
          <a:xfrm>
            <a:off x="2592360" y="3335400"/>
            <a:ext cx="115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Google Shape;289;p22"/>
          <p:cNvSpPr/>
          <p:nvPr/>
        </p:nvSpPr>
        <p:spPr>
          <a:xfrm>
            <a:off x="2608200" y="434016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Google Shape;290;p22"/>
          <p:cNvSpPr/>
          <p:nvPr/>
        </p:nvSpPr>
        <p:spPr>
          <a:xfrm>
            <a:off x="1511280" y="375588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Google Shape;291;p22"/>
          <p:cNvSpPr/>
          <p:nvPr/>
        </p:nvSpPr>
        <p:spPr>
          <a:xfrm>
            <a:off x="1258920" y="3860640"/>
            <a:ext cx="38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  <a:ea typeface="Comic Sans MS"/>
              </a:rPr>
              <a:t>: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4" name="Google Shape;292;p22"/>
          <p:cNvCxnSpPr/>
          <p:nvPr/>
        </p:nvCxnSpPr>
        <p:spPr>
          <a:xfrm>
            <a:off x="2663640" y="433188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25" name="Google Shape;293;p22"/>
          <p:cNvSpPr/>
          <p:nvPr/>
        </p:nvSpPr>
        <p:spPr>
          <a:xfrm>
            <a:off x="2016000" y="3898800"/>
            <a:ext cx="58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Google Shape;294;p22"/>
          <p:cNvSpPr/>
          <p:nvPr/>
        </p:nvSpPr>
        <p:spPr>
          <a:xfrm>
            <a:off x="3384720" y="3898800"/>
            <a:ext cx="1106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Google Shape;295;p22"/>
          <p:cNvSpPr/>
          <p:nvPr/>
        </p:nvSpPr>
        <p:spPr>
          <a:xfrm>
            <a:off x="5580000" y="1916280"/>
            <a:ext cx="79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Google Shape;296;p22"/>
          <p:cNvSpPr/>
          <p:nvPr/>
        </p:nvSpPr>
        <p:spPr>
          <a:xfrm>
            <a:off x="7524720" y="142416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Google Shape;297;p22"/>
          <p:cNvSpPr/>
          <p:nvPr/>
        </p:nvSpPr>
        <p:spPr>
          <a:xfrm>
            <a:off x="7540560" y="242892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Google Shape;298;p22"/>
          <p:cNvSpPr/>
          <p:nvPr/>
        </p:nvSpPr>
        <p:spPr>
          <a:xfrm>
            <a:off x="6443640" y="184464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Google Shape;299;p22"/>
          <p:cNvSpPr/>
          <p:nvPr/>
        </p:nvSpPr>
        <p:spPr>
          <a:xfrm>
            <a:off x="6191280" y="1949400"/>
            <a:ext cx="38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  <a:ea typeface="Comic Sans MS"/>
              </a:rPr>
              <a:t>: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Google Shape;300;p22"/>
          <p:cNvCxnSpPr/>
          <p:nvPr/>
        </p:nvCxnSpPr>
        <p:spPr>
          <a:xfrm>
            <a:off x="7596000" y="242064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33" name="Google Shape;301;p22"/>
          <p:cNvSpPr/>
          <p:nvPr/>
        </p:nvSpPr>
        <p:spPr>
          <a:xfrm>
            <a:off x="6948360" y="1987560"/>
            <a:ext cx="58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Google Shape;302;p22"/>
          <p:cNvSpPr/>
          <p:nvPr/>
        </p:nvSpPr>
        <p:spPr>
          <a:xfrm>
            <a:off x="5689440" y="3971880"/>
            <a:ext cx="79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Google Shape;303;p22"/>
          <p:cNvSpPr/>
          <p:nvPr/>
        </p:nvSpPr>
        <p:spPr>
          <a:xfrm>
            <a:off x="7634160" y="3479760"/>
            <a:ext cx="115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Google Shape;304;p22"/>
          <p:cNvSpPr/>
          <p:nvPr/>
        </p:nvSpPr>
        <p:spPr>
          <a:xfrm>
            <a:off x="7650000" y="448452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Google Shape;305;p22"/>
          <p:cNvSpPr/>
          <p:nvPr/>
        </p:nvSpPr>
        <p:spPr>
          <a:xfrm>
            <a:off x="6553080" y="3900600"/>
            <a:ext cx="454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Google Shape;306;p22"/>
          <p:cNvSpPr/>
          <p:nvPr/>
        </p:nvSpPr>
        <p:spPr>
          <a:xfrm>
            <a:off x="6300720" y="4005360"/>
            <a:ext cx="38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  <a:ea typeface="Comic Sans MS"/>
              </a:rPr>
              <a:t>: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9" name="Google Shape;307;p22"/>
          <p:cNvCxnSpPr/>
          <p:nvPr/>
        </p:nvCxnSpPr>
        <p:spPr>
          <a:xfrm>
            <a:off x="7705440" y="447624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0" name="Google Shape;308;p22"/>
          <p:cNvSpPr/>
          <p:nvPr/>
        </p:nvSpPr>
        <p:spPr>
          <a:xfrm>
            <a:off x="7058160" y="4043520"/>
            <a:ext cx="58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е натурального числа в виде дроб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Google Shape;315;p23"/>
          <p:cNvSpPr/>
          <p:nvPr/>
        </p:nvSpPr>
        <p:spPr>
          <a:xfrm>
            <a:off x="2035080" y="148752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Google Shape;316;p23"/>
          <p:cNvSpPr/>
          <p:nvPr/>
        </p:nvSpPr>
        <p:spPr>
          <a:xfrm>
            <a:off x="2050920" y="249228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Google Shape;317;p23"/>
          <p:cNvSpPr/>
          <p:nvPr/>
        </p:nvSpPr>
        <p:spPr>
          <a:xfrm>
            <a:off x="954000" y="190800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5" name="Google Shape;318;p23"/>
          <p:cNvCxnSpPr/>
          <p:nvPr/>
        </p:nvCxnSpPr>
        <p:spPr>
          <a:xfrm>
            <a:off x="2106360" y="248400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46" name="Google Shape;319;p23"/>
          <p:cNvSpPr/>
          <p:nvPr/>
        </p:nvSpPr>
        <p:spPr>
          <a:xfrm>
            <a:off x="1459080" y="2050920"/>
            <a:ext cx="58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Google Shape;320;p23"/>
          <p:cNvSpPr/>
          <p:nvPr/>
        </p:nvSpPr>
        <p:spPr>
          <a:xfrm>
            <a:off x="1835280" y="155736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5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Google Shape;321;p23"/>
          <p:cNvSpPr/>
          <p:nvPr/>
        </p:nvSpPr>
        <p:spPr>
          <a:xfrm>
            <a:off x="2050920" y="486900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Google Shape;322;p23"/>
          <p:cNvSpPr/>
          <p:nvPr/>
        </p:nvSpPr>
        <p:spPr>
          <a:xfrm>
            <a:off x="2066760" y="587376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Google Shape;323;p23"/>
          <p:cNvSpPr/>
          <p:nvPr/>
        </p:nvSpPr>
        <p:spPr>
          <a:xfrm>
            <a:off x="969840" y="5289480"/>
            <a:ext cx="454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" name="Google Shape;324;p23"/>
          <p:cNvCxnSpPr/>
          <p:nvPr/>
        </p:nvCxnSpPr>
        <p:spPr>
          <a:xfrm>
            <a:off x="2122200" y="586548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52" name="Google Shape;325;p23"/>
          <p:cNvSpPr/>
          <p:nvPr/>
        </p:nvSpPr>
        <p:spPr>
          <a:xfrm>
            <a:off x="1474920" y="5432400"/>
            <a:ext cx="58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Google Shape;326;p23"/>
          <p:cNvSpPr/>
          <p:nvPr/>
        </p:nvSpPr>
        <p:spPr>
          <a:xfrm>
            <a:off x="1978200" y="492768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56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Google Shape;327;p23"/>
          <p:cNvSpPr/>
          <p:nvPr/>
        </p:nvSpPr>
        <p:spPr>
          <a:xfrm>
            <a:off x="3995640" y="1628640"/>
            <a:ext cx="475308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Любое натуральное число можно записать в виде дроби с любым натуральным знаменателе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Числител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этой дроби равен произведению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этого чи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знаменател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Google Shape;328;p23"/>
          <p:cNvSpPr/>
          <p:nvPr/>
        </p:nvSpPr>
        <p:spPr>
          <a:xfrm>
            <a:off x="2035080" y="314496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Google Shape;329;p23"/>
          <p:cNvSpPr/>
          <p:nvPr/>
        </p:nvSpPr>
        <p:spPr>
          <a:xfrm>
            <a:off x="2050920" y="414972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Google Shape;330;p23"/>
          <p:cNvSpPr/>
          <p:nvPr/>
        </p:nvSpPr>
        <p:spPr>
          <a:xfrm>
            <a:off x="954000" y="3565440"/>
            <a:ext cx="45396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8" name="Google Shape;331;p23"/>
          <p:cNvCxnSpPr/>
          <p:nvPr/>
        </p:nvCxnSpPr>
        <p:spPr>
          <a:xfrm>
            <a:off x="2106360" y="4141440"/>
            <a:ext cx="648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59" name="Google Shape;332;p23"/>
          <p:cNvSpPr/>
          <p:nvPr/>
        </p:nvSpPr>
        <p:spPr>
          <a:xfrm>
            <a:off x="1459080" y="3708360"/>
            <a:ext cx="58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Google Shape;333;p23"/>
          <p:cNvSpPr/>
          <p:nvPr/>
        </p:nvSpPr>
        <p:spPr>
          <a:xfrm>
            <a:off x="1835280" y="321480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8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78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Свойство деления суммы на чис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Google Shape;341;p24"/>
          <p:cNvSpPr/>
          <p:nvPr/>
        </p:nvSpPr>
        <p:spPr>
          <a:xfrm>
            <a:off x="1330200" y="692280"/>
            <a:ext cx="19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+b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Google Shape;342;p24"/>
          <p:cNvSpPr/>
          <p:nvPr/>
        </p:nvSpPr>
        <p:spPr>
          <a:xfrm>
            <a:off x="1547640" y="1555920"/>
            <a:ext cx="91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4" name="Google Shape;343;p24"/>
          <p:cNvCxnSpPr/>
          <p:nvPr/>
        </p:nvCxnSpPr>
        <p:spPr>
          <a:xfrm>
            <a:off x="1401480" y="1688760"/>
            <a:ext cx="108180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65" name="Google Shape;344;p24"/>
          <p:cNvSpPr/>
          <p:nvPr/>
        </p:nvSpPr>
        <p:spPr>
          <a:xfrm>
            <a:off x="4079880" y="1251000"/>
            <a:ext cx="92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Google Shape;345;p24"/>
          <p:cNvSpPr/>
          <p:nvPr/>
        </p:nvSpPr>
        <p:spPr>
          <a:xfrm>
            <a:off x="3203640" y="692280"/>
            <a:ext cx="72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Google Shape;346;p24"/>
          <p:cNvSpPr/>
          <p:nvPr/>
        </p:nvSpPr>
        <p:spPr>
          <a:xfrm>
            <a:off x="3203640" y="155736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Google Shape;347;p24"/>
          <p:cNvCxnSpPr/>
          <p:nvPr/>
        </p:nvCxnSpPr>
        <p:spPr>
          <a:xfrm>
            <a:off x="3274560" y="1688760"/>
            <a:ext cx="79308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69" name="Google Shape;348;p24"/>
          <p:cNvSpPr/>
          <p:nvPr/>
        </p:nvSpPr>
        <p:spPr>
          <a:xfrm>
            <a:off x="2627280" y="1197000"/>
            <a:ext cx="72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Google Shape;349;p24"/>
          <p:cNvSpPr/>
          <p:nvPr/>
        </p:nvSpPr>
        <p:spPr>
          <a:xfrm>
            <a:off x="4859280" y="692280"/>
            <a:ext cx="72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Google Shape;350;p24"/>
          <p:cNvSpPr/>
          <p:nvPr/>
        </p:nvSpPr>
        <p:spPr>
          <a:xfrm>
            <a:off x="4859280" y="1555920"/>
            <a:ext cx="91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2" name="Google Shape;351;p24"/>
          <p:cNvCxnSpPr/>
          <p:nvPr/>
        </p:nvCxnSpPr>
        <p:spPr>
          <a:xfrm>
            <a:off x="4930920" y="1688760"/>
            <a:ext cx="79272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</a:ln>
        </p:spPr>
      </p:cxnSp>
      <p:sp>
        <p:nvSpPr>
          <p:cNvPr id="173" name="Google Shape;352;p24"/>
          <p:cNvSpPr/>
          <p:nvPr/>
        </p:nvSpPr>
        <p:spPr>
          <a:xfrm>
            <a:off x="684360" y="2276640"/>
            <a:ext cx="684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Google Shape;353;p24"/>
          <p:cNvSpPr/>
          <p:nvPr/>
        </p:nvSpPr>
        <p:spPr>
          <a:xfrm>
            <a:off x="684360" y="3141720"/>
            <a:ext cx="79930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Чтобы разделить сумму на число, можно разделить на это число каждое слагаемое и сложить полученные произведени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Google Shape;354;p24"/>
          <p:cNvSpPr/>
          <p:nvPr/>
        </p:nvSpPr>
        <p:spPr>
          <a:xfrm>
            <a:off x="826920" y="4508640"/>
            <a:ext cx="76327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03 : 3 =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900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+ 3) : 3 =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000 : 3 + 600 : 3 + 3 : 3 =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00 + 200 + 1 = 3201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01-15T05:45:06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