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510C-377E-4EA6-A255-08E3D2164762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Google Shape;275;p8:notes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E755-B251-4FAE-A8B2-6EC44A6D70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Google Shape;310;p9:notes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F84F-9E22-4688-BFBE-AEA9DCF0F6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Google Shape;336;p10:notes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C2BE-0595-432C-A177-040997A233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98C-1546-4F96-936C-54CB4FA8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296-D5B9-42BF-88D7-89E7EA13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D85-F250-4392-8288-3E60578F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4A6-22CE-44F9-B9B8-002E49BB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5E95-E8E7-48C4-8B3B-EC56C34C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074D-0A71-435C-81DC-94D62B34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3B0D-0300-4401-BAD3-66A05CA4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D53E-D2CF-47CA-98DE-F885FCFF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3DF1-342E-4E4F-9416-C4497421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D27A-523D-40F5-9D4F-E237721A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C711-2653-44AD-B23C-2529E810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835-77E1-4F86-967B-E5EA50CB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74E6-3DDA-4992-B749-79943734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5068-7E12-4E77-A407-4C179B5B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71AE-65B7-46EA-ADD2-C575AF84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A197-B147-481B-8524-095698A5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4A50-F046-4B21-AD9D-D4656469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F86-BE82-4DFC-8C84-01AFF572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5AA-257D-44BF-891F-3FDAFF40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D9B-3C30-480B-B1D7-5EF30CEE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16B-58CB-413E-A744-29DC0734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728-6E2A-49F5-A436-91D22237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851-DB4F-4708-B7FB-D2CFF864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271-4758-4932-A3AE-3A8D51AE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14A2-96B9-46D6-A9E8-7E3CDDFF2AEC}" type="slidenum">
              <a:rPr b="1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72B2-66E6-4067-9D8B-056D69AB4686}" type="slidenum">
              <a:rPr b="1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6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6348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acc6"/>
                </a:solidFill>
                <a:latin typeface="Calibri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1600200" y="456840"/>
            <a:ext cx="6477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399 : 19                 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91 : 13                    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300 : 15                 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75 : 15                     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725"/>
          <p:cNvSpPr/>
          <p:nvPr/>
        </p:nvSpPr>
        <p:spPr>
          <a:xfrm>
            <a:off x="2133720" y="45720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873"/>
          <p:cNvSpPr/>
          <p:nvPr/>
        </p:nvSpPr>
        <p:spPr>
          <a:xfrm>
            <a:off x="1066680" y="838080"/>
            <a:ext cx="77724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4241"/>
          <p:cNvSpPr/>
          <p:nvPr/>
        </p:nvSpPr>
        <p:spPr>
          <a:xfrm>
            <a:off x="1447920" y="380880"/>
            <a:ext cx="723888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ы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то означает черта в обыкновенной дроби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сли черту дроби заменить знаком деления, то чем будет числитель дроби? А знаменатель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сли деление выполняется нацело, то каким числом будет частное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сли деление не выполняется нацело, то каким числом будет частное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2133720" y="45720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Домашнее задание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743200" y="1440360"/>
            <a:ext cx="6400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.30, вопросы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.236,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.23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.23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.24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79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флексия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1600200" y="2877120"/>
            <a:ext cx="579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акое открытие мы сегодня сделал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 понравилось на урок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 чём затруднени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роб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7696080" cy="1981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45720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676520" y="528120"/>
            <a:ext cx="7010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ражения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6 : 12    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75 : 15  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12 : 17   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51 : 17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1523880" y="51055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кое выражение лишнее или вызывает у вас затруднение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формулируем тему урока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1371600" y="609480"/>
            <a:ext cx="7772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Деление натуральных чисел  и дроби</a:t>
            </a:r>
            <a:endParaRPr b="1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5120" y="42667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2 : 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D:\открытый урок\images.jpg"/>
          <p:cNvPicPr/>
          <p:nvPr/>
        </p:nvPicPr>
        <p:blipFill>
          <a:blip r:embed="rId2"/>
          <a:stretch/>
        </p:blipFill>
        <p:spPr>
          <a:xfrm>
            <a:off x="1600200" y="1523880"/>
            <a:ext cx="3022560" cy="194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:\открытый урок\images.jpg"/>
          <p:cNvPicPr/>
          <p:nvPr/>
        </p:nvPicPr>
        <p:blipFill>
          <a:blip r:embed="rId3"/>
          <a:stretch/>
        </p:blipFill>
        <p:spPr>
          <a:xfrm>
            <a:off x="5410080" y="1523880"/>
            <a:ext cx="3141720" cy="2019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2971800" y="3049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Задача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1523880" y="53352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ahoma"/>
              </a:rPr>
              <a:t>Черта дроби – знак деления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514600" y="28195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Числитель дроби - делимое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438280" y="46483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Знаменатель дроби - делитель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Google Shape;279;p22"/>
          <p:cNvSpPr/>
          <p:nvPr/>
        </p:nvSpPr>
        <p:spPr>
          <a:xfrm>
            <a:off x="611280" y="1844640"/>
            <a:ext cx="93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27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Google Shape;280;p22"/>
          <p:cNvSpPr/>
          <p:nvPr/>
        </p:nvSpPr>
        <p:spPr>
          <a:xfrm>
            <a:off x="2700360" y="135252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27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Google Shape;281;p22"/>
          <p:cNvSpPr/>
          <p:nvPr/>
        </p:nvSpPr>
        <p:spPr>
          <a:xfrm>
            <a:off x="2716200" y="2357280"/>
            <a:ext cx="91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Google Shape;282;p22"/>
          <p:cNvSpPr/>
          <p:nvPr/>
        </p:nvSpPr>
        <p:spPr>
          <a:xfrm>
            <a:off x="1619280" y="1773360"/>
            <a:ext cx="45396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Google Shape;283;p22"/>
          <p:cNvSpPr/>
          <p:nvPr/>
        </p:nvSpPr>
        <p:spPr>
          <a:xfrm>
            <a:off x="1366920" y="1878120"/>
            <a:ext cx="38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Comic Sans MS"/>
                <a:ea typeface="Comic Sans MS"/>
              </a:rPr>
              <a:t>: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6" name="Google Shape;284;p22"/>
          <p:cNvCxnSpPr/>
          <p:nvPr/>
        </p:nvCxnSpPr>
        <p:spPr>
          <a:xfrm>
            <a:off x="2771640" y="2349000"/>
            <a:ext cx="64836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17" name="Google Shape;285;p22"/>
          <p:cNvSpPr/>
          <p:nvPr/>
        </p:nvSpPr>
        <p:spPr>
          <a:xfrm>
            <a:off x="2124000" y="1916280"/>
            <a:ext cx="584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Google Shape;286;p22"/>
          <p:cNvSpPr/>
          <p:nvPr/>
        </p:nvSpPr>
        <p:spPr>
          <a:xfrm>
            <a:off x="3492360" y="1916280"/>
            <a:ext cx="1106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Google Shape;287;p22"/>
          <p:cNvSpPr/>
          <p:nvPr/>
        </p:nvSpPr>
        <p:spPr>
          <a:xfrm>
            <a:off x="719280" y="3827520"/>
            <a:ext cx="72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Google Shape;288;p22"/>
          <p:cNvSpPr/>
          <p:nvPr/>
        </p:nvSpPr>
        <p:spPr>
          <a:xfrm>
            <a:off x="2592360" y="3335400"/>
            <a:ext cx="115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Google Shape;289;p22"/>
          <p:cNvSpPr/>
          <p:nvPr/>
        </p:nvSpPr>
        <p:spPr>
          <a:xfrm>
            <a:off x="2608200" y="4340160"/>
            <a:ext cx="91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Google Shape;290;p22"/>
          <p:cNvSpPr/>
          <p:nvPr/>
        </p:nvSpPr>
        <p:spPr>
          <a:xfrm>
            <a:off x="1511280" y="3755880"/>
            <a:ext cx="45396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Google Shape;291;p22"/>
          <p:cNvSpPr/>
          <p:nvPr/>
        </p:nvSpPr>
        <p:spPr>
          <a:xfrm>
            <a:off x="1258920" y="3860640"/>
            <a:ext cx="38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Comic Sans MS"/>
                <a:ea typeface="Comic Sans MS"/>
              </a:rPr>
              <a:t>: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4" name="Google Shape;292;p22"/>
          <p:cNvCxnSpPr/>
          <p:nvPr/>
        </p:nvCxnSpPr>
        <p:spPr>
          <a:xfrm>
            <a:off x="2663640" y="4331880"/>
            <a:ext cx="64836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25" name="Google Shape;293;p22"/>
          <p:cNvSpPr/>
          <p:nvPr/>
        </p:nvSpPr>
        <p:spPr>
          <a:xfrm>
            <a:off x="2016000" y="3898800"/>
            <a:ext cx="584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Google Shape;294;p22"/>
          <p:cNvSpPr/>
          <p:nvPr/>
        </p:nvSpPr>
        <p:spPr>
          <a:xfrm>
            <a:off x="3384720" y="3898800"/>
            <a:ext cx="1106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Google Shape;295;p22"/>
          <p:cNvSpPr/>
          <p:nvPr/>
        </p:nvSpPr>
        <p:spPr>
          <a:xfrm>
            <a:off x="5580000" y="1916280"/>
            <a:ext cx="79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Google Shape;296;p22"/>
          <p:cNvSpPr/>
          <p:nvPr/>
        </p:nvSpPr>
        <p:spPr>
          <a:xfrm>
            <a:off x="7524720" y="142416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Google Shape;297;p22"/>
          <p:cNvSpPr/>
          <p:nvPr/>
        </p:nvSpPr>
        <p:spPr>
          <a:xfrm>
            <a:off x="7540560" y="2428920"/>
            <a:ext cx="91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Google Shape;298;p22"/>
          <p:cNvSpPr/>
          <p:nvPr/>
        </p:nvSpPr>
        <p:spPr>
          <a:xfrm>
            <a:off x="6443640" y="1844640"/>
            <a:ext cx="45396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Google Shape;299;p22"/>
          <p:cNvSpPr/>
          <p:nvPr/>
        </p:nvSpPr>
        <p:spPr>
          <a:xfrm>
            <a:off x="6191280" y="1949400"/>
            <a:ext cx="38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Comic Sans MS"/>
                <a:ea typeface="Comic Sans MS"/>
              </a:rPr>
              <a:t>: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2" name="Google Shape;300;p22"/>
          <p:cNvCxnSpPr/>
          <p:nvPr/>
        </p:nvCxnSpPr>
        <p:spPr>
          <a:xfrm>
            <a:off x="7596000" y="2420640"/>
            <a:ext cx="64836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33" name="Google Shape;301;p22"/>
          <p:cNvSpPr/>
          <p:nvPr/>
        </p:nvSpPr>
        <p:spPr>
          <a:xfrm>
            <a:off x="6948360" y="1987560"/>
            <a:ext cx="584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Google Shape;302;p22"/>
          <p:cNvSpPr/>
          <p:nvPr/>
        </p:nvSpPr>
        <p:spPr>
          <a:xfrm>
            <a:off x="5689440" y="3971880"/>
            <a:ext cx="79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9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Google Shape;303;p22"/>
          <p:cNvSpPr/>
          <p:nvPr/>
        </p:nvSpPr>
        <p:spPr>
          <a:xfrm>
            <a:off x="7634160" y="3479760"/>
            <a:ext cx="115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9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Google Shape;304;p22"/>
          <p:cNvSpPr/>
          <p:nvPr/>
        </p:nvSpPr>
        <p:spPr>
          <a:xfrm>
            <a:off x="7650000" y="4484520"/>
            <a:ext cx="91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Google Shape;305;p22"/>
          <p:cNvSpPr/>
          <p:nvPr/>
        </p:nvSpPr>
        <p:spPr>
          <a:xfrm>
            <a:off x="6553080" y="3900600"/>
            <a:ext cx="4543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Google Shape;306;p22"/>
          <p:cNvSpPr/>
          <p:nvPr/>
        </p:nvSpPr>
        <p:spPr>
          <a:xfrm>
            <a:off x="6300720" y="4005360"/>
            <a:ext cx="38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Comic Sans MS"/>
                <a:ea typeface="Comic Sans MS"/>
              </a:rPr>
              <a:t>: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9" name="Google Shape;307;p22"/>
          <p:cNvCxnSpPr/>
          <p:nvPr/>
        </p:nvCxnSpPr>
        <p:spPr>
          <a:xfrm>
            <a:off x="7705440" y="4476240"/>
            <a:ext cx="64836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40" name="Google Shape;308;p22"/>
          <p:cNvSpPr/>
          <p:nvPr/>
        </p:nvSpPr>
        <p:spPr>
          <a:xfrm>
            <a:off x="7058160" y="4043520"/>
            <a:ext cx="583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Представление натурального числа в виде дроб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Google Shape;315;p23"/>
          <p:cNvSpPr/>
          <p:nvPr/>
        </p:nvSpPr>
        <p:spPr>
          <a:xfrm>
            <a:off x="2035080" y="148752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?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Google Shape;316;p23"/>
          <p:cNvSpPr/>
          <p:nvPr/>
        </p:nvSpPr>
        <p:spPr>
          <a:xfrm>
            <a:off x="2050920" y="2492280"/>
            <a:ext cx="91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Google Shape;317;p23"/>
          <p:cNvSpPr/>
          <p:nvPr/>
        </p:nvSpPr>
        <p:spPr>
          <a:xfrm>
            <a:off x="954000" y="1908000"/>
            <a:ext cx="45396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5" name="Google Shape;318;p23"/>
          <p:cNvCxnSpPr/>
          <p:nvPr/>
        </p:nvCxnSpPr>
        <p:spPr>
          <a:xfrm>
            <a:off x="2106360" y="2484000"/>
            <a:ext cx="64836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46" name="Google Shape;319;p23"/>
          <p:cNvSpPr/>
          <p:nvPr/>
        </p:nvSpPr>
        <p:spPr>
          <a:xfrm>
            <a:off x="1459080" y="2050920"/>
            <a:ext cx="583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Google Shape;320;p23"/>
          <p:cNvSpPr/>
          <p:nvPr/>
        </p:nvSpPr>
        <p:spPr>
          <a:xfrm>
            <a:off x="1835280" y="155736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15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Google Shape;321;p23"/>
          <p:cNvSpPr/>
          <p:nvPr/>
        </p:nvSpPr>
        <p:spPr>
          <a:xfrm>
            <a:off x="2050920" y="486900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?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Google Shape;322;p23"/>
          <p:cNvSpPr/>
          <p:nvPr/>
        </p:nvSpPr>
        <p:spPr>
          <a:xfrm>
            <a:off x="2066760" y="5873760"/>
            <a:ext cx="91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7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Google Shape;323;p23"/>
          <p:cNvSpPr/>
          <p:nvPr/>
        </p:nvSpPr>
        <p:spPr>
          <a:xfrm>
            <a:off x="969840" y="5289480"/>
            <a:ext cx="4543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1" name="Google Shape;324;p23"/>
          <p:cNvCxnSpPr/>
          <p:nvPr/>
        </p:nvCxnSpPr>
        <p:spPr>
          <a:xfrm>
            <a:off x="2122200" y="5865480"/>
            <a:ext cx="64836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52" name="Google Shape;325;p23"/>
          <p:cNvSpPr/>
          <p:nvPr/>
        </p:nvSpPr>
        <p:spPr>
          <a:xfrm>
            <a:off x="1474920" y="5432400"/>
            <a:ext cx="583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Google Shape;326;p23"/>
          <p:cNvSpPr/>
          <p:nvPr/>
        </p:nvSpPr>
        <p:spPr>
          <a:xfrm>
            <a:off x="1978200" y="492768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56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Google Shape;327;p23"/>
          <p:cNvSpPr/>
          <p:nvPr/>
        </p:nvSpPr>
        <p:spPr>
          <a:xfrm>
            <a:off x="3995640" y="1628640"/>
            <a:ext cx="475308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Любое натуральное число можно записать в виде дроби с любым натуральным знаменателе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Числител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этой дроби равен произведению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этого чис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знаменател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Google Shape;328;p23"/>
          <p:cNvSpPr/>
          <p:nvPr/>
        </p:nvSpPr>
        <p:spPr>
          <a:xfrm>
            <a:off x="2035080" y="314496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?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Google Shape;329;p23"/>
          <p:cNvSpPr/>
          <p:nvPr/>
        </p:nvSpPr>
        <p:spPr>
          <a:xfrm>
            <a:off x="2050920" y="4149720"/>
            <a:ext cx="91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Google Shape;330;p23"/>
          <p:cNvSpPr/>
          <p:nvPr/>
        </p:nvSpPr>
        <p:spPr>
          <a:xfrm>
            <a:off x="954000" y="3565440"/>
            <a:ext cx="45396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8" name="Google Shape;331;p23"/>
          <p:cNvCxnSpPr/>
          <p:nvPr/>
        </p:nvCxnSpPr>
        <p:spPr>
          <a:xfrm>
            <a:off x="2106360" y="4141440"/>
            <a:ext cx="64836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59" name="Google Shape;332;p23"/>
          <p:cNvSpPr/>
          <p:nvPr/>
        </p:nvSpPr>
        <p:spPr>
          <a:xfrm>
            <a:off x="1459080" y="3708360"/>
            <a:ext cx="583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Google Shape;333;p23"/>
          <p:cNvSpPr/>
          <p:nvPr/>
        </p:nvSpPr>
        <p:spPr>
          <a:xfrm>
            <a:off x="1835280" y="321480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18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78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Свойство деления суммы на чис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Google Shape;341;p24"/>
          <p:cNvSpPr/>
          <p:nvPr/>
        </p:nvSpPr>
        <p:spPr>
          <a:xfrm>
            <a:off x="1330200" y="692280"/>
            <a:ext cx="194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+b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Google Shape;342;p24"/>
          <p:cNvSpPr/>
          <p:nvPr/>
        </p:nvSpPr>
        <p:spPr>
          <a:xfrm>
            <a:off x="1547640" y="1555920"/>
            <a:ext cx="91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4" name="Google Shape;343;p24"/>
          <p:cNvCxnSpPr/>
          <p:nvPr/>
        </p:nvCxnSpPr>
        <p:spPr>
          <a:xfrm>
            <a:off x="1401480" y="1688760"/>
            <a:ext cx="108180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65" name="Google Shape;344;p24"/>
          <p:cNvSpPr/>
          <p:nvPr/>
        </p:nvSpPr>
        <p:spPr>
          <a:xfrm>
            <a:off x="4079880" y="1251000"/>
            <a:ext cx="923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Google Shape;345;p24"/>
          <p:cNvSpPr/>
          <p:nvPr/>
        </p:nvSpPr>
        <p:spPr>
          <a:xfrm>
            <a:off x="3203640" y="692280"/>
            <a:ext cx="72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Google Shape;346;p24"/>
          <p:cNvSpPr/>
          <p:nvPr/>
        </p:nvSpPr>
        <p:spPr>
          <a:xfrm>
            <a:off x="3203640" y="1557360"/>
            <a:ext cx="91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Google Shape;347;p24"/>
          <p:cNvCxnSpPr/>
          <p:nvPr/>
        </p:nvCxnSpPr>
        <p:spPr>
          <a:xfrm>
            <a:off x="3274560" y="1688760"/>
            <a:ext cx="79308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69" name="Google Shape;348;p24"/>
          <p:cNvSpPr/>
          <p:nvPr/>
        </p:nvSpPr>
        <p:spPr>
          <a:xfrm>
            <a:off x="2627280" y="1197000"/>
            <a:ext cx="72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Google Shape;349;p24"/>
          <p:cNvSpPr/>
          <p:nvPr/>
        </p:nvSpPr>
        <p:spPr>
          <a:xfrm>
            <a:off x="4859280" y="692280"/>
            <a:ext cx="72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b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Google Shape;350;p24"/>
          <p:cNvSpPr/>
          <p:nvPr/>
        </p:nvSpPr>
        <p:spPr>
          <a:xfrm>
            <a:off x="4859280" y="1555920"/>
            <a:ext cx="91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2" name="Google Shape;351;p24"/>
          <p:cNvCxnSpPr/>
          <p:nvPr/>
        </p:nvCxnSpPr>
        <p:spPr>
          <a:xfrm>
            <a:off x="4930920" y="1688760"/>
            <a:ext cx="79272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73" name="Google Shape;352;p24"/>
          <p:cNvSpPr/>
          <p:nvPr/>
        </p:nvSpPr>
        <p:spPr>
          <a:xfrm>
            <a:off x="684360" y="2276640"/>
            <a:ext cx="684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b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b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Google Shape;353;p24"/>
          <p:cNvSpPr/>
          <p:nvPr/>
        </p:nvSpPr>
        <p:spPr>
          <a:xfrm>
            <a:off x="684360" y="3141720"/>
            <a:ext cx="79930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Чтобы разделить сумму на число, можно разделить на это число каждое слагаемое и сложить полученные произведени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Google Shape;354;p24"/>
          <p:cNvSpPr/>
          <p:nvPr/>
        </p:nvSpPr>
        <p:spPr>
          <a:xfrm>
            <a:off x="826920" y="4508640"/>
            <a:ext cx="76327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03 : 3 =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900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 + 3) : 3 =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000 : 3 + 600 : 3 + 3 : 3 =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000 + 200 + 1 = 3201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4-01-15T05:45:06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