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7B4-BB5F-4B34-A00E-9A728475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1DC-C518-44F0-957C-BDC2CB0C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8DF-B2F8-4848-96A5-0543C51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6B2-590B-420C-8A80-144F57D3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D89-BE11-42EA-9159-F897A80D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CE01-B837-4E80-8E58-4504A63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0C6F-25C0-4303-84E8-5C3D6BA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BDC4-79CD-4E51-B2AA-C4D7059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83AA-6856-44EC-881B-F0DFFA5A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A17-9ECD-4B71-9487-51C4F54E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57A-CFB6-463A-8595-987D910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740-CD69-4AAE-8A0B-C915753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690-A8D8-4AB9-B1C5-78F066F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82B-D2BA-48D9-9889-341D57D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F2AF-68F2-4485-B0E7-4438E7E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A9CB-509C-4CDB-A273-CEC8DA1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55FE-F83B-4F0E-9350-1DC37A62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263-FC2D-4BF9-B942-97A7457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F62-EDFB-4348-A496-729F36B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E5D-3B54-4DE4-971F-02FFDFD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A9B-1DA9-413A-AC10-3450D68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C6A-06D2-4C56-B5A9-64BCD97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69B-C957-4F96-A3DE-F9C7309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C5F-A0D2-4D3B-9BD5-CA0EF90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5AA-72EA-426B-8517-04E1B6DC4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3109-39B6-4714-B9CA-FDF414DAFF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Прочитайте названия пьес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е ли они марш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 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помни пьесы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Georgia"/>
              </a:rPr>
              <a:t>Все ли они марш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 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 , какие ещё существуют марш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 презентацию на тему «Эти разные марши» (по желани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Georgia"/>
              </a:rPr>
              <a:t>Терминологическая минут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320" y="1752120"/>
            <a:ext cx="76201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Слово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марш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 в переводе с французского  означает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ходьба, шествие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Шаг левой ногой, шаг правой… Техника элементарная- ходь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111840" y="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1 остан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 кл_012_02.04. Футбольный марш.М.Блантер.mp3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1 кл_011_02.03. Встречный марш.С.Чернецкий.mp3" descr=""/>
          <p:cNvPicPr/>
          <p:nvPr/>
        </p:nvPicPr>
        <p:blipFill>
          <a:blip r:embed="rId2"/>
          <a:stretch/>
        </p:blipFill>
        <p:spPr>
          <a:xfrm>
            <a:off x="1500120" y="3286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98" name="1 кл_013_02.05. Пионерский марш.mp3" descr=""/>
          <p:cNvPicPr/>
          <p:nvPr/>
        </p:nvPicPr>
        <p:blipFill>
          <a:blip r:embed="rId3"/>
          <a:stretch/>
        </p:blipFill>
        <p:spPr>
          <a:xfrm>
            <a:off x="1571760" y="4572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8" descr=""/>
          <p:cNvPicPr/>
          <p:nvPr/>
        </p:nvPicPr>
        <p:blipFill>
          <a:blip r:embed="rId4"/>
          <a:stretch/>
        </p:blipFill>
        <p:spPr>
          <a:xfrm>
            <a:off x="2700360" y="1752480"/>
            <a:ext cx="4319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58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609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076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аблица 1" descr=""/>
          <p:cNvPicPr/>
          <p:nvPr/>
        </p:nvPicPr>
        <p:blipFill>
          <a:blip r:embed="rId1"/>
          <a:stretch/>
        </p:blipFill>
        <p:spPr>
          <a:xfrm>
            <a:off x="596880" y="231840"/>
            <a:ext cx="834552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646000" y="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2 остан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Объект 2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518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1. Марш деревянных солдат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2. Ходит месяц над луг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3.Шествие кузнеч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4. Похороны кук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4040" indent="-509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1 - С. Прокофьев. Шествие кузнечиков..mp3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287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19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3 останов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Объект 2" descr=""/>
          <p:cNvPicPr/>
          <p:nvPr/>
        </p:nvPicPr>
        <p:blipFill>
          <a:blip r:embed="rId1"/>
          <a:stretch/>
        </p:blipFill>
        <p:spPr>
          <a:xfrm>
            <a:off x="1701720" y="1773360"/>
            <a:ext cx="6350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20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4 останов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Объект 2" descr=""/>
          <p:cNvPicPr/>
          <p:nvPr/>
        </p:nvPicPr>
        <p:blipFill>
          <a:blip r:embed="rId1"/>
          <a:stretch/>
        </p:blipFill>
        <p:spPr>
          <a:xfrm>
            <a:off x="1789200" y="1752480"/>
            <a:ext cx="61754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Работа в па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Овал 15"/>
          <p:cNvSpPr/>
          <p:nvPr/>
        </p:nvSpPr>
        <p:spPr>
          <a:xfrm>
            <a:off x="1571760" y="4786200"/>
            <a:ext cx="7855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Овал 16"/>
          <p:cNvSpPr/>
          <p:nvPr/>
        </p:nvSpPr>
        <p:spPr>
          <a:xfrm>
            <a:off x="5929200" y="4786200"/>
            <a:ext cx="785880" cy="785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34:38Z</dcterms:created>
  <dc:creator>teach5</dc:creator>
  <dc:description/>
  <dc:language>en-US</dc:language>
  <cp:lastModifiedBy>Teacher</cp:lastModifiedBy>
  <dcterms:modified xsi:type="dcterms:W3CDTF">2023-12-22T12:52:29Z</dcterms:modified>
  <cp:revision>53</cp:revision>
  <dc:subject/>
  <dc:title>ПРЕЗЕНТАЦИЯ</dc:title>
</cp:coreProperties>
</file>