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EE5-781D-41FA-A545-9E96F9E2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A55-EF8B-4098-B2E8-5993F2E7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D5B-5E9F-4E95-9872-8A936629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DF5-DF8C-4665-B206-8711DCB6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AA3-2867-4EAF-8C3B-CBB73B38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28D9-3DC6-40BA-AE73-43BEB4A1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895E-EFF7-439E-A6A2-90F84D1D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1E4C-3A2A-42BC-AEDC-42F43E99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19F7-BE38-4F84-925F-AEA88DC2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CBC5-99A1-486E-BD48-4A0423D3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8205-37FF-48CF-93E9-C3A2962F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981-0489-4B5A-B3D1-1E8E3458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520A-B489-4442-A33C-F0D4689F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6412-CD9D-4C56-AAED-52B02FEF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C746-C9F7-481F-8BE9-CADB0553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CBC8-300B-450B-AD3D-2EDA4321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E76E-48AA-4EC0-B46C-397C6019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C0D-6F57-4CAE-B43C-8E7841AB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53D-B46D-4352-A30C-7B6B3114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460-4DD1-40BB-B95E-1D75C59B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976-224E-4652-AA37-73AA98AA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D9D-D9DA-4FB1-9DD5-F22FBE86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2D7-B3E5-43FB-8778-1E5DE79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407-280C-479B-A8FB-58A3B3D5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892F-8575-4994-BA43-3BC43FFB0D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2D01-5C7B-45DC-B3D0-7A22B496DE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Georgia"/>
              </a:rPr>
              <a:t>Прочитайте названия пьес.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Georgia"/>
              </a:rPr>
              <a:t>Все ли они марши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1. Марш деревянных солдат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2. Ходит месяц над луг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3. Шествие кузнеч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4. Похороны кукл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Georgia"/>
              </a:rPr>
              <a:t>Вспомни пьесы.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Georgia"/>
              </a:rPr>
              <a:t>Все ли они марши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1. Марш деревянных солдат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2. Ходит месяц над луг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3. Шествие кузнеч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4. Похороны кукл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нать , какие ещё существуют марш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 презентацию на тему «Эти разные марши» (по желани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Georgia"/>
              </a:rPr>
              <a:t>Терминологическая минут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6320" y="1752120"/>
            <a:ext cx="762012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Слово </a:t>
            </a: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Georgia"/>
              </a:rPr>
              <a:t>марш</a:t>
            </a: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 в переводе с французского  означает </a:t>
            </a: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ходьба, шествие</a:t>
            </a: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Шаг левой ногой, шаг правой… Техника элементарная- ходь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111840" y="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1 остан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1 кл_012_02.04. Футбольный марш.М.Блантер.mp3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1 кл_011_02.03. Встречный марш.С.Чернецкий.mp3" descr=""/>
          <p:cNvPicPr/>
          <p:nvPr/>
        </p:nvPicPr>
        <p:blipFill>
          <a:blip r:embed="rId2"/>
          <a:stretch/>
        </p:blipFill>
        <p:spPr>
          <a:xfrm>
            <a:off x="1500120" y="3286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98" name="1 кл_013_02.05. Пионерский марш.mp3" descr=""/>
          <p:cNvPicPr/>
          <p:nvPr/>
        </p:nvPicPr>
        <p:blipFill>
          <a:blip r:embed="rId3"/>
          <a:stretch/>
        </p:blipFill>
        <p:spPr>
          <a:xfrm>
            <a:off x="1571760" y="4572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Объект 8" descr=""/>
          <p:cNvPicPr/>
          <p:nvPr/>
        </p:nvPicPr>
        <p:blipFill>
          <a:blip r:embed="rId4"/>
          <a:stretch/>
        </p:blipFill>
        <p:spPr>
          <a:xfrm>
            <a:off x="2700360" y="1752480"/>
            <a:ext cx="4319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58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609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5076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Таблица 1" descr=""/>
          <p:cNvPicPr/>
          <p:nvPr/>
        </p:nvPicPr>
        <p:blipFill>
          <a:blip r:embed="rId1"/>
          <a:stretch/>
        </p:blipFill>
        <p:spPr>
          <a:xfrm>
            <a:off x="596880" y="231840"/>
            <a:ext cx="834552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646000" y="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2 остан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Объект 2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518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1. Марш деревянных солдат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2. Ходит месяц над луг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3.Шествие кузнеч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4. Похороны кукл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1 - С. Прокофьев. Шествие кузнечиков..mp3" descr=""/>
          <p:cNvPicPr/>
          <p:nvPr/>
        </p:nvPicPr>
        <p:blipFill>
          <a:blip r:embed="rId1"/>
          <a:stretch/>
        </p:blipFill>
        <p:spPr>
          <a:xfrm>
            <a:off x="1357200" y="71424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6287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61976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3 останов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7" name="Объект 2" descr=""/>
          <p:cNvPicPr/>
          <p:nvPr/>
        </p:nvPicPr>
        <p:blipFill>
          <a:blip r:embed="rId1"/>
          <a:stretch/>
        </p:blipFill>
        <p:spPr>
          <a:xfrm>
            <a:off x="1701720" y="1773360"/>
            <a:ext cx="6350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620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4 останов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Объект 2" descr=""/>
          <p:cNvPicPr/>
          <p:nvPr/>
        </p:nvPicPr>
        <p:blipFill>
          <a:blip r:embed="rId1"/>
          <a:stretch/>
        </p:blipFill>
        <p:spPr>
          <a:xfrm>
            <a:off x="1789200" y="1752480"/>
            <a:ext cx="617544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Работа в па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Овал 15"/>
          <p:cNvSpPr/>
          <p:nvPr/>
        </p:nvSpPr>
        <p:spPr>
          <a:xfrm>
            <a:off x="1571760" y="4786200"/>
            <a:ext cx="7855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Овал 16"/>
          <p:cNvSpPr/>
          <p:nvPr/>
        </p:nvSpPr>
        <p:spPr>
          <a:xfrm>
            <a:off x="5929200" y="4786200"/>
            <a:ext cx="785880" cy="785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6:34:38Z</dcterms:created>
  <dc:creator>teach5</dc:creator>
  <dc:description/>
  <dc:language>en-US</dc:language>
  <cp:lastModifiedBy>Teacher</cp:lastModifiedBy>
  <dcterms:modified xsi:type="dcterms:W3CDTF">2023-12-22T12:52:29Z</dcterms:modified>
  <cp:revision>53</cp:revision>
  <dc:subject/>
  <dc:title>ПРЕЗЕНТАЦИЯ</dc:title>
</cp:coreProperties>
</file>