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57E-BE59-4C51-9A1F-BEC8E584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20B-7B94-4F21-9D80-A6542DD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1A335-8317-459E-88EA-77DC33D3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40A5C-3909-4A2C-844F-0C0BCBC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68C60-950B-4148-B54F-02BC57A0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0423C-0CAC-48D5-BDE4-A74D0692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4B01E-C053-404F-8131-705A2BCA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46D36-396F-4542-B975-0BF323E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EE0B-8A49-45D9-A5CD-ED15F78D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A2A7B-D3E1-434A-8B07-80528146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306C9-CEB3-4AAA-949D-64042CBD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97119-D055-4C00-AF99-71BBA5E6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23C-9E86-4228-8FFD-999FD7FE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AEEFC-9309-4F32-AB05-EB203F8B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888EB-3CE8-4750-9C52-DFA6F5F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DF751-A596-488F-B0AB-1EFA00C5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B7EA8-1512-4A0D-8C05-94EAF9B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9CBC5-3B64-4040-829C-161D4F27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0D511-01C9-434C-A77D-A48F052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A55ED-3F02-4B0F-A985-D7940725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56703-2355-49BD-B49D-20213D5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43AB5-1F1B-4F0B-AA73-8B51448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2DE6A-24B4-4201-80A5-7AC60724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3BB-ACCF-4B97-B928-4BC8C49C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25C20-1134-4FA3-93AB-948F70E7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77A05-6AE1-4880-8523-B566A2B4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7864-66FC-4298-A0CC-01B13C51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69AC4-A5F5-4069-94CC-B66090B3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D5A19-7DB1-409C-82C7-CB80B2EF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DB14C-39B9-42A9-B8BA-1539121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37176-75EE-4F08-98EA-C4B00651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ACEDB-4CBD-4292-882C-238FDE1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C2950-3A23-4F2B-A969-013648F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FDE33-CCC8-4DFA-B103-65907CD5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5F5-3B02-4C33-B64B-2C03746C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0A809-9219-401A-8338-A7BEBD83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799DC-97E7-4236-BB53-296F71DD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AB8E0-6A29-4581-9B84-A17D1C16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63333-2B01-48CB-8E11-837AAD9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2CF36-3285-4F7C-86E9-6BED6C74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EB0E5-1A32-4C5C-A53D-437D8CB5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D1B82-383A-4D70-8577-82ADC15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4D58D-E84E-4766-8144-B5845FC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1FFFD-E571-4AE3-965F-E1D5FEEF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F6C86-6591-414F-B734-F859C33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84DB-74CF-4C1F-805A-D33E1D37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55865-BF2D-4D27-8723-15667CE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89790-FE23-4908-8D5F-DD19E4B1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57567-D32F-492D-A8F5-0C5C06DD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7AB27-994F-4ED3-85B5-146DEB3F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46B30-C304-47C0-BFC8-7B75457F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F2786-8427-4411-B513-E307E37A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8D122-04EB-4AD1-A465-22BE9AB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459C2-2640-4AA4-8026-D62AA4D6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0C706-C00B-4B87-BB36-E5300B73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34FBE-0DCC-41BF-A5AF-472278A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FEC6-703F-4E74-84A5-0B7855DD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C5F72-6EB2-42DD-BAEA-73007182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A84A2-98D5-44DA-9FB8-68400555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0370D-1907-481E-B9EE-31ECBE5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319F4-3CCA-4183-B87D-7E33A8D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B6208-7FA9-4AF7-B76A-483C4942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57F0F-28AD-49E5-AA54-AE4BF56E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52E1C-174C-453F-977D-812B3900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8898F-7710-4381-AC00-8A745AEB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FD658-30FC-4E60-B236-5E8E04BB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E37BC-7D99-4001-AEF1-EC02C6F8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7C3-D721-4CDF-8704-A6523D1E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2C4ED-70CE-4F74-BABB-B7A6618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4B172-AFEE-47E7-B640-B6C8F4B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CB59B-2953-4C35-AFD8-4075FC48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AD2C7-23BA-4DC4-AA8A-3CD87C48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B7187-C6A9-4391-9E6D-EC26EA2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D53A7-251E-4E28-B8D1-8FC9547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E96EF-40C7-4BF2-80DA-96A89BD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0DF74-67BC-4F8C-B3AC-C11EDA4E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9C362-2484-4A63-B8CF-3A3F69C8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75BD4-5662-4D4B-BCFF-A6B5178A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D635-AA3A-4A4B-B538-4CE76606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71B00-8E9C-4CDB-9BB8-8765660D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87E53-F1C2-426A-B87E-75A89C97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82C81-F198-41B1-8024-260296F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8E354-A0F7-43ED-985E-9A7228C4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10B6E-9FAF-494A-BDE0-0BD67B6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6A341-2BF1-4423-AC0C-64044BC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918B2-5F28-44A9-B136-F9107633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0B307-5C4A-4320-9102-371AED5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62388-64B7-47F3-A608-E94BA43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502A1-40C3-4AA0-B93F-2BF98776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0896-0440-4E35-8B08-C3F1A9E8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F2DF4-190A-4119-8E5A-71442AAA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499EE-4C13-4F75-A69E-F3258014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A5080-C930-4E2A-B707-C08A046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4F0C1-7A05-4614-B85C-F3E7633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4B3FB-6D75-404A-875A-7CEE37E4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4CC13-6F81-4AFC-AAB1-DA5FA49E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2B290-8A98-4CFB-B341-7E88F985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1F08D-5E92-4FE2-ACB6-C768C89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60F9D-5ACF-4BD8-8788-FE2C5BB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CDA76-1081-41AE-9061-4CD3BE9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B543-F074-4B58-B878-AA70F95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F208A-72BB-4C74-9D36-86DC4F43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87902-CB00-40EC-AFE2-F2294EEF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27AE6-65A9-4B32-8944-3A9AC559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1CFC0-18C6-40C9-8F61-E93C8270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BF3CA-B8D9-433F-8471-1825C652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935FD-9B9B-410B-AC61-A81E4F2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2A8A8-3220-4F63-9DB4-1E8065F0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24B3B-5536-4DD5-9924-D46F289A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A7E20-2CD5-489B-B854-5A33D7C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26563-4897-471F-B265-F7627466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B72-6151-49EC-A1F1-F0ABACB3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3B13-8CBD-490C-9477-D310FB3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73582-5F5E-4C17-967C-DC3604B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00A0C-C41C-4F00-9162-282DA28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9C039-323A-46B4-9627-174648F4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DFED3-6985-4FEB-9216-901FC4A7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DF5F6-5088-45B6-9978-5897DD20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798B0-92D4-4759-97EF-8C49F39C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019A7-6D40-48D5-A144-83547493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28EEDE-3E89-42B7-97F2-196019C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6ACD32-5E4A-4D47-BD59-62BC0F0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D325A-7331-4527-9FCE-088B3333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741E-F4FF-4D72-830A-23F1AE1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6A43B-53FC-46E7-920B-E0A9E50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810C9-31AF-435C-8BD6-E16457F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71699-3776-4872-8D00-F0F5EFE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38763-8AD0-436E-B2A8-A2F66FD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FE303-C77E-4B84-A686-73E8A500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AF429-BB3B-4947-916B-B8C5251D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44802-CE60-450D-8CD7-EC06FE2D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D483-077A-40C6-8C22-0C1C409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43E5-2851-420A-A659-9CA95EA7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C5B6-5EBF-4A9A-9830-218636BF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72C0-F62B-4AC0-B46A-7F0B7EF7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20F1-5978-4FD6-9343-7E96B6F2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517B-2BD6-4B97-8FE9-BCC97BA3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A839-25F6-4CC6-B8B6-694597C7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26E1-8FA7-4AD7-82A9-FDB10D5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0A7-08E1-4886-956E-FE66124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8D03-A310-4520-808D-D39C0277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B852-B7F6-4EA7-9469-FDC9BBC9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0A02-EA7B-4C97-9662-9F893DCC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733D-39C7-4BD8-BF1E-79A15DF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6CF1-D575-440C-A7E4-46CC74B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EA4F-5C3E-4F4F-BB32-9FA8DB7F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DB22-ECFD-4A18-AA05-CA15D71E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05A2-6D21-493C-B70B-F1DFBC2A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3444-6419-4E54-8B47-25AD3250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ACC3-72C0-4B35-81C1-A53A90EE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069-F5A0-4EE9-A2AB-B93315F8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BEDE-DAC8-473F-8C9C-C19BFD0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CC18-C195-4561-B537-2364FB7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5A4F-4AC5-4880-A591-99FCFEC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15D0-6F0A-4B4E-B53C-32C92D3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755B-F213-4E0C-9AC0-DA223DD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58A1-71EC-4606-9946-6093868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7A57-3546-46D0-BA5E-8CA61746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351D-5C11-477F-8A8E-5C7C8016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F217-4AC5-4A5E-B615-0E00A95B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029F-57BA-499A-84CB-DD24AA5B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547-F6B2-4CF1-851E-3178035C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F7DB-5D3C-479E-95DC-16D7CED4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BBEA-BA98-4DA3-AC6F-A2AED2D9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4C17-AE03-4EA7-A076-108A9B4C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019E-5E4D-4F09-9643-339A75A7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3A6E-6D23-47D0-A919-AFF72165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3F3A-8D1D-49C2-8A6E-7558441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8DEF-E1EE-4896-B749-5D7BDE2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E1636-08A4-4FBD-AE91-ADCB5E0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665F-04BE-47BA-A8B6-C2F0435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A8181-55F4-4A30-97C9-DD48C996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B8C-BB97-4EE1-B321-19E645E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FD9EB-9E3B-4163-A301-287FE5CA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E1EB5-4026-4E6C-B86F-0018C0C9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23E9-E74A-468E-82BF-42346E58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4B8B-5852-4CE8-BBD8-63F6DFE8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FC0C-885C-4DDE-B598-62AFB202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36B71-58B0-4AD7-A05C-A8FBFC31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4EE9-3340-4664-BC64-C259C7C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5FDE-87FA-4FB9-B3FE-44D06C9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108A3-A803-4231-A1EE-36ED339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A1F7-269E-4B14-948F-095B160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D59-13FD-4492-8251-1809E3B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C95C-6826-4CD4-B6EA-789FAAD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F738-A7B3-470F-B032-212ED35A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59F1E-8EA9-4130-9CEE-9F7EF6D0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944FC-6A1C-4AA1-BD27-E436605C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78D18-8685-4C29-8467-2C5FA00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E5780-968E-42EE-9E5C-9E766D1D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A18A-D222-449A-BE2F-B68FBE8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1E52D-9D5D-4BD7-9BF9-0AF16E5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D736B-59AB-4A8D-A122-6994263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D33FE-2A9B-4562-A734-BDFC8D2F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200-E38A-41C4-A84C-F8C28563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D857B-0DCB-4DA7-91B0-513C8B2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2DF43-53ED-411A-9DC9-2131BD54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8D95-C701-45B6-B60A-6FF42A59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F3BA-F282-4C60-8806-BCC7BBC4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23C1F-DBA4-43CC-BE20-CD8B75CD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B0BF0-9D61-4FCC-844C-D0D61464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8BD0-1EB6-4EB2-BE4F-219FA0E6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29FBC-CFD8-4084-8548-0F8603B8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5BD42-C4CE-4812-BA3F-125D05B7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6787-0CD7-42CF-973B-6CACE261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556-5837-43F9-A8E8-973B5767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12D0-9E1D-430A-A769-B14AEB06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0E67-C280-44B2-8688-7FC6E3B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0E45C-53C5-4074-A83B-304C587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F9B2E-C4E3-4E16-B1E4-0DB3FF4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B272E-CF8E-4308-B91A-702CF2EA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D7F8B-2E23-4383-B7FB-7EEADB7D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64127-33A5-4C08-9938-CDE2DA3E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8E24A-4B91-4EF6-BAA9-15421AE8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3CECF-A7FC-4501-B2C7-8B361AA3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8E292-4B97-4F17-B0B9-E40372C6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59B75-035B-4808-A810-8E2FB4E997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7057C-6974-4B3A-8DA9-CE630285A7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6B2CC-9C4C-4FD0-85CA-4FDB09EE6A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E9BE9-238D-4DF9-95F9-41EE9B4E14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0374B-A01C-46AC-8358-120AD09196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F21CF-9F53-4153-A1CA-7AAB1FB4C1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6A5C0-624A-44BA-BB63-78B2E3BE22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E2081-80E0-4AC6-B59D-B2F44CCE60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AB7F4-2E01-436C-B730-C216EF66DF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3D26C-1B3A-4041-A426-9DB4C51172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335D6-37A6-4745-902F-467CAFACB6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B9BA6-08B1-4087-9D3B-D57D130D78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E1508-262C-424D-8B73-D583B3445E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BCAB6-1282-46D7-9FE9-81BC0EB63D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46553-8606-4CBF-A3A7-A548521B07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10074-F8C5-42D7-9B92-3EE69FF34B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B6257-84E0-47A5-B63D-9C7188DC34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60275-5BC2-42D8-B748-C47CE27FCD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WordArt 10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245" name="Прямоугольник 1"/>
          <p:cNvSpPr/>
          <p:nvPr/>
        </p:nvSpPr>
        <p:spPr>
          <a:xfrm>
            <a:off x="1547640" y="3105000"/>
            <a:ext cx="69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Идеология, наука и культура в послевоенные годы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Box 2"/>
          <p:cNvSpPr/>
          <p:nvPr/>
        </p:nvSpPr>
        <p:spPr>
          <a:xfrm>
            <a:off x="1835280" y="404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История России. 10 класс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/>
          </p:nvPr>
        </p:nvSpPr>
        <p:spPr>
          <a:xfrm>
            <a:off x="4427640" y="475920"/>
            <a:ext cx="4681440" cy="6048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После войны быстрыми темпами шло восста-новление системы образования. В 1950 г.в стране насчитывалось 222 тыс.школ. Расходы на образование выросли в 2,5 раза. Страна продолжила, прерванный войной переход ко всеобщему обязательному семи-летнему образованию. Восстановление эконо-мики требовало квали-фицированных специа-листов, поэтому к 1947 г. был превзойден довоенный уровень ВУЗов и студентов. За 5 лет было подготовлено 650000 специалист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9" name="Text Box 6"/>
          <p:cNvSpPr/>
          <p:nvPr/>
        </p:nvSpPr>
        <p:spPr>
          <a:xfrm>
            <a:off x="1315800" y="5373720"/>
            <a:ext cx="20703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Ф.Решетник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Опять двой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0" name="Picture 8" descr="опять двойка"/>
          <p:cNvPicPr/>
          <p:nvPr/>
        </p:nvPicPr>
        <p:blipFill>
          <a:blip r:embed="rId1"/>
          <a:stretch/>
        </p:blipFill>
        <p:spPr>
          <a:xfrm>
            <a:off x="611280" y="907920"/>
            <a:ext cx="3479760" cy="3643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/>
          </p:nvPr>
        </p:nvSpPr>
        <p:spPr>
          <a:xfrm>
            <a:off x="4500360" y="549000"/>
            <a:ext cx="460836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1" lang="ru-RU" sz="2400" spc="-1" strike="noStrike">
                <a:solidFill>
                  <a:srgbClr val="ffff99"/>
                </a:solidFill>
                <a:latin typeface="Arial Black"/>
              </a:rPr>
              <a:t>В науке характерной чертой времени стали «дискуссии», использованные властями для усиления партийного влияния и сведения счетов с оппонентами. В 1948 г. на сессии академии ВАСХНИЛ была разгромлена генетика. В исторической науке прогрессивным деятелем был объявлен И. Грозный. Кибернетика была объявлена буржу-азной наукой. Любой западный опыт в лю-бой науке отвергался как враждебный и не-верны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учные дискусси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3" name="Text Box 6"/>
          <p:cNvSpPr/>
          <p:nvPr/>
        </p:nvSpPr>
        <p:spPr>
          <a:xfrm>
            <a:off x="1317600" y="6222960"/>
            <a:ext cx="14839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Т.Лысенк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4" name="Picture 10" descr="Рисунок1"/>
          <p:cNvPicPr/>
          <p:nvPr/>
        </p:nvPicPr>
        <p:blipFill>
          <a:blip r:embed="rId1"/>
          <a:stretch/>
        </p:blipFill>
        <p:spPr>
          <a:xfrm>
            <a:off x="458640" y="638280"/>
            <a:ext cx="3556080" cy="5389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3745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1. «Ждановщина»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2. Литература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3. Театр и кино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4. Музыка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5. Образование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6. Научные дискуссии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1116000" y="2421000"/>
            <a:ext cx="7704000" cy="2736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Какую политику и почему проводили советские власти в сфере науки и культуры после войны?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Задание на уро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4211280" y="620280"/>
            <a:ext cx="4824360" cy="6048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Сотрудничество с западными странами в годы войны создало возможности для расширения культурных контактов. В советскую культуру стали проникать элементы либерализма. В условиях «холодной войны» была развернута компания против «западного влияния», ко- торую возглавил секре-тарь ЦК по идеологии А. Жданов. В 1948 г. нача-лась компания по борьбе с космополитизмом и СССР вновь оказался в культурной изоляци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Ждановщина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41880" y="5929200"/>
            <a:ext cx="1383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А.Ждан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4" name="Picture 10" descr="Рисунок9"/>
          <p:cNvPicPr/>
          <p:nvPr/>
        </p:nvPicPr>
        <p:blipFill>
          <a:blip r:embed="rId1"/>
          <a:stretch/>
        </p:blipFill>
        <p:spPr>
          <a:xfrm>
            <a:off x="490680" y="692280"/>
            <a:ext cx="3400200" cy="47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4571640" y="765000"/>
            <a:ext cx="4537080" cy="5832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В литературе главное место занимала военная тематика («Повесть о настоящем человеке» Б.Полевого, «Молодая гвардия» А.Фадеева, «В окопах Сталинграда» В.Некрасова.). В романах «Кружилиха» В.Пановой, «Первые радости» К.Федина  и др. центральное место занял процесс возрождения мирной жизни. В это время стремительно раз-вивалась национальная литература. Во весь го-лос заявили о себе Р.Гамзатов, Д.Кугультинов, К.Кулиев и д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645840" y="6165720"/>
            <a:ext cx="160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А.Ахмат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Text Box 12"/>
          <p:cNvSpPr/>
          <p:nvPr/>
        </p:nvSpPr>
        <p:spPr>
          <a:xfrm>
            <a:off x="687960" y="3508200"/>
            <a:ext cx="16056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М.Зощенк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9" name="Picture 13" descr="Рисунок8"/>
          <p:cNvPicPr/>
          <p:nvPr/>
        </p:nvPicPr>
        <p:blipFill>
          <a:blip r:embed="rId1"/>
          <a:stretch/>
        </p:blipFill>
        <p:spPr>
          <a:xfrm>
            <a:off x="539640" y="577800"/>
            <a:ext cx="1901880" cy="27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60" name="Picture 14" descr="Рисунок7"/>
          <p:cNvPicPr/>
          <p:nvPr/>
        </p:nvPicPr>
        <p:blipFill>
          <a:blip r:embed="rId2"/>
          <a:stretch/>
        </p:blipFill>
        <p:spPr>
          <a:xfrm>
            <a:off x="2700360" y="3681360"/>
            <a:ext cx="1751040" cy="263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/>
          </p:nvPr>
        </p:nvSpPr>
        <p:spPr>
          <a:xfrm>
            <a:off x="4354560" y="620640"/>
            <a:ext cx="4681440" cy="5905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В то же время власть уси-лила партийный конт-роль над литературой. В 1946 г. в постановлении ЦК ВКПб резкой критике подверглись журналы  «Звезда» и «Ленинград», которые опубликовали на своих страницах про-изведения М.Зощенко и А.Ахматовой. «Ленинг-рад»  был закрыт, а в «Звезде» сменилось руко водство. Проводником партийной политики в литературе стал, учреж-денный в 1946 г.журнал «Партийная жизнь»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Rectangle 5"/>
          <p:cNvSpPr/>
          <p:nvPr/>
        </p:nvSpPr>
        <p:spPr>
          <a:xfrm>
            <a:off x="1187280" y="95400"/>
            <a:ext cx="7667640" cy="433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933120" y="5711760"/>
            <a:ext cx="26755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Первый номер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журнал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«Партийная жизнь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4" name="Picture 11" descr="Рисунок6"/>
          <p:cNvPicPr/>
          <p:nvPr/>
        </p:nvPicPr>
        <p:blipFill>
          <a:blip r:embed="rId1"/>
          <a:stretch/>
        </p:blipFill>
        <p:spPr>
          <a:xfrm>
            <a:off x="395280" y="614520"/>
            <a:ext cx="3059280" cy="492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/>
          </p:nvPr>
        </p:nvSpPr>
        <p:spPr>
          <a:xfrm>
            <a:off x="323640" y="3789360"/>
            <a:ext cx="8785080" cy="27352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В послевоенные годы подверглось критике обращение к историческому прошлому. ЦК  осудил «идеализацию царей ,ханов», а так же  постановку пьес западных авторов и «потакание обывательским вкусам и нравам». В соответствующем постановлении ставилась задача увеличить число постановок посвященных «пафосу борьбы за коммунизм», по-этому удачных постановок было немного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и кин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7" name="Text Box 6"/>
          <p:cNvSpPr/>
          <p:nvPr/>
        </p:nvSpPr>
        <p:spPr>
          <a:xfrm>
            <a:off x="588240" y="1592280"/>
            <a:ext cx="24440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С.Эйзенштей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на съемка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«Ивана Грозного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8" name="Picture 9" descr="Рисунок5"/>
          <p:cNvPicPr/>
          <p:nvPr/>
        </p:nvPicPr>
        <p:blipFill>
          <a:blip r:embed="rId1"/>
          <a:stretch/>
        </p:blipFill>
        <p:spPr>
          <a:xfrm>
            <a:off x="4140360" y="566640"/>
            <a:ext cx="4752720" cy="3170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8785080" cy="3313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В кинематографе яркими событиями стали «Молодая гвардия» С.Герасимова, «Повесть о настоящем человеке» А.Столпера, «Весна» Г.Александрова и др. В тоже время резкой критике подверглись: 2-я серия «Ивана Грозного» С.Эйзенштейна, «Адмирал Нахимов» В.Пудовкина, «Большая жизнь» Л.Лукова. Эти фильмы на долгие годы были положены на полку и не выходили на большие экраны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Rectangle 6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и кин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248760" y="1447920"/>
            <a:ext cx="26326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Кадр из фильм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С.Герасим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«Молодая гвардия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2" name="Picture 9" descr="Рисунок4"/>
          <p:cNvPicPr/>
          <p:nvPr/>
        </p:nvPicPr>
        <p:blipFill>
          <a:blip r:embed="rId1"/>
          <a:stretch/>
        </p:blipFill>
        <p:spPr>
          <a:xfrm>
            <a:off x="3708360" y="549360"/>
            <a:ext cx="5256360" cy="289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11"/>
          <p:cNvSpPr/>
          <p:nvPr/>
        </p:nvSpPr>
        <p:spPr>
          <a:xfrm>
            <a:off x="515520" y="1700280"/>
            <a:ext cx="2224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П.Вильямс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Д.Д.Шостакович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/>
          </p:nvPr>
        </p:nvSpPr>
        <p:spPr>
          <a:xfrm>
            <a:off x="250920" y="3573000"/>
            <a:ext cx="8858160" cy="3240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По окончании войны сеть музыкальных театров и концертных учреждений была быстро восстанов-лена. В Москве регулярно проводились декады на-циональной музыки. В конце 40-х были созданы крупные произведения- «Медный всадник» Р.Глиера, «Великая дружба» В.Мурадели, «Каменный цветок» С.Прокофьева и др. Но в 1948 г. ЦК подверг критике Мурадели, Шостаковича, Прокофьева и Хачатуряна за «антинародную направленность»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6" name="Picture 12" descr="Рисунок3"/>
          <p:cNvPicPr/>
          <p:nvPr/>
        </p:nvPicPr>
        <p:blipFill>
          <a:blip r:embed="rId1"/>
          <a:stretch/>
        </p:blipFill>
        <p:spPr>
          <a:xfrm>
            <a:off x="4356000" y="568440"/>
            <a:ext cx="4392720" cy="29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/>
  <dc:description/>
  <dc:language>en-US</dc:language>
  <cp:lastModifiedBy/>
  <dcterms:modified xsi:type="dcterms:W3CDTF">2024-06-26T08:23:05Z</dcterms:modified>
  <cp:revision>66</cp:revision>
  <dc:subject/>
  <dc:title/>
</cp:coreProperties>
</file>