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4A2-6C68-48AE-AE0C-B0966608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7BEE-3777-4CB6-9979-88A035BA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BF855-A301-489B-8048-C7A7F93C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ECC70-6E0A-4AE8-98EA-FEC787AF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D5B1D-1B27-4EA7-B1E4-95180271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62646-B1E4-40B2-9739-9D925E03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F39E3-BAA9-48FA-9CBE-554AF2F0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1F5EA-E0DF-4D08-BC59-0E495B51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72664-11E5-4D4C-A95D-7AD588AD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0CD85-4304-42B3-B323-02A489DE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742FC-14AD-40FB-9AA4-3EBA1FDD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12587-B041-48E9-AA55-16646E5D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136-C016-4601-AA31-E26B3263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1670D-7CFB-4F29-A65D-9C8897EF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6FCA7-1ABC-4BE8-848A-5CDF8700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BA2F6-73EE-4E5D-8559-F2F1BCB3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31AF1-5EB3-4E88-ADFB-AD3C65D6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C3F15-D84E-40E5-936B-9CA38E00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E987E-DDA0-47D0-9A90-47D77B7B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9CB67-8522-485B-A75E-884548B5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5B172-732F-459D-9E7A-21558D22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36F4B-4DC2-4497-BF73-AB1AAA12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23460-ED32-4AD7-A67E-9EA65F48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DE1-D2AF-45FA-8129-54CF62A1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157BA-2FC3-4EB1-874C-C9A9FECE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06AB2-89CE-4AAD-86EB-3FEC7E25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FA038-66F8-4AE0-A9AB-8D6FB003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F3C8A-7E55-407E-BABD-831FF199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4A34F-35DE-4A41-90D2-4D1C87BC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D162C-AFA0-4473-9E7B-1C2AD190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8262F-728B-4B3A-B70D-BBDA615D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5F023-8620-4B63-9EC3-69CEC135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6705F-2E76-4F72-8F30-B58B5BAC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BCDCB-D3A0-4C0E-BAA2-3CB055ED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759C-4D1E-4063-A4D6-28228E58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90D66-93FE-4B33-9DAD-B8DE31B7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8D3CD-200F-4CD6-9AD2-1599747F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6A58A-7BFA-4B79-89F0-6165BA98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86682-80EA-4858-8EE3-289BC434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6369F-3A9E-4078-A484-35F7C9FF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EFDA6-1AE5-45E1-87BC-122AEB8F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B6C40-4B11-43AB-9D5B-D4F17867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6693B-D343-4A22-8A13-B147628D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A4238-77BB-4D57-A295-BEB271C6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B83DF-07DE-4BFC-8C91-A77CE6DC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F08B-C943-4D1D-AF01-07ECA848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16707-B1AF-4E99-BD7D-1F3E06C5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14D8C-35E6-45AF-840B-D8BDA0B3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FDE5A-C232-4835-B769-3F0B87ED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26311-4298-477E-9E84-9AD892AC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CD2E9-EF4F-4FEE-AB9A-9F7C5825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9F551-3EC3-4F1F-B044-DBEB301D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C9548-5718-4CF5-83C5-581730F7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EC30FB-D34F-457F-B142-931D186B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CB4AA-121C-4E68-AA2F-58057F5A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84DC0-4BD2-4302-A1B9-84990ACD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4773-9121-454B-9978-CD3B25BC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80061D-58FE-454D-9649-50DE3BAC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49D949-93C8-4EAD-9F88-0C3B85C6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D68710-AEFD-4A47-9F54-6F311306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BBAB6-0E26-47E4-B4FB-8780A0F5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89540-195A-4ECD-9628-62605F7C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24139A-BEC3-4940-958D-D4D4332A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6CB10C-8FB7-45FF-BEC7-980A37EA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5DEF26-B321-41CF-B9EE-2782B3D1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7B82CE-E71C-4AEA-B4D0-E81BFCB4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0153B2-F581-4856-9BBB-35C67DC3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9F27-1F49-4AB3-BCDA-5D1DB321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8630A8-EE64-40A5-AF20-A48DCDB8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05826A-572D-42ED-AD64-78FC04B8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EBCD30-E3DA-4123-8C22-F3FC7B64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3E9BEA-F928-4DB2-894A-B221AAFF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4910DA-1293-4B82-BA3C-89D30D8A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E87E50-8CA9-4254-ADAD-C7F45C9D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F8F69C-8805-459A-AA00-7DC9B2F7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B7F0E4-07D2-4FA0-A594-C811F7DD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8D1035-000D-4EA8-9D5E-28E4949A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745A9D-CD67-43B1-936B-B1B9ED6A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146F-2284-4769-85FC-8FD87FDB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19C010-8802-476E-B91E-5CF66546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FCE238-9280-422E-A1FF-5E4E1ACC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A3F355-A355-447E-B4DD-52441E60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535ACF-8710-4575-95A0-1A58B475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2126D6-3D04-4341-856E-C88F153A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977B20-EEF5-49C0-86D0-1A3EF16E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471829-BA0E-46AB-B678-6722F45A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8DCCC3-8825-4942-A3F2-17424EF5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A5FDCD-FB03-4BA1-898B-0BF04F45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9D2C05-BD72-46D0-8AD7-6BE56154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A6E1-BBDA-4909-BC63-DFDEEE9A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FEEA86-E847-4D31-98D6-CEBEFCCE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6776A4-993E-4D08-860E-66B9F850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2DB8F3-415A-48F0-8C8F-2F9C0F11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81A566-5205-420E-8BC6-BF122CBB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A54DC4-7FA0-471B-8564-CEEDB318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BBB870-0F0B-4D60-A2BE-AAFE909D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C46524-67DA-43A5-90C9-274A9724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8BBF87-B3E8-44A6-BB08-47B6796F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F8A346-AAA4-4F8F-B9DF-3D22756A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994BE9-FF24-431D-8C32-CCA48CC8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927F-DF16-4229-8830-222D1383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8DCF22-F454-4319-AE2D-43A1003C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9AF87D-46DB-4175-AE09-3A0EED5C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D9B998-7B3F-4CBC-A439-A8C2CC31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416487-6E1D-43AF-B87E-62975C01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9E2E0C-6D83-4996-BFEC-88243E0A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DA8C0C-A07B-47D1-B838-28FDAF7E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C6D54C-E182-494B-9FCB-F81921CF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B9B5DF-3E47-4E28-92F0-85BE3214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BFD9AE-8759-401D-A6FA-609E5864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BCF52E-272F-4CB3-A6E0-9CC1FDD2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E6A-635D-416F-B685-261C805E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6640-6355-4092-B5BB-201CE1D4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EF4325-E2A5-44E9-9D37-0CA9A96C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F49CA9-3A54-486E-BE4C-3FF642FF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8309D1-E3E1-4A71-AD87-5326A546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00FB72-39F5-4734-9C23-7D7981EB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26B78E-80E3-446A-AAD6-9B64CA4F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5B5432-1160-4617-99F7-B79455F2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99EB9A-FE10-4F9E-912D-0F1141F6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8CD88F-36E1-4011-956C-78A305EA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1797FF-08D8-46EA-8C1A-D2658200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C41CD5-D732-47D2-99F4-E0CF09ED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D746-7FEA-4417-A7A6-AAE99234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BC667C-858D-4E65-985E-F644E404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67AE1E-FBB1-4B24-8B58-651A779D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A5CF2E-0676-4EB4-850C-F53E88CB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E1A61C-9FD4-4CDC-9516-830E883B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99BA3B-A71C-49EC-8DEB-B91A1A02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E05DFC-31DC-4865-9A80-24A02C31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847DDD-5F7E-4572-8AFF-36DC6DE8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BAC7-569F-41C9-928B-2372E7C0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A943-8379-4AC5-9654-C961BEC0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0278-C924-44D7-9CE6-BA7C65DA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1B3B7-07AB-42C1-AB9A-22B9983B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9F173-31EB-499D-9C80-D90F9EB8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FB2C7-8B12-4D52-891E-2B7FF228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4FCCF-1916-4027-8932-68CCDDB2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4DF30-1434-4F7D-B1F1-11801B56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4D3-3B4E-4CC3-9C04-2C98BD2F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57AC8-3975-49E0-BAD4-450CEE89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97DA6-2972-47D6-B1F1-63C1BA1E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B1F38-6DA8-4F53-BDE5-4720E480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261D6-F308-44AA-B888-D30947A3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D08E8-DFFF-4EAE-BAE1-8503B3F7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05888-F6C3-4115-BB7C-B9000545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8A8EE-2B37-44D8-A120-BD8F2F6D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452D9-E625-4EC2-9BA7-23E901A3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8C20F-C7ED-43A2-B47D-C24264A4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B6454-02AE-4946-A9D3-7B550CCA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2D4-A3FA-4B68-A1EE-FF6A1808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84943-97BA-46DC-A7ED-11AA01BE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1F856-4952-4822-97D5-D21FB00A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477A2-18C1-42C5-9203-221C7112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B23B0-8E72-4367-8428-1F8F0BB0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297D4-77BA-4002-8D1A-ABA62EDD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A7093-E377-4D1C-9699-52997B7A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6B756-768C-4F8A-BFBF-38388222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013F4-538E-4705-86CA-0235ADB8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FD64B-8D64-40E6-A153-30505DC1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923FA-2DF6-4B70-8791-47A70ECC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939-0BDE-4AD0-964D-EE659212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39F52-6256-4ADC-9ADA-71354E84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617F0-53CC-4509-A112-07E0E17C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D4A8A-C99E-40E9-A960-902BC2F0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DC3DB-55D2-45E2-9C8C-3D532CBC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921F5-3C19-4087-93A3-743E5A0D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3D6CD-BD85-4CAC-8885-906C5373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2256A-3B3E-4D19-907B-2068BA07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8611A-2090-4172-BFA6-A007D095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8E1C4-FD69-474D-B5EB-EDB9BA5A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E10E8-146E-4F36-BF70-A05A3AD7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DDEC-C76F-4A2C-A700-05D50B7B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3C46A-A2C1-4D7E-ABC8-F357FCBD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DFEE0-6ED1-4B22-9F29-99F5EC22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E7D66-300B-4D4E-9E77-138DC4E3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570EE-8040-4FE0-8091-86B5C36A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DFA38-4685-4844-ADF9-EFDA18FD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51D2D-866B-4EC7-9B52-C5AB2AD2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ABB2C-E457-46C3-A198-29F6F4C4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C841F-89BE-42CC-9EB2-EBF7DC72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46AD8-F1EC-4674-A80A-6A717F71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6A382-28FA-4FED-AEBC-69FA6F66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8C3-209F-457A-8E15-0675E125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3BC3E-DD7B-4214-ADDC-DDABB898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EC871-1F50-4ED8-AF0F-94D2CEEC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FB914-C632-45DA-82DA-BA9EA4AB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53E72-B809-4BBE-8BB8-718F838D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7EF62-5ABA-4906-8026-96D5F274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22841-E945-4CAC-8038-A16F10BB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B332F-FC69-49D9-B9DA-41F97C45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DB9A8-08FB-4601-9856-CB0D4DAF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78222-9A73-4B93-8C7D-75B7B9A9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72680-74FA-4395-938E-D9EEC0AE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A61-4C4B-4DFE-8F39-3239641C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99815-B53F-4EDD-8B51-2FC85983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C396E-0FC1-43A1-B10D-035AE181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4B00F-205A-4936-8174-649B975C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9F4D7-3606-4591-8A77-3C64140E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E28FB-F163-46C3-B84A-C5D9F594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77C4C-81B6-4C6F-B378-F508F28D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28287-0A20-46AF-83FB-B6D1F2A8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91FC9-DD2F-42A8-8850-3AA535B8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02A36-898F-46CF-938E-894650E5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114D1-52D3-4F81-8327-04D543F3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2E8D-F75B-4802-A1F4-74DCDE33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1B162-9EE6-468D-BEDC-7E3E2FAF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9D232-992B-4D00-AC05-F8AB7914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DE2AF-C1FC-4268-B5EE-192A1417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A18F9-A0C0-4D96-A226-8C85F975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97E4B-21F3-40FC-8B80-B426AC7B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45976-F7BD-437C-BABC-9720AD38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353AE-4605-47DE-BEA7-D56A1A62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A6176-80ED-45BF-8B76-94549E04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D446D-F66E-4FFE-A0BB-02A4F5C9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4E6BB-F97A-44CB-A535-3CF2AF52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8FCE9-FC91-43B0-A90A-5AC1C26EE5D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FF445-383A-4196-9A9D-0A3418C0623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F8025-6A07-464D-B8DF-8A9A7305E2F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CC2F6-9156-4A3E-B372-63D2B06EA64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FC3E3-A426-46E9-AE07-BBB1C56940B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F72CA-427A-4E7B-8DDA-4B3487BC9D7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D90012-E888-4E2A-888E-0904E65D5A6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C0DE5-1396-48CF-837E-DDB45056F60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ED2BD-F95D-4AA6-BBFF-03D91E0FFB5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EB34B-953B-4C30-8BB7-92F9D812D4A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BF0B7-F884-4033-A5BD-5042A02E348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FA7BB-447F-4D19-88B7-CDF7C8607DE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53097-80F9-4787-A191-7F468D9157C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EAF98-5444-43DC-BCC9-060E990351E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09033-5A97-49E1-83CC-2D03C7432DD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A6FA6-0BAB-441C-BB4E-D29C1CC5981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AC0E2-6321-4B42-A874-18BAB08966B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F4D10-C525-4C3A-8480-8D4361B91AF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WordArt 10"/>
          <p:cNvSpPr txBox="1"/>
          <p:nvPr/>
        </p:nvSpPr>
        <p:spPr>
          <a:xfrm>
            <a:off x="324000" y="1844640"/>
            <a:ext cx="87120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1245" name="Прямоугольник 1"/>
          <p:cNvSpPr/>
          <p:nvPr/>
        </p:nvSpPr>
        <p:spPr>
          <a:xfrm>
            <a:off x="1547640" y="3105000"/>
            <a:ext cx="69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Идеология, наука и культура в послевоенные годы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6" name="TextBox 2"/>
          <p:cNvSpPr/>
          <p:nvPr/>
        </p:nvSpPr>
        <p:spPr>
          <a:xfrm>
            <a:off x="1835280" y="404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История России. 10 класс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/>
          </p:nvPr>
        </p:nvSpPr>
        <p:spPr>
          <a:xfrm>
            <a:off x="4427640" y="475920"/>
            <a:ext cx="4681440" cy="6048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ff99"/>
                </a:solidFill>
                <a:latin typeface="Arial Black"/>
              </a:rPr>
              <a:t>После войны быстрыми темпами шло восста-новление системы образования. В 1950 г.в стране насчитывалось 222 тыс.школ. Расходы на образование выросли в 2,5 раза. Страна продолжила, прерванный войной переход ко всеобщему обязательному семи-летнему образованию. Восстановление эконо-мики требовало квали-фицированных специа-листов, поэтому к 1947 г. был превзойден довоенный уровень ВУЗов и студентов. За 5 лет было подготовлено 650000 специалистов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Образова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9" name="Text Box 6"/>
          <p:cNvSpPr/>
          <p:nvPr/>
        </p:nvSpPr>
        <p:spPr>
          <a:xfrm>
            <a:off x="1315800" y="5373720"/>
            <a:ext cx="207036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Ф.Решетников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Опять двойк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0" name="Picture 8" descr="опять двойка"/>
          <p:cNvPicPr/>
          <p:nvPr/>
        </p:nvPicPr>
        <p:blipFill>
          <a:blip r:embed="rId1"/>
          <a:stretch/>
        </p:blipFill>
        <p:spPr>
          <a:xfrm>
            <a:off x="611280" y="907920"/>
            <a:ext cx="3479760" cy="3643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/>
          </p:nvPr>
        </p:nvSpPr>
        <p:spPr>
          <a:xfrm>
            <a:off x="4500360" y="549000"/>
            <a:ext cx="460836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 Black"/>
              </a:rPr>
              <a:t>   </a:t>
            </a:r>
            <a:r>
              <a:rPr b="1" lang="ru-RU" sz="2400" spc="-1" strike="noStrike">
                <a:solidFill>
                  <a:srgbClr val="ffff99"/>
                </a:solidFill>
                <a:latin typeface="Arial Black"/>
              </a:rPr>
              <a:t>В науке характерной чертой времени стали «дискуссии», использованные властями для усиления партийного влияния и сведения счетов с оппонентами. В 1948 г. на сессии академии ВАСХНИЛ была разгромлена генетика. В исторической науке прогрессивным деятелем был объявлен И. Грозный. Кибернетика была объявлена буржу-азной наукой. Любой западный опыт в лю-бой науке отвергался как враждебный и не-верный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Научные дискусси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3" name="Text Box 6"/>
          <p:cNvSpPr/>
          <p:nvPr/>
        </p:nvSpPr>
        <p:spPr>
          <a:xfrm>
            <a:off x="1317600" y="6222960"/>
            <a:ext cx="14839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Т.Лысенко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4" name="Picture 10" descr="Рисунок1"/>
          <p:cNvPicPr/>
          <p:nvPr/>
        </p:nvPicPr>
        <p:blipFill>
          <a:blip r:embed="rId1"/>
          <a:stretch/>
        </p:blipFill>
        <p:spPr>
          <a:xfrm>
            <a:off x="458640" y="638280"/>
            <a:ext cx="3556080" cy="5389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/>
          </p:nvPr>
        </p:nvSpPr>
        <p:spPr>
          <a:xfrm>
            <a:off x="1403280" y="1267920"/>
            <a:ext cx="7632720" cy="374508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ff99"/>
                </a:solidFill>
                <a:latin typeface="Arial Black"/>
              </a:rPr>
              <a:t>1. «Ждановщина»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 Black"/>
              </a:rPr>
              <a:t>2. Литература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 Black"/>
              </a:rPr>
              <a:t>3. Театр и кино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 Black"/>
              </a:rPr>
              <a:t>4. Музыка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 Black"/>
              </a:rPr>
              <a:t>5. Образование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 Black"/>
              </a:rPr>
              <a:t>6. Научные дискуссии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Rectangle 19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лан урок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/>
          </p:nvPr>
        </p:nvSpPr>
        <p:spPr>
          <a:xfrm>
            <a:off x="1116000" y="2421000"/>
            <a:ext cx="7704000" cy="2736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 Black"/>
              </a:rPr>
              <a:t>Какую политику и почему проводили советские власти в сфере науки и культуры после войны?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0" name="Rectangle 5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Задание на урок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/>
          </p:nvPr>
        </p:nvSpPr>
        <p:spPr>
          <a:xfrm>
            <a:off x="4211280" y="620280"/>
            <a:ext cx="4824360" cy="6048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1" lang="ru-RU" sz="2200" spc="-1" strike="noStrike">
                <a:solidFill>
                  <a:srgbClr val="ffff99"/>
                </a:solidFill>
                <a:latin typeface="Arial Black"/>
              </a:rPr>
              <a:t>Сотрудничество с западными странами в годы войны создало возможности для расширения культурных контактов. В советскую культуру стали проникать элементы либерализма. В условиях «холодной войны» была развернута компания против «западного влияния», ко- торую возглавил секре-тарь ЦК по идеологии А. Жданов. В 1948 г. нача-лась компания по борьбе с космополитизмом и СССР вновь оказался в культурной изоляции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«Ждановщина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3" name="Text Box 6"/>
          <p:cNvSpPr/>
          <p:nvPr/>
        </p:nvSpPr>
        <p:spPr>
          <a:xfrm>
            <a:off x="1541880" y="5929200"/>
            <a:ext cx="13831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А.Ждано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4" name="Picture 10" descr="Рисунок9"/>
          <p:cNvPicPr/>
          <p:nvPr/>
        </p:nvPicPr>
        <p:blipFill>
          <a:blip r:embed="rId1"/>
          <a:stretch/>
        </p:blipFill>
        <p:spPr>
          <a:xfrm>
            <a:off x="490680" y="692280"/>
            <a:ext cx="3400200" cy="471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/>
          </p:nvPr>
        </p:nvSpPr>
        <p:spPr>
          <a:xfrm>
            <a:off x="4571640" y="765000"/>
            <a:ext cx="4537080" cy="5832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Arial Black"/>
              </a:rPr>
              <a:t>   </a:t>
            </a:r>
            <a:r>
              <a:rPr b="1" lang="ru-RU" sz="2200" spc="-1" strike="noStrike">
                <a:solidFill>
                  <a:srgbClr val="ffff99"/>
                </a:solidFill>
                <a:latin typeface="Arial Black"/>
              </a:rPr>
              <a:t>В литературе главное место занимала военная тематика («Повесть о настоящем человеке» Б.Полевого, «Молодая гвардия» А.Фадеева, «В окопах Сталинграда» В.Некрасова.). В романах «Кружилиха» В.Пановой, «Первые радости» К.Федина  и др. центральное место занял процесс возрождения мирной жизни. В это время стремительно раз-вивалась национальная литература. Во весь го-лос заявили о себе Р.Гамзатов, Д.Кугультинов, К.Кулиев и др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7" name="Text Box 6"/>
          <p:cNvSpPr/>
          <p:nvPr/>
        </p:nvSpPr>
        <p:spPr>
          <a:xfrm>
            <a:off x="645840" y="6165720"/>
            <a:ext cx="16070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А.Ахматов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8" name="Text Box 12"/>
          <p:cNvSpPr/>
          <p:nvPr/>
        </p:nvSpPr>
        <p:spPr>
          <a:xfrm>
            <a:off x="687960" y="3508200"/>
            <a:ext cx="16056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М.Зощенко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9" name="Picture 13" descr="Рисунок8"/>
          <p:cNvPicPr/>
          <p:nvPr/>
        </p:nvPicPr>
        <p:blipFill>
          <a:blip r:embed="rId1"/>
          <a:stretch/>
        </p:blipFill>
        <p:spPr>
          <a:xfrm>
            <a:off x="539640" y="577800"/>
            <a:ext cx="1901880" cy="277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260" name="Picture 14" descr="Рисунок7"/>
          <p:cNvPicPr/>
          <p:nvPr/>
        </p:nvPicPr>
        <p:blipFill>
          <a:blip r:embed="rId2"/>
          <a:stretch/>
        </p:blipFill>
        <p:spPr>
          <a:xfrm>
            <a:off x="2700360" y="3681360"/>
            <a:ext cx="1751040" cy="2630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/>
          </p:nvPr>
        </p:nvSpPr>
        <p:spPr>
          <a:xfrm>
            <a:off x="4354560" y="620640"/>
            <a:ext cx="4681440" cy="5905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Arial Black"/>
              </a:rPr>
              <a:t>   </a:t>
            </a:r>
            <a:r>
              <a:rPr b="1" lang="ru-RU" sz="2200" spc="-1" strike="noStrike">
                <a:solidFill>
                  <a:srgbClr val="ffff99"/>
                </a:solidFill>
                <a:latin typeface="Arial Black"/>
              </a:rPr>
              <a:t>В то же время власть уси-лила партийный конт-роль над литературой. В 1946 г. в постановлении ЦК ВКПб резкой критике подверглись журналы  «Звезда» и «Ленинград», которые опубликовали на своих страницах про-изведения М.Зощенко и А.Ахматовой. «Ленинг-рад»  был закрыт, а в «Звезде» сменилось руко водство. Проводником партийной политики в литературе стал, учреж-денный в 1946 г.журнал «Партийная жизнь»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2" name="Rectangle 5"/>
          <p:cNvSpPr/>
          <p:nvPr/>
        </p:nvSpPr>
        <p:spPr>
          <a:xfrm>
            <a:off x="1187280" y="95400"/>
            <a:ext cx="7667640" cy="433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3" name="Text Box 6"/>
          <p:cNvSpPr/>
          <p:nvPr/>
        </p:nvSpPr>
        <p:spPr>
          <a:xfrm>
            <a:off x="933120" y="5711760"/>
            <a:ext cx="267552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Первый номер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журнала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«Партийная жизнь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4" name="Picture 11" descr="Рисунок6"/>
          <p:cNvPicPr/>
          <p:nvPr/>
        </p:nvPicPr>
        <p:blipFill>
          <a:blip r:embed="rId1"/>
          <a:stretch/>
        </p:blipFill>
        <p:spPr>
          <a:xfrm>
            <a:off x="395280" y="614520"/>
            <a:ext cx="3059280" cy="4925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/>
          </p:nvPr>
        </p:nvSpPr>
        <p:spPr>
          <a:xfrm>
            <a:off x="323640" y="3789360"/>
            <a:ext cx="8785080" cy="273528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ffff99"/>
                </a:solidFill>
                <a:latin typeface="Arial Black"/>
              </a:rPr>
              <a:t>В послевоенные годы подверглось критике обращение к историческому прошлому. ЦК  осудил «идеализацию царей ,ханов», а так же  постановку пьес западных авторов и «потакание обывательским вкусам и нравам». В соответствующем постановлении ставилась задача увеличить число постановок посвященных «пафосу борьбы за коммунизм», по-этому удачных постановок было немного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6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Театр и кино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7" name="Text Box 6"/>
          <p:cNvSpPr/>
          <p:nvPr/>
        </p:nvSpPr>
        <p:spPr>
          <a:xfrm>
            <a:off x="588240" y="1592280"/>
            <a:ext cx="244404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С.Эйзенштейн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на съемках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«Ивана Грозного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8" name="Picture 9" descr="Рисунок5"/>
          <p:cNvPicPr/>
          <p:nvPr/>
        </p:nvPicPr>
        <p:blipFill>
          <a:blip r:embed="rId1"/>
          <a:stretch/>
        </p:blipFill>
        <p:spPr>
          <a:xfrm>
            <a:off x="4140360" y="566640"/>
            <a:ext cx="4752720" cy="3170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/>
          </p:nvPr>
        </p:nvSpPr>
        <p:spPr>
          <a:xfrm>
            <a:off x="323640" y="3500280"/>
            <a:ext cx="8785080" cy="3313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   </a:t>
            </a: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В кинематографе яркими событиями стали «Молодая гвардия» С.Герасимова, «Повесть о настоящем человеке» А.Столпера, «Весна» Г.Александрова и др. В тоже время резкой критике подверглись: 2-я серия «Ивана Грозного» С.Эйзенштейна, «Адмирал Нахимов» В.Пудовкина, «Большая жизнь» Л.Лукова. Эти фильмы на долгие годы были положены на полку и не выходили на большие экраны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0" name="Rectangle 6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Театр и кино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1" name="Text Box 7"/>
          <p:cNvSpPr/>
          <p:nvPr/>
        </p:nvSpPr>
        <p:spPr>
          <a:xfrm>
            <a:off x="248760" y="1447920"/>
            <a:ext cx="263268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Кадр из фильм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С.Герасимов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«Молодая гвардия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2" name="Picture 9" descr="Рисунок4"/>
          <p:cNvPicPr/>
          <p:nvPr/>
        </p:nvPicPr>
        <p:blipFill>
          <a:blip r:embed="rId1"/>
          <a:stretch/>
        </p:blipFill>
        <p:spPr>
          <a:xfrm>
            <a:off x="3708360" y="549360"/>
            <a:ext cx="5256360" cy="2897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Text Box 11"/>
          <p:cNvSpPr/>
          <p:nvPr/>
        </p:nvSpPr>
        <p:spPr>
          <a:xfrm>
            <a:off x="515520" y="1700280"/>
            <a:ext cx="22244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П.Вильямс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Black"/>
              </a:rPr>
              <a:t>Д.Д.Шостакович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/>
          </p:nvPr>
        </p:nvSpPr>
        <p:spPr>
          <a:xfrm>
            <a:off x="250920" y="3573000"/>
            <a:ext cx="8858160" cy="3240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0" lang="ru-RU" sz="2200" spc="-1" strike="noStrike">
                <a:solidFill>
                  <a:srgbClr val="ffff99"/>
                </a:solidFill>
                <a:latin typeface="Arial Black"/>
              </a:rPr>
              <a:t>По окончании войны сеть музыкальных театров и концертных учреждений была быстро восстанов-лена. В Москве регулярно проводились декады на-циональной музыки. В конце 40-х были созданы крупные произведения- «Медный всадник» Р.Глиера, «Великая дружба» В.Мурадели, «Каменный цветок» С.Прокофьева и др. Но в 1948 г. ЦК подверг критике Мурадели, Шостаковича, Прокофьева и Хачатуряна за «антинародную направленность»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5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Музык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6" name="Picture 12" descr="Рисунок3"/>
          <p:cNvPicPr/>
          <p:nvPr/>
        </p:nvPicPr>
        <p:blipFill>
          <a:blip r:embed="rId1"/>
          <a:stretch/>
        </p:blipFill>
        <p:spPr>
          <a:xfrm>
            <a:off x="4356000" y="568440"/>
            <a:ext cx="4392720" cy="2960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/>
  <dc:description/>
  <dc:language>en-US</dc:language>
  <cp:lastModifiedBy/>
  <dcterms:modified xsi:type="dcterms:W3CDTF">2024-06-26T08:23:05Z</dcterms:modified>
  <cp:revision>66</cp:revision>
  <dc:subject/>
  <dc:title/>
</cp:coreProperties>
</file>