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5181-85DC-4B20-A29C-014CA4B5B4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3023-6F46-48F4-85E9-2851551E9E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4628-9758-4C40-9CCD-2B03BD5632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885-2D37-4257-A6D2-C86526D3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C6E-3520-4281-9896-50CAF036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8FF-05EE-4350-9348-8E6F1B80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0B8-B236-4739-A3F3-7D490A10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972A-9DD6-4205-89D4-6F77DCE6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9EF1-39B2-4CC5-9F03-02887D2E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C752-230A-4AAF-858B-85652223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C0F5-16BB-47A8-902E-CA5EE203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4B23-17EF-4EEF-B4F2-5CA572E9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57A7-AB55-435E-A771-EDF6F3F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E903-ADFD-4C1A-A4CC-A6115CD1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173-DEFF-405E-AB23-A1E609A9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C021-61E4-423B-BC26-B43A7A69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4F1F-020D-4356-BEE7-123F13C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B4B5-38E5-48CC-880A-B741792F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BEF9-18F7-4A75-9B0A-FFDA0AF9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6660-F08A-4251-A81D-93E088A9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B4A-A8EC-47FF-8A0A-E95BB942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A2B-304C-49FB-913F-313DDBFE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455-A1C6-4FB3-918A-9B7A32D3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382-848A-4803-94CF-5A11B06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D22-F945-422B-93C2-B909BC9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2BC-EB23-4172-AF34-B3A9F1C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B50-778D-4BF0-A47F-D00B7542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FB82-02D6-4830-9455-E1F979BCD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F623-7F84-48DC-A278-66C51B8BB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http://www.playcast.ru/uploads/2017/06/12/2280386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676440" y="24400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a452a"/>
                </a:solidFill>
                <a:latin typeface="Calibri"/>
              </a:rPr>
              <a:t>Н и НН в суффиксах причаст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7640" y="259920"/>
            <a:ext cx="878508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Красить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раше?ый по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екраше?ый по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окраше?ый по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раше?ый маляром по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95"/>
          <p:cNvSpPr/>
          <p:nvPr/>
        </p:nvSpPr>
        <p:spPr>
          <a:xfrm>
            <a:off x="0" y="69840"/>
            <a:ext cx="9144000" cy="360360"/>
          </a:xfrm>
          <a:prstGeom prst="rect">
            <a:avLst/>
          </a:prstGeom>
          <a:solidFill>
            <a:srgbClr val="ff99cc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, от какой части речи образовано сл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98"/>
          <p:cNvSpPr/>
          <p:nvPr/>
        </p:nvSpPr>
        <p:spPr>
          <a:xfrm>
            <a:off x="4406760" y="430200"/>
            <a:ext cx="0" cy="28728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9"/>
          <p:cNvSpPr/>
          <p:nvPr/>
        </p:nvSpPr>
        <p:spPr>
          <a:xfrm>
            <a:off x="0" y="824040"/>
            <a:ext cx="9144000" cy="718920"/>
          </a:xfrm>
          <a:prstGeom prst="rect">
            <a:avLst/>
          </a:prstGeom>
          <a:solidFill>
            <a:srgbClr val="00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От глаго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(от глагола образуются отглагольные прилагательные и причаст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201"/>
          <p:cNvSpPr/>
          <p:nvPr/>
        </p:nvSpPr>
        <p:spPr>
          <a:xfrm>
            <a:off x="4403880" y="1562040"/>
            <a:ext cx="0" cy="34596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02"/>
          <p:cNvSpPr/>
          <p:nvPr/>
        </p:nvSpPr>
        <p:spPr>
          <a:xfrm>
            <a:off x="1332000" y="1908000"/>
            <a:ext cx="6480000" cy="20448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предели, есть 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1) на конце –ова(нный), -ева(нный), - ир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2) приставка, кроме «н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3) зависимое слов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4) образовано от глагола совершенного в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205"/>
          <p:cNvSpPr/>
          <p:nvPr/>
        </p:nvSpPr>
        <p:spPr>
          <a:xfrm flipH="1">
            <a:off x="979560" y="3197160"/>
            <a:ext cx="187200" cy="29376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06"/>
          <p:cNvSpPr/>
          <p:nvPr/>
        </p:nvSpPr>
        <p:spPr>
          <a:xfrm>
            <a:off x="7977240" y="3200400"/>
            <a:ext cx="106200" cy="28728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07"/>
          <p:cNvSpPr/>
          <p:nvPr/>
        </p:nvSpPr>
        <p:spPr>
          <a:xfrm>
            <a:off x="152280" y="3487680"/>
            <a:ext cx="79236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09"/>
          <p:cNvSpPr/>
          <p:nvPr/>
        </p:nvSpPr>
        <p:spPr>
          <a:xfrm>
            <a:off x="8199360" y="3497400"/>
            <a:ext cx="719280" cy="574560"/>
          </a:xfrm>
          <a:prstGeom prst="rect">
            <a:avLst/>
          </a:prstGeom>
          <a:solidFill>
            <a:srgbClr val="00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11"/>
          <p:cNvSpPr/>
          <p:nvPr/>
        </p:nvSpPr>
        <p:spPr>
          <a:xfrm>
            <a:off x="0" y="4021200"/>
            <a:ext cx="3851280" cy="766800"/>
          </a:xfrm>
          <a:prstGeom prst="rect">
            <a:avLst/>
          </a:prstGeom>
          <a:solidFill>
            <a:srgbClr val="00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Пиши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, это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13"/>
          <p:cNvSpPr/>
          <p:nvPr/>
        </p:nvSpPr>
        <p:spPr>
          <a:xfrm>
            <a:off x="5364000" y="4000680"/>
            <a:ext cx="3780000" cy="787320"/>
          </a:xfrm>
          <a:prstGeom prst="rect">
            <a:avLst/>
          </a:prstGeom>
          <a:solidFill>
            <a:srgbClr val="00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Пиши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, это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отглаголь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17"/>
          <p:cNvSpPr/>
          <p:nvPr/>
        </p:nvSpPr>
        <p:spPr>
          <a:xfrm>
            <a:off x="0" y="4788000"/>
            <a:ext cx="4284720" cy="2070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газир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о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ый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проч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ая кни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сушё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е в печке гриб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решё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й – решить </a:t>
            </a:r>
            <a:br>
              <a:rPr sz="2400"/>
            </a:b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(сов. ви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22"/>
          <p:cNvSpPr/>
          <p:nvPr/>
        </p:nvSpPr>
        <p:spPr>
          <a:xfrm>
            <a:off x="4427640" y="4794120"/>
            <a:ext cx="4716360" cy="206388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некраш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й пол </a:t>
            </a:r>
            <a:br>
              <a:rPr sz="2400"/>
            </a:b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(нет приставк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сушё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е грибы (нет завис.сл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a5002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жар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</a:rPr>
              <a:t>ый – жарить (несов. ви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"/>
          <p:cNvSpPr/>
          <p:nvPr/>
        </p:nvSpPr>
        <p:spPr>
          <a:xfrm>
            <a:off x="30240" y="476280"/>
            <a:ext cx="9036000" cy="1297080"/>
          </a:xfrm>
          <a:prstGeom prst="rect">
            <a:avLst/>
          </a:prstGeom>
          <a:solidFill>
            <a:srgbClr val="c1cf66"/>
          </a:solidFill>
          <a:ln w="25560">
            <a:solidFill>
              <a:srgbClr val="c1c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Запомни</a:t>
            </a: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9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 Обозначьте строчку, где пишется 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Изране…ый солдат, подкова…ая лоша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Реше…ая задача, краше…ый за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) Писа…ый портрет, коше…ый л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) Слома…ый велосипед, жаре…ая ры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0" y="219960"/>
            <a:ext cx="91440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Обозначьте строчку, где пишется 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Подметё…ый пол, плетё…ая корз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Рва…ая куртка, варё…ый картоф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) Топлё…ое молоко, газирова…ая 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) Высуше…ое растение, посеребрё…ая тарел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правила написания Н-НН в причаст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ть навык правильного написания Н-НН в причаст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ть над осознанным написанием слов с Н-Н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96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Причастия и отглагольные прилаг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5760" y="1301400"/>
            <a:ext cx="822960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глаголо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образу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час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глаголо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е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образу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тглагольные прилагат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2916360" y="1828800"/>
            <a:ext cx="2597040" cy="574560"/>
            <a:chOff x="2916360" y="1828800"/>
            <a:chExt cx="2597040" cy="574560"/>
          </a:xfrm>
        </p:grpSpPr>
        <p:sp>
          <p:nvSpPr>
            <p:cNvPr id="98" name="Стрелка вправо 4"/>
            <p:cNvSpPr/>
            <p:nvPr/>
          </p:nvSpPr>
          <p:spPr>
            <a:xfrm>
              <a:off x="2916360" y="1900080"/>
              <a:ext cx="863640" cy="431640"/>
            </a:xfrm>
            <a:prstGeom prst="rightArrow">
              <a:avLst>
                <a:gd name="adj1" fmla="val 50000"/>
                <a:gd name="adj2" fmla="val 50021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Овал 6"/>
            <p:cNvSpPr/>
            <p:nvPr/>
          </p:nvSpPr>
          <p:spPr>
            <a:xfrm>
              <a:off x="4073400" y="1828800"/>
              <a:ext cx="1440000" cy="57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НН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Группа 14"/>
          <p:cNvGrpSpPr/>
          <p:nvPr/>
        </p:nvGrpSpPr>
        <p:grpSpPr>
          <a:xfrm>
            <a:off x="6943680" y="2365200"/>
            <a:ext cx="1878120" cy="576360"/>
            <a:chOff x="6943680" y="2365200"/>
            <a:chExt cx="1878120" cy="576360"/>
          </a:xfrm>
        </p:grpSpPr>
        <p:sp>
          <p:nvSpPr>
            <p:cNvPr id="101" name="Стрелка вправо 5"/>
            <p:cNvSpPr/>
            <p:nvPr/>
          </p:nvSpPr>
          <p:spPr>
            <a:xfrm>
              <a:off x="6943680" y="2438280"/>
              <a:ext cx="863640" cy="43200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Овал 7"/>
            <p:cNvSpPr/>
            <p:nvPr/>
          </p:nvSpPr>
          <p:spPr>
            <a:xfrm>
              <a:off x="7894800" y="2365200"/>
              <a:ext cx="927000" cy="57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Н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Box 3"/>
          <p:cNvSpPr/>
          <p:nvPr/>
        </p:nvSpPr>
        <p:spPr>
          <a:xfrm>
            <a:off x="179280" y="440532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ить  (несо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) –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ар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ё_Н__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ый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картоф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росить (со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) –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рош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е_НН_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о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1619280" y="4495680"/>
            <a:ext cx="136836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1692360" y="5759280"/>
            <a:ext cx="1295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179280" y="3497400"/>
            <a:ext cx="8780400" cy="57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е часть речи выделенных с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Горизонтальный свиток 12"/>
          <p:cNvSpPr/>
          <p:nvPr/>
        </p:nvSpPr>
        <p:spPr>
          <a:xfrm>
            <a:off x="4662360" y="4876920"/>
            <a:ext cx="4056120" cy="73008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глагольное пр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Горизонтальный свиток 13"/>
          <p:cNvSpPr/>
          <p:nvPr/>
        </p:nvSpPr>
        <p:spPr>
          <a:xfrm>
            <a:off x="7132680" y="5956200"/>
            <a:ext cx="2011320" cy="79380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5095800" y="5683320"/>
            <a:ext cx="6066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0"/>
          <p:cNvSpPr/>
          <p:nvPr/>
        </p:nvSpPr>
        <p:spPr>
          <a:xfrm>
            <a:off x="4759200" y="4424400"/>
            <a:ext cx="6066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0" y="3419640"/>
            <a:ext cx="9144000" cy="343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Причастия и отглагольные прилаг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глаголо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образу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час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глаголо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е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образу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тглагольные прилагат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Иногда от глаголов несовершенного вида образуются </a:t>
            </a:r>
            <a:r>
              <a:rPr b="0" lang="ru-RU" sz="3200" spc="-1" strike="noStrike" u="sng">
                <a:solidFill>
                  <a:srgbClr val="953735"/>
                </a:solidFill>
                <a:uFillTx/>
                <a:latin typeface="Calibri"/>
              </a:rPr>
              <a:t>причастия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Овал 3"/>
          <p:cNvSpPr/>
          <p:nvPr/>
        </p:nvSpPr>
        <p:spPr>
          <a:xfrm>
            <a:off x="1295280" y="5621400"/>
            <a:ext cx="6553440" cy="10094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бы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право 4"/>
          <p:cNvSpPr/>
          <p:nvPr/>
        </p:nvSpPr>
        <p:spPr>
          <a:xfrm>
            <a:off x="2916360" y="220500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трелка вправо 5"/>
          <p:cNvSpPr/>
          <p:nvPr/>
        </p:nvSpPr>
        <p:spPr>
          <a:xfrm>
            <a:off x="7015320" y="2781360"/>
            <a:ext cx="86328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вал 6"/>
          <p:cNvSpPr/>
          <p:nvPr/>
        </p:nvSpPr>
        <p:spPr>
          <a:xfrm>
            <a:off x="4073400" y="2133720"/>
            <a:ext cx="1440000" cy="57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7"/>
          <p:cNvSpPr/>
          <p:nvPr/>
        </p:nvSpPr>
        <p:spPr>
          <a:xfrm>
            <a:off x="7966080" y="2708280"/>
            <a:ext cx="92700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ногда от глаголов несовершенного вида образуются </a:t>
            </a:r>
            <a:r>
              <a:rPr b="0" lang="ru-RU" sz="4400" spc="-1" strike="noStrike" u="sng">
                <a:solidFill>
                  <a:srgbClr val="953735"/>
                </a:solidFill>
                <a:uFillTx/>
                <a:latin typeface="Calibri"/>
              </a:rPr>
              <a:t>причас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ари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есов. вид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ар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ё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артофел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тглагольно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л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вар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енн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ый картофел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част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енн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ый в кастрюл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част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разу ищем причину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написания 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Блок-схема: альтернативный процесс 5"/>
          <p:cNvSpPr/>
          <p:nvPr/>
        </p:nvSpPr>
        <p:spPr>
          <a:xfrm>
            <a:off x="971640" y="1700280"/>
            <a:ext cx="7200720" cy="936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В слове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есть приставк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кроме не-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50920" y="2997360"/>
            <a:ext cx="82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купле____ый, сдела____ый, подобра____ый, неране____ый, жаре____ый, выкупа____ый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ше____ый, некоше____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7"/>
          <p:cNvSpPr/>
          <p:nvPr/>
        </p:nvSpPr>
        <p:spPr>
          <a:xfrm>
            <a:off x="2987640" y="314172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8"/>
          <p:cNvSpPr/>
          <p:nvPr/>
        </p:nvSpPr>
        <p:spPr>
          <a:xfrm>
            <a:off x="6084720" y="314172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9"/>
          <p:cNvSpPr/>
          <p:nvPr/>
        </p:nvSpPr>
        <p:spPr>
          <a:xfrm>
            <a:off x="6227640" y="373392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кругленный прямоугольник 10"/>
          <p:cNvSpPr/>
          <p:nvPr/>
        </p:nvSpPr>
        <p:spPr>
          <a:xfrm>
            <a:off x="5867280" y="434664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кругленный прямоугольник 11"/>
          <p:cNvSpPr/>
          <p:nvPr/>
        </p:nvSpPr>
        <p:spPr>
          <a:xfrm>
            <a:off x="2411280" y="434664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12"/>
          <p:cNvSpPr/>
          <p:nvPr/>
        </p:nvSpPr>
        <p:spPr>
          <a:xfrm>
            <a:off x="2808360" y="3741840"/>
            <a:ext cx="863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13"/>
          <p:cNvSpPr/>
          <p:nvPr/>
        </p:nvSpPr>
        <p:spPr>
          <a:xfrm>
            <a:off x="2484360" y="4987800"/>
            <a:ext cx="863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14"/>
          <p:cNvSpPr/>
          <p:nvPr/>
        </p:nvSpPr>
        <p:spPr>
          <a:xfrm>
            <a:off x="6012000" y="495936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Фигура, имеющая форму буквы L 15"/>
          <p:cNvSpPr/>
          <p:nvPr/>
        </p:nvSpPr>
        <p:spPr>
          <a:xfrm rot="10800000">
            <a:off x="971640" y="2997000"/>
            <a:ext cx="720720" cy="215640"/>
          </a:xfrm>
          <a:custGeom>
            <a:avLst/>
            <a:gdLst>
              <a:gd name="textAreaLeft" fmla="*/ 0 w 720720"/>
              <a:gd name="textAreaRight" fmla="*/ 721080 w 720720"/>
              <a:gd name="textAreaTop" fmla="*/ 108000 h 215640"/>
              <a:gd name="textAreaBottom" fmla="*/ 216000 h 215640"/>
            </a:gdLst>
            <a:ahLst/>
            <a:rect l="textAreaLeft" t="textAreaTop" r="textAreaRight" b="textAreaBottom"/>
            <a:pathLst>
              <a:path w="720725" h="215900">
                <a:moveTo>
                  <a:pt x="0" y="0"/>
                </a:moveTo>
                <a:lnTo>
                  <a:pt x="107950" y="0"/>
                </a:lnTo>
                <a:lnTo>
                  <a:pt x="107950" y="107950"/>
                </a:lnTo>
                <a:lnTo>
                  <a:pt x="720725" y="107950"/>
                </a:lnTo>
                <a:lnTo>
                  <a:pt x="720725" y="215900"/>
                </a:lnTo>
                <a:lnTo>
                  <a:pt x="0" y="2159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Фигура, имеющая форму буквы L 16"/>
          <p:cNvSpPr/>
          <p:nvPr/>
        </p:nvSpPr>
        <p:spPr>
          <a:xfrm rot="10800000">
            <a:off x="4716360" y="2998440"/>
            <a:ext cx="395280" cy="214200"/>
          </a:xfrm>
          <a:custGeom>
            <a:avLst/>
            <a:gdLst>
              <a:gd name="textAreaLeft" fmla="*/ 0 w 395280"/>
              <a:gd name="textAreaRight" fmla="*/ 395640 w 395280"/>
              <a:gd name="textAreaTop" fmla="*/ 107280 h 214200"/>
              <a:gd name="textAreaBottom" fmla="*/ 214560 h 214200"/>
            </a:gdLst>
            <a:ahLst/>
            <a:rect l="textAreaLeft" t="textAreaTop" r="textAreaRight" b="textAreaBottom"/>
            <a:pathLst>
              <a:path w="395287" h="214312">
                <a:moveTo>
                  <a:pt x="0" y="0"/>
                </a:moveTo>
                <a:lnTo>
                  <a:pt x="107156" y="0"/>
                </a:lnTo>
                <a:lnTo>
                  <a:pt x="107156" y="107156"/>
                </a:lnTo>
                <a:lnTo>
                  <a:pt x="395287" y="107156"/>
                </a:lnTo>
                <a:lnTo>
                  <a:pt x="395287" y="214312"/>
                </a:lnTo>
                <a:lnTo>
                  <a:pt x="0" y="214312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Фигура, имеющая форму буквы L 17"/>
          <p:cNvSpPr/>
          <p:nvPr/>
        </p:nvSpPr>
        <p:spPr>
          <a:xfrm rot="10800000">
            <a:off x="900000" y="3645000"/>
            <a:ext cx="1046160" cy="217440"/>
          </a:xfrm>
          <a:custGeom>
            <a:avLst/>
            <a:gdLst>
              <a:gd name="textAreaLeft" fmla="*/ 0 w 1046160"/>
              <a:gd name="textAreaRight" fmla="*/ 1046520 w 1046160"/>
              <a:gd name="textAreaTop" fmla="*/ 108720 h 217440"/>
              <a:gd name="textAreaBottom" fmla="*/ 217800 h 217440"/>
            </a:gdLst>
            <a:ahLst/>
            <a:rect l="textAreaLeft" t="textAreaTop" r="textAreaRight" b="textAreaBottom"/>
            <a:pathLst>
              <a:path w="1046162" h="217488">
                <a:moveTo>
                  <a:pt x="0" y="0"/>
                </a:moveTo>
                <a:lnTo>
                  <a:pt x="108744" y="0"/>
                </a:lnTo>
                <a:lnTo>
                  <a:pt x="108744" y="108744"/>
                </a:lnTo>
                <a:lnTo>
                  <a:pt x="1046162" y="108744"/>
                </a:lnTo>
                <a:lnTo>
                  <a:pt x="1046162" y="217488"/>
                </a:lnTo>
                <a:lnTo>
                  <a:pt x="0" y="217488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Фигура, имеющая форму буквы L 21"/>
          <p:cNvSpPr/>
          <p:nvPr/>
        </p:nvSpPr>
        <p:spPr>
          <a:xfrm rot="10800000">
            <a:off x="4533480" y="3652920"/>
            <a:ext cx="622440" cy="209520"/>
          </a:xfrm>
          <a:custGeom>
            <a:avLst/>
            <a:gdLst>
              <a:gd name="textAreaLeft" fmla="*/ 0 w 622440"/>
              <a:gd name="textAreaRight" fmla="*/ 622800 w 622440"/>
              <a:gd name="textAreaTop" fmla="*/ 104760 h 209520"/>
              <a:gd name="textAreaBottom" fmla="*/ 209880 h 209520"/>
            </a:gdLst>
            <a:ahLst/>
            <a:rect l="textAreaLeft" t="textAreaTop" r="textAreaRight" b="textAreaBottom"/>
            <a:pathLst>
              <a:path w="622300" h="209550">
                <a:moveTo>
                  <a:pt x="0" y="0"/>
                </a:moveTo>
                <a:lnTo>
                  <a:pt x="104775" y="0"/>
                </a:lnTo>
                <a:lnTo>
                  <a:pt x="104775" y="104775"/>
                </a:lnTo>
                <a:lnTo>
                  <a:pt x="622300" y="104775"/>
                </a:lnTo>
                <a:lnTo>
                  <a:pt x="622300" y="209550"/>
                </a:lnTo>
                <a:lnTo>
                  <a:pt x="0" y="20955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Фигура, имеющая форму буквы L 22"/>
          <p:cNvSpPr/>
          <p:nvPr/>
        </p:nvSpPr>
        <p:spPr>
          <a:xfrm rot="10800000">
            <a:off x="4222800" y="4302000"/>
            <a:ext cx="622080" cy="209520"/>
          </a:xfrm>
          <a:custGeom>
            <a:avLst/>
            <a:gdLst>
              <a:gd name="textAreaLeft" fmla="*/ 0 w 622080"/>
              <a:gd name="textAreaRight" fmla="*/ 622440 w 622080"/>
              <a:gd name="textAreaTop" fmla="*/ 104760 h 209520"/>
              <a:gd name="textAreaBottom" fmla="*/ 209880 h 209520"/>
            </a:gdLst>
            <a:ahLst/>
            <a:rect l="textAreaLeft" t="textAreaTop" r="textAreaRight" b="textAreaBottom"/>
            <a:pathLst>
              <a:path w="622300" h="209550">
                <a:moveTo>
                  <a:pt x="0" y="0"/>
                </a:moveTo>
                <a:lnTo>
                  <a:pt x="104775" y="0"/>
                </a:lnTo>
                <a:lnTo>
                  <a:pt x="104775" y="104775"/>
                </a:lnTo>
                <a:lnTo>
                  <a:pt x="622300" y="104775"/>
                </a:lnTo>
                <a:lnTo>
                  <a:pt x="622300" y="209550"/>
                </a:lnTo>
                <a:lnTo>
                  <a:pt x="0" y="20955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Фигура, имеющая форму буквы L 23"/>
          <p:cNvSpPr/>
          <p:nvPr/>
        </p:nvSpPr>
        <p:spPr>
          <a:xfrm rot="10800000">
            <a:off x="4222800" y="4883040"/>
            <a:ext cx="622080" cy="209520"/>
          </a:xfrm>
          <a:custGeom>
            <a:avLst/>
            <a:gdLst>
              <a:gd name="textAreaLeft" fmla="*/ 0 w 622080"/>
              <a:gd name="textAreaRight" fmla="*/ 622440 w 622080"/>
              <a:gd name="textAreaTop" fmla="*/ 104760 h 209520"/>
              <a:gd name="textAreaBottom" fmla="*/ 209880 h 209520"/>
            </a:gdLst>
            <a:ahLst/>
            <a:rect l="textAreaLeft" t="textAreaTop" r="textAreaRight" b="textAreaBottom"/>
            <a:pathLst>
              <a:path w="622300" h="209550">
                <a:moveTo>
                  <a:pt x="0" y="0"/>
                </a:moveTo>
                <a:lnTo>
                  <a:pt x="104775" y="0"/>
                </a:lnTo>
                <a:lnTo>
                  <a:pt x="104775" y="104775"/>
                </a:lnTo>
                <a:lnTo>
                  <a:pt x="622300" y="104775"/>
                </a:lnTo>
                <a:lnTo>
                  <a:pt x="622300" y="209550"/>
                </a:lnTo>
                <a:lnTo>
                  <a:pt x="0" y="20955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Горизонтальный свиток 1"/>
          <p:cNvSpPr/>
          <p:nvPr/>
        </p:nvSpPr>
        <p:spPr>
          <a:xfrm>
            <a:off x="108000" y="5154480"/>
            <a:ext cx="8928000" cy="1008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Исключения: ков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alibri"/>
              </a:rPr>
              <a:t>ан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ый, жёв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alibri"/>
              </a:rPr>
              <a:t>ан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разу ищем причину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написания 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Блок-схема: альтернативный процесс 3"/>
          <p:cNvSpPr/>
          <p:nvPr/>
        </p:nvSpPr>
        <p:spPr>
          <a:xfrm>
            <a:off x="971640" y="1511280"/>
            <a:ext cx="7200720" cy="1125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На конце слова</a:t>
            </a: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-ова(нный), -ева(нный), -ирова(нны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50920" y="301788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акирова____ые туфл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гнева____ый человек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мирова____ый специали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5"/>
          <p:cNvSpPr/>
          <p:nvPr/>
        </p:nvSpPr>
        <p:spPr>
          <a:xfrm>
            <a:off x="3959280" y="316548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6"/>
          <p:cNvSpPr/>
          <p:nvPr/>
        </p:nvSpPr>
        <p:spPr>
          <a:xfrm>
            <a:off x="3549600" y="4373640"/>
            <a:ext cx="9511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2"/>
          <p:cNvSpPr/>
          <p:nvPr/>
        </p:nvSpPr>
        <p:spPr>
          <a:xfrm>
            <a:off x="3571920" y="3768840"/>
            <a:ext cx="9507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оловина рамки 7"/>
          <p:cNvSpPr/>
          <p:nvPr/>
        </p:nvSpPr>
        <p:spPr>
          <a:xfrm rot="2695200">
            <a:off x="3254040" y="2965320"/>
            <a:ext cx="485640" cy="519120"/>
          </a:xfrm>
          <a:custGeom>
            <a:avLst/>
            <a:gdLst/>
            <a:ahLst/>
            <a:rect l="l" t="t" r="r" b="b"/>
            <a:pathLst>
              <a:path w="485775" h="519113">
                <a:moveTo>
                  <a:pt x="0" y="0"/>
                </a:moveTo>
                <a:lnTo>
                  <a:pt x="485775" y="0"/>
                </a:lnTo>
                <a:lnTo>
                  <a:pt x="334250" y="161923"/>
                </a:lnTo>
                <a:lnTo>
                  <a:pt x="161923" y="161923"/>
                </a:lnTo>
                <a:lnTo>
                  <a:pt x="161923" y="346077"/>
                </a:lnTo>
                <a:lnTo>
                  <a:pt x="0" y="5191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овина рамки 13"/>
          <p:cNvSpPr/>
          <p:nvPr/>
        </p:nvSpPr>
        <p:spPr>
          <a:xfrm rot="2695200">
            <a:off x="2950920" y="3629160"/>
            <a:ext cx="485640" cy="519120"/>
          </a:xfrm>
          <a:custGeom>
            <a:avLst/>
            <a:gdLst/>
            <a:ahLst/>
            <a:rect l="l" t="t" r="r" b="b"/>
            <a:pathLst>
              <a:path w="485775" h="519113">
                <a:moveTo>
                  <a:pt x="0" y="0"/>
                </a:moveTo>
                <a:lnTo>
                  <a:pt x="485775" y="0"/>
                </a:lnTo>
                <a:lnTo>
                  <a:pt x="334250" y="161923"/>
                </a:lnTo>
                <a:lnTo>
                  <a:pt x="161923" y="161923"/>
                </a:lnTo>
                <a:lnTo>
                  <a:pt x="161923" y="346077"/>
                </a:lnTo>
                <a:lnTo>
                  <a:pt x="0" y="5191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оловина рамки 15"/>
          <p:cNvSpPr/>
          <p:nvPr/>
        </p:nvSpPr>
        <p:spPr>
          <a:xfrm rot="2695200">
            <a:off x="2331720" y="4285800"/>
            <a:ext cx="419040" cy="435240"/>
          </a:xfrm>
          <a:custGeom>
            <a:avLst/>
            <a:gdLst/>
            <a:ahLst/>
            <a:rect l="l" t="t" r="r" b="b"/>
            <a:pathLst>
              <a:path w="419100" h="434975">
                <a:moveTo>
                  <a:pt x="0" y="0"/>
                </a:moveTo>
                <a:lnTo>
                  <a:pt x="419100" y="0"/>
                </a:lnTo>
                <a:lnTo>
                  <a:pt x="284500" y="139699"/>
                </a:lnTo>
                <a:lnTo>
                  <a:pt x="139699" y="139699"/>
                </a:lnTo>
                <a:lnTo>
                  <a:pt x="139699" y="289985"/>
                </a:lnTo>
                <a:lnTo>
                  <a:pt x="0" y="43497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оловина рамки 16"/>
          <p:cNvSpPr/>
          <p:nvPr/>
        </p:nvSpPr>
        <p:spPr>
          <a:xfrm rot="2695200">
            <a:off x="2893680" y="4248000"/>
            <a:ext cx="531720" cy="503280"/>
          </a:xfrm>
          <a:custGeom>
            <a:avLst/>
            <a:gdLst/>
            <a:ahLst/>
            <a:rect l="l" t="t" r="r" b="b"/>
            <a:pathLst>
              <a:path w="531812" h="503238">
                <a:moveTo>
                  <a:pt x="0" y="0"/>
                </a:moveTo>
                <a:lnTo>
                  <a:pt x="531812" y="0"/>
                </a:lnTo>
                <a:lnTo>
                  <a:pt x="354543" y="167744"/>
                </a:lnTo>
                <a:lnTo>
                  <a:pt x="167744" y="167744"/>
                </a:lnTo>
                <a:lnTo>
                  <a:pt x="167744" y="344506"/>
                </a:lnTo>
                <a:lnTo>
                  <a:pt x="0" y="5032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разу ищем причину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написания 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Блок-схема: альтернативный процесс 5"/>
          <p:cNvSpPr/>
          <p:nvPr/>
        </p:nvSpPr>
        <p:spPr>
          <a:xfrm>
            <a:off x="971640" y="1700280"/>
            <a:ext cx="7200720" cy="936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У слова есть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зависимые сл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250920" y="2997360"/>
            <a:ext cx="82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пле____ый у продавца товар, ране____ый в ногу солда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аре____ый в масле картофель, коше____ый газонокосилкой лу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20"/>
          <p:cNvSpPr/>
          <p:nvPr/>
        </p:nvSpPr>
        <p:spPr>
          <a:xfrm>
            <a:off x="2268360" y="3143160"/>
            <a:ext cx="863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24"/>
          <p:cNvSpPr/>
          <p:nvPr/>
        </p:nvSpPr>
        <p:spPr>
          <a:xfrm>
            <a:off x="2627280" y="3770280"/>
            <a:ext cx="86508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25"/>
          <p:cNvSpPr/>
          <p:nvPr/>
        </p:nvSpPr>
        <p:spPr>
          <a:xfrm>
            <a:off x="2050920" y="435132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26"/>
          <p:cNvSpPr/>
          <p:nvPr/>
        </p:nvSpPr>
        <p:spPr>
          <a:xfrm>
            <a:off x="1979640" y="4957920"/>
            <a:ext cx="86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3995640" y="3656160"/>
            <a:ext cx="2448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9"/>
          <p:cNvSpPr/>
          <p:nvPr/>
        </p:nvSpPr>
        <p:spPr>
          <a:xfrm>
            <a:off x="4284720" y="4240080"/>
            <a:ext cx="129528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0"/>
          <p:cNvSpPr/>
          <p:nvPr/>
        </p:nvSpPr>
        <p:spPr>
          <a:xfrm>
            <a:off x="3743280" y="4800600"/>
            <a:ext cx="169236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1"/>
          <p:cNvSpPr/>
          <p:nvPr/>
        </p:nvSpPr>
        <p:spPr>
          <a:xfrm>
            <a:off x="3635280" y="5425920"/>
            <a:ext cx="3457800" cy="7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разу ищем причину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написания 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Блок-схема: альтернативный процесс 5"/>
          <p:cNvSpPr/>
          <p:nvPr/>
        </p:nvSpPr>
        <p:spPr>
          <a:xfrm>
            <a:off x="971640" y="1700280"/>
            <a:ext cx="7200720" cy="10810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Слово образовано от глагола сов.вида без пристав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Горизонтальный свиток 2"/>
          <p:cNvSpPr/>
          <p:nvPr/>
        </p:nvSpPr>
        <p:spPr>
          <a:xfrm>
            <a:off x="900000" y="3284640"/>
            <a:ext cx="7417080" cy="207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пле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ый, броше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ый, решё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3:12:39Z</dcterms:created>
  <dc:creator>XTreme</dc:creator>
  <dc:description/>
  <dc:language>en-US</dc:language>
  <cp:lastModifiedBy>Алиса Лозунова</cp:lastModifiedBy>
  <dcterms:modified xsi:type="dcterms:W3CDTF">2024-06-26T09:11:06Z</dcterms:modified>
  <cp:revision>75</cp:revision>
  <dc:subject/>
  <dc:title>Слайд 1</dc:title>
</cp:coreProperties>
</file>