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7DF-B3F2-4DE2-B9B7-0B12BA53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376-8388-4B85-9F20-3D0A427A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BB5-0161-4CB0-A38C-F374BE0C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A82-6C92-479A-A84A-3F58BC17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F3B0-D1DD-4133-B108-64407650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E385-EFC2-40DA-96C7-F809A0B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CE85-F706-464C-BF71-57ACB219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8E46-7D50-4ED0-8E46-B80352B9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5B90-EE71-4F8C-ABBD-0390A9F0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1D64-B859-4F65-BAB7-BF0F865B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4698-17D2-4CA3-8805-3555E33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0F3-6081-42B2-83A7-7ED60EB6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A0B5-9967-4358-A17F-480D339F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AFF8-7DA5-45E4-874B-CB4FCFD9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A02B-B973-4AD9-A802-7D75BA67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2629-F987-4630-AC61-EFE69B89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76A8-7019-485E-9489-38026482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B2B-88CB-4D66-89AB-D6E3D17F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0BF-10F9-445A-9537-F99CD12F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995-9E81-41DA-A726-E86CDF2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452-F902-4C84-B6A4-3D4E9EBE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194-CFC3-49ED-9B2E-24686E1A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027-D153-4A0D-83F3-C3FF6F69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62E-3B92-4A09-BE66-A448C70A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B172-FBCE-419C-92E0-89CB133658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B456-8E3D-4A0D-B822-AFCA529839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Капкейки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ла - ученица 9з класса Бородина Анастас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итель –Таловикова Светлана Анатол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24 г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отовим «Капкейки»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ужно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тес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68360" y="2506680"/>
            <a:ext cx="3456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шеничная мука – 200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Яйцо – 2 ш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хар – 150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ливочное масло – 100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олоко – 120 м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азрыхлитель – 1 ч.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анилин - на кончике нож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оль - щепо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ре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ливочное масло – 90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ливочный сыр – 175 г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харная пудра – 30 г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Содержимое 5" descr="C:\Users\Пользователь\Downloads\IMG_20240209_085955_640.jpg"/>
          <p:cNvPicPr/>
          <p:nvPr/>
        </p:nvPicPr>
        <p:blipFill>
          <a:blip r:embed="rId1"/>
          <a:stretch/>
        </p:blipFill>
        <p:spPr>
          <a:xfrm>
            <a:off x="5000760" y="1928880"/>
            <a:ext cx="2941560" cy="42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42960" y="6120"/>
            <a:ext cx="8832960" cy="13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829"/>
                </a:solidFill>
                <a:latin typeface="Times New Roman"/>
                <a:ea typeface="Calibri"/>
              </a:rPr>
              <a:t>Способ приготовления т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829"/>
                </a:solidFill>
                <a:latin typeface="Times New Roman"/>
                <a:ea typeface="Calibri"/>
              </a:rPr>
              <a:t>1.Мягкое масло положить в миску, всыпать сахар, соль и ванилин. Все взбить миксером до пышной пен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829"/>
                </a:solidFill>
                <a:latin typeface="Times New Roman"/>
                <a:ea typeface="Calibri"/>
              </a:rPr>
              <a:t>2. Разбить яйца в отдельную миску, влить их по одному к маслу, хорошо взбивая после каждог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829"/>
                </a:solidFill>
                <a:latin typeface="Times New Roman"/>
                <a:ea typeface="Calibri"/>
              </a:rPr>
              <a:t>Должна получиться однородная кремовая масс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Рисунок 3" descr="C:\Users\Пользователь\Downloads\IMG_20240209_085955_325.jpg"/>
          <p:cNvPicPr/>
          <p:nvPr/>
        </p:nvPicPr>
        <p:blipFill>
          <a:blip r:embed="rId1"/>
          <a:stretch/>
        </p:blipFill>
        <p:spPr>
          <a:xfrm>
            <a:off x="2357280" y="1781280"/>
            <a:ext cx="3929400" cy="44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30960" y="3960"/>
            <a:ext cx="77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e2829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e2829"/>
                </a:solidFill>
                <a:latin typeface="Times New Roman"/>
                <a:ea typeface="Calibri"/>
              </a:rPr>
              <a:t>        </a:t>
            </a:r>
            <a:r>
              <a:rPr b="0" lang="ru-RU" sz="1800" spc="-1" strike="noStrike">
                <a:solidFill>
                  <a:srgbClr val="2e2829"/>
                </a:solidFill>
                <a:latin typeface="Times New Roman"/>
                <a:ea typeface="Calibri"/>
              </a:rPr>
              <a:t>В отдельную миску просеять муку и добавить разрыхлитель, переме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3" descr="C:\Users\Пользователь\Downloads\IMG_20240209_090001_997.jpg"/>
          <p:cNvPicPr/>
          <p:nvPr/>
        </p:nvPicPr>
        <p:blipFill>
          <a:blip r:embed="rId1"/>
          <a:stretch/>
        </p:blipFill>
        <p:spPr>
          <a:xfrm>
            <a:off x="1500120" y="2786040"/>
            <a:ext cx="350064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692360" y="226404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ыпать муку к масляно-яичной массе, перемешать миксер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Рисунок 2" descr="C:\Users\Пользователь\Downloads\IMG_20240209_085955_973.jpg"/>
          <p:cNvPicPr/>
          <p:nvPr/>
        </p:nvPicPr>
        <p:blipFill>
          <a:blip r:embed="rId1"/>
          <a:stretch/>
        </p:blipFill>
        <p:spPr>
          <a:xfrm>
            <a:off x="4857840" y="1857240"/>
            <a:ext cx="3857400" cy="42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971640" y="336960"/>
            <a:ext cx="70419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ть молоко, еще раз перемешать до однородной массы. Должно получить тесто по густоте напоминающее жидкую смет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Рисунок 2" descr="C:\Users\Пользователь\Downloads\IMG_20240209_085955_973.jpg"/>
          <p:cNvPicPr/>
          <p:nvPr/>
        </p:nvPicPr>
        <p:blipFill>
          <a:blip r:embed="rId1"/>
          <a:stretch/>
        </p:blipFill>
        <p:spPr>
          <a:xfrm>
            <a:off x="2143080" y="1857240"/>
            <a:ext cx="3743280" cy="40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ейки можно выпекать в бумажных мягких или твердых формочках. Наполнить формочки тестом на 2/3.</a:t>
            </a:r>
            <a:br>
              <a:rPr sz="1600"/>
            </a:b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4" name="Рисунок 2" descr="C:\Users\Пользователь\Downloads\IMG_20240209_085955_851.jpg"/>
          <p:cNvPicPr/>
          <p:nvPr/>
        </p:nvPicPr>
        <p:blipFill>
          <a:blip r:embed="rId1"/>
          <a:stretch/>
        </p:blipFill>
        <p:spPr>
          <a:xfrm>
            <a:off x="2857680" y="1766880"/>
            <a:ext cx="3643200" cy="437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формочки на противень, выпекать в предварительно разогретой духовке до 175С 25-30 минут.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апкейки должны поднять и зазолотиться. Готовые капкейки достать и полностью остудит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6" name="Рисунок 3" descr="C:\Users\Пользователь\Downloads\IMG_20240209_085955_150.jpg"/>
          <p:cNvPicPr/>
          <p:nvPr/>
        </p:nvPicPr>
        <p:blipFill>
          <a:blip r:embed="rId1"/>
          <a:stretch/>
        </p:blipFill>
        <p:spPr>
          <a:xfrm>
            <a:off x="714240" y="1643040"/>
            <a:ext cx="307188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C:\Users\Пользователь\Downloads\IMG_20240209_085942_978.jpg"/>
          <p:cNvPicPr/>
          <p:nvPr/>
        </p:nvPicPr>
        <p:blipFill>
          <a:blip r:embed="rId2"/>
          <a:stretch/>
        </p:blipFill>
        <p:spPr>
          <a:xfrm>
            <a:off x="4429080" y="2714760"/>
            <a:ext cx="3143160" cy="39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818676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ление крема</a:t>
            </a:r>
            <a:br>
              <a:rPr sz="2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одук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вочный сыр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вочное масло вынуть из холодильника, оно должно быть мягким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 именно сахарную пудру так как сахар не успеет раствориться и будет чувствоваться при поедан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ыпать в масло пудру, взбить миксером до пышной пен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ь сыр комнатной температуры, вмешать его на низких оборотах миксер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 го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сить капкейки кремом</a:t>
            </a:r>
            <a:endParaRPr b="0" lang="en-US" sz="1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9" name="Рисунок 4" descr="IMG_20240209_085955_126 (1)"/>
          <p:cNvPicPr/>
          <p:nvPr/>
        </p:nvPicPr>
        <p:blipFill>
          <a:blip r:embed="rId1"/>
          <a:stretch/>
        </p:blipFill>
        <p:spPr>
          <a:xfrm>
            <a:off x="714240" y="3071880"/>
            <a:ext cx="2714760" cy="30718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IMG_20240209_085942_931"/>
          <p:cNvPicPr/>
          <p:nvPr/>
        </p:nvPicPr>
        <p:blipFill>
          <a:blip r:embed="rId2"/>
          <a:stretch/>
        </p:blipFill>
        <p:spPr>
          <a:xfrm>
            <a:off x="4000680" y="2571840"/>
            <a:ext cx="3357360" cy="37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Экономический анализ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14720" y="1428840"/>
          <a:ext cx="4584600" cy="5429160"/>
        </p:xfrm>
        <a:graphic>
          <a:graphicData uri="http://schemas.openxmlformats.org/drawingml/2006/table">
            <a:tbl>
              <a:tblPr/>
              <a:tblGrid>
                <a:gridCol w="409320"/>
                <a:gridCol w="1333440"/>
                <a:gridCol w="1481400"/>
                <a:gridCol w="1360440"/>
              </a:tblGrid>
              <a:tr h="7142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чная м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у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 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м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хлит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акет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ил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чике нож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по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ый сы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ая пу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г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оч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5" name="Рисунок 2" descr="C:\Users\Пользователь\Downloads\IMG_20240209_085942_965.jpg"/>
          <p:cNvPicPr/>
          <p:nvPr/>
        </p:nvPicPr>
        <p:blipFill>
          <a:blip r:embed="rId1"/>
          <a:stretch/>
        </p:blipFill>
        <p:spPr>
          <a:xfrm>
            <a:off x="1643040" y="1928880"/>
            <a:ext cx="476244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одерж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пкейки: что это такое и какие они бываю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ды капкей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тория  возникновения капкей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то необходимо при приготовлении выпе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отовим «Капкейк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риятного аппетита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Рисунок 2" descr="IMG_20240209_085943_559"/>
          <p:cNvPicPr/>
          <p:nvPr/>
        </p:nvPicPr>
        <p:blipFill>
          <a:blip r:embed="rId1"/>
          <a:stretch/>
        </p:blipFill>
        <p:spPr>
          <a:xfrm>
            <a:off x="2143080" y="1571760"/>
            <a:ext cx="4214880" cy="48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Капкейки: что это такое и какие они бываю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ейки в наши дни довольно популярный десер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ейк на английском – небольшое пирожное, вес которого не превышает 70 граммов и диаметром 5-6 см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ейки обязательно украшаются шапочкой из крема, это отличает их от маффинов и кекс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ую выпечку можно украсить по вашему вкусу – ягодный декор, съедобная посыпка или тонкие аккуратные нити карамели, шоколада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Содержимое 5" descr="Капкейки: что это такое - фото"/>
          <p:cNvPicPr/>
          <p:nvPr/>
        </p:nvPicPr>
        <p:blipFill>
          <a:blip r:embed="rId1"/>
          <a:stretch/>
        </p:blipFill>
        <p:spPr>
          <a:xfrm>
            <a:off x="4929120" y="1600200"/>
            <a:ext cx="378612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приготовить кекс в чашке возникла в Америке, это очень удобно, что выпечку не нужно резать, а на столе могут одновременно находиться разные виды десертов. Капкейки начинялись кремом, что делало их сочными, влажными и очень вкусными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упоминание этого десерта в поваренных книгах встречалось в в 1796 и 1828 годах. Происхождение американской выпечки связано с именем пекаря Амелии Симмонс. Она впервые приготовила кексики в чашке. Рецепт было несложно запомнить: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стакан ма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— саха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чашки му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яйц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28760" y="-27000"/>
            <a:ext cx="757224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23796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829"/>
                </a:solidFill>
                <a:latin typeface="Times New Roman"/>
                <a:ea typeface="Times New Roman"/>
              </a:rPr>
              <a:t>История возникновения капкей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Рисунок 5" descr="Состав капкейков - фото"/>
          <p:cNvPicPr/>
          <p:nvPr/>
        </p:nvPicPr>
        <p:blipFill>
          <a:blip r:embed="rId1"/>
          <a:stretch/>
        </p:blipFill>
        <p:spPr>
          <a:xfrm>
            <a:off x="4786200" y="1571760"/>
            <a:ext cx="4143600" cy="47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Виды капкейков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вариантов того, как приготовить капкейки или как они должны выгляде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екс в кружке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 первых вариантов приготовления капкейков. Для него в наше время используют микроволновку, что существенно экономит время. Раньше кекс в кружке выпекали прямо в печи, подавая сразу к столу. Капкейк поднимается за счет разрыхлителя  и воздушных карманов, а в качестве ингредиентов используют растительное масло, яйца, сахар и сухие компоненты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Рисунок 4" descr="Виды капкейков - кекс в кружке - фото"/>
          <p:cNvPicPr/>
          <p:nvPr/>
        </p:nvPicPr>
        <p:blipFill>
          <a:blip r:embed="rId1"/>
          <a:stretch/>
        </p:blipFill>
        <p:spPr>
          <a:xfrm>
            <a:off x="4786200" y="1643040"/>
            <a:ext cx="392904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екс в банке»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ый десерт, только он не выпекается в кружке, а собирается слоями уже в большей емкости, в стеклянной банке. Бисквит-крем-начинка, и так до тех пор, пока банка не заполнится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Рисунок 4" descr="Виды капкейков - кекс в банке - фото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40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«Кекс-бабочка»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случае капкейк словно напоминает фею с крыльями. Его верхушка разрезается пополам и внутрь добавляется начинка. И затем две отрезанные ранее верхушки помещаются поверх, словно крыль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4" descr="Виды капкейков - кекс-бабочка - фото"/>
          <p:cNvPicPr/>
          <p:nvPr/>
        </p:nvPicPr>
        <p:blipFill>
          <a:blip r:embed="rId1"/>
          <a:stretch/>
        </p:blipFill>
        <p:spPr>
          <a:xfrm>
            <a:off x="4714920" y="1643040"/>
            <a:ext cx="3857760" cy="39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«Капкейк в виде шара»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сем капкейк, но тоже его разновидность. Чем-то напоминает наше пирожное «картошка». Этот десерт не выпекается полноценно в духовке, а собирается из крошки бисквита и крема, сверху покрывается шоколадной глазурью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Рисунок 4" descr="Виды капкейков - в виде шара - фото"/>
          <p:cNvPicPr/>
          <p:nvPr/>
        </p:nvPicPr>
        <p:blipFill>
          <a:blip r:embed="rId1"/>
          <a:stretch/>
        </p:blipFill>
        <p:spPr>
          <a:xfrm>
            <a:off x="4714920" y="1738440"/>
            <a:ext cx="3857760" cy="39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«Капкейк для гурманов»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же совсем поздняя версия привычного капкейка. Это выпечка, которая словно копирует уже созданные вкусы, но раскрывая их с новой стороны. Например, он напомнит вам десерт Тирамису, Красный бархат или же ароматный напиток капучино. Нередко дорогие бутики продают именно такой вариант сладости, а не маленькие порционные капкейки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Рисунок 4" descr="Виды капкейков - Капкейк для гурманов - фото"/>
          <p:cNvPicPr/>
          <p:nvPr/>
        </p:nvPicPr>
        <p:blipFill>
          <a:blip r:embed="rId1"/>
          <a:stretch/>
        </p:blipFill>
        <p:spPr>
          <a:xfrm>
            <a:off x="4714920" y="1690560"/>
            <a:ext cx="3929040" cy="41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3:02:23Z</dcterms:created>
  <dc:creator>1</dc:creator>
  <dc:description/>
  <dc:language>en-US</dc:language>
  <cp:lastModifiedBy>Пользователь</cp:lastModifiedBy>
  <dcterms:modified xsi:type="dcterms:W3CDTF">2024-04-15T06:03:56Z</dcterms:modified>
  <cp:revision>55</cp:revision>
  <dc:subject/>
  <dc:title>Слайд 1</dc:title>
</cp:coreProperties>
</file>