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2.jpeg" ContentType="image/jpeg"/>
  <Override PartName="/ppt/media/image4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7744-DC8D-4DDB-B9B8-A1F5CABA984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902E-28DD-44E6-87AA-BC3344B55A5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D5A-2A94-41B5-A205-29DD1112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9EA1-85EB-4D56-BA20-BCC28FFC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55EC-1B84-42A2-B360-4AC0BD08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C4A8-ABF2-4A88-901C-37E4B032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2FD8-8070-4745-B136-EFA53FAF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A406-DAAC-4169-8775-8DF470D8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6866-9709-4978-A9BB-BA4C36B0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A489-BD50-4EF8-BBF9-D67D8CFB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E6FD-6095-4D5E-98B5-5222EC96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EEA0-0A1B-4050-AE41-253808C6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8AD1-4C7E-4291-96E5-6517FCD9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AF21-1C73-4882-94E9-9FF55B3A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AC60-0356-4387-8003-9830FABD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C461-2172-4E1C-9BC0-A847B20D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4CCE-E0E0-4D9F-8508-1D8EB83C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D290-B331-48A1-AFBA-112B049A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9924-97C6-4413-8311-7FD19430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206-BC5D-4ABB-BA62-4F18FCDC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E57-F5EE-4C90-A0AA-DF50BBF5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0C5-0BE9-4575-9082-FC6B2603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128-66E5-491C-89A6-8F4A3926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41C-B365-40EE-AF45-8B3CDF94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3562-7974-4B1F-91B0-94217E7F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8438-EC16-42BF-9099-59A93BAD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AB6F-469B-4555-928B-EC9412D0D4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735A-DD26-48D9-9CC3-596C8AB6B1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29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Повторение, обобщение и систематизация знаний. Функции: построение, свойства изученных функций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Скругленный прямоугольник 8"/>
          <p:cNvSpPr/>
          <p:nvPr/>
        </p:nvSpPr>
        <p:spPr>
          <a:xfrm>
            <a:off x="571680" y="2143080"/>
            <a:ext cx="2000160" cy="1071720"/>
          </a:xfrm>
          <a:prstGeom prst="roundRect">
            <a:avLst>
              <a:gd name="adj" fmla="val 16667"/>
            </a:avLst>
          </a:prstGeom>
          <a:solidFill>
            <a:srgbClr val="ff7d7d"/>
          </a:solidFill>
          <a:ln w="25560">
            <a:solidFill>
              <a:srgbClr val="ff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5000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№</a:t>
            </a:r>
            <a:r>
              <a:rPr b="0" lang="en-US" sz="17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 График какой из приведенных ниже функций изображен на рисунке? </a:t>
            </a:r>
            <a:br>
              <a:rPr sz="1700"/>
            </a:br>
            <a:endParaRPr b="0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2"/>
              <p:cNvSpPr txBox="1"/>
              <p:nvPr/>
            </p:nvSpPr>
            <p:spPr>
              <a:xfrm>
                <a:off x="714240" y="4000680"/>
                <a:ext cx="147024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3"/>
              <p:cNvSpPr txBox="1"/>
              <p:nvPr/>
            </p:nvSpPr>
            <p:spPr>
              <a:xfrm>
                <a:off x="635040" y="2071800"/>
                <a:ext cx="1785960" cy="11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714240" y="3000240"/>
                <a:ext cx="18972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714240" y="4786200"/>
                <a:ext cx="212112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0" name="Object 6"/>
          <p:cNvGraphicFramePr/>
          <p:nvPr/>
        </p:nvGraphicFramePr>
        <p:xfrm>
          <a:off x="4000680" y="1785960"/>
          <a:ext cx="3952800" cy="48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1785960"/>
                    <a:ext cx="3952800" cy="48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Скругленный прямоугольник 8"/>
          <p:cNvSpPr/>
          <p:nvPr/>
        </p:nvSpPr>
        <p:spPr>
          <a:xfrm>
            <a:off x="1500120" y="4429080"/>
            <a:ext cx="571680" cy="6429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642960"/>
              <a:gd name="textAreaBottom" fmla="*/ 615240 h 642960"/>
            </a:gdLst>
            <a:ahLst/>
            <a:rect l="textAreaLeft" t="textAreaTop" r="textAreaRight" b="textAreaBottom"/>
            <a:pathLst>
              <a:path w="21600" h="24292">
                <a:moveTo>
                  <a:pt x="3600" y="0"/>
                </a:moveTo>
                <a:arcTo wR="3600" hR="3600" stAng="16200000" swAng="-5400000"/>
                <a:lnTo>
                  <a:pt x="0" y="20692"/>
                </a:lnTo>
                <a:arcTo wR="3600" hR="3600" stAng="10800000" swAng="-5400000"/>
                <a:lnTo>
                  <a:pt x="18000" y="242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7d7d"/>
          </a:solidFill>
          <a:ln w="25560">
            <a:solidFill>
              <a:srgbClr val="ff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№</a:t>
            </a:r>
            <a:r>
              <a:rPr b="0" lang="ru-RU" sz="1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 На одном из рисунков изображен график функции</a:t>
            </a:r>
            <a:r>
              <a:rPr b="0" lang="en-US" sz="1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</a:t>
            </a:r>
            <a:br>
              <a:rPr sz="1500"/>
            </a:br>
            <a:r>
              <a:rPr b="0" lang="en-US" sz="1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кажите номер этого рисунка. </a:t>
            </a:r>
            <a:br>
              <a:rPr sz="1500"/>
            </a:br>
            <a:endParaRPr b="0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6760" y="17143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)                    2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)                          4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5643720" y="642960"/>
                <a:ext cx="16970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6" name="Object 3"/>
          <p:cNvGraphicFramePr/>
          <p:nvPr/>
        </p:nvGraphicFramePr>
        <p:xfrm>
          <a:off x="857160" y="1785960"/>
          <a:ext cx="2354400" cy="24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785960"/>
                    <a:ext cx="235440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4"/>
          <p:cNvGraphicFramePr/>
          <p:nvPr/>
        </p:nvGraphicFramePr>
        <p:xfrm>
          <a:off x="4071960" y="1714680"/>
          <a:ext cx="2504880" cy="25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1960" y="1714680"/>
                    <a:ext cx="250488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5"/>
          <p:cNvGraphicFramePr/>
          <p:nvPr/>
        </p:nvGraphicFramePr>
        <p:xfrm>
          <a:off x="2214720" y="4357800"/>
          <a:ext cx="2295360" cy="23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4720" y="4357800"/>
                    <a:ext cx="229536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6"/>
          <p:cNvGraphicFramePr/>
          <p:nvPr/>
        </p:nvGraphicFramePr>
        <p:xfrm>
          <a:off x="6072120" y="4286160"/>
          <a:ext cx="2365560" cy="242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72120" y="4286160"/>
                    <a:ext cx="236556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Скругленный прямоугольник 10"/>
          <p:cNvSpPr/>
          <p:nvPr/>
        </p:nvSpPr>
        <p:spPr>
          <a:xfrm>
            <a:off x="500040" y="2786040"/>
            <a:ext cx="1714680" cy="571680"/>
          </a:xfrm>
          <a:prstGeom prst="roundRect">
            <a:avLst>
              <a:gd name="adj" fmla="val 16667"/>
            </a:avLst>
          </a:prstGeom>
          <a:solidFill>
            <a:srgbClr val="ff7d7d"/>
          </a:solidFill>
          <a:ln w="25560">
            <a:solidFill>
              <a:srgbClr val="ff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№</a:t>
            </a:r>
            <a:r>
              <a:rPr b="0" lang="en-US" sz="1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4  Укажите множество значений функции, график которой изображен на рисунке.</a:t>
            </a:r>
            <a:endParaRPr b="0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-3;7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-3;-2]  [2;5]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-4;3]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-4;-1)   (-1;3]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4000680" y="2071800"/>
            <a:ext cx="4290840" cy="3190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Скругленный прямоугольник 8"/>
          <p:cNvSpPr/>
          <p:nvPr/>
        </p:nvSpPr>
        <p:spPr>
          <a:xfrm>
            <a:off x="500040" y="5357880"/>
            <a:ext cx="3714840" cy="642960"/>
          </a:xfrm>
          <a:prstGeom prst="roundRect">
            <a:avLst>
              <a:gd name="adj" fmla="val 16667"/>
            </a:avLst>
          </a:prstGeom>
          <a:solidFill>
            <a:srgbClr val="ff7d7d"/>
          </a:solidFill>
          <a:ln w="25560">
            <a:solidFill>
              <a:srgbClr val="ff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ариант 2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71320" y="17856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афик какой из приведенных ниже функции изображен на рисунке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1" name="Object 2"/>
          <p:cNvGraphicFramePr/>
          <p:nvPr/>
        </p:nvGraphicFramePr>
        <p:xfrm>
          <a:off x="5643720" y="2112840"/>
          <a:ext cx="3214440" cy="47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43720" y="2112840"/>
                    <a:ext cx="321444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3" name="Object 3"/>
              <p:cNvSpPr txBox="1"/>
              <p:nvPr/>
            </p:nvSpPr>
            <p:spPr>
              <a:xfrm>
                <a:off x="566640" y="2643120"/>
                <a:ext cx="342288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500040" y="5357880"/>
                <a:ext cx="3610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571680" y="4500720"/>
                <a:ext cx="33685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6"/>
              <p:cNvSpPr txBox="1"/>
              <p:nvPr/>
            </p:nvSpPr>
            <p:spPr>
              <a:xfrm>
                <a:off x="525600" y="3571920"/>
                <a:ext cx="33368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heel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Скругленный прямоугольник 8"/>
          <p:cNvSpPr/>
          <p:nvPr/>
        </p:nvSpPr>
        <p:spPr>
          <a:xfrm>
            <a:off x="500040" y="4286160"/>
            <a:ext cx="1928880" cy="1071720"/>
          </a:xfrm>
          <a:prstGeom prst="roundRect">
            <a:avLst>
              <a:gd name="adj" fmla="val 16667"/>
            </a:avLst>
          </a:prstGeom>
          <a:solidFill>
            <a:srgbClr val="ff7d7d"/>
          </a:solidFill>
          <a:ln w="25560">
            <a:solidFill>
              <a:srgbClr val="ff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№</a:t>
            </a:r>
            <a:r>
              <a:rPr b="0" lang="en-US" sz="1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 График какой из приведенных ниже функций изображен на рисунке? </a:t>
            </a:r>
            <a:br>
              <a:rPr sz="1500"/>
            </a:br>
            <a:endParaRPr b="0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9" name="Object 2"/>
          <p:cNvGraphicFramePr/>
          <p:nvPr/>
        </p:nvGraphicFramePr>
        <p:xfrm>
          <a:off x="5357880" y="1643040"/>
          <a:ext cx="329076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7880" y="1643040"/>
                    <a:ext cx="32907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512640" y="5214960"/>
                <a:ext cx="172584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520560" y="3071880"/>
                <a:ext cx="18972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563400" y="1928880"/>
                <a:ext cx="20084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6"/>
              <p:cNvSpPr txBox="1"/>
              <p:nvPr/>
            </p:nvSpPr>
            <p:spPr>
              <a:xfrm>
                <a:off x="544680" y="4214880"/>
                <a:ext cx="15192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heel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Скругленный прямоугольник 8"/>
          <p:cNvSpPr/>
          <p:nvPr/>
        </p:nvSpPr>
        <p:spPr>
          <a:xfrm>
            <a:off x="4071960" y="1643040"/>
            <a:ext cx="714240" cy="571680"/>
          </a:xfrm>
          <a:prstGeom prst="roundRect">
            <a:avLst>
              <a:gd name="adj" fmla="val 16667"/>
            </a:avLst>
          </a:prstGeom>
          <a:solidFill>
            <a:srgbClr val="ff7d7d"/>
          </a:solidFill>
          <a:ln w="25560">
            <a:solidFill>
              <a:srgbClr val="ff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2428920" y="4286160"/>
          <a:ext cx="2384280" cy="25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4286160"/>
                    <a:ext cx="238428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№</a:t>
            </a:r>
            <a:r>
              <a:rPr b="0" lang="ru-RU" sz="17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 На одном из рисунков изображен график функции</a:t>
            </a:r>
            <a:r>
              <a:rPr b="0" lang="en-US" sz="17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</a:t>
            </a:r>
            <a:br>
              <a:rPr sz="1700"/>
            </a:br>
            <a:r>
              <a:rPr b="0" lang="en-US" sz="17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7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кажите номер этого рисунка.</a:t>
            </a:r>
            <a:endParaRPr b="0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)                            2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)                      4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6143760" y="785880"/>
                <a:ext cx="1857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1" name="Object 3"/>
          <p:cNvGraphicFramePr/>
          <p:nvPr/>
        </p:nvGraphicFramePr>
        <p:xfrm>
          <a:off x="571680" y="1643040"/>
          <a:ext cx="2357280" cy="271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1643040"/>
                    <a:ext cx="235728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4"/>
          <p:cNvGraphicFramePr/>
          <p:nvPr/>
        </p:nvGraphicFramePr>
        <p:xfrm>
          <a:off x="4857840" y="1785960"/>
          <a:ext cx="2292120" cy="257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7840" y="1785960"/>
                    <a:ext cx="22921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6"/>
          <p:cNvGraphicFramePr/>
          <p:nvPr/>
        </p:nvGraphicFramePr>
        <p:xfrm>
          <a:off x="5715000" y="4429080"/>
          <a:ext cx="2212920" cy="242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429080"/>
                    <a:ext cx="221292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Скругленный прямоугольник 4"/>
          <p:cNvSpPr/>
          <p:nvPr/>
        </p:nvSpPr>
        <p:spPr>
          <a:xfrm>
            <a:off x="571680" y="3429000"/>
            <a:ext cx="1928520" cy="571680"/>
          </a:xfrm>
          <a:prstGeom prst="roundRect">
            <a:avLst>
              <a:gd name="adj" fmla="val 16667"/>
            </a:avLst>
          </a:prstGeom>
          <a:solidFill>
            <a:srgbClr val="ff7d7d"/>
          </a:solidFill>
          <a:ln w="25560">
            <a:solidFill>
              <a:srgbClr val="ff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№</a:t>
            </a:r>
            <a:r>
              <a:rPr b="0" lang="en-US" sz="17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4 Укажите область определения функции, график которой изображен на рисунке.</a:t>
            </a:r>
            <a:endParaRPr b="0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(-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;6]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[-1;6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[-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[-5;6]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2" descr="http://le-savchen.ucoz.ru/test/test_7/12_12.png"/>
          <p:cNvPicPr/>
          <p:nvPr/>
        </p:nvPicPr>
        <p:blipFill>
          <a:blip r:embed="rId1"/>
          <a:stretch/>
        </p:blipFill>
        <p:spPr>
          <a:xfrm>
            <a:off x="3500280" y="2071800"/>
            <a:ext cx="399744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Упражнения на закреплени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айти значение коэффициентов а и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квадратичной функции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=ax+bx-5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, если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(-1) = 0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(1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= 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дставляем в уравнения значения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, получится система уравнений относительно а и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 – b – 5= 0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 + b - = 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ешаем систему 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 – b – 5= 0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 + b - = 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з первого выражения вычитаем второе, получаем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=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 + b – 5= 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дставляем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во второе выражение, получаем а = 8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: а=8,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=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Левая фигурная скобка 3"/>
          <p:cNvSpPr/>
          <p:nvPr/>
        </p:nvSpPr>
        <p:spPr>
          <a:xfrm>
            <a:off x="785880" y="3714840"/>
            <a:ext cx="142920" cy="57132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571320"/>
              <a:gd name="textAreaBottom" fmla="*/ 56772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Левая фигурная скобка 4"/>
          <p:cNvSpPr/>
          <p:nvPr/>
        </p:nvSpPr>
        <p:spPr>
          <a:xfrm>
            <a:off x="785880" y="4643280"/>
            <a:ext cx="142920" cy="57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571680"/>
              <a:gd name="textAreaBottom" fmla="*/ 56808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Левая фигурная скобка 5"/>
          <p:cNvSpPr/>
          <p:nvPr/>
        </p:nvSpPr>
        <p:spPr>
          <a:xfrm>
            <a:off x="714240" y="5643720"/>
            <a:ext cx="142920" cy="57132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571320"/>
              <a:gd name="textAreaBottom" fmla="*/ 56772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значения коэффициентов а,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, если известно, что график функции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ax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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x + c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т через точки (-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3), (0;3)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;3)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авим значения каждой точки в уравнение функции, получим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*(-1) + b*(-1) + c= -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*0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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*0+c=3 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*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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b*2+c=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b + c+ -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 + 2b + c = 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я эту систему получим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-2, b = 4, c = 3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-2, b = 4, c = 3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Левая фигурная скобка 3"/>
          <p:cNvSpPr/>
          <p:nvPr/>
        </p:nvSpPr>
        <p:spPr>
          <a:xfrm>
            <a:off x="785880" y="3500280"/>
            <a:ext cx="142920" cy="85752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857520"/>
              <a:gd name="textAreaBottom" fmla="*/ 853920 h 8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Левая фигурная скобка 4"/>
          <p:cNvSpPr/>
          <p:nvPr/>
        </p:nvSpPr>
        <p:spPr>
          <a:xfrm>
            <a:off x="714240" y="4500720"/>
            <a:ext cx="142920" cy="85716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21430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cc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Цели  урока: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0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ировать  знания  учащихся  по  теме  «Функции  и  графики функции и их свойства»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 умения  определять  функции по  заданным  формулам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 умения  находить  соответствия   данных  графиков  функций  с  формулам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 умения  учащихся  выполнять  построение  графиков  различных  функций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 логическое  мышление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0000"/>
                </a:solidFill>
                <a:latin typeface="Arial"/>
              </a:rPr>
              <a:t>ЛИНЕЙНАЯ ФУНКЦИЯ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640" y="1752120"/>
            <a:ext cx="3005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=kx+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строения графика достаточно определить координаты двух точек графика и через них провести пряму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( при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≠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≠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ОПРЕДЕЛЕНИЯ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О ЗНАЧЕНИЙ пр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&gt;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– возрастает, пр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&lt;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– убывает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четная, ни нечетна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 функции – пряма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rcRect l="0" t="0" r="29703" b="31673"/>
          <a:stretch/>
        </p:blipFill>
        <p:spPr>
          <a:xfrm>
            <a:off x="3857760" y="2286000"/>
            <a:ext cx="507204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00100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Частные случаи линейной функции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Содержимое 2"/>
          <p:cNvSpPr/>
          <p:nvPr/>
        </p:nvSpPr>
        <p:spPr>
          <a:xfrm>
            <a:off x="142920" y="1643040"/>
            <a:ext cx="2643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spcBef>
                <a:spcPts val="349"/>
              </a:spcBef>
              <a:buClr>
                <a:srgbClr val="99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сли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=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то функция задается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=kx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графиком является прямая, проходящая через начало координа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349"/>
              </a:spcBef>
              <a:buClr>
                <a:srgbClr val="99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сли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=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то функция задается формулой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=b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 Графиком функции является прямая, параллельная оси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x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349"/>
              </a:spcBef>
              <a:buClr>
                <a:srgbClr val="99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сли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&gt;0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афик находится выше оси О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349"/>
              </a:spcBef>
              <a:buClr>
                <a:srgbClr val="99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сли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&lt;0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афик находится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иже оси О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349"/>
              </a:spcBef>
              <a:buClr>
                <a:srgbClr val="99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сл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k=0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=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то график функции совпадает с осью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x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2943360" y="714240"/>
            <a:ext cx="6200640" cy="53913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Квадратичная функция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66640" y="1752120"/>
            <a:ext cx="364824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=ax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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+bx+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строения графика необходимо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координаты вершины параболы и отметить ее в координатной плоскости. Координаты вершины параболы находятся по следующим формулам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 - b/2a; n=-b²+4ac/ 4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еще несколько точек, принадлежащих параболе. Если имеются нули квадратичной функции, то удобно построить их. Если функция не имеет нулей, то парабола не пересекается с ось О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ть отмеченные точки плавной линие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2" descr="C:\Documents and Settings\User\Рабочий стол\image004.jpg"/>
          <p:cNvPicPr/>
          <p:nvPr/>
        </p:nvPicPr>
        <p:blipFill>
          <a:blip r:embed="rId1"/>
          <a:srcRect l="0" t="0" r="64866" b="-881"/>
          <a:stretch/>
        </p:blipFill>
        <p:spPr>
          <a:xfrm>
            <a:off x="5643720" y="1571760"/>
            <a:ext cx="2214360" cy="51102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ая соединительная линия 6"/>
          <p:cNvSpPr/>
          <p:nvPr/>
        </p:nvSpPr>
        <p:spPr>
          <a:xfrm flipH="1" flipV="1">
            <a:off x="6357600" y="3857760"/>
            <a:ext cx="428760" cy="144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ая соединительная линия 8"/>
          <p:cNvSpPr/>
          <p:nvPr/>
        </p:nvSpPr>
        <p:spPr>
          <a:xfrm flipV="1">
            <a:off x="6786720" y="3573360"/>
            <a:ext cx="1440" cy="28584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Прямоугольник 9"/>
          <p:cNvSpPr/>
          <p:nvPr/>
        </p:nvSpPr>
        <p:spPr>
          <a:xfrm>
            <a:off x="6574680" y="32860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Прямоугольник 10"/>
          <p:cNvSpPr/>
          <p:nvPr/>
        </p:nvSpPr>
        <p:spPr>
          <a:xfrm>
            <a:off x="6002640" y="36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320" y="857160"/>
            <a:ext cx="80010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ВОЙСТВА КВАДРАТИЧНОЙ ФУНКЦИИ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0040" y="1895040"/>
            <a:ext cx="80676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59120" indent="-15912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ОПРЕДЕЛЕНИЯ: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ЗНАЧЕНИЙ: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&gt; 0 [-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(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∞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&lt; 0 (-∞ ;-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(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НОСТЬ, НЕЧЕТНОСТЬ: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0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функция четная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0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функция ни четная, ни нечетная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И: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&gt; 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нуля: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b- √D/2a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=-b+ √D/2a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нуль: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-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(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&lt; 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ей нет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ЖУТКИ МОНОТОННОСТИ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ает при х с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-b/(2a); ∞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ывает при х с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-b/(2a); ∞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ает при х с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∞;-b/(2a)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ывает при х с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∞;-b/(2a)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cc"/>
                </a:solidFill>
                <a:latin typeface="Times New Roman"/>
                <a:ea typeface="Times New Roman"/>
              </a:rPr>
              <a:t>6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МУМЫ: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&gt; 0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-b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-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(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ветвей параболы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&lt; 0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-b/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-D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Если 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 ветви направлены вверх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 ветви направлены вниз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59120" indent="-159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2" descr="C:\Documents and Settings\User\Рабочий стол\image004.jpg"/>
          <p:cNvPicPr/>
          <p:nvPr/>
        </p:nvPicPr>
        <p:blipFill>
          <a:blip r:embed="rId1"/>
          <a:stretch/>
        </p:blipFill>
        <p:spPr>
          <a:xfrm>
            <a:off x="3857760" y="1857240"/>
            <a:ext cx="5286240" cy="4248360"/>
          </a:xfrm>
          <a:prstGeom prst="rect">
            <a:avLst/>
          </a:prstGeom>
          <a:ln w="0">
            <a:noFill/>
          </a:ln>
        </p:spPr>
      </p:pic>
      <p:sp>
        <p:nvSpPr>
          <p:cNvPr id="115" name="Левая фигурная скобка 4"/>
          <p:cNvSpPr/>
          <p:nvPr/>
        </p:nvSpPr>
        <p:spPr>
          <a:xfrm>
            <a:off x="1285920" y="5000760"/>
            <a:ext cx="117360" cy="571320"/>
          </a:xfrm>
          <a:custGeom>
            <a:avLst/>
            <a:gdLst>
              <a:gd name="textAreaLeft" fmla="*/ 74880 w 117360"/>
              <a:gd name="textAreaRight" fmla="*/ 117720 w 117360"/>
              <a:gd name="textAreaTop" fmla="*/ 2880 h 571320"/>
              <a:gd name="textAreaBottom" fmla="*/ 56844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70"/>
                </a:cubicBezTo>
                <a:lnTo>
                  <a:pt x="10800" y="10430"/>
                </a:lnTo>
                <a:cubicBezTo>
                  <a:pt x="10800" y="10615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70"/>
                </a:cubicBezTo>
                <a:lnTo>
                  <a:pt x="10800" y="21230"/>
                </a:lnTo>
                <a:cubicBezTo>
                  <a:pt x="10800" y="21415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Левая фигурная скобка 5"/>
          <p:cNvSpPr/>
          <p:nvPr/>
        </p:nvSpPr>
        <p:spPr>
          <a:xfrm>
            <a:off x="1214280" y="5500800"/>
            <a:ext cx="117720" cy="571320"/>
          </a:xfrm>
          <a:custGeom>
            <a:avLst/>
            <a:gdLst>
              <a:gd name="textAreaLeft" fmla="*/ 75240 w 117720"/>
              <a:gd name="textAreaRight" fmla="*/ 118080 w 117720"/>
              <a:gd name="textAreaTop" fmla="*/ 2880 h 571320"/>
              <a:gd name="textAreaBottom" fmla="*/ 56844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70"/>
                </a:cubicBezTo>
                <a:lnTo>
                  <a:pt x="10800" y="10430"/>
                </a:lnTo>
                <a:cubicBezTo>
                  <a:pt x="10800" y="10615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70"/>
                </a:cubicBezTo>
                <a:lnTo>
                  <a:pt x="10800" y="21230"/>
                </a:lnTo>
                <a:cubicBezTo>
                  <a:pt x="10800" y="21415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тепенная функция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 = x 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четном а.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&gt; 0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&lt; 0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ом функции является парабола, расположенная в положительной полуплоскости координат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определения функции - промежуток (0; ∞+ 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значений функции - промежуток (0; ∞ +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ых 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график функции проходит через точку (1; 1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 возрастает в промежутк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0;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∞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∞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0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бывае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оложным значениям аргумента соответствуют равные значения функ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2" descr="ctepen"/>
          <p:cNvPicPr/>
          <p:nvPr/>
        </p:nvPicPr>
        <p:blipFill>
          <a:blip r:embed="rId1"/>
          <a:stretch/>
        </p:blipFill>
        <p:spPr>
          <a:xfrm>
            <a:off x="3143160" y="4429080"/>
            <a:ext cx="1571760" cy="2428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tepen_2"/>
          <p:cNvPicPr/>
          <p:nvPr/>
        </p:nvPicPr>
        <p:blipFill>
          <a:blip r:embed="rId2"/>
          <a:stretch/>
        </p:blipFill>
        <p:spPr>
          <a:xfrm>
            <a:off x="4857840" y="4457880"/>
            <a:ext cx="2428920" cy="2400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raal100.narod2.ru/algebra/stepennaya_funktsiya/Stepennaya_funkcciya.png?rand=71336294368816"/>
          <p:cNvPicPr/>
          <p:nvPr/>
        </p:nvPicPr>
        <p:blipFill>
          <a:blip r:embed="rId3"/>
          <a:srcRect l="0" t="11031" r="56737" b="0"/>
          <a:stretch/>
        </p:blipFill>
        <p:spPr>
          <a:xfrm>
            <a:off x="6715080" y="1285920"/>
            <a:ext cx="2230560" cy="2249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369800" y="1827360"/>
            <a:ext cx="444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четном 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ом функции является винтообразная кривая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определения функции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значения функции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оложным значениям аргумента соответствуют противоположные значения функ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сей области определения функция возрастае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2" descr="http://raal100.narod2.ru/algebra/stepennaya_funktsiya/Stepennaya_funkcciya.png?rand=71336294368816"/>
          <p:cNvPicPr/>
          <p:nvPr/>
        </p:nvPicPr>
        <p:blipFill>
          <a:blip r:embed="rId1"/>
          <a:srcRect l="57703" t="11031" r="0" b="0"/>
          <a:stretch/>
        </p:blipFill>
        <p:spPr>
          <a:xfrm>
            <a:off x="5786280" y="2000160"/>
            <a:ext cx="202752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Скругленный прямоугольник 9"/>
          <p:cNvSpPr/>
          <p:nvPr/>
        </p:nvSpPr>
        <p:spPr>
          <a:xfrm>
            <a:off x="714240" y="3214800"/>
            <a:ext cx="3857760" cy="714240"/>
          </a:xfrm>
          <a:prstGeom prst="roundRect">
            <a:avLst>
              <a:gd name="adj" fmla="val 16667"/>
            </a:avLst>
          </a:prstGeom>
          <a:solidFill>
            <a:srgbClr val="ff7d7d"/>
          </a:solidFill>
          <a:ln w="25560">
            <a:solidFill>
              <a:srgbClr val="ff3c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ТЕСТ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400" y="15714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 График какой из приведенных ниже функций изображен на рисунке?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"/>
              <p:cNvSpPr txBox="1"/>
              <p:nvPr/>
            </p:nvSpPr>
            <p:spPr>
              <a:xfrm>
                <a:off x="853920" y="2286000"/>
                <a:ext cx="32004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2"/>
              <p:cNvSpPr txBox="1"/>
              <p:nvPr/>
            </p:nvSpPr>
            <p:spPr>
              <a:xfrm>
                <a:off x="793800" y="3222720"/>
                <a:ext cx="3647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803160" y="4086360"/>
                <a:ext cx="3718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880920" y="5022720"/>
                <a:ext cx="36403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2" name="Object 5"/>
          <p:cNvGraphicFramePr/>
          <p:nvPr/>
        </p:nvGraphicFramePr>
        <p:xfrm>
          <a:off x="5286240" y="2319480"/>
          <a:ext cx="3073680" cy="45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6240" y="2319480"/>
                    <a:ext cx="307368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6:01:51Z</dcterms:created>
  <dc:creator>Customer</dc:creator>
  <dc:description/>
  <dc:language>en-US</dc:language>
  <cp:lastModifiedBy>Admin</cp:lastModifiedBy>
  <dcterms:modified xsi:type="dcterms:W3CDTF">2024-06-26T09:34:08Z</dcterms:modified>
  <cp:revision>45</cp:revision>
  <dc:subject/>
  <dc:title>Слайд 1</dc:title>
</cp:coreProperties>
</file>