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2.jpeg" ContentType="image/jpeg"/>
  <Override PartName="/ppt/media/image4.png" ContentType="image/png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64A3-A0A8-46C2-A7C0-F44D6D16FE4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E49B-11DC-4FE0-919F-2AC1719EC1C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94D6-91CA-4D83-9298-A888F948E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2CB9-55B9-4FA3-8518-DD3241F2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E751-E1A8-49E6-9B24-56FACEE82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5A09-C047-460D-84DE-41727EFB6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7B46-3940-44DB-BD30-5E259D774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358B-62B0-4B29-912B-A4248F6C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C6FE-F1D9-4433-80BF-CD3E31AA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E2AE-490D-41EA-ABAF-91AB371D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C402-6EA5-4958-BF05-3E30F707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1EC0-EA32-4CED-8A7A-D1E74229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5059-0181-4384-A2F1-1B2518A5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1D72-B651-43BF-9ADE-E3559798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775D-051C-4D14-A009-19FDC3EF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14F6-8A12-4ED1-AC45-003F8DE1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7273-4C66-4F87-96B8-7192311C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9E42-E1AB-4646-8F5E-76A8A6133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2353E-5BEF-4457-8B5B-A07767DC1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A762-D9EB-4664-8FB4-F7083EF2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3B5B-B9B5-441A-8E7E-0AD091F5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AA41-38A8-4850-8A88-2DA2BC69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118B-E957-43DD-9873-7848E582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3A80-9DD0-439C-B744-49467EE9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A82B-1115-47F4-849A-4DDF6753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1717-22AB-4510-93D9-10C6967E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CD68-1021-44D4-9F80-A202C823C92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A2CC-0B1B-4851-A659-5B60AD82CCA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920" y="29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Повторение, обобщение и систематизация знаний. Функции: построение, свойства изученных функций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Скругленный прямоугольник 8"/>
          <p:cNvSpPr/>
          <p:nvPr/>
        </p:nvSpPr>
        <p:spPr>
          <a:xfrm>
            <a:off x="571680" y="2143080"/>
            <a:ext cx="2000160" cy="1071720"/>
          </a:xfrm>
          <a:prstGeom prst="roundRect">
            <a:avLst>
              <a:gd name="adj" fmla="val 16667"/>
            </a:avLst>
          </a:prstGeom>
          <a:solidFill>
            <a:srgbClr val="ff7d7d"/>
          </a:solidFill>
          <a:ln w="25560">
            <a:solidFill>
              <a:srgbClr val="ff7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5000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№</a:t>
            </a:r>
            <a:r>
              <a:rPr b="0" lang="en-US" sz="17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 График какой из приведенных ниже функций изображен на рисунке? </a:t>
            </a:r>
            <a:br>
              <a:rPr sz="1700"/>
            </a:br>
            <a:endParaRPr b="0" lang="en-US" sz="17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2"/>
              <p:cNvSpPr txBox="1"/>
              <p:nvPr/>
            </p:nvSpPr>
            <p:spPr>
              <a:xfrm>
                <a:off x="714240" y="4000680"/>
                <a:ext cx="147024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3"/>
              <p:cNvSpPr txBox="1"/>
              <p:nvPr/>
            </p:nvSpPr>
            <p:spPr>
              <a:xfrm>
                <a:off x="635040" y="2071800"/>
                <a:ext cx="1785960" cy="11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4"/>
              <p:cNvSpPr txBox="1"/>
              <p:nvPr/>
            </p:nvSpPr>
            <p:spPr>
              <a:xfrm>
                <a:off x="714240" y="3000240"/>
                <a:ext cx="189720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5"/>
              <p:cNvSpPr txBox="1"/>
              <p:nvPr/>
            </p:nvSpPr>
            <p:spPr>
              <a:xfrm>
                <a:off x="714240" y="4786200"/>
                <a:ext cx="212112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40" name="Object 6"/>
          <p:cNvGraphicFramePr/>
          <p:nvPr/>
        </p:nvGraphicFramePr>
        <p:xfrm>
          <a:off x="4000680" y="1785960"/>
          <a:ext cx="3952800" cy="48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00680" y="1785960"/>
                    <a:ext cx="3952800" cy="48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heel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Скругленный прямоугольник 8"/>
          <p:cNvSpPr/>
          <p:nvPr/>
        </p:nvSpPr>
        <p:spPr>
          <a:xfrm>
            <a:off x="1500120" y="4429080"/>
            <a:ext cx="571680" cy="6429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642960"/>
              <a:gd name="textAreaBottom" fmla="*/ 615240 h 642960"/>
            </a:gdLst>
            <a:ahLst/>
            <a:rect l="textAreaLeft" t="textAreaTop" r="textAreaRight" b="textAreaBottom"/>
            <a:pathLst>
              <a:path w="21600" h="24292">
                <a:moveTo>
                  <a:pt x="3600" y="0"/>
                </a:moveTo>
                <a:arcTo wR="3600" hR="3600" stAng="16200000" swAng="-5400000"/>
                <a:lnTo>
                  <a:pt x="0" y="20692"/>
                </a:lnTo>
                <a:arcTo wR="3600" hR="3600" stAng="10800000" swAng="-5400000"/>
                <a:lnTo>
                  <a:pt x="18000" y="242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7d7d"/>
          </a:solidFill>
          <a:ln w="25560">
            <a:solidFill>
              <a:srgbClr val="ff7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№</a:t>
            </a:r>
            <a:r>
              <a:rPr b="0" lang="ru-RU" sz="15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3 На одном из рисунков изображен график функции</a:t>
            </a:r>
            <a:r>
              <a:rPr b="0" lang="en-US" sz="15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 </a:t>
            </a:r>
            <a:br>
              <a:rPr sz="1500"/>
            </a:br>
            <a:r>
              <a:rPr b="0" lang="en-US" sz="15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Укажите номер этого рисунка. </a:t>
            </a:r>
            <a:br>
              <a:rPr sz="1500"/>
            </a:br>
            <a:endParaRPr b="0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56760" y="17143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)                    2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)                          4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5643720" y="642960"/>
                <a:ext cx="16970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6" name="Object 3"/>
          <p:cNvGraphicFramePr/>
          <p:nvPr/>
        </p:nvGraphicFramePr>
        <p:xfrm>
          <a:off x="857160" y="1785960"/>
          <a:ext cx="2354400" cy="24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1785960"/>
                    <a:ext cx="2354400" cy="24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4"/>
          <p:cNvGraphicFramePr/>
          <p:nvPr/>
        </p:nvGraphicFramePr>
        <p:xfrm>
          <a:off x="4071960" y="1714680"/>
          <a:ext cx="2504880" cy="257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1960" y="1714680"/>
                    <a:ext cx="2504880" cy="25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5"/>
          <p:cNvGraphicFramePr/>
          <p:nvPr/>
        </p:nvGraphicFramePr>
        <p:xfrm>
          <a:off x="2214720" y="4357800"/>
          <a:ext cx="2295360" cy="235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14720" y="4357800"/>
                    <a:ext cx="2295360" cy="23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6"/>
          <p:cNvGraphicFramePr/>
          <p:nvPr/>
        </p:nvGraphicFramePr>
        <p:xfrm>
          <a:off x="6072120" y="4286160"/>
          <a:ext cx="2365560" cy="2428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72120" y="4286160"/>
                    <a:ext cx="236556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heel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Скругленный прямоугольник 10"/>
          <p:cNvSpPr/>
          <p:nvPr/>
        </p:nvSpPr>
        <p:spPr>
          <a:xfrm>
            <a:off x="500040" y="2786040"/>
            <a:ext cx="1714680" cy="571680"/>
          </a:xfrm>
          <a:prstGeom prst="roundRect">
            <a:avLst>
              <a:gd name="adj" fmla="val 16667"/>
            </a:avLst>
          </a:prstGeom>
          <a:solidFill>
            <a:srgbClr val="ff7d7d"/>
          </a:solidFill>
          <a:ln w="25560">
            <a:solidFill>
              <a:srgbClr val="ff7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№</a:t>
            </a:r>
            <a:r>
              <a:rPr b="0" lang="en-US" sz="15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4  Укажите множество значений функции, график которой изображен на рисунке.</a:t>
            </a:r>
            <a:endParaRPr b="0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-3;7)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-3;-2]  [2;5]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-4;3]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-4;-1)   (-1;3]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4000680" y="2071800"/>
            <a:ext cx="4290840" cy="31906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Скругленный прямоугольник 8"/>
          <p:cNvSpPr/>
          <p:nvPr/>
        </p:nvSpPr>
        <p:spPr>
          <a:xfrm>
            <a:off x="500040" y="5357880"/>
            <a:ext cx="3714840" cy="642960"/>
          </a:xfrm>
          <a:prstGeom prst="roundRect">
            <a:avLst>
              <a:gd name="adj" fmla="val 16667"/>
            </a:avLst>
          </a:prstGeom>
          <a:solidFill>
            <a:srgbClr val="ff7d7d"/>
          </a:solidFill>
          <a:ln w="25560">
            <a:solidFill>
              <a:srgbClr val="ff7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ариант 2</a:t>
            </a:r>
            <a:endParaRPr b="0" lang="en-US" sz="2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71320" y="17856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График какой из приведенных ниже функции изображен на рисунке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1" name="Object 2"/>
          <p:cNvGraphicFramePr/>
          <p:nvPr/>
        </p:nvGraphicFramePr>
        <p:xfrm>
          <a:off x="5643720" y="2112840"/>
          <a:ext cx="3214440" cy="47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43720" y="2112840"/>
                    <a:ext cx="321444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3" name="Object 3"/>
              <p:cNvSpPr txBox="1"/>
              <p:nvPr/>
            </p:nvSpPr>
            <p:spPr>
              <a:xfrm>
                <a:off x="566640" y="2643120"/>
                <a:ext cx="342288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500040" y="5357880"/>
                <a:ext cx="36100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5"/>
              <p:cNvSpPr txBox="1"/>
              <p:nvPr/>
            </p:nvSpPr>
            <p:spPr>
              <a:xfrm>
                <a:off x="571680" y="4500720"/>
                <a:ext cx="336852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6"/>
              <p:cNvSpPr txBox="1"/>
              <p:nvPr/>
            </p:nvSpPr>
            <p:spPr>
              <a:xfrm>
                <a:off x="525600" y="3571920"/>
                <a:ext cx="333684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heel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Скругленный прямоугольник 8"/>
          <p:cNvSpPr/>
          <p:nvPr/>
        </p:nvSpPr>
        <p:spPr>
          <a:xfrm>
            <a:off x="500040" y="4286160"/>
            <a:ext cx="1928880" cy="1071720"/>
          </a:xfrm>
          <a:prstGeom prst="roundRect">
            <a:avLst>
              <a:gd name="adj" fmla="val 16667"/>
            </a:avLst>
          </a:prstGeom>
          <a:solidFill>
            <a:srgbClr val="ff7d7d"/>
          </a:solidFill>
          <a:ln w="25560">
            <a:solidFill>
              <a:srgbClr val="ff7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№</a:t>
            </a:r>
            <a:r>
              <a:rPr b="0" lang="en-US" sz="15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 График какой из приведенных ниже функций изображен на рисунке? </a:t>
            </a:r>
            <a:br>
              <a:rPr sz="1500"/>
            </a:br>
            <a:endParaRPr b="0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9" name="Object 2"/>
          <p:cNvGraphicFramePr/>
          <p:nvPr/>
        </p:nvGraphicFramePr>
        <p:xfrm>
          <a:off x="5357880" y="1643040"/>
          <a:ext cx="3290760" cy="48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57880" y="1643040"/>
                    <a:ext cx="329076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1" name="Object 3"/>
              <p:cNvSpPr txBox="1"/>
              <p:nvPr/>
            </p:nvSpPr>
            <p:spPr>
              <a:xfrm>
                <a:off x="512640" y="5214960"/>
                <a:ext cx="172584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520560" y="3071880"/>
                <a:ext cx="189720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5"/>
              <p:cNvSpPr txBox="1"/>
              <p:nvPr/>
            </p:nvSpPr>
            <p:spPr>
              <a:xfrm>
                <a:off x="563400" y="1928880"/>
                <a:ext cx="200844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6"/>
              <p:cNvSpPr txBox="1"/>
              <p:nvPr/>
            </p:nvSpPr>
            <p:spPr>
              <a:xfrm>
                <a:off x="544680" y="4214880"/>
                <a:ext cx="15192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wheel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Скругленный прямоугольник 8"/>
          <p:cNvSpPr/>
          <p:nvPr/>
        </p:nvSpPr>
        <p:spPr>
          <a:xfrm>
            <a:off x="4071960" y="1643040"/>
            <a:ext cx="714240" cy="571680"/>
          </a:xfrm>
          <a:prstGeom prst="roundRect">
            <a:avLst>
              <a:gd name="adj" fmla="val 16667"/>
            </a:avLst>
          </a:prstGeom>
          <a:solidFill>
            <a:srgbClr val="ff7d7d"/>
          </a:solidFill>
          <a:ln w="25560">
            <a:solidFill>
              <a:srgbClr val="ff7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6" name="Object 5"/>
          <p:cNvGraphicFramePr/>
          <p:nvPr/>
        </p:nvGraphicFramePr>
        <p:xfrm>
          <a:off x="2428920" y="4286160"/>
          <a:ext cx="2384280" cy="257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8920" y="4286160"/>
                    <a:ext cx="238428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№</a:t>
            </a:r>
            <a:r>
              <a:rPr b="0" lang="ru-RU" sz="17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3 На одном из рисунков изображен график функции</a:t>
            </a:r>
            <a:r>
              <a:rPr b="0" lang="en-US" sz="17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 </a:t>
            </a:r>
            <a:br>
              <a:rPr sz="1700"/>
            </a:br>
            <a:r>
              <a:rPr b="0" lang="en-US" sz="17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7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Укажите номер этого рисунка.</a:t>
            </a:r>
            <a:endParaRPr b="0" lang="en-US" sz="1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16426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)                            2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)                      4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2"/>
              <p:cNvSpPr txBox="1"/>
              <p:nvPr/>
            </p:nvSpPr>
            <p:spPr>
              <a:xfrm>
                <a:off x="6143760" y="785880"/>
                <a:ext cx="1857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81" name="Object 3"/>
          <p:cNvGraphicFramePr/>
          <p:nvPr/>
        </p:nvGraphicFramePr>
        <p:xfrm>
          <a:off x="571680" y="1643040"/>
          <a:ext cx="2357280" cy="271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680" y="1643040"/>
                    <a:ext cx="2357280" cy="27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4"/>
          <p:cNvGraphicFramePr/>
          <p:nvPr/>
        </p:nvGraphicFramePr>
        <p:xfrm>
          <a:off x="4857840" y="1785960"/>
          <a:ext cx="2292120" cy="2571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7840" y="1785960"/>
                    <a:ext cx="22921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6"/>
          <p:cNvGraphicFramePr/>
          <p:nvPr/>
        </p:nvGraphicFramePr>
        <p:xfrm>
          <a:off x="5715000" y="4429080"/>
          <a:ext cx="2212920" cy="2428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6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4429080"/>
                    <a:ext cx="221292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heel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Скругленный прямоугольник 4"/>
          <p:cNvSpPr/>
          <p:nvPr/>
        </p:nvSpPr>
        <p:spPr>
          <a:xfrm>
            <a:off x="571680" y="3429000"/>
            <a:ext cx="1928520" cy="571680"/>
          </a:xfrm>
          <a:prstGeom prst="roundRect">
            <a:avLst>
              <a:gd name="adj" fmla="val 16667"/>
            </a:avLst>
          </a:prstGeom>
          <a:solidFill>
            <a:srgbClr val="ff7d7d"/>
          </a:solidFill>
          <a:ln w="25560">
            <a:solidFill>
              <a:srgbClr val="ff7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№</a:t>
            </a:r>
            <a:r>
              <a:rPr b="0" lang="en-US" sz="17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4 Укажите область определения функции, график которой изображен на рисунке.</a:t>
            </a:r>
            <a:endParaRPr b="0" lang="en-US" sz="1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(-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;6]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[-1;6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[-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[-5;6]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2" descr="http://le-savchen.ucoz.ru/test/test_7/12_12.png"/>
          <p:cNvPicPr/>
          <p:nvPr/>
        </p:nvPicPr>
        <p:blipFill>
          <a:blip r:embed="rId1"/>
          <a:stretch/>
        </p:blipFill>
        <p:spPr>
          <a:xfrm>
            <a:off x="3500280" y="2071800"/>
            <a:ext cx="399744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Упражнения на закреплени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№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Найти значение коэффициентов а и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квадратичной функции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=ax+bx-5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, если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(-1) = 0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(1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= 6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Решение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25"/>
              </a:spcBef>
              <a:buClr>
                <a:srgbClr val="006666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одставляем в уравнения значения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, получится система уравнений относительно а и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 – b – 5= 0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 + b - = 6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25"/>
              </a:spcBef>
              <a:buClr>
                <a:srgbClr val="006666"/>
              </a:buClr>
              <a:buSzPct val="70000"/>
              <a:buFont typeface="Verdan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Решаем систему 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 – b – 5= 0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 + b - = 6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Из первого выражения вычитаем второе, получаем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=3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 + b – 5= 6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одставляем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во второе выражение, получаем а = 8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Ответ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: а=8,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=3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Левая фигурная скобка 3"/>
          <p:cNvSpPr/>
          <p:nvPr/>
        </p:nvSpPr>
        <p:spPr>
          <a:xfrm>
            <a:off x="785880" y="3714840"/>
            <a:ext cx="142920" cy="57132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571320"/>
              <a:gd name="textAreaBottom" fmla="*/ 567720 h 57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5400" y="10800"/>
                  <a:pt x="0" y="10800"/>
                </a:cubicBezTo>
                <a:cubicBezTo>
                  <a:pt x="54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Левая фигурная скобка 4"/>
          <p:cNvSpPr/>
          <p:nvPr/>
        </p:nvSpPr>
        <p:spPr>
          <a:xfrm>
            <a:off x="785880" y="4643280"/>
            <a:ext cx="142920" cy="57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571680"/>
              <a:gd name="textAreaBottom" fmla="*/ 568080 h 57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5400" y="10800"/>
                  <a:pt x="0" y="10800"/>
                </a:cubicBezTo>
                <a:cubicBezTo>
                  <a:pt x="54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Левая фигурная скобка 5"/>
          <p:cNvSpPr/>
          <p:nvPr/>
        </p:nvSpPr>
        <p:spPr>
          <a:xfrm>
            <a:off x="714240" y="5643720"/>
            <a:ext cx="142920" cy="57132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571320"/>
              <a:gd name="textAreaBottom" fmla="*/ 567720 h 57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5400" y="10800"/>
                  <a:pt x="0" y="10800"/>
                </a:cubicBezTo>
                <a:cubicBezTo>
                  <a:pt x="54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значения коэффициентов а,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с, если известно, что график функции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ax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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bx + c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ит через точки (-1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3), (0;3)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;3)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тавим значения каждой точки в уравнение функции, получим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*(-1) + b*(-1) + c= -3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*0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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*0+c=3 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*2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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b*2+c=3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b + c+ -3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= 3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a + 2b + c = 3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я эту систему получим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= -2, b = 4, c = 3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= -2, b = 4, c = 3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Левая фигурная скобка 3"/>
          <p:cNvSpPr/>
          <p:nvPr/>
        </p:nvSpPr>
        <p:spPr>
          <a:xfrm>
            <a:off x="785880" y="3500280"/>
            <a:ext cx="142920" cy="85752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857520"/>
              <a:gd name="textAreaBottom" fmla="*/ 853920 h 857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5400" y="10800"/>
                  <a:pt x="0" y="10800"/>
                </a:cubicBezTo>
                <a:cubicBezTo>
                  <a:pt x="54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Левая фигурная скобка 4"/>
          <p:cNvSpPr/>
          <p:nvPr/>
        </p:nvSpPr>
        <p:spPr>
          <a:xfrm>
            <a:off x="714240" y="4500720"/>
            <a:ext cx="142920" cy="85716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857160"/>
              <a:gd name="textAreaBottom" fmla="*/ 853560 h 85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5400" y="10800"/>
                  <a:pt x="0" y="10800"/>
                </a:cubicBezTo>
                <a:cubicBezTo>
                  <a:pt x="54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21430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cc"/>
                </a:solidFill>
                <a:latin typeface="Arial"/>
              </a:rPr>
              <a:t>Спасибо за внимание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Цели  урока: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10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зировать  знания  учащихся  по  теме  «Функции  и  графики функции и их свойства»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lnSpc>
                <a:spcPct val="10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ть  умения  определять  функции по  заданным  формулам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lnSpc>
                <a:spcPct val="10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ть  умения  находить  соответствия   данных  графиков  функций  с  формулами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lnSpc>
                <a:spcPct val="10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ть  умения  учащихся  выполнять  построение  графиков  различных  функций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lnSpc>
                <a:spcPct val="10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 логическое  мышление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lnSpc>
                <a:spcPct val="10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0000"/>
                </a:solidFill>
                <a:latin typeface="Arial"/>
              </a:rPr>
              <a:t>ЛИНЕЙНАЯ ФУНКЦИЯ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66640" y="1752120"/>
            <a:ext cx="3005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y=kx+b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строения графика достаточно определить координаты двух точек графика и через них провести прямую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йства ( при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≠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≠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Ь ОПРЕДЕЛЕНИЯ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ЖЕСТВО ЗНАЧЕНИЙ при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&gt;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– возрастает, при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&lt;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– убывает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четная, ни нечетна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к функции – пряма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rcRect l="0" t="0" r="29703" b="31673"/>
          <a:stretch/>
        </p:blipFill>
        <p:spPr>
          <a:xfrm>
            <a:off x="3857760" y="2286000"/>
            <a:ext cx="5072040" cy="42861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00100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Частные случаи линейной функции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Содержимое 2"/>
          <p:cNvSpPr/>
          <p:nvPr/>
        </p:nvSpPr>
        <p:spPr>
          <a:xfrm>
            <a:off x="142920" y="1643040"/>
            <a:ext cx="26431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spcBef>
                <a:spcPts val="349"/>
              </a:spcBef>
              <a:buClr>
                <a:srgbClr val="99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Если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=0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то функция задается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=kx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графиком является прямая, проходящая через начало координат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349"/>
              </a:spcBef>
              <a:buClr>
                <a:srgbClr val="99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Если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k=0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то функция задается формулой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=b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. Графиком функции является прямая, параллельная оси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x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349"/>
              </a:spcBef>
              <a:buClr>
                <a:srgbClr val="99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Если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&gt;0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рафик находится выше оси О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349"/>
              </a:spcBef>
              <a:buClr>
                <a:srgbClr val="99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Если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&lt;0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рафик находится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иже оси О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349"/>
              </a:spcBef>
              <a:buClr>
                <a:srgbClr val="99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Если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k=0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=0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то график функции совпадает с осью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x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2943360" y="714240"/>
            <a:ext cx="6200640" cy="53913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Квадратичная функция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66640" y="1752120"/>
            <a:ext cx="364824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y=ax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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+bx+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строения графика необходимо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координаты вершины параболы и отметить ее в координатной плоскости. Координаты вершины параболы находятся по следующим формулам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 - b/2a; n=-b²+4ac/ 4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еще несколько точек, принадлежащих параболе. Если имеются нули квадратичной функции, то удобно построить их. Если функция не имеет нулей, то парабола не пересекается с ось О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ить отмеченные точки плавной линией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2" descr="C:\Documents and Settings\User\Рабочий стол\image004.jpg"/>
          <p:cNvPicPr/>
          <p:nvPr/>
        </p:nvPicPr>
        <p:blipFill>
          <a:blip r:embed="rId1"/>
          <a:srcRect l="0" t="0" r="64866" b="-881"/>
          <a:stretch/>
        </p:blipFill>
        <p:spPr>
          <a:xfrm>
            <a:off x="5643720" y="1571760"/>
            <a:ext cx="2214360" cy="511020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ая соединительная линия 6"/>
          <p:cNvSpPr/>
          <p:nvPr/>
        </p:nvSpPr>
        <p:spPr>
          <a:xfrm flipH="1" flipV="1">
            <a:off x="6357600" y="3857760"/>
            <a:ext cx="428760" cy="144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Прямая соединительная линия 8"/>
          <p:cNvSpPr/>
          <p:nvPr/>
        </p:nvSpPr>
        <p:spPr>
          <a:xfrm flipV="1">
            <a:off x="6786720" y="3573360"/>
            <a:ext cx="1440" cy="285840"/>
          </a:xfrm>
          <a:prstGeom prst="line">
            <a:avLst/>
          </a:prstGeom>
          <a:ln w="190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Прямоугольник 9"/>
          <p:cNvSpPr/>
          <p:nvPr/>
        </p:nvSpPr>
        <p:spPr>
          <a:xfrm>
            <a:off x="6574680" y="32860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Прямоугольник 10"/>
          <p:cNvSpPr/>
          <p:nvPr/>
        </p:nvSpPr>
        <p:spPr>
          <a:xfrm>
            <a:off x="6002640" y="364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320" y="857160"/>
            <a:ext cx="800100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СВОЙСТВА КВАДРАТИЧНОЙ ФУНКЦИИ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00040" y="1895040"/>
            <a:ext cx="806760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159120" indent="-15912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Ь ОПРЕДЕЛЕНИЯ: 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59120" indent="-15912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Ь ЗНАЧЕНИЙ: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 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&gt; 0 [-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(4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∞)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 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&lt; 0 (-∞ ;-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(4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59120" indent="-15912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НОСТЬ, НЕЧЕТНОСТЬ: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 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0,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функция четная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 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0,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функция ни четная, ни нечетная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59120" indent="-15912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ЛИ: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 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&gt; 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нуля: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-b- √D/2a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59120" indent="-159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2=-b+ √D/2a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 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нуль: 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-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(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 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&lt; 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лей нет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59120" indent="-15912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ЖУТКИ МОНОТОННОСТИ: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59120" indent="-159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0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ает при х с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-b/(2a); ∞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59120" indent="-159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ывает при х с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-b/(2a); ∞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59120" indent="-159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0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ает при х с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∞;-b/(2a)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59120" indent="-159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ывает при х с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∞;-b/(2a)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59120" indent="-159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cc"/>
                </a:solidFill>
                <a:latin typeface="Times New Roman"/>
                <a:ea typeface="Times New Roman"/>
              </a:rPr>
              <a:t>6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ЕМУМЫ: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 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&gt; 0 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i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-b/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i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-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(4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 ветвей параболы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 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&lt; 0 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-b/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-D/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Если 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0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 ветви направлены вверх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59120" indent="-159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0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 ветви направлены вниз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59120" indent="-159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2" descr="C:\Documents and Settings\User\Рабочий стол\image004.jpg"/>
          <p:cNvPicPr/>
          <p:nvPr/>
        </p:nvPicPr>
        <p:blipFill>
          <a:blip r:embed="rId1"/>
          <a:stretch/>
        </p:blipFill>
        <p:spPr>
          <a:xfrm>
            <a:off x="3857760" y="1857240"/>
            <a:ext cx="5286240" cy="4248360"/>
          </a:xfrm>
          <a:prstGeom prst="rect">
            <a:avLst/>
          </a:prstGeom>
          <a:ln w="0">
            <a:noFill/>
          </a:ln>
        </p:spPr>
      </p:pic>
      <p:sp>
        <p:nvSpPr>
          <p:cNvPr id="115" name="Левая фигурная скобка 4"/>
          <p:cNvSpPr/>
          <p:nvPr/>
        </p:nvSpPr>
        <p:spPr>
          <a:xfrm>
            <a:off x="1285920" y="5000760"/>
            <a:ext cx="117360" cy="571320"/>
          </a:xfrm>
          <a:custGeom>
            <a:avLst/>
            <a:gdLst>
              <a:gd name="textAreaLeft" fmla="*/ 74880 w 117360"/>
              <a:gd name="textAreaRight" fmla="*/ 117720 w 117360"/>
              <a:gd name="textAreaTop" fmla="*/ 2880 h 571320"/>
              <a:gd name="textAreaBottom" fmla="*/ 568440 h 57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5"/>
                  <a:pt x="10800" y="370"/>
                </a:cubicBezTo>
                <a:lnTo>
                  <a:pt x="10800" y="10430"/>
                </a:lnTo>
                <a:cubicBezTo>
                  <a:pt x="10800" y="10615"/>
                  <a:pt x="5400" y="10800"/>
                  <a:pt x="0" y="10800"/>
                </a:cubicBezTo>
                <a:cubicBezTo>
                  <a:pt x="5400" y="10800"/>
                  <a:pt x="10800" y="10985"/>
                  <a:pt x="10800" y="11170"/>
                </a:cubicBezTo>
                <a:lnTo>
                  <a:pt x="10800" y="21230"/>
                </a:lnTo>
                <a:cubicBezTo>
                  <a:pt x="10800" y="21415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Левая фигурная скобка 5"/>
          <p:cNvSpPr/>
          <p:nvPr/>
        </p:nvSpPr>
        <p:spPr>
          <a:xfrm>
            <a:off x="1214280" y="5500800"/>
            <a:ext cx="117720" cy="571320"/>
          </a:xfrm>
          <a:custGeom>
            <a:avLst/>
            <a:gdLst>
              <a:gd name="textAreaLeft" fmla="*/ 75240 w 117720"/>
              <a:gd name="textAreaRight" fmla="*/ 118080 w 117720"/>
              <a:gd name="textAreaTop" fmla="*/ 2880 h 571320"/>
              <a:gd name="textAreaBottom" fmla="*/ 568440 h 57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5"/>
                  <a:pt x="10800" y="370"/>
                </a:cubicBezTo>
                <a:lnTo>
                  <a:pt x="10800" y="10430"/>
                </a:lnTo>
                <a:cubicBezTo>
                  <a:pt x="10800" y="10615"/>
                  <a:pt x="5400" y="10800"/>
                  <a:pt x="0" y="10800"/>
                </a:cubicBezTo>
                <a:cubicBezTo>
                  <a:pt x="5400" y="10800"/>
                  <a:pt x="10800" y="10985"/>
                  <a:pt x="10800" y="11170"/>
                </a:cubicBezTo>
                <a:lnTo>
                  <a:pt x="10800" y="21230"/>
                </a:lnTo>
                <a:cubicBezTo>
                  <a:pt x="10800" y="21415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Степенная функция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 = x 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четном а.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&gt; 0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&lt; 0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ком функции является парабола, расположенная в положительной полуплоскости координат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йства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ь определения функции - промежуток (0; ∞+ 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ь значений функции - промежуток (0; ∞ +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любых 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график функции проходит через точку (1; 1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я возрастает в промежутке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0;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∞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∞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0]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бывает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оложным значениям аргумента соответствуют равные значения функци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2" descr="ctepen"/>
          <p:cNvPicPr/>
          <p:nvPr/>
        </p:nvPicPr>
        <p:blipFill>
          <a:blip r:embed="rId1"/>
          <a:stretch/>
        </p:blipFill>
        <p:spPr>
          <a:xfrm>
            <a:off x="3143160" y="4429080"/>
            <a:ext cx="1571760" cy="2428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ctepen_2"/>
          <p:cNvPicPr/>
          <p:nvPr/>
        </p:nvPicPr>
        <p:blipFill>
          <a:blip r:embed="rId2"/>
          <a:stretch/>
        </p:blipFill>
        <p:spPr>
          <a:xfrm>
            <a:off x="4857840" y="4457880"/>
            <a:ext cx="2428920" cy="2400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http://raal100.narod2.ru/algebra/stepennaya_funktsiya/Stepennaya_funkcciya.png?rand=71336294368816"/>
          <p:cNvPicPr/>
          <p:nvPr/>
        </p:nvPicPr>
        <p:blipFill>
          <a:blip r:embed="rId3"/>
          <a:srcRect l="0" t="11031" r="56737" b="0"/>
          <a:stretch/>
        </p:blipFill>
        <p:spPr>
          <a:xfrm>
            <a:off x="6715080" y="1285920"/>
            <a:ext cx="2230560" cy="22492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369800" y="1827360"/>
            <a:ext cx="444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ечетном 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ком функции является винтообразная кривая 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ь определения функции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ь значения функции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оложным значениям аргумента соответствуют противоположные значения функци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сей области определения функция возрастает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2" descr="http://raal100.narod2.ru/algebra/stepennaya_funktsiya/Stepennaya_funkcciya.png?rand=71336294368816"/>
          <p:cNvPicPr/>
          <p:nvPr/>
        </p:nvPicPr>
        <p:blipFill>
          <a:blip r:embed="rId1"/>
          <a:srcRect l="57703" t="11031" r="0" b="0"/>
          <a:stretch/>
        </p:blipFill>
        <p:spPr>
          <a:xfrm>
            <a:off x="5786280" y="2000160"/>
            <a:ext cx="2027520" cy="26431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Скругленный прямоугольник 9"/>
          <p:cNvSpPr/>
          <p:nvPr/>
        </p:nvSpPr>
        <p:spPr>
          <a:xfrm>
            <a:off x="714240" y="3214800"/>
            <a:ext cx="3857760" cy="714240"/>
          </a:xfrm>
          <a:prstGeom prst="roundRect">
            <a:avLst>
              <a:gd name="adj" fmla="val 16667"/>
            </a:avLst>
          </a:prstGeom>
          <a:solidFill>
            <a:srgbClr val="ff7d7d"/>
          </a:solidFill>
          <a:ln w="25560">
            <a:solidFill>
              <a:srgbClr val="ff3c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ТЕСТ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400" y="15714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1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№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 График какой из приведенных ниже функций изображен на рисунке?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1"/>
              <p:cNvSpPr txBox="1"/>
              <p:nvPr/>
            </p:nvSpPr>
            <p:spPr>
              <a:xfrm>
                <a:off x="853920" y="2286000"/>
                <a:ext cx="32004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2"/>
              <p:cNvSpPr txBox="1"/>
              <p:nvPr/>
            </p:nvSpPr>
            <p:spPr>
              <a:xfrm>
                <a:off x="793800" y="3222720"/>
                <a:ext cx="3647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3"/>
              <p:cNvSpPr txBox="1"/>
              <p:nvPr/>
            </p:nvSpPr>
            <p:spPr>
              <a:xfrm>
                <a:off x="803160" y="4086360"/>
                <a:ext cx="37180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4"/>
              <p:cNvSpPr txBox="1"/>
              <p:nvPr/>
            </p:nvSpPr>
            <p:spPr>
              <a:xfrm>
                <a:off x="880920" y="5022720"/>
                <a:ext cx="364032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2" name="Object 5"/>
          <p:cNvGraphicFramePr/>
          <p:nvPr/>
        </p:nvGraphicFramePr>
        <p:xfrm>
          <a:off x="5286240" y="2319480"/>
          <a:ext cx="3073680" cy="45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6240" y="2319480"/>
                    <a:ext cx="3073680" cy="45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16:01:51Z</dcterms:created>
  <dc:creator>Customer</dc:creator>
  <dc:description/>
  <dc:language>en-US</dc:language>
  <cp:lastModifiedBy>Admin</cp:lastModifiedBy>
  <dcterms:modified xsi:type="dcterms:W3CDTF">2024-06-26T09:34:08Z</dcterms:modified>
  <cp:revision>45</cp:revision>
  <dc:subject/>
  <dc:title>Слайд 1</dc:title>
</cp:coreProperties>
</file>