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826-AAD9-4928-811D-EC97A54A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63E-7834-4148-9A6D-B0607E6A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921-8CA8-4474-8DFB-38393CAB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450-8D8F-447B-9E86-3F04649C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330-D454-4601-B105-F5E85AA0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4D6-14E5-48B3-8325-E2EE3794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8D3-05C0-4D10-AF1F-9DF9B974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245-3EE4-4835-BDA6-BA38F409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5BD-0ADE-4F4C-8DBD-F4EFFE8C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676-DEA0-4921-9694-47D1D429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0D1-1DEF-4BC0-9D45-E7D5C358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576-144A-405D-ADB6-28D8556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878D-DF3F-4806-B777-D73BAD107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85988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Окружающий   мир </a:t>
            </a:r>
            <a:br>
              <a:rPr sz="4400"/>
            </a:b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2  класс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2492280"/>
            <a:ext cx="77868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езентацию подготовила уче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 «А» класса МБОУ «СОШ №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. Сосновый Б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ретьяков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уководитель проек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  Коломиец Людмил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igr_dikii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660480" y="3800160"/>
            <a:ext cx="54831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грица — заботливая мать. Пока тигрята совсем маленькие, мать к ним близко не подпускает отца. Но позднее, возможно, тигр время от времени приходит к своему семейству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igr_dikii20"/>
          <p:cNvPicPr/>
          <p:nvPr/>
        </p:nvPicPr>
        <p:blipFill>
          <a:blip r:embed="rId1"/>
          <a:stretch/>
        </p:blipFill>
        <p:spPr>
          <a:xfrm>
            <a:off x="0" y="0"/>
            <a:ext cx="4962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tigr_dikii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589200" y="3800160"/>
            <a:ext cx="55548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гры охотятся исключительно в одиночку, используя два приёма охоты: подкрадывание к добыче и ожидание её в засаде. Первый приём чаще используется тиграми зимой, второй — летом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tigr_dikii24"/>
          <p:cNvPicPr/>
          <p:nvPr/>
        </p:nvPicPr>
        <p:blipFill>
          <a:blip r:embed="rId1"/>
          <a:stretch/>
        </p:blipFill>
        <p:spPr>
          <a:xfrm>
            <a:off x="0" y="0"/>
            <a:ext cx="514836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115640" y="3212640"/>
            <a:ext cx="670716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гры обычно выслеживают и поджидают добычу на тропах и возле водопоев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ледив животное, тигр подкрадывается к нему с подветренной стороны. При этом он перемещается короткими осторожными шагами, часто припадая к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мотря на большую массу тела, тигр может развить скорость до 60 км/ч практически на любой местности. Во время охоты тигр способен прыгать на высоту до 5  м и на 10 м в дл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igr_dikii03"/>
          <p:cNvPicPr/>
          <p:nvPr/>
        </p:nvPicPr>
        <p:blipFill>
          <a:blip r:embed="rId1"/>
          <a:stretch/>
        </p:blipFill>
        <p:spPr>
          <a:xfrm>
            <a:off x="2627280" y="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3068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егодня осталось несколько подвидов тиг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igr_dikii27"/>
          <p:cNvPicPr/>
          <p:nvPr/>
        </p:nvPicPr>
        <p:blipFill>
          <a:blip r:embed="rId1"/>
          <a:stretch/>
        </p:blipFill>
        <p:spPr>
          <a:xfrm>
            <a:off x="0" y="0"/>
            <a:ext cx="4438800" cy="2852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tigr_dikii31"/>
          <p:cNvPicPr/>
          <p:nvPr/>
        </p:nvPicPr>
        <p:blipFill>
          <a:blip r:embed="rId2"/>
          <a:stretch/>
        </p:blipFill>
        <p:spPr>
          <a:xfrm>
            <a:off x="4397400" y="0"/>
            <a:ext cx="4746600" cy="2852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4578480" y="4221000"/>
            <a:ext cx="4065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нгальский тигр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окитайский тигр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алайский т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атранский тигр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жно-китайский тиг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tigr_dikii35"/>
          <p:cNvPicPr/>
          <p:nvPr/>
        </p:nvPicPr>
        <p:blipFill>
          <a:blip r:embed="rId3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81471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годня охота на тигров запрещена во всём мире. Этот вид находится на грани вымирания и занесён в Международную Красную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tigr_dikii40"/>
          <p:cNvPicPr/>
          <p:nvPr/>
        </p:nvPicPr>
        <p:blipFill>
          <a:blip r:embed="rId1"/>
          <a:stretch/>
        </p:blipFill>
        <p:spPr>
          <a:xfrm>
            <a:off x="0" y="0"/>
            <a:ext cx="3924360" cy="324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tigr_dikii47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3105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5660640"/>
            <a:ext cx="57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словиях дикой природы тигр живет 16-18 лет. В зоопарках тигры живут в среднем 20-25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tigr_dikii01"/>
          <p:cNvPicPr/>
          <p:nvPr/>
        </p:nvPicPr>
        <p:blipFill>
          <a:blip r:embed="rId1"/>
          <a:stretch/>
        </p:blipFill>
        <p:spPr>
          <a:xfrm>
            <a:off x="1258920" y="1700280"/>
            <a:ext cx="6551640" cy="491328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476360" y="-316080"/>
            <a:ext cx="66247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гр - самая больш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шка на земл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tigr_dikii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5327640" y="18648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гр является одним из крупнейших наземных хищников, уступая по массе лишь белому и бурому медведям. 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igr_dikii04"/>
          <p:cNvPicPr/>
          <p:nvPr/>
        </p:nvPicPr>
        <p:blipFill>
          <a:blip r:embed="rId1"/>
          <a:stretch/>
        </p:blipFill>
        <p:spPr>
          <a:xfrm>
            <a:off x="0" y="2565360"/>
            <a:ext cx="5724360" cy="429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атая шкура тигра служит для  его маскировки  при охоте в лесах и кустарниках. Окраска тигра позволяет ему оставаться незамеченным в зарослях. Интересно, что полосатый рисунок присутствует не только на шкуре, но и на коже тигра, и, если сбрить мех, то на тёмных полосах отрастает тёмная шерсть, и рисунок полностью восстанавливаетс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tigr_dikii41"/>
          <p:cNvPicPr/>
          <p:nvPr/>
        </p:nvPicPr>
        <p:blipFill>
          <a:blip r:embed="rId1"/>
          <a:stretch/>
        </p:blipFill>
        <p:spPr>
          <a:xfrm>
            <a:off x="0" y="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50920" y="462744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 и расстояние между полосками отличается у различных подвидов, но большинство тигров имеет более чем 100 полос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ожение полос является уникальным у каждого отдельного животного, и, таким образом,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о для идентификации отдельных особей, аналогично отпечаткам пальцев у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435640" y="691920"/>
            <a:ext cx="328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деревья взрослые тигры не лазают, хотя тигрята и молодые особи могут играть и отдыхать на деревьях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tigr_dikii05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11640" y="836280"/>
            <a:ext cx="446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вуки, которые издаёт тиг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176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игр, благодаря строению гортани и голосовых связок, способен издавать рёв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игр рычит во время драки или издает победное рычание после удачной охот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и встрече с человеком или соперником тигр шипит или угрожающе урчит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и нападении тигр фыркает подобно домашней кошк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аскаясь, тигр нежно урчит, иногда переходя на мяукан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tigr_dikii06"/>
          <p:cNvPicPr/>
          <p:nvPr/>
        </p:nvPicPr>
        <p:blipFill>
          <a:blip r:embed="rId1"/>
          <a:stretch/>
        </p:blipFill>
        <p:spPr>
          <a:xfrm>
            <a:off x="0" y="0"/>
            <a:ext cx="4067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гр - единственная кошка, которая любит пла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ошки умеют плавать, хотя в подавляющем большинстве предпочитают держаться от воды подальше и подходят к ней, только чтобы напиться. Тигры обитают в густых лесах и часто селятся около воды. Ни река, ни озеро не являются преградой для тигра, который не испытывает страха перед глубокой или текущей водой. Тигры хорошо плавают и, не раздумывая, бросаются в воду за добы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tigr_dikii13"/>
          <p:cNvPicPr/>
          <p:nvPr/>
        </p:nvPicPr>
        <p:blipFill>
          <a:blip r:embed="rId1"/>
          <a:stretch/>
        </p:blipFill>
        <p:spPr>
          <a:xfrm>
            <a:off x="5219640" y="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tigr_dikii18"/>
          <p:cNvPicPr/>
          <p:nvPr/>
        </p:nvPicPr>
        <p:blipFill>
          <a:blip r:embed="rId2"/>
          <a:stretch/>
        </p:blipFill>
        <p:spPr>
          <a:xfrm>
            <a:off x="5364000" y="3645000"/>
            <a:ext cx="3780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igr_dikii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8:14:16Z</dcterms:created>
  <dc:creator>1</dc:creator>
  <dc:description/>
  <dc:language>en-US</dc:language>
  <cp:lastModifiedBy>Боголеева Ирина Анатольевна</cp:lastModifiedBy>
  <dcterms:modified xsi:type="dcterms:W3CDTF">2024-06-26T09:10:20Z</dcterms:modified>
  <cp:revision>5</cp:revision>
  <dc:subject/>
  <dc:title>Слайд 1</dc:title>
</cp:coreProperties>
</file>