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B537-F9D5-4DED-AD3F-6E348A43E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98CD-9F3D-4E2E-A466-3A45FFB8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94FB-CAD5-407F-89B2-0E9697562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0304-A445-4058-B170-0233F1112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B271-AF9D-4F34-ABF6-7EEFC083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598D-430D-40DD-9F01-3F736756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D77D-ED63-4AA5-9C56-3B7A47F3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AFCA-4979-4721-8467-E61BED64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B431-C71B-411C-B5F5-FD94BDE3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BFC6-A06D-40E3-B06C-49FC4C39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BF46-4C06-4ED3-800C-1D18BDA3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16DF-930F-48CC-B703-340CABA0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48EE-EE4B-42A0-9B5F-74CB9C6122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859880" cy="324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Окружающий   мир </a:t>
            </a:r>
            <a:br>
              <a:rPr sz="4400"/>
            </a:b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2  класс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00000" y="2492280"/>
            <a:ext cx="77868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резентацию подготовила учениц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2 «А» класса МБОУ «СОШ №6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г. Сосновый Б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Третьякова Ма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Руководитель проект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учитель  Коломиец Людмила Васи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tigr_dikii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660480" y="3800160"/>
            <a:ext cx="548316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игрица — заботливая мать. Пока тигрята совсем маленькие, мать к ним близко не подпускает отца. Но позднее, возможно, тигр время от времени приходит к своему семейству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tigr_dikii20"/>
          <p:cNvPicPr/>
          <p:nvPr/>
        </p:nvPicPr>
        <p:blipFill>
          <a:blip r:embed="rId1"/>
          <a:stretch/>
        </p:blipFill>
        <p:spPr>
          <a:xfrm>
            <a:off x="0" y="0"/>
            <a:ext cx="49626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tigr_dikii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589200" y="3800160"/>
            <a:ext cx="55548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игры охотятся исключительно в одиночку, используя два приёма охоты: подкрадывание к добыче и ожидание её в засаде. Первый приём чаще используется тиграми зимой, второй — летом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tigr_dikii24"/>
          <p:cNvPicPr/>
          <p:nvPr/>
        </p:nvPicPr>
        <p:blipFill>
          <a:blip r:embed="rId1"/>
          <a:stretch/>
        </p:blipFill>
        <p:spPr>
          <a:xfrm>
            <a:off x="0" y="0"/>
            <a:ext cx="514836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115640" y="3212640"/>
            <a:ext cx="670716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гры обычно выслеживают и поджидают добычу на тропах и возле водопоев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ледив животное, тигр подкрадывается к нему с подветренной стороны. При этом он перемещается короткими осторожными шагами, часто припадая к зем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смотря на большую массу тела, тигр может развить скорость до 60 км/ч практически на любой местности. Во время охоты тигр способен прыгать на высоту до 5  м и на 10 м в дли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tigr_dikii03"/>
          <p:cNvPicPr/>
          <p:nvPr/>
        </p:nvPicPr>
        <p:blipFill>
          <a:blip r:embed="rId1"/>
          <a:stretch/>
        </p:blipFill>
        <p:spPr>
          <a:xfrm>
            <a:off x="2627280" y="0"/>
            <a:ext cx="421164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3068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сегодня осталось несколько подвидов тигр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tigr_dikii27"/>
          <p:cNvPicPr/>
          <p:nvPr/>
        </p:nvPicPr>
        <p:blipFill>
          <a:blip r:embed="rId1"/>
          <a:stretch/>
        </p:blipFill>
        <p:spPr>
          <a:xfrm>
            <a:off x="0" y="0"/>
            <a:ext cx="4438800" cy="2852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tigr_dikii31"/>
          <p:cNvPicPr/>
          <p:nvPr/>
        </p:nvPicPr>
        <p:blipFill>
          <a:blip r:embed="rId2"/>
          <a:stretch/>
        </p:blipFill>
        <p:spPr>
          <a:xfrm>
            <a:off x="4397400" y="0"/>
            <a:ext cx="4746600" cy="28526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4578480" y="4221000"/>
            <a:ext cx="4065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нгальский тигр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окитайский тигр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Малайский тиг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матранский тигр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Южно-китайский тиг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tigr_dikii35"/>
          <p:cNvPicPr/>
          <p:nvPr/>
        </p:nvPicPr>
        <p:blipFill>
          <a:blip r:embed="rId3"/>
          <a:stretch/>
        </p:blipFill>
        <p:spPr>
          <a:xfrm>
            <a:off x="0" y="400068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6840" y="3429000"/>
            <a:ext cx="814716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годня охота на тигров запрещена во всём мире. Этот вид находится на грани вымирания и занесён в Международную Красную кни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tigr_dikii40"/>
          <p:cNvPicPr/>
          <p:nvPr/>
        </p:nvPicPr>
        <p:blipFill>
          <a:blip r:embed="rId1"/>
          <a:stretch/>
        </p:blipFill>
        <p:spPr>
          <a:xfrm>
            <a:off x="0" y="0"/>
            <a:ext cx="3924360" cy="3243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tigr_dikii47"/>
          <p:cNvPicPr/>
          <p:nvPr/>
        </p:nvPicPr>
        <p:blipFill>
          <a:blip r:embed="rId2"/>
          <a:stretch/>
        </p:blipFill>
        <p:spPr>
          <a:xfrm>
            <a:off x="5003640" y="0"/>
            <a:ext cx="4140360" cy="3105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0" y="5660640"/>
            <a:ext cx="577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условиях дикой природы тигр живет 16-18 лет. В зоопарках тигры живут в среднем 20-25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tigr_dikii01"/>
          <p:cNvPicPr/>
          <p:nvPr/>
        </p:nvPicPr>
        <p:blipFill>
          <a:blip r:embed="rId1"/>
          <a:stretch/>
        </p:blipFill>
        <p:spPr>
          <a:xfrm>
            <a:off x="1258920" y="1700280"/>
            <a:ext cx="6551640" cy="4913280"/>
          </a:xfrm>
          <a:prstGeom prst="rect">
            <a:avLst/>
          </a:prstGeom>
          <a:ln w="0">
            <a:noFill/>
          </a:ln>
        </p:spPr>
      </p:pic>
      <p:sp>
        <p:nvSpPr>
          <p:cNvPr id="45" name="WordArt 5"/>
          <p:cNvSpPr txBox="1"/>
          <p:nvPr/>
        </p:nvSpPr>
        <p:spPr>
          <a:xfrm>
            <a:off x="1476360" y="-316080"/>
            <a:ext cx="662472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игр - самая больша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шка на земл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tigr_dikii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5327640" y="186480"/>
            <a:ext cx="381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игр является одним из крупнейших наземных хищников, уступая по массе лишь белому и бурому медведям. </a:t>
            </a:r>
            <a:br>
              <a:rPr sz="2400"/>
            </a:b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tigr_dikii04"/>
          <p:cNvPicPr/>
          <p:nvPr/>
        </p:nvPicPr>
        <p:blipFill>
          <a:blip r:embed="rId1"/>
          <a:stretch/>
        </p:blipFill>
        <p:spPr>
          <a:xfrm>
            <a:off x="0" y="2565360"/>
            <a:ext cx="5724360" cy="4292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сатая шкура тигра служит для  его маскировки  при охоте в лесах и кустарниках. Окраска тигра позволяет ему оставаться незамеченным в зарослях. Интересно, что полосатый рисунок присутствует не только на шкуре, но и на коже тигра, и, если сбрить мех, то на тёмных полосах отрастает тёмная шерсть, и рисунок полностью восстанавливается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tigr_dikii41"/>
          <p:cNvPicPr/>
          <p:nvPr/>
        </p:nvPicPr>
        <p:blipFill>
          <a:blip r:embed="rId1"/>
          <a:stretch/>
        </p:blipFill>
        <p:spPr>
          <a:xfrm>
            <a:off x="0" y="0"/>
            <a:ext cx="9144000" cy="40766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250920" y="4627440"/>
            <a:ext cx="85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а и расстояние между полосками отличается у различных подвидов, но большинство тигров имеет более чем 100 полос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оложение полос является уникальным у каждого отдельного животного, и, таким образом, может быть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овано для идентификации отдельных особей, аналогично отпечаткам пальцев у люд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435640" y="691920"/>
            <a:ext cx="3286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деревья взрослые тигры не лазают, хотя тигрята и молодые особи могут играть и отдыхать на деревьях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tigr_dikii05"/>
          <p:cNvPicPr/>
          <p:nvPr/>
        </p:nvPicPr>
        <p:blipFill>
          <a:blip r:embed="rId1"/>
          <a:stretch/>
        </p:blipFill>
        <p:spPr>
          <a:xfrm>
            <a:off x="0" y="0"/>
            <a:ext cx="500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11640" y="836280"/>
            <a:ext cx="4464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вуки, которые издаёт тигр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780000" y="2060640"/>
            <a:ext cx="417672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тигр, благодаря строению гортани и голосовых связок, способен издавать рёв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тигр рычит во время драки или издает победное рычание после удачной охоты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ри встрече с человеком или соперником тигр шипит или угрожающе урчит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ри нападении тигр фыркает подобно домашней кошке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ласкаясь, тигр нежно урчит, иногда переходя на мяукань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tigr_dikii06"/>
          <p:cNvPicPr/>
          <p:nvPr/>
        </p:nvPicPr>
        <p:blipFill>
          <a:blip r:embed="rId1"/>
          <a:stretch/>
        </p:blipFill>
        <p:spPr>
          <a:xfrm>
            <a:off x="0" y="0"/>
            <a:ext cx="4067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игр - единственная кошка, которая любит плава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кошки умеют плавать, хотя в подавляющем большинстве предпочитают держаться от воды подальше и подходят к ней, только чтобы напиться. Тигры обитают в густых лесах и часто селятся около воды. Ни река, ни озеро не являются преградой для тигра, который не испытывает страха перед глубокой или текущей водой. Тигры хорошо плавают и, не раздумывая, бросаются в воду за добыч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tigr_dikii13"/>
          <p:cNvPicPr/>
          <p:nvPr/>
        </p:nvPicPr>
        <p:blipFill>
          <a:blip r:embed="rId1"/>
          <a:stretch/>
        </p:blipFill>
        <p:spPr>
          <a:xfrm>
            <a:off x="5219640" y="0"/>
            <a:ext cx="3780000" cy="2835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tigr_dikii18"/>
          <p:cNvPicPr/>
          <p:nvPr/>
        </p:nvPicPr>
        <p:blipFill>
          <a:blip r:embed="rId2"/>
          <a:stretch/>
        </p:blipFill>
        <p:spPr>
          <a:xfrm>
            <a:off x="5364000" y="3645000"/>
            <a:ext cx="378000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tigr_dikii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0T08:14:16Z</dcterms:created>
  <dc:creator>1</dc:creator>
  <dc:description/>
  <dc:language>en-US</dc:language>
  <cp:lastModifiedBy>Боголеева Ирина Анатольевна</cp:lastModifiedBy>
  <dcterms:modified xsi:type="dcterms:W3CDTF">2024-06-26T09:10:20Z</dcterms:modified>
  <cp:revision>5</cp:revision>
  <dc:subject/>
  <dc:title>Слайд 1</dc:title>
</cp:coreProperties>
</file>