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462-C4B3-43EB-820E-860D787D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633-7EEA-4DD0-AE51-897C49D1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3EE-DB21-483D-843D-75C27EA1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B7D-6268-469D-88E9-A71100C0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FE2F-8117-45FC-835B-2EBE015B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EE2-B5F7-4E6E-8B5A-9E85FC95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0B0-B392-4163-9389-969A6E4F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2021-C86C-4ACC-AE3B-7CF70686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67EF-48DD-4560-B670-34831B66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3AB3-478D-4AAD-BB94-58C189F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2838-C990-46C6-8C78-AE5BA1A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3C8-166E-422E-A670-BB69DE2B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13E-DC85-4DA3-97D2-0D89AC08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94CC-4128-47B7-89BD-AABD093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FE1-6E55-408E-BF2A-B222D558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4976-1EC7-47E2-900B-83653F4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F0B7-EDD6-4595-8452-A65AEBD8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BFE-4550-4650-85A7-5F95243C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DCC-4C64-4F05-9E27-58076BD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365-9595-404B-B0EF-EBEFBA9D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8C5-50CF-4BA2-9D18-9AA5DB4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A3E-16D3-4056-8680-DBD5D20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D92-0A16-4F2B-AF76-6BB2C89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09B-03D1-4083-A948-CE0D6E7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F6B-193A-4D90-A4BB-01A4D9DAB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71C-0ED9-4E5B-893F-8657DF59AC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6760" y="333360"/>
            <a:ext cx="638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  Л  Г  Е  Б  Р  А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К  Л  А  С 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484280"/>
            <a:ext cx="66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ение, обобщение и систематизация знаний. Графическое решение уравнений и их систе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27852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84720" y="10526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84720" y="34275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8472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667720" y="774720"/>
            <a:ext cx="11160" cy="2652840"/>
          </a:xfrm>
          <a:custGeom>
            <a:avLst/>
            <a:gdLst/>
            <a:ahLst/>
            <a:rect l="l" t="t" r="r" b="b"/>
            <a:pathLst>
              <a:path w="7" h="1671">
                <a:moveTo>
                  <a:pt x="0" y="0"/>
                </a:moveTo>
                <a:lnTo>
                  <a:pt x="7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84720" y="1316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4536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03840" y="774720"/>
            <a:ext cx="180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1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64480" y="774720"/>
            <a:ext cx="144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0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112160" y="768240"/>
            <a:ext cx="10800" cy="2659320"/>
          </a:xfrm>
          <a:custGeom>
            <a:avLst/>
            <a:gdLst/>
            <a:ahLst/>
            <a:rect l="l" t="t" r="r" b="b"/>
            <a:pathLst>
              <a:path w="7" h="1675">
                <a:moveTo>
                  <a:pt x="0" y="0"/>
                </a:moveTo>
                <a:lnTo>
                  <a:pt x="7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8180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39200" y="774720"/>
            <a:ext cx="2880" cy="2652840"/>
          </a:xfrm>
          <a:custGeom>
            <a:avLst/>
            <a:gdLst/>
            <a:ahLst/>
            <a:rect l="l" t="t" r="r" b="b"/>
            <a:pathLst>
              <a:path w="2" h="1671">
                <a:moveTo>
                  <a:pt x="0" y="0"/>
                </a:moveTo>
                <a:lnTo>
                  <a:pt x="2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893000" y="755640"/>
            <a:ext cx="9720" cy="2671920"/>
          </a:xfrm>
          <a:custGeom>
            <a:avLst/>
            <a:gdLst/>
            <a:ahLst/>
            <a:rect l="l" t="t" r="r" b="b"/>
            <a:pathLst>
              <a:path w="6" h="1683">
                <a:moveTo>
                  <a:pt x="0" y="0"/>
                </a:moveTo>
                <a:lnTo>
                  <a:pt x="6" y="168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153280" y="768240"/>
            <a:ext cx="6480" cy="2659320"/>
          </a:xfrm>
          <a:custGeom>
            <a:avLst/>
            <a:gdLst/>
            <a:ahLst/>
            <a:rect l="l" t="t" r="r" b="b"/>
            <a:pathLst>
              <a:path w="4" h="1675">
                <a:moveTo>
                  <a:pt x="0" y="0"/>
                </a:moveTo>
                <a:lnTo>
                  <a:pt x="4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413920" y="762120"/>
            <a:ext cx="6120" cy="2665440"/>
          </a:xfrm>
          <a:custGeom>
            <a:avLst/>
            <a:gdLst/>
            <a:ahLst/>
            <a:rect l="l" t="t" r="r" b="b"/>
            <a:pathLst>
              <a:path w="4" h="1679">
                <a:moveTo>
                  <a:pt x="0" y="0"/>
                </a:moveTo>
                <a:lnTo>
                  <a:pt x="4" y="167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84720" y="1579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84720" y="18432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84720" y="2108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84720" y="2371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4720" y="26370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4720" y="290052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84720" y="263700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381800" y="755640"/>
            <a:ext cx="3240" cy="2673360"/>
          </a:xfrm>
          <a:custGeom>
            <a:avLst/>
            <a:gdLst/>
            <a:ahLst/>
            <a:rect l="l" t="t" r="r" b="b"/>
            <a:pathLst>
              <a:path w="2" h="1684">
                <a:moveTo>
                  <a:pt x="0" y="1684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7164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71640" y="213372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31840" y="2133720"/>
                <a:ext cx="2079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2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803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827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336760" y="5168880"/>
            <a:ext cx="2692440" cy="1440"/>
          </a:xfrm>
          <a:custGeom>
            <a:avLst/>
            <a:gdLst/>
            <a:ahLst/>
            <a:rect l="l" t="t" r="r" b="b"/>
            <a:pathLst>
              <a:path w="1696" h="1">
                <a:moveTo>
                  <a:pt x="0" y="0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40000" y="11253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340000" y="3500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336760" y="863640"/>
            <a:ext cx="4680" cy="2636640"/>
          </a:xfrm>
          <a:custGeom>
            <a:avLst/>
            <a:gdLst/>
            <a:ahLst/>
            <a:rect l="l" t="t" r="r" b="b"/>
            <a:pathLst>
              <a:path w="3" h="1661">
                <a:moveTo>
                  <a:pt x="0" y="0"/>
                </a:moveTo>
                <a:lnTo>
                  <a:pt x="3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933800" y="812880"/>
            <a:ext cx="6480" cy="2687400"/>
          </a:xfrm>
          <a:custGeom>
            <a:avLst/>
            <a:gdLst/>
            <a:ahLst/>
            <a:rect l="l" t="t" r="r" b="b"/>
            <a:pathLst>
              <a:path w="4" h="1693">
                <a:moveTo>
                  <a:pt x="4" y="0"/>
                </a:moveTo>
                <a:lnTo>
                  <a:pt x="0" y="169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340000" y="1389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90920" y="863640"/>
            <a:ext cx="11160" cy="2636640"/>
          </a:xfrm>
          <a:custGeom>
            <a:avLst/>
            <a:gdLst/>
            <a:ahLst/>
            <a:rect l="l" t="t" r="r" b="b"/>
            <a:pathLst>
              <a:path w="7" h="1661">
                <a:moveTo>
                  <a:pt x="0" y="0"/>
                </a:moveTo>
                <a:lnTo>
                  <a:pt x="7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857680" y="870120"/>
            <a:ext cx="2880" cy="2630160"/>
          </a:xfrm>
          <a:custGeom>
            <a:avLst/>
            <a:gdLst/>
            <a:ahLst/>
            <a:rect l="l" t="t" r="r" b="b"/>
            <a:pathLst>
              <a:path w="2" h="1657">
                <a:moveTo>
                  <a:pt x="0" y="0"/>
                </a:moveTo>
                <a:lnTo>
                  <a:pt x="2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1480" y="863640"/>
            <a:ext cx="7920" cy="2636640"/>
          </a:xfrm>
          <a:custGeom>
            <a:avLst/>
            <a:gdLst/>
            <a:ahLst/>
            <a:rect l="l" t="t" r="r" b="b"/>
            <a:pathLst>
              <a:path w="5" h="1661">
                <a:moveTo>
                  <a:pt x="0" y="0"/>
                </a:moveTo>
                <a:lnTo>
                  <a:pt x="5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371760" y="857160"/>
            <a:ext cx="6480" cy="2643120"/>
          </a:xfrm>
          <a:custGeom>
            <a:avLst/>
            <a:gdLst/>
            <a:ahLst/>
            <a:rect l="l" t="t" r="r" b="b"/>
            <a:pathLst>
              <a:path w="4" h="1665">
                <a:moveTo>
                  <a:pt x="0" y="0"/>
                </a:moveTo>
                <a:lnTo>
                  <a:pt x="4" y="166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37080" y="112536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70120"/>
            <a:ext cx="11160" cy="2630160"/>
          </a:xfrm>
          <a:custGeom>
            <a:avLst/>
            <a:gdLst/>
            <a:ahLst/>
            <a:rect l="l" t="t" r="r" b="b"/>
            <a:pathLst>
              <a:path w="7" h="1657">
                <a:moveTo>
                  <a:pt x="0" y="0"/>
                </a:moveTo>
                <a:lnTo>
                  <a:pt x="7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152960" y="844560"/>
            <a:ext cx="4680" cy="2655720"/>
          </a:xfrm>
          <a:custGeom>
            <a:avLst/>
            <a:gdLst/>
            <a:ahLst/>
            <a:rect l="l" t="t" r="r" b="b"/>
            <a:pathLst>
              <a:path w="3" h="1673">
                <a:moveTo>
                  <a:pt x="0" y="0"/>
                </a:moveTo>
                <a:lnTo>
                  <a:pt x="3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06760" y="844560"/>
            <a:ext cx="7920" cy="2655720"/>
          </a:xfrm>
          <a:custGeom>
            <a:avLst/>
            <a:gdLst/>
            <a:ahLst/>
            <a:rect l="l" t="t" r="r" b="b"/>
            <a:pathLst>
              <a:path w="5" h="1673">
                <a:moveTo>
                  <a:pt x="0" y="0"/>
                </a:moveTo>
                <a:lnTo>
                  <a:pt x="5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60920" y="851040"/>
            <a:ext cx="14400" cy="2649240"/>
          </a:xfrm>
          <a:custGeom>
            <a:avLst/>
            <a:gdLst/>
            <a:ahLst/>
            <a:rect l="l" t="t" r="r" b="b"/>
            <a:pathLst>
              <a:path w="9" h="1669">
                <a:moveTo>
                  <a:pt x="0" y="0"/>
                </a:moveTo>
                <a:lnTo>
                  <a:pt x="9" y="166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340000" y="1652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40000" y="1916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340000" y="2181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444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40000" y="270972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340000" y="2973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40000" y="3236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36760" y="2171880"/>
            <a:ext cx="2603520" cy="12600"/>
          </a:xfrm>
          <a:custGeom>
            <a:avLst/>
            <a:gdLst/>
            <a:ahLst/>
            <a:rect l="l" t="t" r="r" b="b"/>
            <a:pathLst>
              <a:path w="1640" h="8">
                <a:moveTo>
                  <a:pt x="0" y="8"/>
                </a:moveTo>
                <a:lnTo>
                  <a:pt x="16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32040" y="774720"/>
            <a:ext cx="5040" cy="2727360"/>
          </a:xfrm>
          <a:custGeom>
            <a:avLst/>
            <a:gdLst/>
            <a:ahLst/>
            <a:rect l="l" t="t" r="r" b="b"/>
            <a:pathLst>
              <a:path w="3" h="1718">
                <a:moveTo>
                  <a:pt x="3" y="171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340000" y="386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084720" y="76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83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88000" y="189000"/>
            <a:ext cx="2340000" cy="503280"/>
          </a:xfrm>
          <a:prstGeom prst="wedgeEllipseCallout">
            <a:avLst>
              <a:gd name="adj1" fmla="val -66212"/>
              <a:gd name="adj2" fmla="val 11498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5280" y="5661000"/>
            <a:ext cx="1800360" cy="576360"/>
          </a:xfrm>
          <a:prstGeom prst="wedgeEllipseCallout">
            <a:avLst>
              <a:gd name="adj1" fmla="val 64990"/>
              <a:gd name="adj2" fmla="val -25991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2728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41892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540160" y="907920"/>
            <a:ext cx="1172880" cy="2521080"/>
          </a:xfrm>
          <a:custGeom>
            <a:avLst/>
            <a:gdLst/>
            <a:ahLst/>
            <a:rect l="l" t="t" r="r" b="b"/>
            <a:pathLst>
              <a:path w="739" h="1588">
                <a:moveTo>
                  <a:pt x="739" y="0"/>
                </a:moveTo>
                <a:lnTo>
                  <a:pt x="0" y="158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27280" y="112536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565800" y="29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63744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02160" y="184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1852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989440" y="50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26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7739400">
            <a:off x="4169160" y="4698000"/>
            <a:ext cx="260280" cy="49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8423400">
            <a:off x="3276720" y="4870440"/>
            <a:ext cx="17784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11560" y="857160"/>
            <a:ext cx="263520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84720" y="765000"/>
            <a:ext cx="263556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6216480" y="92160"/>
                <a:ext cx="21178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013440" y="278136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у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 = х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5640" y="907920"/>
            <a:ext cx="4538520" cy="4638960"/>
          </a:xfrm>
          <a:custGeom>
            <a:avLst/>
            <a:gdLst/>
            <a:ahLst/>
            <a:rect l="l" t="t" r="r" b="b"/>
            <a:pathLst>
              <a:path w="2859" h="2922">
                <a:moveTo>
                  <a:pt x="2859" y="0"/>
                </a:moveTo>
                <a:lnTo>
                  <a:pt x="0" y="2922"/>
                </a:ln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56000" y="4437000"/>
            <a:ext cx="28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04000" y="213372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0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973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40688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3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00399 -0.12801 E">
                                      <p:cBhvr>
                                        <p:cTn id="590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5864400" y="52560"/>
                <a:ext cx="28224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6400" y="4797360"/>
            <a:ext cx="37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(-4;-1), (4;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0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1033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3851280" y="321300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340000" y="4724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03280" y="3789360"/>
            <a:ext cx="14436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0360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619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627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6021360" y="557280"/>
                <a:ext cx="25081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2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56720" y="4869000"/>
            <a:ext cx="22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4" name="">
            <a:hlinkClick r:id="" action="ppaction://hlinkshowjump?jump=endshow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1097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3851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34000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03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583960" y="11592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476360" y="3213000"/>
            <a:ext cx="2448000" cy="1645920"/>
            <a:chOff x="1476360" y="3213000"/>
            <a:chExt cx="2448000" cy="1645920"/>
          </a:xfrm>
        </p:grpSpPr>
        <p:sp>
          <p:nvSpPr>
            <p:cNvPr id="1105" name=""/>
            <p:cNvSpPr/>
            <p:nvPr/>
          </p:nvSpPr>
          <p:spPr>
            <a:xfrm flipV="1">
              <a:off x="1476360" y="3624480"/>
              <a:ext cx="0" cy="311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13080" y="3624480"/>
              <a:ext cx="1440" cy="1234440"/>
            </a:xfrm>
            <a:custGeom>
              <a:avLst/>
              <a:gdLst/>
              <a:ahLst/>
              <a:rect l="l" t="t" r="r" b="b"/>
              <a:pathLst>
                <a:path w="1" h="720">
                  <a:moveTo>
                    <a:pt x="0" y="7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11760" y="3213000"/>
              <a:ext cx="12600" cy="334080"/>
            </a:xfrm>
            <a:custGeom>
              <a:avLst/>
              <a:gdLst/>
              <a:ahLst/>
              <a:rect l="l" t="t" r="r" b="b"/>
              <a:pathLst>
                <a:path w="8" h="195">
                  <a:moveTo>
                    <a:pt x="0" y="0"/>
                  </a:moveTo>
                  <a:lnTo>
                    <a:pt x="8" y="195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711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719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94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844640"/>
            <a:ext cx="1968480" cy="2571840"/>
          </a:xfrm>
          <a:custGeom>
            <a:avLst/>
            <a:gdLst/>
            <a:ahLst/>
            <a:rect l="l" t="t" r="r" b="b"/>
            <a:pathLst>
              <a:path w="1240" h="1620">
                <a:moveTo>
                  <a:pt x="0" y="0"/>
                </a:moveTo>
                <a:cubicBezTo>
                  <a:pt x="43" y="154"/>
                  <a:pt x="140" y="652"/>
                  <a:pt x="248" y="922"/>
                </a:cubicBezTo>
                <a:cubicBezTo>
                  <a:pt x="356" y="1192"/>
                  <a:pt x="521" y="1616"/>
                  <a:pt x="648" y="1618"/>
                </a:cubicBezTo>
                <a:cubicBezTo>
                  <a:pt x="775" y="1620"/>
                  <a:pt x="909" y="1200"/>
                  <a:pt x="1008" y="936"/>
                </a:cubicBezTo>
                <a:cubicBezTo>
                  <a:pt x="1107" y="672"/>
                  <a:pt x="1192" y="220"/>
                  <a:pt x="1240" y="32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91628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654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ая не имеет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1658880"/>
                <a:ext cx="1800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1280" y="2886120"/>
                <a:ext cx="17859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69960" y="4292640"/>
                <a:ext cx="17352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51280" y="1341360"/>
            <a:ext cx="52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952560"/>
            <a:ext cx="12600" cy="5054400"/>
          </a:xfrm>
          <a:custGeom>
            <a:avLst/>
            <a:gdLst/>
            <a:ahLst/>
            <a:rect l="l" t="t" r="r" b="b"/>
            <a:pathLst>
              <a:path w="8" h="3184">
                <a:moveTo>
                  <a:pt x="0" y="0"/>
                </a:moveTo>
                <a:lnTo>
                  <a:pt x="8" y="31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2997360"/>
            <a:ext cx="2159280" cy="936360"/>
          </a:xfrm>
          <a:prstGeom prst="wedgeEllipseCallout">
            <a:avLst>
              <a:gd name="adj1" fmla="val -96986"/>
              <a:gd name="adj2" fmla="val 169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Д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413000"/>
            <a:ext cx="1944720" cy="720720"/>
          </a:xfrm>
          <a:prstGeom prst="wedgeEllipseCallout">
            <a:avLst>
              <a:gd name="adj1" fmla="val -113430"/>
              <a:gd name="adj2" fmla="val 4206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581360"/>
            <a:ext cx="2232000" cy="863640"/>
          </a:xfrm>
          <a:prstGeom prst="wedgeEllipseCallout">
            <a:avLst>
              <a:gd name="adj1" fmla="val -100569"/>
              <a:gd name="adj2" fmla="val 40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73800" y="2819520"/>
            <a:ext cx="3238560" cy="2882880"/>
          </a:xfrm>
          <a:custGeom>
            <a:avLst/>
            <a:gdLst/>
            <a:ahLst/>
            <a:rect l="l" t="t" r="r" b="b"/>
            <a:pathLst>
              <a:path w="2040" h="1816">
                <a:moveTo>
                  <a:pt x="2040" y="0"/>
                </a:moveTo>
                <a:lnTo>
                  <a:pt x="0" y="18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7411400">
            <a:off x="6419880" y="23479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1160" y="917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10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263000">
            <a:off x="7788600" y="2733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y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3080" y="22766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5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60213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три указан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158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65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которой пара (4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81120" y="1689120"/>
                <a:ext cx="2235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60240" y="2916360"/>
                <a:ext cx="2256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41520" y="4322880"/>
                <a:ext cx="1793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689440" y="1930320"/>
            <a:ext cx="2934000" cy="3403800"/>
          </a:xfrm>
          <a:custGeom>
            <a:avLst/>
            <a:gdLst/>
            <a:ahLst/>
            <a:rect l="l" t="t" r="r" b="b"/>
            <a:pathLst>
              <a:path w="1848" h="2144">
                <a:moveTo>
                  <a:pt x="0" y="0"/>
                </a:moveTo>
                <a:lnTo>
                  <a:pt x="1848" y="21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1689120"/>
            <a:ext cx="2641680" cy="4317840"/>
          </a:xfrm>
          <a:custGeom>
            <a:avLst/>
            <a:gdLst/>
            <a:ahLst/>
            <a:rect l="l" t="t" r="r" b="b"/>
            <a:pathLst>
              <a:path w="1664" h="2720">
                <a:moveTo>
                  <a:pt x="1664" y="0"/>
                </a:moveTo>
                <a:lnTo>
                  <a:pt x="0" y="272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2997360"/>
            <a:ext cx="2159280" cy="863280"/>
          </a:xfrm>
          <a:prstGeom prst="wedgeEllipseCallout">
            <a:avLst>
              <a:gd name="adj1" fmla="val -96986"/>
              <a:gd name="adj2" fmla="val 60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-4; -5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437000"/>
            <a:ext cx="1944720" cy="720720"/>
          </a:xfrm>
          <a:prstGeom prst="wedgeEllipseCallout">
            <a:avLst>
              <a:gd name="adj1" fmla="val -95796"/>
              <a:gd name="adj2" fmla="val 2467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700280"/>
            <a:ext cx="2160720" cy="792000"/>
          </a:xfrm>
          <a:prstGeom prst="wedgeEllipseCallout">
            <a:avLst>
              <a:gd name="adj1" fmla="val -102240"/>
              <a:gd name="adj2" fmla="val 8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(1; 4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99080" y="3289320"/>
            <a:ext cx="4330800" cy="2463840"/>
          </a:xfrm>
          <a:custGeom>
            <a:avLst/>
            <a:gdLst/>
            <a:ahLst/>
            <a:rect l="l" t="t" r="r" b="b"/>
            <a:pathLst>
              <a:path w="2728" h="1552">
                <a:moveTo>
                  <a:pt x="2728" y="0"/>
                </a:moveTo>
                <a:lnTo>
                  <a:pt x="0" y="15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5800" y="1341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9819800">
            <a:off x="8037720" y="314136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21080" y="14842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6021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систем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078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224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400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83840" y="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истему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5300640"/>
            <a:ext cx="1944360" cy="720720"/>
          </a:xfrm>
          <a:prstGeom prst="wedgeEllipseCallout">
            <a:avLst>
              <a:gd name="adj1" fmla="val -217916"/>
              <a:gd name="adj2" fmla="val 704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3860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84360" y="1844640"/>
                <a:ext cx="25444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4869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2637000"/>
            <a:ext cx="1425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290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,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= 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42920" y="3716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5084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4076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24360" y="2708280"/>
            <a:ext cx="0" cy="1441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21360" y="419112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8" y="5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2205000"/>
            <a:ext cx="1944360" cy="720720"/>
          </a:xfrm>
          <a:prstGeom prst="wedgeEllipseCallout">
            <a:avLst>
              <a:gd name="adj1" fmla="val -98162"/>
              <a:gd name="adj2" fmla="val 19449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357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77080" y="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у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84600" y="1219320"/>
            <a:ext cx="2730600" cy="5003640"/>
          </a:xfrm>
          <a:custGeom>
            <a:avLst/>
            <a:gdLst/>
            <a:ahLst/>
            <a:rect l="l" t="t" r="r" b="b"/>
            <a:pathLst>
              <a:path w="1720" h="3152">
                <a:moveTo>
                  <a:pt x="1720" y="0"/>
                </a:moveTo>
                <a:lnTo>
                  <a:pt x="0" y="31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16360" y="3357720"/>
            <a:ext cx="2160360" cy="576000"/>
          </a:xfrm>
          <a:prstGeom prst="wedgeEllipseCallout">
            <a:avLst>
              <a:gd name="adj1" fmla="val -95773"/>
              <a:gd name="adj2" fmla="val 8608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8049200">
            <a:off x="450324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700360" y="2708280"/>
            <a:ext cx="2160720" cy="576360"/>
          </a:xfrm>
          <a:prstGeom prst="wedgeEllipseCallout">
            <a:avLst>
              <a:gd name="adj1" fmla="val -92393"/>
              <a:gd name="adj2" fmla="val 8030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4508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16" y="121"/>
                  <a:pt x="848" y="504"/>
                  <a:pt x="816" y="728"/>
                </a:cubicBezTo>
                <a:cubicBezTo>
                  <a:pt x="784" y="952"/>
                  <a:pt x="779" y="1144"/>
                  <a:pt x="744" y="1344"/>
                </a:cubicBezTo>
                <a:cubicBezTo>
                  <a:pt x="709" y="1544"/>
                  <a:pt x="661" y="1799"/>
                  <a:pt x="608" y="1928"/>
                </a:cubicBezTo>
                <a:cubicBezTo>
                  <a:pt x="555" y="205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7080" y="1846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92200" y="1773360"/>
                <a:ext cx="18619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22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306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77080" y="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2х– 4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1231920"/>
            <a:ext cx="2705040" cy="4737240"/>
          </a:xfrm>
          <a:custGeom>
            <a:avLst/>
            <a:gdLst/>
            <a:ahLst/>
            <a:rect l="l" t="t" r="r" b="b"/>
            <a:pathLst>
              <a:path w="1704" h="2984">
                <a:moveTo>
                  <a:pt x="1704" y="0"/>
                </a:moveTo>
                <a:lnTo>
                  <a:pt x="0" y="298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08360" y="3500280"/>
            <a:ext cx="216072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8049200">
            <a:off x="440172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0920" y="5157720"/>
            <a:ext cx="216072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46920" y="1989000"/>
            <a:ext cx="1440" cy="2151360"/>
          </a:xfrm>
          <a:custGeom>
            <a:avLst/>
            <a:gdLst/>
            <a:ahLst/>
            <a:rect l="l" t="t" r="r" b="b"/>
            <a:pathLst>
              <a:path w="1" h="1355">
                <a:moveTo>
                  <a:pt x="1" y="0"/>
                </a:moveTo>
                <a:lnTo>
                  <a:pt x="0" y="13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2276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01" y="215"/>
                  <a:pt x="791" y="967"/>
                  <a:pt x="736" y="1288"/>
                </a:cubicBezTo>
                <a:cubicBezTo>
                  <a:pt x="681" y="1609"/>
                  <a:pt x="660" y="1789"/>
                  <a:pt x="608" y="1928"/>
                </a:cubicBezTo>
                <a:cubicBezTo>
                  <a:pt x="556" y="206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16600" y="1700280"/>
            <a:ext cx="120024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1700280"/>
            <a:ext cx="119988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488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900000" y="155736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90792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89000" y="1015920"/>
                <a:ext cx="1861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5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516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540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564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565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01080" y="990720"/>
            <a:ext cx="1269720" cy="2489040"/>
          </a:xfrm>
          <a:custGeom>
            <a:avLst/>
            <a:gdLst/>
            <a:ahLst/>
            <a:rect l="l" t="t" r="r" b="b"/>
            <a:pathLst>
              <a:path w="800" h="1568">
                <a:moveTo>
                  <a:pt x="800" y="0"/>
                </a:moveTo>
                <a:lnTo>
                  <a:pt x="0" y="156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380360" y="1628280"/>
            <a:ext cx="0" cy="1513440"/>
            <a:chOff x="7380360" y="1628280"/>
            <a:chExt cx="0" cy="1513440"/>
          </a:xfrm>
        </p:grpSpPr>
        <p:sp>
          <p:nvSpPr>
            <p:cNvPr id="629" name=""/>
            <p:cNvSpPr/>
            <p:nvPr/>
          </p:nvSpPr>
          <p:spPr>
            <a:xfrm flipV="1">
              <a:off x="7380360" y="1628280"/>
              <a:ext cx="0" cy="100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80360" y="2637000"/>
              <a:ext cx="0" cy="5047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632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633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68436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060640"/>
            <a:ext cx="720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0" y="2133720"/>
                <a:ext cx="2544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59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660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684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708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709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6110400">
            <a:off x="8060400" y="21063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7521600">
            <a:off x="7002720" y="2332080"/>
            <a:ext cx="1778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01080" y="1968480"/>
            <a:ext cx="139680" cy="228600"/>
          </a:xfrm>
          <a:custGeom>
            <a:avLst/>
            <a:gdLst/>
            <a:ahLst/>
            <a:rect l="l" t="t" r="r" b="b"/>
            <a:pathLst>
              <a:path w="88" h="144">
                <a:moveTo>
                  <a:pt x="0" y="0"/>
                </a:moveTo>
                <a:lnTo>
                  <a:pt x="88" y="48"/>
                </a:lnTo>
                <a:lnTo>
                  <a:pt x="32" y="144"/>
                </a:lnTo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06:22Z</dcterms:created>
  <dc:creator>ADMINISTRATION</dc:creator>
  <dc:description/>
  <dc:language>en-US</dc:language>
  <cp:lastModifiedBy>Admin</cp:lastModifiedBy>
  <dcterms:modified xsi:type="dcterms:W3CDTF">2024-06-26T09:48:45Z</dcterms:modified>
  <cp:revision>35</cp:revision>
  <dc:subject/>
  <dc:title>Слайд 1</dc:title>
</cp:coreProperties>
</file>