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DEC5-DF7E-4306-80F3-43244047F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5F19-2046-47BE-9FF8-8CFDFB4DD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C230-95E1-4A79-8609-68FCBD082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AC73-E280-4A23-8112-9C8F65E31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808B9-2BAA-41F0-8B42-B06F07301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99DD1-52FC-4C7D-80B8-ABDCD08FC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EB823-34BB-481A-9AD1-3DA9574E6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41C3E-DAA1-420B-BBA1-CC4527337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EF739-E297-4E08-A90E-0B2AA7817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DFE29-D972-4E4E-924B-6FF76A304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A9559-E59B-442C-9067-0D23E8E2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A719-9BB4-44F8-8651-C5E2F0BED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6E3D0-A5DD-444E-A3E0-78154407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C0FF3-D248-449E-9715-59CD6C83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720B1-9B30-42B8-B09E-18EA30148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29654-6B9C-4F2C-AB23-7A9AD9C99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0A265-3492-4AB9-870C-0D8A705FB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C74B-9609-4EEC-A691-61E45451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47A9-553C-422E-BE2F-6821ACE92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5C13-4596-4ABB-B682-E0B82A552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8246-74CB-41D6-9832-F35EC8E4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07C8-02B2-453C-B07D-97703814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9AAB-2211-4D08-8926-F0EFD1C1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ABF9-8EC5-4E54-882A-E25AC426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7B484-2500-4CB1-B593-49A85F2AA85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6A821-5B17-4E45-AC4D-B33866E85D4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>
            <a:hlinkClick r:id="" action="ppaction://hlinkshowjump?jump=nextslide"/>
          </p:cNvPr>
          <p:cNvSpPr/>
          <p:nvPr/>
        </p:nvSpPr>
        <p:spPr>
          <a:xfrm>
            <a:off x="8388360" y="616572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16760" y="333360"/>
            <a:ext cx="638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А  Л  Г  Е  Б  Р  А     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К  Л  А  С 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1484280"/>
            <a:ext cx="6696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Повторение, обобщение и систематизация знаний. Графическое решение уравнений и их систем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/>
          <p:nvPr/>
        </p:nvSpPr>
        <p:spPr>
          <a:xfrm>
            <a:off x="3278520" y="692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084720" y="1052640"/>
            <a:ext cx="2592720" cy="0"/>
          </a:xfrm>
          <a:prstGeom prst="line">
            <a:avLst/>
          </a:prstGeom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084720" y="3427560"/>
            <a:ext cx="2592720" cy="0"/>
          </a:xfrm>
          <a:prstGeom prst="line">
            <a:avLst/>
          </a:prstGeom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6084720" y="1052640"/>
            <a:ext cx="0" cy="2374920"/>
          </a:xfrm>
          <a:prstGeom prst="line">
            <a:avLst/>
          </a:prstGeom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8667720" y="774720"/>
            <a:ext cx="11160" cy="2652840"/>
          </a:xfrm>
          <a:custGeom>
            <a:avLst/>
            <a:gdLst/>
            <a:ahLst/>
            <a:rect l="l" t="t" r="r" b="b"/>
            <a:pathLst>
              <a:path w="7" h="1671">
                <a:moveTo>
                  <a:pt x="0" y="0"/>
                </a:moveTo>
                <a:lnTo>
                  <a:pt x="7" y="1671"/>
                </a:lnTo>
              </a:path>
            </a:pathLst>
          </a:cu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084720" y="1316160"/>
            <a:ext cx="2592720" cy="0"/>
          </a:xfrm>
          <a:prstGeom prst="line">
            <a:avLst/>
          </a:prstGeom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345360" y="1052640"/>
            <a:ext cx="0" cy="2374920"/>
          </a:xfrm>
          <a:prstGeom prst="line">
            <a:avLst/>
          </a:prstGeom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6603840" y="774720"/>
            <a:ext cx="1800" cy="2652840"/>
          </a:xfrm>
          <a:custGeom>
            <a:avLst/>
            <a:gdLst/>
            <a:ahLst/>
            <a:rect l="l" t="t" r="r" b="b"/>
            <a:pathLst>
              <a:path w="1" h="1671">
                <a:moveTo>
                  <a:pt x="0" y="0"/>
                </a:moveTo>
                <a:lnTo>
                  <a:pt x="1" y="1671"/>
                </a:lnTo>
              </a:path>
            </a:pathLst>
          </a:cu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864480" y="774720"/>
            <a:ext cx="1440" cy="2652840"/>
          </a:xfrm>
          <a:custGeom>
            <a:avLst/>
            <a:gdLst/>
            <a:ahLst/>
            <a:rect l="l" t="t" r="r" b="b"/>
            <a:pathLst>
              <a:path w="1" h="1671">
                <a:moveTo>
                  <a:pt x="0" y="0"/>
                </a:moveTo>
                <a:lnTo>
                  <a:pt x="0" y="1671"/>
                </a:lnTo>
              </a:path>
            </a:pathLst>
          </a:cu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7112160" y="768240"/>
            <a:ext cx="10800" cy="2659320"/>
          </a:xfrm>
          <a:custGeom>
            <a:avLst/>
            <a:gdLst/>
            <a:ahLst/>
            <a:rect l="l" t="t" r="r" b="b"/>
            <a:pathLst>
              <a:path w="7" h="1675">
                <a:moveTo>
                  <a:pt x="0" y="0"/>
                </a:moveTo>
                <a:lnTo>
                  <a:pt x="7" y="1675"/>
                </a:lnTo>
              </a:path>
            </a:pathLst>
          </a:cu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81800" y="1052640"/>
            <a:ext cx="0" cy="2374920"/>
          </a:xfrm>
          <a:prstGeom prst="line">
            <a:avLst/>
          </a:prstGeom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7639200" y="774720"/>
            <a:ext cx="2880" cy="2652840"/>
          </a:xfrm>
          <a:custGeom>
            <a:avLst/>
            <a:gdLst/>
            <a:ahLst/>
            <a:rect l="l" t="t" r="r" b="b"/>
            <a:pathLst>
              <a:path w="2" h="1671">
                <a:moveTo>
                  <a:pt x="0" y="0"/>
                </a:moveTo>
                <a:lnTo>
                  <a:pt x="2" y="1671"/>
                </a:lnTo>
              </a:path>
            </a:pathLst>
          </a:cu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7893000" y="755640"/>
            <a:ext cx="9720" cy="2671920"/>
          </a:xfrm>
          <a:custGeom>
            <a:avLst/>
            <a:gdLst/>
            <a:ahLst/>
            <a:rect l="l" t="t" r="r" b="b"/>
            <a:pathLst>
              <a:path w="6" h="1683">
                <a:moveTo>
                  <a:pt x="0" y="0"/>
                </a:moveTo>
                <a:lnTo>
                  <a:pt x="6" y="1683"/>
                </a:lnTo>
              </a:path>
            </a:pathLst>
          </a:cu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8153280" y="768240"/>
            <a:ext cx="6480" cy="2659320"/>
          </a:xfrm>
          <a:custGeom>
            <a:avLst/>
            <a:gdLst/>
            <a:ahLst/>
            <a:rect l="l" t="t" r="r" b="b"/>
            <a:pathLst>
              <a:path w="4" h="1675">
                <a:moveTo>
                  <a:pt x="0" y="0"/>
                </a:moveTo>
                <a:lnTo>
                  <a:pt x="4" y="1675"/>
                </a:lnTo>
              </a:path>
            </a:pathLst>
          </a:cu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8413920" y="762120"/>
            <a:ext cx="6120" cy="2665440"/>
          </a:xfrm>
          <a:custGeom>
            <a:avLst/>
            <a:gdLst/>
            <a:ahLst/>
            <a:rect l="l" t="t" r="r" b="b"/>
            <a:pathLst>
              <a:path w="4" h="1679">
                <a:moveTo>
                  <a:pt x="0" y="0"/>
                </a:moveTo>
                <a:lnTo>
                  <a:pt x="4" y="1679"/>
                </a:lnTo>
              </a:path>
            </a:pathLst>
          </a:cu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6084720" y="1579680"/>
            <a:ext cx="2592720" cy="0"/>
          </a:xfrm>
          <a:prstGeom prst="line">
            <a:avLst/>
          </a:prstGeom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084720" y="1843200"/>
            <a:ext cx="2592720" cy="0"/>
          </a:xfrm>
          <a:prstGeom prst="line">
            <a:avLst/>
          </a:prstGeom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6084720" y="2108160"/>
            <a:ext cx="2592720" cy="0"/>
          </a:xfrm>
          <a:prstGeom prst="line">
            <a:avLst/>
          </a:prstGeom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6084720" y="2371680"/>
            <a:ext cx="2592720" cy="0"/>
          </a:xfrm>
          <a:prstGeom prst="line">
            <a:avLst/>
          </a:prstGeom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084720" y="2637000"/>
            <a:ext cx="2592720" cy="0"/>
          </a:xfrm>
          <a:prstGeom prst="line">
            <a:avLst/>
          </a:prstGeom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6084720" y="2900520"/>
            <a:ext cx="2592720" cy="0"/>
          </a:xfrm>
          <a:prstGeom prst="line">
            <a:avLst/>
          </a:prstGeom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6084720" y="3164040"/>
            <a:ext cx="2592720" cy="0"/>
          </a:xfrm>
          <a:prstGeom prst="line">
            <a:avLst/>
          </a:prstGeom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6084720" y="2637000"/>
            <a:ext cx="266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7381800" y="755640"/>
            <a:ext cx="3240" cy="2673360"/>
          </a:xfrm>
          <a:custGeom>
            <a:avLst/>
            <a:gdLst/>
            <a:ahLst/>
            <a:rect l="l" t="t" r="r" b="b"/>
            <a:pathLst>
              <a:path w="2" h="1684">
                <a:moveTo>
                  <a:pt x="0" y="1684"/>
                </a:moveTo>
                <a:lnTo>
                  <a:pt x="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971640" y="2708280"/>
            <a:ext cx="36036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971640" y="2133720"/>
            <a:ext cx="50472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1" name=""/>
              <p:cNvSpPr txBox="1"/>
              <p:nvPr/>
            </p:nvSpPr>
            <p:spPr>
              <a:xfrm>
                <a:off x="231840" y="2133720"/>
                <a:ext cx="207972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у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02" name=""/>
          <p:cNvGrpSpPr/>
          <p:nvPr/>
        </p:nvGrpSpPr>
        <p:grpSpPr>
          <a:xfrm>
            <a:off x="6084720" y="3933720"/>
            <a:ext cx="2592720" cy="2374920"/>
            <a:chOff x="6084720" y="3933720"/>
            <a:chExt cx="2592720" cy="2374920"/>
          </a:xfrm>
        </p:grpSpPr>
        <p:sp>
          <p:nvSpPr>
            <p:cNvPr id="803" name=""/>
            <p:cNvSpPr/>
            <p:nvPr/>
          </p:nvSpPr>
          <p:spPr>
            <a:xfrm>
              <a:off x="6084720" y="3933720"/>
              <a:ext cx="259272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084720" y="6308640"/>
              <a:ext cx="259272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084720" y="393372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8677440" y="393372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084720" y="4197240"/>
              <a:ext cx="259272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345360" y="393372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603840" y="393372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862680" y="393372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121520" y="393372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381800" y="393372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640640" y="393372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900920" y="393372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8158320" y="393372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8418600" y="393372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084720" y="4460760"/>
              <a:ext cx="259272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084720" y="4724280"/>
              <a:ext cx="259272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084720" y="4989600"/>
              <a:ext cx="259272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084720" y="5253120"/>
              <a:ext cx="259272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084720" y="5518080"/>
              <a:ext cx="259272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084720" y="5781600"/>
              <a:ext cx="259272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084720" y="6045120"/>
              <a:ext cx="259272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4" name=""/>
          <p:cNvSpPr/>
          <p:nvPr/>
        </p:nvSpPr>
        <p:spPr>
          <a:xfrm>
            <a:off x="6070680" y="5232240"/>
            <a:ext cx="2692440" cy="12960"/>
          </a:xfrm>
          <a:custGeom>
            <a:avLst/>
            <a:gdLst/>
            <a:ahLst/>
            <a:rect l="l" t="t" r="r" b="b"/>
            <a:pathLst>
              <a:path w="1696" h="8">
                <a:moveTo>
                  <a:pt x="0" y="8"/>
                </a:moveTo>
                <a:lnTo>
                  <a:pt x="16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7381800" y="3789360"/>
            <a:ext cx="0" cy="2519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6" name=""/>
          <p:cNvGrpSpPr/>
          <p:nvPr/>
        </p:nvGrpSpPr>
        <p:grpSpPr>
          <a:xfrm>
            <a:off x="2340000" y="3860640"/>
            <a:ext cx="2592360" cy="2374920"/>
            <a:chOff x="2340000" y="3860640"/>
            <a:chExt cx="2592360" cy="2374920"/>
          </a:xfrm>
        </p:grpSpPr>
        <p:sp>
          <p:nvSpPr>
            <p:cNvPr id="827" name=""/>
            <p:cNvSpPr/>
            <p:nvPr/>
          </p:nvSpPr>
          <p:spPr>
            <a:xfrm>
              <a:off x="2340000" y="3860640"/>
              <a:ext cx="259236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340000" y="6235560"/>
              <a:ext cx="259236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340000" y="386064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932360" y="386064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340000" y="4124160"/>
              <a:ext cx="259236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600280" y="386064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858760" y="386064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117600" y="386064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376440" y="386064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636720" y="386064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895560" y="386064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155840" y="386064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413240" y="386064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673520" y="386064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340000" y="4387680"/>
              <a:ext cx="259236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340000" y="4651200"/>
              <a:ext cx="259236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340000" y="4916520"/>
              <a:ext cx="259236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340000" y="5180040"/>
              <a:ext cx="259236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340000" y="5445000"/>
              <a:ext cx="259236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340000" y="5708520"/>
              <a:ext cx="259236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340000" y="5972040"/>
              <a:ext cx="259236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"/>
          <p:cNvSpPr/>
          <p:nvPr/>
        </p:nvSpPr>
        <p:spPr>
          <a:xfrm>
            <a:off x="2336760" y="5168880"/>
            <a:ext cx="2692440" cy="1440"/>
          </a:xfrm>
          <a:custGeom>
            <a:avLst/>
            <a:gdLst/>
            <a:ahLst/>
            <a:rect l="l" t="t" r="r" b="b"/>
            <a:pathLst>
              <a:path w="1696" h="1">
                <a:moveTo>
                  <a:pt x="0" y="0"/>
                </a:moveTo>
                <a:lnTo>
                  <a:pt x="16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 flipV="1">
            <a:off x="3637080" y="3716280"/>
            <a:ext cx="0" cy="2519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340000" y="1125360"/>
            <a:ext cx="2592360" cy="0"/>
          </a:xfrm>
          <a:prstGeom prst="line">
            <a:avLst/>
          </a:prstGeom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340000" y="3500280"/>
            <a:ext cx="2592360" cy="0"/>
          </a:xfrm>
          <a:prstGeom prst="line">
            <a:avLst/>
          </a:prstGeom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2336760" y="863640"/>
            <a:ext cx="4680" cy="2636640"/>
          </a:xfrm>
          <a:custGeom>
            <a:avLst/>
            <a:gdLst/>
            <a:ahLst/>
            <a:rect l="l" t="t" r="r" b="b"/>
            <a:pathLst>
              <a:path w="3" h="1661">
                <a:moveTo>
                  <a:pt x="0" y="0"/>
                </a:moveTo>
                <a:lnTo>
                  <a:pt x="3" y="1661"/>
                </a:lnTo>
              </a:path>
            </a:pathLst>
          </a:cu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4933800" y="812880"/>
            <a:ext cx="6480" cy="2687400"/>
          </a:xfrm>
          <a:custGeom>
            <a:avLst/>
            <a:gdLst/>
            <a:ahLst/>
            <a:rect l="l" t="t" r="r" b="b"/>
            <a:pathLst>
              <a:path w="4" h="1693">
                <a:moveTo>
                  <a:pt x="4" y="0"/>
                </a:moveTo>
                <a:lnTo>
                  <a:pt x="0" y="1693"/>
                </a:lnTo>
              </a:path>
            </a:pathLst>
          </a:cu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340000" y="1389240"/>
            <a:ext cx="2592360" cy="0"/>
          </a:xfrm>
          <a:prstGeom prst="line">
            <a:avLst/>
          </a:prstGeom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590920" y="863640"/>
            <a:ext cx="11160" cy="2636640"/>
          </a:xfrm>
          <a:custGeom>
            <a:avLst/>
            <a:gdLst/>
            <a:ahLst/>
            <a:rect l="l" t="t" r="r" b="b"/>
            <a:pathLst>
              <a:path w="7" h="1661">
                <a:moveTo>
                  <a:pt x="0" y="0"/>
                </a:moveTo>
                <a:lnTo>
                  <a:pt x="7" y="1661"/>
                </a:lnTo>
              </a:path>
            </a:pathLst>
          </a:cu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2857680" y="870120"/>
            <a:ext cx="2880" cy="2630160"/>
          </a:xfrm>
          <a:custGeom>
            <a:avLst/>
            <a:gdLst/>
            <a:ahLst/>
            <a:rect l="l" t="t" r="r" b="b"/>
            <a:pathLst>
              <a:path w="2" h="1657">
                <a:moveTo>
                  <a:pt x="0" y="0"/>
                </a:moveTo>
                <a:lnTo>
                  <a:pt x="2" y="1657"/>
                </a:lnTo>
              </a:path>
            </a:pathLst>
          </a:cu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111480" y="863640"/>
            <a:ext cx="7920" cy="2636640"/>
          </a:xfrm>
          <a:custGeom>
            <a:avLst/>
            <a:gdLst/>
            <a:ahLst/>
            <a:rect l="l" t="t" r="r" b="b"/>
            <a:pathLst>
              <a:path w="5" h="1661">
                <a:moveTo>
                  <a:pt x="0" y="0"/>
                </a:moveTo>
                <a:lnTo>
                  <a:pt x="5" y="1661"/>
                </a:lnTo>
              </a:path>
            </a:pathLst>
          </a:cu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371760" y="857160"/>
            <a:ext cx="6480" cy="2643120"/>
          </a:xfrm>
          <a:custGeom>
            <a:avLst/>
            <a:gdLst/>
            <a:ahLst/>
            <a:rect l="l" t="t" r="r" b="b"/>
            <a:pathLst>
              <a:path w="4" h="1665">
                <a:moveTo>
                  <a:pt x="0" y="0"/>
                </a:moveTo>
                <a:lnTo>
                  <a:pt x="4" y="1665"/>
                </a:lnTo>
              </a:path>
            </a:pathLst>
          </a:cu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637080" y="1125360"/>
            <a:ext cx="0" cy="2374920"/>
          </a:xfrm>
          <a:prstGeom prst="line">
            <a:avLst/>
          </a:prstGeom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886200" y="870120"/>
            <a:ext cx="11160" cy="2630160"/>
          </a:xfrm>
          <a:custGeom>
            <a:avLst/>
            <a:gdLst/>
            <a:ahLst/>
            <a:rect l="l" t="t" r="r" b="b"/>
            <a:pathLst>
              <a:path w="7" h="1657">
                <a:moveTo>
                  <a:pt x="0" y="0"/>
                </a:moveTo>
                <a:lnTo>
                  <a:pt x="7" y="1657"/>
                </a:lnTo>
              </a:path>
            </a:pathLst>
          </a:cu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4152960" y="844560"/>
            <a:ext cx="4680" cy="2655720"/>
          </a:xfrm>
          <a:custGeom>
            <a:avLst/>
            <a:gdLst/>
            <a:ahLst/>
            <a:rect l="l" t="t" r="r" b="b"/>
            <a:pathLst>
              <a:path w="3" h="1673">
                <a:moveTo>
                  <a:pt x="0" y="0"/>
                </a:moveTo>
                <a:lnTo>
                  <a:pt x="3" y="1673"/>
                </a:lnTo>
              </a:path>
            </a:pathLst>
          </a:cu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4406760" y="844560"/>
            <a:ext cx="7920" cy="2655720"/>
          </a:xfrm>
          <a:custGeom>
            <a:avLst/>
            <a:gdLst/>
            <a:ahLst/>
            <a:rect l="l" t="t" r="r" b="b"/>
            <a:pathLst>
              <a:path w="5" h="1673">
                <a:moveTo>
                  <a:pt x="0" y="0"/>
                </a:moveTo>
                <a:lnTo>
                  <a:pt x="5" y="1673"/>
                </a:lnTo>
              </a:path>
            </a:pathLst>
          </a:cu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4660920" y="851040"/>
            <a:ext cx="14400" cy="2649240"/>
          </a:xfrm>
          <a:custGeom>
            <a:avLst/>
            <a:gdLst/>
            <a:ahLst/>
            <a:rect l="l" t="t" r="r" b="b"/>
            <a:pathLst>
              <a:path w="9" h="1669">
                <a:moveTo>
                  <a:pt x="0" y="0"/>
                </a:moveTo>
                <a:lnTo>
                  <a:pt x="9" y="1669"/>
                </a:lnTo>
              </a:path>
            </a:pathLst>
          </a:cu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2340000" y="1652760"/>
            <a:ext cx="2592360" cy="0"/>
          </a:xfrm>
          <a:prstGeom prst="line">
            <a:avLst/>
          </a:prstGeom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2340000" y="1916280"/>
            <a:ext cx="2592360" cy="0"/>
          </a:xfrm>
          <a:prstGeom prst="line">
            <a:avLst/>
          </a:prstGeom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340000" y="2181240"/>
            <a:ext cx="2592360" cy="0"/>
          </a:xfrm>
          <a:prstGeom prst="line">
            <a:avLst/>
          </a:prstGeom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2340000" y="2444760"/>
            <a:ext cx="2592360" cy="0"/>
          </a:xfrm>
          <a:prstGeom prst="line">
            <a:avLst/>
          </a:prstGeom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2340000" y="2709720"/>
            <a:ext cx="2592360" cy="0"/>
          </a:xfrm>
          <a:prstGeom prst="line">
            <a:avLst/>
          </a:prstGeom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2340000" y="2973240"/>
            <a:ext cx="2592360" cy="0"/>
          </a:xfrm>
          <a:prstGeom prst="line">
            <a:avLst/>
          </a:prstGeom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2340000" y="3236760"/>
            <a:ext cx="2592360" cy="0"/>
          </a:xfrm>
          <a:prstGeom prst="line">
            <a:avLst/>
          </a:prstGeom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336760" y="2171880"/>
            <a:ext cx="2603520" cy="12600"/>
          </a:xfrm>
          <a:custGeom>
            <a:avLst/>
            <a:gdLst/>
            <a:ahLst/>
            <a:rect l="l" t="t" r="r" b="b"/>
            <a:pathLst>
              <a:path w="1640" h="8">
                <a:moveTo>
                  <a:pt x="0" y="8"/>
                </a:moveTo>
                <a:lnTo>
                  <a:pt x="164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3632040" y="774720"/>
            <a:ext cx="5040" cy="2727360"/>
          </a:xfrm>
          <a:custGeom>
            <a:avLst/>
            <a:gdLst/>
            <a:ahLst/>
            <a:rect l="l" t="t" r="r" b="b"/>
            <a:pathLst>
              <a:path w="3" h="1718">
                <a:moveTo>
                  <a:pt x="3" y="1718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4480" y="115920"/>
            <a:ext cx="792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кажите рисунок, на котором приведена графическая иллюстр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шения системы уравн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2340000" y="386064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6084720" y="393372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6084720" y="76500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2340000" y="83664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>
            <a:hlinkClick r:id="" action="ppaction://hlinkshowjump?jump=previousslide"/>
          </p:cNvPr>
          <p:cNvSpPr/>
          <p:nvPr/>
        </p:nvSpPr>
        <p:spPr>
          <a:xfrm>
            <a:off x="179280" y="189000"/>
            <a:ext cx="505080" cy="5032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3832" y="10800"/>
                </a:moveTo>
                <a:lnTo>
                  <a:pt x="17845" y="3794"/>
                </a:lnTo>
                <a:lnTo>
                  <a:pt x="17845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3924360" y="260280"/>
            <a:ext cx="2232000" cy="576360"/>
          </a:xfrm>
          <a:prstGeom prst="wedgeEllipseCallout">
            <a:avLst>
              <a:gd name="adj1" fmla="val -98648"/>
              <a:gd name="adj2" fmla="val 116944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6588000" y="189000"/>
            <a:ext cx="2340000" cy="503280"/>
          </a:xfrm>
          <a:prstGeom prst="wedgeEllipseCallout">
            <a:avLst>
              <a:gd name="adj1" fmla="val -66212"/>
              <a:gd name="adj2" fmla="val 114986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4140360" y="6093000"/>
            <a:ext cx="2160360" cy="576000"/>
          </a:xfrm>
          <a:prstGeom prst="wedgeEllipseCallout">
            <a:avLst>
              <a:gd name="adj1" fmla="val 50587"/>
              <a:gd name="adj2" fmla="val -336226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6311880" y="1700280"/>
            <a:ext cx="2324160" cy="1181160"/>
          </a:xfrm>
          <a:custGeom>
            <a:avLst/>
            <a:gdLst/>
            <a:ahLst/>
            <a:rect l="l" t="t" r="r" b="b"/>
            <a:pathLst>
              <a:path w="1464" h="744">
                <a:moveTo>
                  <a:pt x="0" y="0"/>
                </a:moveTo>
                <a:lnTo>
                  <a:pt x="1464" y="744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6667560" y="549360"/>
            <a:ext cx="1228680" cy="2448000"/>
          </a:xfrm>
          <a:custGeom>
            <a:avLst/>
            <a:gdLst/>
            <a:ahLst/>
            <a:rect l="l" t="t" r="r" b="b"/>
            <a:pathLst>
              <a:path w="774" h="1542">
                <a:moveTo>
                  <a:pt x="774" y="0"/>
                </a:moveTo>
                <a:lnTo>
                  <a:pt x="0" y="1542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395280" y="5661000"/>
            <a:ext cx="1800360" cy="576360"/>
          </a:xfrm>
          <a:prstGeom prst="wedgeEllipseCallout">
            <a:avLst>
              <a:gd name="adj1" fmla="val 64990"/>
              <a:gd name="adj2" fmla="val -259916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ерно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>
            <a:hlinkClick r:id="" action="ppaction://hlinkshowjump?jump=nextslide"/>
          </p:cNvPr>
          <p:cNvSpPr/>
          <p:nvPr/>
        </p:nvSpPr>
        <p:spPr>
          <a:xfrm>
            <a:off x="838836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2627280" y="3718080"/>
            <a:ext cx="1228680" cy="2447640"/>
          </a:xfrm>
          <a:custGeom>
            <a:avLst/>
            <a:gdLst/>
            <a:ahLst/>
            <a:rect l="l" t="t" r="r" b="b"/>
            <a:pathLst>
              <a:path w="774" h="1542">
                <a:moveTo>
                  <a:pt x="774" y="0"/>
                </a:moveTo>
                <a:lnTo>
                  <a:pt x="0" y="1542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 flipH="1">
            <a:off x="3418920" y="3718080"/>
            <a:ext cx="1228680" cy="2447640"/>
          </a:xfrm>
          <a:custGeom>
            <a:avLst/>
            <a:gdLst/>
            <a:ahLst/>
            <a:rect l="l" t="t" r="r" b="b"/>
            <a:pathLst>
              <a:path w="774" h="1542">
                <a:moveTo>
                  <a:pt x="774" y="0"/>
                </a:moveTo>
                <a:lnTo>
                  <a:pt x="0" y="1542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2540160" y="907920"/>
            <a:ext cx="1172880" cy="2521080"/>
          </a:xfrm>
          <a:custGeom>
            <a:avLst/>
            <a:gdLst/>
            <a:ahLst/>
            <a:rect l="l" t="t" r="r" b="b"/>
            <a:pathLst>
              <a:path w="739" h="1588">
                <a:moveTo>
                  <a:pt x="739" y="0"/>
                </a:moveTo>
                <a:lnTo>
                  <a:pt x="0" y="1588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2627280" y="1125360"/>
            <a:ext cx="1135080" cy="2360880"/>
          </a:xfrm>
          <a:custGeom>
            <a:avLst/>
            <a:gdLst/>
            <a:ahLst/>
            <a:rect l="l" t="t" r="r" b="b"/>
            <a:pathLst>
              <a:path w="715" h="1487">
                <a:moveTo>
                  <a:pt x="715" y="1487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H="1">
            <a:off x="7019280" y="3500280"/>
            <a:ext cx="1228680" cy="2448000"/>
          </a:xfrm>
          <a:custGeom>
            <a:avLst/>
            <a:gdLst/>
            <a:ahLst/>
            <a:rect l="l" t="t" r="r" b="b"/>
            <a:pathLst>
              <a:path w="774" h="1542">
                <a:moveTo>
                  <a:pt x="774" y="0"/>
                </a:moveTo>
                <a:lnTo>
                  <a:pt x="0" y="1542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6443640" y="4410000"/>
            <a:ext cx="1087560" cy="2143080"/>
          </a:xfrm>
          <a:custGeom>
            <a:avLst/>
            <a:gdLst/>
            <a:ahLst/>
            <a:rect l="l" t="t" r="r" b="b"/>
            <a:pathLst>
              <a:path w="685" h="1350">
                <a:moveTo>
                  <a:pt x="0" y="0"/>
                </a:moveTo>
                <a:lnTo>
                  <a:pt x="685" y="1350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3565800" y="29973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7526520" y="256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7142400" y="256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094880" y="134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3637440" y="98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2702160" y="18446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4718520" y="2125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7094880" y="83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534880" y="256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34880" y="51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718520" y="51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3324240" y="364500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7356600" y="364500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989440" y="50846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3565800" y="40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7382160" y="407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3926160" y="50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7021800" y="61657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6589800" y="23493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445440" y="49417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 rot="7739400">
            <a:off x="4169160" y="4698000"/>
            <a:ext cx="260280" cy="493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395" y="1290"/>
                  <a:pt x="7189" y="5080"/>
                  <a:pt x="7189" y="10800"/>
                </a:cubicBezTo>
                <a:cubicBezTo>
                  <a:pt x="7189" y="16520"/>
                  <a:pt x="14395" y="2031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 rot="8423400">
            <a:off x="3276720" y="4870440"/>
            <a:ext cx="177840" cy="28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395" y="1290"/>
                  <a:pt x="7189" y="5080"/>
                  <a:pt x="7189" y="10800"/>
                </a:cubicBezTo>
                <a:cubicBezTo>
                  <a:pt x="7189" y="16520"/>
                  <a:pt x="14395" y="2031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2311560" y="857160"/>
            <a:ext cx="2635200" cy="6480"/>
          </a:xfrm>
          <a:custGeom>
            <a:avLst/>
            <a:gdLst/>
            <a:ahLst/>
            <a:rect l="l" t="t" r="r" b="b"/>
            <a:pathLst>
              <a:path w="1660" h="4">
                <a:moveTo>
                  <a:pt x="0" y="4"/>
                </a:moveTo>
                <a:lnTo>
                  <a:pt x="1660" y="0"/>
                </a:ln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6084720" y="765000"/>
            <a:ext cx="2635560" cy="6480"/>
          </a:xfrm>
          <a:custGeom>
            <a:avLst/>
            <a:gdLst/>
            <a:ahLst/>
            <a:rect l="l" t="t" r="r" b="b"/>
            <a:pathLst>
              <a:path w="1660" h="4">
                <a:moveTo>
                  <a:pt x="0" y="4"/>
                </a:moveTo>
                <a:lnTo>
                  <a:pt x="1660" y="0"/>
                </a:ln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6" dur="indefinite" restart="never" nodeType="tmRoot">
          <p:childTnLst>
            <p:seq>
              <p:cTn id="487" restart="whenNotActive" nodeType="interactiveSeq" fill="hold">
                <p:stCondLst>
                  <p:cond evt="onClick">
                    <p:tgtEl>
                      <p:spTgt spid="874"/>
                    </p:tgtEl>
                  </p:cond>
                </p:stCondLst>
                <p:childTnLst>
                  <p:par>
                    <p:cTn id="488" fill="hold">
                      <p:stCondLst>
                        <p:cond evt="onClick">
                          <p:tgtEl>
                            <p:spTgt spid="874"/>
                          </p:tgtEl>
                        </p:cond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500"/>
                            </p:stCondLst>
                            <p:childTnLst>
                              <p:par>
                                <p:cTn id="5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3000"/>
                            </p:stCondLst>
                            <p:childTnLst>
                              <p:par>
                                <p:cTn id="5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4" restart="whenNotActive" nodeType="interactiveSeq" fill="hold">
                <p:stCondLst>
                  <p:cond evt="onClick">
                    <p:tgtEl>
                      <p:spTgt spid="877"/>
                    </p:tgtEl>
                  </p:cond>
                </p:stCondLst>
                <p:childTnLst>
                  <p:par>
                    <p:cTn id="535" fill="hold">
                      <p:stCondLst>
                        <p:cond evt="onClick">
                          <p:tgtEl>
                            <p:spTgt spid="877"/>
                          </p:tgtEl>
                        </p:cond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500"/>
                            </p:stCondLst>
                            <p:childTnLst>
                              <p:par>
                                <p:cTn id="541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2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4" restart="whenNotActive" nodeType="interactiveSeq" fill="hold">
                <p:stCondLst>
                  <p:cond evt="onClick">
                    <p:tgtEl>
                      <p:spTgt spid="876"/>
                    </p:tgtEl>
                  </p:cond>
                </p:stCondLst>
                <p:childTnLst>
                  <p:par>
                    <p:cTn id="545" fill="hold">
                      <p:stCondLst>
                        <p:cond evt="onClick">
                          <p:tgtEl>
                            <p:spTgt spid="876"/>
                          </p:tgtEl>
                        </p:cond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2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4" restart="whenNotActive" nodeType="interactiveSeq" fill="hold">
                <p:stCondLst>
                  <p:cond evt="onClick">
                    <p:tgtEl>
                      <p:spTgt spid="875"/>
                    </p:tgtEl>
                  </p:cond>
                </p:stCondLst>
                <p:childTnLst>
                  <p:par>
                    <p:cTn id="555" fill="hold">
                      <p:stCondLst>
                        <p:cond evt="onClick">
                          <p:tgtEl>
                            <p:spTgt spid="875"/>
                          </p:tgtEl>
                        </p:cond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2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/>
          <p:nvPr/>
        </p:nvSpPr>
        <p:spPr>
          <a:xfrm>
            <a:off x="2627280" y="3678120"/>
            <a:ext cx="576360" cy="19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2828160" y="3573360"/>
            <a:ext cx="22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    2    3    4     5    6    7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-1440" y="327492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-1440" y="8366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-1440" y="601812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601200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-1440" y="11415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29844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60012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90000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120168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150192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180180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10348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240336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300528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330516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360684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390672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420840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450864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480852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511020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541008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571176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-1440" y="144612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-1440" y="17510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-1440" y="20559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-1440" y="236052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-1440" y="26654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-1440" y="29703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-1440" y="35798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-1440" y="38847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-1440" y="418932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-1440" y="44942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-1440" y="47991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-1440" y="510372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-1440" y="54086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-1440" y="57135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179280" y="3573360"/>
            <a:ext cx="561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 flipV="1">
            <a:off x="2700360" y="475920"/>
            <a:ext cx="0" cy="554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7" name=""/>
              <p:cNvSpPr txBox="1"/>
              <p:nvPr/>
            </p:nvSpPr>
            <p:spPr>
              <a:xfrm>
                <a:off x="6216480" y="92160"/>
                <a:ext cx="2117880" cy="20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у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х</m:t>
                                </m:r>
                              </m:den>
                            </m:f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8" name=""/>
          <p:cNvSpPr/>
          <p:nvPr/>
        </p:nvSpPr>
        <p:spPr>
          <a:xfrm>
            <a:off x="6013440" y="2781360"/>
            <a:ext cx="165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у = 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6086160" y="3357720"/>
            <a:ext cx="223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у = х +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755640" y="907920"/>
            <a:ext cx="4538520" cy="4638960"/>
          </a:xfrm>
          <a:custGeom>
            <a:avLst/>
            <a:gdLst/>
            <a:ahLst/>
            <a:rect l="l" t="t" r="r" b="b"/>
            <a:pathLst>
              <a:path w="2859" h="2922">
                <a:moveTo>
                  <a:pt x="2859" y="0"/>
                </a:moveTo>
                <a:lnTo>
                  <a:pt x="0" y="2922"/>
                </a:lnTo>
              </a:path>
            </a:pathLst>
          </a:custGeom>
          <a:noFill/>
          <a:ln w="28440">
            <a:solidFill>
              <a:srgbClr val="cc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6156000" y="4437000"/>
            <a:ext cx="286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т реш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6804000" y="2133720"/>
            <a:ext cx="1440000" cy="360360"/>
          </a:xfrm>
          <a:custGeom>
            <a:avLst/>
            <a:gdLst>
              <a:gd name="textAreaLeft" fmla="*/ 23040 w 1440000"/>
              <a:gd name="textAreaRight" fmla="*/ 1416960 w 144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6249" h="21600">
                <a:moveTo>
                  <a:pt x="0" y="0"/>
                </a:moveTo>
                <a:lnTo>
                  <a:pt x="86249" y="0"/>
                </a:lnTo>
                <a:lnTo>
                  <a:pt x="86249" y="21600"/>
                </a:lnTo>
                <a:lnTo>
                  <a:pt x="0" y="21600"/>
                </a:lnTo>
                <a:close/>
              </a:path>
              <a:path fill="lightenLess" w="86249" h="21600">
                <a:moveTo>
                  <a:pt x="0" y="0"/>
                </a:moveTo>
                <a:lnTo>
                  <a:pt x="86249" y="0"/>
                </a:lnTo>
                <a:lnTo>
                  <a:pt x="84849" y="1400"/>
                </a:lnTo>
                <a:lnTo>
                  <a:pt x="1400" y="1400"/>
                </a:lnTo>
                <a:close/>
              </a:path>
              <a:path fill="darken" w="86249" h="21600">
                <a:moveTo>
                  <a:pt x="86249" y="0"/>
                </a:moveTo>
                <a:lnTo>
                  <a:pt x="86249" y="21600"/>
                </a:lnTo>
                <a:lnTo>
                  <a:pt x="84849" y="20200"/>
                </a:lnTo>
                <a:lnTo>
                  <a:pt x="84849" y="1400"/>
                </a:lnTo>
                <a:close/>
              </a:path>
              <a:path fill="darkenLess" w="86249" h="21600">
                <a:moveTo>
                  <a:pt x="862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49" y="20200"/>
                </a:lnTo>
                <a:close/>
              </a:path>
              <a:path fill="lighten" w="862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6ffcc"/>
              </a:gs>
              <a:gs pos="50000">
                <a:srgbClr val="ffffff"/>
              </a:gs>
              <a:gs pos="100000">
                <a:srgbClr val="66ffcc"/>
              </a:gs>
            </a:gsLst>
            <a:lin ang="13500000"/>
          </a:gradFill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Постро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413080" y="3429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381600" y="3573360"/>
            <a:ext cx="22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7   -6   -5   -4   -3   -2   -1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2412720" y="620640"/>
            <a:ext cx="3225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2341800" y="260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5510520" y="3500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70" name="">
            <a:hlinkClick r:id="" action="ppaction://hlinkshowjump?jump=nextslide"/>
          </p:cNvPr>
          <p:cNvSpPr/>
          <p:nvPr/>
        </p:nvSpPr>
        <p:spPr>
          <a:xfrm>
            <a:off x="8388360" y="616572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>
            <a:hlinkClick r:id="" action="ppaction://hlinkshowjump?jump=previousslide"/>
          </p:cNvPr>
          <p:cNvSpPr/>
          <p:nvPr/>
        </p:nvSpPr>
        <p:spPr>
          <a:xfrm>
            <a:off x="179280" y="18900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2" name=""/>
          <p:cNvGrpSpPr/>
          <p:nvPr/>
        </p:nvGrpSpPr>
        <p:grpSpPr>
          <a:xfrm>
            <a:off x="-179280" y="349200"/>
            <a:ext cx="5830920" cy="6448320"/>
            <a:chOff x="-179280" y="349200"/>
            <a:chExt cx="5830920" cy="6448320"/>
          </a:xfrm>
        </p:grpSpPr>
        <p:sp>
          <p:nvSpPr>
            <p:cNvPr id="973" name=""/>
            <p:cNvSpPr/>
            <p:nvPr/>
          </p:nvSpPr>
          <p:spPr>
            <a:xfrm>
              <a:off x="2779560" y="349200"/>
              <a:ext cx="2872080" cy="3151080"/>
            </a:xfrm>
            <a:custGeom>
              <a:avLst/>
              <a:gdLst/>
              <a:ahLst/>
              <a:rect l="l" t="t" r="r" b="b"/>
              <a:pathLst>
                <a:path w="1809" h="1985">
                  <a:moveTo>
                    <a:pt x="0" y="0"/>
                  </a:moveTo>
                  <a:cubicBezTo>
                    <a:pt x="9" y="120"/>
                    <a:pt x="30" y="509"/>
                    <a:pt x="53" y="720"/>
                  </a:cubicBezTo>
                  <a:cubicBezTo>
                    <a:pt x="76" y="931"/>
                    <a:pt x="89" y="1108"/>
                    <a:pt x="136" y="1265"/>
                  </a:cubicBezTo>
                  <a:cubicBezTo>
                    <a:pt x="183" y="1422"/>
                    <a:pt x="239" y="1563"/>
                    <a:pt x="333" y="1660"/>
                  </a:cubicBezTo>
                  <a:cubicBezTo>
                    <a:pt x="427" y="1757"/>
                    <a:pt x="537" y="1802"/>
                    <a:pt x="697" y="1849"/>
                  </a:cubicBezTo>
                  <a:cubicBezTo>
                    <a:pt x="857" y="1896"/>
                    <a:pt x="1111" y="1917"/>
                    <a:pt x="1296" y="1940"/>
                  </a:cubicBezTo>
                  <a:cubicBezTo>
                    <a:pt x="1481" y="1963"/>
                    <a:pt x="1702" y="1976"/>
                    <a:pt x="1809" y="1985"/>
                  </a:cubicBezTo>
                </a:path>
              </a:pathLst>
            </a:custGeom>
            <a:noFill/>
            <a:ln w="28440">
              <a:solidFill>
                <a:srgbClr val="00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-179280" y="3646440"/>
              <a:ext cx="2871720" cy="3151080"/>
            </a:xfrm>
            <a:custGeom>
              <a:avLst/>
              <a:gdLst/>
              <a:ahLst/>
              <a:rect l="l" t="t" r="r" b="b"/>
              <a:pathLst>
                <a:path w="1809" h="1985">
                  <a:moveTo>
                    <a:pt x="1809" y="1985"/>
                  </a:moveTo>
                  <a:cubicBezTo>
                    <a:pt x="1800" y="1865"/>
                    <a:pt x="1786" y="1477"/>
                    <a:pt x="1756" y="1265"/>
                  </a:cubicBezTo>
                  <a:cubicBezTo>
                    <a:pt x="1726" y="1053"/>
                    <a:pt x="1683" y="867"/>
                    <a:pt x="1629" y="712"/>
                  </a:cubicBezTo>
                  <a:cubicBezTo>
                    <a:pt x="1575" y="557"/>
                    <a:pt x="1527" y="427"/>
                    <a:pt x="1432" y="333"/>
                  </a:cubicBezTo>
                  <a:cubicBezTo>
                    <a:pt x="1337" y="239"/>
                    <a:pt x="1213" y="199"/>
                    <a:pt x="1060" y="151"/>
                  </a:cubicBezTo>
                  <a:cubicBezTo>
                    <a:pt x="907" y="103"/>
                    <a:pt x="690" y="70"/>
                    <a:pt x="513" y="45"/>
                  </a:cubicBezTo>
                  <a:cubicBezTo>
                    <a:pt x="336" y="20"/>
                    <a:pt x="107" y="9"/>
                    <a:pt x="0" y="0"/>
                  </a:cubicBezTo>
                </a:path>
              </a:pathLst>
            </a:custGeom>
            <a:noFill/>
            <a:ln w="28440">
              <a:solidFill>
                <a:srgbClr val="00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5" name=""/>
          <p:cNvSpPr/>
          <p:nvPr/>
        </p:nvSpPr>
        <p:spPr>
          <a:xfrm>
            <a:off x="1406880" y="0"/>
            <a:ext cx="473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шить систему уравн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4" dur="indefinite" restart="never" nodeType="tmRoot">
          <p:childTnLst>
            <p:seq>
              <p:cTn id="565" restart="whenNotActive" nodeType="interactiveSeq" fill="hold">
                <p:stCondLst>
                  <p:cond evt="onClick">
                    <p:tgtEl>
                      <p:spTgt spid="962"/>
                    </p:tgtEl>
                  </p:cond>
                </p:stCondLst>
                <p:childTnLst>
                  <p:par>
                    <p:cTn id="566" fill="hold">
                      <p:stCondLst>
                        <p:cond evt="onClick">
                          <p:tgtEl>
                            <p:spTgt spid="962"/>
                          </p:tgtEl>
                        </p:cond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" dur="2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2000"/>
                            </p:stCondLst>
                            <p:childTnLst>
                              <p:par>
                                <p:cTn id="5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573" dur="20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evt="onClick">
                          <p:tgtEl>
                            <p:spTgt spid="962"/>
                          </p:tgtEl>
                        </p:cond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2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evt="onClick">
                          <p:tgtEl>
                            <p:spTgt spid="962"/>
                          </p:tgtEl>
                        </p:cond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85185E-006 L -0.00399 -0.12801 E">
                                      <p:cBhvr>
                                        <p:cTn id="590" dur="2000" fill="hold"/>
                                        <p:tgtEl>
                                          <p:spTgt spid="9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evt="onClick">
                          <p:tgtEl>
                            <p:spTgt spid="962"/>
                          </p:tgtEl>
                        </p:cond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2627280" y="3678120"/>
            <a:ext cx="576360" cy="19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2828160" y="3573360"/>
            <a:ext cx="22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    2    3    4     5    6    7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-1440" y="327492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-1440" y="8366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-1440" y="601812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601200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-1440" y="11415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29844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0012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90000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120168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50192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180180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210348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240336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300528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330516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360684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390672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420840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450864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480852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511020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541008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571176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-1440" y="144612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-1440" y="17510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-1440" y="20559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-1440" y="236052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-1440" y="26654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-1440" y="29703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-1440" y="35798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-1440" y="38847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-1440" y="418932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-1440" y="44942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-1440" y="47991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-1440" y="510372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-1440" y="54086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-1440" y="57135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179280" y="3573360"/>
            <a:ext cx="561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2700360" y="475920"/>
            <a:ext cx="0" cy="554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7" name=""/>
              <p:cNvSpPr txBox="1"/>
              <p:nvPr/>
            </p:nvSpPr>
            <p:spPr>
              <a:xfrm>
                <a:off x="5864400" y="52560"/>
                <a:ext cx="2822400" cy="21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у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х</m:t>
                                </m:r>
                              </m:den>
                            </m:f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18" name=""/>
          <p:cNvSpPr/>
          <p:nvPr/>
        </p:nvSpPr>
        <p:spPr>
          <a:xfrm>
            <a:off x="6013440" y="2781360"/>
            <a:ext cx="188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у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6086160" y="3357720"/>
            <a:ext cx="223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у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-23760" y="817560"/>
            <a:ext cx="5438880" cy="2768760"/>
          </a:xfrm>
          <a:custGeom>
            <a:avLst/>
            <a:gdLst/>
            <a:ahLst/>
            <a:rect l="l" t="t" r="r" b="b"/>
            <a:pathLst>
              <a:path w="3426" h="1744">
                <a:moveTo>
                  <a:pt x="3426" y="0"/>
                </a:moveTo>
                <a:lnTo>
                  <a:pt x="1720" y="174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5216400" y="4797360"/>
            <a:ext cx="372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(-4;-1), (4;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6659640" y="2276640"/>
            <a:ext cx="1439640" cy="360360"/>
          </a:xfrm>
          <a:custGeom>
            <a:avLst/>
            <a:gdLst>
              <a:gd name="textAreaLeft" fmla="*/ 23040 w 1439640"/>
              <a:gd name="textAreaRight" fmla="*/ 1416600 w 143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6228" h="21600">
                <a:moveTo>
                  <a:pt x="0" y="0"/>
                </a:moveTo>
                <a:lnTo>
                  <a:pt x="86228" y="0"/>
                </a:lnTo>
                <a:lnTo>
                  <a:pt x="86228" y="21600"/>
                </a:lnTo>
                <a:lnTo>
                  <a:pt x="0" y="21600"/>
                </a:lnTo>
                <a:close/>
              </a:path>
              <a:path fill="lightenLess" w="86228" h="21600">
                <a:moveTo>
                  <a:pt x="0" y="0"/>
                </a:moveTo>
                <a:lnTo>
                  <a:pt x="86228" y="0"/>
                </a:lnTo>
                <a:lnTo>
                  <a:pt x="84828" y="1400"/>
                </a:lnTo>
                <a:lnTo>
                  <a:pt x="1400" y="1400"/>
                </a:lnTo>
                <a:close/>
              </a:path>
              <a:path fill="darken" w="86228" h="21600">
                <a:moveTo>
                  <a:pt x="86228" y="0"/>
                </a:moveTo>
                <a:lnTo>
                  <a:pt x="86228" y="21600"/>
                </a:lnTo>
                <a:lnTo>
                  <a:pt x="84828" y="20200"/>
                </a:lnTo>
                <a:lnTo>
                  <a:pt x="84828" y="1400"/>
                </a:lnTo>
                <a:close/>
              </a:path>
              <a:path fill="darkenLess" w="86228" h="21600">
                <a:moveTo>
                  <a:pt x="8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28" y="20200"/>
                </a:lnTo>
                <a:close/>
              </a:path>
              <a:path fill="lighten" w="8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6ffcc"/>
              </a:gs>
              <a:gs pos="50000">
                <a:srgbClr val="ffffff"/>
              </a:gs>
              <a:gs pos="100000">
                <a:srgbClr val="66ffcc"/>
              </a:gs>
            </a:gsLst>
            <a:lin ang="13500000"/>
          </a:gradFill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Постро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2413080" y="3429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381600" y="3573360"/>
            <a:ext cx="22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7   -6   -5   -4   -3   -2   -1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2412720" y="620640"/>
            <a:ext cx="3225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2341800" y="260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5510520" y="3500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30" name="">
            <a:hlinkClick r:id="" action="ppaction://hlinkshowjump?jump=nextslide"/>
          </p:cNvPr>
          <p:cNvSpPr/>
          <p:nvPr/>
        </p:nvSpPr>
        <p:spPr>
          <a:xfrm>
            <a:off x="8388360" y="616572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>
            <a:hlinkClick r:id="" action="ppaction://hlinkshowjump?jump=previousslide"/>
          </p:cNvPr>
          <p:cNvSpPr/>
          <p:nvPr/>
        </p:nvSpPr>
        <p:spPr>
          <a:xfrm>
            <a:off x="179280" y="18900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2" name=""/>
          <p:cNvGrpSpPr/>
          <p:nvPr/>
        </p:nvGrpSpPr>
        <p:grpSpPr>
          <a:xfrm>
            <a:off x="-179280" y="349200"/>
            <a:ext cx="5830920" cy="6448320"/>
            <a:chOff x="-179280" y="349200"/>
            <a:chExt cx="5830920" cy="6448320"/>
          </a:xfrm>
        </p:grpSpPr>
        <p:sp>
          <p:nvSpPr>
            <p:cNvPr id="1033" name=""/>
            <p:cNvSpPr/>
            <p:nvPr/>
          </p:nvSpPr>
          <p:spPr>
            <a:xfrm>
              <a:off x="2779560" y="349200"/>
              <a:ext cx="2872080" cy="3151080"/>
            </a:xfrm>
            <a:custGeom>
              <a:avLst/>
              <a:gdLst/>
              <a:ahLst/>
              <a:rect l="l" t="t" r="r" b="b"/>
              <a:pathLst>
                <a:path w="1809" h="1985">
                  <a:moveTo>
                    <a:pt x="0" y="0"/>
                  </a:moveTo>
                  <a:cubicBezTo>
                    <a:pt x="9" y="120"/>
                    <a:pt x="30" y="509"/>
                    <a:pt x="53" y="720"/>
                  </a:cubicBezTo>
                  <a:cubicBezTo>
                    <a:pt x="76" y="931"/>
                    <a:pt x="89" y="1108"/>
                    <a:pt x="136" y="1265"/>
                  </a:cubicBezTo>
                  <a:cubicBezTo>
                    <a:pt x="183" y="1422"/>
                    <a:pt x="239" y="1563"/>
                    <a:pt x="333" y="1660"/>
                  </a:cubicBezTo>
                  <a:cubicBezTo>
                    <a:pt x="427" y="1757"/>
                    <a:pt x="537" y="1802"/>
                    <a:pt x="697" y="1849"/>
                  </a:cubicBezTo>
                  <a:cubicBezTo>
                    <a:pt x="857" y="1896"/>
                    <a:pt x="1111" y="1917"/>
                    <a:pt x="1296" y="1940"/>
                  </a:cubicBezTo>
                  <a:cubicBezTo>
                    <a:pt x="1481" y="1963"/>
                    <a:pt x="1702" y="1976"/>
                    <a:pt x="1809" y="1985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-179280" y="3646440"/>
              <a:ext cx="2871720" cy="3151080"/>
            </a:xfrm>
            <a:custGeom>
              <a:avLst/>
              <a:gdLst/>
              <a:ahLst/>
              <a:rect l="l" t="t" r="r" b="b"/>
              <a:pathLst>
                <a:path w="1809" h="1985">
                  <a:moveTo>
                    <a:pt x="1809" y="1985"/>
                  </a:moveTo>
                  <a:cubicBezTo>
                    <a:pt x="1800" y="1865"/>
                    <a:pt x="1786" y="1477"/>
                    <a:pt x="1756" y="1265"/>
                  </a:cubicBezTo>
                  <a:cubicBezTo>
                    <a:pt x="1726" y="1053"/>
                    <a:pt x="1683" y="867"/>
                    <a:pt x="1629" y="712"/>
                  </a:cubicBezTo>
                  <a:cubicBezTo>
                    <a:pt x="1575" y="557"/>
                    <a:pt x="1527" y="427"/>
                    <a:pt x="1432" y="333"/>
                  </a:cubicBezTo>
                  <a:cubicBezTo>
                    <a:pt x="1337" y="239"/>
                    <a:pt x="1213" y="199"/>
                    <a:pt x="1060" y="151"/>
                  </a:cubicBezTo>
                  <a:cubicBezTo>
                    <a:pt x="907" y="103"/>
                    <a:pt x="690" y="70"/>
                    <a:pt x="513" y="45"/>
                  </a:cubicBezTo>
                  <a:cubicBezTo>
                    <a:pt x="336" y="20"/>
                    <a:pt x="107" y="9"/>
                    <a:pt x="0" y="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5" name=""/>
          <p:cNvSpPr/>
          <p:nvPr/>
        </p:nvSpPr>
        <p:spPr>
          <a:xfrm>
            <a:off x="3851280" y="3213000"/>
            <a:ext cx="144360" cy="144720"/>
          </a:xfrm>
          <a:prstGeom prst="flowChartConnector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6086160" y="4005360"/>
            <a:ext cx="291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у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–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340000" y="4724280"/>
            <a:ext cx="144360" cy="144720"/>
          </a:xfrm>
          <a:prstGeom prst="flowChartConnector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1403280" y="3789360"/>
            <a:ext cx="144360" cy="144360"/>
          </a:xfrm>
          <a:prstGeom prst="flowChartConnector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903600" y="0"/>
            <a:ext cx="473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шить систему уравн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6" dur="indefinite" restart="never" nodeType="tmRoot">
          <p:childTnLst>
            <p:seq>
              <p:cTn id="597" restart="whenNotActive" nodeType="interactiveSeq" fill="hold">
                <p:stCondLst>
                  <p:cond evt="onClick">
                    <p:tgtEl>
                      <p:spTgt spid="1022"/>
                    </p:tgtEl>
                  </p:cond>
                </p:stCondLst>
                <p:childTnLst>
                  <p:par>
                    <p:cTn id="598" fill="hold">
                      <p:stCondLst>
                        <p:cond evt="onClick">
                          <p:tgtEl>
                            <p:spTgt spid="1022"/>
                          </p:tgtEl>
                        </p:cond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2" dur="2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evt="onClick">
                          <p:tgtEl>
                            <p:spTgt spid="1022"/>
                          </p:tgtEl>
                        </p:cond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500"/>
                            </p:stCondLst>
                            <p:childTnLst>
                              <p:par>
                                <p:cTn id="6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500"/>
                            </p:stCondLst>
                            <p:childTnLst>
                              <p:par>
                                <p:cTn id="6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evt="onClick">
                          <p:tgtEl>
                            <p:spTgt spid="1022"/>
                          </p:tgtEl>
                        </p:cond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0 L -0.03159 0 E">
                                      <p:cBhvr>
                                        <p:cTn id="619" dur="2000" fill="hold"/>
                                        <p:tgtEl>
                                          <p:spTgt spid="10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2000"/>
                            </p:stCondLst>
                            <p:childTnLst>
                              <p:par>
                                <p:cTn id="6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evt="onClick">
                          <p:tgtEl>
                            <p:spTgt spid="1022"/>
                          </p:tgtEl>
                        </p:cond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159 2.22222E-006 L -0.03159 0.17847 E">
                                      <p:cBhvr>
                                        <p:cTn id="627" dur="2000" fill="hold"/>
                                        <p:tgtEl>
                                          <p:spTgt spid="10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2000"/>
                            </p:stCondLst>
                            <p:childTnLst>
                              <p:par>
                                <p:cTn id="62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evt="onClick">
                          <p:tgtEl>
                            <p:spTgt spid="1022"/>
                          </p:tgtEl>
                        </p:cond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3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5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6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7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"/>
          <p:cNvSpPr/>
          <p:nvPr/>
        </p:nvSpPr>
        <p:spPr>
          <a:xfrm>
            <a:off x="2627280" y="3678120"/>
            <a:ext cx="576360" cy="19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828160" y="3573360"/>
            <a:ext cx="22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    2    3    4     5    6    7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-1440" y="327492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-1440" y="8366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-1440" y="601812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601200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-1440" y="11415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29844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60012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90000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120168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150192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180180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210348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240336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300528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330516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360684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390672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420840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450864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480852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511020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541008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571176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-1440" y="144612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-1440" y="17510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-1440" y="20559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-1440" y="236052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-1440" y="26654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-1440" y="29703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-1440" y="35798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-1440" y="38847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-1440" y="418932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-1440" y="44942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-1440" y="47991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-1440" y="510372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-1440" y="54086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-1440" y="57135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179280" y="3573360"/>
            <a:ext cx="561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 flipV="1">
            <a:off x="2700360" y="475920"/>
            <a:ext cx="0" cy="554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1" name=""/>
              <p:cNvSpPr txBox="1"/>
              <p:nvPr/>
            </p:nvSpPr>
            <p:spPr>
              <a:xfrm>
                <a:off x="6021360" y="557280"/>
                <a:ext cx="250812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2" name=""/>
          <p:cNvSpPr/>
          <p:nvPr/>
        </p:nvSpPr>
        <p:spPr>
          <a:xfrm>
            <a:off x="6013440" y="2781360"/>
            <a:ext cx="188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у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6086160" y="3357720"/>
            <a:ext cx="223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у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-23760" y="817560"/>
            <a:ext cx="5438880" cy="2768760"/>
          </a:xfrm>
          <a:custGeom>
            <a:avLst/>
            <a:gdLst/>
            <a:ahLst/>
            <a:rect l="l" t="t" r="r" b="b"/>
            <a:pathLst>
              <a:path w="3426" h="1744">
                <a:moveTo>
                  <a:pt x="3426" y="0"/>
                </a:moveTo>
                <a:lnTo>
                  <a:pt x="1720" y="174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6156720" y="4869000"/>
            <a:ext cx="2256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6659640" y="2276640"/>
            <a:ext cx="1439640" cy="360360"/>
          </a:xfrm>
          <a:custGeom>
            <a:avLst/>
            <a:gdLst>
              <a:gd name="textAreaLeft" fmla="*/ 23040 w 1439640"/>
              <a:gd name="textAreaRight" fmla="*/ 1416600 w 143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6228" h="21600">
                <a:moveTo>
                  <a:pt x="0" y="0"/>
                </a:moveTo>
                <a:lnTo>
                  <a:pt x="86228" y="0"/>
                </a:lnTo>
                <a:lnTo>
                  <a:pt x="86228" y="21600"/>
                </a:lnTo>
                <a:lnTo>
                  <a:pt x="0" y="21600"/>
                </a:lnTo>
                <a:close/>
              </a:path>
              <a:path fill="lightenLess" w="86228" h="21600">
                <a:moveTo>
                  <a:pt x="0" y="0"/>
                </a:moveTo>
                <a:lnTo>
                  <a:pt x="86228" y="0"/>
                </a:lnTo>
                <a:lnTo>
                  <a:pt x="84828" y="1400"/>
                </a:lnTo>
                <a:lnTo>
                  <a:pt x="1400" y="1400"/>
                </a:lnTo>
                <a:close/>
              </a:path>
              <a:path fill="darken" w="86228" h="21600">
                <a:moveTo>
                  <a:pt x="86228" y="0"/>
                </a:moveTo>
                <a:lnTo>
                  <a:pt x="86228" y="21600"/>
                </a:lnTo>
                <a:lnTo>
                  <a:pt x="84828" y="20200"/>
                </a:lnTo>
                <a:lnTo>
                  <a:pt x="84828" y="1400"/>
                </a:lnTo>
                <a:close/>
              </a:path>
              <a:path fill="darkenLess" w="86228" h="21600">
                <a:moveTo>
                  <a:pt x="8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28" y="20200"/>
                </a:lnTo>
                <a:close/>
              </a:path>
              <a:path fill="lighten" w="8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6ffcc"/>
              </a:gs>
              <a:gs pos="50000">
                <a:srgbClr val="ffffff"/>
              </a:gs>
              <a:gs pos="100000">
                <a:srgbClr val="66ffcc"/>
              </a:gs>
            </a:gsLst>
            <a:lin ang="13500000"/>
          </a:gradFill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Постро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2413080" y="3429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381600" y="3573360"/>
            <a:ext cx="22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7   -6   -5   -4   -3   -2   -1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2412720" y="620640"/>
            <a:ext cx="3225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2341800" y="260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5510520" y="3500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94" name="">
            <a:hlinkClick r:id="" action="ppaction://hlinkshowjump?jump=endshow"/>
          </p:cNvPr>
          <p:cNvSpPr/>
          <p:nvPr/>
        </p:nvSpPr>
        <p:spPr>
          <a:xfrm>
            <a:off x="8388360" y="616572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>
            <a:hlinkClick r:id="" action="ppaction://hlinkshowjump?jump=previousslide"/>
          </p:cNvPr>
          <p:cNvSpPr/>
          <p:nvPr/>
        </p:nvSpPr>
        <p:spPr>
          <a:xfrm>
            <a:off x="179280" y="18900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6" name=""/>
          <p:cNvGrpSpPr/>
          <p:nvPr/>
        </p:nvGrpSpPr>
        <p:grpSpPr>
          <a:xfrm>
            <a:off x="-179280" y="349200"/>
            <a:ext cx="5830920" cy="6448320"/>
            <a:chOff x="-179280" y="349200"/>
            <a:chExt cx="5830920" cy="6448320"/>
          </a:xfrm>
        </p:grpSpPr>
        <p:sp>
          <p:nvSpPr>
            <p:cNvPr id="1097" name=""/>
            <p:cNvSpPr/>
            <p:nvPr/>
          </p:nvSpPr>
          <p:spPr>
            <a:xfrm>
              <a:off x="2779560" y="349200"/>
              <a:ext cx="2872080" cy="3151080"/>
            </a:xfrm>
            <a:custGeom>
              <a:avLst/>
              <a:gdLst/>
              <a:ahLst/>
              <a:rect l="l" t="t" r="r" b="b"/>
              <a:pathLst>
                <a:path w="1809" h="1985">
                  <a:moveTo>
                    <a:pt x="0" y="0"/>
                  </a:moveTo>
                  <a:cubicBezTo>
                    <a:pt x="9" y="120"/>
                    <a:pt x="30" y="509"/>
                    <a:pt x="53" y="720"/>
                  </a:cubicBezTo>
                  <a:cubicBezTo>
                    <a:pt x="76" y="931"/>
                    <a:pt x="89" y="1108"/>
                    <a:pt x="136" y="1265"/>
                  </a:cubicBezTo>
                  <a:cubicBezTo>
                    <a:pt x="183" y="1422"/>
                    <a:pt x="239" y="1563"/>
                    <a:pt x="333" y="1660"/>
                  </a:cubicBezTo>
                  <a:cubicBezTo>
                    <a:pt x="427" y="1757"/>
                    <a:pt x="537" y="1802"/>
                    <a:pt x="697" y="1849"/>
                  </a:cubicBezTo>
                  <a:cubicBezTo>
                    <a:pt x="857" y="1896"/>
                    <a:pt x="1111" y="1917"/>
                    <a:pt x="1296" y="1940"/>
                  </a:cubicBezTo>
                  <a:cubicBezTo>
                    <a:pt x="1481" y="1963"/>
                    <a:pt x="1702" y="1976"/>
                    <a:pt x="1809" y="1985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-179280" y="3646440"/>
              <a:ext cx="2871720" cy="3151080"/>
            </a:xfrm>
            <a:custGeom>
              <a:avLst/>
              <a:gdLst/>
              <a:ahLst/>
              <a:rect l="l" t="t" r="r" b="b"/>
              <a:pathLst>
                <a:path w="1809" h="1985">
                  <a:moveTo>
                    <a:pt x="1809" y="1985"/>
                  </a:moveTo>
                  <a:cubicBezTo>
                    <a:pt x="1800" y="1865"/>
                    <a:pt x="1786" y="1477"/>
                    <a:pt x="1756" y="1265"/>
                  </a:cubicBezTo>
                  <a:cubicBezTo>
                    <a:pt x="1726" y="1053"/>
                    <a:pt x="1683" y="867"/>
                    <a:pt x="1629" y="712"/>
                  </a:cubicBezTo>
                  <a:cubicBezTo>
                    <a:pt x="1575" y="557"/>
                    <a:pt x="1527" y="427"/>
                    <a:pt x="1432" y="333"/>
                  </a:cubicBezTo>
                  <a:cubicBezTo>
                    <a:pt x="1337" y="239"/>
                    <a:pt x="1213" y="199"/>
                    <a:pt x="1060" y="151"/>
                  </a:cubicBezTo>
                  <a:cubicBezTo>
                    <a:pt x="907" y="103"/>
                    <a:pt x="690" y="70"/>
                    <a:pt x="513" y="45"/>
                  </a:cubicBezTo>
                  <a:cubicBezTo>
                    <a:pt x="336" y="20"/>
                    <a:pt x="107" y="9"/>
                    <a:pt x="0" y="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9" name=""/>
          <p:cNvSpPr/>
          <p:nvPr/>
        </p:nvSpPr>
        <p:spPr>
          <a:xfrm>
            <a:off x="3851280" y="3500280"/>
            <a:ext cx="144360" cy="144720"/>
          </a:xfrm>
          <a:prstGeom prst="flowChartConnector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6086160" y="4005360"/>
            <a:ext cx="291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у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–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2340000" y="3500280"/>
            <a:ext cx="144360" cy="144720"/>
          </a:xfrm>
          <a:prstGeom prst="flowChartConnector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1403280" y="3500280"/>
            <a:ext cx="144360" cy="144720"/>
          </a:xfrm>
          <a:prstGeom prst="flowChartConnector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5583960" y="115920"/>
            <a:ext cx="329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шить урав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4" name=""/>
          <p:cNvGrpSpPr/>
          <p:nvPr/>
        </p:nvGrpSpPr>
        <p:grpSpPr>
          <a:xfrm>
            <a:off x="1476360" y="3213000"/>
            <a:ext cx="2448000" cy="1645920"/>
            <a:chOff x="1476360" y="3213000"/>
            <a:chExt cx="2448000" cy="1645920"/>
          </a:xfrm>
        </p:grpSpPr>
        <p:sp>
          <p:nvSpPr>
            <p:cNvPr id="1105" name=""/>
            <p:cNvSpPr/>
            <p:nvPr/>
          </p:nvSpPr>
          <p:spPr>
            <a:xfrm flipV="1">
              <a:off x="1476360" y="3624480"/>
              <a:ext cx="0" cy="31176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413080" y="3624480"/>
              <a:ext cx="1440" cy="1234440"/>
            </a:xfrm>
            <a:custGeom>
              <a:avLst/>
              <a:gdLst/>
              <a:ahLst/>
              <a:rect l="l" t="t" r="r" b="b"/>
              <a:pathLst>
                <a:path w="1" h="720">
                  <a:moveTo>
                    <a:pt x="0" y="72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80008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911760" y="3213000"/>
              <a:ext cx="12600" cy="334080"/>
            </a:xfrm>
            <a:custGeom>
              <a:avLst/>
              <a:gdLst/>
              <a:ahLst/>
              <a:rect l="l" t="t" r="r" b="b"/>
              <a:pathLst>
                <a:path w="8" h="195">
                  <a:moveTo>
                    <a:pt x="0" y="0"/>
                  </a:moveTo>
                  <a:lnTo>
                    <a:pt x="8" y="195"/>
                  </a:lnTo>
                </a:path>
              </a:pathLst>
            </a:custGeom>
            <a:noFill/>
            <a:ln w="38160">
              <a:solidFill>
                <a:srgbClr val="80008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88" dur="indefinite" restart="never" nodeType="tmRoot">
          <p:childTnLst>
            <p:seq>
              <p:cTn id="689" restart="whenNotActive" nodeType="interactiveSeq" fill="hold">
                <p:stCondLst>
                  <p:cond evt="onClick">
                    <p:tgtEl>
                      <p:spTgt spid="1086"/>
                    </p:tgtEl>
                  </p:cond>
                </p:stCondLst>
                <p:childTnLst>
                  <p:par>
                    <p:cTn id="690" fill="hold">
                      <p:stCondLst>
                        <p:cond evt="onClick">
                          <p:tgtEl>
                            <p:spTgt spid="1086"/>
                          </p:tgtEl>
                        </p:cond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4" dur="20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evt="onClick">
                          <p:tgtEl>
                            <p:spTgt spid="1086"/>
                          </p:tgtEl>
                        </p:cond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500"/>
                            </p:stCondLst>
                            <p:childTnLst>
                              <p:par>
                                <p:cTn id="7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3" dur="1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500"/>
                            </p:stCondLst>
                            <p:childTnLst>
                              <p:par>
                                <p:cTn id="7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1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evt="onClick">
                          <p:tgtEl>
                            <p:spTgt spid="1086"/>
                          </p:tgtEl>
                        </p:cond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0 L -0.03159 0 E">
                                      <p:cBhvr>
                                        <p:cTn id="711" dur="2000" fill="hold"/>
                                        <p:tgtEl>
                                          <p:spTgt spid="10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2000"/>
                            </p:stCondLst>
                            <p:childTnLst>
                              <p:par>
                                <p:cTn id="7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1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evt="onClick">
                          <p:tgtEl>
                            <p:spTgt spid="1086"/>
                          </p:tgtEl>
                        </p:cond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159 2.22222E-006 L -0.03159 0.17847 E">
                                      <p:cBhvr>
                                        <p:cTn id="719" dur="2000" fill="hold"/>
                                        <p:tgtEl>
                                          <p:spTgt spid="10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evt="onClick">
                          <p:tgtEl>
                            <p:spTgt spid="1086"/>
                          </p:tgtEl>
                        </p:cond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20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2000"/>
                            </p:stCondLst>
                            <p:childTnLst>
                              <p:par>
                                <p:cTn id="726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7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4500"/>
                            </p:stCondLst>
                            <p:childTnLst>
                              <p:par>
                                <p:cTn id="72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evt="onClick">
                          <p:tgtEl>
                            <p:spTgt spid="1086"/>
                          </p:tgtEl>
                        </p:cond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3" dur="5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5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6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7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 flipH="1">
            <a:off x="3851280" y="3284640"/>
            <a:ext cx="489744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51280" y="765000"/>
            <a:ext cx="4991040" cy="5078520"/>
            <a:chOff x="3851280" y="765000"/>
            <a:chExt cx="4991040" cy="5078520"/>
          </a:xfrm>
        </p:grpSpPr>
        <p:sp>
          <p:nvSpPr>
            <p:cNvPr id="94" name=""/>
            <p:cNvSpPr/>
            <p:nvPr/>
          </p:nvSpPr>
          <p:spPr>
            <a:xfrm>
              <a:off x="3870360" y="777600"/>
              <a:ext cx="3240" cy="5035680"/>
            </a:xfrm>
            <a:custGeom>
              <a:avLst/>
              <a:gdLst/>
              <a:ahLst/>
              <a:rect l="l" t="t" r="r" b="b"/>
              <a:pathLst>
                <a:path w="2" h="3172">
                  <a:moveTo>
                    <a:pt x="0" y="0"/>
                  </a:moveTo>
                  <a:lnTo>
                    <a:pt x="2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946680" y="2736720"/>
              <a:ext cx="4857840" cy="3240"/>
            </a:xfrm>
            <a:custGeom>
              <a:avLst/>
              <a:gdLst/>
              <a:ahLst/>
              <a:rect l="l" t="t" r="r" b="b"/>
              <a:pathLst>
                <a:path w="3060" h="2">
                  <a:moveTo>
                    <a:pt x="0" y="0"/>
                  </a:moveTo>
                  <a:lnTo>
                    <a:pt x="3060" y="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89440" y="5533920"/>
              <a:ext cx="4902120" cy="1440"/>
            </a:xfrm>
            <a:custGeom>
              <a:avLst/>
              <a:gdLst/>
              <a:ahLst/>
              <a:rect l="l" t="t" r="r" b="b"/>
              <a:pathLst>
                <a:path w="3088" h="1">
                  <a:moveTo>
                    <a:pt x="0" y="0"/>
                  </a:moveTo>
                  <a:lnTo>
                    <a:pt x="3088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73600" y="5254560"/>
              <a:ext cx="4911840" cy="3240"/>
            </a:xfrm>
            <a:custGeom>
              <a:avLst/>
              <a:gdLst/>
              <a:ahLst/>
              <a:rect l="l" t="t" r="r" b="b"/>
              <a:pathLst>
                <a:path w="3094" h="2">
                  <a:moveTo>
                    <a:pt x="0" y="2"/>
                  </a:moveTo>
                  <a:lnTo>
                    <a:pt x="3094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73600" y="4970160"/>
              <a:ext cx="496872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76840" y="4695840"/>
              <a:ext cx="4914720" cy="1440"/>
            </a:xfrm>
            <a:custGeom>
              <a:avLst/>
              <a:gdLst/>
              <a:ahLst/>
              <a:rect l="l" t="t" r="r" b="b"/>
              <a:pathLst>
                <a:path w="3096" h="1">
                  <a:moveTo>
                    <a:pt x="0" y="0"/>
                  </a:moveTo>
                  <a:lnTo>
                    <a:pt x="3096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70360" y="4416120"/>
              <a:ext cx="4908600" cy="1800"/>
            </a:xfrm>
            <a:custGeom>
              <a:avLst/>
              <a:gdLst/>
              <a:ahLst/>
              <a:rect l="l" t="t" r="r" b="b"/>
              <a:pathLst>
                <a:path w="3092" h="1">
                  <a:moveTo>
                    <a:pt x="0" y="0"/>
                  </a:moveTo>
                  <a:lnTo>
                    <a:pt x="309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64240" y="4130640"/>
              <a:ext cx="4921200" cy="6120"/>
            </a:xfrm>
            <a:custGeom>
              <a:avLst/>
              <a:gdLst/>
              <a:ahLst/>
              <a:rect l="l" t="t" r="r" b="b"/>
              <a:pathLst>
                <a:path w="3100" h="4">
                  <a:moveTo>
                    <a:pt x="0" y="4"/>
                  </a:moveTo>
                  <a:lnTo>
                    <a:pt x="3100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64240" y="3851280"/>
              <a:ext cx="4933800" cy="12600"/>
            </a:xfrm>
            <a:custGeom>
              <a:avLst/>
              <a:gdLst/>
              <a:ahLst/>
              <a:rect l="l" t="t" r="r" b="b"/>
              <a:pathLst>
                <a:path w="3108" h="8">
                  <a:moveTo>
                    <a:pt x="0" y="8"/>
                  </a:moveTo>
                  <a:lnTo>
                    <a:pt x="3108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51280" y="3571920"/>
              <a:ext cx="4946760" cy="6120"/>
            </a:xfrm>
            <a:custGeom>
              <a:avLst/>
              <a:gdLst/>
              <a:ahLst/>
              <a:rect l="l" t="t" r="r" b="b"/>
              <a:pathLst>
                <a:path w="3116" h="4">
                  <a:moveTo>
                    <a:pt x="0" y="0"/>
                  </a:moveTo>
                  <a:lnTo>
                    <a:pt x="3116" y="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946680" y="3019320"/>
              <a:ext cx="4844880" cy="6480"/>
            </a:xfrm>
            <a:custGeom>
              <a:avLst/>
              <a:gdLst/>
              <a:ahLst/>
              <a:rect l="l" t="t" r="r" b="b"/>
              <a:pathLst>
                <a:path w="3052" h="4">
                  <a:moveTo>
                    <a:pt x="0" y="4"/>
                  </a:moveTo>
                  <a:lnTo>
                    <a:pt x="305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876840" y="2460600"/>
              <a:ext cx="4921200" cy="1440"/>
            </a:xfrm>
            <a:custGeom>
              <a:avLst/>
              <a:gdLst/>
              <a:ahLst/>
              <a:rect l="l" t="t" r="r" b="b"/>
              <a:pathLst>
                <a:path w="3100" h="1">
                  <a:moveTo>
                    <a:pt x="0" y="0"/>
                  </a:moveTo>
                  <a:lnTo>
                    <a:pt x="3100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857760" y="2181240"/>
              <a:ext cx="4940280" cy="6120"/>
            </a:xfrm>
            <a:custGeom>
              <a:avLst/>
              <a:gdLst/>
              <a:ahLst/>
              <a:rect l="l" t="t" r="r" b="b"/>
              <a:pathLst>
                <a:path w="3112" h="4">
                  <a:moveTo>
                    <a:pt x="0" y="4"/>
                  </a:moveTo>
                  <a:lnTo>
                    <a:pt x="311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864240" y="1901520"/>
              <a:ext cx="4933800" cy="6480"/>
            </a:xfrm>
            <a:custGeom>
              <a:avLst/>
              <a:gdLst/>
              <a:ahLst/>
              <a:rect l="l" t="t" r="r" b="b"/>
              <a:pathLst>
                <a:path w="3108" h="4">
                  <a:moveTo>
                    <a:pt x="0" y="0"/>
                  </a:moveTo>
                  <a:lnTo>
                    <a:pt x="3108" y="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57760" y="1628640"/>
              <a:ext cx="4940280" cy="6480"/>
            </a:xfrm>
            <a:custGeom>
              <a:avLst/>
              <a:gdLst/>
              <a:ahLst/>
              <a:rect l="l" t="t" r="r" b="b"/>
              <a:pathLst>
                <a:path w="3112" h="4">
                  <a:moveTo>
                    <a:pt x="0" y="4"/>
                  </a:moveTo>
                  <a:lnTo>
                    <a:pt x="311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70360" y="1349280"/>
              <a:ext cx="4927680" cy="1440"/>
            </a:xfrm>
            <a:custGeom>
              <a:avLst/>
              <a:gdLst/>
              <a:ahLst/>
              <a:rect l="l" t="t" r="r" b="b"/>
              <a:pathLst>
                <a:path w="3104" h="1">
                  <a:moveTo>
                    <a:pt x="0" y="0"/>
                  </a:moveTo>
                  <a:lnTo>
                    <a:pt x="3104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82960" y="1069920"/>
              <a:ext cx="4908600" cy="12600"/>
            </a:xfrm>
            <a:custGeom>
              <a:avLst/>
              <a:gdLst/>
              <a:ahLst/>
              <a:rect l="l" t="t" r="r" b="b"/>
              <a:pathLst>
                <a:path w="3092" h="8">
                  <a:moveTo>
                    <a:pt x="0" y="8"/>
                  </a:moveTo>
                  <a:lnTo>
                    <a:pt x="309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95920" y="777600"/>
              <a:ext cx="4902120" cy="19080"/>
            </a:xfrm>
            <a:custGeom>
              <a:avLst/>
              <a:gdLst/>
              <a:ahLst/>
              <a:rect l="l" t="t" r="r" b="b"/>
              <a:pathLst>
                <a:path w="3088" h="12">
                  <a:moveTo>
                    <a:pt x="0" y="0"/>
                  </a:moveTo>
                  <a:lnTo>
                    <a:pt x="3088" y="1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57760" y="5813280"/>
              <a:ext cx="4946760" cy="1440"/>
            </a:xfrm>
            <a:custGeom>
              <a:avLst/>
              <a:gdLst/>
              <a:ahLst/>
              <a:rect l="l" t="t" r="r" b="b"/>
              <a:pathLst>
                <a:path w="3116" h="1">
                  <a:moveTo>
                    <a:pt x="0" y="0"/>
                  </a:moveTo>
                  <a:lnTo>
                    <a:pt x="3116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798040" y="803160"/>
              <a:ext cx="1440" cy="4978440"/>
            </a:xfrm>
            <a:custGeom>
              <a:avLst/>
              <a:gdLst/>
              <a:ahLst/>
              <a:rect l="l" t="t" r="r" b="b"/>
              <a:pathLst>
                <a:path w="1" h="3136">
                  <a:moveTo>
                    <a:pt x="0" y="0"/>
                  </a:moveTo>
                  <a:lnTo>
                    <a:pt x="0" y="3136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487000" y="790560"/>
              <a:ext cx="6120" cy="5035320"/>
            </a:xfrm>
            <a:custGeom>
              <a:avLst/>
              <a:gdLst/>
              <a:ahLst/>
              <a:rect l="l" t="t" r="r" b="b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175600" y="790560"/>
              <a:ext cx="6480" cy="5029200"/>
            </a:xfrm>
            <a:custGeom>
              <a:avLst/>
              <a:gdLst/>
              <a:ahLst/>
              <a:rect l="l" t="t" r="r" b="b"/>
              <a:pathLst>
                <a:path w="4" h="3168">
                  <a:moveTo>
                    <a:pt x="4" y="0"/>
                  </a:moveTo>
                  <a:lnTo>
                    <a:pt x="0" y="3168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871040" y="790560"/>
              <a:ext cx="1440" cy="5016240"/>
            </a:xfrm>
            <a:custGeom>
              <a:avLst/>
              <a:gdLst/>
              <a:ahLst/>
              <a:rect l="l" t="t" r="r" b="b"/>
              <a:pathLst>
                <a:path w="1" h="3160">
                  <a:moveTo>
                    <a:pt x="0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559640" y="784080"/>
              <a:ext cx="6480" cy="5035680"/>
            </a:xfrm>
            <a:custGeom>
              <a:avLst/>
              <a:gdLst/>
              <a:ahLst/>
              <a:rect l="l" t="t" r="r" b="b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236000" y="777600"/>
              <a:ext cx="22320" cy="5065920"/>
            </a:xfrm>
            <a:custGeom>
              <a:avLst/>
              <a:gdLst/>
              <a:ahLst/>
              <a:rect l="l" t="t" r="r" b="b"/>
              <a:pathLst>
                <a:path w="14" h="3191">
                  <a:moveTo>
                    <a:pt x="0" y="0"/>
                  </a:moveTo>
                  <a:lnTo>
                    <a:pt x="14" y="3191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943680" y="803160"/>
              <a:ext cx="6480" cy="5016600"/>
            </a:xfrm>
            <a:custGeom>
              <a:avLst/>
              <a:gdLst/>
              <a:ahLst/>
              <a:rect l="l" t="t" r="r" b="b"/>
              <a:pathLst>
                <a:path w="4" h="3160">
                  <a:moveTo>
                    <a:pt x="4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639120" y="803160"/>
              <a:ext cx="1440" cy="5003640"/>
            </a:xfrm>
            <a:custGeom>
              <a:avLst/>
              <a:gdLst/>
              <a:ahLst/>
              <a:rect l="l" t="t" r="r" b="b"/>
              <a:pathLst>
                <a:path w="1" h="3152">
                  <a:moveTo>
                    <a:pt x="0" y="0"/>
                  </a:moveTo>
                  <a:lnTo>
                    <a:pt x="0" y="315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16680" y="765000"/>
              <a:ext cx="17640" cy="5078520"/>
            </a:xfrm>
            <a:custGeom>
              <a:avLst/>
              <a:gdLst/>
              <a:ahLst/>
              <a:rect l="l" t="t" r="r" b="b"/>
              <a:pathLst>
                <a:path w="11" h="3199">
                  <a:moveTo>
                    <a:pt x="0" y="0"/>
                  </a:moveTo>
                  <a:lnTo>
                    <a:pt x="11" y="3199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11760" y="790560"/>
              <a:ext cx="1800" cy="5035320"/>
            </a:xfrm>
            <a:custGeom>
              <a:avLst/>
              <a:gdLst/>
              <a:ahLst/>
              <a:rect l="l" t="t" r="r" b="b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407200" y="796680"/>
              <a:ext cx="6120" cy="5023080"/>
            </a:xfrm>
            <a:custGeom>
              <a:avLst/>
              <a:gdLst/>
              <a:ahLst/>
              <a:rect l="l" t="t" r="r" b="b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089680" y="790560"/>
              <a:ext cx="12600" cy="5022720"/>
            </a:xfrm>
            <a:custGeom>
              <a:avLst/>
              <a:gdLst/>
              <a:ahLst/>
              <a:rect l="l" t="t" r="r" b="b"/>
              <a:pathLst>
                <a:path w="8" h="3164">
                  <a:moveTo>
                    <a:pt x="0" y="0"/>
                  </a:moveTo>
                  <a:lnTo>
                    <a:pt x="8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791240" y="790560"/>
              <a:ext cx="6120" cy="5022720"/>
            </a:xfrm>
            <a:custGeom>
              <a:avLst/>
              <a:gdLst/>
              <a:ahLst/>
              <a:rect l="l" t="t" r="r" b="b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486320" y="790560"/>
              <a:ext cx="1800" cy="5035320"/>
            </a:xfrm>
            <a:custGeom>
              <a:avLst/>
              <a:gdLst/>
              <a:ahLst/>
              <a:rect l="l" t="t" r="r" b="b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175280" y="790560"/>
              <a:ext cx="1440" cy="5022720"/>
            </a:xfrm>
            <a:custGeom>
              <a:avLst/>
              <a:gdLst/>
              <a:ahLst/>
              <a:rect l="l" t="t" r="r" b="b"/>
              <a:pathLst>
                <a:path w="1" h="3164">
                  <a:moveTo>
                    <a:pt x="0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3924360" y="4141800"/>
            <a:ext cx="4897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300720" y="764640"/>
            <a:ext cx="0" cy="504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92720" y="1844640"/>
            <a:ext cx="1968480" cy="2571840"/>
          </a:xfrm>
          <a:custGeom>
            <a:avLst/>
            <a:gdLst/>
            <a:ahLst/>
            <a:rect l="l" t="t" r="r" b="b"/>
            <a:pathLst>
              <a:path w="1240" h="1620">
                <a:moveTo>
                  <a:pt x="0" y="0"/>
                </a:moveTo>
                <a:cubicBezTo>
                  <a:pt x="43" y="154"/>
                  <a:pt x="140" y="652"/>
                  <a:pt x="248" y="922"/>
                </a:cubicBezTo>
                <a:cubicBezTo>
                  <a:pt x="356" y="1192"/>
                  <a:pt x="521" y="1616"/>
                  <a:pt x="648" y="1618"/>
                </a:cubicBezTo>
                <a:cubicBezTo>
                  <a:pt x="775" y="1620"/>
                  <a:pt x="909" y="1200"/>
                  <a:pt x="1008" y="936"/>
                </a:cubicBezTo>
                <a:cubicBezTo>
                  <a:pt x="1107" y="672"/>
                  <a:pt x="1192" y="220"/>
                  <a:pt x="1240" y="32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516720" y="3284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1916280"/>
            <a:ext cx="360360" cy="50292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2920"/>
              <a:gd name="textAreaBottom" fmla="*/ 479880 h 502920"/>
            </a:gdLst>
            <a:ahLst/>
            <a:rect l="textAreaLeft" t="textAreaTop" r="textAreaRight" b="textAreaBottom"/>
            <a:pathLst>
              <a:path w="21600" h="30137">
                <a:moveTo>
                  <a:pt x="0" y="0"/>
                </a:moveTo>
                <a:lnTo>
                  <a:pt x="21600" y="0"/>
                </a:lnTo>
                <a:lnTo>
                  <a:pt x="21600" y="30137"/>
                </a:lnTo>
                <a:lnTo>
                  <a:pt x="0" y="30137"/>
                </a:lnTo>
                <a:close/>
              </a:path>
              <a:path fill="lightenLess" w="21600" h="301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37">
                <a:moveTo>
                  <a:pt x="21600" y="0"/>
                </a:moveTo>
                <a:lnTo>
                  <a:pt x="21600" y="30137"/>
                </a:lnTo>
                <a:lnTo>
                  <a:pt x="20200" y="28737"/>
                </a:lnTo>
                <a:lnTo>
                  <a:pt x="20200" y="1400"/>
                </a:lnTo>
                <a:close/>
              </a:path>
              <a:path fill="darkenLess" w="21600" h="30137">
                <a:moveTo>
                  <a:pt x="21600" y="30137"/>
                </a:moveTo>
                <a:lnTo>
                  <a:pt x="0" y="30137"/>
                </a:lnTo>
                <a:lnTo>
                  <a:pt x="1400" y="28737"/>
                </a:lnTo>
                <a:lnTo>
                  <a:pt x="20200" y="28737"/>
                </a:lnTo>
                <a:close/>
              </a:path>
              <a:path fill="lighten" w="21600" h="30137">
                <a:moveTo>
                  <a:pt x="0" y="301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37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0920" y="465444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321300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" action="ppaction://hlinkshowjump?jump=previousslide"/>
          </p:cNvPr>
          <p:cNvSpPr/>
          <p:nvPr/>
        </p:nvSpPr>
        <p:spPr>
          <a:xfrm>
            <a:off x="250920" y="189000"/>
            <a:ext cx="504720" cy="5032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62" h="21600">
                <a:moveTo>
                  <a:pt x="0" y="0"/>
                </a:moveTo>
                <a:lnTo>
                  <a:pt x="21662" y="0"/>
                </a:lnTo>
                <a:lnTo>
                  <a:pt x="21662" y="21600"/>
                </a:lnTo>
                <a:lnTo>
                  <a:pt x="0" y="21600"/>
                </a:lnTo>
                <a:close/>
              </a:path>
              <a:path fill="lightenLess" w="21662" h="21600">
                <a:moveTo>
                  <a:pt x="0" y="0"/>
                </a:moveTo>
                <a:lnTo>
                  <a:pt x="21662" y="0"/>
                </a:lnTo>
                <a:lnTo>
                  <a:pt x="20262" y="1400"/>
                </a:lnTo>
                <a:lnTo>
                  <a:pt x="1400" y="1400"/>
                </a:lnTo>
                <a:close/>
              </a:path>
              <a:path fill="darken" w="21662" h="21600">
                <a:moveTo>
                  <a:pt x="21662" y="0"/>
                </a:moveTo>
                <a:lnTo>
                  <a:pt x="21662" y="21600"/>
                </a:lnTo>
                <a:lnTo>
                  <a:pt x="20262" y="20200"/>
                </a:lnTo>
                <a:lnTo>
                  <a:pt x="20262" y="1400"/>
                </a:lnTo>
                <a:close/>
              </a:path>
              <a:path fill="darkenLess" w="21662" h="21600">
                <a:moveTo>
                  <a:pt x="21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2" y="20200"/>
                </a:lnTo>
                <a:close/>
              </a:path>
              <a:path fill="lighten" w="21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2" h="21600">
                <a:moveTo>
                  <a:pt x="3824" y="10800"/>
                </a:moveTo>
                <a:lnTo>
                  <a:pt x="17837" y="3794"/>
                </a:lnTo>
                <a:lnTo>
                  <a:pt x="1783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" action="ppaction://hlinkshowjump?jump=nextslide"/>
          </p:cNvPr>
          <p:cNvSpPr/>
          <p:nvPr/>
        </p:nvSpPr>
        <p:spPr>
          <a:xfrm>
            <a:off x="838836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00720" y="0"/>
            <a:ext cx="14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Monotype Corsiva"/>
              </a:rPr>
              <a:t>те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-1080" y="836640"/>
            <a:ext cx="4348800" cy="825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кажите систему уравнен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торая не имеет реш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9280" y="602136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684360" y="1658880"/>
                <a:ext cx="1800000" cy="11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у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611280" y="2886120"/>
                <a:ext cx="1785960" cy="11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у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669960" y="4292640"/>
                <a:ext cx="173520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у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3851280" y="1341360"/>
            <a:ext cx="5292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88000" y="952560"/>
            <a:ext cx="12600" cy="5054400"/>
          </a:xfrm>
          <a:custGeom>
            <a:avLst/>
            <a:gdLst/>
            <a:ahLst/>
            <a:rect l="l" t="t" r="r" b="b"/>
            <a:pathLst>
              <a:path w="8" h="3184">
                <a:moveTo>
                  <a:pt x="0" y="0"/>
                </a:moveTo>
                <a:lnTo>
                  <a:pt x="8" y="3184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92360" y="2997360"/>
            <a:ext cx="2159280" cy="936360"/>
          </a:xfrm>
          <a:prstGeom prst="wedgeEllipseCallout">
            <a:avLst>
              <a:gd name="adj1" fmla="val -96986"/>
              <a:gd name="adj2" fmla="val 1694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ОДН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ре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35280" y="1413000"/>
            <a:ext cx="1944720" cy="720720"/>
          </a:xfrm>
          <a:prstGeom prst="wedgeEllipseCallout">
            <a:avLst>
              <a:gd name="adj1" fmla="val -113430"/>
              <a:gd name="adj2" fmla="val 42069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708360" y="4581360"/>
            <a:ext cx="2232000" cy="863640"/>
          </a:xfrm>
          <a:prstGeom prst="wedgeEllipseCallout">
            <a:avLst>
              <a:gd name="adj1" fmla="val -100569"/>
              <a:gd name="adj2" fmla="val 4046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ДВ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867280" y="5950080"/>
            <a:ext cx="2087640" cy="647640"/>
          </a:xfrm>
          <a:prstGeom prst="wedgeEllipseCallout">
            <a:avLst>
              <a:gd name="adj1" fmla="val -101027"/>
              <a:gd name="adj2" fmla="val 4166"/>
            </a:avLst>
          </a:pr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73800" y="2819520"/>
            <a:ext cx="3238560" cy="2882880"/>
          </a:xfrm>
          <a:custGeom>
            <a:avLst/>
            <a:gdLst/>
            <a:ahLst/>
            <a:rect l="l" t="t" r="r" b="b"/>
            <a:pathLst>
              <a:path w="2040" h="1816">
                <a:moveTo>
                  <a:pt x="2040" y="0"/>
                </a:moveTo>
                <a:lnTo>
                  <a:pt x="0" y="1816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17411400">
            <a:off x="6419880" y="2347920"/>
            <a:ext cx="103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=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941160" y="91764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-10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19263000">
            <a:off x="7788600" y="27331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-y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53080" y="227664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+5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4360" y="6021360"/>
            <a:ext cx="41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е три указанные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 flipH="1">
            <a:off x="3851280" y="3284640"/>
            <a:ext cx="489744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851280" y="765000"/>
            <a:ext cx="4991040" cy="5078520"/>
            <a:chOff x="3851280" y="765000"/>
            <a:chExt cx="4991040" cy="5078520"/>
          </a:xfrm>
        </p:grpSpPr>
        <p:sp>
          <p:nvSpPr>
            <p:cNvPr id="158" name=""/>
            <p:cNvSpPr/>
            <p:nvPr/>
          </p:nvSpPr>
          <p:spPr>
            <a:xfrm>
              <a:off x="3870360" y="777600"/>
              <a:ext cx="3240" cy="5035680"/>
            </a:xfrm>
            <a:custGeom>
              <a:avLst/>
              <a:gdLst/>
              <a:ahLst/>
              <a:rect l="l" t="t" r="r" b="b"/>
              <a:pathLst>
                <a:path w="2" h="3172">
                  <a:moveTo>
                    <a:pt x="0" y="0"/>
                  </a:moveTo>
                  <a:lnTo>
                    <a:pt x="2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946680" y="2736720"/>
              <a:ext cx="4857840" cy="3240"/>
            </a:xfrm>
            <a:custGeom>
              <a:avLst/>
              <a:gdLst/>
              <a:ahLst/>
              <a:rect l="l" t="t" r="r" b="b"/>
              <a:pathLst>
                <a:path w="3060" h="2">
                  <a:moveTo>
                    <a:pt x="0" y="0"/>
                  </a:moveTo>
                  <a:lnTo>
                    <a:pt x="3060" y="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89440" y="5533920"/>
              <a:ext cx="4902120" cy="1440"/>
            </a:xfrm>
            <a:custGeom>
              <a:avLst/>
              <a:gdLst/>
              <a:ahLst/>
              <a:rect l="l" t="t" r="r" b="b"/>
              <a:pathLst>
                <a:path w="3088" h="1">
                  <a:moveTo>
                    <a:pt x="0" y="0"/>
                  </a:moveTo>
                  <a:lnTo>
                    <a:pt x="3088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873600" y="5254560"/>
              <a:ext cx="4911840" cy="3240"/>
            </a:xfrm>
            <a:custGeom>
              <a:avLst/>
              <a:gdLst/>
              <a:ahLst/>
              <a:rect l="l" t="t" r="r" b="b"/>
              <a:pathLst>
                <a:path w="3094" h="2">
                  <a:moveTo>
                    <a:pt x="0" y="2"/>
                  </a:moveTo>
                  <a:lnTo>
                    <a:pt x="3094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873600" y="4970160"/>
              <a:ext cx="496872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876840" y="4695840"/>
              <a:ext cx="4914720" cy="1440"/>
            </a:xfrm>
            <a:custGeom>
              <a:avLst/>
              <a:gdLst/>
              <a:ahLst/>
              <a:rect l="l" t="t" r="r" b="b"/>
              <a:pathLst>
                <a:path w="3096" h="1">
                  <a:moveTo>
                    <a:pt x="0" y="0"/>
                  </a:moveTo>
                  <a:lnTo>
                    <a:pt x="3096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70360" y="4416120"/>
              <a:ext cx="4908600" cy="1800"/>
            </a:xfrm>
            <a:custGeom>
              <a:avLst/>
              <a:gdLst/>
              <a:ahLst/>
              <a:rect l="l" t="t" r="r" b="b"/>
              <a:pathLst>
                <a:path w="3092" h="1">
                  <a:moveTo>
                    <a:pt x="0" y="0"/>
                  </a:moveTo>
                  <a:lnTo>
                    <a:pt x="309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64240" y="4130640"/>
              <a:ext cx="4921200" cy="6120"/>
            </a:xfrm>
            <a:custGeom>
              <a:avLst/>
              <a:gdLst/>
              <a:ahLst/>
              <a:rect l="l" t="t" r="r" b="b"/>
              <a:pathLst>
                <a:path w="3100" h="4">
                  <a:moveTo>
                    <a:pt x="0" y="4"/>
                  </a:moveTo>
                  <a:lnTo>
                    <a:pt x="3100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864240" y="3851280"/>
              <a:ext cx="4933800" cy="12600"/>
            </a:xfrm>
            <a:custGeom>
              <a:avLst/>
              <a:gdLst/>
              <a:ahLst/>
              <a:rect l="l" t="t" r="r" b="b"/>
              <a:pathLst>
                <a:path w="3108" h="8">
                  <a:moveTo>
                    <a:pt x="0" y="8"/>
                  </a:moveTo>
                  <a:lnTo>
                    <a:pt x="3108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851280" y="3571920"/>
              <a:ext cx="4946760" cy="6120"/>
            </a:xfrm>
            <a:custGeom>
              <a:avLst/>
              <a:gdLst/>
              <a:ahLst/>
              <a:rect l="l" t="t" r="r" b="b"/>
              <a:pathLst>
                <a:path w="3116" h="4">
                  <a:moveTo>
                    <a:pt x="0" y="0"/>
                  </a:moveTo>
                  <a:lnTo>
                    <a:pt x="3116" y="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946680" y="3019320"/>
              <a:ext cx="4844880" cy="6480"/>
            </a:xfrm>
            <a:custGeom>
              <a:avLst/>
              <a:gdLst/>
              <a:ahLst/>
              <a:rect l="l" t="t" r="r" b="b"/>
              <a:pathLst>
                <a:path w="3052" h="4">
                  <a:moveTo>
                    <a:pt x="0" y="4"/>
                  </a:moveTo>
                  <a:lnTo>
                    <a:pt x="305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76840" y="2460600"/>
              <a:ext cx="4921200" cy="1440"/>
            </a:xfrm>
            <a:custGeom>
              <a:avLst/>
              <a:gdLst/>
              <a:ahLst/>
              <a:rect l="l" t="t" r="r" b="b"/>
              <a:pathLst>
                <a:path w="3100" h="1">
                  <a:moveTo>
                    <a:pt x="0" y="0"/>
                  </a:moveTo>
                  <a:lnTo>
                    <a:pt x="3100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57760" y="2181240"/>
              <a:ext cx="4940280" cy="6120"/>
            </a:xfrm>
            <a:custGeom>
              <a:avLst/>
              <a:gdLst/>
              <a:ahLst/>
              <a:rect l="l" t="t" r="r" b="b"/>
              <a:pathLst>
                <a:path w="3112" h="4">
                  <a:moveTo>
                    <a:pt x="0" y="4"/>
                  </a:moveTo>
                  <a:lnTo>
                    <a:pt x="311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864240" y="1901520"/>
              <a:ext cx="4933800" cy="6480"/>
            </a:xfrm>
            <a:custGeom>
              <a:avLst/>
              <a:gdLst/>
              <a:ahLst/>
              <a:rect l="l" t="t" r="r" b="b"/>
              <a:pathLst>
                <a:path w="3108" h="4">
                  <a:moveTo>
                    <a:pt x="0" y="0"/>
                  </a:moveTo>
                  <a:lnTo>
                    <a:pt x="3108" y="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857760" y="1628640"/>
              <a:ext cx="4940280" cy="6480"/>
            </a:xfrm>
            <a:custGeom>
              <a:avLst/>
              <a:gdLst/>
              <a:ahLst/>
              <a:rect l="l" t="t" r="r" b="b"/>
              <a:pathLst>
                <a:path w="3112" h="4">
                  <a:moveTo>
                    <a:pt x="0" y="4"/>
                  </a:moveTo>
                  <a:lnTo>
                    <a:pt x="311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870360" y="1349280"/>
              <a:ext cx="4927680" cy="1440"/>
            </a:xfrm>
            <a:custGeom>
              <a:avLst/>
              <a:gdLst/>
              <a:ahLst/>
              <a:rect l="l" t="t" r="r" b="b"/>
              <a:pathLst>
                <a:path w="3104" h="1">
                  <a:moveTo>
                    <a:pt x="0" y="0"/>
                  </a:moveTo>
                  <a:lnTo>
                    <a:pt x="3104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82960" y="1069920"/>
              <a:ext cx="4908600" cy="12600"/>
            </a:xfrm>
            <a:custGeom>
              <a:avLst/>
              <a:gdLst/>
              <a:ahLst/>
              <a:rect l="l" t="t" r="r" b="b"/>
              <a:pathLst>
                <a:path w="3092" h="8">
                  <a:moveTo>
                    <a:pt x="0" y="8"/>
                  </a:moveTo>
                  <a:lnTo>
                    <a:pt x="309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895920" y="777600"/>
              <a:ext cx="4902120" cy="19080"/>
            </a:xfrm>
            <a:custGeom>
              <a:avLst/>
              <a:gdLst/>
              <a:ahLst/>
              <a:rect l="l" t="t" r="r" b="b"/>
              <a:pathLst>
                <a:path w="3088" h="12">
                  <a:moveTo>
                    <a:pt x="0" y="0"/>
                  </a:moveTo>
                  <a:lnTo>
                    <a:pt x="3088" y="1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857760" y="5813280"/>
              <a:ext cx="4946760" cy="1440"/>
            </a:xfrm>
            <a:custGeom>
              <a:avLst/>
              <a:gdLst/>
              <a:ahLst/>
              <a:rect l="l" t="t" r="r" b="b"/>
              <a:pathLst>
                <a:path w="3116" h="1">
                  <a:moveTo>
                    <a:pt x="0" y="0"/>
                  </a:moveTo>
                  <a:lnTo>
                    <a:pt x="3116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798040" y="803160"/>
              <a:ext cx="1440" cy="4978440"/>
            </a:xfrm>
            <a:custGeom>
              <a:avLst/>
              <a:gdLst/>
              <a:ahLst/>
              <a:rect l="l" t="t" r="r" b="b"/>
              <a:pathLst>
                <a:path w="1" h="3136">
                  <a:moveTo>
                    <a:pt x="0" y="0"/>
                  </a:moveTo>
                  <a:lnTo>
                    <a:pt x="0" y="3136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487000" y="790560"/>
              <a:ext cx="6120" cy="5035320"/>
            </a:xfrm>
            <a:custGeom>
              <a:avLst/>
              <a:gdLst/>
              <a:ahLst/>
              <a:rect l="l" t="t" r="r" b="b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175600" y="790560"/>
              <a:ext cx="6480" cy="5029200"/>
            </a:xfrm>
            <a:custGeom>
              <a:avLst/>
              <a:gdLst/>
              <a:ahLst/>
              <a:rect l="l" t="t" r="r" b="b"/>
              <a:pathLst>
                <a:path w="4" h="3168">
                  <a:moveTo>
                    <a:pt x="4" y="0"/>
                  </a:moveTo>
                  <a:lnTo>
                    <a:pt x="0" y="3168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871040" y="790560"/>
              <a:ext cx="1440" cy="5016240"/>
            </a:xfrm>
            <a:custGeom>
              <a:avLst/>
              <a:gdLst/>
              <a:ahLst/>
              <a:rect l="l" t="t" r="r" b="b"/>
              <a:pathLst>
                <a:path w="1" h="3160">
                  <a:moveTo>
                    <a:pt x="0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559640" y="784080"/>
              <a:ext cx="6480" cy="5035680"/>
            </a:xfrm>
            <a:custGeom>
              <a:avLst/>
              <a:gdLst/>
              <a:ahLst/>
              <a:rect l="l" t="t" r="r" b="b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236000" y="777600"/>
              <a:ext cx="22320" cy="5065920"/>
            </a:xfrm>
            <a:custGeom>
              <a:avLst/>
              <a:gdLst/>
              <a:ahLst/>
              <a:rect l="l" t="t" r="r" b="b"/>
              <a:pathLst>
                <a:path w="14" h="3191">
                  <a:moveTo>
                    <a:pt x="0" y="0"/>
                  </a:moveTo>
                  <a:lnTo>
                    <a:pt x="14" y="3191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943680" y="803160"/>
              <a:ext cx="6480" cy="5016600"/>
            </a:xfrm>
            <a:custGeom>
              <a:avLst/>
              <a:gdLst/>
              <a:ahLst/>
              <a:rect l="l" t="t" r="r" b="b"/>
              <a:pathLst>
                <a:path w="4" h="3160">
                  <a:moveTo>
                    <a:pt x="4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639120" y="803160"/>
              <a:ext cx="1440" cy="5003640"/>
            </a:xfrm>
            <a:custGeom>
              <a:avLst/>
              <a:gdLst/>
              <a:ahLst/>
              <a:rect l="l" t="t" r="r" b="b"/>
              <a:pathLst>
                <a:path w="1" h="3152">
                  <a:moveTo>
                    <a:pt x="0" y="0"/>
                  </a:moveTo>
                  <a:lnTo>
                    <a:pt x="0" y="315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016680" y="765000"/>
              <a:ext cx="17640" cy="5078520"/>
            </a:xfrm>
            <a:custGeom>
              <a:avLst/>
              <a:gdLst/>
              <a:ahLst/>
              <a:rect l="l" t="t" r="r" b="b"/>
              <a:pathLst>
                <a:path w="11" h="3199">
                  <a:moveTo>
                    <a:pt x="0" y="0"/>
                  </a:moveTo>
                  <a:lnTo>
                    <a:pt x="11" y="3199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711760" y="790560"/>
              <a:ext cx="1800" cy="5035320"/>
            </a:xfrm>
            <a:custGeom>
              <a:avLst/>
              <a:gdLst/>
              <a:ahLst/>
              <a:rect l="l" t="t" r="r" b="b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407200" y="796680"/>
              <a:ext cx="6120" cy="5023080"/>
            </a:xfrm>
            <a:custGeom>
              <a:avLst/>
              <a:gdLst/>
              <a:ahLst/>
              <a:rect l="l" t="t" r="r" b="b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089680" y="790560"/>
              <a:ext cx="12600" cy="5022720"/>
            </a:xfrm>
            <a:custGeom>
              <a:avLst/>
              <a:gdLst/>
              <a:ahLst/>
              <a:rect l="l" t="t" r="r" b="b"/>
              <a:pathLst>
                <a:path w="8" h="3164">
                  <a:moveTo>
                    <a:pt x="0" y="0"/>
                  </a:moveTo>
                  <a:lnTo>
                    <a:pt x="8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91240" y="790560"/>
              <a:ext cx="6120" cy="5022720"/>
            </a:xfrm>
            <a:custGeom>
              <a:avLst/>
              <a:gdLst/>
              <a:ahLst/>
              <a:rect l="l" t="t" r="r" b="b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486320" y="790560"/>
              <a:ext cx="1800" cy="5035320"/>
            </a:xfrm>
            <a:custGeom>
              <a:avLst/>
              <a:gdLst/>
              <a:ahLst/>
              <a:rect l="l" t="t" r="r" b="b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175280" y="790560"/>
              <a:ext cx="1440" cy="5022720"/>
            </a:xfrm>
            <a:custGeom>
              <a:avLst/>
              <a:gdLst/>
              <a:ahLst/>
              <a:rect l="l" t="t" r="r" b="b"/>
              <a:pathLst>
                <a:path w="1" h="3164">
                  <a:moveTo>
                    <a:pt x="0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3924360" y="4141800"/>
            <a:ext cx="4897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300720" y="764640"/>
            <a:ext cx="0" cy="504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516720" y="3284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50920" y="465300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50920" y="198900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50920" y="321300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>
            <a:hlinkClick r:id="" action="ppaction://hlinkshowjump?jump=previousslide"/>
          </p:cNvPr>
          <p:cNvSpPr/>
          <p:nvPr/>
        </p:nvSpPr>
        <p:spPr>
          <a:xfrm>
            <a:off x="250920" y="189000"/>
            <a:ext cx="504720" cy="5032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62" h="21600">
                <a:moveTo>
                  <a:pt x="0" y="0"/>
                </a:moveTo>
                <a:lnTo>
                  <a:pt x="21662" y="0"/>
                </a:lnTo>
                <a:lnTo>
                  <a:pt x="21662" y="21600"/>
                </a:lnTo>
                <a:lnTo>
                  <a:pt x="0" y="21600"/>
                </a:lnTo>
                <a:close/>
              </a:path>
              <a:path fill="lightenLess" w="21662" h="21600">
                <a:moveTo>
                  <a:pt x="0" y="0"/>
                </a:moveTo>
                <a:lnTo>
                  <a:pt x="21662" y="0"/>
                </a:lnTo>
                <a:lnTo>
                  <a:pt x="20262" y="1400"/>
                </a:lnTo>
                <a:lnTo>
                  <a:pt x="1400" y="1400"/>
                </a:lnTo>
                <a:close/>
              </a:path>
              <a:path fill="darken" w="21662" h="21600">
                <a:moveTo>
                  <a:pt x="21662" y="0"/>
                </a:moveTo>
                <a:lnTo>
                  <a:pt x="21662" y="21600"/>
                </a:lnTo>
                <a:lnTo>
                  <a:pt x="20262" y="20200"/>
                </a:lnTo>
                <a:lnTo>
                  <a:pt x="20262" y="1400"/>
                </a:lnTo>
                <a:close/>
              </a:path>
              <a:path fill="darkenLess" w="21662" h="21600">
                <a:moveTo>
                  <a:pt x="21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2" y="20200"/>
                </a:lnTo>
                <a:close/>
              </a:path>
              <a:path fill="lighten" w="21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2" h="21600">
                <a:moveTo>
                  <a:pt x="3824" y="10800"/>
                </a:moveTo>
                <a:lnTo>
                  <a:pt x="17837" y="3794"/>
                </a:lnTo>
                <a:lnTo>
                  <a:pt x="1783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>
            <a:hlinkClick r:id="" action="ppaction://hlinkshowjump?jump=nextslide"/>
          </p:cNvPr>
          <p:cNvSpPr/>
          <p:nvPr/>
        </p:nvSpPr>
        <p:spPr>
          <a:xfrm>
            <a:off x="838836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164360" y="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Monotype Corsiva"/>
              </a:rPr>
              <a:t>те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-1080" y="836640"/>
            <a:ext cx="4348800" cy="825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кажите систему уравнен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шение которой пара (4;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79280" y="602136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681120" y="1689120"/>
                <a:ext cx="223524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у</m:t>
                            </m:r>
                            <m:r>
                              <m:t xml:space="preserve">=</m:t>
                            </m:r>
                            <m:r>
                              <m:t xml:space="preserve">4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660240" y="2916360"/>
                <a:ext cx="225612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у</m:t>
                            </m:r>
                            <m:r>
                              <m:t xml:space="preserve">=</m:t>
                            </m:r>
                            <m:r>
                              <m:t xml:space="preserve">4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641520" y="4322880"/>
                <a:ext cx="179388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у</m:t>
                            </m:r>
                            <m:r>
                              <m:t xml:space="preserve">=</m:t>
                            </m:r>
                            <m:r>
                              <m:t xml:space="preserve">4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>
            <a:off x="5689440" y="1930320"/>
            <a:ext cx="2934000" cy="3403800"/>
          </a:xfrm>
          <a:custGeom>
            <a:avLst/>
            <a:gdLst/>
            <a:ahLst/>
            <a:rect l="l" t="t" r="r" b="b"/>
            <a:pathLst>
              <a:path w="1848" h="2144">
                <a:moveTo>
                  <a:pt x="0" y="0"/>
                </a:moveTo>
                <a:lnTo>
                  <a:pt x="1848" y="2144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800600" y="1689120"/>
            <a:ext cx="2641680" cy="4317840"/>
          </a:xfrm>
          <a:custGeom>
            <a:avLst/>
            <a:gdLst/>
            <a:ahLst/>
            <a:rect l="l" t="t" r="r" b="b"/>
            <a:pathLst>
              <a:path w="1664" h="2720">
                <a:moveTo>
                  <a:pt x="1664" y="0"/>
                </a:moveTo>
                <a:lnTo>
                  <a:pt x="0" y="2720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2360" y="2997360"/>
            <a:ext cx="2159280" cy="863280"/>
          </a:xfrm>
          <a:prstGeom prst="wedgeEllipseCallout">
            <a:avLst>
              <a:gd name="adj1" fmla="val -96986"/>
              <a:gd name="adj2" fmla="val 6064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ш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-4; -5)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2360" y="4437000"/>
            <a:ext cx="1944720" cy="720720"/>
          </a:xfrm>
          <a:prstGeom prst="wedgeEllipseCallout">
            <a:avLst>
              <a:gd name="adj1" fmla="val -95796"/>
              <a:gd name="adj2" fmla="val 24671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348000" y="1700280"/>
            <a:ext cx="2160720" cy="792000"/>
          </a:xfrm>
          <a:prstGeom prst="wedgeEllipseCallout">
            <a:avLst>
              <a:gd name="adj1" fmla="val -102240"/>
              <a:gd name="adj2" fmla="val 8916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шение (1; 4)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867280" y="5950080"/>
            <a:ext cx="2087640" cy="647640"/>
          </a:xfrm>
          <a:prstGeom prst="wedgeEllipseCallout">
            <a:avLst>
              <a:gd name="adj1" fmla="val -101027"/>
              <a:gd name="adj2" fmla="val 4166"/>
            </a:avLst>
          </a:pr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699080" y="3289320"/>
            <a:ext cx="4330800" cy="2463840"/>
          </a:xfrm>
          <a:custGeom>
            <a:avLst/>
            <a:gdLst/>
            <a:ahLst/>
            <a:rect l="l" t="t" r="r" b="b"/>
            <a:pathLst>
              <a:path w="2728" h="1552">
                <a:moveTo>
                  <a:pt x="2728" y="0"/>
                </a:moveTo>
                <a:lnTo>
                  <a:pt x="0" y="1552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805800" y="1341360"/>
            <a:ext cx="13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19819800">
            <a:off x="8037720" y="3141360"/>
            <a:ext cx="110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21080" y="14842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84360" y="6021360"/>
            <a:ext cx="28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кой системы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450840" y="414180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  2   3  4   5   6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96720" y="4141800"/>
            <a:ext cx="21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7 -6 -5 -4  -3  -2 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63120" y="1989000"/>
            <a:ext cx="307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202440" y="4222800"/>
            <a:ext cx="383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524720" y="4078440"/>
            <a:ext cx="142920" cy="142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 flipH="1">
            <a:off x="3851280" y="3284640"/>
            <a:ext cx="489744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3851280" y="765000"/>
            <a:ext cx="4991040" cy="5078520"/>
            <a:chOff x="3851280" y="765000"/>
            <a:chExt cx="4991040" cy="5078520"/>
          </a:xfrm>
        </p:grpSpPr>
        <p:sp>
          <p:nvSpPr>
            <p:cNvPr id="224" name=""/>
            <p:cNvSpPr/>
            <p:nvPr/>
          </p:nvSpPr>
          <p:spPr>
            <a:xfrm>
              <a:off x="3870360" y="777600"/>
              <a:ext cx="3240" cy="5035680"/>
            </a:xfrm>
            <a:custGeom>
              <a:avLst/>
              <a:gdLst/>
              <a:ahLst/>
              <a:rect l="l" t="t" r="r" b="b"/>
              <a:pathLst>
                <a:path w="2" h="3172">
                  <a:moveTo>
                    <a:pt x="0" y="0"/>
                  </a:moveTo>
                  <a:lnTo>
                    <a:pt x="2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946680" y="2736720"/>
              <a:ext cx="4857840" cy="3240"/>
            </a:xfrm>
            <a:custGeom>
              <a:avLst/>
              <a:gdLst/>
              <a:ahLst/>
              <a:rect l="l" t="t" r="r" b="b"/>
              <a:pathLst>
                <a:path w="3060" h="2">
                  <a:moveTo>
                    <a:pt x="0" y="0"/>
                  </a:moveTo>
                  <a:lnTo>
                    <a:pt x="3060" y="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89440" y="5533920"/>
              <a:ext cx="4902120" cy="1440"/>
            </a:xfrm>
            <a:custGeom>
              <a:avLst/>
              <a:gdLst/>
              <a:ahLst/>
              <a:rect l="l" t="t" r="r" b="b"/>
              <a:pathLst>
                <a:path w="3088" h="1">
                  <a:moveTo>
                    <a:pt x="0" y="0"/>
                  </a:moveTo>
                  <a:lnTo>
                    <a:pt x="3088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73600" y="5254560"/>
              <a:ext cx="4911840" cy="3240"/>
            </a:xfrm>
            <a:custGeom>
              <a:avLst/>
              <a:gdLst/>
              <a:ahLst/>
              <a:rect l="l" t="t" r="r" b="b"/>
              <a:pathLst>
                <a:path w="3094" h="2">
                  <a:moveTo>
                    <a:pt x="0" y="2"/>
                  </a:moveTo>
                  <a:lnTo>
                    <a:pt x="3094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73600" y="4970160"/>
              <a:ext cx="496872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76840" y="4695840"/>
              <a:ext cx="4914720" cy="1440"/>
            </a:xfrm>
            <a:custGeom>
              <a:avLst/>
              <a:gdLst/>
              <a:ahLst/>
              <a:rect l="l" t="t" r="r" b="b"/>
              <a:pathLst>
                <a:path w="3096" h="1">
                  <a:moveTo>
                    <a:pt x="0" y="0"/>
                  </a:moveTo>
                  <a:lnTo>
                    <a:pt x="3096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870360" y="4416120"/>
              <a:ext cx="4908600" cy="1800"/>
            </a:xfrm>
            <a:custGeom>
              <a:avLst/>
              <a:gdLst/>
              <a:ahLst/>
              <a:rect l="l" t="t" r="r" b="b"/>
              <a:pathLst>
                <a:path w="3092" h="1">
                  <a:moveTo>
                    <a:pt x="0" y="0"/>
                  </a:moveTo>
                  <a:lnTo>
                    <a:pt x="309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64240" y="4130640"/>
              <a:ext cx="4921200" cy="6120"/>
            </a:xfrm>
            <a:custGeom>
              <a:avLst/>
              <a:gdLst/>
              <a:ahLst/>
              <a:rect l="l" t="t" r="r" b="b"/>
              <a:pathLst>
                <a:path w="3100" h="4">
                  <a:moveTo>
                    <a:pt x="0" y="4"/>
                  </a:moveTo>
                  <a:lnTo>
                    <a:pt x="3100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864240" y="3851280"/>
              <a:ext cx="4933800" cy="12600"/>
            </a:xfrm>
            <a:custGeom>
              <a:avLst/>
              <a:gdLst/>
              <a:ahLst/>
              <a:rect l="l" t="t" r="r" b="b"/>
              <a:pathLst>
                <a:path w="3108" h="8">
                  <a:moveTo>
                    <a:pt x="0" y="8"/>
                  </a:moveTo>
                  <a:lnTo>
                    <a:pt x="3108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851280" y="3571920"/>
              <a:ext cx="4946760" cy="6120"/>
            </a:xfrm>
            <a:custGeom>
              <a:avLst/>
              <a:gdLst/>
              <a:ahLst/>
              <a:rect l="l" t="t" r="r" b="b"/>
              <a:pathLst>
                <a:path w="3116" h="4">
                  <a:moveTo>
                    <a:pt x="0" y="0"/>
                  </a:moveTo>
                  <a:lnTo>
                    <a:pt x="3116" y="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946680" y="3019320"/>
              <a:ext cx="4844880" cy="6480"/>
            </a:xfrm>
            <a:custGeom>
              <a:avLst/>
              <a:gdLst/>
              <a:ahLst/>
              <a:rect l="l" t="t" r="r" b="b"/>
              <a:pathLst>
                <a:path w="3052" h="4">
                  <a:moveTo>
                    <a:pt x="0" y="4"/>
                  </a:moveTo>
                  <a:lnTo>
                    <a:pt x="305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876840" y="2460600"/>
              <a:ext cx="4921200" cy="1440"/>
            </a:xfrm>
            <a:custGeom>
              <a:avLst/>
              <a:gdLst/>
              <a:ahLst/>
              <a:rect l="l" t="t" r="r" b="b"/>
              <a:pathLst>
                <a:path w="3100" h="1">
                  <a:moveTo>
                    <a:pt x="0" y="0"/>
                  </a:moveTo>
                  <a:lnTo>
                    <a:pt x="3100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857760" y="2181240"/>
              <a:ext cx="4940280" cy="6120"/>
            </a:xfrm>
            <a:custGeom>
              <a:avLst/>
              <a:gdLst/>
              <a:ahLst/>
              <a:rect l="l" t="t" r="r" b="b"/>
              <a:pathLst>
                <a:path w="3112" h="4">
                  <a:moveTo>
                    <a:pt x="0" y="4"/>
                  </a:moveTo>
                  <a:lnTo>
                    <a:pt x="311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64240" y="1901520"/>
              <a:ext cx="4933800" cy="6480"/>
            </a:xfrm>
            <a:custGeom>
              <a:avLst/>
              <a:gdLst/>
              <a:ahLst/>
              <a:rect l="l" t="t" r="r" b="b"/>
              <a:pathLst>
                <a:path w="3108" h="4">
                  <a:moveTo>
                    <a:pt x="0" y="0"/>
                  </a:moveTo>
                  <a:lnTo>
                    <a:pt x="3108" y="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857760" y="1628640"/>
              <a:ext cx="4940280" cy="6480"/>
            </a:xfrm>
            <a:custGeom>
              <a:avLst/>
              <a:gdLst/>
              <a:ahLst/>
              <a:rect l="l" t="t" r="r" b="b"/>
              <a:pathLst>
                <a:path w="3112" h="4">
                  <a:moveTo>
                    <a:pt x="0" y="4"/>
                  </a:moveTo>
                  <a:lnTo>
                    <a:pt x="311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870360" y="1349280"/>
              <a:ext cx="4927680" cy="1440"/>
            </a:xfrm>
            <a:custGeom>
              <a:avLst/>
              <a:gdLst/>
              <a:ahLst/>
              <a:rect l="l" t="t" r="r" b="b"/>
              <a:pathLst>
                <a:path w="3104" h="1">
                  <a:moveTo>
                    <a:pt x="0" y="0"/>
                  </a:moveTo>
                  <a:lnTo>
                    <a:pt x="3104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882960" y="1069920"/>
              <a:ext cx="4908600" cy="12600"/>
            </a:xfrm>
            <a:custGeom>
              <a:avLst/>
              <a:gdLst/>
              <a:ahLst/>
              <a:rect l="l" t="t" r="r" b="b"/>
              <a:pathLst>
                <a:path w="3092" h="8">
                  <a:moveTo>
                    <a:pt x="0" y="8"/>
                  </a:moveTo>
                  <a:lnTo>
                    <a:pt x="309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895920" y="777600"/>
              <a:ext cx="4902120" cy="19080"/>
            </a:xfrm>
            <a:custGeom>
              <a:avLst/>
              <a:gdLst/>
              <a:ahLst/>
              <a:rect l="l" t="t" r="r" b="b"/>
              <a:pathLst>
                <a:path w="3088" h="12">
                  <a:moveTo>
                    <a:pt x="0" y="0"/>
                  </a:moveTo>
                  <a:lnTo>
                    <a:pt x="3088" y="1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857760" y="5813280"/>
              <a:ext cx="4946760" cy="1440"/>
            </a:xfrm>
            <a:custGeom>
              <a:avLst/>
              <a:gdLst/>
              <a:ahLst/>
              <a:rect l="l" t="t" r="r" b="b"/>
              <a:pathLst>
                <a:path w="3116" h="1">
                  <a:moveTo>
                    <a:pt x="0" y="0"/>
                  </a:moveTo>
                  <a:lnTo>
                    <a:pt x="3116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798040" y="803160"/>
              <a:ext cx="1440" cy="4978440"/>
            </a:xfrm>
            <a:custGeom>
              <a:avLst/>
              <a:gdLst/>
              <a:ahLst/>
              <a:rect l="l" t="t" r="r" b="b"/>
              <a:pathLst>
                <a:path w="1" h="3136">
                  <a:moveTo>
                    <a:pt x="0" y="0"/>
                  </a:moveTo>
                  <a:lnTo>
                    <a:pt x="0" y="3136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487000" y="790560"/>
              <a:ext cx="6120" cy="5035320"/>
            </a:xfrm>
            <a:custGeom>
              <a:avLst/>
              <a:gdLst/>
              <a:ahLst/>
              <a:rect l="l" t="t" r="r" b="b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175600" y="790560"/>
              <a:ext cx="6480" cy="5029200"/>
            </a:xfrm>
            <a:custGeom>
              <a:avLst/>
              <a:gdLst/>
              <a:ahLst/>
              <a:rect l="l" t="t" r="r" b="b"/>
              <a:pathLst>
                <a:path w="4" h="3168">
                  <a:moveTo>
                    <a:pt x="4" y="0"/>
                  </a:moveTo>
                  <a:lnTo>
                    <a:pt x="0" y="3168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871040" y="790560"/>
              <a:ext cx="1440" cy="5016240"/>
            </a:xfrm>
            <a:custGeom>
              <a:avLst/>
              <a:gdLst/>
              <a:ahLst/>
              <a:rect l="l" t="t" r="r" b="b"/>
              <a:pathLst>
                <a:path w="1" h="3160">
                  <a:moveTo>
                    <a:pt x="0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559640" y="784080"/>
              <a:ext cx="6480" cy="5035680"/>
            </a:xfrm>
            <a:custGeom>
              <a:avLst/>
              <a:gdLst/>
              <a:ahLst/>
              <a:rect l="l" t="t" r="r" b="b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236000" y="777600"/>
              <a:ext cx="22320" cy="5065920"/>
            </a:xfrm>
            <a:custGeom>
              <a:avLst/>
              <a:gdLst/>
              <a:ahLst/>
              <a:rect l="l" t="t" r="r" b="b"/>
              <a:pathLst>
                <a:path w="14" h="3191">
                  <a:moveTo>
                    <a:pt x="0" y="0"/>
                  </a:moveTo>
                  <a:lnTo>
                    <a:pt x="14" y="3191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943680" y="803160"/>
              <a:ext cx="6480" cy="5016600"/>
            </a:xfrm>
            <a:custGeom>
              <a:avLst/>
              <a:gdLst/>
              <a:ahLst/>
              <a:rect l="l" t="t" r="r" b="b"/>
              <a:pathLst>
                <a:path w="4" h="3160">
                  <a:moveTo>
                    <a:pt x="4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639120" y="803160"/>
              <a:ext cx="1440" cy="5003640"/>
            </a:xfrm>
            <a:custGeom>
              <a:avLst/>
              <a:gdLst/>
              <a:ahLst/>
              <a:rect l="l" t="t" r="r" b="b"/>
              <a:pathLst>
                <a:path w="1" h="3152">
                  <a:moveTo>
                    <a:pt x="0" y="0"/>
                  </a:moveTo>
                  <a:lnTo>
                    <a:pt x="0" y="315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016680" y="765000"/>
              <a:ext cx="17640" cy="5078520"/>
            </a:xfrm>
            <a:custGeom>
              <a:avLst/>
              <a:gdLst/>
              <a:ahLst/>
              <a:rect l="l" t="t" r="r" b="b"/>
              <a:pathLst>
                <a:path w="11" h="3199">
                  <a:moveTo>
                    <a:pt x="0" y="0"/>
                  </a:moveTo>
                  <a:lnTo>
                    <a:pt x="11" y="3199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11760" y="790560"/>
              <a:ext cx="1800" cy="5035320"/>
            </a:xfrm>
            <a:custGeom>
              <a:avLst/>
              <a:gdLst/>
              <a:ahLst/>
              <a:rect l="l" t="t" r="r" b="b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07200" y="796680"/>
              <a:ext cx="6120" cy="5023080"/>
            </a:xfrm>
            <a:custGeom>
              <a:avLst/>
              <a:gdLst/>
              <a:ahLst/>
              <a:rect l="l" t="t" r="r" b="b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089680" y="790560"/>
              <a:ext cx="12600" cy="5022720"/>
            </a:xfrm>
            <a:custGeom>
              <a:avLst/>
              <a:gdLst/>
              <a:ahLst/>
              <a:rect l="l" t="t" r="r" b="b"/>
              <a:pathLst>
                <a:path w="8" h="3164">
                  <a:moveTo>
                    <a:pt x="0" y="0"/>
                  </a:moveTo>
                  <a:lnTo>
                    <a:pt x="8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791240" y="790560"/>
              <a:ext cx="6120" cy="5022720"/>
            </a:xfrm>
            <a:custGeom>
              <a:avLst/>
              <a:gdLst/>
              <a:ahLst/>
              <a:rect l="l" t="t" r="r" b="b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486320" y="790560"/>
              <a:ext cx="1800" cy="5035320"/>
            </a:xfrm>
            <a:custGeom>
              <a:avLst/>
              <a:gdLst/>
              <a:ahLst/>
              <a:rect l="l" t="t" r="r" b="b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75280" y="790560"/>
              <a:ext cx="1440" cy="5022720"/>
            </a:xfrm>
            <a:custGeom>
              <a:avLst/>
              <a:gdLst/>
              <a:ahLst/>
              <a:rect l="l" t="t" r="r" b="b"/>
              <a:pathLst>
                <a:path w="1" h="3164">
                  <a:moveTo>
                    <a:pt x="0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3924360" y="4141800"/>
            <a:ext cx="4897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300720" y="764640"/>
            <a:ext cx="0" cy="504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516720" y="3284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50920" y="501336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50920" y="2997360"/>
            <a:ext cx="360360" cy="50292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2920"/>
              <a:gd name="textAreaBottom" fmla="*/ 479880 h 502920"/>
            </a:gdLst>
            <a:ahLst/>
            <a:rect l="textAreaLeft" t="textAreaTop" r="textAreaRight" b="textAreaBottom"/>
            <a:pathLst>
              <a:path w="21600" h="30137">
                <a:moveTo>
                  <a:pt x="0" y="0"/>
                </a:moveTo>
                <a:lnTo>
                  <a:pt x="21600" y="0"/>
                </a:lnTo>
                <a:lnTo>
                  <a:pt x="21600" y="30137"/>
                </a:lnTo>
                <a:lnTo>
                  <a:pt x="0" y="30137"/>
                </a:lnTo>
                <a:close/>
              </a:path>
              <a:path fill="lightenLess" w="21600" h="301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37">
                <a:moveTo>
                  <a:pt x="21600" y="0"/>
                </a:moveTo>
                <a:lnTo>
                  <a:pt x="21600" y="30137"/>
                </a:lnTo>
                <a:lnTo>
                  <a:pt x="20200" y="28737"/>
                </a:lnTo>
                <a:lnTo>
                  <a:pt x="20200" y="1400"/>
                </a:lnTo>
                <a:close/>
              </a:path>
              <a:path fill="darkenLess" w="21600" h="30137">
                <a:moveTo>
                  <a:pt x="21600" y="30137"/>
                </a:moveTo>
                <a:lnTo>
                  <a:pt x="0" y="30137"/>
                </a:lnTo>
                <a:lnTo>
                  <a:pt x="1400" y="28737"/>
                </a:lnTo>
                <a:lnTo>
                  <a:pt x="20200" y="28737"/>
                </a:lnTo>
                <a:close/>
              </a:path>
              <a:path fill="lighten" w="21600" h="30137">
                <a:moveTo>
                  <a:pt x="0" y="301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37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50920" y="400536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>
            <a:hlinkClick r:id="" action="ppaction://hlinkshowjump?jump=nextslide"/>
          </p:cNvPr>
          <p:cNvSpPr/>
          <p:nvPr/>
        </p:nvSpPr>
        <p:spPr>
          <a:xfrm>
            <a:off x="838836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783840" y="0"/>
            <a:ext cx="12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Monotype Corsiva"/>
              </a:rPr>
              <a:t>те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0"/>
            <a:ext cx="47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рисунке изображе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рафики функц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=х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2х–3   и    у=1–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пользуя графики реши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систему уравн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9280" y="602136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965840" y="1409760"/>
            <a:ext cx="2539800" cy="4559400"/>
          </a:xfrm>
          <a:custGeom>
            <a:avLst/>
            <a:gdLst/>
            <a:ahLst/>
            <a:rect l="l" t="t" r="r" b="b"/>
            <a:pathLst>
              <a:path w="1600" h="2872">
                <a:moveTo>
                  <a:pt x="0" y="0"/>
                </a:moveTo>
                <a:lnTo>
                  <a:pt x="1600" y="2872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140360" y="5300640"/>
            <a:ext cx="1944360" cy="720720"/>
          </a:xfrm>
          <a:prstGeom prst="wedgeEllipseCallout">
            <a:avLst>
              <a:gd name="adj1" fmla="val -217916"/>
              <a:gd name="adj2" fmla="val 7046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564000" y="2708280"/>
            <a:ext cx="2160360" cy="576360"/>
          </a:xfrm>
          <a:prstGeom prst="wedgeEllipseCallout">
            <a:avLst>
              <a:gd name="adj1" fmla="val -102240"/>
              <a:gd name="adj2" fmla="val 30990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211640" y="5877000"/>
            <a:ext cx="2087640" cy="647640"/>
          </a:xfrm>
          <a:prstGeom prst="wedgeEllipseCallout">
            <a:avLst>
              <a:gd name="adj1" fmla="val -111976"/>
              <a:gd name="adj2" fmla="val 16421"/>
            </a:avLst>
          </a:pr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382520" y="5516640"/>
            <a:ext cx="10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=1–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027200" y="83520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=х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2х –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50840" y="414180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  2   3  4   5   6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996720" y="4141800"/>
            <a:ext cx="21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7 -6 -5 -4  -3  -2 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063120" y="1989000"/>
            <a:ext cx="307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202440" y="4222800"/>
            <a:ext cx="383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54920" y="4941720"/>
            <a:ext cx="268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-2; 5),  (2; -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72560" y="4005360"/>
            <a:ext cx="2589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-2 ,  х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2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67280" y="3860640"/>
            <a:ext cx="2160360" cy="576360"/>
          </a:xfrm>
          <a:prstGeom prst="wedgeEllipseCallout">
            <a:avLst>
              <a:gd name="adj1" fmla="val -88282"/>
              <a:gd name="adj2" fmla="val 27412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684360" y="1844640"/>
                <a:ext cx="2544480" cy="11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у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2" name="">
            <a:hlinkClick r:id="" action="ppaction://hlinkshowjump?jump=previousslide"/>
          </p:cNvPr>
          <p:cNvSpPr/>
          <p:nvPr/>
        </p:nvSpPr>
        <p:spPr>
          <a:xfrm>
            <a:off x="179280" y="189000"/>
            <a:ext cx="505080" cy="5032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3832" y="10800"/>
                </a:moveTo>
                <a:lnTo>
                  <a:pt x="17845" y="3794"/>
                </a:lnTo>
                <a:lnTo>
                  <a:pt x="17845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4720" y="6021360"/>
            <a:ext cx="26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т реш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01280" y="2997360"/>
            <a:ext cx="2589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-3 ,  у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5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397480" y="1295280"/>
            <a:ext cx="2374920" cy="3981600"/>
          </a:xfrm>
          <a:custGeom>
            <a:avLst/>
            <a:gdLst/>
            <a:ahLst/>
            <a:rect l="l" t="t" r="r" b="b"/>
            <a:pathLst>
              <a:path w="1496" h="2508">
                <a:moveTo>
                  <a:pt x="0" y="40"/>
                </a:moveTo>
                <a:cubicBezTo>
                  <a:pt x="33" y="187"/>
                  <a:pt x="136" y="627"/>
                  <a:pt x="200" y="920"/>
                </a:cubicBezTo>
                <a:cubicBezTo>
                  <a:pt x="264" y="1213"/>
                  <a:pt x="320" y="1567"/>
                  <a:pt x="384" y="1800"/>
                </a:cubicBezTo>
                <a:cubicBezTo>
                  <a:pt x="448" y="2033"/>
                  <a:pt x="519" y="2203"/>
                  <a:pt x="584" y="2320"/>
                </a:cubicBezTo>
                <a:cubicBezTo>
                  <a:pt x="649" y="2437"/>
                  <a:pt x="711" y="2508"/>
                  <a:pt x="776" y="2504"/>
                </a:cubicBezTo>
                <a:cubicBezTo>
                  <a:pt x="841" y="2500"/>
                  <a:pt x="913" y="2415"/>
                  <a:pt x="977" y="2297"/>
                </a:cubicBezTo>
                <a:cubicBezTo>
                  <a:pt x="1041" y="2179"/>
                  <a:pt x="1096" y="2032"/>
                  <a:pt x="1158" y="1798"/>
                </a:cubicBezTo>
                <a:cubicBezTo>
                  <a:pt x="1220" y="1564"/>
                  <a:pt x="1296" y="1196"/>
                  <a:pt x="1352" y="896"/>
                </a:cubicBezTo>
                <a:cubicBezTo>
                  <a:pt x="1408" y="596"/>
                  <a:pt x="1466" y="187"/>
                  <a:pt x="1496" y="0"/>
                </a:cubicBezTo>
              </a:path>
            </a:pathLst>
          </a:cu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877080" y="4869000"/>
            <a:ext cx="142920" cy="142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651640" y="2637000"/>
            <a:ext cx="142560" cy="142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 flipH="1">
            <a:off x="3851280" y="3284640"/>
            <a:ext cx="489744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3851280" y="765000"/>
            <a:ext cx="4991040" cy="5078520"/>
            <a:chOff x="3851280" y="765000"/>
            <a:chExt cx="4991040" cy="5078520"/>
          </a:xfrm>
        </p:grpSpPr>
        <p:sp>
          <p:nvSpPr>
            <p:cNvPr id="290" name=""/>
            <p:cNvSpPr/>
            <p:nvPr/>
          </p:nvSpPr>
          <p:spPr>
            <a:xfrm>
              <a:off x="3870360" y="777600"/>
              <a:ext cx="3240" cy="5035680"/>
            </a:xfrm>
            <a:custGeom>
              <a:avLst/>
              <a:gdLst/>
              <a:ahLst/>
              <a:rect l="l" t="t" r="r" b="b"/>
              <a:pathLst>
                <a:path w="2" h="3172">
                  <a:moveTo>
                    <a:pt x="0" y="0"/>
                  </a:moveTo>
                  <a:lnTo>
                    <a:pt x="2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46680" y="2736720"/>
              <a:ext cx="4857840" cy="3240"/>
            </a:xfrm>
            <a:custGeom>
              <a:avLst/>
              <a:gdLst/>
              <a:ahLst/>
              <a:rect l="l" t="t" r="r" b="b"/>
              <a:pathLst>
                <a:path w="3060" h="2">
                  <a:moveTo>
                    <a:pt x="0" y="0"/>
                  </a:moveTo>
                  <a:lnTo>
                    <a:pt x="3060" y="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889440" y="5533920"/>
              <a:ext cx="4902120" cy="1440"/>
            </a:xfrm>
            <a:custGeom>
              <a:avLst/>
              <a:gdLst/>
              <a:ahLst/>
              <a:rect l="l" t="t" r="r" b="b"/>
              <a:pathLst>
                <a:path w="3088" h="1">
                  <a:moveTo>
                    <a:pt x="0" y="0"/>
                  </a:moveTo>
                  <a:lnTo>
                    <a:pt x="3088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873600" y="5254560"/>
              <a:ext cx="4911840" cy="3240"/>
            </a:xfrm>
            <a:custGeom>
              <a:avLst/>
              <a:gdLst/>
              <a:ahLst/>
              <a:rect l="l" t="t" r="r" b="b"/>
              <a:pathLst>
                <a:path w="3094" h="2">
                  <a:moveTo>
                    <a:pt x="0" y="2"/>
                  </a:moveTo>
                  <a:lnTo>
                    <a:pt x="3094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873600" y="4970160"/>
              <a:ext cx="496872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876840" y="4695840"/>
              <a:ext cx="4914720" cy="1440"/>
            </a:xfrm>
            <a:custGeom>
              <a:avLst/>
              <a:gdLst/>
              <a:ahLst/>
              <a:rect l="l" t="t" r="r" b="b"/>
              <a:pathLst>
                <a:path w="3096" h="1">
                  <a:moveTo>
                    <a:pt x="0" y="0"/>
                  </a:moveTo>
                  <a:lnTo>
                    <a:pt x="3096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870360" y="4416120"/>
              <a:ext cx="4908600" cy="1800"/>
            </a:xfrm>
            <a:custGeom>
              <a:avLst/>
              <a:gdLst/>
              <a:ahLst/>
              <a:rect l="l" t="t" r="r" b="b"/>
              <a:pathLst>
                <a:path w="3092" h="1">
                  <a:moveTo>
                    <a:pt x="0" y="0"/>
                  </a:moveTo>
                  <a:lnTo>
                    <a:pt x="309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64240" y="4130640"/>
              <a:ext cx="4921200" cy="6120"/>
            </a:xfrm>
            <a:custGeom>
              <a:avLst/>
              <a:gdLst/>
              <a:ahLst/>
              <a:rect l="l" t="t" r="r" b="b"/>
              <a:pathLst>
                <a:path w="3100" h="4">
                  <a:moveTo>
                    <a:pt x="0" y="4"/>
                  </a:moveTo>
                  <a:lnTo>
                    <a:pt x="3100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864240" y="3851280"/>
              <a:ext cx="4933800" cy="12600"/>
            </a:xfrm>
            <a:custGeom>
              <a:avLst/>
              <a:gdLst/>
              <a:ahLst/>
              <a:rect l="l" t="t" r="r" b="b"/>
              <a:pathLst>
                <a:path w="3108" h="8">
                  <a:moveTo>
                    <a:pt x="0" y="8"/>
                  </a:moveTo>
                  <a:lnTo>
                    <a:pt x="3108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51280" y="3571920"/>
              <a:ext cx="4946760" cy="6120"/>
            </a:xfrm>
            <a:custGeom>
              <a:avLst/>
              <a:gdLst/>
              <a:ahLst/>
              <a:rect l="l" t="t" r="r" b="b"/>
              <a:pathLst>
                <a:path w="3116" h="4">
                  <a:moveTo>
                    <a:pt x="0" y="0"/>
                  </a:moveTo>
                  <a:lnTo>
                    <a:pt x="3116" y="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946680" y="3019320"/>
              <a:ext cx="4844880" cy="6480"/>
            </a:xfrm>
            <a:custGeom>
              <a:avLst/>
              <a:gdLst/>
              <a:ahLst/>
              <a:rect l="l" t="t" r="r" b="b"/>
              <a:pathLst>
                <a:path w="3052" h="4">
                  <a:moveTo>
                    <a:pt x="0" y="4"/>
                  </a:moveTo>
                  <a:lnTo>
                    <a:pt x="305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876840" y="2460600"/>
              <a:ext cx="4921200" cy="1440"/>
            </a:xfrm>
            <a:custGeom>
              <a:avLst/>
              <a:gdLst/>
              <a:ahLst/>
              <a:rect l="l" t="t" r="r" b="b"/>
              <a:pathLst>
                <a:path w="3100" h="1">
                  <a:moveTo>
                    <a:pt x="0" y="0"/>
                  </a:moveTo>
                  <a:lnTo>
                    <a:pt x="3100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857760" y="2181240"/>
              <a:ext cx="4940280" cy="6120"/>
            </a:xfrm>
            <a:custGeom>
              <a:avLst/>
              <a:gdLst/>
              <a:ahLst/>
              <a:rect l="l" t="t" r="r" b="b"/>
              <a:pathLst>
                <a:path w="3112" h="4">
                  <a:moveTo>
                    <a:pt x="0" y="4"/>
                  </a:moveTo>
                  <a:lnTo>
                    <a:pt x="311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864240" y="1901520"/>
              <a:ext cx="4933800" cy="6480"/>
            </a:xfrm>
            <a:custGeom>
              <a:avLst/>
              <a:gdLst/>
              <a:ahLst/>
              <a:rect l="l" t="t" r="r" b="b"/>
              <a:pathLst>
                <a:path w="3108" h="4">
                  <a:moveTo>
                    <a:pt x="0" y="0"/>
                  </a:moveTo>
                  <a:lnTo>
                    <a:pt x="3108" y="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857760" y="1628640"/>
              <a:ext cx="4940280" cy="6480"/>
            </a:xfrm>
            <a:custGeom>
              <a:avLst/>
              <a:gdLst/>
              <a:ahLst/>
              <a:rect l="l" t="t" r="r" b="b"/>
              <a:pathLst>
                <a:path w="3112" h="4">
                  <a:moveTo>
                    <a:pt x="0" y="4"/>
                  </a:moveTo>
                  <a:lnTo>
                    <a:pt x="311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870360" y="1349280"/>
              <a:ext cx="4927680" cy="1440"/>
            </a:xfrm>
            <a:custGeom>
              <a:avLst/>
              <a:gdLst/>
              <a:ahLst/>
              <a:rect l="l" t="t" r="r" b="b"/>
              <a:pathLst>
                <a:path w="3104" h="1">
                  <a:moveTo>
                    <a:pt x="0" y="0"/>
                  </a:moveTo>
                  <a:lnTo>
                    <a:pt x="3104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882960" y="1069920"/>
              <a:ext cx="4908600" cy="12600"/>
            </a:xfrm>
            <a:custGeom>
              <a:avLst/>
              <a:gdLst/>
              <a:ahLst/>
              <a:rect l="l" t="t" r="r" b="b"/>
              <a:pathLst>
                <a:path w="3092" h="8">
                  <a:moveTo>
                    <a:pt x="0" y="8"/>
                  </a:moveTo>
                  <a:lnTo>
                    <a:pt x="309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895920" y="777600"/>
              <a:ext cx="4902120" cy="19080"/>
            </a:xfrm>
            <a:custGeom>
              <a:avLst/>
              <a:gdLst/>
              <a:ahLst/>
              <a:rect l="l" t="t" r="r" b="b"/>
              <a:pathLst>
                <a:path w="3088" h="12">
                  <a:moveTo>
                    <a:pt x="0" y="0"/>
                  </a:moveTo>
                  <a:lnTo>
                    <a:pt x="3088" y="1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857760" y="5813280"/>
              <a:ext cx="4946760" cy="1440"/>
            </a:xfrm>
            <a:custGeom>
              <a:avLst/>
              <a:gdLst/>
              <a:ahLst/>
              <a:rect l="l" t="t" r="r" b="b"/>
              <a:pathLst>
                <a:path w="3116" h="1">
                  <a:moveTo>
                    <a:pt x="0" y="0"/>
                  </a:moveTo>
                  <a:lnTo>
                    <a:pt x="3116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798040" y="803160"/>
              <a:ext cx="1440" cy="4978440"/>
            </a:xfrm>
            <a:custGeom>
              <a:avLst/>
              <a:gdLst/>
              <a:ahLst/>
              <a:rect l="l" t="t" r="r" b="b"/>
              <a:pathLst>
                <a:path w="1" h="3136">
                  <a:moveTo>
                    <a:pt x="0" y="0"/>
                  </a:moveTo>
                  <a:lnTo>
                    <a:pt x="0" y="3136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487000" y="790560"/>
              <a:ext cx="6120" cy="5035320"/>
            </a:xfrm>
            <a:custGeom>
              <a:avLst/>
              <a:gdLst/>
              <a:ahLst/>
              <a:rect l="l" t="t" r="r" b="b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75600" y="790560"/>
              <a:ext cx="6480" cy="5029200"/>
            </a:xfrm>
            <a:custGeom>
              <a:avLst/>
              <a:gdLst/>
              <a:ahLst/>
              <a:rect l="l" t="t" r="r" b="b"/>
              <a:pathLst>
                <a:path w="4" h="3168">
                  <a:moveTo>
                    <a:pt x="4" y="0"/>
                  </a:moveTo>
                  <a:lnTo>
                    <a:pt x="0" y="3168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871040" y="790560"/>
              <a:ext cx="1440" cy="5016240"/>
            </a:xfrm>
            <a:custGeom>
              <a:avLst/>
              <a:gdLst/>
              <a:ahLst/>
              <a:rect l="l" t="t" r="r" b="b"/>
              <a:pathLst>
                <a:path w="1" h="3160">
                  <a:moveTo>
                    <a:pt x="0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559640" y="784080"/>
              <a:ext cx="6480" cy="5035680"/>
            </a:xfrm>
            <a:custGeom>
              <a:avLst/>
              <a:gdLst/>
              <a:ahLst/>
              <a:rect l="l" t="t" r="r" b="b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236000" y="777600"/>
              <a:ext cx="22320" cy="5065920"/>
            </a:xfrm>
            <a:custGeom>
              <a:avLst/>
              <a:gdLst/>
              <a:ahLst/>
              <a:rect l="l" t="t" r="r" b="b"/>
              <a:pathLst>
                <a:path w="14" h="3191">
                  <a:moveTo>
                    <a:pt x="0" y="0"/>
                  </a:moveTo>
                  <a:lnTo>
                    <a:pt x="14" y="3191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943680" y="803160"/>
              <a:ext cx="6480" cy="5016600"/>
            </a:xfrm>
            <a:custGeom>
              <a:avLst/>
              <a:gdLst/>
              <a:ahLst/>
              <a:rect l="l" t="t" r="r" b="b"/>
              <a:pathLst>
                <a:path w="4" h="3160">
                  <a:moveTo>
                    <a:pt x="4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639120" y="803160"/>
              <a:ext cx="1440" cy="5003640"/>
            </a:xfrm>
            <a:custGeom>
              <a:avLst/>
              <a:gdLst/>
              <a:ahLst/>
              <a:rect l="l" t="t" r="r" b="b"/>
              <a:pathLst>
                <a:path w="1" h="3152">
                  <a:moveTo>
                    <a:pt x="0" y="0"/>
                  </a:moveTo>
                  <a:lnTo>
                    <a:pt x="0" y="315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016680" y="765000"/>
              <a:ext cx="17640" cy="5078520"/>
            </a:xfrm>
            <a:custGeom>
              <a:avLst/>
              <a:gdLst/>
              <a:ahLst/>
              <a:rect l="l" t="t" r="r" b="b"/>
              <a:pathLst>
                <a:path w="11" h="3199">
                  <a:moveTo>
                    <a:pt x="0" y="0"/>
                  </a:moveTo>
                  <a:lnTo>
                    <a:pt x="11" y="3199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711760" y="790560"/>
              <a:ext cx="1800" cy="5035320"/>
            </a:xfrm>
            <a:custGeom>
              <a:avLst/>
              <a:gdLst/>
              <a:ahLst/>
              <a:rect l="l" t="t" r="r" b="b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407200" y="796680"/>
              <a:ext cx="6120" cy="5023080"/>
            </a:xfrm>
            <a:custGeom>
              <a:avLst/>
              <a:gdLst/>
              <a:ahLst/>
              <a:rect l="l" t="t" r="r" b="b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089680" y="790560"/>
              <a:ext cx="12600" cy="5022720"/>
            </a:xfrm>
            <a:custGeom>
              <a:avLst/>
              <a:gdLst/>
              <a:ahLst/>
              <a:rect l="l" t="t" r="r" b="b"/>
              <a:pathLst>
                <a:path w="8" h="3164">
                  <a:moveTo>
                    <a:pt x="0" y="0"/>
                  </a:moveTo>
                  <a:lnTo>
                    <a:pt x="8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791240" y="790560"/>
              <a:ext cx="6120" cy="5022720"/>
            </a:xfrm>
            <a:custGeom>
              <a:avLst/>
              <a:gdLst/>
              <a:ahLst/>
              <a:rect l="l" t="t" r="r" b="b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486320" y="790560"/>
              <a:ext cx="1800" cy="5035320"/>
            </a:xfrm>
            <a:custGeom>
              <a:avLst/>
              <a:gdLst/>
              <a:ahLst/>
              <a:rect l="l" t="t" r="r" b="b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175280" y="790560"/>
              <a:ext cx="1440" cy="5022720"/>
            </a:xfrm>
            <a:custGeom>
              <a:avLst/>
              <a:gdLst/>
              <a:ahLst/>
              <a:rect l="l" t="t" r="r" b="b"/>
              <a:pathLst>
                <a:path w="1" h="3164">
                  <a:moveTo>
                    <a:pt x="0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3924360" y="4141800"/>
            <a:ext cx="4897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6300720" y="764640"/>
            <a:ext cx="0" cy="504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516720" y="3284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50920" y="393372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50920" y="2997360"/>
            <a:ext cx="360360" cy="50292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2920"/>
              <a:gd name="textAreaBottom" fmla="*/ 479880 h 502920"/>
            </a:gdLst>
            <a:ahLst/>
            <a:rect l="textAreaLeft" t="textAreaTop" r="textAreaRight" b="textAreaBottom"/>
            <a:pathLst>
              <a:path w="21600" h="30137">
                <a:moveTo>
                  <a:pt x="0" y="0"/>
                </a:moveTo>
                <a:lnTo>
                  <a:pt x="21600" y="0"/>
                </a:lnTo>
                <a:lnTo>
                  <a:pt x="21600" y="30137"/>
                </a:lnTo>
                <a:lnTo>
                  <a:pt x="0" y="30137"/>
                </a:lnTo>
                <a:close/>
              </a:path>
              <a:path fill="lightenLess" w="21600" h="301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37">
                <a:moveTo>
                  <a:pt x="21600" y="0"/>
                </a:moveTo>
                <a:lnTo>
                  <a:pt x="21600" y="30137"/>
                </a:lnTo>
                <a:lnTo>
                  <a:pt x="20200" y="28737"/>
                </a:lnTo>
                <a:lnTo>
                  <a:pt x="20200" y="1400"/>
                </a:lnTo>
                <a:close/>
              </a:path>
              <a:path fill="darkenLess" w="21600" h="30137">
                <a:moveTo>
                  <a:pt x="21600" y="30137"/>
                </a:moveTo>
                <a:lnTo>
                  <a:pt x="0" y="30137"/>
                </a:lnTo>
                <a:lnTo>
                  <a:pt x="1400" y="28737"/>
                </a:lnTo>
                <a:lnTo>
                  <a:pt x="20200" y="28737"/>
                </a:lnTo>
                <a:close/>
              </a:path>
              <a:path fill="lighten" w="21600" h="30137">
                <a:moveTo>
                  <a:pt x="0" y="301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37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50920" y="494172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>
            <a:hlinkClick r:id="" action="ppaction://hlinkshowjump?jump=nextslide"/>
          </p:cNvPr>
          <p:cNvSpPr/>
          <p:nvPr/>
        </p:nvSpPr>
        <p:spPr>
          <a:xfrm>
            <a:off x="838836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804000" y="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Monotype Corsiva"/>
              </a:rPr>
              <a:t>те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0"/>
            <a:ext cx="47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рисунке изображе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рафики функц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=х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2х–3   и    у=1–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пользуя графики, реши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уравне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х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2х–3 = 1–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79280" y="602136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965840" y="1409760"/>
            <a:ext cx="2539800" cy="4559400"/>
          </a:xfrm>
          <a:custGeom>
            <a:avLst/>
            <a:gdLst/>
            <a:ahLst/>
            <a:rect l="l" t="t" r="r" b="b"/>
            <a:pathLst>
              <a:path w="1600" h="2872">
                <a:moveTo>
                  <a:pt x="0" y="0"/>
                </a:moveTo>
                <a:lnTo>
                  <a:pt x="1600" y="2872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564000" y="2708280"/>
            <a:ext cx="2160360" cy="576360"/>
          </a:xfrm>
          <a:prstGeom prst="wedgeEllipseCallout">
            <a:avLst>
              <a:gd name="adj1" fmla="val -102240"/>
              <a:gd name="adj2" fmla="val 30990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211640" y="5877000"/>
            <a:ext cx="2087640" cy="647640"/>
          </a:xfrm>
          <a:prstGeom prst="wedgeEllipseCallout">
            <a:avLst>
              <a:gd name="adj1" fmla="val -111976"/>
              <a:gd name="adj2" fmla="val 16421"/>
            </a:avLst>
          </a:pr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382520" y="5516640"/>
            <a:ext cx="10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=1–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027200" y="83520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=х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2х –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42920" y="371628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  2   3  4   5   6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996720" y="4141800"/>
            <a:ext cx="21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7 -6 -5 -4  -3  -2 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063120" y="1989000"/>
            <a:ext cx="307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202440" y="4222800"/>
            <a:ext cx="383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54920" y="4941720"/>
            <a:ext cx="268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-2; 5),  (2; -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72560" y="4005360"/>
            <a:ext cx="2589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-2 ,  х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2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564000" y="5084640"/>
            <a:ext cx="2160360" cy="576360"/>
          </a:xfrm>
          <a:prstGeom prst="wedgeEllipseCallout">
            <a:avLst>
              <a:gd name="adj1" fmla="val -88282"/>
              <a:gd name="adj2" fmla="val 27412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>
            <a:hlinkClick r:id="" action="ppaction://hlinkshowjump?jump=previousslide"/>
          </p:cNvPr>
          <p:cNvSpPr/>
          <p:nvPr/>
        </p:nvSpPr>
        <p:spPr>
          <a:xfrm>
            <a:off x="179280" y="189000"/>
            <a:ext cx="505080" cy="5032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3832" y="10800"/>
                </a:moveTo>
                <a:lnTo>
                  <a:pt x="17845" y="3794"/>
                </a:lnTo>
                <a:lnTo>
                  <a:pt x="17845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84720" y="6021360"/>
            <a:ext cx="26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т реш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01280" y="2997360"/>
            <a:ext cx="2589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-3 ,  у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5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397480" y="1295280"/>
            <a:ext cx="2374920" cy="3981600"/>
          </a:xfrm>
          <a:custGeom>
            <a:avLst/>
            <a:gdLst/>
            <a:ahLst/>
            <a:rect l="l" t="t" r="r" b="b"/>
            <a:pathLst>
              <a:path w="1496" h="2508">
                <a:moveTo>
                  <a:pt x="0" y="40"/>
                </a:moveTo>
                <a:cubicBezTo>
                  <a:pt x="33" y="187"/>
                  <a:pt x="136" y="627"/>
                  <a:pt x="200" y="920"/>
                </a:cubicBezTo>
                <a:cubicBezTo>
                  <a:pt x="264" y="1213"/>
                  <a:pt x="320" y="1567"/>
                  <a:pt x="384" y="1800"/>
                </a:cubicBezTo>
                <a:cubicBezTo>
                  <a:pt x="448" y="2033"/>
                  <a:pt x="519" y="2203"/>
                  <a:pt x="584" y="2320"/>
                </a:cubicBezTo>
                <a:cubicBezTo>
                  <a:pt x="649" y="2437"/>
                  <a:pt x="711" y="2508"/>
                  <a:pt x="776" y="2504"/>
                </a:cubicBezTo>
                <a:cubicBezTo>
                  <a:pt x="841" y="2500"/>
                  <a:pt x="913" y="2415"/>
                  <a:pt x="977" y="2297"/>
                </a:cubicBezTo>
                <a:cubicBezTo>
                  <a:pt x="1041" y="2179"/>
                  <a:pt x="1096" y="2032"/>
                  <a:pt x="1158" y="1798"/>
                </a:cubicBezTo>
                <a:cubicBezTo>
                  <a:pt x="1220" y="1564"/>
                  <a:pt x="1296" y="1196"/>
                  <a:pt x="1352" y="896"/>
                </a:cubicBezTo>
                <a:cubicBezTo>
                  <a:pt x="1408" y="596"/>
                  <a:pt x="1466" y="187"/>
                  <a:pt x="1496" y="0"/>
                </a:cubicBezTo>
              </a:path>
            </a:pathLst>
          </a:cu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877080" y="407664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651640" y="4076640"/>
            <a:ext cx="1425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724360" y="2708280"/>
            <a:ext cx="0" cy="1441440"/>
          </a:xfrm>
          <a:prstGeom prst="line">
            <a:avLst/>
          </a:prstGeom>
          <a:ln w="38160">
            <a:solidFill>
              <a:srgbClr val="cc009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21360" y="4191120"/>
            <a:ext cx="12960" cy="799920"/>
          </a:xfrm>
          <a:custGeom>
            <a:avLst/>
            <a:gdLst/>
            <a:ahLst/>
            <a:rect l="l" t="t" r="r" b="b"/>
            <a:pathLst>
              <a:path w="8" h="504">
                <a:moveTo>
                  <a:pt x="8" y="504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cc00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059280" y="2205000"/>
            <a:ext cx="1944360" cy="720720"/>
          </a:xfrm>
          <a:prstGeom prst="wedgeEllipseCallout">
            <a:avLst>
              <a:gd name="adj1" fmla="val -98162"/>
              <a:gd name="adj2" fmla="val 194495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210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 flipH="1">
            <a:off x="3851280" y="3284640"/>
            <a:ext cx="489744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851280" y="765000"/>
            <a:ext cx="4991040" cy="5078520"/>
            <a:chOff x="3851280" y="765000"/>
            <a:chExt cx="4991040" cy="5078520"/>
          </a:xfrm>
        </p:grpSpPr>
        <p:sp>
          <p:nvSpPr>
            <p:cNvPr id="357" name=""/>
            <p:cNvSpPr/>
            <p:nvPr/>
          </p:nvSpPr>
          <p:spPr>
            <a:xfrm>
              <a:off x="3870360" y="777600"/>
              <a:ext cx="3240" cy="5035680"/>
            </a:xfrm>
            <a:custGeom>
              <a:avLst/>
              <a:gdLst/>
              <a:ahLst/>
              <a:rect l="l" t="t" r="r" b="b"/>
              <a:pathLst>
                <a:path w="2" h="3172">
                  <a:moveTo>
                    <a:pt x="0" y="0"/>
                  </a:moveTo>
                  <a:lnTo>
                    <a:pt x="2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946680" y="2736720"/>
              <a:ext cx="4857840" cy="3240"/>
            </a:xfrm>
            <a:custGeom>
              <a:avLst/>
              <a:gdLst/>
              <a:ahLst/>
              <a:rect l="l" t="t" r="r" b="b"/>
              <a:pathLst>
                <a:path w="3060" h="2">
                  <a:moveTo>
                    <a:pt x="0" y="0"/>
                  </a:moveTo>
                  <a:lnTo>
                    <a:pt x="3060" y="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889440" y="5533920"/>
              <a:ext cx="4902120" cy="1440"/>
            </a:xfrm>
            <a:custGeom>
              <a:avLst/>
              <a:gdLst/>
              <a:ahLst/>
              <a:rect l="l" t="t" r="r" b="b"/>
              <a:pathLst>
                <a:path w="3088" h="1">
                  <a:moveTo>
                    <a:pt x="0" y="0"/>
                  </a:moveTo>
                  <a:lnTo>
                    <a:pt x="3088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873600" y="5254560"/>
              <a:ext cx="4911840" cy="3240"/>
            </a:xfrm>
            <a:custGeom>
              <a:avLst/>
              <a:gdLst/>
              <a:ahLst/>
              <a:rect l="l" t="t" r="r" b="b"/>
              <a:pathLst>
                <a:path w="3094" h="2">
                  <a:moveTo>
                    <a:pt x="0" y="2"/>
                  </a:moveTo>
                  <a:lnTo>
                    <a:pt x="3094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873600" y="4970160"/>
              <a:ext cx="496872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876840" y="4695840"/>
              <a:ext cx="4914720" cy="1440"/>
            </a:xfrm>
            <a:custGeom>
              <a:avLst/>
              <a:gdLst/>
              <a:ahLst/>
              <a:rect l="l" t="t" r="r" b="b"/>
              <a:pathLst>
                <a:path w="3096" h="1">
                  <a:moveTo>
                    <a:pt x="0" y="0"/>
                  </a:moveTo>
                  <a:lnTo>
                    <a:pt x="3096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870360" y="4416120"/>
              <a:ext cx="4908600" cy="1800"/>
            </a:xfrm>
            <a:custGeom>
              <a:avLst/>
              <a:gdLst/>
              <a:ahLst/>
              <a:rect l="l" t="t" r="r" b="b"/>
              <a:pathLst>
                <a:path w="3092" h="1">
                  <a:moveTo>
                    <a:pt x="0" y="0"/>
                  </a:moveTo>
                  <a:lnTo>
                    <a:pt x="309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864240" y="4130640"/>
              <a:ext cx="4921200" cy="6120"/>
            </a:xfrm>
            <a:custGeom>
              <a:avLst/>
              <a:gdLst/>
              <a:ahLst/>
              <a:rect l="l" t="t" r="r" b="b"/>
              <a:pathLst>
                <a:path w="3100" h="4">
                  <a:moveTo>
                    <a:pt x="0" y="4"/>
                  </a:moveTo>
                  <a:lnTo>
                    <a:pt x="3100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864240" y="3851280"/>
              <a:ext cx="4933800" cy="12600"/>
            </a:xfrm>
            <a:custGeom>
              <a:avLst/>
              <a:gdLst/>
              <a:ahLst/>
              <a:rect l="l" t="t" r="r" b="b"/>
              <a:pathLst>
                <a:path w="3108" h="8">
                  <a:moveTo>
                    <a:pt x="0" y="8"/>
                  </a:moveTo>
                  <a:lnTo>
                    <a:pt x="3108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851280" y="3571920"/>
              <a:ext cx="4946760" cy="6120"/>
            </a:xfrm>
            <a:custGeom>
              <a:avLst/>
              <a:gdLst/>
              <a:ahLst/>
              <a:rect l="l" t="t" r="r" b="b"/>
              <a:pathLst>
                <a:path w="3116" h="4">
                  <a:moveTo>
                    <a:pt x="0" y="0"/>
                  </a:moveTo>
                  <a:lnTo>
                    <a:pt x="3116" y="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946680" y="3019320"/>
              <a:ext cx="4844880" cy="6480"/>
            </a:xfrm>
            <a:custGeom>
              <a:avLst/>
              <a:gdLst/>
              <a:ahLst/>
              <a:rect l="l" t="t" r="r" b="b"/>
              <a:pathLst>
                <a:path w="3052" h="4">
                  <a:moveTo>
                    <a:pt x="0" y="4"/>
                  </a:moveTo>
                  <a:lnTo>
                    <a:pt x="305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876840" y="2460600"/>
              <a:ext cx="4921200" cy="1440"/>
            </a:xfrm>
            <a:custGeom>
              <a:avLst/>
              <a:gdLst/>
              <a:ahLst/>
              <a:rect l="l" t="t" r="r" b="b"/>
              <a:pathLst>
                <a:path w="3100" h="1">
                  <a:moveTo>
                    <a:pt x="0" y="0"/>
                  </a:moveTo>
                  <a:lnTo>
                    <a:pt x="3100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857760" y="2181240"/>
              <a:ext cx="4940280" cy="6120"/>
            </a:xfrm>
            <a:custGeom>
              <a:avLst/>
              <a:gdLst/>
              <a:ahLst/>
              <a:rect l="l" t="t" r="r" b="b"/>
              <a:pathLst>
                <a:path w="3112" h="4">
                  <a:moveTo>
                    <a:pt x="0" y="4"/>
                  </a:moveTo>
                  <a:lnTo>
                    <a:pt x="311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64240" y="1901520"/>
              <a:ext cx="4933800" cy="6480"/>
            </a:xfrm>
            <a:custGeom>
              <a:avLst/>
              <a:gdLst/>
              <a:ahLst/>
              <a:rect l="l" t="t" r="r" b="b"/>
              <a:pathLst>
                <a:path w="3108" h="4">
                  <a:moveTo>
                    <a:pt x="0" y="0"/>
                  </a:moveTo>
                  <a:lnTo>
                    <a:pt x="3108" y="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57760" y="1628640"/>
              <a:ext cx="4940280" cy="6480"/>
            </a:xfrm>
            <a:custGeom>
              <a:avLst/>
              <a:gdLst/>
              <a:ahLst/>
              <a:rect l="l" t="t" r="r" b="b"/>
              <a:pathLst>
                <a:path w="3112" h="4">
                  <a:moveTo>
                    <a:pt x="0" y="4"/>
                  </a:moveTo>
                  <a:lnTo>
                    <a:pt x="311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870360" y="1349280"/>
              <a:ext cx="4927680" cy="1440"/>
            </a:xfrm>
            <a:custGeom>
              <a:avLst/>
              <a:gdLst/>
              <a:ahLst/>
              <a:rect l="l" t="t" r="r" b="b"/>
              <a:pathLst>
                <a:path w="3104" h="1">
                  <a:moveTo>
                    <a:pt x="0" y="0"/>
                  </a:moveTo>
                  <a:lnTo>
                    <a:pt x="3104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882960" y="1069920"/>
              <a:ext cx="4908600" cy="12600"/>
            </a:xfrm>
            <a:custGeom>
              <a:avLst/>
              <a:gdLst/>
              <a:ahLst/>
              <a:rect l="l" t="t" r="r" b="b"/>
              <a:pathLst>
                <a:path w="3092" h="8">
                  <a:moveTo>
                    <a:pt x="0" y="8"/>
                  </a:moveTo>
                  <a:lnTo>
                    <a:pt x="309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895920" y="777600"/>
              <a:ext cx="4902120" cy="19080"/>
            </a:xfrm>
            <a:custGeom>
              <a:avLst/>
              <a:gdLst/>
              <a:ahLst/>
              <a:rect l="l" t="t" r="r" b="b"/>
              <a:pathLst>
                <a:path w="3088" h="12">
                  <a:moveTo>
                    <a:pt x="0" y="0"/>
                  </a:moveTo>
                  <a:lnTo>
                    <a:pt x="3088" y="1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857760" y="5813280"/>
              <a:ext cx="4946760" cy="1440"/>
            </a:xfrm>
            <a:custGeom>
              <a:avLst/>
              <a:gdLst/>
              <a:ahLst/>
              <a:rect l="l" t="t" r="r" b="b"/>
              <a:pathLst>
                <a:path w="3116" h="1">
                  <a:moveTo>
                    <a:pt x="0" y="0"/>
                  </a:moveTo>
                  <a:lnTo>
                    <a:pt x="3116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798040" y="803160"/>
              <a:ext cx="1440" cy="4978440"/>
            </a:xfrm>
            <a:custGeom>
              <a:avLst/>
              <a:gdLst/>
              <a:ahLst/>
              <a:rect l="l" t="t" r="r" b="b"/>
              <a:pathLst>
                <a:path w="1" h="3136">
                  <a:moveTo>
                    <a:pt x="0" y="0"/>
                  </a:moveTo>
                  <a:lnTo>
                    <a:pt x="0" y="3136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487000" y="790560"/>
              <a:ext cx="6120" cy="5035320"/>
            </a:xfrm>
            <a:custGeom>
              <a:avLst/>
              <a:gdLst/>
              <a:ahLst/>
              <a:rect l="l" t="t" r="r" b="b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175600" y="790560"/>
              <a:ext cx="6480" cy="5029200"/>
            </a:xfrm>
            <a:custGeom>
              <a:avLst/>
              <a:gdLst/>
              <a:ahLst/>
              <a:rect l="l" t="t" r="r" b="b"/>
              <a:pathLst>
                <a:path w="4" h="3168">
                  <a:moveTo>
                    <a:pt x="4" y="0"/>
                  </a:moveTo>
                  <a:lnTo>
                    <a:pt x="0" y="3168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871040" y="790560"/>
              <a:ext cx="1440" cy="5016240"/>
            </a:xfrm>
            <a:custGeom>
              <a:avLst/>
              <a:gdLst/>
              <a:ahLst/>
              <a:rect l="l" t="t" r="r" b="b"/>
              <a:pathLst>
                <a:path w="1" h="3160">
                  <a:moveTo>
                    <a:pt x="0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559640" y="784080"/>
              <a:ext cx="6480" cy="5035680"/>
            </a:xfrm>
            <a:custGeom>
              <a:avLst/>
              <a:gdLst/>
              <a:ahLst/>
              <a:rect l="l" t="t" r="r" b="b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236000" y="777600"/>
              <a:ext cx="22320" cy="5065920"/>
            </a:xfrm>
            <a:custGeom>
              <a:avLst/>
              <a:gdLst/>
              <a:ahLst/>
              <a:rect l="l" t="t" r="r" b="b"/>
              <a:pathLst>
                <a:path w="14" h="3191">
                  <a:moveTo>
                    <a:pt x="0" y="0"/>
                  </a:moveTo>
                  <a:lnTo>
                    <a:pt x="14" y="3191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943680" y="803160"/>
              <a:ext cx="6480" cy="5016600"/>
            </a:xfrm>
            <a:custGeom>
              <a:avLst/>
              <a:gdLst/>
              <a:ahLst/>
              <a:rect l="l" t="t" r="r" b="b"/>
              <a:pathLst>
                <a:path w="4" h="3160">
                  <a:moveTo>
                    <a:pt x="4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639120" y="803160"/>
              <a:ext cx="1440" cy="5003640"/>
            </a:xfrm>
            <a:custGeom>
              <a:avLst/>
              <a:gdLst/>
              <a:ahLst/>
              <a:rect l="l" t="t" r="r" b="b"/>
              <a:pathLst>
                <a:path w="1" h="3152">
                  <a:moveTo>
                    <a:pt x="0" y="0"/>
                  </a:moveTo>
                  <a:lnTo>
                    <a:pt x="0" y="315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016680" y="765000"/>
              <a:ext cx="17640" cy="5078520"/>
            </a:xfrm>
            <a:custGeom>
              <a:avLst/>
              <a:gdLst/>
              <a:ahLst/>
              <a:rect l="l" t="t" r="r" b="b"/>
              <a:pathLst>
                <a:path w="11" h="3199">
                  <a:moveTo>
                    <a:pt x="0" y="0"/>
                  </a:moveTo>
                  <a:lnTo>
                    <a:pt x="11" y="3199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711760" y="790560"/>
              <a:ext cx="1800" cy="5035320"/>
            </a:xfrm>
            <a:custGeom>
              <a:avLst/>
              <a:gdLst/>
              <a:ahLst/>
              <a:rect l="l" t="t" r="r" b="b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407200" y="796680"/>
              <a:ext cx="6120" cy="5023080"/>
            </a:xfrm>
            <a:custGeom>
              <a:avLst/>
              <a:gdLst/>
              <a:ahLst/>
              <a:rect l="l" t="t" r="r" b="b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089680" y="790560"/>
              <a:ext cx="12600" cy="5022720"/>
            </a:xfrm>
            <a:custGeom>
              <a:avLst/>
              <a:gdLst/>
              <a:ahLst/>
              <a:rect l="l" t="t" r="r" b="b"/>
              <a:pathLst>
                <a:path w="8" h="3164">
                  <a:moveTo>
                    <a:pt x="0" y="0"/>
                  </a:moveTo>
                  <a:lnTo>
                    <a:pt x="8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791240" y="790560"/>
              <a:ext cx="6120" cy="5022720"/>
            </a:xfrm>
            <a:custGeom>
              <a:avLst/>
              <a:gdLst/>
              <a:ahLst/>
              <a:rect l="l" t="t" r="r" b="b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86320" y="790560"/>
              <a:ext cx="1800" cy="5035320"/>
            </a:xfrm>
            <a:custGeom>
              <a:avLst/>
              <a:gdLst/>
              <a:ahLst/>
              <a:rect l="l" t="t" r="r" b="b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175280" y="790560"/>
              <a:ext cx="1440" cy="5022720"/>
            </a:xfrm>
            <a:custGeom>
              <a:avLst/>
              <a:gdLst/>
              <a:ahLst/>
              <a:rect l="l" t="t" r="r" b="b"/>
              <a:pathLst>
                <a:path w="1" h="3164">
                  <a:moveTo>
                    <a:pt x="0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"/>
          <p:cNvSpPr/>
          <p:nvPr/>
        </p:nvSpPr>
        <p:spPr>
          <a:xfrm>
            <a:off x="3924360" y="4141800"/>
            <a:ext cx="4897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6300720" y="764640"/>
            <a:ext cx="0" cy="504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516720" y="3284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0920" y="501336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50920" y="393372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50920" y="2997360"/>
            <a:ext cx="360360" cy="50292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2920"/>
              <a:gd name="textAreaBottom" fmla="*/ 479880 h 502920"/>
            </a:gdLst>
            <a:ahLst/>
            <a:rect l="textAreaLeft" t="textAreaTop" r="textAreaRight" b="textAreaBottom"/>
            <a:pathLst>
              <a:path w="21600" h="30137">
                <a:moveTo>
                  <a:pt x="0" y="0"/>
                </a:moveTo>
                <a:lnTo>
                  <a:pt x="21600" y="0"/>
                </a:lnTo>
                <a:lnTo>
                  <a:pt x="21600" y="30137"/>
                </a:lnTo>
                <a:lnTo>
                  <a:pt x="0" y="30137"/>
                </a:lnTo>
                <a:close/>
              </a:path>
              <a:path fill="lightenLess" w="21600" h="301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37">
                <a:moveTo>
                  <a:pt x="21600" y="0"/>
                </a:moveTo>
                <a:lnTo>
                  <a:pt x="21600" y="30137"/>
                </a:lnTo>
                <a:lnTo>
                  <a:pt x="20200" y="28737"/>
                </a:lnTo>
                <a:lnTo>
                  <a:pt x="20200" y="1400"/>
                </a:lnTo>
                <a:close/>
              </a:path>
              <a:path fill="darkenLess" w="21600" h="30137">
                <a:moveTo>
                  <a:pt x="21600" y="30137"/>
                </a:moveTo>
                <a:lnTo>
                  <a:pt x="0" y="30137"/>
                </a:lnTo>
                <a:lnTo>
                  <a:pt x="1400" y="28737"/>
                </a:lnTo>
                <a:lnTo>
                  <a:pt x="20200" y="28737"/>
                </a:lnTo>
                <a:close/>
              </a:path>
              <a:path fill="lighten" w="21600" h="30137">
                <a:moveTo>
                  <a:pt x="0" y="301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37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>
            <a:hlinkClick r:id="" action="ppaction://hlinkshowjump?jump=nextslide"/>
          </p:cNvPr>
          <p:cNvSpPr/>
          <p:nvPr/>
        </p:nvSpPr>
        <p:spPr>
          <a:xfrm>
            <a:off x="838836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877080" y="0"/>
            <a:ext cx="151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Monotype Corsiva"/>
              </a:rPr>
              <a:t>те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0"/>
            <a:ext cx="47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рисунке изображе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фики функц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= 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и    у=2х+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я графики реши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истему уравне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79280" y="602136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584600" y="1219320"/>
            <a:ext cx="2730600" cy="5003640"/>
          </a:xfrm>
          <a:custGeom>
            <a:avLst/>
            <a:gdLst/>
            <a:ahLst/>
            <a:rect l="l" t="t" r="r" b="b"/>
            <a:pathLst>
              <a:path w="1720" h="3152">
                <a:moveTo>
                  <a:pt x="1720" y="0"/>
                </a:moveTo>
                <a:lnTo>
                  <a:pt x="0" y="3152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916360" y="3357720"/>
            <a:ext cx="2160360" cy="576000"/>
          </a:xfrm>
          <a:prstGeom prst="wedgeEllipseCallout">
            <a:avLst>
              <a:gd name="adj1" fmla="val -95773"/>
              <a:gd name="adj2" fmla="val 86087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211640" y="5877000"/>
            <a:ext cx="2087640" cy="647640"/>
          </a:xfrm>
          <a:prstGeom prst="wedgeEllipseCallout">
            <a:avLst>
              <a:gd name="adj1" fmla="val -111976"/>
              <a:gd name="adj2" fmla="val 16421"/>
            </a:avLst>
          </a:pr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rot="18049200">
            <a:off x="4503240" y="479664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=2х+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308640" y="836640"/>
            <a:ext cx="8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=х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522480" y="414180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  2   3  4   5   6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996720" y="4141800"/>
            <a:ext cx="21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7 -6 -5 -4  -3  -2 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063120" y="1700280"/>
            <a:ext cx="30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202440" y="4222800"/>
            <a:ext cx="383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56360" y="4941720"/>
            <a:ext cx="11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; 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844200" y="3933720"/>
            <a:ext cx="2589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-2 ,  х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2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700360" y="2708280"/>
            <a:ext cx="2160720" cy="576360"/>
          </a:xfrm>
          <a:prstGeom prst="wedgeEllipseCallout">
            <a:avLst>
              <a:gd name="adj1" fmla="val -92393"/>
              <a:gd name="adj2" fmla="val 80300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>
            <a:hlinkClick r:id="" action="ppaction://hlinkshowjump?jump=previousslide"/>
          </p:cNvPr>
          <p:cNvSpPr/>
          <p:nvPr/>
        </p:nvSpPr>
        <p:spPr>
          <a:xfrm>
            <a:off x="179280" y="189000"/>
            <a:ext cx="505080" cy="5032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3832" y="10800"/>
                </a:moveTo>
                <a:lnTo>
                  <a:pt x="17845" y="3794"/>
                </a:lnTo>
                <a:lnTo>
                  <a:pt x="17845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84720" y="6021360"/>
            <a:ext cx="26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т реш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85440" y="2997360"/>
            <a:ext cx="129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 = 2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195640" y="4508640"/>
            <a:ext cx="1944720" cy="720720"/>
          </a:xfrm>
          <a:prstGeom prst="wedgeEllipseCallout">
            <a:avLst>
              <a:gd name="adj1" fmla="val -74569"/>
              <a:gd name="adj2" fmla="val 92953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651640" y="762120"/>
            <a:ext cx="1485720" cy="5979960"/>
          </a:xfrm>
          <a:custGeom>
            <a:avLst/>
            <a:gdLst/>
            <a:ahLst/>
            <a:rect l="l" t="t" r="r" b="b"/>
            <a:pathLst>
              <a:path w="936" h="3767">
                <a:moveTo>
                  <a:pt x="936" y="0"/>
                </a:moveTo>
                <a:cubicBezTo>
                  <a:pt x="916" y="121"/>
                  <a:pt x="848" y="504"/>
                  <a:pt x="816" y="728"/>
                </a:cubicBezTo>
                <a:cubicBezTo>
                  <a:pt x="784" y="952"/>
                  <a:pt x="779" y="1144"/>
                  <a:pt x="744" y="1344"/>
                </a:cubicBezTo>
                <a:cubicBezTo>
                  <a:pt x="709" y="1544"/>
                  <a:pt x="661" y="1799"/>
                  <a:pt x="608" y="1928"/>
                </a:cubicBezTo>
                <a:cubicBezTo>
                  <a:pt x="555" y="2057"/>
                  <a:pt x="483" y="2060"/>
                  <a:pt x="424" y="2120"/>
                </a:cubicBezTo>
                <a:cubicBezTo>
                  <a:pt x="365" y="2180"/>
                  <a:pt x="301" y="2185"/>
                  <a:pt x="256" y="2288"/>
                </a:cubicBezTo>
                <a:cubicBezTo>
                  <a:pt x="211" y="2391"/>
                  <a:pt x="195" y="2490"/>
                  <a:pt x="152" y="2736"/>
                </a:cubicBezTo>
                <a:cubicBezTo>
                  <a:pt x="109" y="2982"/>
                  <a:pt x="32" y="3552"/>
                  <a:pt x="0" y="3767"/>
                </a:cubicBezTo>
              </a:path>
            </a:pathLst>
          </a:custGeom>
          <a:noFill/>
          <a:ln w="28440">
            <a:solidFill>
              <a:srgbClr val="cc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877080" y="1846440"/>
            <a:ext cx="142920" cy="142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592200" y="1773360"/>
                <a:ext cx="1861920" cy="11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у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19" dur="indefinite" restart="never" nodeType="tmRoot">
          <p:childTnLst>
            <p:seq>
              <p:cTn id="220" restart="whenNotActive" nodeType="interactiveSeq" fill="hold">
                <p:stCondLst>
                  <p:cond evt="onClick">
                    <p:tgtEl>
                      <p:spTgt spid="394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396"/>
                    </p:tgtEl>
                  </p:cond>
                </p:stCondLst>
                <p:childTnLst>
                  <p:par>
                    <p:cTn id="232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242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400"/>
                    </p:tgtEl>
                  </p:cond>
                </p:stCondLst>
                <p:childTnLst>
                  <p:par>
                    <p:cTn id="252" fill="hold">
                      <p:stCondLst>
                        <p:cond evt="onClick">
                          <p:tgtEl>
                            <p:spTgt spid="400"/>
                          </p:tgtEl>
                        </p:cond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9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 flipH="1">
            <a:off x="3851280" y="3284640"/>
            <a:ext cx="489744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3851280" y="765000"/>
            <a:ext cx="4991040" cy="5078520"/>
            <a:chOff x="3851280" y="765000"/>
            <a:chExt cx="4991040" cy="5078520"/>
          </a:xfrm>
        </p:grpSpPr>
        <p:sp>
          <p:nvSpPr>
            <p:cNvPr id="422" name=""/>
            <p:cNvSpPr/>
            <p:nvPr/>
          </p:nvSpPr>
          <p:spPr>
            <a:xfrm>
              <a:off x="3870360" y="777600"/>
              <a:ext cx="3240" cy="5035680"/>
            </a:xfrm>
            <a:custGeom>
              <a:avLst/>
              <a:gdLst/>
              <a:ahLst/>
              <a:rect l="l" t="t" r="r" b="b"/>
              <a:pathLst>
                <a:path w="2" h="3172">
                  <a:moveTo>
                    <a:pt x="0" y="0"/>
                  </a:moveTo>
                  <a:lnTo>
                    <a:pt x="2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946680" y="2736720"/>
              <a:ext cx="4857840" cy="3240"/>
            </a:xfrm>
            <a:custGeom>
              <a:avLst/>
              <a:gdLst/>
              <a:ahLst/>
              <a:rect l="l" t="t" r="r" b="b"/>
              <a:pathLst>
                <a:path w="3060" h="2">
                  <a:moveTo>
                    <a:pt x="0" y="0"/>
                  </a:moveTo>
                  <a:lnTo>
                    <a:pt x="3060" y="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889440" y="5533920"/>
              <a:ext cx="4902120" cy="1440"/>
            </a:xfrm>
            <a:custGeom>
              <a:avLst/>
              <a:gdLst/>
              <a:ahLst/>
              <a:rect l="l" t="t" r="r" b="b"/>
              <a:pathLst>
                <a:path w="3088" h="1">
                  <a:moveTo>
                    <a:pt x="0" y="0"/>
                  </a:moveTo>
                  <a:lnTo>
                    <a:pt x="3088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73600" y="5254560"/>
              <a:ext cx="4911840" cy="3240"/>
            </a:xfrm>
            <a:custGeom>
              <a:avLst/>
              <a:gdLst/>
              <a:ahLst/>
              <a:rect l="l" t="t" r="r" b="b"/>
              <a:pathLst>
                <a:path w="3094" h="2">
                  <a:moveTo>
                    <a:pt x="0" y="2"/>
                  </a:moveTo>
                  <a:lnTo>
                    <a:pt x="3094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873600" y="4970160"/>
              <a:ext cx="496872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876840" y="4695840"/>
              <a:ext cx="4914720" cy="1440"/>
            </a:xfrm>
            <a:custGeom>
              <a:avLst/>
              <a:gdLst/>
              <a:ahLst/>
              <a:rect l="l" t="t" r="r" b="b"/>
              <a:pathLst>
                <a:path w="3096" h="1">
                  <a:moveTo>
                    <a:pt x="0" y="0"/>
                  </a:moveTo>
                  <a:lnTo>
                    <a:pt x="3096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870360" y="4416120"/>
              <a:ext cx="4908600" cy="1800"/>
            </a:xfrm>
            <a:custGeom>
              <a:avLst/>
              <a:gdLst/>
              <a:ahLst/>
              <a:rect l="l" t="t" r="r" b="b"/>
              <a:pathLst>
                <a:path w="3092" h="1">
                  <a:moveTo>
                    <a:pt x="0" y="0"/>
                  </a:moveTo>
                  <a:lnTo>
                    <a:pt x="309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864240" y="4130640"/>
              <a:ext cx="4921200" cy="6120"/>
            </a:xfrm>
            <a:custGeom>
              <a:avLst/>
              <a:gdLst/>
              <a:ahLst/>
              <a:rect l="l" t="t" r="r" b="b"/>
              <a:pathLst>
                <a:path w="3100" h="4">
                  <a:moveTo>
                    <a:pt x="0" y="4"/>
                  </a:moveTo>
                  <a:lnTo>
                    <a:pt x="3100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864240" y="3851280"/>
              <a:ext cx="4933800" cy="12600"/>
            </a:xfrm>
            <a:custGeom>
              <a:avLst/>
              <a:gdLst/>
              <a:ahLst/>
              <a:rect l="l" t="t" r="r" b="b"/>
              <a:pathLst>
                <a:path w="3108" h="8">
                  <a:moveTo>
                    <a:pt x="0" y="8"/>
                  </a:moveTo>
                  <a:lnTo>
                    <a:pt x="3108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851280" y="3571920"/>
              <a:ext cx="4946760" cy="6120"/>
            </a:xfrm>
            <a:custGeom>
              <a:avLst/>
              <a:gdLst/>
              <a:ahLst/>
              <a:rect l="l" t="t" r="r" b="b"/>
              <a:pathLst>
                <a:path w="3116" h="4">
                  <a:moveTo>
                    <a:pt x="0" y="0"/>
                  </a:moveTo>
                  <a:lnTo>
                    <a:pt x="3116" y="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946680" y="3019320"/>
              <a:ext cx="4844880" cy="6480"/>
            </a:xfrm>
            <a:custGeom>
              <a:avLst/>
              <a:gdLst/>
              <a:ahLst/>
              <a:rect l="l" t="t" r="r" b="b"/>
              <a:pathLst>
                <a:path w="3052" h="4">
                  <a:moveTo>
                    <a:pt x="0" y="4"/>
                  </a:moveTo>
                  <a:lnTo>
                    <a:pt x="305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876840" y="2460600"/>
              <a:ext cx="4921200" cy="1440"/>
            </a:xfrm>
            <a:custGeom>
              <a:avLst/>
              <a:gdLst/>
              <a:ahLst/>
              <a:rect l="l" t="t" r="r" b="b"/>
              <a:pathLst>
                <a:path w="3100" h="1">
                  <a:moveTo>
                    <a:pt x="0" y="0"/>
                  </a:moveTo>
                  <a:lnTo>
                    <a:pt x="3100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857760" y="2181240"/>
              <a:ext cx="4940280" cy="6120"/>
            </a:xfrm>
            <a:custGeom>
              <a:avLst/>
              <a:gdLst/>
              <a:ahLst/>
              <a:rect l="l" t="t" r="r" b="b"/>
              <a:pathLst>
                <a:path w="3112" h="4">
                  <a:moveTo>
                    <a:pt x="0" y="4"/>
                  </a:moveTo>
                  <a:lnTo>
                    <a:pt x="311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864240" y="1901520"/>
              <a:ext cx="4933800" cy="6480"/>
            </a:xfrm>
            <a:custGeom>
              <a:avLst/>
              <a:gdLst/>
              <a:ahLst/>
              <a:rect l="l" t="t" r="r" b="b"/>
              <a:pathLst>
                <a:path w="3108" h="4">
                  <a:moveTo>
                    <a:pt x="0" y="0"/>
                  </a:moveTo>
                  <a:lnTo>
                    <a:pt x="3108" y="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857760" y="1628640"/>
              <a:ext cx="4940280" cy="6480"/>
            </a:xfrm>
            <a:custGeom>
              <a:avLst/>
              <a:gdLst/>
              <a:ahLst/>
              <a:rect l="l" t="t" r="r" b="b"/>
              <a:pathLst>
                <a:path w="3112" h="4">
                  <a:moveTo>
                    <a:pt x="0" y="4"/>
                  </a:moveTo>
                  <a:lnTo>
                    <a:pt x="311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870360" y="1349280"/>
              <a:ext cx="4927680" cy="1440"/>
            </a:xfrm>
            <a:custGeom>
              <a:avLst/>
              <a:gdLst/>
              <a:ahLst/>
              <a:rect l="l" t="t" r="r" b="b"/>
              <a:pathLst>
                <a:path w="3104" h="1">
                  <a:moveTo>
                    <a:pt x="0" y="0"/>
                  </a:moveTo>
                  <a:lnTo>
                    <a:pt x="3104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882960" y="1069920"/>
              <a:ext cx="4908600" cy="12600"/>
            </a:xfrm>
            <a:custGeom>
              <a:avLst/>
              <a:gdLst/>
              <a:ahLst/>
              <a:rect l="l" t="t" r="r" b="b"/>
              <a:pathLst>
                <a:path w="3092" h="8">
                  <a:moveTo>
                    <a:pt x="0" y="8"/>
                  </a:moveTo>
                  <a:lnTo>
                    <a:pt x="309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895920" y="777600"/>
              <a:ext cx="4902120" cy="19080"/>
            </a:xfrm>
            <a:custGeom>
              <a:avLst/>
              <a:gdLst/>
              <a:ahLst/>
              <a:rect l="l" t="t" r="r" b="b"/>
              <a:pathLst>
                <a:path w="3088" h="12">
                  <a:moveTo>
                    <a:pt x="0" y="0"/>
                  </a:moveTo>
                  <a:lnTo>
                    <a:pt x="3088" y="1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857760" y="5813280"/>
              <a:ext cx="4946760" cy="1440"/>
            </a:xfrm>
            <a:custGeom>
              <a:avLst/>
              <a:gdLst/>
              <a:ahLst/>
              <a:rect l="l" t="t" r="r" b="b"/>
              <a:pathLst>
                <a:path w="3116" h="1">
                  <a:moveTo>
                    <a:pt x="0" y="0"/>
                  </a:moveTo>
                  <a:lnTo>
                    <a:pt x="3116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798040" y="803160"/>
              <a:ext cx="1440" cy="4978440"/>
            </a:xfrm>
            <a:custGeom>
              <a:avLst/>
              <a:gdLst/>
              <a:ahLst/>
              <a:rect l="l" t="t" r="r" b="b"/>
              <a:pathLst>
                <a:path w="1" h="3136">
                  <a:moveTo>
                    <a:pt x="0" y="0"/>
                  </a:moveTo>
                  <a:lnTo>
                    <a:pt x="0" y="3136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487000" y="790560"/>
              <a:ext cx="6120" cy="5035320"/>
            </a:xfrm>
            <a:custGeom>
              <a:avLst/>
              <a:gdLst/>
              <a:ahLst/>
              <a:rect l="l" t="t" r="r" b="b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175600" y="790560"/>
              <a:ext cx="6480" cy="5029200"/>
            </a:xfrm>
            <a:custGeom>
              <a:avLst/>
              <a:gdLst/>
              <a:ahLst/>
              <a:rect l="l" t="t" r="r" b="b"/>
              <a:pathLst>
                <a:path w="4" h="3168">
                  <a:moveTo>
                    <a:pt x="4" y="0"/>
                  </a:moveTo>
                  <a:lnTo>
                    <a:pt x="0" y="3168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871040" y="790560"/>
              <a:ext cx="1440" cy="5016240"/>
            </a:xfrm>
            <a:custGeom>
              <a:avLst/>
              <a:gdLst/>
              <a:ahLst/>
              <a:rect l="l" t="t" r="r" b="b"/>
              <a:pathLst>
                <a:path w="1" h="3160">
                  <a:moveTo>
                    <a:pt x="0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559640" y="784080"/>
              <a:ext cx="6480" cy="5035680"/>
            </a:xfrm>
            <a:custGeom>
              <a:avLst/>
              <a:gdLst/>
              <a:ahLst/>
              <a:rect l="l" t="t" r="r" b="b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236000" y="777600"/>
              <a:ext cx="22320" cy="5065920"/>
            </a:xfrm>
            <a:custGeom>
              <a:avLst/>
              <a:gdLst/>
              <a:ahLst/>
              <a:rect l="l" t="t" r="r" b="b"/>
              <a:pathLst>
                <a:path w="14" h="3191">
                  <a:moveTo>
                    <a:pt x="0" y="0"/>
                  </a:moveTo>
                  <a:lnTo>
                    <a:pt x="14" y="3191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943680" y="803160"/>
              <a:ext cx="6480" cy="5016600"/>
            </a:xfrm>
            <a:custGeom>
              <a:avLst/>
              <a:gdLst/>
              <a:ahLst/>
              <a:rect l="l" t="t" r="r" b="b"/>
              <a:pathLst>
                <a:path w="4" h="3160">
                  <a:moveTo>
                    <a:pt x="4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639120" y="803160"/>
              <a:ext cx="1440" cy="5003640"/>
            </a:xfrm>
            <a:custGeom>
              <a:avLst/>
              <a:gdLst/>
              <a:ahLst/>
              <a:rect l="l" t="t" r="r" b="b"/>
              <a:pathLst>
                <a:path w="1" h="3152">
                  <a:moveTo>
                    <a:pt x="0" y="0"/>
                  </a:moveTo>
                  <a:lnTo>
                    <a:pt x="0" y="315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016680" y="765000"/>
              <a:ext cx="17640" cy="5078520"/>
            </a:xfrm>
            <a:custGeom>
              <a:avLst/>
              <a:gdLst/>
              <a:ahLst/>
              <a:rect l="l" t="t" r="r" b="b"/>
              <a:pathLst>
                <a:path w="11" h="3199">
                  <a:moveTo>
                    <a:pt x="0" y="0"/>
                  </a:moveTo>
                  <a:lnTo>
                    <a:pt x="11" y="3199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711760" y="790560"/>
              <a:ext cx="1800" cy="5035320"/>
            </a:xfrm>
            <a:custGeom>
              <a:avLst/>
              <a:gdLst/>
              <a:ahLst/>
              <a:rect l="l" t="t" r="r" b="b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407200" y="796680"/>
              <a:ext cx="6120" cy="5023080"/>
            </a:xfrm>
            <a:custGeom>
              <a:avLst/>
              <a:gdLst/>
              <a:ahLst/>
              <a:rect l="l" t="t" r="r" b="b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089680" y="790560"/>
              <a:ext cx="12600" cy="5022720"/>
            </a:xfrm>
            <a:custGeom>
              <a:avLst/>
              <a:gdLst/>
              <a:ahLst/>
              <a:rect l="l" t="t" r="r" b="b"/>
              <a:pathLst>
                <a:path w="8" h="3164">
                  <a:moveTo>
                    <a:pt x="0" y="0"/>
                  </a:moveTo>
                  <a:lnTo>
                    <a:pt x="8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791240" y="790560"/>
              <a:ext cx="6120" cy="5022720"/>
            </a:xfrm>
            <a:custGeom>
              <a:avLst/>
              <a:gdLst/>
              <a:ahLst/>
              <a:rect l="l" t="t" r="r" b="b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486320" y="790560"/>
              <a:ext cx="1800" cy="5035320"/>
            </a:xfrm>
            <a:custGeom>
              <a:avLst/>
              <a:gdLst/>
              <a:ahLst/>
              <a:rect l="l" t="t" r="r" b="b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175280" y="790560"/>
              <a:ext cx="1440" cy="5022720"/>
            </a:xfrm>
            <a:custGeom>
              <a:avLst/>
              <a:gdLst/>
              <a:ahLst/>
              <a:rect l="l" t="t" r="r" b="b"/>
              <a:pathLst>
                <a:path w="1" h="3164">
                  <a:moveTo>
                    <a:pt x="0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3924360" y="4141800"/>
            <a:ext cx="4897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6300720" y="764640"/>
            <a:ext cx="0" cy="504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516720" y="3284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50920" y="306864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50920" y="393372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0920" y="494172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>
            <a:hlinkClick r:id="" action="ppaction://hlinkshowjump?jump=nextslide"/>
          </p:cNvPr>
          <p:cNvSpPr/>
          <p:nvPr/>
        </p:nvSpPr>
        <p:spPr>
          <a:xfrm>
            <a:off x="838836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877080" y="0"/>
            <a:ext cx="13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Monotype Corsiva"/>
              </a:rPr>
              <a:t>те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0"/>
            <a:ext cx="47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рисунке изображе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фики функц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= 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и  у=2х+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я графики реши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уравн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2х– 4 = 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79280" y="602136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648320" y="1231920"/>
            <a:ext cx="2705040" cy="4737240"/>
          </a:xfrm>
          <a:custGeom>
            <a:avLst/>
            <a:gdLst/>
            <a:ahLst/>
            <a:rect l="l" t="t" r="r" b="b"/>
            <a:pathLst>
              <a:path w="1704" h="2984">
                <a:moveTo>
                  <a:pt x="1704" y="0"/>
                </a:moveTo>
                <a:lnTo>
                  <a:pt x="0" y="2984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708360" y="3500280"/>
            <a:ext cx="2160720" cy="576360"/>
          </a:xfrm>
          <a:prstGeom prst="wedgeEllipseCallout">
            <a:avLst>
              <a:gd name="adj1" fmla="val -102240"/>
              <a:gd name="adj2" fmla="val 30990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211640" y="5877000"/>
            <a:ext cx="2087640" cy="647640"/>
          </a:xfrm>
          <a:prstGeom prst="wedgeEllipseCallout">
            <a:avLst>
              <a:gd name="adj1" fmla="val -111976"/>
              <a:gd name="adj2" fmla="val 16421"/>
            </a:avLst>
          </a:pr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rot="18049200">
            <a:off x="4401720" y="479664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=2х+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308640" y="836640"/>
            <a:ext cx="8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=х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522480" y="414180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  2   3  4   5   6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996720" y="4141800"/>
            <a:ext cx="21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7 -6 -5 -4  -3  -2 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063120" y="1700280"/>
            <a:ext cx="30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202440" y="4222800"/>
            <a:ext cx="383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56360" y="4941720"/>
            <a:ext cx="11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; 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844200" y="3933720"/>
            <a:ext cx="2589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-2 ,  х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2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050920" y="5157720"/>
            <a:ext cx="2160720" cy="576360"/>
          </a:xfrm>
          <a:prstGeom prst="wedgeEllipseCallout">
            <a:avLst>
              <a:gd name="adj1" fmla="val -88282"/>
              <a:gd name="adj2" fmla="val 27412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>
            <a:hlinkClick r:id="" action="ppaction://hlinkshowjump?jump=previousslide"/>
          </p:cNvPr>
          <p:cNvSpPr/>
          <p:nvPr/>
        </p:nvSpPr>
        <p:spPr>
          <a:xfrm>
            <a:off x="179280" y="189000"/>
            <a:ext cx="505080" cy="5032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3832" y="10800"/>
                </a:moveTo>
                <a:lnTo>
                  <a:pt x="17845" y="3794"/>
                </a:lnTo>
                <a:lnTo>
                  <a:pt x="17845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84720" y="6021360"/>
            <a:ext cx="26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т реш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85440" y="2997360"/>
            <a:ext cx="129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 = 2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946920" y="1989000"/>
            <a:ext cx="1440" cy="2151360"/>
          </a:xfrm>
          <a:custGeom>
            <a:avLst/>
            <a:gdLst/>
            <a:ahLst/>
            <a:rect l="l" t="t" r="r" b="b"/>
            <a:pathLst>
              <a:path w="1" h="1355">
                <a:moveTo>
                  <a:pt x="1" y="0"/>
                </a:moveTo>
                <a:lnTo>
                  <a:pt x="0" y="1355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195640" y="2276640"/>
            <a:ext cx="1944720" cy="720720"/>
          </a:xfrm>
          <a:prstGeom prst="wedgeEllipseCallout">
            <a:avLst>
              <a:gd name="adj1" fmla="val -74569"/>
              <a:gd name="adj2" fmla="val 92953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651640" y="762120"/>
            <a:ext cx="1485720" cy="5979960"/>
          </a:xfrm>
          <a:custGeom>
            <a:avLst/>
            <a:gdLst/>
            <a:ahLst/>
            <a:rect l="l" t="t" r="r" b="b"/>
            <a:pathLst>
              <a:path w="936" h="3767">
                <a:moveTo>
                  <a:pt x="936" y="0"/>
                </a:moveTo>
                <a:cubicBezTo>
                  <a:pt x="901" y="215"/>
                  <a:pt x="791" y="967"/>
                  <a:pt x="736" y="1288"/>
                </a:cubicBezTo>
                <a:cubicBezTo>
                  <a:pt x="681" y="1609"/>
                  <a:pt x="660" y="1789"/>
                  <a:pt x="608" y="1928"/>
                </a:cubicBezTo>
                <a:cubicBezTo>
                  <a:pt x="556" y="2067"/>
                  <a:pt x="483" y="2060"/>
                  <a:pt x="424" y="2120"/>
                </a:cubicBezTo>
                <a:cubicBezTo>
                  <a:pt x="365" y="2180"/>
                  <a:pt x="301" y="2185"/>
                  <a:pt x="256" y="2288"/>
                </a:cubicBezTo>
                <a:cubicBezTo>
                  <a:pt x="211" y="2391"/>
                  <a:pt x="195" y="2490"/>
                  <a:pt x="152" y="2736"/>
                </a:cubicBezTo>
                <a:cubicBezTo>
                  <a:pt x="109" y="2982"/>
                  <a:pt x="32" y="3552"/>
                  <a:pt x="0" y="3767"/>
                </a:cubicBezTo>
              </a:path>
            </a:pathLst>
          </a:custGeom>
          <a:noFill/>
          <a:ln w="28440">
            <a:solidFill>
              <a:srgbClr val="cc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877080" y="407664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restart="whenNotActive" nodeType="interactiveSeq" fill="hold">
                <p:stCondLst>
                  <p:cond evt="onClick">
                    <p:tgtEl>
                      <p:spTgt spid="459"/>
                    </p:tgtEl>
                  </p:cond>
                </p:stCondLst>
                <p:childTnLst>
                  <p:par>
                    <p:cTn id="263" fill="hold">
                      <p:stCondLst>
                        <p:cond evt="onClick">
                          <p:tgtEl>
                            <p:spTgt spid="459"/>
                          </p:tgtEl>
                        </p:cond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7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278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7" restart="whenNotActive" nodeType="interactiveSeq" fill="hold">
                <p:stCondLst>
                  <p:cond evt="onClick">
                    <p:tgtEl>
                      <p:spTgt spid="460"/>
                    </p:tgtEl>
                  </p:cond>
                </p:stCondLst>
                <p:childTnLst>
                  <p:par>
                    <p:cTn id="288" fill="hold">
                      <p:stCondLst>
                        <p:cond evt="onClick">
                          <p:tgtEl>
                            <p:spTgt spid="460"/>
                          </p:tgtEl>
                        </p:cond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7" restart="whenNotActive" nodeType="interactiveSeq" fill="hold">
                <p:stCondLst>
                  <p:cond evt="onClick">
                    <p:tgtEl>
                      <p:spTgt spid="465"/>
                    </p:tgtEl>
                  </p:cond>
                </p:stCondLst>
                <p:childTnLst>
                  <p:par>
                    <p:cTn id="298" fill="hold">
                      <p:stCondLst>
                        <p:cond evt="onClick">
                          <p:tgtEl>
                            <p:spTgt spid="465"/>
                          </p:tgtEl>
                        </p:cond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6816600" y="1700280"/>
            <a:ext cx="1200240" cy="941400"/>
          </a:xfrm>
          <a:custGeom>
            <a:avLst/>
            <a:gdLst/>
            <a:ahLst/>
            <a:rect l="l" t="t" r="r" b="b"/>
            <a:pathLst>
              <a:path w="536" h="411">
                <a:moveTo>
                  <a:pt x="0" y="411"/>
                </a:moveTo>
                <a:lnTo>
                  <a:pt x="212" y="0"/>
                </a:lnTo>
                <a:lnTo>
                  <a:pt x="484" y="45"/>
                </a:lnTo>
                <a:lnTo>
                  <a:pt x="529" y="181"/>
                </a:lnTo>
                <a:lnTo>
                  <a:pt x="536" y="387"/>
                </a:lnTo>
                <a:lnTo>
                  <a:pt x="0" y="411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620120" y="1700280"/>
            <a:ext cx="1199880" cy="941400"/>
          </a:xfrm>
          <a:custGeom>
            <a:avLst/>
            <a:gdLst/>
            <a:ahLst/>
            <a:rect l="l" t="t" r="r" b="b"/>
            <a:pathLst>
              <a:path w="536" h="411">
                <a:moveTo>
                  <a:pt x="0" y="411"/>
                </a:moveTo>
                <a:lnTo>
                  <a:pt x="212" y="0"/>
                </a:lnTo>
                <a:lnTo>
                  <a:pt x="484" y="45"/>
                </a:lnTo>
                <a:lnTo>
                  <a:pt x="529" y="181"/>
                </a:lnTo>
                <a:lnTo>
                  <a:pt x="536" y="387"/>
                </a:lnTo>
                <a:lnTo>
                  <a:pt x="0" y="411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6084720" y="907920"/>
            <a:ext cx="2664000" cy="2519280"/>
            <a:chOff x="6084720" y="907920"/>
            <a:chExt cx="2664000" cy="2519280"/>
          </a:xfrm>
        </p:grpSpPr>
        <p:grpSp>
          <p:nvGrpSpPr>
            <p:cNvPr id="488" name=""/>
            <p:cNvGrpSpPr/>
            <p:nvPr/>
          </p:nvGrpSpPr>
          <p:grpSpPr>
            <a:xfrm>
              <a:off x="6084720" y="1052280"/>
              <a:ext cx="2592720" cy="2374920"/>
              <a:chOff x="6084720" y="1052280"/>
              <a:chExt cx="2592720" cy="2374920"/>
            </a:xfrm>
          </p:grpSpPr>
          <p:sp>
            <p:nvSpPr>
              <p:cNvPr id="489" name=""/>
              <p:cNvSpPr/>
              <p:nvPr/>
            </p:nvSpPr>
            <p:spPr>
              <a:xfrm>
                <a:off x="6084720" y="1052280"/>
                <a:ext cx="259272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084720" y="3427200"/>
                <a:ext cx="259272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084720" y="105228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8677440" y="105228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084720" y="1315800"/>
                <a:ext cx="259272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345360" y="105228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603840" y="105228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862680" y="105228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121520" y="105228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381800" y="105228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640640" y="105228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900920" y="105228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8158320" y="105228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8418600" y="105228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084720" y="1579320"/>
                <a:ext cx="259272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084720" y="1842840"/>
                <a:ext cx="259272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084720" y="2108160"/>
                <a:ext cx="259272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084720" y="2371680"/>
                <a:ext cx="259272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084720" y="2636640"/>
                <a:ext cx="259272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084720" y="2900160"/>
                <a:ext cx="259272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084720" y="3163680"/>
                <a:ext cx="259272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6084720" y="2636640"/>
              <a:ext cx="266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7381800" y="907920"/>
              <a:ext cx="0" cy="251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"/>
          <p:cNvSpPr/>
          <p:nvPr/>
        </p:nvSpPr>
        <p:spPr>
          <a:xfrm>
            <a:off x="900000" y="1557360"/>
            <a:ext cx="36036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900000" y="907920"/>
            <a:ext cx="36036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189000" y="1015920"/>
                <a:ext cx="186192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у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15" name=""/>
          <p:cNvGrpSpPr/>
          <p:nvPr/>
        </p:nvGrpSpPr>
        <p:grpSpPr>
          <a:xfrm>
            <a:off x="6084720" y="3933720"/>
            <a:ext cx="2592720" cy="2374920"/>
            <a:chOff x="6084720" y="3933720"/>
            <a:chExt cx="2592720" cy="2374920"/>
          </a:xfrm>
        </p:grpSpPr>
        <p:sp>
          <p:nvSpPr>
            <p:cNvPr id="516" name=""/>
            <p:cNvSpPr/>
            <p:nvPr/>
          </p:nvSpPr>
          <p:spPr>
            <a:xfrm>
              <a:off x="6084720" y="3933720"/>
              <a:ext cx="259272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084720" y="6308640"/>
              <a:ext cx="259272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084720" y="393372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677440" y="393372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084720" y="4197240"/>
              <a:ext cx="259272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345360" y="393372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603840" y="393372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862680" y="393372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121520" y="393372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81800" y="393372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640640" y="393372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900920" y="393372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8158320" y="393372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418600" y="393372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084720" y="4460760"/>
              <a:ext cx="259272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084720" y="4724280"/>
              <a:ext cx="259272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084720" y="4989600"/>
              <a:ext cx="259272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084720" y="5253120"/>
              <a:ext cx="259272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084720" y="5518080"/>
              <a:ext cx="259272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084720" y="5781600"/>
              <a:ext cx="259272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084720" y="6045120"/>
              <a:ext cx="259272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6070680" y="5232240"/>
            <a:ext cx="2692440" cy="12960"/>
          </a:xfrm>
          <a:custGeom>
            <a:avLst/>
            <a:gdLst/>
            <a:ahLst/>
            <a:rect l="l" t="t" r="r" b="b"/>
            <a:pathLst>
              <a:path w="1696" h="8">
                <a:moveTo>
                  <a:pt x="0" y="8"/>
                </a:moveTo>
                <a:lnTo>
                  <a:pt x="16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7381800" y="3789360"/>
            <a:ext cx="0" cy="2519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2340000" y="3860640"/>
            <a:ext cx="2592360" cy="2374920"/>
            <a:chOff x="2340000" y="3860640"/>
            <a:chExt cx="2592360" cy="2374920"/>
          </a:xfrm>
        </p:grpSpPr>
        <p:sp>
          <p:nvSpPr>
            <p:cNvPr id="540" name=""/>
            <p:cNvSpPr/>
            <p:nvPr/>
          </p:nvSpPr>
          <p:spPr>
            <a:xfrm>
              <a:off x="2340000" y="3860640"/>
              <a:ext cx="259236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340000" y="6235560"/>
              <a:ext cx="259236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340000" y="386064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932360" y="386064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340000" y="4124160"/>
              <a:ext cx="259236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600280" y="386064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858760" y="386064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117600" y="386064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376440" y="386064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636720" y="386064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895560" y="386064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155840" y="386064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413240" y="386064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673520" y="386064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340000" y="4387680"/>
              <a:ext cx="259236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340000" y="4651200"/>
              <a:ext cx="259236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340000" y="4916520"/>
              <a:ext cx="259236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340000" y="5180040"/>
              <a:ext cx="259236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340000" y="5445000"/>
              <a:ext cx="259236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340000" y="5708520"/>
              <a:ext cx="259236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340000" y="5972040"/>
              <a:ext cx="259236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"/>
          <p:cNvSpPr/>
          <p:nvPr/>
        </p:nvSpPr>
        <p:spPr>
          <a:xfrm>
            <a:off x="2340000" y="5157720"/>
            <a:ext cx="2663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3637080" y="3716280"/>
            <a:ext cx="0" cy="2519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2340000" y="981000"/>
            <a:ext cx="2663640" cy="2519280"/>
            <a:chOff x="2340000" y="981000"/>
            <a:chExt cx="2663640" cy="2519280"/>
          </a:xfrm>
        </p:grpSpPr>
        <p:grpSp>
          <p:nvGrpSpPr>
            <p:cNvPr id="564" name=""/>
            <p:cNvGrpSpPr/>
            <p:nvPr/>
          </p:nvGrpSpPr>
          <p:grpSpPr>
            <a:xfrm>
              <a:off x="2340000" y="1125360"/>
              <a:ext cx="2592360" cy="2374920"/>
              <a:chOff x="2340000" y="1125360"/>
              <a:chExt cx="2592360" cy="2374920"/>
            </a:xfrm>
          </p:grpSpPr>
          <p:sp>
            <p:nvSpPr>
              <p:cNvPr id="565" name=""/>
              <p:cNvSpPr/>
              <p:nvPr/>
            </p:nvSpPr>
            <p:spPr>
              <a:xfrm>
                <a:off x="2340000" y="1125360"/>
                <a:ext cx="25923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2340000" y="3500280"/>
                <a:ext cx="25923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340000" y="112536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932360" y="112536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340000" y="1388880"/>
                <a:ext cx="25923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2600280" y="112536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2858760" y="112536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117600" y="112536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376440" y="112536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3636720" y="112536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3895560" y="112536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4155840" y="112536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413240" y="112536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4673520" y="112536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340000" y="1652400"/>
                <a:ext cx="25923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340000" y="1915920"/>
                <a:ext cx="25923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340000" y="2181240"/>
                <a:ext cx="25923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2340000" y="2444760"/>
                <a:ext cx="25923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340000" y="2709720"/>
                <a:ext cx="25923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340000" y="2973240"/>
                <a:ext cx="25923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340000" y="3236760"/>
                <a:ext cx="25923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"/>
            <p:cNvSpPr/>
            <p:nvPr/>
          </p:nvSpPr>
          <p:spPr>
            <a:xfrm>
              <a:off x="2340000" y="2709720"/>
              <a:ext cx="266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3636720" y="981000"/>
              <a:ext cx="0" cy="251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8" name=""/>
          <p:cNvSpPr/>
          <p:nvPr/>
        </p:nvSpPr>
        <p:spPr>
          <a:xfrm>
            <a:off x="834480" y="115920"/>
            <a:ext cx="792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кажите рисунок, на котором приведена графическая иллюстр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шения системы уравн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084720" y="105264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084720" y="393372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411280" y="393372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340000" y="112536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>
            <a:hlinkClick r:id="" action="ppaction://hlinkshowjump?jump=previousslide"/>
          </p:cNvPr>
          <p:cNvSpPr/>
          <p:nvPr/>
        </p:nvSpPr>
        <p:spPr>
          <a:xfrm>
            <a:off x="179280" y="189000"/>
            <a:ext cx="505080" cy="5032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3832" y="10800"/>
                </a:moveTo>
                <a:lnTo>
                  <a:pt x="17845" y="3794"/>
                </a:lnTo>
                <a:lnTo>
                  <a:pt x="17845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924360" y="260280"/>
            <a:ext cx="2232000" cy="576360"/>
          </a:xfrm>
          <a:prstGeom prst="wedgeEllipseCallout">
            <a:avLst>
              <a:gd name="adj1" fmla="val -98648"/>
              <a:gd name="adj2" fmla="val 116944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0" y="5661000"/>
            <a:ext cx="2340000" cy="503280"/>
          </a:xfrm>
          <a:prstGeom prst="wedgeEllipseCallout">
            <a:avLst>
              <a:gd name="adj1" fmla="val 54138"/>
              <a:gd name="adj2" fmla="val -279652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140360" y="6093000"/>
            <a:ext cx="2160360" cy="576000"/>
          </a:xfrm>
          <a:prstGeom prst="wedgeEllipseCallout">
            <a:avLst>
              <a:gd name="adj1" fmla="val 50587"/>
              <a:gd name="adj2" fmla="val -336226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7201080" y="990720"/>
            <a:ext cx="1269720" cy="2489040"/>
          </a:xfrm>
          <a:custGeom>
            <a:avLst/>
            <a:gdLst/>
            <a:ahLst/>
            <a:rect l="l" t="t" r="r" b="b"/>
            <a:pathLst>
              <a:path w="800" h="1568">
                <a:moveTo>
                  <a:pt x="800" y="0"/>
                </a:moveTo>
                <a:lnTo>
                  <a:pt x="0" y="1568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667560" y="549360"/>
            <a:ext cx="1228680" cy="2448000"/>
          </a:xfrm>
          <a:custGeom>
            <a:avLst/>
            <a:gdLst/>
            <a:ahLst/>
            <a:rect l="l" t="t" r="r" b="b"/>
            <a:pathLst>
              <a:path w="774" h="1542">
                <a:moveTo>
                  <a:pt x="774" y="0"/>
                </a:moveTo>
                <a:lnTo>
                  <a:pt x="0" y="1542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7020000" y="260280"/>
            <a:ext cx="1800000" cy="576360"/>
          </a:xfrm>
          <a:prstGeom prst="wedgeEllipseCallout">
            <a:avLst>
              <a:gd name="adj1" fmla="val -79629"/>
              <a:gd name="adj2" fmla="val 121902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ерно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>
            <a:hlinkClick r:id="" action="ppaction://hlinkshowjump?jump=nextslide"/>
          </p:cNvPr>
          <p:cNvSpPr/>
          <p:nvPr/>
        </p:nvSpPr>
        <p:spPr>
          <a:xfrm>
            <a:off x="838836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627280" y="1197000"/>
            <a:ext cx="1228680" cy="2448000"/>
          </a:xfrm>
          <a:custGeom>
            <a:avLst/>
            <a:gdLst/>
            <a:ahLst/>
            <a:rect l="l" t="t" r="r" b="b"/>
            <a:pathLst>
              <a:path w="774" h="1542">
                <a:moveTo>
                  <a:pt x="774" y="0"/>
                </a:moveTo>
                <a:lnTo>
                  <a:pt x="0" y="1542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418920" y="1197000"/>
            <a:ext cx="1228680" cy="2448000"/>
          </a:xfrm>
          <a:custGeom>
            <a:avLst/>
            <a:gdLst/>
            <a:ahLst/>
            <a:rect l="l" t="t" r="r" b="b"/>
            <a:pathLst>
              <a:path w="774" h="1542">
                <a:moveTo>
                  <a:pt x="774" y="0"/>
                </a:moveTo>
                <a:lnTo>
                  <a:pt x="0" y="1542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695680" y="3573360"/>
            <a:ext cx="1228680" cy="2448000"/>
          </a:xfrm>
          <a:custGeom>
            <a:avLst/>
            <a:gdLst/>
            <a:ahLst/>
            <a:rect l="l" t="t" r="r" b="b"/>
            <a:pathLst>
              <a:path w="774" h="1542">
                <a:moveTo>
                  <a:pt x="774" y="0"/>
                </a:moveTo>
                <a:lnTo>
                  <a:pt x="0" y="1542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700360" y="4294080"/>
            <a:ext cx="1135080" cy="2360880"/>
          </a:xfrm>
          <a:custGeom>
            <a:avLst/>
            <a:gdLst/>
            <a:ahLst/>
            <a:rect l="l" t="t" r="r" b="b"/>
            <a:pathLst>
              <a:path w="715" h="1487">
                <a:moveTo>
                  <a:pt x="715" y="1487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7019280" y="3500280"/>
            <a:ext cx="1228680" cy="2448000"/>
          </a:xfrm>
          <a:custGeom>
            <a:avLst/>
            <a:gdLst/>
            <a:ahLst/>
            <a:rect l="l" t="t" r="r" b="b"/>
            <a:pathLst>
              <a:path w="774" h="1542">
                <a:moveTo>
                  <a:pt x="774" y="0"/>
                </a:moveTo>
                <a:lnTo>
                  <a:pt x="0" y="1542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443640" y="4410000"/>
            <a:ext cx="1087560" cy="2143080"/>
          </a:xfrm>
          <a:custGeom>
            <a:avLst/>
            <a:gdLst/>
            <a:ahLst/>
            <a:rect l="l" t="t" r="r" b="b"/>
            <a:pathLst>
              <a:path w="685" h="1350">
                <a:moveTo>
                  <a:pt x="0" y="0"/>
                </a:moveTo>
                <a:lnTo>
                  <a:pt x="685" y="1350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926160" y="263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7526520" y="256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7142400" y="256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094880" y="134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326040" y="14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773440" y="2421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718520" y="263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565800" y="907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94880" y="83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8534880" y="256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8534880" y="51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718520" y="51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3324240" y="364500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356600" y="364500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702160" y="4869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565800" y="40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382160" y="407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278520" y="6093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021800" y="61657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589800" y="23493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6445440" y="49417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7380360" y="1628280"/>
            <a:ext cx="0" cy="1513440"/>
            <a:chOff x="7380360" y="1628280"/>
            <a:chExt cx="0" cy="1513440"/>
          </a:xfrm>
        </p:grpSpPr>
        <p:sp>
          <p:nvSpPr>
            <p:cNvPr id="629" name=""/>
            <p:cNvSpPr/>
            <p:nvPr/>
          </p:nvSpPr>
          <p:spPr>
            <a:xfrm flipV="1">
              <a:off x="7380360" y="1628280"/>
              <a:ext cx="0" cy="1008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380360" y="2637000"/>
              <a:ext cx="0" cy="50472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07" dur="indefinite" restart="never" nodeType="tmRoot">
          <p:childTnLst>
            <p:seq>
              <p:cTn id="308" restart="whenNotActive" nodeType="interactiveSeq" fill="hold">
                <p:stCondLst>
                  <p:cond evt="onClick">
                    <p:tgtEl>
                      <p:spTgt spid="589"/>
                    </p:tgtEl>
                  </p:cond>
                </p:stCondLst>
                <p:childTnLst>
                  <p:par>
                    <p:cTn id="309" fill="hold">
                      <p:stCondLst>
                        <p:cond evt="onClick">
                          <p:tgtEl>
                            <p:spTgt spid="589"/>
                          </p:tgtEl>
                        </p:cond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50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0"/>
                            </p:stCondLst>
                            <p:childTnLst>
                              <p:par>
                                <p:cTn id="359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0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1" restart="whenNotActive" nodeType="interactiveSeq" fill="hold">
                <p:stCondLst>
                  <p:cond evt="onClick">
                    <p:tgtEl>
                      <p:spTgt spid="592"/>
                    </p:tgtEl>
                  </p:cond>
                </p:stCondLst>
                <p:childTnLst>
                  <p:par>
                    <p:cTn id="362" fill="hold">
                      <p:stCondLst>
                        <p:cond evt="onClick">
                          <p:tgtEl>
                            <p:spTgt spid="592"/>
                          </p:tgtEl>
                        </p:cond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9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1" restart="whenNotActive" nodeType="interactiveSeq" fill="hold">
                <p:stCondLst>
                  <p:cond evt="onClick">
                    <p:tgtEl>
                      <p:spTgt spid="591"/>
                    </p:tgtEl>
                  </p:cond>
                </p:stCondLst>
                <p:childTnLst>
                  <p:par>
                    <p:cTn id="372" fill="hold">
                      <p:stCondLst>
                        <p:cond evt="onClick">
                          <p:tgtEl>
                            <p:spTgt spid="591"/>
                          </p:tgtEl>
                        </p:cond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9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1" restart="whenNotActive" nodeType="interactiveSeq" fill="hold">
                <p:stCondLst>
                  <p:cond evt="onClick">
                    <p:tgtEl>
                      <p:spTgt spid="590"/>
                    </p:tgtEl>
                  </p:cond>
                </p:stCondLst>
                <p:childTnLst>
                  <p:par>
                    <p:cTn id="382" fill="hold">
                      <p:stCondLst>
                        <p:cond evt="onClick">
                          <p:tgtEl>
                            <p:spTgt spid="590"/>
                          </p:tgtEl>
                        </p:cond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1" name=""/>
          <p:cNvGrpSpPr/>
          <p:nvPr/>
        </p:nvGrpSpPr>
        <p:grpSpPr>
          <a:xfrm>
            <a:off x="6084720" y="907920"/>
            <a:ext cx="2664000" cy="2519280"/>
            <a:chOff x="6084720" y="907920"/>
            <a:chExt cx="2664000" cy="2519280"/>
          </a:xfrm>
        </p:grpSpPr>
        <p:grpSp>
          <p:nvGrpSpPr>
            <p:cNvPr id="632" name=""/>
            <p:cNvGrpSpPr/>
            <p:nvPr/>
          </p:nvGrpSpPr>
          <p:grpSpPr>
            <a:xfrm>
              <a:off x="6084720" y="1052280"/>
              <a:ext cx="2592720" cy="2374920"/>
              <a:chOff x="6084720" y="1052280"/>
              <a:chExt cx="2592720" cy="2374920"/>
            </a:xfrm>
          </p:grpSpPr>
          <p:sp>
            <p:nvSpPr>
              <p:cNvPr id="633" name=""/>
              <p:cNvSpPr/>
              <p:nvPr/>
            </p:nvSpPr>
            <p:spPr>
              <a:xfrm>
                <a:off x="6084720" y="1052280"/>
                <a:ext cx="259272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084720" y="3427200"/>
                <a:ext cx="259272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084720" y="105228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677440" y="105228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084720" y="1315800"/>
                <a:ext cx="259272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345360" y="105228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603840" y="105228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862680" y="105228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121520" y="105228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381800" y="105228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640640" y="105228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7900920" y="105228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8158320" y="105228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418600" y="105228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084720" y="1579320"/>
                <a:ext cx="259272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084720" y="1842840"/>
                <a:ext cx="259272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084720" y="2108160"/>
                <a:ext cx="259272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084720" y="2371680"/>
                <a:ext cx="259272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084720" y="2636640"/>
                <a:ext cx="259272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084720" y="2900160"/>
                <a:ext cx="259272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084720" y="3163680"/>
                <a:ext cx="259272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4" name=""/>
            <p:cNvSpPr/>
            <p:nvPr/>
          </p:nvSpPr>
          <p:spPr>
            <a:xfrm>
              <a:off x="6084720" y="2636640"/>
              <a:ext cx="266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7381800" y="907920"/>
              <a:ext cx="0" cy="251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6" name=""/>
          <p:cNvSpPr/>
          <p:nvPr/>
        </p:nvSpPr>
        <p:spPr>
          <a:xfrm>
            <a:off x="684360" y="2708280"/>
            <a:ext cx="36036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755640" y="2060640"/>
            <a:ext cx="72072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0" y="2133720"/>
                <a:ext cx="254484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у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0,5</m:t>
                            </m:r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1,5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59" name=""/>
          <p:cNvGrpSpPr/>
          <p:nvPr/>
        </p:nvGrpSpPr>
        <p:grpSpPr>
          <a:xfrm>
            <a:off x="6084720" y="3933720"/>
            <a:ext cx="2592720" cy="2374920"/>
            <a:chOff x="6084720" y="3933720"/>
            <a:chExt cx="2592720" cy="2374920"/>
          </a:xfrm>
        </p:grpSpPr>
        <p:sp>
          <p:nvSpPr>
            <p:cNvPr id="660" name=""/>
            <p:cNvSpPr/>
            <p:nvPr/>
          </p:nvSpPr>
          <p:spPr>
            <a:xfrm>
              <a:off x="6084720" y="3933720"/>
              <a:ext cx="259272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084720" y="6308640"/>
              <a:ext cx="259272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084720" y="393372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8677440" y="393372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084720" y="4197240"/>
              <a:ext cx="259272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345360" y="393372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603840" y="393372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862680" y="393372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121520" y="393372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381800" y="393372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640640" y="393372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900920" y="393372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158320" y="393372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8418600" y="393372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084720" y="4460760"/>
              <a:ext cx="259272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084720" y="4724280"/>
              <a:ext cx="259272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084720" y="4989600"/>
              <a:ext cx="259272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084720" y="5253120"/>
              <a:ext cx="259272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084720" y="5518080"/>
              <a:ext cx="259272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084720" y="5781600"/>
              <a:ext cx="259272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084720" y="6045120"/>
              <a:ext cx="259272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1" name=""/>
          <p:cNvSpPr/>
          <p:nvPr/>
        </p:nvSpPr>
        <p:spPr>
          <a:xfrm>
            <a:off x="6070680" y="5232240"/>
            <a:ext cx="2692440" cy="12960"/>
          </a:xfrm>
          <a:custGeom>
            <a:avLst/>
            <a:gdLst/>
            <a:ahLst/>
            <a:rect l="l" t="t" r="r" b="b"/>
            <a:pathLst>
              <a:path w="1696" h="8">
                <a:moveTo>
                  <a:pt x="0" y="8"/>
                </a:moveTo>
                <a:lnTo>
                  <a:pt x="16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7381800" y="3789360"/>
            <a:ext cx="0" cy="2519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2340000" y="3860640"/>
            <a:ext cx="2592360" cy="2374920"/>
            <a:chOff x="2340000" y="3860640"/>
            <a:chExt cx="2592360" cy="2374920"/>
          </a:xfrm>
        </p:grpSpPr>
        <p:sp>
          <p:nvSpPr>
            <p:cNvPr id="684" name=""/>
            <p:cNvSpPr/>
            <p:nvPr/>
          </p:nvSpPr>
          <p:spPr>
            <a:xfrm>
              <a:off x="2340000" y="3860640"/>
              <a:ext cx="259236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40000" y="6235560"/>
              <a:ext cx="259236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40000" y="386064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932360" y="386064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40000" y="4124160"/>
              <a:ext cx="259236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600280" y="386064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858760" y="386064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117600" y="386064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376440" y="386064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636720" y="386064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895560" y="386064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155840" y="386064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413240" y="386064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673520" y="386064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340000" y="4387680"/>
              <a:ext cx="259236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340000" y="4651200"/>
              <a:ext cx="259236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340000" y="4916520"/>
              <a:ext cx="259236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340000" y="5180040"/>
              <a:ext cx="259236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340000" y="5445000"/>
              <a:ext cx="259236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340000" y="5708520"/>
              <a:ext cx="259236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340000" y="5972040"/>
              <a:ext cx="259236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5" name=""/>
          <p:cNvSpPr/>
          <p:nvPr/>
        </p:nvSpPr>
        <p:spPr>
          <a:xfrm>
            <a:off x="2340000" y="5157720"/>
            <a:ext cx="2663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flipV="1">
            <a:off x="3637080" y="3716280"/>
            <a:ext cx="0" cy="2519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2340000" y="981000"/>
            <a:ext cx="2663640" cy="2519280"/>
            <a:chOff x="2340000" y="981000"/>
            <a:chExt cx="2663640" cy="2519280"/>
          </a:xfrm>
        </p:grpSpPr>
        <p:grpSp>
          <p:nvGrpSpPr>
            <p:cNvPr id="708" name=""/>
            <p:cNvGrpSpPr/>
            <p:nvPr/>
          </p:nvGrpSpPr>
          <p:grpSpPr>
            <a:xfrm>
              <a:off x="2340000" y="1125360"/>
              <a:ext cx="2592360" cy="2374920"/>
              <a:chOff x="2340000" y="1125360"/>
              <a:chExt cx="2592360" cy="2374920"/>
            </a:xfrm>
          </p:grpSpPr>
          <p:sp>
            <p:nvSpPr>
              <p:cNvPr id="709" name=""/>
              <p:cNvSpPr/>
              <p:nvPr/>
            </p:nvSpPr>
            <p:spPr>
              <a:xfrm>
                <a:off x="2340000" y="1125360"/>
                <a:ext cx="25923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2340000" y="3500280"/>
                <a:ext cx="25923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340000" y="112536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4932360" y="112536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2340000" y="1388880"/>
                <a:ext cx="25923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2600280" y="112536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2858760" y="112536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3117600" y="112536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3376440" y="112536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3636720" y="112536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3895560" y="112536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4155840" y="112536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4413240" y="112536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673520" y="112536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2340000" y="1652400"/>
                <a:ext cx="25923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2340000" y="1915920"/>
                <a:ext cx="25923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2340000" y="2181240"/>
                <a:ext cx="25923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2340000" y="2444760"/>
                <a:ext cx="25923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340000" y="2709720"/>
                <a:ext cx="25923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340000" y="2973240"/>
                <a:ext cx="25923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2340000" y="3236760"/>
                <a:ext cx="25923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0" name=""/>
            <p:cNvSpPr/>
            <p:nvPr/>
          </p:nvSpPr>
          <p:spPr>
            <a:xfrm>
              <a:off x="2340000" y="2709720"/>
              <a:ext cx="266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 flipV="1">
              <a:off x="3636720" y="981000"/>
              <a:ext cx="0" cy="251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2" name=""/>
          <p:cNvSpPr/>
          <p:nvPr/>
        </p:nvSpPr>
        <p:spPr>
          <a:xfrm>
            <a:off x="834480" y="115920"/>
            <a:ext cx="792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кажите рисунок, на котором приведена графическая иллюстр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шения системы уравн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084720" y="105264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084720" y="393372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411280" y="393372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340000" y="112536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>
            <a:hlinkClick r:id="" action="ppaction://hlinkshowjump?jump=previousslide"/>
          </p:cNvPr>
          <p:cNvSpPr/>
          <p:nvPr/>
        </p:nvSpPr>
        <p:spPr>
          <a:xfrm>
            <a:off x="179280" y="189000"/>
            <a:ext cx="505080" cy="5032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3832" y="10800"/>
                </a:moveTo>
                <a:lnTo>
                  <a:pt x="17845" y="3794"/>
                </a:lnTo>
                <a:lnTo>
                  <a:pt x="17845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924360" y="260280"/>
            <a:ext cx="2232000" cy="576360"/>
          </a:xfrm>
          <a:prstGeom prst="wedgeEllipseCallout">
            <a:avLst>
              <a:gd name="adj1" fmla="val -98648"/>
              <a:gd name="adj2" fmla="val 116944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0" y="5661000"/>
            <a:ext cx="2340000" cy="503280"/>
          </a:xfrm>
          <a:prstGeom prst="wedgeEllipseCallout">
            <a:avLst>
              <a:gd name="adj1" fmla="val 54138"/>
              <a:gd name="adj2" fmla="val -279652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140360" y="6093000"/>
            <a:ext cx="2160360" cy="576000"/>
          </a:xfrm>
          <a:prstGeom prst="wedgeEllipseCallout">
            <a:avLst>
              <a:gd name="adj1" fmla="val 50587"/>
              <a:gd name="adj2" fmla="val -336226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311880" y="1700280"/>
            <a:ext cx="2324160" cy="1181160"/>
          </a:xfrm>
          <a:custGeom>
            <a:avLst/>
            <a:gdLst/>
            <a:ahLst/>
            <a:rect l="l" t="t" r="r" b="b"/>
            <a:pathLst>
              <a:path w="1464" h="744">
                <a:moveTo>
                  <a:pt x="0" y="0"/>
                </a:moveTo>
                <a:lnTo>
                  <a:pt x="1464" y="744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6667560" y="549360"/>
            <a:ext cx="1228680" cy="2448000"/>
          </a:xfrm>
          <a:custGeom>
            <a:avLst/>
            <a:gdLst/>
            <a:ahLst/>
            <a:rect l="l" t="t" r="r" b="b"/>
            <a:pathLst>
              <a:path w="774" h="1542">
                <a:moveTo>
                  <a:pt x="774" y="0"/>
                </a:moveTo>
                <a:lnTo>
                  <a:pt x="0" y="1542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020000" y="260280"/>
            <a:ext cx="1800000" cy="576360"/>
          </a:xfrm>
          <a:prstGeom prst="wedgeEllipseCallout">
            <a:avLst>
              <a:gd name="adj1" fmla="val -79629"/>
              <a:gd name="adj2" fmla="val 121902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ерно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>
            <a:hlinkClick r:id="" action="ppaction://hlinkshowjump?jump=nextslide"/>
          </p:cNvPr>
          <p:cNvSpPr/>
          <p:nvPr/>
        </p:nvSpPr>
        <p:spPr>
          <a:xfrm>
            <a:off x="838836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627280" y="1197000"/>
            <a:ext cx="1228680" cy="2448000"/>
          </a:xfrm>
          <a:custGeom>
            <a:avLst/>
            <a:gdLst/>
            <a:ahLst/>
            <a:rect l="l" t="t" r="r" b="b"/>
            <a:pathLst>
              <a:path w="774" h="1542">
                <a:moveTo>
                  <a:pt x="774" y="0"/>
                </a:moveTo>
                <a:lnTo>
                  <a:pt x="0" y="1542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flipH="1">
            <a:off x="3418920" y="1197000"/>
            <a:ext cx="1228680" cy="2448000"/>
          </a:xfrm>
          <a:custGeom>
            <a:avLst/>
            <a:gdLst/>
            <a:ahLst/>
            <a:rect l="l" t="t" r="r" b="b"/>
            <a:pathLst>
              <a:path w="774" h="1542">
                <a:moveTo>
                  <a:pt x="774" y="0"/>
                </a:moveTo>
                <a:lnTo>
                  <a:pt x="0" y="1542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695680" y="3573360"/>
            <a:ext cx="1228680" cy="2448000"/>
          </a:xfrm>
          <a:custGeom>
            <a:avLst/>
            <a:gdLst/>
            <a:ahLst/>
            <a:rect l="l" t="t" r="r" b="b"/>
            <a:pathLst>
              <a:path w="774" h="1542">
                <a:moveTo>
                  <a:pt x="774" y="0"/>
                </a:moveTo>
                <a:lnTo>
                  <a:pt x="0" y="1542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700360" y="4294080"/>
            <a:ext cx="1135080" cy="2360880"/>
          </a:xfrm>
          <a:custGeom>
            <a:avLst/>
            <a:gdLst/>
            <a:ahLst/>
            <a:rect l="l" t="t" r="r" b="b"/>
            <a:pathLst>
              <a:path w="715" h="1487">
                <a:moveTo>
                  <a:pt x="715" y="1487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 flipH="1">
            <a:off x="7019280" y="3500280"/>
            <a:ext cx="1228680" cy="2448000"/>
          </a:xfrm>
          <a:custGeom>
            <a:avLst/>
            <a:gdLst/>
            <a:ahLst/>
            <a:rect l="l" t="t" r="r" b="b"/>
            <a:pathLst>
              <a:path w="774" h="1542">
                <a:moveTo>
                  <a:pt x="774" y="0"/>
                </a:moveTo>
                <a:lnTo>
                  <a:pt x="0" y="1542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6443640" y="4410000"/>
            <a:ext cx="1087560" cy="2143080"/>
          </a:xfrm>
          <a:custGeom>
            <a:avLst/>
            <a:gdLst/>
            <a:ahLst/>
            <a:rect l="l" t="t" r="r" b="b"/>
            <a:pathLst>
              <a:path w="685" h="1350">
                <a:moveTo>
                  <a:pt x="0" y="0"/>
                </a:moveTo>
                <a:lnTo>
                  <a:pt x="685" y="1350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3926160" y="263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7526520" y="256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7142400" y="256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094880" y="134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3326040" y="14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2773440" y="2421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718520" y="263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3565800" y="907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7094880" y="83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8534880" y="256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8534880" y="51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4718520" y="51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324240" y="364500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7356600" y="364500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702160" y="4869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565800" y="40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7382160" y="407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278520" y="6093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7021800" y="61657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6589800" y="23493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445440" y="49417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rot="6110400">
            <a:off x="8060400" y="2106360"/>
            <a:ext cx="28908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395" y="1290"/>
                  <a:pt x="7189" y="5080"/>
                  <a:pt x="7189" y="10800"/>
                </a:cubicBezTo>
                <a:cubicBezTo>
                  <a:pt x="7189" y="16520"/>
                  <a:pt x="14395" y="2031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 rot="7521600">
            <a:off x="7002720" y="2332080"/>
            <a:ext cx="177840" cy="28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395" y="1290"/>
                  <a:pt x="7189" y="5080"/>
                  <a:pt x="7189" y="10800"/>
                </a:cubicBezTo>
                <a:cubicBezTo>
                  <a:pt x="7189" y="16520"/>
                  <a:pt x="14395" y="2031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7201080" y="1968480"/>
            <a:ext cx="139680" cy="228600"/>
          </a:xfrm>
          <a:custGeom>
            <a:avLst/>
            <a:gdLst/>
            <a:ahLst/>
            <a:rect l="l" t="t" r="r" b="b"/>
            <a:pathLst>
              <a:path w="88" h="144">
                <a:moveTo>
                  <a:pt x="0" y="0"/>
                </a:moveTo>
                <a:lnTo>
                  <a:pt x="88" y="48"/>
                </a:lnTo>
                <a:lnTo>
                  <a:pt x="32" y="144"/>
                </a:lnTo>
              </a:path>
            </a:pathLst>
          </a:custGeom>
          <a:solidFill>
            <a:srgbClr val="0000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1" dur="indefinite" restart="never" nodeType="tmRoot">
          <p:childTnLst>
            <p:seq>
              <p:cTn id="392" restart="whenNotActive" nodeType="interactiveSeq" fill="hold">
                <p:stCondLst>
                  <p:cond evt="onClick">
                    <p:tgtEl>
                      <p:spTgt spid="733"/>
                    </p:tgtEl>
                  </p:cond>
                </p:stCondLst>
                <p:childTnLst>
                  <p:par>
                    <p:cTn id="393" fill="hold">
                      <p:stCondLst>
                        <p:cond evt="onClick">
                          <p:tgtEl>
                            <p:spTgt spid="733"/>
                          </p:tgtEl>
                        </p:cond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500"/>
                            </p:stCondLst>
                            <p:childTnLst>
                              <p:par>
                                <p:cTn id="4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3000"/>
                            </p:stCondLst>
                            <p:childTnLst>
                              <p:par>
                                <p:cTn id="4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3500"/>
                            </p:stCondLst>
                            <p:childTnLst>
                              <p:par>
                                <p:cTn id="44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6" restart="whenNotActive" nodeType="interactiveSeq" fill="hold">
                <p:stCondLst>
                  <p:cond evt="onClick">
                    <p:tgtEl>
                      <p:spTgt spid="736"/>
                    </p:tgtEl>
                  </p:cond>
                </p:stCondLst>
                <p:childTnLst>
                  <p:par>
                    <p:cTn id="457" fill="hold">
                      <p:stCondLst>
                        <p:cond evt="onClick">
                          <p:tgtEl>
                            <p:spTgt spid="736"/>
                          </p:tgtEl>
                        </p:cond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4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6" restart="whenNotActive" nodeType="interactiveSeq" fill="hold">
                <p:stCondLst>
                  <p:cond evt="onClick">
                    <p:tgtEl>
                      <p:spTgt spid="735"/>
                    </p:tgtEl>
                  </p:cond>
                </p:stCondLst>
                <p:childTnLst>
                  <p:par>
                    <p:cTn id="467" fill="hold">
                      <p:stCondLst>
                        <p:cond evt="onClick">
                          <p:tgtEl>
                            <p:spTgt spid="735"/>
                          </p:tgtEl>
                        </p:cond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4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6" restart="whenNotActive" nodeType="interactiveSeq" fill="hold">
                <p:stCondLst>
                  <p:cond evt="onClick">
                    <p:tgtEl>
                      <p:spTgt spid="734"/>
                    </p:tgtEl>
                  </p:cond>
                </p:stCondLst>
                <p:childTnLst>
                  <p:par>
                    <p:cTn id="477" fill="hold">
                      <p:stCondLst>
                        <p:cond evt="onClick">
                          <p:tgtEl>
                            <p:spTgt spid="734"/>
                          </p:tgtEl>
                        </p:cond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4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4T13:06:22Z</dcterms:created>
  <dc:creator>ADMINISTRATION</dc:creator>
  <dc:description/>
  <dc:language>en-US</dc:language>
  <cp:lastModifiedBy>Admin</cp:lastModifiedBy>
  <dcterms:modified xsi:type="dcterms:W3CDTF">2024-06-26T09:48:45Z</dcterms:modified>
  <cp:revision>35</cp:revision>
  <dc:subject/>
  <dc:title>Слайд 1</dc:title>
</cp:coreProperties>
</file>