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811-2789-4598-8104-2B7DA8A6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B1A-B444-4A32-AD7D-AD1627C1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68F-17A4-4330-A115-0B48B26F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816-3ED0-4AC2-B3C3-4D8A21B0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A83-C617-473B-8923-DAE1A83D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B60-D804-46F8-9F7E-77751A1F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507-F88F-4DC1-A702-F4C1A655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8E2-5446-428D-8251-36E851C7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931-4752-4F85-9647-D0754B27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90B-2BD0-4B3A-B4E3-E03067D7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767-92F8-46CF-ADC9-029EA9C7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77D-D653-4AAB-BCE9-903CDFC3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4D18-82CB-41D9-863B-1070B9903B7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01:48:10Z</dcterms:created>
  <dc:creator/>
  <dc:description/>
  <dc:language>en-US</dc:language>
  <cp:lastModifiedBy>forrest</cp:lastModifiedBy>
  <cp:lastPrinted>1899-12-30T00:00:00Z</cp:lastPrinted>
  <dcterms:modified xsi:type="dcterms:W3CDTF">2024-06-26T10:01:4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75</vt:lpwstr>
  </property>
</Properties>
</file>