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224-AEDB-4E70-BDAB-4BEA5A0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46C-1AE0-41AB-A5C2-460F93A4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D26-3B48-4E39-A2C5-804AE476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27A-134D-4239-B225-DCD8151E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C09-0ADE-4D5E-95AD-63CBCF99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14A-6C59-4E97-990C-60745AB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821-4A10-4D21-B407-ED56504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578-1BDC-455C-B918-02DD4048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C2A-4807-4A69-8FBA-939BB4C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4F1-F762-492F-81A0-7A2B43F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3F4-DFDA-4E7C-85B8-7122F05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2CA-3187-4805-9A96-70D00EB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7EB2-8CC1-40E9-A451-05884ADF6B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1:48:10Z</dcterms:created>
  <dc:creator/>
  <dc:description/>
  <dc:language>en-US</dc:language>
  <cp:lastModifiedBy>forrest</cp:lastModifiedBy>
  <cp:lastPrinted>1899-12-30T00:00:00Z</cp:lastPrinted>
  <dcterms:modified xsi:type="dcterms:W3CDTF">2024-06-26T10:01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5</vt:lpwstr>
  </property>
</Properties>
</file>