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3A1-497B-4CAB-AB84-0B1DECED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056-55F6-49A5-AB97-7699C09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848-1CF5-4080-BF2C-EA5143F7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DD8-DE59-4E8D-B007-829FA8EE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31B3-3CEA-4093-9F6F-D6CFE121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CE6-0AFD-4220-BB85-453EFC9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4E1-EEA9-422B-9021-680B7E8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9058-AFAF-4357-A495-C40E9E1C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A57-92D9-4517-9CD8-9ABBF99C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F393-B767-40BF-BC5A-2699EC53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013B-D4F8-4260-BA51-819DB46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886-2D66-4B03-9FAB-D8BE3BE9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B525-7118-4D9D-8311-0F2C5AB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362-5576-4470-ADA6-DD587C9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23C-E4EA-4051-9CB8-01C2E891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A2B6-37EF-4C2E-B748-87F146D7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357-6DD2-44C7-B6A1-E9ADBF51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422-9E0B-44C6-A55D-951EEE64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598-6203-4182-8C68-2C3C2AC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43-EBD0-4029-8B5E-279761F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7C7-93DE-4293-95D8-1BAD890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CB6-E914-40D7-BE3B-55C9F3F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C64-B26C-4C45-9B88-1AADD84D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2FE-B82D-416B-BB56-60462B3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B26B-8BBF-4641-A4D1-389FEF8590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15D-987D-4BEB-A22A-861A5D0010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слайд1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9d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887480" y="20811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211"/>
          <p:cNvPicPr/>
          <p:nvPr/>
        </p:nvPicPr>
        <p:blipFill>
          <a:blip r:embed="rId1"/>
          <a:stretch/>
        </p:blipFill>
        <p:spPr>
          <a:xfrm>
            <a:off x="611280" y="692280"/>
            <a:ext cx="3456000" cy="4968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4175280" y="1441440"/>
            <a:ext cx="49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Булгаков отозван с фронта и отправлен в сельскую больницу Смоленской губернии. Результатом данной врачебной практики становятся «Записки юного врач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5076720" y="1644480"/>
            <a:ext cx="37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Булгаков возвращается в Киев, а через год он был призван в Добровольческую армию А. И. Деникина. Когда деникинцы отступали,     больной Булгаков, в тифу, был оставлен во Владикавказе и начал   сотрудничать с большевиками, чтобы не умереть с голоду</a:t>
            </a:r>
            <a:r>
              <a:rPr b="0" i="1" lang="ru-RU" sz="2000" spc="-1" strike="noStrike">
                <a:solidFill>
                  <a:srgbClr val="0059dc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4" descr="Андреевский спуск (Киев) в конце 19 века"/>
          <p:cNvPicPr/>
          <p:nvPr/>
        </p:nvPicPr>
        <p:blipFill>
          <a:blip r:embed="rId1"/>
          <a:stretch/>
        </p:blipFill>
        <p:spPr>
          <a:xfrm>
            <a:off x="250920" y="3429000"/>
            <a:ext cx="475272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доревкв"/>
          <p:cNvPicPr/>
          <p:nvPr/>
        </p:nvPicPr>
        <p:blipFill>
          <a:blip r:embed="rId2"/>
          <a:stretch/>
        </p:blipFill>
        <p:spPr>
          <a:xfrm>
            <a:off x="250920" y="115920"/>
            <a:ext cx="47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00720" y="365004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0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Этот год стал переломным: врачебная практика была оставлена,  а основной деятельностью становится литерату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5" descr="050_pishmash"/>
          <p:cNvPicPr/>
          <p:nvPr/>
        </p:nvPicPr>
        <p:blipFill>
          <a:blip r:embed="rId1"/>
          <a:stretch/>
        </p:blipFill>
        <p:spPr>
          <a:xfrm>
            <a:off x="4786200" y="476280"/>
            <a:ext cx="3889440" cy="2819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041_shkaf"/>
          <p:cNvPicPr/>
          <p:nvPr/>
        </p:nvPicPr>
        <p:blipFill>
          <a:blip r:embed="rId2"/>
          <a:stretch/>
        </p:blipFill>
        <p:spPr>
          <a:xfrm>
            <a:off x="250920" y="476280"/>
            <a:ext cx="40464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00720" y="48758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1 – 1922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1921 году писатель попадает в Москву. В период  с 1921-1922 г. , Булгаков не имел постоянн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лужбы, голод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Picture 7" descr="Строит_гостин_Метрополь"/>
          <p:cNvPicPr/>
          <p:nvPr/>
        </p:nvPicPr>
        <p:blipFill>
          <a:blip r:embed="rId1"/>
          <a:stretch/>
        </p:blipFill>
        <p:spPr>
          <a:xfrm>
            <a:off x="179280" y="3492360"/>
            <a:ext cx="4392720" cy="303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Москва2"/>
          <p:cNvPicPr/>
          <p:nvPr/>
        </p:nvPicPr>
        <p:blipFill>
          <a:blip r:embed="rId2"/>
          <a:stretch/>
        </p:blipFill>
        <p:spPr>
          <a:xfrm>
            <a:off x="250920" y="260280"/>
            <a:ext cx="4414680" cy="2881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продавец лимонада на Моисеевской площади"/>
          <p:cNvPicPr/>
          <p:nvPr/>
        </p:nvPicPr>
        <p:blipFill>
          <a:blip r:embed="rId3"/>
          <a:stretch/>
        </p:blipFill>
        <p:spPr>
          <a:xfrm>
            <a:off x="5292720" y="287280"/>
            <a:ext cx="3086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021_kol3"/>
          <p:cNvPicPr/>
          <p:nvPr/>
        </p:nvPicPr>
        <p:blipFill>
          <a:blip r:embed="rId1"/>
          <a:stretch/>
        </p:blipFill>
        <p:spPr>
          <a:xfrm>
            <a:off x="1403280" y="260280"/>
            <a:ext cx="6335640" cy="4608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95280" y="517572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2-1924 г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работает над романом «Белая гвардия», главы из которого при жизни писателя лишь единожды были опубликованы в журнале «Россия» в Герман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bulgakov"/>
          <p:cNvPicPr/>
          <p:nvPr/>
        </p:nvPicPr>
        <p:blipFill>
          <a:blip r:embed="rId1"/>
          <a:stretch/>
        </p:blipFill>
        <p:spPr>
          <a:xfrm>
            <a:off x="900000" y="549360"/>
            <a:ext cx="3152880" cy="331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395280" y="532800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4 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Знакомство с Любовью Евгеньевной Белозерской и женитьба на ней после расторжения первого бр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10" descr="Любовь Евгеньевна Белозерская_вторая жена"/>
          <p:cNvPicPr/>
          <p:nvPr/>
        </p:nvPicPr>
        <p:blipFill>
          <a:blip r:embed="rId2"/>
          <a:stretch/>
        </p:blipFill>
        <p:spPr>
          <a:xfrm>
            <a:off x="5570640" y="549360"/>
            <a:ext cx="3033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2843280" y="381636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3-1925 гг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ознаменова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творчестве Булгако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оявлением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атирических повест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Дьяволиада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Роковые яйца»,  «Собачье сердце»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12" descr="сердце"/>
          <p:cNvPicPr/>
          <p:nvPr/>
        </p:nvPicPr>
        <p:blipFill>
          <a:blip r:embed="rId1"/>
          <a:stretch/>
        </p:blipFill>
        <p:spPr>
          <a:xfrm>
            <a:off x="108000" y="115920"/>
            <a:ext cx="3887640" cy="3317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proffessora"/>
          <p:cNvPicPr/>
          <p:nvPr/>
        </p:nvPicPr>
        <p:blipFill>
          <a:blip r:embed="rId2"/>
          <a:stretch/>
        </p:blipFill>
        <p:spPr>
          <a:xfrm>
            <a:off x="6084720" y="4005360"/>
            <a:ext cx="2951280" cy="245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8" descr="сердце2"/>
          <p:cNvPicPr/>
          <p:nvPr/>
        </p:nvPicPr>
        <p:blipFill>
          <a:blip r:embed="rId3"/>
          <a:stretch/>
        </p:blipFill>
        <p:spPr>
          <a:xfrm>
            <a:off x="5003640" y="115920"/>
            <a:ext cx="4032360" cy="3349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9" descr="сердце3"/>
          <p:cNvPicPr/>
          <p:nvPr/>
        </p:nvPicPr>
        <p:blipFill>
          <a:blip r:embed="rId4"/>
          <a:stretch/>
        </p:blipFill>
        <p:spPr>
          <a:xfrm>
            <a:off x="92160" y="3933720"/>
            <a:ext cx="2967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95280" y="502668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bd13f"/>
                </a:solidFill>
                <a:uFillTx/>
                <a:latin typeface="Arial"/>
              </a:rPr>
              <a:t>1926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bd13f"/>
                </a:solidFill>
                <a:latin typeface="Arial"/>
              </a:rPr>
              <a:t>На сцене МХАТа ставится пьеса «Дни Турбиных», которая претерпела множество нападок и притеснений. Ни одна пьеса из созданных в это время не была поставлена: ни «Зойкина квартира», ни «Бег», ни «Кабала святош»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мхат1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-8604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30 г. </a:t>
            </a:r>
            <a:br>
              <a:rPr sz="2000"/>
            </a:b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28 марта 1930 гг. Булгаков пишет обращение к правительству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« Я прошу принять во внимание, что невозможность писать равносильна для меня погребению заживо. 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Я обращаюсь к гуманности советской власти и прошу меня, писателя, который не может быть полезен у себя, в отечестве, великодушно отпустить на свободу.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  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- нищета, улица и гибель ».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91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После звонка Сталина писатель был принят во МХАТ, где проработал 6 лет режиссером-ассисте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484360" y="450756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8 -1940 г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родолжается работа над романом «Мастер и Маргарит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5" descr="045_book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KOT-02"/>
          <p:cNvPicPr/>
          <p:nvPr/>
        </p:nvPicPr>
        <p:blipFill>
          <a:blip r:embed="rId2"/>
          <a:stretch/>
        </p:blipFill>
        <p:spPr>
          <a:xfrm>
            <a:off x="4932360" y="260280"/>
            <a:ext cx="3960720" cy="2722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055_mim"/>
          <p:cNvPicPr/>
          <p:nvPr/>
        </p:nvPicPr>
        <p:blipFill>
          <a:blip r:embed="rId3"/>
          <a:stretch/>
        </p:blipFill>
        <p:spPr>
          <a:xfrm>
            <a:off x="6443640" y="378936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3" descr="031_kartina"/>
          <p:cNvPicPr/>
          <p:nvPr/>
        </p:nvPicPr>
        <p:blipFill>
          <a:blip r:embed="rId4"/>
          <a:stretch/>
        </p:blipFill>
        <p:spPr>
          <a:xfrm>
            <a:off x="250920" y="378936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Булгаков не менял своих взглядов по моде или по выгоде. Но он напряженно думал обо всем, что видел перед собой. И мысль его…  была наклонна к анализу живого, не заморочена догмами или предвзятостью и подкреплена ответственностью свидетеля и летописца великих и трагических событий в жизни родины. На всех перекатах судьбы Булгаков оставался верен законам достоинства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В.Я. Лакш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66840" y="504720"/>
            <a:ext cx="4133880" cy="5977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4643280" y="1052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ff33"/>
                </a:solidFill>
                <a:uFillTx/>
                <a:latin typeface="Arial"/>
              </a:rPr>
              <a:t>10 марта 1940 г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Arial"/>
              </a:rPr>
              <a:t>Булгаков скончался от нефросклероза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4" descr="bul1"/>
          <p:cNvPicPr/>
          <p:nvPr/>
        </p:nvPicPr>
        <p:blipFill>
          <a:blip r:embed="rId1"/>
          <a:stretch/>
        </p:blipFill>
        <p:spPr>
          <a:xfrm>
            <a:off x="534960" y="620640"/>
            <a:ext cx="3821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495680" y="333360"/>
            <a:ext cx="46483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3/15  мая* в семье преподавателя Киевской Духовной Академии Афанасия Ивановича Булгакова и его жены Варвары Михайловны (в девичестве - Покровской) в Киеве родился первый ребенок - сын, Михаил Афанасьевич Булгаков. Место рождения - дом священника о. Матвея Бутовского (Воздвиженская ул., 2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father"/>
          <p:cNvPicPr/>
          <p:nvPr/>
        </p:nvPicPr>
        <p:blipFill>
          <a:blip r:embed="rId1"/>
          <a:stretch/>
        </p:blipFill>
        <p:spPr>
          <a:xfrm>
            <a:off x="324000" y="620640"/>
            <a:ext cx="18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слайд2"/>
          <p:cNvPicPr/>
          <p:nvPr/>
        </p:nvPicPr>
        <p:blipFill>
          <a:blip r:embed="rId2"/>
          <a:stretch/>
        </p:blipFill>
        <p:spPr>
          <a:xfrm>
            <a:off x="179280" y="3427560"/>
            <a:ext cx="4392720" cy="305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mother"/>
          <p:cNvPicPr/>
          <p:nvPr/>
        </p:nvPicPr>
        <p:blipFill>
          <a:blip r:embed="rId3"/>
          <a:stretch/>
        </p:blipFill>
        <p:spPr>
          <a:xfrm>
            <a:off x="2556000" y="692280"/>
            <a:ext cx="1944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716000" y="110016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18 мая - крещен по православному обряду в Крестовоздвиженской церкви (на Подоле) священником о. М. Бутовским. Имя дано в честь хранителя города Киева архангела Михаила. Крестными родителями стали ординарный профессор КДА Николай Иванович Петров и бабка Булгакова по отцовской линии Олимпиада Федоровна Булга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церковь2"/>
          <p:cNvPicPr/>
          <p:nvPr/>
        </p:nvPicPr>
        <p:blipFill>
          <a:blip r:embed="rId1"/>
          <a:stretch/>
        </p:blipFill>
        <p:spPr>
          <a:xfrm>
            <a:off x="468360" y="1054080"/>
            <a:ext cx="44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788000" y="907920"/>
            <a:ext cx="417672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01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2 августа - после окончания приготовительного класса начинает учебу в первом классе Первой киевской мужской Александровской гимназии (Бибиковский бульвар,14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7" descr="гимназия"/>
          <p:cNvPicPr/>
          <p:nvPr/>
        </p:nvPicPr>
        <p:blipFill>
          <a:blip r:embed="rId1"/>
          <a:stretch/>
        </p:blipFill>
        <p:spPr>
          <a:xfrm>
            <a:off x="468360" y="334800"/>
            <a:ext cx="4248000" cy="3052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гимназия2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021280" y="1627200"/>
            <a:ext cx="3735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Май - Булгаков оканчивает Первую Александровскую гимназ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8 июня - получает аттестат зре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5" descr="gimnazist"/>
          <p:cNvPicPr/>
          <p:nvPr/>
        </p:nvPicPr>
        <p:blipFill>
          <a:blip r:embed="rId1"/>
          <a:stretch/>
        </p:blipFill>
        <p:spPr>
          <a:xfrm>
            <a:off x="455760" y="477720"/>
            <a:ext cx="407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9280" y="981000"/>
            <a:ext cx="4284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21 августа - Булгаков зачисляется студентом медицинского факультета Киевского университ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универ"/>
          <p:cNvPicPr/>
          <p:nvPr/>
        </p:nvPicPr>
        <p:blipFill>
          <a:blip r:embed="rId1"/>
          <a:stretch/>
        </p:blipFill>
        <p:spPr>
          <a:xfrm>
            <a:off x="250920" y="1052640"/>
            <a:ext cx="496872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140000" y="292392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13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6 апреля - венчание Булгакова с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. Н. Лаппа в Киево-Подоль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церкви Николы Доброго. Венчал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друг семьи Булгаковых от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лександр Глаг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прель - Булгаков и Т.Н. Лап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снимают квартиру на Рейта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сень - переезжают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ндреевский  спуск, 3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подол"/>
          <p:cNvPicPr/>
          <p:nvPr/>
        </p:nvPicPr>
        <p:blipFill>
          <a:blip r:embed="rId1"/>
          <a:stretch/>
        </p:blipFill>
        <p:spPr>
          <a:xfrm>
            <a:off x="4716360" y="225360"/>
            <a:ext cx="4248360" cy="2482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0001SM"/>
          <p:cNvPicPr/>
          <p:nvPr/>
        </p:nvPicPr>
        <p:blipFill>
          <a:blip r:embed="rId2"/>
          <a:stretch/>
        </p:blipFill>
        <p:spPr>
          <a:xfrm>
            <a:off x="165240" y="260280"/>
            <a:ext cx="3975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79000" y="4581360"/>
            <a:ext cx="8425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16 г.</a:t>
            </a:r>
            <a:br>
              <a:rPr sz="2400"/>
            </a:b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кончание университета, служба госпитальным врачом хирургом. Призыв на военную службу.</a:t>
            </a:r>
            <a:r>
              <a:rPr b="1" i="1" lang="ru-RU" sz="2000" spc="-1" strike="noStrike">
                <a:solidFill>
                  <a:srgbClr val="0059d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5" descr="anglichanin"/>
          <p:cNvPicPr/>
          <p:nvPr/>
        </p:nvPicPr>
        <p:blipFill>
          <a:blip r:embed="rId1"/>
          <a:stretch/>
        </p:blipFill>
        <p:spPr>
          <a:xfrm>
            <a:off x="5634000" y="476280"/>
            <a:ext cx="3114720" cy="424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051_diplom"/>
          <p:cNvPicPr/>
          <p:nvPr/>
        </p:nvPicPr>
        <p:blipFill>
          <a:blip r:embed="rId2"/>
          <a:stretch/>
        </p:blipFill>
        <p:spPr>
          <a:xfrm>
            <a:off x="590400" y="476280"/>
            <a:ext cx="3189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8:27:24Z</dcterms:created>
  <dc:creator>WWW</dc:creator>
  <dc:description/>
  <dc:language>en-US</dc:language>
  <cp:lastModifiedBy>роман</cp:lastModifiedBy>
  <dcterms:modified xsi:type="dcterms:W3CDTF">2011-12-15T17:47:04Z</dcterms:modified>
  <cp:revision>97</cp:revision>
  <dc:subject/>
  <dc:title>Слайд 1</dc:title>
</cp:coreProperties>
</file>