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3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38.gif" ContentType="image/gif"/>
  <Override PartName="/ppt/media/image23.png" ContentType="image/png"/>
  <Override PartName="/ppt/media/image30.gif" ContentType="image/gif"/>
  <Override PartName="/ppt/media/image8.jpeg" ContentType="image/jpe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4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4C1-A9EF-429B-83CB-B438C928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789-D44E-4233-AAEB-78F8EF1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81B10-0975-4428-98FE-AAD9EBF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C68D5-24F9-4B5B-B7DD-458CD1A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E61EE-0C4A-41A9-B75C-BC390531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9BC06-CE1E-4782-B51C-10E8D74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86F2C-2FD6-42DE-99D8-2FF7CE5D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8DABE-367C-498E-A428-A2D231C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6D7A6-BFB8-4BD2-A4E6-3A0195A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E68D-2358-4D7E-8832-E78A0A47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A5126-A762-4725-B5C2-54A04DF7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8F042-D0ED-404B-BD3F-56FB87EC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237-E221-4C83-A40F-DF3F47B9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B5E94-DFD3-4DCC-A16A-B12C55DF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D318D-83B0-46DA-8789-B382FBB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CD72-60E4-4675-83D2-663A01A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FF132-F878-4917-B3D6-1EB60FB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25C7-C547-499E-9555-205E588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80D5-8FE5-492A-BF83-8075402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6D3A-5860-42F3-B3A7-85C8A47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97E35-033B-45F0-9DB0-E2A9BA2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41580-4B3D-4CA2-8F35-CEA9857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538A5-1508-4876-893C-5B8740C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9A6-F621-4F18-AB65-E194B984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7BC6-9AE6-4F2C-9639-B7FFB908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6DED-B387-4EA8-B454-B41587CA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8EE0-F472-417A-A89F-BC48F85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B45DE-7228-40A4-A982-181E40A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3F375-3282-4A1A-A314-7747ACE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9B2E9-3A21-4BDA-A96B-100595C2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38C7B-1A23-4F57-9555-1FAD5371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5521F-A9D5-4EFB-97D0-B0F3096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3FA99-15C6-4922-BCF5-03A2CA5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DAE16-1603-4B9E-8BC5-C6CAD3E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4BB-961B-45AA-B8F6-7B07694F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4292A-AD82-42F5-B394-C7E50C28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DF02-8AEA-47D0-992D-2C5EFC87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9CB06-9304-48DB-A0E3-27D61712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4999-D5CF-45AC-8DA1-F3B22AA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8FC-5A9C-4940-B7E8-D569F3B0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6A28-F1A9-46FC-8E4E-54B97F4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EE5-D6FE-401E-803B-CE4F9F4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9F6F-8EB4-4BCC-9EE1-6F485E66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886-318D-4AE0-86C0-4F59821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705-347D-4AC6-9CF4-1EC410A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6581-3DC9-41A7-B216-1227D74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9C42-F190-4913-9211-B6F86E85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3253-641E-40CE-85D4-C28C357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9938-2BCD-4843-A503-163857A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0AD-8BBF-468D-A26A-5657620F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A4AF-E1D3-4D7C-BE0B-C7B1F43D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9597-5B57-4F5F-A22B-9B3A026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3E1A-C5EF-4BF1-BEB1-DB07147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B169-7DA4-4D62-8F23-FDE4B8F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A871-F30B-47FF-8A80-23202BF0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5FB-CE3A-44E1-BBC5-D6E187D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33A6-4B2F-4233-B58D-4FA04FA2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E199-8676-4247-8572-96A5FD5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DC3B-548D-4599-8C48-72950F1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B549-EDCE-42E7-9739-8C815FB5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9B2E-469E-4EBA-A2AE-06CAF84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21D2-BFED-4D61-84A1-8AD3D6F4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A9E7-215A-45CF-9E9F-394AA1F5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60A5-F2FA-4D23-AEBB-4FA97370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6412-1107-4124-A2B5-75C7A6C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E8A3-BF26-4338-B222-C62CFC6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65C-BA7B-4B5B-B664-29CB27C5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E593-E3BE-43A8-A7B8-1E361D1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212E-8EB3-4802-A191-C7FEB00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9F15-EFFE-42AB-8434-EF5DA0E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0AC5-B7F5-4EC5-AF48-59780A7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0C6CD-F44C-4214-BB2B-763596A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B104-3DBA-4596-AF2F-F3BFAE5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0BEB-9272-4DBA-AB4F-F3CB34C1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09C9-52D1-49E9-BC68-218235AF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C909-2C51-4E7C-8E32-DDE6760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9FF3-9DC5-42F7-8011-77334B76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3E9-1F42-443C-B522-CB6D3946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C017-78B8-46AD-B8B9-2C9DB832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ADFF-5968-436E-9A54-D7951C75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54F03-A1BA-49F5-8EC5-3689953F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DB14-C19A-4A89-A48E-748988B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4E1E-8C06-4744-BD38-9E482D0E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DBBB-F9E1-487D-A29B-D8DBC84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96A6C-7DA6-4390-9ABA-2DE84EE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3DB2-12D7-4475-83BE-F6C18DF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CC53-8BCE-4017-94CA-4A20ED2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408C-20A1-45D2-82C2-3EB1AFC9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B05-55A8-4FD9-BC76-D249EA8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5FC1-0A84-4897-883E-D86A18F4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1BDE2-F052-4042-AF63-8126178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A0AD5-3070-4C64-97E5-4CE3194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FD501-9BD6-4416-8BC5-AC017917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69F83-CD1E-40A1-B80A-94BB79F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85E5C-5416-4FA6-8A2E-5BF451D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CE564-B5A6-42B0-A43D-40A1DB2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86376-3F11-4042-9999-4B14DF5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F6FC3-AFE9-4B7B-BFE2-FFCB3E1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9653C-789C-47E6-BE4C-349D2A2C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FBA-95AD-4098-AC09-00FB1B9F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F74A7-BD9A-4AFA-A526-28F22BC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C6330-21C3-4A41-A275-16859427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F78F7-86B5-4252-8926-6324BBC9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E4623-B1F6-4709-81B1-E5CC053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04EAB-A851-470C-A8A4-1A7D0DC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4920C-F43B-446E-90DA-186B336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46B47-7499-41D7-A490-7776DE40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7135F-C18C-4950-B614-7316E45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2C004-C76C-4332-B457-9BC4B6F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90B3A-FAF8-4EE9-9B2C-9B5AB98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7E8-B3D6-4E2F-B514-971796FE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7F3F4-FACB-41CA-A08F-1E58F8A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0AD77-493B-409F-812A-0B57DDE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CD5E1-5315-4874-BEF6-41CA1DF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0D3A8-4D15-4982-A99D-F5438FD2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466C7-0AB6-40A0-A7D7-48DBA062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DCAC4-505F-4F5C-B81A-C31C6302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D9E0C-2EFC-4A6F-803F-959F7362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80C19-E101-4165-9AD5-0E1C2781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BEB03-B082-4BB6-96DE-20251AD3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8B9CF-2DDB-446A-BF01-4B1E7AA3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921-A33B-42FD-BC44-4116B63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A43B7-45F3-4BDE-ADD4-DFF551A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69AB9-F74B-4307-A77E-F2FB72F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7CA904-F5AF-40D2-95AC-8E68674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E601D-06C5-431E-BAF9-4FA56B9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BFC1C-9EA7-49A3-8167-03586F5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0121C-5FC5-4555-8E0F-EBFCC338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A6797-1D21-4313-A4FB-9B87545A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07171-78E0-4763-8556-8A9B698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5ACAE-3F25-426C-A230-0214F07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ADD8A-2685-4AF0-8D1E-56C7EFC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42A-E16F-496A-835D-2DD425176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4B7-A14D-4F6E-95D2-E404C1F00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3BC3-1330-4036-883E-58C17D1E2A2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D2DA-78DD-4B11-A193-34AFFE9A90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D1D5-85EA-4903-B0E1-1D1B0944E9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631-4654-477C-A9D1-89AF3AACC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D058-FA29-4C50-A40C-D6D9DF017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DA9-025C-4EF1-9516-D4604EB7B14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0F0-05D7-4F25-BC35-3AF44B021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4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4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4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242-1ECB-463A-8637-9C8A7FBC59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A21-2D59-4B5C-903A-1D895F91D7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5"/>
          <p:cNvSpPr txBox="1"/>
          <p:nvPr/>
        </p:nvSpPr>
        <p:spPr>
          <a:xfrm>
            <a:off x="1143000" y="304920"/>
            <a:ext cx="686736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ест-игра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WordArt 6"/>
          <p:cNvSpPr txBox="1"/>
          <p:nvPr/>
        </p:nvSpPr>
        <p:spPr>
          <a:xfrm>
            <a:off x="2505240" y="2286000"/>
            <a:ext cx="43527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умай,</a:t>
            </a:r>
            <a:endParaRPr b="0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WordArt 7"/>
          <p:cNvSpPr txBox="1"/>
          <p:nvPr/>
        </p:nvSpPr>
        <p:spPr>
          <a:xfrm>
            <a:off x="533520" y="4114800"/>
            <a:ext cx="79246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ай, угадывай»</a:t>
            </a:r>
            <a:endParaRPr b="0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9" name="Содержимое 4" descr="fb992d302a80.gif"/>
          <p:cNvPicPr/>
          <p:nvPr/>
        </p:nvPicPr>
        <p:blipFill>
          <a:blip r:embed="rId7"/>
          <a:stretch/>
        </p:blipFill>
        <p:spPr>
          <a:xfrm>
            <a:off x="6858000" y="31240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4800600"/>
            <a:ext cx="7848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Избушка на курьих ножках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Рисунок 4" descr=""/>
          <p:cNvPicPr/>
          <p:nvPr/>
        </p:nvPicPr>
        <p:blipFill>
          <a:blip r:embed="rId1"/>
          <a:srcRect l="2467" t="0" r="2467" b="0"/>
          <a:stretch/>
        </p:blipFill>
        <p:spPr>
          <a:xfrm>
            <a:off x="228600" y="11430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5" descr=""/>
          <p:cNvPicPr/>
          <p:nvPr/>
        </p:nvPicPr>
        <p:blipFill>
          <a:blip r:embed="rId2"/>
          <a:srcRect l="0" t="0" r="0" b="17721"/>
          <a:stretch/>
        </p:blipFill>
        <p:spPr>
          <a:xfrm>
            <a:off x="3276720" y="1219320"/>
            <a:ext cx="2590560" cy="213048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6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Объект 3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590560" cy="258444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4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50812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5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6384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76320" y="277920"/>
            <a:ext cx="9220320" cy="193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и девицы под окном пряли поздно вечерко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Объект 3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590560" cy="258444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4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5081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5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6384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Рисунок 4" descr=""/>
          <p:cNvPicPr/>
          <p:nvPr/>
        </p:nvPicPr>
        <p:blipFill>
          <a:blip r:embed="rId1"/>
          <a:srcRect l="0" t="70" r="0" b="70"/>
          <a:stretch/>
        </p:blipFill>
        <p:spPr>
          <a:xfrm>
            <a:off x="609480" y="1371600"/>
            <a:ext cx="3697560" cy="22892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5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036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782600"/>
            <a:ext cx="83520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Белая береза под моим окн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Рисунок 4" descr=""/>
          <p:cNvPicPr/>
          <p:nvPr/>
        </p:nvPicPr>
        <p:blipFill>
          <a:blip r:embed="rId1"/>
          <a:srcRect l="0" t="70" r="0" b="70"/>
          <a:stretch/>
        </p:blipFill>
        <p:spPr>
          <a:xfrm>
            <a:off x="609480" y="1371600"/>
            <a:ext cx="3697560" cy="228924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5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036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610" name="Рисунок 5" descr="https://gas-kvas.com/uploads/posts/2023-01/1673510878_gas-kvas-com-p-detskie-risunki-pet-3.png"/>
          <p:cNvPicPr/>
          <p:nvPr/>
        </p:nvPicPr>
        <p:blipFill>
          <a:blip r:embed="rId1"/>
          <a:stretch/>
        </p:blipFill>
        <p:spPr>
          <a:xfrm>
            <a:off x="228600" y="3048120"/>
            <a:ext cx="2590920" cy="242244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6" descr="https://w.forfun.com/fetch/47/476c7e35e0d043314d5de00af87b7549.jpeg"/>
          <p:cNvPicPr/>
          <p:nvPr/>
        </p:nvPicPr>
        <p:blipFill>
          <a:blip r:embed="rId2"/>
          <a:stretch/>
        </p:blipFill>
        <p:spPr>
          <a:xfrm>
            <a:off x="3294000" y="3065400"/>
            <a:ext cx="2590920" cy="23828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7" descr="https://avatars.mds.yandex.net/i?id=cd903e160eca7f38378fcb4d0ed4b358_l-8194143-images-thumbs&amp;n=13"/>
          <p:cNvPicPr/>
          <p:nvPr/>
        </p:nvPicPr>
        <p:blipFill>
          <a:blip r:embed="rId3"/>
          <a:stretch/>
        </p:blipFill>
        <p:spPr>
          <a:xfrm>
            <a:off x="6359400" y="30654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WordArt 4"/>
          <p:cNvSpPr txBox="1"/>
          <p:nvPr/>
        </p:nvSpPr>
        <p:spPr>
          <a:xfrm>
            <a:off x="228600" y="457200"/>
            <a:ext cx="8915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Поет зима аукает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614" name="Рисунок 5" descr="https://gas-kvas.com/uploads/posts/2023-01/1673510878_gas-kvas-com-p-detskie-risunki-pet-3.png"/>
          <p:cNvPicPr/>
          <p:nvPr/>
        </p:nvPicPr>
        <p:blipFill>
          <a:blip r:embed="rId1"/>
          <a:stretch/>
        </p:blipFill>
        <p:spPr>
          <a:xfrm>
            <a:off x="228600" y="3048120"/>
            <a:ext cx="2590920" cy="24224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6" descr="https://w.forfun.com/fetch/47/476c7e35e0d043314d5de00af87b7549.jpeg"/>
          <p:cNvPicPr/>
          <p:nvPr/>
        </p:nvPicPr>
        <p:blipFill>
          <a:blip r:embed="rId2"/>
          <a:stretch/>
        </p:blipFill>
        <p:spPr>
          <a:xfrm>
            <a:off x="3294000" y="3065400"/>
            <a:ext cx="2590920" cy="23828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7" descr="https://avatars.mds.yandex.net/i?id=cd903e160eca7f38378fcb4d0ed4b358_l-8194143-images-thumbs&amp;n=13"/>
          <p:cNvPicPr/>
          <p:nvPr/>
        </p:nvPicPr>
        <p:blipFill>
          <a:blip r:embed="rId3"/>
          <a:stretch/>
        </p:blipFill>
        <p:spPr>
          <a:xfrm>
            <a:off x="6359400" y="30654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 rot="21391200">
            <a:off x="458280" y="1000080"/>
            <a:ext cx="7858440" cy="47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e03e1"/>
                </a:solidFill>
                <a:latin typeface="Impact"/>
              </a:rPr>
              <a:t>Станция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e03e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e03e1"/>
                </a:solidFill>
                <a:latin typeface="Impact"/>
              </a:rPr>
              <a:t>«Словария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e03e1"/>
              </a:solidFill>
              <a:latin typeface="Impact"/>
              <a:ea typeface="Impact"/>
            </a:endParaRPr>
          </a:p>
        </p:txBody>
      </p:sp>
      <p:pic>
        <p:nvPicPr>
          <p:cNvPr id="618" name="Picture 7" descr="https://zabavnikus.ru/wp-content/uploads/4/0/a/40ae37b110c03d1d0d2fbdaf9f962218.jpeg"/>
          <p:cNvPicPr/>
          <p:nvPr/>
        </p:nvPicPr>
        <p:blipFill>
          <a:blip r:embed="rId1"/>
          <a:stretch/>
        </p:blipFill>
        <p:spPr>
          <a:xfrm>
            <a:off x="6095880" y="3962520"/>
            <a:ext cx="2754360" cy="248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7"/>
          <p:cNvSpPr txBox="1"/>
          <p:nvPr/>
        </p:nvSpPr>
        <p:spPr>
          <a:xfrm>
            <a:off x="2476440" y="152280"/>
            <a:ext cx="64771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анция 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20" name="WordArt 8"/>
          <p:cNvSpPr txBox="1"/>
          <p:nvPr/>
        </p:nvSpPr>
        <p:spPr>
          <a:xfrm>
            <a:off x="304920" y="3059280"/>
            <a:ext cx="863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Математическа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621" name="Picture 7" descr="https://gas-kvas.com/uploads/posts/2023-02/1676426210_gas-kvas-com-p-detskie-risunki-matematika-17.jpg"/>
          <p:cNvPicPr/>
          <p:nvPr/>
        </p:nvPicPr>
        <p:blipFill>
          <a:blip r:embed="rId1"/>
          <a:stretch/>
        </p:blipFill>
        <p:spPr>
          <a:xfrm>
            <a:off x="4095720" y="2268360"/>
            <a:ext cx="1924200" cy="168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4"/>
          <p:cNvSpPr txBox="1"/>
          <p:nvPr/>
        </p:nvSpPr>
        <p:spPr>
          <a:xfrm>
            <a:off x="380880" y="1066680"/>
            <a:ext cx="85345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3" name="Picture 6" descr="юлр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2133720" y="3124080"/>
            <a:ext cx="4419360" cy="3329280"/>
          </a:xfrm>
          <a:prstGeom prst="rect">
            <a:avLst/>
          </a:prstGeom>
          <a:ln w="0">
            <a:noFill/>
          </a:ln>
        </p:spPr>
      </p:pic>
      <p:pic>
        <p:nvPicPr>
          <p:cNvPr id="624" name="Содержимое 4" descr="6234e7446bfb.gif"/>
          <p:cNvPicPr/>
          <p:nvPr/>
        </p:nvPicPr>
        <p:blipFill>
          <a:blip r:embed="rId2"/>
          <a:stretch/>
        </p:blipFill>
        <p:spPr>
          <a:xfrm>
            <a:off x="6705720" y="51814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ТАНЦИЯ 1.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«Старая пословица век не сломится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2" descr="https://memorado.ru/wp-content/uploads/6/7/8/6788e635c6df545d53430c3641616bdb.jpeg"/>
          <p:cNvPicPr/>
          <p:nvPr/>
        </p:nvPicPr>
        <p:blipFill>
          <a:blip r:embed="rId1"/>
          <a:stretch/>
        </p:blipFill>
        <p:spPr>
          <a:xfrm>
            <a:off x="2044800" y="3048120"/>
            <a:ext cx="496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080" y="4807080"/>
            <a:ext cx="6894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15 руб                              60 руб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Рисунок 5" descr=""/>
          <p:cNvPicPr/>
          <p:nvPr/>
        </p:nvPicPr>
        <p:blipFill>
          <a:blip r:embed="rId1"/>
          <a:stretch/>
        </p:blipFill>
        <p:spPr>
          <a:xfrm>
            <a:off x="2590920" y="224964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13" descr=""/>
          <p:cNvPicPr/>
          <p:nvPr/>
        </p:nvPicPr>
        <p:blipFill>
          <a:blip r:embed="rId2"/>
          <a:srcRect l="0" t="12503" r="0" b="12503"/>
          <a:stretch/>
        </p:blipFill>
        <p:spPr>
          <a:xfrm>
            <a:off x="4495680" y="457200"/>
            <a:ext cx="4613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ТАНЦИЯ 5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«Формула всего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4" descr="https://img.razrisyika.ru/kart/74/900/293973-dlya-shkolnikov-1-klassa-19.jpg"/>
          <p:cNvPicPr/>
          <p:nvPr/>
        </p:nvPicPr>
        <p:blipFill>
          <a:blip r:embed="rId1"/>
          <a:stretch/>
        </p:blipFill>
        <p:spPr>
          <a:xfrm>
            <a:off x="2530440" y="3048120"/>
            <a:ext cx="40831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танция 6</a:t>
            </a:r>
            <a:br>
              <a:rPr sz="5400"/>
            </a:b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«Творческая»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2" name="Picture 2" descr="https://simdou88.crimea-school.ru/sites/default/files/styles/1024x768/public/images/plastilin-karandashi-flomasteri-.jpg?itok=hSmoezby"/>
          <p:cNvPicPr/>
          <p:nvPr/>
        </p:nvPicPr>
        <p:blipFill>
          <a:blip r:embed="rId1"/>
          <a:stretch/>
        </p:blipFill>
        <p:spPr>
          <a:xfrm>
            <a:off x="1295280" y="2590920"/>
            <a:ext cx="6629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Станция 7</a:t>
            </a: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«Экономические загадки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634" name="Picture 2" descr="https://4x4photo.ru/wp-content/uploads/2023/07/83aa44b4-105b-41c4-a663-bfffda04154f.png"/>
          <p:cNvPicPr/>
          <p:nvPr/>
        </p:nvPicPr>
        <p:blipFill>
          <a:blip r:embed="rId1"/>
          <a:stretch/>
        </p:blipFill>
        <p:spPr>
          <a:xfrm>
            <a:off x="2971800" y="3254400"/>
            <a:ext cx="525780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https://art.kartinkof.club/uploads/posts/2023-07/1689238966_art-kartinkof-club-p-idei-dlya-srisovki-pedestal-69.jpg"/>
          <p:cNvPicPr/>
          <p:nvPr/>
        </p:nvPicPr>
        <p:blipFill>
          <a:blip r:embed="rId1"/>
          <a:stretch/>
        </p:blipFill>
        <p:spPr>
          <a:xfrm>
            <a:off x="1371600" y="152280"/>
            <a:ext cx="66927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4"/>
          <p:cNvSpPr txBox="1"/>
          <p:nvPr/>
        </p:nvSpPr>
        <p:spPr>
          <a:xfrm>
            <a:off x="2438280" y="304920"/>
            <a:ext cx="435312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7" name="WordArt 5" descr=""/>
          <p:cNvPicPr/>
          <p:nvPr/>
        </p:nvPicPr>
        <p:blipFill>
          <a:blip r:embed="rId1"/>
          <a:stretch/>
        </p:blipFill>
        <p:spPr>
          <a:xfrm>
            <a:off x="901800" y="2200320"/>
            <a:ext cx="7596000" cy="4084560"/>
          </a:xfrm>
          <a:prstGeom prst="rect">
            <a:avLst/>
          </a:prstGeom>
          <a:ln w="0">
            <a:noFill/>
          </a:ln>
        </p:spPr>
      </p:pic>
      <p:pic>
        <p:nvPicPr>
          <p:cNvPr id="638" name="Содержимое 8" descr="b4a2d79dac99.gif"/>
          <p:cNvPicPr/>
          <p:nvPr/>
        </p:nvPicPr>
        <p:blipFill>
          <a:blip r:embed="rId2"/>
          <a:stretch/>
        </p:blipFill>
        <p:spPr>
          <a:xfrm>
            <a:off x="1905120" y="33526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 Дело мастера боится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Слово не воробей-вылетит, не поймаешь.</a:t>
            </a:r>
            <a:br>
              <a:rPr sz="3200"/>
            </a:br>
            <a:r>
              <a:rPr b="0" lang="ru-RU" sz="3200" spc="-1" strike="noStrike">
                <a:solidFill>
                  <a:srgbClr val="7bff7b"/>
                </a:solidFill>
                <a:latin typeface="Tahoma"/>
              </a:rPr>
              <a:t>3. Делу время-потехе час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4. Маленькое дело лучше большого безделья</a:t>
            </a:r>
            <a:br>
              <a:rPr sz="3200"/>
            </a:br>
            <a:r>
              <a:rPr b="0" lang="ru-RU" sz="3200" spc="-1" strike="noStrike">
                <a:solidFill>
                  <a:srgbClr val="f2f2f2"/>
                </a:solidFill>
                <a:latin typeface="Tahoma"/>
              </a:rPr>
              <a:t>5. Кашу маслом не испортишь.</a:t>
            </a:r>
            <a:br>
              <a:rPr sz="3200"/>
            </a:b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6. Долг платежом красен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 rot="21391200">
            <a:off x="458280" y="1000080"/>
            <a:ext cx="7858440" cy="47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Станция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«Литературная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64" name="Picture 8" descr="http://cdn1.flamp.ru/bc98180669e7a9e7a391b13b31e84c0f.jpg"/>
          <p:cNvPicPr/>
          <p:nvPr/>
        </p:nvPicPr>
        <p:blipFill>
          <a:blip r:embed="rId1"/>
          <a:stretch/>
        </p:blipFill>
        <p:spPr>
          <a:xfrm>
            <a:off x="6324480" y="4038480"/>
            <a:ext cx="2459160" cy="218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48848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Рисунок 4" descr=""/>
          <p:cNvPicPr/>
          <p:nvPr/>
        </p:nvPicPr>
        <p:blipFill>
          <a:blip r:embed="rId1"/>
          <a:srcRect l="625" t="0" r="625" b="0"/>
          <a:stretch/>
        </p:blipFill>
        <p:spPr>
          <a:xfrm>
            <a:off x="249120" y="890640"/>
            <a:ext cx="3027600" cy="26352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5" descr=""/>
          <p:cNvPicPr/>
          <p:nvPr/>
        </p:nvPicPr>
        <p:blipFill>
          <a:blip r:embed="rId2"/>
          <a:stretch/>
        </p:blipFill>
        <p:spPr>
          <a:xfrm>
            <a:off x="3581280" y="890640"/>
            <a:ext cx="2514600" cy="26352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6" descr=""/>
          <p:cNvPicPr/>
          <p:nvPr/>
        </p:nvPicPr>
        <p:blipFill>
          <a:blip r:embed="rId3"/>
          <a:stretch/>
        </p:blipFill>
        <p:spPr>
          <a:xfrm>
            <a:off x="6400800" y="890640"/>
            <a:ext cx="236232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4800600"/>
            <a:ext cx="7238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етер, ветер ты могуч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Рисунок 4" descr=""/>
          <p:cNvPicPr/>
          <p:nvPr/>
        </p:nvPicPr>
        <p:blipFill>
          <a:blip r:embed="rId1"/>
          <a:srcRect l="625" t="0" r="625" b="0"/>
          <a:stretch/>
        </p:blipFill>
        <p:spPr>
          <a:xfrm>
            <a:off x="249120" y="890640"/>
            <a:ext cx="3027600" cy="26352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5" descr=""/>
          <p:cNvPicPr/>
          <p:nvPr/>
        </p:nvPicPr>
        <p:blipFill>
          <a:blip r:embed="rId2"/>
          <a:stretch/>
        </p:blipFill>
        <p:spPr>
          <a:xfrm>
            <a:off x="3581280" y="890640"/>
            <a:ext cx="2514600" cy="263520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6" descr=""/>
          <p:cNvPicPr/>
          <p:nvPr/>
        </p:nvPicPr>
        <p:blipFill>
          <a:blip r:embed="rId3"/>
          <a:stretch/>
        </p:blipFill>
        <p:spPr>
          <a:xfrm>
            <a:off x="6400800" y="890640"/>
            <a:ext cx="236232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576" name="Рисунок 11" descr="https://dmdou86.edumsko.ru/uploads/2000/1630/section/99536/asd.jpg"/>
          <p:cNvPicPr/>
          <p:nvPr/>
        </p:nvPicPr>
        <p:blipFill>
          <a:blip r:embed="rId1"/>
          <a:stretch/>
        </p:blipFill>
        <p:spPr>
          <a:xfrm>
            <a:off x="339840" y="2895480"/>
            <a:ext cx="2666880" cy="277668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12" descr="https://fatelena.ru/wp-content/uploads/2020/05/ded.png"/>
          <p:cNvPicPr/>
          <p:nvPr/>
        </p:nvPicPr>
        <p:blipFill>
          <a:blip r:embed="rId2"/>
          <a:stretch/>
        </p:blipFill>
        <p:spPr>
          <a:xfrm>
            <a:off x="3379680" y="286056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13" descr="https://avatars.mds.yandex.net/i?id=63c8fe85b4784b9153ef38b1171d92a8_l-4491734-images-thumbs&amp;n=13"/>
          <p:cNvPicPr/>
          <p:nvPr/>
        </p:nvPicPr>
        <p:blipFill>
          <a:blip r:embed="rId3"/>
          <a:stretch/>
        </p:blipFill>
        <p:spPr>
          <a:xfrm>
            <a:off x="6359400" y="2860560"/>
            <a:ext cx="2438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4"/>
          <p:cNvSpPr txBox="1"/>
          <p:nvPr/>
        </p:nvSpPr>
        <p:spPr>
          <a:xfrm>
            <a:off x="457200" y="609480"/>
            <a:ext cx="830592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Посадил дед реп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580" name="Рисунок 11" descr="https://dmdou86.edumsko.ru/uploads/2000/1630/section/99536/asd.jpg"/>
          <p:cNvPicPr/>
          <p:nvPr/>
        </p:nvPicPr>
        <p:blipFill>
          <a:blip r:embed="rId1"/>
          <a:stretch/>
        </p:blipFill>
        <p:spPr>
          <a:xfrm>
            <a:off x="339840" y="2895480"/>
            <a:ext cx="2666880" cy="277668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12" descr="https://fatelena.ru/wp-content/uploads/2020/05/ded.png"/>
          <p:cNvPicPr/>
          <p:nvPr/>
        </p:nvPicPr>
        <p:blipFill>
          <a:blip r:embed="rId2"/>
          <a:stretch/>
        </p:blipFill>
        <p:spPr>
          <a:xfrm>
            <a:off x="3379680" y="286056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13" descr="https://avatars.mds.yandex.net/i?id=63c8fe85b4784b9153ef38b1171d92a8_l-4491734-images-thumbs&amp;n=13"/>
          <p:cNvPicPr/>
          <p:nvPr/>
        </p:nvPicPr>
        <p:blipFill>
          <a:blip r:embed="rId3"/>
          <a:stretch/>
        </p:blipFill>
        <p:spPr>
          <a:xfrm>
            <a:off x="6359400" y="2860560"/>
            <a:ext cx="2438640" cy="261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Рисунок 4" descr=""/>
          <p:cNvPicPr/>
          <p:nvPr/>
        </p:nvPicPr>
        <p:blipFill>
          <a:blip r:embed="rId1"/>
          <a:srcRect l="2467" t="0" r="2467" b="0"/>
          <a:stretch/>
        </p:blipFill>
        <p:spPr>
          <a:xfrm>
            <a:off x="228600" y="11430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5" descr=""/>
          <p:cNvPicPr/>
          <p:nvPr/>
        </p:nvPicPr>
        <p:blipFill>
          <a:blip r:embed="rId2"/>
          <a:srcRect l="0" t="0" r="0" b="17721"/>
          <a:stretch/>
        </p:blipFill>
        <p:spPr>
          <a:xfrm>
            <a:off x="3276720" y="1219320"/>
            <a:ext cx="2590560" cy="21304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6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2-21T19:20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