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21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3.jpeg" ContentType="image/jpeg"/>
  <Override PartName="/ppt/media/image19.jpeg" ContentType="image/jpeg"/>
  <Override PartName="/ppt/media/image6.png" ContentType="image/png"/>
  <Override PartName="/ppt/media/image11.png" ContentType="image/png"/>
  <Override PartName="/ppt/media/image9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38.gif" ContentType="image/gif"/>
  <Override PartName="/ppt/media/image23.png" ContentType="image/png"/>
  <Override PartName="/ppt/media/image30.gif" ContentType="image/gif"/>
  <Override PartName="/ppt/media/image8.jpeg" ContentType="image/jpeg"/>
  <Override PartName="/ppt/media/image35.png" ContentType="image/png"/>
  <Override PartName="/ppt/media/image5.png" ContentType="image/png"/>
  <Override PartName="/ppt/media/image7.gif" ContentType="image/gif"/>
  <Override PartName="/ppt/media/image29.jpeg" ContentType="image/jpeg"/>
  <Override PartName="/ppt/media/image4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ABD-4696-49C2-AE1A-06A1F71E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C84-755F-4C50-B45D-F2E2142C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7A4F0-BE4E-4A49-8BF5-C2F487E0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22574-1738-49E1-A1C1-803ADBE1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02526-9F49-4134-881D-CA242909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CB1B0-F2AC-44C8-9DD1-983BE93E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1BFCD-2C9B-4458-815A-71E37EE3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DA9CC-A222-4B27-821D-868E9C78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AFCA8-F850-4B59-A960-AB7DF5E6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260EF-0E8B-4BB4-B3BF-920EECC1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D05F1-3B9F-4B6C-A28B-2C68ED8A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0EC0D-1071-4E0C-8244-FAFEE537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291-6EF9-46EF-91DE-B0118FDB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C7FAC-4456-45B8-A104-190FDD1A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E04F4-AB11-4F92-B8D6-B2001C85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FCA60-4DA8-4600-AEB9-05B9AC30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9BD99-E543-4986-B75A-E8512F44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E5AFB-890D-40A8-B9E3-16733ADF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2E212-9436-46D4-8987-7F7FB93C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4EF82-FD7F-4D89-903D-ED6A2D94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035CB-35E0-49C2-97A7-8BB0CCB9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78BA4-F7FF-4599-9E27-7798B4F1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9A5B5-FD20-4148-A349-B42E94CC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115-1495-4871-8850-7370CF20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8C96C-376E-4C98-B866-7287A7CF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B75D6-AAE3-4A3C-A8EA-FBB9F60B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1741E-F4BE-446B-9902-51E0BDAD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EE6E1-ECA6-4795-9A0B-2B85A683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F4B55-A9F0-48F5-AED5-E5FA0CFF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5298C-064C-42AB-98E5-7C76DDA8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D847E-A706-47DA-B1FA-16034D3E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7D1E3-C859-4883-A061-B7CEDD38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6C468-7F8E-449F-A0B0-5F40981A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F21E5-3FFB-41D7-89E7-3730CA5A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B101-0C23-4464-9B38-C2203F87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22BC1-5C4A-4508-AF7C-45E02BF4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772C5-667C-4EBB-AA28-2917E78A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0BD20-228B-4080-BB0B-6117FC03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D647-9007-41A2-8072-010744B6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815B-940F-41E5-8DFC-9324960E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B613-C2B7-4B6E-AB29-D2A4E7AE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698A-50D7-403F-9BEF-1039D6A6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5CF9-1375-4C20-9033-4EF27C34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8FAB-D490-4690-85AD-C1FA6098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E47-4BCC-4C2A-AD61-52B675E2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E19D-9525-4604-8180-36ED8D5E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A8CD-A341-4C25-B946-94CBB465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C2EB-6948-45BC-AB1E-C2503118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0212-4949-43FC-B05E-D3987D55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86C3-9417-4041-96DB-A3058C8F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6EBF0-7564-4402-BC22-6B0B92E3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F1FD-6974-470B-AF86-3506C453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87624-775E-46A5-993F-BD96E084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7A8FD-B364-446E-A3AB-F6F73103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3766D-315D-4CEC-945C-DE1CF4A9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595-8B4E-428D-8DCE-F9256572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07AA8-EC3A-4FC4-8E98-F612BFBF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67E1E-7C3B-4E3E-9B60-203EDF17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60152-D467-4593-BE2D-9426E815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E083-55F0-48FA-96A5-BED9ACD2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0F4F6-AB00-4C2E-83C6-228D0187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CB70-B038-4A79-8166-D6B5AFB2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D81A1-9BE2-4C46-8418-88E588E6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7D73B-66D9-40C3-8B46-59370568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47A37-3E8D-4C9F-A6B1-EF597151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011BA-21C4-49B3-BFE9-A3EA2416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9D6-0330-477D-9A6D-730BA46B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B04F4-E6B9-45B1-A3E0-0D237E2B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06FD7-E006-47BF-B873-4D2B05BB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D6A60-7A00-4C92-ACB1-ED8E13AB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7311-CDB0-45DA-94FA-7513DDDC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B1AA3-5B73-4B48-BC7F-92761F25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3E89E-35B9-4460-AAE5-E7007829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DA322-EC9E-4CDE-98BD-EE77B411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51152-E300-48E0-B810-8E7E29F5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19117-36E4-44F9-9360-8DB8FF6A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6F3D3-C6EC-4576-9374-3261BDD0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C32-A457-467E-9C36-3CC90D6A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BE847-0953-427E-8D1B-13B3F9EE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BF5C8-D537-431B-A7EA-226EE5CA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5872E-8C81-44EC-9CFB-44C44F4B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72566-5476-4DE3-849A-9144E951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DF508-7FDD-4DB3-B9B8-1E407140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E855F-F042-4BAD-9B75-E2AC7217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F0118-D4C2-442D-A386-F077FEF3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323F1-C2F6-494B-9399-A02CBE15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19A16-CE53-4E5E-9170-B8C26C82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01ECE-181F-49D7-A774-1BBA3EA3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56B-AA81-49F1-9C75-5BFB07B6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99B70-FFD7-4279-98C0-31307C97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20275-7F45-4636-BE8E-FBCD3ACD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60CB2F-856A-4DFA-9548-DC9D5220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CF009-BBC3-4887-80F4-9A67B7EA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87C2BD-984A-4107-A33C-59309323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D0115-74DD-4BFE-BD67-95ED4D76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6A43F-27FB-4901-8F52-55559563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836C5-DDCB-43AC-9EE6-C94AA843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3E91E7-E2B1-4A84-9FA6-2C032CFA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6599FD-78EF-45AD-A015-9F2C573B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527-FA75-4277-89CE-E7E70A51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C2E6D-5970-46F2-AD25-08031DD5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D56BF7-C5C7-4181-B2AB-51B95365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FAC36-8F42-4C19-AC1A-A1FA0B32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3EDED2-D98B-4890-8909-8BF19DD7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9F0C4B-3743-4951-A0AF-E00ECC88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630BD-8BB1-4632-9A40-6A251911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0F21F9-76F7-42EE-8266-293D2DFA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0F94EC-ACB3-43BD-830C-7557BD1B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68A9CA-BAA0-40DF-8838-CD4E945F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B01A8C-AFAD-4E9D-8064-4300FEE7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D58-80EE-4D56-8B4D-AAFC9E52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59466-F5C6-47C3-AA06-1CF149D1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37E941-B04E-4470-B6D9-15A1A604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DA4282-BBD0-4DA5-8B7F-0222A5BD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0DB44-D682-49E0-A196-49E66477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D4A62-CF27-4221-89EE-855F82FC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675243-A03B-451A-BFA8-C723F760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5817A1-E3AB-435F-BDA3-69EBA741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CFC563-DA44-4359-968E-E3F655A6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1F66F6-23F5-4AFE-BB34-0259AB19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95C4D5-881D-4C43-885B-18FD81BA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D72-294F-4959-91B5-688F1F29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FEF711-1F74-4DDC-9C45-D6EE067F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F4343B-FFD4-4118-8844-8AE30873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966CD5-060B-4360-9804-DD29C159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9B8A5F-1D29-4DBD-882C-B635BB04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30D318-8B90-4856-AB85-D76AF609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4633E7-C56C-4877-909C-F5373CD1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B5C627-A22D-4A48-8179-6308D028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9621F-04F9-4DDD-8E08-09D0B174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F2327-3A8B-4657-AE86-BBFC854E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80A40-E7CD-4243-99E2-71963FCE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439B-425A-43D7-9E64-A3717BBDEF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4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B35C-908D-492C-8DB2-175F6CEFF3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9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DF74-F461-488E-802C-92F817B4125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A922-13D7-4987-995D-5214DF9DF8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03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9369-CF2F-4F16-8601-AC61ED687E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F9FE-9235-49FC-9212-26E1EE63D2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61AE-2C54-4FBC-8E6D-2DBA3AB4D6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3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162A-61DA-4D02-9600-76CF7081290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CC58-3A87-41B8-B2B6-017CBED0EC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4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4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4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5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93CE-03E6-4506-86B9-3BC94D4841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B7C0-E4D3-4B07-8A50-45A1C69A4F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WordArt 5"/>
          <p:cNvSpPr txBox="1"/>
          <p:nvPr/>
        </p:nvSpPr>
        <p:spPr>
          <a:xfrm>
            <a:off x="1143000" y="304920"/>
            <a:ext cx="686736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вест-игра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WordArt 6"/>
          <p:cNvSpPr txBox="1"/>
          <p:nvPr/>
        </p:nvSpPr>
        <p:spPr>
          <a:xfrm>
            <a:off x="2505240" y="2286000"/>
            <a:ext cx="43527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Думай,</a:t>
            </a:r>
            <a:endParaRPr b="0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8" name="WordArt 7"/>
          <p:cNvSpPr txBox="1"/>
          <p:nvPr/>
        </p:nvSpPr>
        <p:spPr>
          <a:xfrm>
            <a:off x="533520" y="4114800"/>
            <a:ext cx="792468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ай, угадывай»</a:t>
            </a:r>
            <a:endParaRPr b="0" lang="en-US" sz="9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9" name="Содержимое 4" descr="fb992d302a80.gif"/>
          <p:cNvPicPr/>
          <p:nvPr/>
        </p:nvPicPr>
        <p:blipFill>
          <a:blip r:embed="rId7"/>
          <a:stretch/>
        </p:blipFill>
        <p:spPr>
          <a:xfrm>
            <a:off x="6858000" y="31240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160" y="4800600"/>
            <a:ext cx="784836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e3ff"/>
                </a:solidFill>
                <a:latin typeface="Arial"/>
              </a:rPr>
              <a:t>Избушка на курьих ножках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Рисунок 4" descr=""/>
          <p:cNvPicPr/>
          <p:nvPr/>
        </p:nvPicPr>
        <p:blipFill>
          <a:blip r:embed="rId1"/>
          <a:srcRect l="2467" t="0" r="2467" b="0"/>
          <a:stretch/>
        </p:blipFill>
        <p:spPr>
          <a:xfrm>
            <a:off x="228600" y="1143000"/>
            <a:ext cx="2743200" cy="2206800"/>
          </a:xfrm>
          <a:prstGeom prst="rect">
            <a:avLst/>
          </a:prstGeom>
          <a:ln w="0">
            <a:noFill/>
          </a:ln>
        </p:spPr>
      </p:pic>
      <p:pic>
        <p:nvPicPr>
          <p:cNvPr id="591" name="Рисунок 5" descr=""/>
          <p:cNvPicPr/>
          <p:nvPr/>
        </p:nvPicPr>
        <p:blipFill>
          <a:blip r:embed="rId2"/>
          <a:srcRect l="0" t="0" r="0" b="17721"/>
          <a:stretch/>
        </p:blipFill>
        <p:spPr>
          <a:xfrm>
            <a:off x="3276720" y="1219320"/>
            <a:ext cx="2590560" cy="2130480"/>
          </a:xfrm>
          <a:prstGeom prst="rect">
            <a:avLst/>
          </a:prstGeom>
          <a:ln w="0">
            <a:noFill/>
          </a:ln>
        </p:spPr>
      </p:pic>
      <p:pic>
        <p:nvPicPr>
          <p:cNvPr id="592" name="Рисунок 6" descr=""/>
          <p:cNvPicPr/>
          <p:nvPr/>
        </p:nvPicPr>
        <p:blipFill>
          <a:blip r:embed="rId3"/>
          <a:stretch/>
        </p:blipFill>
        <p:spPr>
          <a:xfrm>
            <a:off x="6248520" y="1143000"/>
            <a:ext cx="25146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4" name="Объект 3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2590560" cy="2584440"/>
          </a:xfrm>
          <a:prstGeom prst="rect">
            <a:avLst/>
          </a:prstGeom>
          <a:ln w="0">
            <a:noFill/>
          </a:ln>
        </p:spPr>
      </p:pic>
      <p:pic>
        <p:nvPicPr>
          <p:cNvPr id="595" name="Рисунок 4" descr=""/>
          <p:cNvPicPr/>
          <p:nvPr/>
        </p:nvPicPr>
        <p:blipFill>
          <a:blip r:embed="rId2"/>
          <a:stretch/>
        </p:blipFill>
        <p:spPr>
          <a:xfrm>
            <a:off x="3352680" y="2743200"/>
            <a:ext cx="2438640" cy="2508120"/>
          </a:xfrm>
          <a:prstGeom prst="rect">
            <a:avLst/>
          </a:prstGeom>
          <a:ln w="0">
            <a:noFill/>
          </a:ln>
        </p:spPr>
      </p:pic>
      <p:pic>
        <p:nvPicPr>
          <p:cNvPr id="596" name="Рисунок 5" descr=""/>
          <p:cNvPicPr/>
          <p:nvPr/>
        </p:nvPicPr>
        <p:blipFill>
          <a:blip r:embed="rId3"/>
          <a:stretch/>
        </p:blipFill>
        <p:spPr>
          <a:xfrm>
            <a:off x="6095880" y="2743200"/>
            <a:ext cx="2638440" cy="250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76320" y="277920"/>
            <a:ext cx="9220320" cy="193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ри девицы под окном пряли поздно вечерком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8" name="Объект 3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2590560" cy="2584440"/>
          </a:xfrm>
          <a:prstGeom prst="rect">
            <a:avLst/>
          </a:prstGeom>
          <a:ln w="0">
            <a:noFill/>
          </a:ln>
        </p:spPr>
      </p:pic>
      <p:pic>
        <p:nvPicPr>
          <p:cNvPr id="599" name="Рисунок 4" descr=""/>
          <p:cNvPicPr/>
          <p:nvPr/>
        </p:nvPicPr>
        <p:blipFill>
          <a:blip r:embed="rId2"/>
          <a:stretch/>
        </p:blipFill>
        <p:spPr>
          <a:xfrm>
            <a:off x="3352680" y="2743200"/>
            <a:ext cx="2438640" cy="2508120"/>
          </a:xfrm>
          <a:prstGeom prst="rect">
            <a:avLst/>
          </a:prstGeom>
          <a:ln w="0">
            <a:noFill/>
          </a:ln>
        </p:spPr>
      </p:pic>
      <p:pic>
        <p:nvPicPr>
          <p:cNvPr id="600" name="Рисунок 5" descr=""/>
          <p:cNvPicPr/>
          <p:nvPr/>
        </p:nvPicPr>
        <p:blipFill>
          <a:blip r:embed="rId3"/>
          <a:stretch/>
        </p:blipFill>
        <p:spPr>
          <a:xfrm>
            <a:off x="6095880" y="2743200"/>
            <a:ext cx="26384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3" name="Рисунок 4" descr=""/>
          <p:cNvPicPr/>
          <p:nvPr/>
        </p:nvPicPr>
        <p:blipFill>
          <a:blip r:embed="rId1"/>
          <a:srcRect l="0" t="70" r="0" b="70"/>
          <a:stretch/>
        </p:blipFill>
        <p:spPr>
          <a:xfrm>
            <a:off x="609480" y="1371600"/>
            <a:ext cx="3697560" cy="2289240"/>
          </a:xfrm>
          <a:prstGeom prst="rect">
            <a:avLst/>
          </a:prstGeom>
          <a:ln w="0">
            <a:noFill/>
          </a:ln>
        </p:spPr>
      </p:pic>
      <p:pic>
        <p:nvPicPr>
          <p:cNvPr id="604" name="Рисунок 5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70368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782600"/>
            <a:ext cx="83520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e3ff"/>
                </a:solidFill>
                <a:latin typeface="Arial"/>
              </a:rPr>
              <a:t>Белая береза под моим окно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Рисунок 4" descr=""/>
          <p:cNvPicPr/>
          <p:nvPr/>
        </p:nvPicPr>
        <p:blipFill>
          <a:blip r:embed="rId1"/>
          <a:srcRect l="0" t="70" r="0" b="70"/>
          <a:stretch/>
        </p:blipFill>
        <p:spPr>
          <a:xfrm>
            <a:off x="609480" y="1371600"/>
            <a:ext cx="3697560" cy="228924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5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70368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WordArt 4"/>
          <p:cNvSpPr txBox="1"/>
          <p:nvPr/>
        </p:nvSpPr>
        <p:spPr>
          <a:xfrm>
            <a:off x="457200" y="609480"/>
            <a:ext cx="830592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  <p:pic>
        <p:nvPicPr>
          <p:cNvPr id="610" name="Рисунок 5" descr="https://gas-kvas.com/uploads/posts/2023-01/1673510878_gas-kvas-com-p-detskie-risunki-pet-3.png"/>
          <p:cNvPicPr/>
          <p:nvPr/>
        </p:nvPicPr>
        <p:blipFill>
          <a:blip r:embed="rId1"/>
          <a:stretch/>
        </p:blipFill>
        <p:spPr>
          <a:xfrm>
            <a:off x="228600" y="3048120"/>
            <a:ext cx="2590920" cy="2422440"/>
          </a:xfrm>
          <a:prstGeom prst="rect">
            <a:avLst/>
          </a:prstGeom>
          <a:ln w="0">
            <a:noFill/>
          </a:ln>
        </p:spPr>
      </p:pic>
      <p:pic>
        <p:nvPicPr>
          <p:cNvPr id="611" name="Рисунок 6" descr="https://w.forfun.com/fetch/47/476c7e35e0d043314d5de00af87b7549.jpeg"/>
          <p:cNvPicPr/>
          <p:nvPr/>
        </p:nvPicPr>
        <p:blipFill>
          <a:blip r:embed="rId2"/>
          <a:stretch/>
        </p:blipFill>
        <p:spPr>
          <a:xfrm>
            <a:off x="3294000" y="3065400"/>
            <a:ext cx="2590920" cy="2382840"/>
          </a:xfrm>
          <a:prstGeom prst="rect">
            <a:avLst/>
          </a:prstGeom>
          <a:ln w="0">
            <a:noFill/>
          </a:ln>
        </p:spPr>
      </p:pic>
      <p:pic>
        <p:nvPicPr>
          <p:cNvPr id="612" name="Рисунок 7" descr="https://avatars.mds.yandex.net/i?id=cd903e160eca7f38378fcb4d0ed4b358_l-8194143-images-thumbs&amp;n=13"/>
          <p:cNvPicPr/>
          <p:nvPr/>
        </p:nvPicPr>
        <p:blipFill>
          <a:blip r:embed="rId3"/>
          <a:stretch/>
        </p:blipFill>
        <p:spPr>
          <a:xfrm>
            <a:off x="6359400" y="3065400"/>
            <a:ext cx="2022480" cy="240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WordArt 4"/>
          <p:cNvSpPr txBox="1"/>
          <p:nvPr/>
        </p:nvSpPr>
        <p:spPr>
          <a:xfrm>
            <a:off x="228600" y="457200"/>
            <a:ext cx="8915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Поет зима аукает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  <p:pic>
        <p:nvPicPr>
          <p:cNvPr id="614" name="Рисунок 5" descr="https://gas-kvas.com/uploads/posts/2023-01/1673510878_gas-kvas-com-p-detskie-risunki-pet-3.png"/>
          <p:cNvPicPr/>
          <p:nvPr/>
        </p:nvPicPr>
        <p:blipFill>
          <a:blip r:embed="rId1"/>
          <a:stretch/>
        </p:blipFill>
        <p:spPr>
          <a:xfrm>
            <a:off x="228600" y="3048120"/>
            <a:ext cx="2590920" cy="242244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6" descr="https://w.forfun.com/fetch/47/476c7e35e0d043314d5de00af87b7549.jpeg"/>
          <p:cNvPicPr/>
          <p:nvPr/>
        </p:nvPicPr>
        <p:blipFill>
          <a:blip r:embed="rId2"/>
          <a:stretch/>
        </p:blipFill>
        <p:spPr>
          <a:xfrm>
            <a:off x="3294000" y="3065400"/>
            <a:ext cx="2590920" cy="238284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7" descr="https://avatars.mds.yandex.net/i?id=cd903e160eca7f38378fcb4d0ed4b358_l-8194143-images-thumbs&amp;n=13"/>
          <p:cNvPicPr/>
          <p:nvPr/>
        </p:nvPicPr>
        <p:blipFill>
          <a:blip r:embed="rId3"/>
          <a:stretch/>
        </p:blipFill>
        <p:spPr>
          <a:xfrm>
            <a:off x="6359400" y="3065400"/>
            <a:ext cx="2022480" cy="240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WordArt 4"/>
          <p:cNvSpPr txBox="1"/>
          <p:nvPr/>
        </p:nvSpPr>
        <p:spPr>
          <a:xfrm rot="21391200">
            <a:off x="458280" y="1000080"/>
            <a:ext cx="7858440" cy="47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e03e1"/>
                </a:solidFill>
                <a:latin typeface="Impact"/>
              </a:rPr>
              <a:t>Станция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e03e1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e03e1"/>
                </a:solidFill>
                <a:latin typeface="Impact"/>
              </a:rPr>
              <a:t>«Словария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e03e1"/>
              </a:solidFill>
              <a:latin typeface="Impact"/>
              <a:ea typeface="Impact"/>
            </a:endParaRPr>
          </a:p>
        </p:txBody>
      </p:sp>
      <p:pic>
        <p:nvPicPr>
          <p:cNvPr id="618" name="Picture 7" descr="https://zabavnikus.ru/wp-content/uploads/4/0/a/40ae37b110c03d1d0d2fbdaf9f962218.jpeg"/>
          <p:cNvPicPr/>
          <p:nvPr/>
        </p:nvPicPr>
        <p:blipFill>
          <a:blip r:embed="rId1"/>
          <a:stretch/>
        </p:blipFill>
        <p:spPr>
          <a:xfrm>
            <a:off x="6095880" y="3962520"/>
            <a:ext cx="2754360" cy="248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7"/>
          <p:cNvSpPr txBox="1"/>
          <p:nvPr/>
        </p:nvSpPr>
        <p:spPr>
          <a:xfrm>
            <a:off x="2476440" y="152280"/>
            <a:ext cx="647712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танция 4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620" name="WordArt 8"/>
          <p:cNvSpPr txBox="1"/>
          <p:nvPr/>
        </p:nvSpPr>
        <p:spPr>
          <a:xfrm>
            <a:off x="304920" y="3059280"/>
            <a:ext cx="86310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Impact"/>
              </a:rPr>
              <a:t>Математическая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Impact"/>
              <a:ea typeface="Impact"/>
            </a:endParaRPr>
          </a:p>
        </p:txBody>
      </p:sp>
      <p:pic>
        <p:nvPicPr>
          <p:cNvPr id="621" name="Picture 7" descr="https://gas-kvas.com/uploads/posts/2023-02/1676426210_gas-kvas-com-p-detskie-risunki-matematika-17.jpg"/>
          <p:cNvPicPr/>
          <p:nvPr/>
        </p:nvPicPr>
        <p:blipFill>
          <a:blip r:embed="rId1"/>
          <a:stretch/>
        </p:blipFill>
        <p:spPr>
          <a:xfrm>
            <a:off x="4095720" y="2268360"/>
            <a:ext cx="1924200" cy="1684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4"/>
          <p:cNvSpPr txBox="1"/>
          <p:nvPr/>
        </p:nvSpPr>
        <p:spPr>
          <a:xfrm>
            <a:off x="380880" y="1066680"/>
            <a:ext cx="853452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культур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3" name="Picture 6" descr="юлр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2133720" y="3124080"/>
            <a:ext cx="4419360" cy="3329280"/>
          </a:xfrm>
          <a:prstGeom prst="rect">
            <a:avLst/>
          </a:prstGeom>
          <a:ln w="0">
            <a:noFill/>
          </a:ln>
        </p:spPr>
      </p:pic>
      <p:pic>
        <p:nvPicPr>
          <p:cNvPr id="624" name="Содержимое 4" descr="6234e7446bfb.gif"/>
          <p:cNvPicPr/>
          <p:nvPr/>
        </p:nvPicPr>
        <p:blipFill>
          <a:blip r:embed="rId2"/>
          <a:stretch/>
        </p:blipFill>
        <p:spPr>
          <a:xfrm>
            <a:off x="6705720" y="51814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СТАНЦИЯ 1.</a:t>
            </a:r>
            <a:br>
              <a:rPr sz="4400"/>
            </a:b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«Старая пословица век не сломится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1" name="Picture 2" descr="https://memorado.ru/wp-content/uploads/6/7/8/6788e635c6df545d53430c3641616bdb.jpeg"/>
          <p:cNvPicPr/>
          <p:nvPr/>
        </p:nvPicPr>
        <p:blipFill>
          <a:blip r:embed="rId1"/>
          <a:stretch/>
        </p:blipFill>
        <p:spPr>
          <a:xfrm>
            <a:off x="2044800" y="3048120"/>
            <a:ext cx="4965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92080" y="4807080"/>
            <a:ext cx="689436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8c0039"/>
                </a:solidFill>
                <a:latin typeface="Arial"/>
              </a:rPr>
              <a:t>15 руб                              60 руб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Рисунок 5" descr=""/>
          <p:cNvPicPr/>
          <p:nvPr/>
        </p:nvPicPr>
        <p:blipFill>
          <a:blip r:embed="rId1"/>
          <a:stretch/>
        </p:blipFill>
        <p:spPr>
          <a:xfrm>
            <a:off x="2590920" y="224964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13" descr=""/>
          <p:cNvPicPr/>
          <p:nvPr/>
        </p:nvPicPr>
        <p:blipFill>
          <a:blip r:embed="rId2"/>
          <a:srcRect l="0" t="12503" r="0" b="12503"/>
          <a:stretch/>
        </p:blipFill>
        <p:spPr>
          <a:xfrm>
            <a:off x="4495680" y="457200"/>
            <a:ext cx="4613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СТАНЦИЯ 5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«Формула всего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0" name="Picture 4" descr="https://img.razrisyika.ru/kart/74/900/293973-dlya-shkolnikov-1-klassa-19.jpg"/>
          <p:cNvPicPr/>
          <p:nvPr/>
        </p:nvPicPr>
        <p:blipFill>
          <a:blip r:embed="rId1"/>
          <a:stretch/>
        </p:blipFill>
        <p:spPr>
          <a:xfrm>
            <a:off x="2530440" y="3048120"/>
            <a:ext cx="408312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23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Станция 6</a:t>
            </a:r>
            <a:br>
              <a:rPr sz="5400"/>
            </a:b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«Творческая»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32" name="Picture 2" descr="https://simdou88.crimea-school.ru/sites/default/files/styles/1024x768/public/images/plastilin-karandashi-flomasteri-.jpg?itok=hSmoezby"/>
          <p:cNvPicPr/>
          <p:nvPr/>
        </p:nvPicPr>
        <p:blipFill>
          <a:blip r:embed="rId1"/>
          <a:stretch/>
        </p:blipFill>
        <p:spPr>
          <a:xfrm>
            <a:off x="1295280" y="2590920"/>
            <a:ext cx="66294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Станция 7</a:t>
            </a:r>
            <a:br>
              <a:rPr sz="44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«Экономические загадки»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634" name="Picture 2" descr="https://4x4photo.ru/wp-content/uploads/2023/07/83aa44b4-105b-41c4-a663-bfffda04154f.png"/>
          <p:cNvPicPr/>
          <p:nvPr/>
        </p:nvPicPr>
        <p:blipFill>
          <a:blip r:embed="rId1"/>
          <a:stretch/>
        </p:blipFill>
        <p:spPr>
          <a:xfrm>
            <a:off x="2971800" y="3254400"/>
            <a:ext cx="5257800" cy="30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https://art.kartinkof.club/uploads/posts/2023-07/1689238966_art-kartinkof-club-p-idei-dlya-srisovki-pedestal-69.jpg"/>
          <p:cNvPicPr/>
          <p:nvPr/>
        </p:nvPicPr>
        <p:blipFill>
          <a:blip r:embed="rId1"/>
          <a:stretch/>
        </p:blipFill>
        <p:spPr>
          <a:xfrm>
            <a:off x="1371600" y="152280"/>
            <a:ext cx="669276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WordArt 4"/>
          <p:cNvSpPr txBox="1"/>
          <p:nvPr/>
        </p:nvSpPr>
        <p:spPr>
          <a:xfrm>
            <a:off x="2438280" y="304920"/>
            <a:ext cx="435312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Е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7" name="WordArt 5" descr=""/>
          <p:cNvPicPr/>
          <p:nvPr/>
        </p:nvPicPr>
        <p:blipFill>
          <a:blip r:embed="rId1"/>
          <a:stretch/>
        </p:blipFill>
        <p:spPr>
          <a:xfrm>
            <a:off x="901800" y="2200320"/>
            <a:ext cx="7596000" cy="4084560"/>
          </a:xfrm>
          <a:prstGeom prst="rect">
            <a:avLst/>
          </a:prstGeom>
          <a:ln w="0">
            <a:noFill/>
          </a:ln>
        </p:spPr>
      </p:pic>
      <p:pic>
        <p:nvPicPr>
          <p:cNvPr id="638" name="Содержимое 8" descr="b4a2d79dac99.gif"/>
          <p:cNvPicPr/>
          <p:nvPr/>
        </p:nvPicPr>
        <p:blipFill>
          <a:blip r:embed="rId2"/>
          <a:stretch/>
        </p:blipFill>
        <p:spPr>
          <a:xfrm>
            <a:off x="1905120" y="33526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8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1. Дело мастера боится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. Слово не воробей-вылетит, не поймаешь.</a:t>
            </a:r>
            <a:br>
              <a:rPr sz="3200"/>
            </a:br>
            <a:r>
              <a:rPr b="0" lang="ru-RU" sz="3200" spc="-1" strike="noStrike">
                <a:solidFill>
                  <a:srgbClr val="7bff7b"/>
                </a:solidFill>
                <a:latin typeface="Tahoma"/>
              </a:rPr>
              <a:t>3. Делу время-потехе час.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4. Маленькое дело лучше большого безделья</a:t>
            </a:r>
            <a:br>
              <a:rPr sz="3200"/>
            </a:br>
            <a:r>
              <a:rPr b="0" lang="ru-RU" sz="3200" spc="-1" strike="noStrike">
                <a:solidFill>
                  <a:srgbClr val="f2f2f2"/>
                </a:solidFill>
                <a:latin typeface="Tahoma"/>
              </a:rPr>
              <a:t>5. Кашу маслом не испортишь.</a:t>
            </a:r>
            <a:br>
              <a:rPr sz="3200"/>
            </a:b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6. Долг платежом красен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4"/>
          <p:cNvSpPr txBox="1"/>
          <p:nvPr/>
        </p:nvSpPr>
        <p:spPr>
          <a:xfrm rot="21391200">
            <a:off x="458280" y="1000080"/>
            <a:ext cx="7858440" cy="47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Станция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«Литературная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564" name="Picture 8" descr="http://cdn1.flamp.ru/bc98180669e7a9e7a391b13b31e84c0f.jpg"/>
          <p:cNvPicPr/>
          <p:nvPr/>
        </p:nvPicPr>
        <p:blipFill>
          <a:blip r:embed="rId1"/>
          <a:stretch/>
        </p:blipFill>
        <p:spPr>
          <a:xfrm>
            <a:off x="6324480" y="4038480"/>
            <a:ext cx="2459160" cy="2184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48848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Рисунок 4" descr=""/>
          <p:cNvPicPr/>
          <p:nvPr/>
        </p:nvPicPr>
        <p:blipFill>
          <a:blip r:embed="rId1"/>
          <a:srcRect l="625" t="0" r="625" b="0"/>
          <a:stretch/>
        </p:blipFill>
        <p:spPr>
          <a:xfrm>
            <a:off x="249120" y="890640"/>
            <a:ext cx="3027600" cy="263520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5" descr=""/>
          <p:cNvPicPr/>
          <p:nvPr/>
        </p:nvPicPr>
        <p:blipFill>
          <a:blip r:embed="rId2"/>
          <a:stretch/>
        </p:blipFill>
        <p:spPr>
          <a:xfrm>
            <a:off x="3581280" y="890640"/>
            <a:ext cx="2514600" cy="263520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6" descr=""/>
          <p:cNvPicPr/>
          <p:nvPr/>
        </p:nvPicPr>
        <p:blipFill>
          <a:blip r:embed="rId3"/>
          <a:stretch/>
        </p:blipFill>
        <p:spPr>
          <a:xfrm>
            <a:off x="6400800" y="890640"/>
            <a:ext cx="2362320" cy="263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4800600"/>
            <a:ext cx="723888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етер, ветер ты могуч!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Рисунок 4" descr=""/>
          <p:cNvPicPr/>
          <p:nvPr/>
        </p:nvPicPr>
        <p:blipFill>
          <a:blip r:embed="rId1"/>
          <a:srcRect l="625" t="0" r="625" b="0"/>
          <a:stretch/>
        </p:blipFill>
        <p:spPr>
          <a:xfrm>
            <a:off x="249120" y="890640"/>
            <a:ext cx="3027600" cy="2635200"/>
          </a:xfrm>
          <a:prstGeom prst="rect">
            <a:avLst/>
          </a:prstGeom>
          <a:ln w="0">
            <a:noFill/>
          </a:ln>
        </p:spPr>
      </p:pic>
      <p:pic>
        <p:nvPicPr>
          <p:cNvPr id="573" name="Рисунок 5" descr=""/>
          <p:cNvPicPr/>
          <p:nvPr/>
        </p:nvPicPr>
        <p:blipFill>
          <a:blip r:embed="rId2"/>
          <a:stretch/>
        </p:blipFill>
        <p:spPr>
          <a:xfrm>
            <a:off x="3581280" y="890640"/>
            <a:ext cx="2514600" cy="2635200"/>
          </a:xfrm>
          <a:prstGeom prst="rect">
            <a:avLst/>
          </a:prstGeom>
          <a:ln w="0">
            <a:noFill/>
          </a:ln>
        </p:spPr>
      </p:pic>
      <p:pic>
        <p:nvPicPr>
          <p:cNvPr id="574" name="Рисунок 6" descr=""/>
          <p:cNvPicPr/>
          <p:nvPr/>
        </p:nvPicPr>
        <p:blipFill>
          <a:blip r:embed="rId3"/>
          <a:stretch/>
        </p:blipFill>
        <p:spPr>
          <a:xfrm>
            <a:off x="6400800" y="890640"/>
            <a:ext cx="2362320" cy="263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WordArt 4"/>
          <p:cNvSpPr txBox="1"/>
          <p:nvPr/>
        </p:nvSpPr>
        <p:spPr>
          <a:xfrm>
            <a:off x="457200" y="609480"/>
            <a:ext cx="830592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  <p:pic>
        <p:nvPicPr>
          <p:cNvPr id="576" name="Рисунок 11" descr="https://dmdou86.edumsko.ru/uploads/2000/1630/section/99536/asd.jpg"/>
          <p:cNvPicPr/>
          <p:nvPr/>
        </p:nvPicPr>
        <p:blipFill>
          <a:blip r:embed="rId1"/>
          <a:stretch/>
        </p:blipFill>
        <p:spPr>
          <a:xfrm>
            <a:off x="339840" y="2895480"/>
            <a:ext cx="2666880" cy="2776680"/>
          </a:xfrm>
          <a:prstGeom prst="rect">
            <a:avLst/>
          </a:prstGeom>
          <a:ln w="0">
            <a:noFill/>
          </a:ln>
        </p:spPr>
      </p:pic>
      <p:pic>
        <p:nvPicPr>
          <p:cNvPr id="577" name="Рисунок 12" descr="https://fatelena.ru/wp-content/uploads/2020/05/ded.png"/>
          <p:cNvPicPr/>
          <p:nvPr/>
        </p:nvPicPr>
        <p:blipFill>
          <a:blip r:embed="rId2"/>
          <a:stretch/>
        </p:blipFill>
        <p:spPr>
          <a:xfrm>
            <a:off x="3379680" y="286056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13" descr="https://avatars.mds.yandex.net/i?id=63c8fe85b4784b9153ef38b1171d92a8_l-4491734-images-thumbs&amp;n=13"/>
          <p:cNvPicPr/>
          <p:nvPr/>
        </p:nvPicPr>
        <p:blipFill>
          <a:blip r:embed="rId3"/>
          <a:stretch/>
        </p:blipFill>
        <p:spPr>
          <a:xfrm>
            <a:off x="6359400" y="2860560"/>
            <a:ext cx="243864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WordArt 4"/>
          <p:cNvSpPr txBox="1"/>
          <p:nvPr/>
        </p:nvSpPr>
        <p:spPr>
          <a:xfrm>
            <a:off x="457200" y="609480"/>
            <a:ext cx="830592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Посадил дед репк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  <p:pic>
        <p:nvPicPr>
          <p:cNvPr id="580" name="Рисунок 11" descr="https://dmdou86.edumsko.ru/uploads/2000/1630/section/99536/asd.jpg"/>
          <p:cNvPicPr/>
          <p:nvPr/>
        </p:nvPicPr>
        <p:blipFill>
          <a:blip r:embed="rId1"/>
          <a:stretch/>
        </p:blipFill>
        <p:spPr>
          <a:xfrm>
            <a:off x="339840" y="2895480"/>
            <a:ext cx="2666880" cy="2776680"/>
          </a:xfrm>
          <a:prstGeom prst="rect">
            <a:avLst/>
          </a:prstGeom>
          <a:ln w="0">
            <a:noFill/>
          </a:ln>
        </p:spPr>
      </p:pic>
      <p:pic>
        <p:nvPicPr>
          <p:cNvPr id="581" name="Рисунок 12" descr="https://fatelena.ru/wp-content/uploads/2020/05/ded.png"/>
          <p:cNvPicPr/>
          <p:nvPr/>
        </p:nvPicPr>
        <p:blipFill>
          <a:blip r:embed="rId2"/>
          <a:stretch/>
        </p:blipFill>
        <p:spPr>
          <a:xfrm>
            <a:off x="3379680" y="286056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582" name="Рисунок 13" descr="https://avatars.mds.yandex.net/i?id=63c8fe85b4784b9153ef38b1171d92a8_l-4491734-images-thumbs&amp;n=13"/>
          <p:cNvPicPr/>
          <p:nvPr/>
        </p:nvPicPr>
        <p:blipFill>
          <a:blip r:embed="rId3"/>
          <a:stretch/>
        </p:blipFill>
        <p:spPr>
          <a:xfrm>
            <a:off x="6359400" y="2860560"/>
            <a:ext cx="2438640" cy="261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Рисунок 4" descr=""/>
          <p:cNvPicPr/>
          <p:nvPr/>
        </p:nvPicPr>
        <p:blipFill>
          <a:blip r:embed="rId1"/>
          <a:srcRect l="2467" t="0" r="2467" b="0"/>
          <a:stretch/>
        </p:blipFill>
        <p:spPr>
          <a:xfrm>
            <a:off x="228600" y="1143000"/>
            <a:ext cx="2743200" cy="2206800"/>
          </a:xfrm>
          <a:prstGeom prst="rect">
            <a:avLst/>
          </a:prstGeom>
          <a:ln w="0">
            <a:noFill/>
          </a:ln>
        </p:spPr>
      </p:pic>
      <p:pic>
        <p:nvPicPr>
          <p:cNvPr id="586" name="Рисунок 5" descr=""/>
          <p:cNvPicPr/>
          <p:nvPr/>
        </p:nvPicPr>
        <p:blipFill>
          <a:blip r:embed="rId2"/>
          <a:srcRect l="0" t="0" r="0" b="17721"/>
          <a:stretch/>
        </p:blipFill>
        <p:spPr>
          <a:xfrm>
            <a:off x="3276720" y="1219320"/>
            <a:ext cx="2590560" cy="213048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6" descr=""/>
          <p:cNvPicPr/>
          <p:nvPr/>
        </p:nvPicPr>
        <p:blipFill>
          <a:blip r:embed="rId3"/>
          <a:stretch/>
        </p:blipFill>
        <p:spPr>
          <a:xfrm>
            <a:off x="6248520" y="1143000"/>
            <a:ext cx="25146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2-21T19:20:0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