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54.gif" ContentType="image/gif"/>
  <Override PartName="/ppt/media/image23.jpeg" ContentType="image/jpeg"/>
  <Override PartName="/ppt/media/image56.gif" ContentType="image/gif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7.gif" ContentType="image/gif"/>
  <Override PartName="/ppt/media/image42.gif" ContentType="image/gif"/>
  <Override PartName="/ppt/media/image33.jpeg" ContentType="image/jpeg"/>
  <Override PartName="/ppt/media/image38.gif" ContentType="image/gif"/>
  <Override PartName="/ppt/media/image53.jpeg" ContentType="image/jpeg"/>
  <Override PartName="/ppt/media/image43.wmf" ContentType="image/x-wmf"/>
  <Override PartName="/ppt/media/image13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45.jpeg" ContentType="image/jpeg"/>
  <Override PartName="/ppt/media/image48.gif" ContentType="image/gif"/>
  <Override PartName="/ppt/media/image50.gif" ContentType="image/gif"/>
  <Override PartName="/ppt/media/image47.jpeg" ContentType="image/jpeg"/>
  <Override PartName="/ppt/media/image36.wmf" ContentType="image/x-wmf"/>
  <Override PartName="/ppt/media/image49.jpeg" ContentType="image/jpeg"/>
  <Override PartName="/ppt/media/image52.gif" ContentType="image/gif"/>
  <Override PartName="/ppt/media/image44.jpeg" ContentType="image/jpeg"/>
  <Override PartName="/ppt/media/image57.gif" ContentType="image/gif"/>
  <Override PartName="/ppt/media/image31.jpeg" ContentType="image/jpeg"/>
  <Override PartName="/ppt/media/image32.jpeg" ContentType="image/jpeg"/>
  <Override PartName="/ppt/media/image30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41.gif" ContentType="image/gi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9BF-9BA2-4B96-A1A3-B9FC97DE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CCE-096A-4FE2-8BD8-EBC6D65C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8D1-8166-4DB4-8527-6A557B75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CB7-161C-4BA7-8378-29868289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7CF-CB44-42D0-8928-AC37AECF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E73-CD76-4438-B23E-58224D88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70E-E0BD-4212-9712-6F6C0396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2DC-04C4-44D2-99DD-68ED78DD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D3C-7D56-451B-BD80-FB15EADF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A5C-CB53-4E61-B200-1E53C224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A00-2C41-439F-98E5-085F47B7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89D-AC53-4255-91D9-625FC71A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A81D-3589-4E89-A1BA-71A2A7EF8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6.pn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wmf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0.gif"/><Relationship Id="rId3" Type="http://schemas.openxmlformats.org/officeDocument/2006/relationships/image" Target="../media/image46.gif"/><Relationship Id="rId4" Type="http://schemas.openxmlformats.org/officeDocument/2006/relationships/image" Target="../media/image38.gif"/><Relationship Id="rId5" Type="http://schemas.openxmlformats.org/officeDocument/2006/relationships/image" Target="../media/image54.gif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E ZO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056360" cy="537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572000" cy="5661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572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0560" y="357120"/>
            <a:ext cx="70228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554688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63720" y="406440"/>
            <a:ext cx="721836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530064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5680" y="0"/>
            <a:ext cx="6632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69228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55680" y="357120"/>
            <a:ext cx="6632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084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rocodi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25360" y="0"/>
            <a:ext cx="689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40360" y="530064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l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63720" y="357120"/>
            <a:ext cx="721836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745080" cy="2952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24360" y="476280"/>
            <a:ext cx="4824360" cy="314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140360" y="3573360"/>
            <a:ext cx="4757400" cy="3024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68360" y="5734080"/>
            <a:ext cx="316692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539640" y="3141720"/>
            <a:ext cx="345600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176720" cy="3827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4608720" cy="209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960720" cy="1655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4120" y="4902120"/>
            <a:ext cx="1598760" cy="1044720"/>
          </a:xfrm>
          <a:custGeom>
            <a:avLst/>
            <a:gdLst/>
            <a:ahLst/>
            <a:rect l="l" t="t" r="r" b="b"/>
            <a:pathLst>
              <a:path w="4441" h="2903">
                <a:moveTo>
                  <a:pt x="5507" y="16520"/>
                </a:moveTo>
                <a:cubicBezTo>
                  <a:pt x="5325" y="16520"/>
                  <a:pt x="5143" y="16520"/>
                  <a:pt x="4961" y="16520"/>
                </a:cubicBezTo>
              </a:path>
              <a:path w="4441" h="2903">
                <a:moveTo>
                  <a:pt x="1860" y="15007"/>
                </a:moveTo>
                <a:cubicBezTo>
                  <a:pt x="1898" y="14993"/>
                  <a:pt x="1946" y="14997"/>
                  <a:pt x="1984" y="14982"/>
                </a:cubicBezTo>
                <a:cubicBezTo>
                  <a:pt x="2025" y="14965"/>
                  <a:pt x="2066" y="14948"/>
                  <a:pt x="2108" y="14932"/>
                </a:cubicBezTo>
                <a:cubicBezTo>
                  <a:pt x="2158" y="14913"/>
                  <a:pt x="2084" y="14932"/>
                  <a:pt x="2059" y="14932"/>
                </a:cubicBezTo>
                <a:cubicBezTo>
                  <a:pt x="2009" y="14932"/>
                  <a:pt x="1960" y="14932"/>
                  <a:pt x="1910" y="14932"/>
                </a:cubicBezTo>
                <a:cubicBezTo>
                  <a:pt x="1918" y="14932"/>
                  <a:pt x="1927" y="14932"/>
                  <a:pt x="1935" y="14932"/>
                </a:cubicBezTo>
                <a:cubicBezTo>
                  <a:pt x="2042" y="14932"/>
                  <a:pt x="2101" y="14932"/>
                  <a:pt x="2208" y="14932"/>
                </a:cubicBezTo>
                <a:cubicBezTo>
                  <a:pt x="2150" y="14932"/>
                  <a:pt x="2124" y="14947"/>
                  <a:pt x="2133" y="14932"/>
                </a:cubicBezTo>
                <a:cubicBezTo>
                  <a:pt x="2154" y="14898"/>
                  <a:pt x="2150" y="14915"/>
                  <a:pt x="2183" y="14858"/>
                </a:cubicBezTo>
                <a:cubicBezTo>
                  <a:pt x="2122" y="14858"/>
                  <a:pt x="2131" y="14866"/>
                  <a:pt x="2133" y="14858"/>
                </a:cubicBezTo>
                <a:cubicBezTo>
                  <a:pt x="2147" y="14812"/>
                  <a:pt x="2192" y="14799"/>
                  <a:pt x="2158" y="14784"/>
                </a:cubicBezTo>
                <a:cubicBezTo>
                  <a:pt x="2108" y="14763"/>
                  <a:pt x="2050" y="14798"/>
                  <a:pt x="2034" y="14808"/>
                </a:cubicBezTo>
                <a:cubicBezTo>
                  <a:pt x="2050" y="14814"/>
                  <a:pt x="2122" y="14823"/>
                  <a:pt x="2133" y="14833"/>
                </a:cubicBezTo>
                <a:cubicBezTo>
                  <a:pt x="2173" y="14868"/>
                  <a:pt x="2081" y="14865"/>
                  <a:pt x="2108" y="14883"/>
                </a:cubicBezTo>
                <a:cubicBezTo>
                  <a:pt x="2141" y="14905"/>
                  <a:pt x="2246" y="14906"/>
                  <a:pt x="2282" y="14908"/>
                </a:cubicBezTo>
                <a:cubicBezTo>
                  <a:pt x="2299" y="14908"/>
                  <a:pt x="2315" y="14908"/>
                  <a:pt x="2332" y="14908"/>
                </a:cubicBezTo>
                <a:cubicBezTo>
                  <a:pt x="2324" y="14916"/>
                  <a:pt x="2315" y="14924"/>
                  <a:pt x="2307" y="14932"/>
                </a:cubicBezTo>
                <a:cubicBezTo>
                  <a:pt x="2242" y="14954"/>
                  <a:pt x="2332" y="14930"/>
                  <a:pt x="2282" y="14908"/>
                </a:cubicBezTo>
                <a:cubicBezTo>
                  <a:pt x="2250" y="14894"/>
                  <a:pt x="2223" y="14908"/>
                  <a:pt x="2208" y="14883"/>
                </a:cubicBezTo>
                <a:cubicBezTo>
                  <a:pt x="2208" y="14875"/>
                  <a:pt x="2208" y="14866"/>
                  <a:pt x="2208" y="14858"/>
                </a:cubicBezTo>
                <a:cubicBezTo>
                  <a:pt x="2238" y="14840"/>
                  <a:pt x="2234" y="14836"/>
                  <a:pt x="2282" y="14833"/>
                </a:cubicBezTo>
                <a:cubicBezTo>
                  <a:pt x="2339" y="14830"/>
                  <a:pt x="2326" y="14834"/>
                  <a:pt x="2332" y="14883"/>
                </a:cubicBezTo>
                <a:cubicBezTo>
                  <a:pt x="2336" y="14918"/>
                  <a:pt x="2323" y="14957"/>
                  <a:pt x="2307" y="14982"/>
                </a:cubicBezTo>
                <a:cubicBezTo>
                  <a:pt x="2284" y="15005"/>
                  <a:pt x="2276" y="15009"/>
                  <a:pt x="2282" y="15032"/>
                </a:cubicBezTo>
                <a:cubicBezTo>
                  <a:pt x="2282" y="14995"/>
                  <a:pt x="2300" y="14932"/>
                  <a:pt x="2257" y="14932"/>
                </a:cubicBezTo>
                <a:cubicBezTo>
                  <a:pt x="2243" y="14932"/>
                  <a:pt x="2204" y="14946"/>
                  <a:pt x="2183" y="14957"/>
                </a:cubicBezTo>
                <a:cubicBezTo>
                  <a:pt x="2176" y="14960"/>
                  <a:pt x="2130" y="14971"/>
                  <a:pt x="2108" y="14982"/>
                </a:cubicBezTo>
                <a:cubicBezTo>
                  <a:pt x="2057" y="15008"/>
                  <a:pt x="2096" y="14959"/>
                  <a:pt x="2034" y="15007"/>
                </a:cubicBezTo>
                <a:cubicBezTo>
                  <a:pt x="2009" y="15026"/>
                  <a:pt x="2005" y="15035"/>
                  <a:pt x="1984" y="15056"/>
                </a:cubicBezTo>
                <a:cubicBezTo>
                  <a:pt x="1917" y="15123"/>
                  <a:pt x="1988" y="15022"/>
                  <a:pt x="1960" y="15007"/>
                </a:cubicBezTo>
                <a:cubicBezTo>
                  <a:pt x="1930" y="14991"/>
                  <a:pt x="1883" y="15023"/>
                  <a:pt x="1860" y="15032"/>
                </a:cubicBezTo>
                <a:cubicBezTo>
                  <a:pt x="1868" y="14978"/>
                  <a:pt x="1863" y="14985"/>
                  <a:pt x="1885" y="14957"/>
                </a:cubicBezTo>
                <a:cubicBezTo>
                  <a:pt x="1907" y="14935"/>
                  <a:pt x="1916" y="14930"/>
                  <a:pt x="1910" y="14908"/>
                </a:cubicBezTo>
                <a:cubicBezTo>
                  <a:pt x="1863" y="14915"/>
                  <a:pt x="1857" y="14921"/>
                  <a:pt x="1836" y="14932"/>
                </a:cubicBezTo>
                <a:cubicBezTo>
                  <a:pt x="1783" y="14960"/>
                  <a:pt x="1769" y="14979"/>
                  <a:pt x="1712" y="14982"/>
                </a:cubicBezTo>
                <a:cubicBezTo>
                  <a:pt x="1668" y="14985"/>
                  <a:pt x="1662" y="14987"/>
                  <a:pt x="1637" y="15007"/>
                </a:cubicBezTo>
                <a:cubicBezTo>
                  <a:pt x="1613" y="15026"/>
                  <a:pt x="1608" y="15036"/>
                  <a:pt x="1588" y="15056"/>
                </a:cubicBezTo>
                <a:cubicBezTo>
                  <a:pt x="1564" y="15080"/>
                  <a:pt x="1570" y="15097"/>
                  <a:pt x="1538" y="15106"/>
                </a:cubicBezTo>
                <a:cubicBezTo>
                  <a:pt x="1461" y="15128"/>
                  <a:pt x="1388" y="15091"/>
                  <a:pt x="1339" y="15131"/>
                </a:cubicBezTo>
                <a:cubicBezTo>
                  <a:pt x="1312" y="15153"/>
                  <a:pt x="1302" y="15138"/>
                  <a:pt x="1265" y="15156"/>
                </a:cubicBezTo>
                <a:cubicBezTo>
                  <a:pt x="1240" y="15168"/>
                  <a:pt x="1254" y="15202"/>
                  <a:pt x="1240" y="15230"/>
                </a:cubicBezTo>
                <a:cubicBezTo>
                  <a:pt x="1231" y="15248"/>
                  <a:pt x="1197" y="15253"/>
                  <a:pt x="1166" y="15255"/>
                </a:cubicBezTo>
                <a:cubicBezTo>
                  <a:pt x="1117" y="15258"/>
                  <a:pt x="1083" y="15239"/>
                  <a:pt x="1067" y="15280"/>
                </a:cubicBezTo>
                <a:cubicBezTo>
                  <a:pt x="1067" y="15304"/>
                  <a:pt x="1067" y="15313"/>
                  <a:pt x="1067" y="15329"/>
                </a:cubicBezTo>
                <a:cubicBezTo>
                  <a:pt x="1100" y="15310"/>
                  <a:pt x="1130" y="15278"/>
                  <a:pt x="1166" y="15255"/>
                </a:cubicBezTo>
                <a:cubicBezTo>
                  <a:pt x="1198" y="15234"/>
                  <a:pt x="1221" y="15224"/>
                  <a:pt x="1240" y="15205"/>
                </a:cubicBezTo>
                <a:cubicBezTo>
                  <a:pt x="1256" y="15189"/>
                  <a:pt x="1286" y="15161"/>
                  <a:pt x="1315" y="15131"/>
                </a:cubicBezTo>
                <a:cubicBezTo>
                  <a:pt x="1355" y="15091"/>
                  <a:pt x="1368" y="15122"/>
                  <a:pt x="1414" y="15106"/>
                </a:cubicBezTo>
                <a:cubicBezTo>
                  <a:pt x="1467" y="15088"/>
                  <a:pt x="1459" y="15071"/>
                  <a:pt x="1463" y="15131"/>
                </a:cubicBezTo>
                <a:cubicBezTo>
                  <a:pt x="1466" y="15185"/>
                  <a:pt x="1476" y="15166"/>
                  <a:pt x="1488" y="15205"/>
                </a:cubicBezTo>
                <a:cubicBezTo>
                  <a:pt x="1488" y="15213"/>
                  <a:pt x="1488" y="15222"/>
                  <a:pt x="1488" y="15230"/>
                </a:cubicBezTo>
                <a:cubicBezTo>
                  <a:pt x="1502" y="15206"/>
                  <a:pt x="1510" y="15208"/>
                  <a:pt x="1513" y="15156"/>
                </a:cubicBezTo>
                <a:cubicBezTo>
                  <a:pt x="1515" y="15123"/>
                  <a:pt x="1513" y="15139"/>
                  <a:pt x="1513" y="15106"/>
                </a:cubicBezTo>
                <a:cubicBezTo>
                  <a:pt x="1513" y="15073"/>
                  <a:pt x="1490" y="15080"/>
                  <a:pt x="1513" y="15056"/>
                </a:cubicBezTo>
                <a:cubicBezTo>
                  <a:pt x="1530" y="15037"/>
                  <a:pt x="1583" y="15034"/>
                  <a:pt x="1612" y="15032"/>
                </a:cubicBezTo>
                <a:cubicBezTo>
                  <a:pt x="1666" y="15029"/>
                  <a:pt x="1771" y="15016"/>
                  <a:pt x="1786" y="15056"/>
                </a:cubicBezTo>
                <a:cubicBezTo>
                  <a:pt x="1800" y="15093"/>
                  <a:pt x="1772" y="15112"/>
                  <a:pt x="1761" y="15131"/>
                </a:cubicBezTo>
                <a:cubicBezTo>
                  <a:pt x="1761" y="15156"/>
                  <a:pt x="1761" y="15164"/>
                  <a:pt x="1761" y="15131"/>
                </a:cubicBezTo>
                <a:cubicBezTo>
                  <a:pt x="1822" y="15122"/>
                  <a:pt x="1802" y="15106"/>
                  <a:pt x="1836" y="15081"/>
                </a:cubicBezTo>
                <a:cubicBezTo>
                  <a:pt x="1865" y="15060"/>
                  <a:pt x="1879" y="15029"/>
                  <a:pt x="1910" y="15007"/>
                </a:cubicBezTo>
                <a:cubicBezTo>
                  <a:pt x="1946" y="14981"/>
                  <a:pt x="1998" y="14964"/>
                  <a:pt x="2034" y="14932"/>
                </a:cubicBezTo>
                <a:cubicBezTo>
                  <a:pt x="2070" y="14900"/>
                  <a:pt x="2087" y="14910"/>
                  <a:pt x="2133" y="14908"/>
                </a:cubicBezTo>
                <a:cubicBezTo>
                  <a:pt x="2201" y="14904"/>
                  <a:pt x="2246" y="14912"/>
                  <a:pt x="2282" y="14883"/>
                </a:cubicBezTo>
                <a:cubicBezTo>
                  <a:pt x="2306" y="14864"/>
                  <a:pt x="2332" y="14864"/>
                  <a:pt x="2307" y="14858"/>
                </a:cubicBezTo>
                <a:cubicBezTo>
                  <a:pt x="2299" y="14858"/>
                  <a:pt x="2290" y="14858"/>
                  <a:pt x="2282" y="14858"/>
                </a:cubicBezTo>
              </a:path>
              <a:path w="4441" h="2903">
                <a:moveTo>
                  <a:pt x="2406" y="13791"/>
                </a:moveTo>
                <a:cubicBezTo>
                  <a:pt x="2450" y="13791"/>
                  <a:pt x="2468" y="13803"/>
                  <a:pt x="2480" y="13767"/>
                </a:cubicBezTo>
              </a:path>
              <a:path w="4441" h="2903">
                <a:moveTo>
                  <a:pt x="2431" y="13742"/>
                </a:moveTo>
                <a:cubicBezTo>
                  <a:pt x="2444" y="13746"/>
                  <a:pt x="2457" y="13777"/>
                  <a:pt x="2505" y="13767"/>
                </a:cubicBezTo>
                <a:cubicBezTo>
                  <a:pt x="2571" y="13753"/>
                  <a:pt x="2538" y="13734"/>
                  <a:pt x="2530" y="13742"/>
                </a:cubicBezTo>
                <a:cubicBezTo>
                  <a:pt x="2491" y="13780"/>
                  <a:pt x="2442" y="13815"/>
                  <a:pt x="2406" y="13841"/>
                </a:cubicBezTo>
                <a:cubicBezTo>
                  <a:pt x="2426" y="13802"/>
                  <a:pt x="2418" y="13812"/>
                  <a:pt x="2456" y="13791"/>
                </a:cubicBezTo>
                <a:cubicBezTo>
                  <a:pt x="2503" y="13766"/>
                  <a:pt x="2556" y="13741"/>
                  <a:pt x="2580" y="13717"/>
                </a:cubicBezTo>
                <a:cubicBezTo>
                  <a:pt x="2604" y="13694"/>
                  <a:pt x="2532" y="13722"/>
                  <a:pt x="2505" y="13742"/>
                </a:cubicBezTo>
                <a:cubicBezTo>
                  <a:pt x="2479" y="13762"/>
                  <a:pt x="2535" y="13805"/>
                  <a:pt x="2505" y="13791"/>
                </a:cubicBezTo>
                <a:cubicBezTo>
                  <a:pt x="2483" y="13781"/>
                  <a:pt x="2505" y="13792"/>
                  <a:pt x="2505" y="13767"/>
                </a:cubicBezTo>
                <a:cubicBezTo>
                  <a:pt x="2466" y="13728"/>
                  <a:pt x="2458" y="13814"/>
                  <a:pt x="2480" y="13742"/>
                </a:cubicBezTo>
                <a:cubicBezTo>
                  <a:pt x="2486" y="13723"/>
                  <a:pt x="2537" y="13717"/>
                  <a:pt x="2480" y="13692"/>
                </a:cubicBezTo>
                <a:cubicBezTo>
                  <a:pt x="2442" y="13675"/>
                  <a:pt x="2421" y="13726"/>
                  <a:pt x="2381" y="13717"/>
                </a:cubicBezTo>
                <a:cubicBezTo>
                  <a:pt x="2342" y="13708"/>
                  <a:pt x="2369" y="13701"/>
                  <a:pt x="2332" y="13717"/>
                </a:cubicBezTo>
                <a:cubicBezTo>
                  <a:pt x="2299" y="13732"/>
                  <a:pt x="2314" y="13726"/>
                  <a:pt x="2282" y="13742"/>
                </a:cubicBezTo>
                <a:cubicBezTo>
                  <a:pt x="2348" y="13742"/>
                  <a:pt x="2398" y="13731"/>
                  <a:pt x="2431" y="13717"/>
                </a:cubicBezTo>
                <a:cubicBezTo>
                  <a:pt x="2461" y="13704"/>
                  <a:pt x="2512" y="13724"/>
                  <a:pt x="2505" y="13692"/>
                </a:cubicBezTo>
                <a:cubicBezTo>
                  <a:pt x="2496" y="13651"/>
                  <a:pt x="2473" y="13669"/>
                  <a:pt x="2431" y="13667"/>
                </a:cubicBezTo>
                <a:cubicBezTo>
                  <a:pt x="2398" y="13665"/>
                  <a:pt x="2414" y="13667"/>
                  <a:pt x="2381" y="13667"/>
                </a:cubicBezTo>
                <a:cubicBezTo>
                  <a:pt x="2452" y="13667"/>
                  <a:pt x="2517" y="13659"/>
                  <a:pt x="2555" y="13643"/>
                </a:cubicBezTo>
                <a:cubicBezTo>
                  <a:pt x="2577" y="13634"/>
                  <a:pt x="2646" y="13638"/>
                  <a:pt x="2580" y="13618"/>
                </a:cubicBezTo>
                <a:cubicBezTo>
                  <a:pt x="2558" y="13611"/>
                  <a:pt x="2528" y="13621"/>
                  <a:pt x="2505" y="13618"/>
                </a:cubicBezTo>
                <a:cubicBezTo>
                  <a:pt x="2499" y="13624"/>
                  <a:pt x="2401" y="13626"/>
                  <a:pt x="2480" y="13643"/>
                </a:cubicBezTo>
                <a:cubicBezTo>
                  <a:pt x="2538" y="13655"/>
                  <a:pt x="2598" y="13654"/>
                  <a:pt x="2629" y="13667"/>
                </a:cubicBezTo>
                <a:cubicBezTo>
                  <a:pt x="2658" y="13679"/>
                  <a:pt x="2704" y="13657"/>
                  <a:pt x="2679" y="13717"/>
                </a:cubicBezTo>
                <a:cubicBezTo>
                  <a:pt x="2665" y="13751"/>
                  <a:pt x="2638" y="13753"/>
                  <a:pt x="2604" y="13767"/>
                </a:cubicBezTo>
                <a:cubicBezTo>
                  <a:pt x="2582" y="13777"/>
                  <a:pt x="2626" y="13753"/>
                  <a:pt x="2604" y="13742"/>
                </a:cubicBezTo>
                <a:cubicBezTo>
                  <a:pt x="2648" y="13746"/>
                  <a:pt x="2696" y="13763"/>
                  <a:pt x="2729" y="13767"/>
                </a:cubicBezTo>
                <a:cubicBezTo>
                  <a:pt x="2899" y="13788"/>
                  <a:pt x="3115" y="13747"/>
                  <a:pt x="3249" y="13791"/>
                </a:cubicBezTo>
                <a:cubicBezTo>
                  <a:pt x="3187" y="13791"/>
                  <a:pt x="3130" y="13777"/>
                  <a:pt x="3101" y="13767"/>
                </a:cubicBezTo>
                <a:cubicBezTo>
                  <a:pt x="3066" y="13755"/>
                  <a:pt x="3034" y="13758"/>
                  <a:pt x="3001" y="13742"/>
                </a:cubicBezTo>
                <a:cubicBezTo>
                  <a:pt x="2967" y="13725"/>
                  <a:pt x="2956" y="13731"/>
                  <a:pt x="2927" y="13717"/>
                </a:cubicBezTo>
                <a:cubicBezTo>
                  <a:pt x="2893" y="13701"/>
                  <a:pt x="2868" y="13698"/>
                  <a:pt x="2828" y="13692"/>
                </a:cubicBezTo>
                <a:cubicBezTo>
                  <a:pt x="2785" y="13685"/>
                  <a:pt x="2768" y="13673"/>
                  <a:pt x="2753" y="13667"/>
                </a:cubicBezTo>
                <a:cubicBezTo>
                  <a:pt x="2726" y="13656"/>
                  <a:pt x="2719" y="13625"/>
                  <a:pt x="2704" y="13618"/>
                </a:cubicBezTo>
                <a:cubicBezTo>
                  <a:pt x="2679" y="13618"/>
                  <a:pt x="2671" y="13618"/>
                  <a:pt x="2654" y="13618"/>
                </a:cubicBezTo>
                <a:cubicBezTo>
                  <a:pt x="2712" y="13629"/>
                  <a:pt x="2722" y="13612"/>
                  <a:pt x="2753" y="13643"/>
                </a:cubicBezTo>
                <a:cubicBezTo>
                  <a:pt x="2792" y="13681"/>
                  <a:pt x="2729" y="13675"/>
                  <a:pt x="2803" y="13692"/>
                </a:cubicBezTo>
                <a:cubicBezTo>
                  <a:pt x="2851" y="13703"/>
                  <a:pt x="2878" y="13711"/>
                  <a:pt x="2927" y="13717"/>
                </a:cubicBezTo>
                <a:cubicBezTo>
                  <a:pt x="2961" y="13721"/>
                  <a:pt x="3025" y="13742"/>
                  <a:pt x="3026" y="13742"/>
                </a:cubicBezTo>
                <a:cubicBezTo>
                  <a:pt x="3067" y="13749"/>
                  <a:pt x="3084" y="13760"/>
                  <a:pt x="3125" y="13767"/>
                </a:cubicBezTo>
                <a:cubicBezTo>
                  <a:pt x="3195" y="13779"/>
                  <a:pt x="3278" y="13767"/>
                  <a:pt x="3349" y="13767"/>
                </a:cubicBezTo>
                <a:cubicBezTo>
                  <a:pt x="3349" y="13909"/>
                  <a:pt x="3324" y="14089"/>
                  <a:pt x="3373" y="14213"/>
                </a:cubicBezTo>
                <a:cubicBezTo>
                  <a:pt x="3393" y="14264"/>
                  <a:pt x="3420" y="14265"/>
                  <a:pt x="3473" y="14288"/>
                </a:cubicBezTo>
                <a:cubicBezTo>
                  <a:pt x="3622" y="14352"/>
                  <a:pt x="3755" y="14426"/>
                  <a:pt x="3919" y="14461"/>
                </a:cubicBezTo>
                <a:cubicBezTo>
                  <a:pt x="4123" y="14504"/>
                  <a:pt x="4331" y="14560"/>
                  <a:pt x="4539" y="14585"/>
                </a:cubicBezTo>
                <a:cubicBezTo>
                  <a:pt x="4556" y="14585"/>
                  <a:pt x="4572" y="14585"/>
                  <a:pt x="4589" y="14585"/>
                </a:cubicBezTo>
                <a:cubicBezTo>
                  <a:pt x="4535" y="14571"/>
                  <a:pt x="4501" y="14561"/>
                  <a:pt x="4440" y="14560"/>
                </a:cubicBezTo>
                <a:cubicBezTo>
                  <a:pt x="4167" y="14553"/>
                  <a:pt x="3748" y="14483"/>
                  <a:pt x="3497" y="14585"/>
                </a:cubicBezTo>
                <a:cubicBezTo>
                  <a:pt x="3457" y="14605"/>
                  <a:pt x="3431" y="14614"/>
                  <a:pt x="3473" y="14610"/>
                </a:cubicBezTo>
                <a:cubicBezTo>
                  <a:pt x="3624" y="14596"/>
                  <a:pt x="3741" y="14564"/>
                  <a:pt x="3894" y="14536"/>
                </a:cubicBezTo>
                <a:cubicBezTo>
                  <a:pt x="3984" y="14520"/>
                  <a:pt x="4078" y="14503"/>
                  <a:pt x="4167" y="14486"/>
                </a:cubicBezTo>
                <a:cubicBezTo>
                  <a:pt x="4059" y="14453"/>
                  <a:pt x="3947" y="14461"/>
                  <a:pt x="3820" y="14461"/>
                </a:cubicBezTo>
                <a:cubicBezTo>
                  <a:pt x="3570" y="14461"/>
                  <a:pt x="3324" y="14452"/>
                  <a:pt x="3076" y="14486"/>
                </a:cubicBezTo>
                <a:cubicBezTo>
                  <a:pt x="2956" y="14503"/>
                  <a:pt x="2848" y="14528"/>
                  <a:pt x="2729" y="14536"/>
                </a:cubicBezTo>
                <a:cubicBezTo>
                  <a:pt x="3126" y="14536"/>
                  <a:pt x="3522" y="14536"/>
                  <a:pt x="3919" y="14536"/>
                </a:cubicBezTo>
                <a:cubicBezTo>
                  <a:pt x="4053" y="14536"/>
                  <a:pt x="3879" y="14533"/>
                  <a:pt x="3870" y="14536"/>
                </a:cubicBezTo>
                <a:cubicBezTo>
                  <a:pt x="3784" y="14566"/>
                  <a:pt x="3697" y="14611"/>
                  <a:pt x="3597" y="14635"/>
                </a:cubicBezTo>
                <a:cubicBezTo>
                  <a:pt x="3514" y="14655"/>
                  <a:pt x="3397" y="14754"/>
                  <a:pt x="3349" y="14684"/>
                </a:cubicBezTo>
                <a:cubicBezTo>
                  <a:pt x="3313" y="14632"/>
                  <a:pt x="3415" y="14584"/>
                  <a:pt x="3473" y="14560"/>
                </a:cubicBezTo>
                <a:cubicBezTo>
                  <a:pt x="3588" y="14538"/>
                  <a:pt x="3620" y="14530"/>
                  <a:pt x="3696" y="14536"/>
                </a:cubicBezTo>
                <a:cubicBezTo>
                  <a:pt x="3736" y="14516"/>
                  <a:pt x="3743" y="14507"/>
                  <a:pt x="3770" y="14511"/>
                </a:cubicBezTo>
                <a:cubicBezTo>
                  <a:pt x="3448" y="14511"/>
                  <a:pt x="3125" y="14511"/>
                  <a:pt x="2803" y="14511"/>
                </a:cubicBezTo>
                <a:cubicBezTo>
                  <a:pt x="2891" y="14504"/>
                  <a:pt x="2964" y="14484"/>
                  <a:pt x="3051" y="14461"/>
                </a:cubicBezTo>
                <a:cubicBezTo>
                  <a:pt x="3135" y="14439"/>
                  <a:pt x="3170" y="14439"/>
                  <a:pt x="3249" y="14436"/>
                </a:cubicBezTo>
                <a:cubicBezTo>
                  <a:pt x="3400" y="14431"/>
                  <a:pt x="3733" y="14436"/>
                  <a:pt x="3795" y="14436"/>
                </a:cubicBezTo>
                <a:cubicBezTo>
                  <a:pt x="3672" y="14436"/>
                  <a:pt x="3407" y="14446"/>
                  <a:pt x="3373" y="14436"/>
                </a:cubicBezTo>
                <a:cubicBezTo>
                  <a:pt x="3360" y="14432"/>
                  <a:pt x="3313" y="14412"/>
                  <a:pt x="3349" y="14387"/>
                </a:cubicBezTo>
                <a:cubicBezTo>
                  <a:pt x="3401" y="14350"/>
                  <a:pt x="3471" y="14342"/>
                  <a:pt x="3522" y="14312"/>
                </a:cubicBezTo>
                <a:cubicBezTo>
                  <a:pt x="3514" y="14312"/>
                  <a:pt x="3505" y="14312"/>
                  <a:pt x="3497" y="14312"/>
                </a:cubicBezTo>
                <a:cubicBezTo>
                  <a:pt x="3464" y="14312"/>
                  <a:pt x="3431" y="14312"/>
                  <a:pt x="3398" y="14312"/>
                </a:cubicBezTo>
                <a:cubicBezTo>
                  <a:pt x="3344" y="14312"/>
                  <a:pt x="3297" y="14312"/>
                  <a:pt x="3373" y="14312"/>
                </a:cubicBezTo>
                <a:cubicBezTo>
                  <a:pt x="3442" y="14312"/>
                  <a:pt x="3461" y="14296"/>
                  <a:pt x="3398" y="14312"/>
                </a:cubicBezTo>
                <a:cubicBezTo>
                  <a:pt x="3348" y="14325"/>
                  <a:pt x="3321" y="14339"/>
                  <a:pt x="3274" y="14362"/>
                </a:cubicBezTo>
                <a:cubicBezTo>
                  <a:pt x="3295" y="14369"/>
                  <a:pt x="3317" y="14383"/>
                  <a:pt x="3373" y="14387"/>
                </a:cubicBezTo>
                <a:cubicBezTo>
                  <a:pt x="3453" y="14392"/>
                  <a:pt x="3375" y="14368"/>
                  <a:pt x="3423" y="14412"/>
                </a:cubicBezTo>
                <a:cubicBezTo>
                  <a:pt x="3466" y="14451"/>
                  <a:pt x="3480" y="14441"/>
                  <a:pt x="3522" y="14461"/>
                </a:cubicBezTo>
                <a:cubicBezTo>
                  <a:pt x="3613" y="14505"/>
                  <a:pt x="3689" y="14520"/>
                  <a:pt x="3770" y="14560"/>
                </a:cubicBezTo>
              </a:path>
              <a:path w="4441" h="2903">
                <a:moveTo>
                  <a:pt x="2604" y="15032"/>
                </a:moveTo>
                <a:cubicBezTo>
                  <a:pt x="2604" y="14991"/>
                  <a:pt x="2604" y="14949"/>
                  <a:pt x="2604" y="14908"/>
                </a:cubicBezTo>
                <a:cubicBezTo>
                  <a:pt x="2546" y="14908"/>
                  <a:pt x="2489" y="14908"/>
                  <a:pt x="2431" y="14908"/>
                </a:cubicBezTo>
                <a:cubicBezTo>
                  <a:pt x="2431" y="14952"/>
                  <a:pt x="2454" y="14999"/>
                  <a:pt x="2456" y="15007"/>
                </a:cubicBezTo>
                <a:cubicBezTo>
                  <a:pt x="2471" y="15083"/>
                  <a:pt x="2461" y="15218"/>
                  <a:pt x="2431" y="15255"/>
                </a:cubicBezTo>
                <a:cubicBezTo>
                  <a:pt x="2406" y="15286"/>
                  <a:pt x="2410" y="15275"/>
                  <a:pt x="2356" y="15280"/>
                </a:cubicBezTo>
                <a:cubicBezTo>
                  <a:pt x="2348" y="15280"/>
                  <a:pt x="2340" y="15280"/>
                  <a:pt x="2332" y="15280"/>
                </a:cubicBezTo>
                <a:cubicBezTo>
                  <a:pt x="2352" y="15244"/>
                  <a:pt x="2360" y="15226"/>
                  <a:pt x="2381" y="15205"/>
                </a:cubicBezTo>
                <a:cubicBezTo>
                  <a:pt x="2413" y="15172"/>
                  <a:pt x="2434" y="15136"/>
                  <a:pt x="2456" y="15106"/>
                </a:cubicBezTo>
                <a:cubicBezTo>
                  <a:pt x="2476" y="15079"/>
                  <a:pt x="2529" y="15033"/>
                  <a:pt x="2505" y="15056"/>
                </a:cubicBezTo>
                <a:cubicBezTo>
                  <a:pt x="2484" y="15077"/>
                  <a:pt x="2475" y="15091"/>
                  <a:pt x="2431" y="15106"/>
                </a:cubicBezTo>
                <a:cubicBezTo>
                  <a:pt x="2423" y="15106"/>
                  <a:pt x="2414" y="15106"/>
                  <a:pt x="2406" y="15106"/>
                </a:cubicBezTo>
                <a:cubicBezTo>
                  <a:pt x="2413" y="15054"/>
                  <a:pt x="2420" y="15070"/>
                  <a:pt x="2431" y="15032"/>
                </a:cubicBezTo>
                <a:cubicBezTo>
                  <a:pt x="2431" y="15024"/>
                  <a:pt x="2431" y="15015"/>
                  <a:pt x="2431" y="15007"/>
                </a:cubicBezTo>
                <a:cubicBezTo>
                  <a:pt x="2499" y="15007"/>
                  <a:pt x="2545" y="15011"/>
                  <a:pt x="2580" y="15032"/>
                </a:cubicBezTo>
                <a:cubicBezTo>
                  <a:pt x="2570" y="15042"/>
                  <a:pt x="2536" y="15097"/>
                  <a:pt x="2505" y="15106"/>
                </a:cubicBezTo>
                <a:cubicBezTo>
                  <a:pt x="2462" y="15118"/>
                  <a:pt x="2459" y="15109"/>
                  <a:pt x="2431" y="15131"/>
                </a:cubicBezTo>
                <a:cubicBezTo>
                  <a:pt x="2429" y="15133"/>
                  <a:pt x="2362" y="15165"/>
                  <a:pt x="2356" y="15180"/>
                </a:cubicBezTo>
                <a:cubicBezTo>
                  <a:pt x="2337" y="15229"/>
                  <a:pt x="2357" y="15249"/>
                  <a:pt x="2332" y="15280"/>
                </a:cubicBezTo>
                <a:cubicBezTo>
                  <a:pt x="2303" y="15316"/>
                  <a:pt x="2303" y="15281"/>
                  <a:pt x="2257" y="15304"/>
                </a:cubicBezTo>
                <a:cubicBezTo>
                  <a:pt x="2236" y="15314"/>
                  <a:pt x="2233" y="15326"/>
                  <a:pt x="2183" y="15329"/>
                </a:cubicBezTo>
                <a:cubicBezTo>
                  <a:pt x="2113" y="15333"/>
                  <a:pt x="2019" y="15347"/>
                  <a:pt x="1984" y="15354"/>
                </a:cubicBezTo>
                <a:cubicBezTo>
                  <a:pt x="1950" y="15361"/>
                  <a:pt x="1911" y="15374"/>
                  <a:pt x="1885" y="15379"/>
                </a:cubicBezTo>
                <a:cubicBezTo>
                  <a:pt x="1825" y="15391"/>
                  <a:pt x="1749" y="15379"/>
                  <a:pt x="1687" y="15379"/>
                </a:cubicBezTo>
                <a:cubicBezTo>
                  <a:pt x="1669" y="15433"/>
                  <a:pt x="1702" y="15421"/>
                  <a:pt x="1637" y="15429"/>
                </a:cubicBezTo>
                <a:cubicBezTo>
                  <a:pt x="1595" y="15434"/>
                  <a:pt x="1523" y="15451"/>
                  <a:pt x="1513" y="15453"/>
                </a:cubicBezTo>
                <a:cubicBezTo>
                  <a:pt x="1460" y="15463"/>
                  <a:pt x="1467" y="15455"/>
                  <a:pt x="1439" y="15478"/>
                </a:cubicBezTo>
                <a:cubicBezTo>
                  <a:pt x="1414" y="15498"/>
                  <a:pt x="1407" y="15500"/>
                  <a:pt x="1364" y="15503"/>
                </a:cubicBezTo>
                <a:cubicBezTo>
                  <a:pt x="1340" y="15504"/>
                  <a:pt x="1314" y="15503"/>
                  <a:pt x="1290" y="15503"/>
                </a:cubicBezTo>
              </a:path>
              <a:path w="4441" h="2903">
                <a:moveTo>
                  <a:pt x="2381" y="15230"/>
                </a:moveTo>
                <a:cubicBezTo>
                  <a:pt x="2381" y="15238"/>
                  <a:pt x="2381" y="15247"/>
                  <a:pt x="2381" y="15255"/>
                </a:cubicBezTo>
                <a:cubicBezTo>
                  <a:pt x="2340" y="15255"/>
                  <a:pt x="2298" y="15255"/>
                  <a:pt x="2257" y="15255"/>
                </a:cubicBezTo>
                <a:cubicBezTo>
                  <a:pt x="2244" y="15293"/>
                  <a:pt x="2228" y="15280"/>
                  <a:pt x="2183" y="15280"/>
                </a:cubicBezTo>
                <a:cubicBezTo>
                  <a:pt x="2142" y="15280"/>
                  <a:pt x="2171" y="15292"/>
                  <a:pt x="2133" y="1530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2960" y="5875200"/>
            <a:ext cx="196920" cy="71640"/>
          </a:xfrm>
          <a:custGeom>
            <a:avLst/>
            <a:gdLst/>
            <a:ahLst/>
            <a:rect l="l" t="t" r="r" b="b"/>
            <a:pathLst>
              <a:path w="546" h="200">
                <a:moveTo>
                  <a:pt x="8384" y="16495"/>
                </a:moveTo>
                <a:cubicBezTo>
                  <a:pt x="8384" y="16503"/>
                  <a:pt x="8384" y="16512"/>
                  <a:pt x="8384" y="16520"/>
                </a:cubicBezTo>
                <a:cubicBezTo>
                  <a:pt x="8351" y="16520"/>
                  <a:pt x="8318" y="16520"/>
                  <a:pt x="8285" y="16520"/>
                </a:cubicBezTo>
                <a:cubicBezTo>
                  <a:pt x="8376" y="16520"/>
                  <a:pt x="8467" y="16520"/>
                  <a:pt x="8558" y="16520"/>
                </a:cubicBezTo>
                <a:cubicBezTo>
                  <a:pt x="8570" y="16482"/>
                  <a:pt x="8587" y="16495"/>
                  <a:pt x="8632" y="16495"/>
                </a:cubicBezTo>
                <a:cubicBezTo>
                  <a:pt x="8640" y="16495"/>
                  <a:pt x="8649" y="16495"/>
                  <a:pt x="8657" y="16495"/>
                </a:cubicBezTo>
                <a:cubicBezTo>
                  <a:pt x="8670" y="16457"/>
                  <a:pt x="8682" y="16475"/>
                  <a:pt x="8682" y="16421"/>
                </a:cubicBezTo>
                <a:cubicBezTo>
                  <a:pt x="8721" y="16408"/>
                  <a:pt x="8692" y="16409"/>
                  <a:pt x="8731" y="16396"/>
                </a:cubicBezTo>
                <a:cubicBezTo>
                  <a:pt x="8744" y="16356"/>
                  <a:pt x="8743" y="16386"/>
                  <a:pt x="8756" y="16346"/>
                </a:cubicBezTo>
                <a:cubicBezTo>
                  <a:pt x="8801" y="16346"/>
                  <a:pt x="8818" y="16359"/>
                  <a:pt x="8830" y="1632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89080" y="5116680"/>
            <a:ext cx="2189160" cy="723600"/>
          </a:xfrm>
          <a:custGeom>
            <a:avLst/>
            <a:gdLst/>
            <a:ahLst/>
            <a:rect l="l" t="t" r="r" b="b"/>
            <a:pathLst>
              <a:path w="6078" h="2010">
                <a:moveTo>
                  <a:pt x="5804" y="15801"/>
                </a:moveTo>
                <a:cubicBezTo>
                  <a:pt x="5884" y="15801"/>
                  <a:pt x="6010" y="15822"/>
                  <a:pt x="6052" y="15825"/>
                </a:cubicBezTo>
                <a:cubicBezTo>
                  <a:pt x="6106" y="15829"/>
                  <a:pt x="6160" y="15845"/>
                  <a:pt x="6201" y="15850"/>
                </a:cubicBezTo>
                <a:cubicBezTo>
                  <a:pt x="6234" y="15854"/>
                  <a:pt x="6218" y="15843"/>
                  <a:pt x="6251" y="15850"/>
                </a:cubicBezTo>
                <a:cubicBezTo>
                  <a:pt x="6126" y="15850"/>
                  <a:pt x="5966" y="15860"/>
                  <a:pt x="5879" y="15875"/>
                </a:cubicBezTo>
                <a:cubicBezTo>
                  <a:pt x="5919" y="15880"/>
                  <a:pt x="5933" y="15899"/>
                  <a:pt x="5978" y="15900"/>
                </a:cubicBezTo>
                <a:cubicBezTo>
                  <a:pt x="6666" y="15921"/>
                  <a:pt x="7391" y="15920"/>
                  <a:pt x="8062" y="15875"/>
                </a:cubicBezTo>
                <a:cubicBezTo>
                  <a:pt x="8119" y="15871"/>
                  <a:pt x="8178" y="15878"/>
                  <a:pt x="8235" y="15875"/>
                </a:cubicBezTo>
                <a:cubicBezTo>
                  <a:pt x="8198" y="15886"/>
                  <a:pt x="8177" y="15893"/>
                  <a:pt x="8136" y="15900"/>
                </a:cubicBezTo>
                <a:cubicBezTo>
                  <a:pt x="8098" y="15907"/>
                  <a:pt x="8060" y="15921"/>
                  <a:pt x="8012" y="15925"/>
                </a:cubicBezTo>
                <a:cubicBezTo>
                  <a:pt x="7933" y="15932"/>
                  <a:pt x="7877" y="15919"/>
                  <a:pt x="7813" y="15900"/>
                </a:cubicBezTo>
                <a:cubicBezTo>
                  <a:pt x="7779" y="15890"/>
                  <a:pt x="7746" y="15860"/>
                  <a:pt x="7689" y="15850"/>
                </a:cubicBezTo>
                <a:cubicBezTo>
                  <a:pt x="7639" y="15842"/>
                  <a:pt x="7555" y="15828"/>
                  <a:pt x="7516" y="15825"/>
                </a:cubicBezTo>
                <a:cubicBezTo>
                  <a:pt x="7318" y="15808"/>
                  <a:pt x="7053" y="15822"/>
                  <a:pt x="6896" y="15850"/>
                </a:cubicBezTo>
                <a:cubicBezTo>
                  <a:pt x="6899" y="15850"/>
                  <a:pt x="6959" y="15872"/>
                  <a:pt x="6995" y="15875"/>
                </a:cubicBezTo>
                <a:cubicBezTo>
                  <a:pt x="7077" y="15882"/>
                  <a:pt x="7110" y="15875"/>
                  <a:pt x="7193" y="15875"/>
                </a:cubicBezTo>
                <a:cubicBezTo>
                  <a:pt x="7119" y="15875"/>
                  <a:pt x="7044" y="15875"/>
                  <a:pt x="6970" y="15875"/>
                </a:cubicBezTo>
                <a:cubicBezTo>
                  <a:pt x="7209" y="15875"/>
                  <a:pt x="7585" y="15875"/>
                  <a:pt x="7739" y="15875"/>
                </a:cubicBezTo>
                <a:cubicBezTo>
                  <a:pt x="7668" y="15872"/>
                  <a:pt x="7600" y="15854"/>
                  <a:pt x="7541" y="15850"/>
                </a:cubicBezTo>
                <a:cubicBezTo>
                  <a:pt x="7370" y="15838"/>
                  <a:pt x="7059" y="15850"/>
                  <a:pt x="6970" y="15850"/>
                </a:cubicBezTo>
                <a:cubicBezTo>
                  <a:pt x="7339" y="15850"/>
                  <a:pt x="7784" y="15846"/>
                  <a:pt x="8111" y="15825"/>
                </a:cubicBezTo>
                <a:cubicBezTo>
                  <a:pt x="8246" y="15816"/>
                  <a:pt x="8415" y="15811"/>
                  <a:pt x="8533" y="15850"/>
                </a:cubicBezTo>
                <a:cubicBezTo>
                  <a:pt x="8564" y="15860"/>
                  <a:pt x="8586" y="15907"/>
                  <a:pt x="8607" y="15900"/>
                </a:cubicBezTo>
                <a:cubicBezTo>
                  <a:pt x="8644" y="15887"/>
                  <a:pt x="8632" y="15870"/>
                  <a:pt x="8632" y="15825"/>
                </a:cubicBezTo>
                <a:cubicBezTo>
                  <a:pt x="8632" y="15797"/>
                  <a:pt x="8590" y="15803"/>
                  <a:pt x="8582" y="15776"/>
                </a:cubicBezTo>
                <a:cubicBezTo>
                  <a:pt x="8591" y="15807"/>
                  <a:pt x="8565" y="15798"/>
                  <a:pt x="8582" y="15825"/>
                </a:cubicBezTo>
                <a:cubicBezTo>
                  <a:pt x="8602" y="15857"/>
                  <a:pt x="8603" y="15852"/>
                  <a:pt x="8632" y="15875"/>
                </a:cubicBezTo>
                <a:cubicBezTo>
                  <a:pt x="8652" y="15891"/>
                  <a:pt x="8656" y="15908"/>
                  <a:pt x="8682" y="15925"/>
                </a:cubicBezTo>
                <a:cubicBezTo>
                  <a:pt x="8697" y="15935"/>
                  <a:pt x="8724" y="15945"/>
                  <a:pt x="8731" y="15949"/>
                </a:cubicBezTo>
                <a:cubicBezTo>
                  <a:pt x="8698" y="15949"/>
                  <a:pt x="8715" y="15949"/>
                  <a:pt x="8682" y="15949"/>
                </a:cubicBezTo>
                <a:cubicBezTo>
                  <a:pt x="8553" y="15949"/>
                  <a:pt x="8424" y="15951"/>
                  <a:pt x="8310" y="15974"/>
                </a:cubicBezTo>
                <a:cubicBezTo>
                  <a:pt x="8277" y="15981"/>
                  <a:pt x="8211" y="15999"/>
                  <a:pt x="8210" y="15999"/>
                </a:cubicBezTo>
                <a:cubicBezTo>
                  <a:pt x="8164" y="16009"/>
                  <a:pt x="8128" y="16014"/>
                  <a:pt x="8086" y="16024"/>
                </a:cubicBezTo>
                <a:cubicBezTo>
                  <a:pt x="8042" y="16034"/>
                  <a:pt x="8045" y="16045"/>
                  <a:pt x="8012" y="16049"/>
                </a:cubicBezTo>
                <a:cubicBezTo>
                  <a:pt x="7971" y="16054"/>
                  <a:pt x="7891" y="16027"/>
                  <a:pt x="7888" y="16073"/>
                </a:cubicBezTo>
                <a:cubicBezTo>
                  <a:pt x="7882" y="16148"/>
                  <a:pt x="7903" y="16094"/>
                  <a:pt x="7938" y="16123"/>
                </a:cubicBezTo>
                <a:cubicBezTo>
                  <a:pt x="7962" y="16123"/>
                  <a:pt x="7971" y="16123"/>
                  <a:pt x="7987" y="16123"/>
                </a:cubicBezTo>
                <a:cubicBezTo>
                  <a:pt x="7951" y="16128"/>
                  <a:pt x="7910" y="16144"/>
                  <a:pt x="7863" y="16148"/>
                </a:cubicBezTo>
                <a:cubicBezTo>
                  <a:pt x="7766" y="16155"/>
                  <a:pt x="7625" y="16165"/>
                  <a:pt x="7565" y="16173"/>
                </a:cubicBezTo>
                <a:cubicBezTo>
                  <a:pt x="7557" y="16173"/>
                  <a:pt x="7549" y="16173"/>
                  <a:pt x="7541" y="16173"/>
                </a:cubicBezTo>
                <a:cubicBezTo>
                  <a:pt x="7584" y="16162"/>
                  <a:pt x="7623" y="16164"/>
                  <a:pt x="7665" y="16148"/>
                </a:cubicBezTo>
                <a:cubicBezTo>
                  <a:pt x="7701" y="16135"/>
                  <a:pt x="7725" y="16132"/>
                  <a:pt x="7764" y="16123"/>
                </a:cubicBezTo>
                <a:cubicBezTo>
                  <a:pt x="7766" y="16123"/>
                  <a:pt x="7804" y="16101"/>
                  <a:pt x="7838" y="16098"/>
                </a:cubicBezTo>
                <a:cubicBezTo>
                  <a:pt x="7903" y="16092"/>
                  <a:pt x="7971" y="16098"/>
                  <a:pt x="8037" y="16098"/>
                </a:cubicBezTo>
                <a:cubicBezTo>
                  <a:pt x="8005" y="16108"/>
                  <a:pt x="8018" y="16086"/>
                  <a:pt x="7987" y="16098"/>
                </a:cubicBezTo>
                <a:cubicBezTo>
                  <a:pt x="7953" y="16111"/>
                  <a:pt x="7948" y="16139"/>
                  <a:pt x="7913" y="16148"/>
                </a:cubicBezTo>
                <a:cubicBezTo>
                  <a:pt x="7888" y="16148"/>
                  <a:pt x="7880" y="16148"/>
                  <a:pt x="7863" y="16148"/>
                </a:cubicBezTo>
                <a:cubicBezTo>
                  <a:pt x="7977" y="16148"/>
                  <a:pt x="8138" y="16134"/>
                  <a:pt x="8210" y="16173"/>
                </a:cubicBezTo>
                <a:cubicBezTo>
                  <a:pt x="8238" y="16188"/>
                  <a:pt x="8192" y="16195"/>
                  <a:pt x="8210" y="16222"/>
                </a:cubicBezTo>
                <a:cubicBezTo>
                  <a:pt x="8248" y="16210"/>
                  <a:pt x="8268" y="16206"/>
                  <a:pt x="8285" y="16197"/>
                </a:cubicBezTo>
                <a:cubicBezTo>
                  <a:pt x="8307" y="16186"/>
                  <a:pt x="8325" y="16156"/>
                  <a:pt x="8359" y="16148"/>
                </a:cubicBezTo>
                <a:cubicBezTo>
                  <a:pt x="8474" y="16120"/>
                  <a:pt x="8626" y="16176"/>
                  <a:pt x="8706" y="16123"/>
                </a:cubicBezTo>
                <a:cubicBezTo>
                  <a:pt x="8734" y="16105"/>
                  <a:pt x="8699" y="16057"/>
                  <a:pt x="8731" y="16049"/>
                </a:cubicBezTo>
                <a:cubicBezTo>
                  <a:pt x="8763" y="16041"/>
                  <a:pt x="8774" y="16079"/>
                  <a:pt x="8806" y="16073"/>
                </a:cubicBezTo>
                <a:cubicBezTo>
                  <a:pt x="8814" y="16073"/>
                  <a:pt x="8822" y="16073"/>
                  <a:pt x="8830" y="16073"/>
                </a:cubicBezTo>
                <a:cubicBezTo>
                  <a:pt x="8811" y="16040"/>
                  <a:pt x="8793" y="16025"/>
                  <a:pt x="8781" y="15999"/>
                </a:cubicBezTo>
                <a:cubicBezTo>
                  <a:pt x="8759" y="15951"/>
                  <a:pt x="8728" y="15960"/>
                  <a:pt x="8731" y="15900"/>
                </a:cubicBezTo>
                <a:cubicBezTo>
                  <a:pt x="8732" y="15880"/>
                  <a:pt x="8744" y="15854"/>
                  <a:pt x="8756" y="15825"/>
                </a:cubicBezTo>
                <a:cubicBezTo>
                  <a:pt x="8760" y="15815"/>
                  <a:pt x="8828" y="15728"/>
                  <a:pt x="8830" y="15726"/>
                </a:cubicBezTo>
                <a:cubicBezTo>
                  <a:pt x="8845" y="15713"/>
                  <a:pt x="8910" y="15714"/>
                  <a:pt x="8930" y="15701"/>
                </a:cubicBezTo>
                <a:cubicBezTo>
                  <a:pt x="8946" y="15690"/>
                  <a:pt x="8958" y="15666"/>
                  <a:pt x="8979" y="15652"/>
                </a:cubicBezTo>
                <a:cubicBezTo>
                  <a:pt x="9010" y="15631"/>
                  <a:pt x="9010" y="15641"/>
                  <a:pt x="9054" y="15627"/>
                </a:cubicBezTo>
                <a:cubicBezTo>
                  <a:pt x="9063" y="15624"/>
                  <a:pt x="9090" y="15607"/>
                  <a:pt x="9128" y="15602"/>
                </a:cubicBezTo>
                <a:cubicBezTo>
                  <a:pt x="9191" y="15594"/>
                  <a:pt x="9245" y="15590"/>
                  <a:pt x="9277" y="15577"/>
                </a:cubicBezTo>
                <a:cubicBezTo>
                  <a:pt x="9311" y="15563"/>
                  <a:pt x="9333" y="15578"/>
                  <a:pt x="9351" y="15553"/>
                </a:cubicBezTo>
                <a:cubicBezTo>
                  <a:pt x="9371" y="15526"/>
                  <a:pt x="9362" y="15508"/>
                  <a:pt x="9376" y="15478"/>
                </a:cubicBezTo>
                <a:cubicBezTo>
                  <a:pt x="9393" y="15441"/>
                  <a:pt x="9377" y="15429"/>
                  <a:pt x="9401" y="15404"/>
                </a:cubicBezTo>
                <a:cubicBezTo>
                  <a:pt x="9424" y="15380"/>
                  <a:pt x="9419" y="15373"/>
                  <a:pt x="9451" y="15354"/>
                </a:cubicBezTo>
                <a:cubicBezTo>
                  <a:pt x="9483" y="15334"/>
                  <a:pt x="9479" y="15342"/>
                  <a:pt x="9525" y="15329"/>
                </a:cubicBezTo>
                <a:cubicBezTo>
                  <a:pt x="9562" y="15318"/>
                  <a:pt x="9590" y="15319"/>
                  <a:pt x="9624" y="15304"/>
                </a:cubicBezTo>
                <a:cubicBezTo>
                  <a:pt x="9656" y="15289"/>
                  <a:pt x="9658" y="15296"/>
                  <a:pt x="9699" y="15280"/>
                </a:cubicBezTo>
                <a:cubicBezTo>
                  <a:pt x="9708" y="15277"/>
                  <a:pt x="9739" y="15263"/>
                  <a:pt x="9773" y="15255"/>
                </a:cubicBezTo>
                <a:cubicBezTo>
                  <a:pt x="9808" y="15246"/>
                  <a:pt x="9855" y="15240"/>
                  <a:pt x="9897" y="15230"/>
                </a:cubicBezTo>
                <a:cubicBezTo>
                  <a:pt x="9900" y="15229"/>
                  <a:pt x="9936" y="15208"/>
                  <a:pt x="9971" y="15205"/>
                </a:cubicBezTo>
                <a:cubicBezTo>
                  <a:pt x="10312" y="15176"/>
                  <a:pt x="10737" y="15231"/>
                  <a:pt x="11038" y="15180"/>
                </a:cubicBezTo>
                <a:cubicBezTo>
                  <a:pt x="10975" y="15157"/>
                  <a:pt x="10910" y="15094"/>
                  <a:pt x="10840" y="15081"/>
                </a:cubicBezTo>
                <a:cubicBezTo>
                  <a:pt x="10664" y="15047"/>
                  <a:pt x="10473" y="15038"/>
                  <a:pt x="10294" y="15007"/>
                </a:cubicBezTo>
                <a:cubicBezTo>
                  <a:pt x="10189" y="14989"/>
                  <a:pt x="10087" y="14959"/>
                  <a:pt x="9996" y="14932"/>
                </a:cubicBezTo>
                <a:cubicBezTo>
                  <a:pt x="10426" y="14932"/>
                  <a:pt x="10856" y="14932"/>
                  <a:pt x="11286" y="14932"/>
                </a:cubicBezTo>
                <a:cubicBezTo>
                  <a:pt x="11243" y="14909"/>
                  <a:pt x="11212" y="14879"/>
                  <a:pt x="11162" y="14858"/>
                </a:cubicBezTo>
                <a:cubicBezTo>
                  <a:pt x="11029" y="14802"/>
                  <a:pt x="10857" y="14793"/>
                  <a:pt x="10740" y="14734"/>
                </a:cubicBezTo>
                <a:cubicBezTo>
                  <a:pt x="10723" y="14725"/>
                  <a:pt x="10685" y="14701"/>
                  <a:pt x="10666" y="14684"/>
                </a:cubicBezTo>
                <a:cubicBezTo>
                  <a:pt x="10653" y="14672"/>
                  <a:pt x="10627" y="14617"/>
                  <a:pt x="10616" y="14610"/>
                </a:cubicBezTo>
                <a:cubicBezTo>
                  <a:pt x="10582" y="14589"/>
                  <a:pt x="10560" y="14574"/>
                  <a:pt x="10542" y="14560"/>
                </a:cubicBezTo>
                <a:cubicBezTo>
                  <a:pt x="10517" y="14540"/>
                  <a:pt x="10513" y="14533"/>
                  <a:pt x="10492" y="14511"/>
                </a:cubicBezTo>
                <a:cubicBezTo>
                  <a:pt x="10477" y="14495"/>
                  <a:pt x="10430" y="14473"/>
                  <a:pt x="10418" y="14461"/>
                </a:cubicBezTo>
                <a:cubicBezTo>
                  <a:pt x="10412" y="14455"/>
                  <a:pt x="10356" y="14394"/>
                  <a:pt x="10344" y="14387"/>
                </a:cubicBezTo>
                <a:cubicBezTo>
                  <a:pt x="10305" y="14364"/>
                  <a:pt x="10260" y="14355"/>
                  <a:pt x="10220" y="14337"/>
                </a:cubicBezTo>
                <a:cubicBezTo>
                  <a:pt x="10166" y="14313"/>
                  <a:pt x="10147" y="14303"/>
                  <a:pt x="10096" y="14288"/>
                </a:cubicBezTo>
                <a:cubicBezTo>
                  <a:pt x="10064" y="14279"/>
                  <a:pt x="10028" y="14275"/>
                  <a:pt x="9996" y="14263"/>
                </a:cubicBezTo>
                <a:cubicBezTo>
                  <a:pt x="9962" y="14250"/>
                  <a:pt x="9931" y="14225"/>
                  <a:pt x="9897" y="14213"/>
                </a:cubicBezTo>
                <a:cubicBezTo>
                  <a:pt x="10025" y="14213"/>
                  <a:pt x="10156" y="14218"/>
                  <a:pt x="10269" y="14238"/>
                </a:cubicBezTo>
                <a:cubicBezTo>
                  <a:pt x="10320" y="14247"/>
                  <a:pt x="10343" y="14258"/>
                  <a:pt x="10393" y="14263"/>
                </a:cubicBezTo>
                <a:cubicBezTo>
                  <a:pt x="10442" y="14267"/>
                  <a:pt x="10505" y="14285"/>
                  <a:pt x="10542" y="14288"/>
                </a:cubicBezTo>
                <a:cubicBezTo>
                  <a:pt x="10625" y="14295"/>
                  <a:pt x="10746" y="14331"/>
                  <a:pt x="10790" y="14337"/>
                </a:cubicBezTo>
                <a:cubicBezTo>
                  <a:pt x="10879" y="14349"/>
                  <a:pt x="10982" y="14342"/>
                  <a:pt x="11038" y="14362"/>
                </a:cubicBezTo>
                <a:cubicBezTo>
                  <a:pt x="11072" y="14374"/>
                  <a:pt x="11104" y="14373"/>
                  <a:pt x="11137" y="14387"/>
                </a:cubicBezTo>
                <a:cubicBezTo>
                  <a:pt x="11142" y="14389"/>
                  <a:pt x="11186" y="14428"/>
                  <a:pt x="11212" y="14436"/>
                </a:cubicBezTo>
                <a:cubicBezTo>
                  <a:pt x="11241" y="14445"/>
                  <a:pt x="11283" y="14448"/>
                  <a:pt x="11311" y="14461"/>
                </a:cubicBezTo>
                <a:cubicBezTo>
                  <a:pt x="11340" y="14474"/>
                  <a:pt x="11345" y="14497"/>
                  <a:pt x="11385" y="14511"/>
                </a:cubicBezTo>
                <a:cubicBezTo>
                  <a:pt x="11417" y="14522"/>
                  <a:pt x="11448" y="14530"/>
                  <a:pt x="11460" y="14536"/>
                </a:cubicBezTo>
                <a:cubicBezTo>
                  <a:pt x="11488" y="14549"/>
                  <a:pt x="11500" y="14543"/>
                  <a:pt x="11534" y="14560"/>
                </a:cubicBezTo>
                <a:cubicBezTo>
                  <a:pt x="11565" y="14575"/>
                  <a:pt x="11596" y="14602"/>
                  <a:pt x="11609" y="14610"/>
                </a:cubicBezTo>
                <a:cubicBezTo>
                  <a:pt x="11639" y="14628"/>
                  <a:pt x="11635" y="14638"/>
                  <a:pt x="11658" y="14660"/>
                </a:cubicBezTo>
                <a:cubicBezTo>
                  <a:pt x="11674" y="14675"/>
                  <a:pt x="11724" y="14696"/>
                  <a:pt x="11733" y="14709"/>
                </a:cubicBezTo>
                <a:cubicBezTo>
                  <a:pt x="11752" y="14736"/>
                  <a:pt x="11734" y="14763"/>
                  <a:pt x="11757" y="14784"/>
                </a:cubicBezTo>
                <a:cubicBezTo>
                  <a:pt x="11795" y="14819"/>
                  <a:pt x="11836" y="14850"/>
                  <a:pt x="11857" y="14883"/>
                </a:cubicBezTo>
                <a:cubicBezTo>
                  <a:pt x="11868" y="14901"/>
                  <a:pt x="11866" y="14925"/>
                  <a:pt x="11881" y="14957"/>
                </a:cubicBezTo>
                <a:cubicBezTo>
                  <a:pt x="11423" y="14957"/>
                  <a:pt x="10930" y="14987"/>
                  <a:pt x="10492" y="14932"/>
                </a:cubicBezTo>
                <a:cubicBezTo>
                  <a:pt x="10541" y="14935"/>
                  <a:pt x="10493" y="14928"/>
                  <a:pt x="10542" y="14932"/>
                </a:cubicBezTo>
                <a:cubicBezTo>
                  <a:pt x="10778" y="14951"/>
                  <a:pt x="11003" y="14992"/>
                  <a:pt x="11237" y="15032"/>
                </a:cubicBezTo>
                <a:cubicBezTo>
                  <a:pt x="11429" y="15065"/>
                  <a:pt x="11619" y="15090"/>
                  <a:pt x="11807" y="15131"/>
                </a:cubicBezTo>
                <a:cubicBezTo>
                  <a:pt x="11518" y="15131"/>
                  <a:pt x="11030" y="15099"/>
                  <a:pt x="10840" y="15131"/>
                </a:cubicBezTo>
                <a:cubicBezTo>
                  <a:pt x="10808" y="15136"/>
                  <a:pt x="10848" y="15153"/>
                  <a:pt x="10815" y="15156"/>
                </a:cubicBezTo>
                <a:cubicBezTo>
                  <a:pt x="10613" y="15176"/>
                  <a:pt x="10361" y="15144"/>
                  <a:pt x="10195" y="15180"/>
                </a:cubicBezTo>
                <a:cubicBezTo>
                  <a:pt x="10175" y="15184"/>
                  <a:pt x="10145" y="15191"/>
                  <a:pt x="10120" y="15205"/>
                </a:cubicBezTo>
                <a:cubicBezTo>
                  <a:pt x="10097" y="15218"/>
                  <a:pt x="10072" y="15213"/>
                  <a:pt x="10046" y="15230"/>
                </a:cubicBezTo>
                <a:cubicBezTo>
                  <a:pt x="10027" y="15242"/>
                  <a:pt x="10002" y="15290"/>
                  <a:pt x="9971" y="15304"/>
                </a:cubicBezTo>
                <a:cubicBezTo>
                  <a:pt x="9940" y="15318"/>
                  <a:pt x="9922" y="15324"/>
                  <a:pt x="9897" y="15329"/>
                </a:cubicBezTo>
                <a:cubicBezTo>
                  <a:pt x="9802" y="15348"/>
                  <a:pt x="9688" y="15328"/>
                  <a:pt x="9624" y="15354"/>
                </a:cubicBezTo>
                <a:cubicBezTo>
                  <a:pt x="9590" y="15368"/>
                  <a:pt x="9568" y="15354"/>
                  <a:pt x="9550" y="15379"/>
                </a:cubicBezTo>
                <a:cubicBezTo>
                  <a:pt x="9543" y="15389"/>
                  <a:pt x="9533" y="15446"/>
                  <a:pt x="9525" y="15453"/>
                </a:cubicBezTo>
                <a:cubicBezTo>
                  <a:pt x="9505" y="15468"/>
                  <a:pt x="9515" y="15433"/>
                  <a:pt x="9500" y="15453"/>
                </a:cubicBezTo>
                <a:cubicBezTo>
                  <a:pt x="9516" y="15443"/>
                  <a:pt x="9541" y="15408"/>
                  <a:pt x="9550" y="15404"/>
                </a:cubicBezTo>
                <a:cubicBezTo>
                  <a:pt x="9588" y="15385"/>
                  <a:pt x="9629" y="15373"/>
                  <a:pt x="9674" y="15354"/>
                </a:cubicBezTo>
                <a:cubicBezTo>
                  <a:pt x="9720" y="15334"/>
                  <a:pt x="9776" y="15295"/>
                  <a:pt x="9823" y="15280"/>
                </a:cubicBezTo>
                <a:cubicBezTo>
                  <a:pt x="9864" y="15267"/>
                  <a:pt x="9905" y="15264"/>
                  <a:pt x="9947" y="15255"/>
                </a:cubicBezTo>
                <a:cubicBezTo>
                  <a:pt x="9986" y="15246"/>
                  <a:pt x="10020" y="15235"/>
                  <a:pt x="10071" y="15230"/>
                </a:cubicBezTo>
                <a:cubicBezTo>
                  <a:pt x="10174" y="15221"/>
                  <a:pt x="10304" y="15211"/>
                  <a:pt x="10393" y="15205"/>
                </a:cubicBezTo>
                <a:cubicBezTo>
                  <a:pt x="10554" y="15194"/>
                  <a:pt x="10834" y="15205"/>
                  <a:pt x="10914" y="15205"/>
                </a:cubicBezTo>
                <a:cubicBezTo>
                  <a:pt x="10608" y="15205"/>
                  <a:pt x="10302" y="15205"/>
                  <a:pt x="9996" y="15205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33760" y="5268960"/>
            <a:ext cx="1974600" cy="625320"/>
          </a:xfrm>
          <a:custGeom>
            <a:avLst/>
            <a:gdLst/>
            <a:ahLst/>
            <a:rect l="l" t="t" r="r" b="b"/>
            <a:pathLst>
              <a:path w="5483" h="1737">
                <a:moveTo>
                  <a:pt x="9996" y="15205"/>
                </a:moveTo>
                <a:cubicBezTo>
                  <a:pt x="10029" y="15205"/>
                  <a:pt x="9963" y="15205"/>
                  <a:pt x="9996" y="15205"/>
                </a:cubicBezTo>
                <a:cubicBezTo>
                  <a:pt x="10354" y="15205"/>
                  <a:pt x="10776" y="15157"/>
                  <a:pt x="11112" y="15230"/>
                </a:cubicBezTo>
                <a:cubicBezTo>
                  <a:pt x="11160" y="15240"/>
                  <a:pt x="11194" y="15246"/>
                  <a:pt x="11237" y="15255"/>
                </a:cubicBezTo>
                <a:cubicBezTo>
                  <a:pt x="11299" y="15268"/>
                  <a:pt x="11351" y="15268"/>
                  <a:pt x="11410" y="15280"/>
                </a:cubicBezTo>
                <a:cubicBezTo>
                  <a:pt x="11442" y="15287"/>
                  <a:pt x="11496" y="15295"/>
                  <a:pt x="11534" y="15304"/>
                </a:cubicBezTo>
                <a:cubicBezTo>
                  <a:pt x="11597" y="15318"/>
                  <a:pt x="11572" y="15323"/>
                  <a:pt x="11633" y="15329"/>
                </a:cubicBezTo>
                <a:cubicBezTo>
                  <a:pt x="11793" y="15344"/>
                  <a:pt x="12009" y="15325"/>
                  <a:pt x="12129" y="15304"/>
                </a:cubicBezTo>
                <a:cubicBezTo>
                  <a:pt x="12093" y="15259"/>
                  <a:pt x="12096" y="15252"/>
                  <a:pt x="12055" y="15205"/>
                </a:cubicBezTo>
                <a:cubicBezTo>
                  <a:pt x="12030" y="15177"/>
                  <a:pt x="12011" y="15153"/>
                  <a:pt x="11981" y="15131"/>
                </a:cubicBezTo>
                <a:cubicBezTo>
                  <a:pt x="11936" y="15097"/>
                  <a:pt x="11880" y="15062"/>
                  <a:pt x="11832" y="15032"/>
                </a:cubicBezTo>
                <a:cubicBezTo>
                  <a:pt x="11767" y="14991"/>
                  <a:pt x="11693" y="14976"/>
                  <a:pt x="11633" y="14932"/>
                </a:cubicBezTo>
                <a:cubicBezTo>
                  <a:pt x="11599" y="14907"/>
                  <a:pt x="11570" y="14883"/>
                  <a:pt x="11534" y="14858"/>
                </a:cubicBezTo>
                <a:cubicBezTo>
                  <a:pt x="11603" y="14868"/>
                  <a:pt x="11665" y="14870"/>
                  <a:pt x="11733" y="14883"/>
                </a:cubicBezTo>
                <a:cubicBezTo>
                  <a:pt x="11809" y="14897"/>
                  <a:pt x="11878" y="14900"/>
                  <a:pt x="11956" y="14908"/>
                </a:cubicBezTo>
                <a:cubicBezTo>
                  <a:pt x="11964" y="14908"/>
                  <a:pt x="11973" y="14908"/>
                  <a:pt x="11981" y="14908"/>
                </a:cubicBezTo>
                <a:cubicBezTo>
                  <a:pt x="11946" y="14886"/>
                  <a:pt x="11896" y="14861"/>
                  <a:pt x="11857" y="14833"/>
                </a:cubicBezTo>
                <a:cubicBezTo>
                  <a:pt x="11817" y="14804"/>
                  <a:pt x="11784" y="14766"/>
                  <a:pt x="11733" y="14734"/>
                </a:cubicBezTo>
                <a:cubicBezTo>
                  <a:pt x="11709" y="14719"/>
                  <a:pt x="11701" y="14696"/>
                  <a:pt x="11683" y="14684"/>
                </a:cubicBezTo>
                <a:cubicBezTo>
                  <a:pt x="11657" y="14667"/>
                  <a:pt x="11682" y="14704"/>
                  <a:pt x="11658" y="14684"/>
                </a:cubicBezTo>
                <a:cubicBezTo>
                  <a:pt x="11695" y="14696"/>
                  <a:pt x="11748" y="14688"/>
                  <a:pt x="11782" y="14709"/>
                </a:cubicBezTo>
                <a:cubicBezTo>
                  <a:pt x="11813" y="14728"/>
                  <a:pt x="11844" y="14775"/>
                  <a:pt x="11857" y="14784"/>
                </a:cubicBezTo>
                <a:cubicBezTo>
                  <a:pt x="11883" y="14802"/>
                  <a:pt x="11894" y="14807"/>
                  <a:pt x="11931" y="14833"/>
                </a:cubicBezTo>
                <a:cubicBezTo>
                  <a:pt x="11963" y="14856"/>
                  <a:pt x="11988" y="14865"/>
                  <a:pt x="12005" y="14883"/>
                </a:cubicBezTo>
                <a:cubicBezTo>
                  <a:pt x="12020" y="14899"/>
                  <a:pt x="12041" y="14916"/>
                  <a:pt x="12055" y="14932"/>
                </a:cubicBezTo>
                <a:cubicBezTo>
                  <a:pt x="12071" y="14949"/>
                  <a:pt x="12091" y="14966"/>
                  <a:pt x="12105" y="14982"/>
                </a:cubicBezTo>
                <a:cubicBezTo>
                  <a:pt x="12125" y="15005"/>
                  <a:pt x="12132" y="15012"/>
                  <a:pt x="12154" y="15032"/>
                </a:cubicBezTo>
                <a:cubicBezTo>
                  <a:pt x="12166" y="15043"/>
                  <a:pt x="12193" y="15069"/>
                  <a:pt x="12204" y="15081"/>
                </a:cubicBezTo>
                <a:cubicBezTo>
                  <a:pt x="12231" y="15112"/>
                  <a:pt x="12235" y="15139"/>
                  <a:pt x="12254" y="15156"/>
                </a:cubicBezTo>
                <a:cubicBezTo>
                  <a:pt x="12276" y="15175"/>
                  <a:pt x="12299" y="15171"/>
                  <a:pt x="12328" y="15205"/>
                </a:cubicBezTo>
                <a:cubicBezTo>
                  <a:pt x="12344" y="15223"/>
                  <a:pt x="12364" y="15239"/>
                  <a:pt x="12378" y="15255"/>
                </a:cubicBezTo>
                <a:cubicBezTo>
                  <a:pt x="12394" y="15274"/>
                  <a:pt x="12410" y="15300"/>
                  <a:pt x="12427" y="15329"/>
                </a:cubicBezTo>
                <a:cubicBezTo>
                  <a:pt x="12443" y="15357"/>
                  <a:pt x="12434" y="15371"/>
                  <a:pt x="12452" y="15404"/>
                </a:cubicBezTo>
                <a:cubicBezTo>
                  <a:pt x="12475" y="15445"/>
                  <a:pt x="12495" y="15442"/>
                  <a:pt x="12502" y="15478"/>
                </a:cubicBezTo>
                <a:cubicBezTo>
                  <a:pt x="12523" y="15590"/>
                  <a:pt x="12522" y="15858"/>
                  <a:pt x="12477" y="15925"/>
                </a:cubicBezTo>
                <a:cubicBezTo>
                  <a:pt x="12459" y="15952"/>
                  <a:pt x="12456" y="15958"/>
                  <a:pt x="12427" y="15974"/>
                </a:cubicBezTo>
                <a:cubicBezTo>
                  <a:pt x="12398" y="15990"/>
                  <a:pt x="12356" y="15985"/>
                  <a:pt x="12328" y="15999"/>
                </a:cubicBezTo>
                <a:cubicBezTo>
                  <a:pt x="12318" y="16004"/>
                  <a:pt x="12294" y="16038"/>
                  <a:pt x="12278" y="16049"/>
                </a:cubicBezTo>
                <a:cubicBezTo>
                  <a:pt x="12248" y="16069"/>
                  <a:pt x="12248" y="16060"/>
                  <a:pt x="12204" y="16073"/>
                </a:cubicBezTo>
                <a:cubicBezTo>
                  <a:pt x="12172" y="16082"/>
                  <a:pt x="12159" y="16083"/>
                  <a:pt x="12129" y="16098"/>
                </a:cubicBezTo>
                <a:cubicBezTo>
                  <a:pt x="12103" y="16111"/>
                  <a:pt x="12086" y="16105"/>
                  <a:pt x="12055" y="16123"/>
                </a:cubicBezTo>
                <a:cubicBezTo>
                  <a:pt x="12019" y="16143"/>
                  <a:pt x="12053" y="16181"/>
                  <a:pt x="12055" y="16173"/>
                </a:cubicBezTo>
                <a:cubicBezTo>
                  <a:pt x="12067" y="16121"/>
                  <a:pt x="12040" y="16122"/>
                  <a:pt x="12080" y="16098"/>
                </a:cubicBezTo>
                <a:cubicBezTo>
                  <a:pt x="12105" y="16083"/>
                  <a:pt x="12191" y="16061"/>
                  <a:pt x="12204" y="16049"/>
                </a:cubicBezTo>
                <a:cubicBezTo>
                  <a:pt x="12212" y="16042"/>
                  <a:pt x="12255" y="15976"/>
                  <a:pt x="12278" y="15949"/>
                </a:cubicBezTo>
                <a:cubicBezTo>
                  <a:pt x="12310" y="15912"/>
                  <a:pt x="12327" y="15887"/>
                  <a:pt x="12353" y="15850"/>
                </a:cubicBezTo>
                <a:cubicBezTo>
                  <a:pt x="12381" y="15810"/>
                  <a:pt x="12411" y="15773"/>
                  <a:pt x="12427" y="15726"/>
                </a:cubicBezTo>
                <a:cubicBezTo>
                  <a:pt x="12454" y="15648"/>
                  <a:pt x="12461" y="15564"/>
                  <a:pt x="12452" y="15478"/>
                </a:cubicBezTo>
                <a:cubicBezTo>
                  <a:pt x="12445" y="15406"/>
                  <a:pt x="12431" y="15411"/>
                  <a:pt x="12402" y="15354"/>
                </a:cubicBezTo>
                <a:cubicBezTo>
                  <a:pt x="12392" y="15334"/>
                  <a:pt x="12371" y="15302"/>
                  <a:pt x="12353" y="15280"/>
                </a:cubicBezTo>
                <a:cubicBezTo>
                  <a:pt x="12337" y="15260"/>
                  <a:pt x="12291" y="15216"/>
                  <a:pt x="12278" y="15205"/>
                </a:cubicBezTo>
                <a:cubicBezTo>
                  <a:pt x="12227" y="15161"/>
                  <a:pt x="12213" y="15138"/>
                  <a:pt x="12179" y="15106"/>
                </a:cubicBezTo>
                <a:cubicBezTo>
                  <a:pt x="12154" y="15082"/>
                  <a:pt x="12087" y="15035"/>
                  <a:pt x="12055" y="15007"/>
                </a:cubicBezTo>
                <a:cubicBezTo>
                  <a:pt x="12018" y="14975"/>
                  <a:pt x="11961" y="14956"/>
                  <a:pt x="11931" y="14932"/>
                </a:cubicBezTo>
                <a:cubicBezTo>
                  <a:pt x="11887" y="14896"/>
                  <a:pt x="11894" y="14900"/>
                  <a:pt x="11857" y="14858"/>
                </a:cubicBezTo>
                <a:cubicBezTo>
                  <a:pt x="11835" y="14833"/>
                  <a:pt x="11821" y="14797"/>
                  <a:pt x="11807" y="14784"/>
                </a:cubicBezTo>
                <a:cubicBezTo>
                  <a:pt x="11789" y="14768"/>
                  <a:pt x="11735" y="14729"/>
                  <a:pt x="11708" y="14709"/>
                </a:cubicBezTo>
                <a:cubicBezTo>
                  <a:pt x="11689" y="14695"/>
                  <a:pt x="11673" y="14671"/>
                  <a:pt x="11658" y="14660"/>
                </a:cubicBezTo>
                <a:cubicBezTo>
                  <a:pt x="11603" y="14622"/>
                  <a:pt x="11614" y="14658"/>
                  <a:pt x="11633" y="14660"/>
                </a:cubicBezTo>
                <a:cubicBezTo>
                  <a:pt x="11680" y="14666"/>
                  <a:pt x="11687" y="14673"/>
                  <a:pt x="11708" y="14684"/>
                </a:cubicBezTo>
                <a:cubicBezTo>
                  <a:pt x="11743" y="14702"/>
                  <a:pt x="11753" y="14692"/>
                  <a:pt x="11782" y="14709"/>
                </a:cubicBezTo>
                <a:cubicBezTo>
                  <a:pt x="11802" y="14721"/>
                  <a:pt x="11854" y="14758"/>
                  <a:pt x="11857" y="14759"/>
                </a:cubicBezTo>
                <a:cubicBezTo>
                  <a:pt x="11895" y="14775"/>
                  <a:pt x="11900" y="14773"/>
                  <a:pt x="11931" y="14784"/>
                </a:cubicBezTo>
                <a:cubicBezTo>
                  <a:pt x="11962" y="14795"/>
                  <a:pt x="11974" y="14799"/>
                  <a:pt x="12005" y="14808"/>
                </a:cubicBezTo>
                <a:cubicBezTo>
                  <a:pt x="12051" y="14821"/>
                  <a:pt x="12044" y="14820"/>
                  <a:pt x="12080" y="14833"/>
                </a:cubicBezTo>
                <a:cubicBezTo>
                  <a:pt x="12108" y="14843"/>
                  <a:pt x="12153" y="14845"/>
                  <a:pt x="12179" y="14858"/>
                </a:cubicBezTo>
                <a:cubicBezTo>
                  <a:pt x="12191" y="14864"/>
                  <a:pt x="12221" y="14896"/>
                  <a:pt x="12254" y="14908"/>
                </a:cubicBezTo>
                <a:cubicBezTo>
                  <a:pt x="12296" y="14923"/>
                  <a:pt x="12296" y="14916"/>
                  <a:pt x="12328" y="14932"/>
                </a:cubicBezTo>
                <a:cubicBezTo>
                  <a:pt x="12358" y="14947"/>
                  <a:pt x="12357" y="14969"/>
                  <a:pt x="12378" y="14982"/>
                </a:cubicBezTo>
                <a:cubicBezTo>
                  <a:pt x="12405" y="15000"/>
                  <a:pt x="12406" y="15014"/>
                  <a:pt x="12427" y="15032"/>
                </a:cubicBezTo>
                <a:cubicBezTo>
                  <a:pt x="12454" y="15056"/>
                  <a:pt x="12460" y="15044"/>
                  <a:pt x="12477" y="15081"/>
                </a:cubicBezTo>
                <a:cubicBezTo>
                  <a:pt x="12491" y="15111"/>
                  <a:pt x="12486" y="15127"/>
                  <a:pt x="12502" y="15156"/>
                </a:cubicBezTo>
                <a:cubicBezTo>
                  <a:pt x="12512" y="15174"/>
                  <a:pt x="12511" y="15211"/>
                  <a:pt x="12526" y="15230"/>
                </a:cubicBezTo>
                <a:cubicBezTo>
                  <a:pt x="12536" y="15243"/>
                  <a:pt x="12563" y="15266"/>
                  <a:pt x="12576" y="15280"/>
                </a:cubicBezTo>
                <a:cubicBezTo>
                  <a:pt x="12586" y="15291"/>
                  <a:pt x="12637" y="15314"/>
                  <a:pt x="12650" y="15329"/>
                </a:cubicBezTo>
                <a:cubicBezTo>
                  <a:pt x="12670" y="15352"/>
                  <a:pt x="12678" y="15359"/>
                  <a:pt x="12700" y="15379"/>
                </a:cubicBezTo>
                <a:cubicBezTo>
                  <a:pt x="12720" y="15397"/>
                  <a:pt x="12726" y="15411"/>
                  <a:pt x="12750" y="15429"/>
                </a:cubicBezTo>
                <a:cubicBezTo>
                  <a:pt x="12721" y="15407"/>
                  <a:pt x="12724" y="15431"/>
                  <a:pt x="12700" y="15404"/>
                </a:cubicBezTo>
                <a:cubicBezTo>
                  <a:pt x="12683" y="15385"/>
                  <a:pt x="12666" y="15372"/>
                  <a:pt x="12650" y="15354"/>
                </a:cubicBezTo>
                <a:cubicBezTo>
                  <a:pt x="12629" y="15331"/>
                  <a:pt x="12608" y="15284"/>
                  <a:pt x="12576" y="15255"/>
                </a:cubicBezTo>
                <a:cubicBezTo>
                  <a:pt x="12547" y="15229"/>
                  <a:pt x="12498" y="15199"/>
                  <a:pt x="12477" y="15180"/>
                </a:cubicBezTo>
                <a:cubicBezTo>
                  <a:pt x="12430" y="15136"/>
                  <a:pt x="12400" y="15079"/>
                  <a:pt x="12353" y="15032"/>
                </a:cubicBezTo>
                <a:cubicBezTo>
                  <a:pt x="12319" y="14998"/>
                  <a:pt x="12275" y="14976"/>
                  <a:pt x="12254" y="14957"/>
                </a:cubicBezTo>
                <a:cubicBezTo>
                  <a:pt x="12217" y="14923"/>
                  <a:pt x="12198" y="14894"/>
                  <a:pt x="12154" y="14858"/>
                </a:cubicBezTo>
                <a:cubicBezTo>
                  <a:pt x="12103" y="14815"/>
                  <a:pt x="12057" y="14788"/>
                  <a:pt x="12005" y="14759"/>
                </a:cubicBezTo>
                <a:cubicBezTo>
                  <a:pt x="11955" y="14731"/>
                  <a:pt x="11884" y="14678"/>
                  <a:pt x="11832" y="14660"/>
                </a:cubicBezTo>
                <a:cubicBezTo>
                  <a:pt x="11797" y="14648"/>
                  <a:pt x="11793" y="14665"/>
                  <a:pt x="11757" y="14660"/>
                </a:cubicBezTo>
                <a:cubicBezTo>
                  <a:pt x="11733" y="14660"/>
                  <a:pt x="11724" y="14660"/>
                  <a:pt x="11708" y="14660"/>
                </a:cubicBezTo>
                <a:cubicBezTo>
                  <a:pt x="11721" y="14668"/>
                  <a:pt x="11753" y="14693"/>
                  <a:pt x="11782" y="14709"/>
                </a:cubicBezTo>
                <a:cubicBezTo>
                  <a:pt x="11816" y="14728"/>
                  <a:pt x="11827" y="14731"/>
                  <a:pt x="11881" y="14759"/>
                </a:cubicBezTo>
                <a:cubicBezTo>
                  <a:pt x="11909" y="14773"/>
                  <a:pt x="11951" y="14797"/>
                  <a:pt x="11981" y="14808"/>
                </a:cubicBezTo>
                <a:cubicBezTo>
                  <a:pt x="12013" y="14819"/>
                  <a:pt x="12048" y="14825"/>
                  <a:pt x="12080" y="14833"/>
                </a:cubicBezTo>
                <a:cubicBezTo>
                  <a:pt x="12121" y="14843"/>
                  <a:pt x="12163" y="14848"/>
                  <a:pt x="12204" y="14858"/>
                </a:cubicBezTo>
                <a:cubicBezTo>
                  <a:pt x="12248" y="14868"/>
                  <a:pt x="12276" y="14878"/>
                  <a:pt x="12328" y="14883"/>
                </a:cubicBezTo>
                <a:cubicBezTo>
                  <a:pt x="12392" y="14889"/>
                  <a:pt x="12445" y="14895"/>
                  <a:pt x="12477" y="14908"/>
                </a:cubicBezTo>
                <a:cubicBezTo>
                  <a:pt x="12517" y="14924"/>
                  <a:pt x="12522" y="14911"/>
                  <a:pt x="12551" y="14932"/>
                </a:cubicBezTo>
                <a:cubicBezTo>
                  <a:pt x="12559" y="14938"/>
                  <a:pt x="12592" y="14973"/>
                  <a:pt x="12601" y="14982"/>
                </a:cubicBezTo>
                <a:cubicBezTo>
                  <a:pt x="12633" y="15015"/>
                  <a:pt x="12631" y="15031"/>
                  <a:pt x="12650" y="15056"/>
                </a:cubicBezTo>
                <a:cubicBezTo>
                  <a:pt x="12666" y="15078"/>
                  <a:pt x="12684" y="15103"/>
                  <a:pt x="12700" y="15131"/>
                </a:cubicBezTo>
                <a:cubicBezTo>
                  <a:pt x="12723" y="15172"/>
                  <a:pt x="12737" y="15210"/>
                  <a:pt x="12750" y="15255"/>
                </a:cubicBezTo>
                <a:cubicBezTo>
                  <a:pt x="12762" y="15297"/>
                  <a:pt x="12764" y="15339"/>
                  <a:pt x="12774" y="15379"/>
                </a:cubicBezTo>
                <a:cubicBezTo>
                  <a:pt x="12784" y="15418"/>
                  <a:pt x="12796" y="15469"/>
                  <a:pt x="12799" y="15503"/>
                </a:cubicBezTo>
                <a:cubicBezTo>
                  <a:pt x="12809" y="15603"/>
                  <a:pt x="12816" y="15792"/>
                  <a:pt x="12774" y="15850"/>
                </a:cubicBezTo>
                <a:cubicBezTo>
                  <a:pt x="12746" y="15889"/>
                  <a:pt x="12702" y="15903"/>
                  <a:pt x="12675" y="15925"/>
                </a:cubicBezTo>
                <a:cubicBezTo>
                  <a:pt x="12641" y="15953"/>
                  <a:pt x="12624" y="15954"/>
                  <a:pt x="12601" y="15974"/>
                </a:cubicBezTo>
                <a:cubicBezTo>
                  <a:pt x="12579" y="15993"/>
                  <a:pt x="12535" y="16029"/>
                  <a:pt x="12502" y="16049"/>
                </a:cubicBezTo>
                <a:cubicBezTo>
                  <a:pt x="12477" y="16064"/>
                  <a:pt x="12444" y="16084"/>
                  <a:pt x="12427" y="16098"/>
                </a:cubicBezTo>
                <a:cubicBezTo>
                  <a:pt x="12409" y="16113"/>
                  <a:pt x="12399" y="16132"/>
                  <a:pt x="12378" y="16148"/>
                </a:cubicBezTo>
                <a:cubicBezTo>
                  <a:pt x="12370" y="16156"/>
                  <a:pt x="12361" y="16165"/>
                  <a:pt x="12353" y="16173"/>
                </a:cubicBezTo>
                <a:cubicBezTo>
                  <a:pt x="12375" y="16148"/>
                  <a:pt x="12379" y="16116"/>
                  <a:pt x="12402" y="16098"/>
                </a:cubicBezTo>
                <a:cubicBezTo>
                  <a:pt x="12450" y="16061"/>
                  <a:pt x="12508" y="16043"/>
                  <a:pt x="12551" y="15999"/>
                </a:cubicBezTo>
                <a:cubicBezTo>
                  <a:pt x="12585" y="15964"/>
                  <a:pt x="12585" y="15982"/>
                  <a:pt x="12601" y="15925"/>
                </a:cubicBezTo>
                <a:cubicBezTo>
                  <a:pt x="12618" y="15863"/>
                  <a:pt x="12593" y="15800"/>
                  <a:pt x="12576" y="15751"/>
                </a:cubicBezTo>
                <a:cubicBezTo>
                  <a:pt x="12566" y="15723"/>
                  <a:pt x="12541" y="15649"/>
                  <a:pt x="12526" y="15627"/>
                </a:cubicBezTo>
                <a:cubicBezTo>
                  <a:pt x="12514" y="15610"/>
                  <a:pt x="12470" y="15555"/>
                  <a:pt x="12452" y="15528"/>
                </a:cubicBezTo>
                <a:cubicBezTo>
                  <a:pt x="12417" y="15474"/>
                  <a:pt x="12385" y="15459"/>
                  <a:pt x="12353" y="15404"/>
                </a:cubicBezTo>
                <a:cubicBezTo>
                  <a:pt x="12336" y="15375"/>
                  <a:pt x="12316" y="15318"/>
                  <a:pt x="12303" y="15304"/>
                </a:cubicBezTo>
                <a:cubicBezTo>
                  <a:pt x="12287" y="15287"/>
                  <a:pt x="12230" y="15255"/>
                  <a:pt x="12204" y="15230"/>
                </a:cubicBezTo>
                <a:cubicBezTo>
                  <a:pt x="12164" y="15192"/>
                  <a:pt x="12173" y="15191"/>
                  <a:pt x="12129" y="15156"/>
                </a:cubicBezTo>
                <a:cubicBezTo>
                  <a:pt x="12076" y="15114"/>
                  <a:pt x="12121" y="15122"/>
                  <a:pt x="12055" y="15106"/>
                </a:cubicBezTo>
                <a:cubicBezTo>
                  <a:pt x="11990" y="15090"/>
                  <a:pt x="11931" y="15124"/>
                  <a:pt x="11881" y="15131"/>
                </a:cubicBezTo>
                <a:cubicBezTo>
                  <a:pt x="11873" y="15131"/>
                  <a:pt x="11865" y="15131"/>
                  <a:pt x="11857" y="15131"/>
                </a:cubicBezTo>
                <a:cubicBezTo>
                  <a:pt x="11876" y="15160"/>
                  <a:pt x="11860" y="15182"/>
                  <a:pt x="11881" y="15205"/>
                </a:cubicBezTo>
                <a:cubicBezTo>
                  <a:pt x="11912" y="15240"/>
                  <a:pt x="11964" y="15260"/>
                  <a:pt x="11981" y="15280"/>
                </a:cubicBezTo>
                <a:cubicBezTo>
                  <a:pt x="12011" y="15315"/>
                  <a:pt x="12012" y="15327"/>
                  <a:pt x="12030" y="15354"/>
                </a:cubicBezTo>
                <a:cubicBezTo>
                  <a:pt x="12049" y="15382"/>
                  <a:pt x="12113" y="15399"/>
                  <a:pt x="12080" y="15404"/>
                </a:cubicBezTo>
                <a:cubicBezTo>
                  <a:pt x="12041" y="15410"/>
                  <a:pt x="12047" y="15358"/>
                  <a:pt x="12030" y="15354"/>
                </a:cubicBezTo>
                <a:cubicBezTo>
                  <a:pt x="11983" y="15342"/>
                  <a:pt x="11992" y="15344"/>
                  <a:pt x="11956" y="15329"/>
                </a:cubicBezTo>
                <a:cubicBezTo>
                  <a:pt x="11948" y="15329"/>
                  <a:pt x="11939" y="15329"/>
                  <a:pt x="11931" y="15329"/>
                </a:cubicBezTo>
                <a:cubicBezTo>
                  <a:pt x="11947" y="15358"/>
                  <a:pt x="11937" y="15327"/>
                  <a:pt x="11956" y="15354"/>
                </a:cubicBezTo>
                <a:cubicBezTo>
                  <a:pt x="11977" y="15384"/>
                  <a:pt x="11990" y="15396"/>
                  <a:pt x="12005" y="15429"/>
                </a:cubicBezTo>
                <a:cubicBezTo>
                  <a:pt x="12005" y="15437"/>
                  <a:pt x="12005" y="15445"/>
                  <a:pt x="12005" y="15453"/>
                </a:cubicBezTo>
                <a:cubicBezTo>
                  <a:pt x="11975" y="15427"/>
                  <a:pt x="11988" y="15428"/>
                  <a:pt x="11956" y="15404"/>
                </a:cubicBezTo>
                <a:cubicBezTo>
                  <a:pt x="11931" y="15385"/>
                  <a:pt x="11912" y="15388"/>
                  <a:pt x="11881" y="15354"/>
                </a:cubicBezTo>
                <a:cubicBezTo>
                  <a:pt x="11854" y="15325"/>
                  <a:pt x="11834" y="15250"/>
                  <a:pt x="11782" y="15230"/>
                </a:cubicBezTo>
                <a:cubicBezTo>
                  <a:pt x="11705" y="15200"/>
                  <a:pt x="11626" y="15260"/>
                  <a:pt x="11559" y="15280"/>
                </a:cubicBezTo>
                <a:cubicBezTo>
                  <a:pt x="11515" y="15293"/>
                  <a:pt x="11485" y="15298"/>
                  <a:pt x="11435" y="15304"/>
                </a:cubicBezTo>
                <a:cubicBezTo>
                  <a:pt x="10902" y="15366"/>
                  <a:pt x="10328" y="15293"/>
                  <a:pt x="9798" y="15329"/>
                </a:cubicBezTo>
                <a:cubicBezTo>
                  <a:pt x="9697" y="15336"/>
                  <a:pt x="9538" y="15349"/>
                  <a:pt x="9475" y="15354"/>
                </a:cubicBezTo>
                <a:cubicBezTo>
                  <a:pt x="9410" y="15359"/>
                  <a:pt x="9361" y="15364"/>
                  <a:pt x="9327" y="15379"/>
                </a:cubicBezTo>
                <a:cubicBezTo>
                  <a:pt x="9294" y="15394"/>
                  <a:pt x="9294" y="15404"/>
                  <a:pt x="9252" y="15429"/>
                </a:cubicBezTo>
                <a:cubicBezTo>
                  <a:pt x="9223" y="15446"/>
                  <a:pt x="9196" y="15428"/>
                  <a:pt x="9178" y="15453"/>
                </a:cubicBezTo>
                <a:cubicBezTo>
                  <a:pt x="9159" y="15480"/>
                  <a:pt x="9161" y="15496"/>
                  <a:pt x="9153" y="15528"/>
                </a:cubicBezTo>
                <a:cubicBezTo>
                  <a:pt x="9135" y="15598"/>
                  <a:pt x="9173" y="15662"/>
                  <a:pt x="9128" y="15701"/>
                </a:cubicBezTo>
                <a:cubicBezTo>
                  <a:pt x="9110" y="15717"/>
                  <a:pt x="9072" y="15714"/>
                  <a:pt x="9054" y="15726"/>
                </a:cubicBezTo>
                <a:cubicBezTo>
                  <a:pt x="9027" y="15744"/>
                  <a:pt x="9025" y="15758"/>
                  <a:pt x="9004" y="15776"/>
                </a:cubicBezTo>
                <a:cubicBezTo>
                  <a:pt x="8977" y="15799"/>
                  <a:pt x="8945" y="15804"/>
                  <a:pt x="8930" y="15850"/>
                </a:cubicBezTo>
                <a:cubicBezTo>
                  <a:pt x="8914" y="15898"/>
                  <a:pt x="8933" y="15973"/>
                  <a:pt x="8930" y="16024"/>
                </a:cubicBezTo>
                <a:cubicBezTo>
                  <a:pt x="8877" y="16033"/>
                  <a:pt x="8830" y="16040"/>
                  <a:pt x="8806" y="16049"/>
                </a:cubicBezTo>
                <a:cubicBezTo>
                  <a:pt x="8761" y="16067"/>
                  <a:pt x="8726" y="16105"/>
                  <a:pt x="8682" y="16123"/>
                </a:cubicBezTo>
                <a:cubicBezTo>
                  <a:pt x="8649" y="16137"/>
                  <a:pt x="8649" y="16133"/>
                  <a:pt x="8607" y="16148"/>
                </a:cubicBezTo>
                <a:cubicBezTo>
                  <a:pt x="8570" y="16161"/>
                  <a:pt x="8581" y="16161"/>
                  <a:pt x="8533" y="16173"/>
                </a:cubicBezTo>
                <a:cubicBezTo>
                  <a:pt x="8494" y="16183"/>
                  <a:pt x="8448" y="16194"/>
                  <a:pt x="8409" y="16197"/>
                </a:cubicBezTo>
                <a:cubicBezTo>
                  <a:pt x="8369" y="16201"/>
                  <a:pt x="8289" y="16221"/>
                  <a:pt x="8285" y="16222"/>
                </a:cubicBezTo>
                <a:cubicBezTo>
                  <a:pt x="8244" y="16227"/>
                  <a:pt x="8251" y="16219"/>
                  <a:pt x="8210" y="16222"/>
                </a:cubicBezTo>
                <a:cubicBezTo>
                  <a:pt x="8212" y="16222"/>
                  <a:pt x="8274" y="16200"/>
                  <a:pt x="8310" y="16197"/>
                </a:cubicBezTo>
                <a:cubicBezTo>
                  <a:pt x="8465" y="16184"/>
                  <a:pt x="8625" y="16197"/>
                  <a:pt x="8781" y="16197"/>
                </a:cubicBezTo>
                <a:cubicBezTo>
                  <a:pt x="8748" y="16197"/>
                  <a:pt x="8764" y="16197"/>
                  <a:pt x="8731" y="16197"/>
                </a:cubicBezTo>
                <a:cubicBezTo>
                  <a:pt x="8564" y="16197"/>
                  <a:pt x="8386" y="16189"/>
                  <a:pt x="8235" y="16222"/>
                </a:cubicBezTo>
                <a:cubicBezTo>
                  <a:pt x="8208" y="16228"/>
                  <a:pt x="8162" y="16235"/>
                  <a:pt x="8136" y="16247"/>
                </a:cubicBezTo>
                <a:cubicBezTo>
                  <a:pt x="8111" y="16258"/>
                  <a:pt x="8078" y="16289"/>
                  <a:pt x="8062" y="16297"/>
                </a:cubicBezTo>
                <a:cubicBezTo>
                  <a:pt x="8050" y="16303"/>
                  <a:pt x="7970" y="16344"/>
                  <a:pt x="7962" y="16346"/>
                </a:cubicBezTo>
                <a:cubicBezTo>
                  <a:pt x="7857" y="16367"/>
                  <a:pt x="7662" y="16366"/>
                  <a:pt x="7590" y="16371"/>
                </a:cubicBezTo>
                <a:cubicBezTo>
                  <a:pt x="7500" y="16377"/>
                  <a:pt x="7407" y="16371"/>
                  <a:pt x="7317" y="16371"/>
                </a:cubicBezTo>
                <a:cubicBezTo>
                  <a:pt x="7321" y="16305"/>
                  <a:pt x="7326" y="16256"/>
                  <a:pt x="7342" y="16222"/>
                </a:cubicBezTo>
                <a:cubicBezTo>
                  <a:pt x="7362" y="16179"/>
                  <a:pt x="7342" y="16176"/>
                  <a:pt x="7367" y="16148"/>
                </a:cubicBezTo>
                <a:cubicBezTo>
                  <a:pt x="7412" y="16097"/>
                  <a:pt x="7486" y="16041"/>
                  <a:pt x="7541" y="15999"/>
                </a:cubicBezTo>
                <a:cubicBezTo>
                  <a:pt x="7572" y="15975"/>
                  <a:pt x="7587" y="15970"/>
                  <a:pt x="7615" y="15949"/>
                </a:cubicBezTo>
                <a:cubicBezTo>
                  <a:pt x="7635" y="15934"/>
                  <a:pt x="7679" y="15895"/>
                  <a:pt x="7714" y="15875"/>
                </a:cubicBezTo>
                <a:cubicBezTo>
                  <a:pt x="7741" y="15860"/>
                  <a:pt x="7771" y="15843"/>
                  <a:pt x="7813" y="15825"/>
                </a:cubicBezTo>
                <a:cubicBezTo>
                  <a:pt x="7868" y="15801"/>
                  <a:pt x="7926" y="15780"/>
                  <a:pt x="7987" y="15751"/>
                </a:cubicBezTo>
                <a:cubicBezTo>
                  <a:pt x="8011" y="15740"/>
                  <a:pt x="8069" y="15715"/>
                  <a:pt x="8086" y="15701"/>
                </a:cubicBezTo>
                <a:cubicBezTo>
                  <a:pt x="8086" y="15693"/>
                  <a:pt x="8086" y="15685"/>
                  <a:pt x="8086" y="15677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8840" y="5527800"/>
            <a:ext cx="901440" cy="615960"/>
          </a:xfrm>
          <a:custGeom>
            <a:avLst/>
            <a:gdLst/>
            <a:ahLst/>
            <a:rect l="l" t="t" r="r" b="b"/>
            <a:pathLst>
              <a:path w="2506" h="1713">
                <a:moveTo>
                  <a:pt x="12576" y="15701"/>
                </a:moveTo>
                <a:cubicBezTo>
                  <a:pt x="12591" y="15672"/>
                  <a:pt x="12581" y="15653"/>
                  <a:pt x="12601" y="15627"/>
                </a:cubicBezTo>
                <a:cubicBezTo>
                  <a:pt x="12621" y="15601"/>
                  <a:pt x="12664" y="15633"/>
                  <a:pt x="12675" y="15602"/>
                </a:cubicBezTo>
                <a:cubicBezTo>
                  <a:pt x="12691" y="15557"/>
                  <a:pt x="12695" y="15444"/>
                  <a:pt x="12700" y="15404"/>
                </a:cubicBezTo>
                <a:cubicBezTo>
                  <a:pt x="12700" y="15379"/>
                  <a:pt x="12700" y="15371"/>
                  <a:pt x="12700" y="15354"/>
                </a:cubicBezTo>
                <a:cubicBezTo>
                  <a:pt x="12728" y="15363"/>
                  <a:pt x="12740" y="15363"/>
                  <a:pt x="12774" y="15379"/>
                </a:cubicBezTo>
                <a:cubicBezTo>
                  <a:pt x="12839" y="15410"/>
                  <a:pt x="12787" y="15375"/>
                  <a:pt x="12824" y="15429"/>
                </a:cubicBezTo>
                <a:cubicBezTo>
                  <a:pt x="12838" y="15449"/>
                  <a:pt x="12843" y="15485"/>
                  <a:pt x="12849" y="15503"/>
                </a:cubicBezTo>
                <a:cubicBezTo>
                  <a:pt x="12859" y="15533"/>
                  <a:pt x="12863" y="15569"/>
                  <a:pt x="12874" y="15602"/>
                </a:cubicBezTo>
                <a:cubicBezTo>
                  <a:pt x="12884" y="15634"/>
                  <a:pt x="12913" y="15636"/>
                  <a:pt x="12923" y="15677"/>
                </a:cubicBezTo>
                <a:cubicBezTo>
                  <a:pt x="12943" y="15759"/>
                  <a:pt x="12913" y="15881"/>
                  <a:pt x="12898" y="15925"/>
                </a:cubicBezTo>
                <a:cubicBezTo>
                  <a:pt x="12898" y="15892"/>
                  <a:pt x="12891" y="15907"/>
                  <a:pt x="12898" y="15875"/>
                </a:cubicBezTo>
                <a:cubicBezTo>
                  <a:pt x="12910" y="15819"/>
                  <a:pt x="12926" y="15833"/>
                  <a:pt x="12948" y="15801"/>
                </a:cubicBezTo>
                <a:cubicBezTo>
                  <a:pt x="12961" y="15838"/>
                  <a:pt x="12966" y="15823"/>
                  <a:pt x="12973" y="15875"/>
                </a:cubicBezTo>
                <a:cubicBezTo>
                  <a:pt x="12980" y="15926"/>
                  <a:pt x="12955" y="15932"/>
                  <a:pt x="12948" y="15949"/>
                </a:cubicBezTo>
                <a:cubicBezTo>
                  <a:pt x="12936" y="15978"/>
                  <a:pt x="12932" y="15991"/>
                  <a:pt x="12898" y="15999"/>
                </a:cubicBezTo>
                <a:cubicBezTo>
                  <a:pt x="12819" y="16017"/>
                  <a:pt x="12726" y="16002"/>
                  <a:pt x="12675" y="16024"/>
                </a:cubicBezTo>
                <a:cubicBezTo>
                  <a:pt x="12636" y="16041"/>
                  <a:pt x="12630" y="16027"/>
                  <a:pt x="12601" y="16049"/>
                </a:cubicBezTo>
                <a:cubicBezTo>
                  <a:pt x="12577" y="16068"/>
                  <a:pt x="12533" y="16113"/>
                  <a:pt x="12526" y="16123"/>
                </a:cubicBezTo>
                <a:cubicBezTo>
                  <a:pt x="12509" y="16146"/>
                  <a:pt x="12492" y="16154"/>
                  <a:pt x="12477" y="16173"/>
                </a:cubicBezTo>
                <a:cubicBezTo>
                  <a:pt x="12457" y="16198"/>
                  <a:pt x="12450" y="16201"/>
                  <a:pt x="12427" y="16222"/>
                </a:cubicBezTo>
                <a:cubicBezTo>
                  <a:pt x="12393" y="16253"/>
                  <a:pt x="12383" y="16259"/>
                  <a:pt x="12353" y="16272"/>
                </a:cubicBezTo>
                <a:cubicBezTo>
                  <a:pt x="12310" y="16291"/>
                  <a:pt x="12304" y="16293"/>
                  <a:pt x="12254" y="16297"/>
                </a:cubicBezTo>
                <a:cubicBezTo>
                  <a:pt x="12146" y="16305"/>
                  <a:pt x="12026" y="16311"/>
                  <a:pt x="11931" y="16321"/>
                </a:cubicBezTo>
                <a:cubicBezTo>
                  <a:pt x="11871" y="16327"/>
                  <a:pt x="11831" y="16309"/>
                  <a:pt x="11782" y="16346"/>
                </a:cubicBezTo>
                <a:cubicBezTo>
                  <a:pt x="11754" y="16367"/>
                  <a:pt x="11750" y="16389"/>
                  <a:pt x="11733" y="16421"/>
                </a:cubicBezTo>
                <a:cubicBezTo>
                  <a:pt x="11715" y="16454"/>
                  <a:pt x="11732" y="16473"/>
                  <a:pt x="11708" y="16495"/>
                </a:cubicBezTo>
                <a:cubicBezTo>
                  <a:pt x="11685" y="16517"/>
                  <a:pt x="11663" y="16527"/>
                  <a:pt x="11633" y="16545"/>
                </a:cubicBezTo>
                <a:cubicBezTo>
                  <a:pt x="11613" y="16557"/>
                  <a:pt x="11586" y="16581"/>
                  <a:pt x="11559" y="16594"/>
                </a:cubicBezTo>
                <a:cubicBezTo>
                  <a:pt x="11540" y="16603"/>
                  <a:pt x="11504" y="16604"/>
                  <a:pt x="11485" y="16619"/>
                </a:cubicBezTo>
                <a:cubicBezTo>
                  <a:pt x="11474" y="16627"/>
                  <a:pt x="11442" y="16684"/>
                  <a:pt x="11410" y="16694"/>
                </a:cubicBezTo>
                <a:cubicBezTo>
                  <a:pt x="11341" y="16715"/>
                  <a:pt x="11234" y="16694"/>
                  <a:pt x="11162" y="16694"/>
                </a:cubicBezTo>
                <a:cubicBezTo>
                  <a:pt x="11173" y="16674"/>
                  <a:pt x="11171" y="16640"/>
                  <a:pt x="11187" y="16619"/>
                </a:cubicBezTo>
                <a:cubicBezTo>
                  <a:pt x="11207" y="16593"/>
                  <a:pt x="11250" y="16554"/>
                  <a:pt x="11261" y="16545"/>
                </a:cubicBezTo>
                <a:cubicBezTo>
                  <a:pt x="11272" y="16536"/>
                  <a:pt x="11328" y="16521"/>
                  <a:pt x="11336" y="16520"/>
                </a:cubicBezTo>
                <a:cubicBezTo>
                  <a:pt x="11470" y="16496"/>
                  <a:pt x="11681" y="16508"/>
                  <a:pt x="11782" y="16495"/>
                </a:cubicBezTo>
                <a:cubicBezTo>
                  <a:pt x="11869" y="16484"/>
                  <a:pt x="11979" y="16479"/>
                  <a:pt x="12055" y="16470"/>
                </a:cubicBezTo>
                <a:cubicBezTo>
                  <a:pt x="12093" y="16466"/>
                  <a:pt x="12120" y="16450"/>
                  <a:pt x="12129" y="16446"/>
                </a:cubicBezTo>
                <a:cubicBezTo>
                  <a:pt x="12076" y="16451"/>
                  <a:pt x="12027" y="16463"/>
                  <a:pt x="12005" y="16470"/>
                </a:cubicBezTo>
                <a:cubicBezTo>
                  <a:pt x="11971" y="16481"/>
                  <a:pt x="11939" y="16483"/>
                  <a:pt x="11906" y="16495"/>
                </a:cubicBezTo>
                <a:cubicBezTo>
                  <a:pt x="11865" y="16509"/>
                  <a:pt x="11856" y="16516"/>
                  <a:pt x="11807" y="16520"/>
                </a:cubicBezTo>
                <a:cubicBezTo>
                  <a:pt x="11778" y="16522"/>
                  <a:pt x="11630" y="16520"/>
                  <a:pt x="11683" y="16520"/>
                </a:cubicBezTo>
                <a:cubicBezTo>
                  <a:pt x="11767" y="16520"/>
                  <a:pt x="11858" y="16511"/>
                  <a:pt x="11906" y="16495"/>
                </a:cubicBezTo>
                <a:cubicBezTo>
                  <a:pt x="11873" y="16498"/>
                  <a:pt x="11865" y="16516"/>
                  <a:pt x="11832" y="16520"/>
                </a:cubicBezTo>
                <a:cubicBezTo>
                  <a:pt x="11778" y="16527"/>
                  <a:pt x="11784" y="16524"/>
                  <a:pt x="11757" y="16545"/>
                </a:cubicBezTo>
                <a:cubicBezTo>
                  <a:pt x="11742" y="16556"/>
                  <a:pt x="11718" y="16585"/>
                  <a:pt x="11708" y="16594"/>
                </a:cubicBezTo>
                <a:cubicBezTo>
                  <a:pt x="11738" y="16579"/>
                  <a:pt x="11745" y="16587"/>
                  <a:pt x="11782" y="16570"/>
                </a:cubicBezTo>
                <a:cubicBezTo>
                  <a:pt x="11813" y="16555"/>
                  <a:pt x="11818" y="16562"/>
                  <a:pt x="11857" y="16545"/>
                </a:cubicBezTo>
                <a:cubicBezTo>
                  <a:pt x="11868" y="16540"/>
                  <a:pt x="11897" y="16530"/>
                  <a:pt x="11931" y="16520"/>
                </a:cubicBezTo>
                <a:cubicBezTo>
                  <a:pt x="11970" y="16509"/>
                  <a:pt x="11953" y="16502"/>
                  <a:pt x="12005" y="16495"/>
                </a:cubicBezTo>
                <a:cubicBezTo>
                  <a:pt x="12038" y="16491"/>
                  <a:pt x="12047" y="16473"/>
                  <a:pt x="12080" y="16470"/>
                </a:cubicBezTo>
                <a:cubicBezTo>
                  <a:pt x="12156" y="16462"/>
                  <a:pt x="12213" y="16469"/>
                  <a:pt x="12278" y="16446"/>
                </a:cubicBezTo>
                <a:cubicBezTo>
                  <a:pt x="12315" y="16433"/>
                  <a:pt x="12304" y="16414"/>
                  <a:pt x="12328" y="16396"/>
                </a:cubicBezTo>
                <a:cubicBezTo>
                  <a:pt x="12353" y="16377"/>
                  <a:pt x="12380" y="16388"/>
                  <a:pt x="12402" y="16371"/>
                </a:cubicBezTo>
                <a:cubicBezTo>
                  <a:pt x="12417" y="16359"/>
                  <a:pt x="12445" y="16319"/>
                  <a:pt x="12477" y="16297"/>
                </a:cubicBezTo>
                <a:cubicBezTo>
                  <a:pt x="12509" y="16276"/>
                  <a:pt x="12506" y="16280"/>
                  <a:pt x="12526" y="16247"/>
                </a:cubicBezTo>
                <a:cubicBezTo>
                  <a:pt x="12538" y="16227"/>
                  <a:pt x="12563" y="16199"/>
                  <a:pt x="12576" y="16173"/>
                </a:cubicBezTo>
                <a:cubicBezTo>
                  <a:pt x="12589" y="16146"/>
                  <a:pt x="12597" y="16119"/>
                  <a:pt x="12601" y="16098"/>
                </a:cubicBezTo>
                <a:cubicBezTo>
                  <a:pt x="12609" y="16053"/>
                  <a:pt x="12616" y="16044"/>
                  <a:pt x="12626" y="16024"/>
                </a:cubicBezTo>
                <a:cubicBezTo>
                  <a:pt x="12657" y="15961"/>
                  <a:pt x="12617" y="16008"/>
                  <a:pt x="12675" y="15974"/>
                </a:cubicBezTo>
                <a:cubicBezTo>
                  <a:pt x="12699" y="15960"/>
                  <a:pt x="12697" y="15951"/>
                  <a:pt x="12750" y="15949"/>
                </a:cubicBezTo>
                <a:cubicBezTo>
                  <a:pt x="12783" y="15948"/>
                  <a:pt x="12816" y="15949"/>
                  <a:pt x="12849" y="15949"/>
                </a:cubicBezTo>
                <a:cubicBezTo>
                  <a:pt x="12844" y="16008"/>
                  <a:pt x="12854" y="16020"/>
                  <a:pt x="12824" y="16049"/>
                </a:cubicBezTo>
                <a:cubicBezTo>
                  <a:pt x="12798" y="16074"/>
                  <a:pt x="12803" y="16069"/>
                  <a:pt x="12750" y="16073"/>
                </a:cubicBezTo>
                <a:cubicBezTo>
                  <a:pt x="12670" y="16079"/>
                  <a:pt x="12545" y="16093"/>
                  <a:pt x="12502" y="16098"/>
                </a:cubicBezTo>
                <a:cubicBezTo>
                  <a:pt x="12458" y="16104"/>
                  <a:pt x="12416" y="16119"/>
                  <a:pt x="12402" y="16123"/>
                </a:cubicBezTo>
                <a:cubicBezTo>
                  <a:pt x="12394" y="16123"/>
                  <a:pt x="12386" y="16123"/>
                  <a:pt x="12378" y="16123"/>
                </a:cubicBezTo>
                <a:cubicBezTo>
                  <a:pt x="12415" y="16110"/>
                  <a:pt x="12400" y="16105"/>
                  <a:pt x="12452" y="16098"/>
                </a:cubicBezTo>
                <a:cubicBezTo>
                  <a:pt x="12532" y="16087"/>
                  <a:pt x="12619" y="16098"/>
                  <a:pt x="12700" y="16098"/>
                </a:cubicBezTo>
                <a:cubicBezTo>
                  <a:pt x="12690" y="16103"/>
                  <a:pt x="12634" y="16114"/>
                  <a:pt x="12626" y="16123"/>
                </a:cubicBezTo>
                <a:cubicBezTo>
                  <a:pt x="12602" y="16149"/>
                  <a:pt x="12612" y="16155"/>
                  <a:pt x="12576" y="16173"/>
                </a:cubicBezTo>
                <a:cubicBezTo>
                  <a:pt x="12544" y="16189"/>
                  <a:pt x="12558" y="16181"/>
                  <a:pt x="12526" y="16197"/>
                </a:cubicBezTo>
                <a:cubicBezTo>
                  <a:pt x="12564" y="16185"/>
                  <a:pt x="12573" y="16177"/>
                  <a:pt x="12601" y="16173"/>
                </a:cubicBezTo>
                <a:cubicBezTo>
                  <a:pt x="12649" y="16167"/>
                  <a:pt x="12702" y="16173"/>
                  <a:pt x="12750" y="16173"/>
                </a:cubicBezTo>
                <a:cubicBezTo>
                  <a:pt x="12706" y="16176"/>
                  <a:pt x="12658" y="16193"/>
                  <a:pt x="12626" y="16197"/>
                </a:cubicBezTo>
                <a:cubicBezTo>
                  <a:pt x="12550" y="16206"/>
                  <a:pt x="12493" y="16198"/>
                  <a:pt x="12427" y="16222"/>
                </a:cubicBezTo>
                <a:cubicBezTo>
                  <a:pt x="12384" y="16238"/>
                  <a:pt x="12386" y="16231"/>
                  <a:pt x="12353" y="16247"/>
                </a:cubicBezTo>
                <a:cubicBezTo>
                  <a:pt x="12333" y="16256"/>
                  <a:pt x="12311" y="16294"/>
                  <a:pt x="12303" y="16297"/>
                </a:cubicBezTo>
                <a:cubicBezTo>
                  <a:pt x="12268" y="16309"/>
                  <a:pt x="12191" y="16317"/>
                  <a:pt x="12179" y="16321"/>
                </a:cubicBezTo>
                <a:cubicBezTo>
                  <a:pt x="12146" y="16332"/>
                  <a:pt x="12114" y="16334"/>
                  <a:pt x="12080" y="16346"/>
                </a:cubicBezTo>
                <a:cubicBezTo>
                  <a:pt x="12033" y="16362"/>
                  <a:pt x="12000" y="16378"/>
                  <a:pt x="11956" y="16396"/>
                </a:cubicBezTo>
                <a:cubicBezTo>
                  <a:pt x="11922" y="16410"/>
                  <a:pt x="11917" y="16438"/>
                  <a:pt x="11881" y="16446"/>
                </a:cubicBezTo>
                <a:cubicBezTo>
                  <a:pt x="11831" y="16457"/>
                  <a:pt x="11834" y="16449"/>
                  <a:pt x="11807" y="16470"/>
                </a:cubicBezTo>
                <a:cubicBezTo>
                  <a:pt x="11786" y="16487"/>
                  <a:pt x="11770" y="16509"/>
                  <a:pt x="11733" y="16520"/>
                </a:cubicBezTo>
                <a:cubicBezTo>
                  <a:pt x="11694" y="16532"/>
                  <a:pt x="11649" y="16538"/>
                  <a:pt x="11633" y="16545"/>
                </a:cubicBezTo>
                <a:cubicBezTo>
                  <a:pt x="11595" y="16561"/>
                  <a:pt x="11590" y="16558"/>
                  <a:pt x="11559" y="16570"/>
                </a:cubicBezTo>
                <a:cubicBezTo>
                  <a:pt x="11520" y="16585"/>
                  <a:pt x="11496" y="16596"/>
                  <a:pt x="11460" y="16619"/>
                </a:cubicBezTo>
                <a:cubicBezTo>
                  <a:pt x="11421" y="16644"/>
                  <a:pt x="11380" y="16649"/>
                  <a:pt x="11336" y="16669"/>
                </a:cubicBezTo>
                <a:cubicBezTo>
                  <a:pt x="11306" y="16682"/>
                  <a:pt x="11267" y="16680"/>
                  <a:pt x="11237" y="16694"/>
                </a:cubicBezTo>
                <a:cubicBezTo>
                  <a:pt x="11204" y="16710"/>
                  <a:pt x="11137" y="16727"/>
                  <a:pt x="11112" y="16743"/>
                </a:cubicBezTo>
                <a:cubicBezTo>
                  <a:pt x="11083" y="16762"/>
                  <a:pt x="11088" y="16789"/>
                  <a:pt x="11063" y="16818"/>
                </a:cubicBezTo>
                <a:cubicBezTo>
                  <a:pt x="11028" y="16859"/>
                  <a:pt x="11020" y="16845"/>
                  <a:pt x="10988" y="16892"/>
                </a:cubicBezTo>
                <a:cubicBezTo>
                  <a:pt x="10970" y="16918"/>
                  <a:pt x="10953" y="16938"/>
                  <a:pt x="10914" y="16966"/>
                </a:cubicBezTo>
                <a:cubicBezTo>
                  <a:pt x="10897" y="16978"/>
                  <a:pt x="10854" y="16987"/>
                  <a:pt x="10840" y="16991"/>
                </a:cubicBezTo>
                <a:cubicBezTo>
                  <a:pt x="10832" y="16991"/>
                  <a:pt x="10823" y="16991"/>
                  <a:pt x="10815" y="16991"/>
                </a:cubicBezTo>
                <a:cubicBezTo>
                  <a:pt x="10827" y="16924"/>
                  <a:pt x="10823" y="16914"/>
                  <a:pt x="10864" y="16867"/>
                </a:cubicBezTo>
                <a:cubicBezTo>
                  <a:pt x="10914" y="16810"/>
                  <a:pt x="10953" y="16803"/>
                  <a:pt x="11013" y="16768"/>
                </a:cubicBezTo>
                <a:cubicBezTo>
                  <a:pt x="11077" y="16731"/>
                  <a:pt x="11112" y="16706"/>
                  <a:pt x="11187" y="16694"/>
                </a:cubicBezTo>
                <a:cubicBezTo>
                  <a:pt x="11390" y="16661"/>
                  <a:pt x="11616" y="16717"/>
                  <a:pt x="11807" y="16669"/>
                </a:cubicBezTo>
                <a:cubicBezTo>
                  <a:pt x="11848" y="16659"/>
                  <a:pt x="11889" y="16630"/>
                  <a:pt x="11906" y="16619"/>
                </a:cubicBezTo>
                <a:cubicBezTo>
                  <a:pt x="11931" y="16603"/>
                  <a:pt x="11987" y="16586"/>
                  <a:pt x="12005" y="16570"/>
                </a:cubicBezTo>
                <a:cubicBezTo>
                  <a:pt x="12028" y="16549"/>
                  <a:pt x="12023" y="16538"/>
                  <a:pt x="12055" y="16520"/>
                </a:cubicBezTo>
                <a:cubicBezTo>
                  <a:pt x="12078" y="16497"/>
                  <a:pt x="12082" y="16489"/>
                  <a:pt x="12105" y="16495"/>
                </a:cubicBezTo>
                <a:cubicBezTo>
                  <a:pt x="12068" y="16498"/>
                  <a:pt x="12031" y="16517"/>
                  <a:pt x="12005" y="16520"/>
                </a:cubicBezTo>
                <a:cubicBezTo>
                  <a:pt x="11962" y="16525"/>
                  <a:pt x="11913" y="16541"/>
                  <a:pt x="11881" y="16545"/>
                </a:cubicBezTo>
                <a:cubicBezTo>
                  <a:pt x="11821" y="16553"/>
                  <a:pt x="11790" y="16564"/>
                  <a:pt x="11733" y="16570"/>
                </a:cubicBezTo>
                <a:cubicBezTo>
                  <a:pt x="11597" y="16585"/>
                  <a:pt x="11467" y="16556"/>
                  <a:pt x="11336" y="16594"/>
                </a:cubicBezTo>
                <a:cubicBezTo>
                  <a:pt x="11297" y="16606"/>
                  <a:pt x="11251" y="16607"/>
                  <a:pt x="11212" y="16619"/>
                </a:cubicBezTo>
                <a:cubicBezTo>
                  <a:pt x="11174" y="16630"/>
                  <a:pt x="11155" y="16639"/>
                  <a:pt x="11112" y="16644"/>
                </a:cubicBezTo>
                <a:cubicBezTo>
                  <a:pt x="11064" y="16649"/>
                  <a:pt x="11054" y="16654"/>
                  <a:pt x="11013" y="16669"/>
                </a:cubicBezTo>
                <a:cubicBezTo>
                  <a:pt x="10955" y="16690"/>
                  <a:pt x="10991" y="16685"/>
                  <a:pt x="10939" y="16718"/>
                </a:cubicBezTo>
                <a:cubicBezTo>
                  <a:pt x="10909" y="16737"/>
                  <a:pt x="10885" y="16719"/>
                  <a:pt x="10864" y="16743"/>
                </a:cubicBezTo>
                <a:cubicBezTo>
                  <a:pt x="10846" y="16764"/>
                  <a:pt x="10838" y="16783"/>
                  <a:pt x="10815" y="16818"/>
                </a:cubicBezTo>
                <a:cubicBezTo>
                  <a:pt x="10799" y="16842"/>
                  <a:pt x="10798" y="16864"/>
                  <a:pt x="10765" y="16892"/>
                </a:cubicBezTo>
                <a:cubicBezTo>
                  <a:pt x="10740" y="16913"/>
                  <a:pt x="10747" y="16930"/>
                  <a:pt x="10716" y="16942"/>
                </a:cubicBezTo>
                <a:cubicBezTo>
                  <a:pt x="10688" y="16953"/>
                  <a:pt x="10624" y="16963"/>
                  <a:pt x="10616" y="16966"/>
                </a:cubicBezTo>
                <a:cubicBezTo>
                  <a:pt x="10574" y="16983"/>
                  <a:pt x="10568" y="16999"/>
                  <a:pt x="10542" y="17016"/>
                </a:cubicBezTo>
                <a:cubicBezTo>
                  <a:pt x="10514" y="17034"/>
                  <a:pt x="10524" y="17056"/>
                  <a:pt x="10492" y="17066"/>
                </a:cubicBezTo>
                <a:cubicBezTo>
                  <a:pt x="10468" y="17066"/>
                  <a:pt x="10460" y="17066"/>
                  <a:pt x="10468" y="17041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106960"/>
            <a:ext cx="857160" cy="135000"/>
          </a:xfrm>
          <a:custGeom>
            <a:avLst/>
            <a:gdLst/>
            <a:ahLst/>
            <a:rect l="l" t="t" r="r" b="b"/>
            <a:pathLst>
              <a:path w="2382" h="373">
                <a:moveTo>
                  <a:pt x="1910" y="14238"/>
                </a:moveTo>
                <a:cubicBezTo>
                  <a:pt x="1873" y="14238"/>
                  <a:pt x="1716" y="14238"/>
                  <a:pt x="1761" y="14238"/>
                </a:cubicBezTo>
                <a:cubicBezTo>
                  <a:pt x="1800" y="14238"/>
                  <a:pt x="1885" y="14257"/>
                  <a:pt x="1885" y="14213"/>
                </a:cubicBezTo>
                <a:cubicBezTo>
                  <a:pt x="1885" y="14188"/>
                  <a:pt x="1885" y="14180"/>
                  <a:pt x="1860" y="14188"/>
                </a:cubicBezTo>
                <a:cubicBezTo>
                  <a:pt x="1831" y="14206"/>
                  <a:pt x="1822" y="14195"/>
                  <a:pt x="1786" y="14213"/>
                </a:cubicBezTo>
                <a:cubicBezTo>
                  <a:pt x="1753" y="14230"/>
                  <a:pt x="1762" y="14235"/>
                  <a:pt x="1712" y="14238"/>
                </a:cubicBezTo>
                <a:cubicBezTo>
                  <a:pt x="1650" y="14242"/>
                  <a:pt x="1565" y="14258"/>
                  <a:pt x="1538" y="14263"/>
                </a:cubicBezTo>
                <a:cubicBezTo>
                  <a:pt x="1476" y="14275"/>
                  <a:pt x="1393" y="14279"/>
                  <a:pt x="1339" y="14288"/>
                </a:cubicBezTo>
                <a:cubicBezTo>
                  <a:pt x="1275" y="14299"/>
                  <a:pt x="1196" y="14303"/>
                  <a:pt x="1141" y="14312"/>
                </a:cubicBezTo>
                <a:cubicBezTo>
                  <a:pt x="1036" y="14329"/>
                  <a:pt x="913" y="14321"/>
                  <a:pt x="819" y="14337"/>
                </a:cubicBezTo>
                <a:cubicBezTo>
                  <a:pt x="780" y="14344"/>
                  <a:pt x="734" y="14337"/>
                  <a:pt x="695" y="14337"/>
                </a:cubicBezTo>
                <a:cubicBezTo>
                  <a:pt x="719" y="14352"/>
                  <a:pt x="716" y="14360"/>
                  <a:pt x="769" y="14362"/>
                </a:cubicBezTo>
                <a:cubicBezTo>
                  <a:pt x="953" y="14370"/>
                  <a:pt x="1146" y="14358"/>
                  <a:pt x="1315" y="14387"/>
                </a:cubicBezTo>
                <a:cubicBezTo>
                  <a:pt x="1600" y="14435"/>
                  <a:pt x="1957" y="14361"/>
                  <a:pt x="2208" y="14412"/>
                </a:cubicBezTo>
                <a:cubicBezTo>
                  <a:pt x="2255" y="14422"/>
                  <a:pt x="2246" y="14429"/>
                  <a:pt x="2282" y="14436"/>
                </a:cubicBezTo>
                <a:cubicBezTo>
                  <a:pt x="2331" y="14445"/>
                  <a:pt x="2320" y="14454"/>
                  <a:pt x="2356" y="14461"/>
                </a:cubicBezTo>
                <a:cubicBezTo>
                  <a:pt x="2401" y="14470"/>
                  <a:pt x="2463" y="14480"/>
                  <a:pt x="2480" y="14486"/>
                </a:cubicBezTo>
                <a:cubicBezTo>
                  <a:pt x="2521" y="14500"/>
                  <a:pt x="2560" y="14509"/>
                  <a:pt x="2604" y="14511"/>
                </a:cubicBezTo>
                <a:cubicBezTo>
                  <a:pt x="2703" y="14515"/>
                  <a:pt x="2694" y="14546"/>
                  <a:pt x="2778" y="14560"/>
                </a:cubicBezTo>
                <a:cubicBezTo>
                  <a:pt x="2862" y="14574"/>
                  <a:pt x="2965" y="14560"/>
                  <a:pt x="3051" y="14560"/>
                </a:cubicBezTo>
                <a:cubicBezTo>
                  <a:pt x="3051" y="14501"/>
                  <a:pt x="3068" y="14457"/>
                  <a:pt x="3076" y="14412"/>
                </a:cubicBezTo>
                <a:cubicBezTo>
                  <a:pt x="3080" y="14388"/>
                  <a:pt x="3073" y="14361"/>
                  <a:pt x="3076" y="14337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87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051" y="14089"/>
                </a:moveTo>
                <a:lnTo>
                  <a:pt x="3051" y="14089"/>
                </a:ln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76200" y="5527800"/>
            <a:ext cx="598680" cy="71280"/>
          </a:xfrm>
          <a:custGeom>
            <a:avLst/>
            <a:gdLst/>
            <a:ahLst/>
            <a:rect l="l" t="t" r="r" b="b"/>
            <a:pathLst>
              <a:path w="1663" h="200">
                <a:moveTo>
                  <a:pt x="3547" y="15354"/>
                </a:moveTo>
                <a:cubicBezTo>
                  <a:pt x="3547" y="15379"/>
                  <a:pt x="3547" y="15387"/>
                  <a:pt x="3547" y="15404"/>
                </a:cubicBezTo>
                <a:cubicBezTo>
                  <a:pt x="3572" y="15404"/>
                  <a:pt x="3596" y="15404"/>
                  <a:pt x="3621" y="15404"/>
                </a:cubicBezTo>
                <a:cubicBezTo>
                  <a:pt x="3637" y="15417"/>
                  <a:pt x="3660" y="15439"/>
                  <a:pt x="3696" y="15453"/>
                </a:cubicBezTo>
                <a:cubicBezTo>
                  <a:pt x="3733" y="15468"/>
                  <a:pt x="3751" y="15486"/>
                  <a:pt x="3770" y="15503"/>
                </a:cubicBezTo>
                <a:cubicBezTo>
                  <a:pt x="3850" y="15503"/>
                  <a:pt x="3983" y="15480"/>
                  <a:pt x="4043" y="15528"/>
                </a:cubicBezTo>
                <a:cubicBezTo>
                  <a:pt x="4083" y="15560"/>
                  <a:pt x="4116" y="15553"/>
                  <a:pt x="4167" y="15553"/>
                </a:cubicBezTo>
                <a:cubicBezTo>
                  <a:pt x="4514" y="15553"/>
                  <a:pt x="4862" y="15553"/>
                  <a:pt x="5209" y="15553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720" y="5599080"/>
            <a:ext cx="474480" cy="142920"/>
          </a:xfrm>
          <a:custGeom>
            <a:avLst/>
            <a:gdLst/>
            <a:ahLst/>
            <a:rect l="l" t="t" r="r" b="b"/>
            <a:pathLst>
              <a:path w="1315" h="397">
                <a:moveTo>
                  <a:pt x="6003" y="15553"/>
                </a:moveTo>
                <a:cubicBezTo>
                  <a:pt x="6045" y="15577"/>
                  <a:pt x="6052" y="15574"/>
                  <a:pt x="6102" y="15577"/>
                </a:cubicBezTo>
                <a:cubicBezTo>
                  <a:pt x="6254" y="15585"/>
                  <a:pt x="6410" y="15574"/>
                  <a:pt x="6548" y="15602"/>
                </a:cubicBezTo>
                <a:cubicBezTo>
                  <a:pt x="6614" y="15615"/>
                  <a:pt x="6664" y="15647"/>
                  <a:pt x="6722" y="15677"/>
                </a:cubicBezTo>
                <a:cubicBezTo>
                  <a:pt x="6771" y="15703"/>
                  <a:pt x="6804" y="15683"/>
                  <a:pt x="6846" y="15701"/>
                </a:cubicBezTo>
                <a:cubicBezTo>
                  <a:pt x="6887" y="15719"/>
                  <a:pt x="6925" y="15743"/>
                  <a:pt x="6970" y="15751"/>
                </a:cubicBezTo>
                <a:cubicBezTo>
                  <a:pt x="7016" y="15759"/>
                  <a:pt x="7046" y="15765"/>
                  <a:pt x="7094" y="15801"/>
                </a:cubicBezTo>
                <a:cubicBezTo>
                  <a:pt x="7133" y="15830"/>
                  <a:pt x="7145" y="15823"/>
                  <a:pt x="7193" y="15825"/>
                </a:cubicBezTo>
                <a:cubicBezTo>
                  <a:pt x="7252" y="15827"/>
                  <a:pt x="7257" y="15839"/>
                  <a:pt x="7293" y="15850"/>
                </a:cubicBezTo>
                <a:cubicBezTo>
                  <a:pt x="7301" y="15850"/>
                  <a:pt x="7309" y="15850"/>
                  <a:pt x="7317" y="15850"/>
                </a:cubicBezTo>
                <a:cubicBezTo>
                  <a:pt x="7306" y="15890"/>
                  <a:pt x="7321" y="15910"/>
                  <a:pt x="7268" y="15925"/>
                </a:cubicBezTo>
                <a:cubicBezTo>
                  <a:pt x="7148" y="15960"/>
                  <a:pt x="6937" y="15933"/>
                  <a:pt x="6846" y="15949"/>
                </a:cubicBezTo>
                <a:cubicBezTo>
                  <a:pt x="6794" y="15958"/>
                  <a:pt x="6770" y="15933"/>
                  <a:pt x="6722" y="15925"/>
                </a:cubicBezTo>
                <a:cubicBezTo>
                  <a:pt x="6662" y="15915"/>
                  <a:pt x="6623" y="15936"/>
                  <a:pt x="6573" y="15900"/>
                </a:cubicBezTo>
                <a:cubicBezTo>
                  <a:pt x="6547" y="15881"/>
                  <a:pt x="6532" y="15883"/>
                  <a:pt x="6499" y="15850"/>
                </a:cubicBezTo>
                <a:cubicBezTo>
                  <a:pt x="6466" y="15817"/>
                  <a:pt x="6307" y="15760"/>
                  <a:pt x="6251" y="15751"/>
                </a:cubicBezTo>
                <a:cubicBezTo>
                  <a:pt x="6218" y="15751"/>
                  <a:pt x="6185" y="15751"/>
                  <a:pt x="6152" y="15751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31960" y="5643720"/>
            <a:ext cx="268200" cy="152280"/>
          </a:xfrm>
          <a:custGeom>
            <a:avLst/>
            <a:gdLst/>
            <a:ahLst/>
            <a:rect l="l" t="t" r="r" b="b"/>
            <a:pathLst>
              <a:path w="745" h="422">
                <a:moveTo>
                  <a:pt x="5060" y="15751"/>
                </a:moveTo>
                <a:cubicBezTo>
                  <a:pt x="5060" y="15814"/>
                  <a:pt x="5068" y="15848"/>
                  <a:pt x="5085" y="15900"/>
                </a:cubicBezTo>
                <a:cubicBezTo>
                  <a:pt x="5095" y="15930"/>
                  <a:pt x="5107" y="15970"/>
                  <a:pt x="5110" y="15999"/>
                </a:cubicBezTo>
                <a:cubicBezTo>
                  <a:pt x="5113" y="16023"/>
                  <a:pt x="5110" y="16049"/>
                  <a:pt x="5110" y="16073"/>
                </a:cubicBezTo>
                <a:cubicBezTo>
                  <a:pt x="5236" y="16073"/>
                  <a:pt x="5422" y="16054"/>
                  <a:pt x="5507" y="16098"/>
                </a:cubicBezTo>
                <a:cubicBezTo>
                  <a:pt x="5540" y="16115"/>
                  <a:pt x="5577" y="16098"/>
                  <a:pt x="5507" y="16098"/>
                </a:cubicBezTo>
                <a:cubicBezTo>
                  <a:pt x="5275" y="16098"/>
                  <a:pt x="5044" y="16098"/>
                  <a:pt x="4812" y="16098"/>
                </a:cubicBezTo>
                <a:cubicBezTo>
                  <a:pt x="4856" y="16083"/>
                  <a:pt x="4863" y="16056"/>
                  <a:pt x="4936" y="16024"/>
                </a:cubicBezTo>
                <a:cubicBezTo>
                  <a:pt x="4984" y="16003"/>
                  <a:pt x="5059" y="16006"/>
                  <a:pt x="5085" y="15949"/>
                </a:cubicBezTo>
                <a:cubicBezTo>
                  <a:pt x="5106" y="15903"/>
                  <a:pt x="5080" y="15839"/>
                  <a:pt x="5060" y="15825"/>
                </a:cubicBezTo>
                <a:cubicBezTo>
                  <a:pt x="5023" y="15798"/>
                  <a:pt x="5011" y="15795"/>
                  <a:pt x="4986" y="15776"/>
                </a:cubicBezTo>
                <a:cubicBezTo>
                  <a:pt x="4970" y="15764"/>
                  <a:pt x="4919" y="15717"/>
                  <a:pt x="4911" y="15701"/>
                </a:cubicBezTo>
                <a:cubicBezTo>
                  <a:pt x="4911" y="15693"/>
                  <a:pt x="4911" y="15685"/>
                  <a:pt x="4911" y="15677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00120" y="5589720"/>
            <a:ext cx="330120" cy="54000"/>
          </a:xfrm>
          <a:custGeom>
            <a:avLst/>
            <a:gdLst/>
            <a:ahLst/>
            <a:rect l="l" t="t" r="r" b="b"/>
            <a:pathLst>
              <a:path w="919" h="150">
                <a:moveTo>
                  <a:pt x="4887" y="15627"/>
                </a:moveTo>
                <a:cubicBezTo>
                  <a:pt x="4831" y="15627"/>
                  <a:pt x="4812" y="15614"/>
                  <a:pt x="4787" y="15602"/>
                </a:cubicBezTo>
                <a:cubicBezTo>
                  <a:pt x="4765" y="15591"/>
                  <a:pt x="4719" y="15580"/>
                  <a:pt x="4713" y="15577"/>
                </a:cubicBezTo>
                <a:cubicBezTo>
                  <a:pt x="4685" y="15563"/>
                  <a:pt x="4650" y="15577"/>
                  <a:pt x="4638" y="15553"/>
                </a:cubicBezTo>
                <a:cubicBezTo>
                  <a:pt x="4621" y="15518"/>
                  <a:pt x="4613" y="15528"/>
                  <a:pt x="4564" y="15528"/>
                </a:cubicBezTo>
                <a:cubicBezTo>
                  <a:pt x="4432" y="15528"/>
                  <a:pt x="4299" y="15528"/>
                  <a:pt x="4167" y="15528"/>
                </a:cubicBezTo>
                <a:cubicBezTo>
                  <a:pt x="4176" y="15555"/>
                  <a:pt x="4185" y="15573"/>
                  <a:pt x="4217" y="15577"/>
                </a:cubicBezTo>
                <a:cubicBezTo>
                  <a:pt x="4258" y="15582"/>
                  <a:pt x="4282" y="15578"/>
                  <a:pt x="4316" y="15602"/>
                </a:cubicBezTo>
                <a:cubicBezTo>
                  <a:pt x="4341" y="15620"/>
                  <a:pt x="4336" y="15627"/>
                  <a:pt x="4390" y="15627"/>
                </a:cubicBezTo>
                <a:cubicBezTo>
                  <a:pt x="4531" y="15627"/>
                  <a:pt x="4938" y="15564"/>
                  <a:pt x="5035" y="15652"/>
                </a:cubicBezTo>
                <a:cubicBezTo>
                  <a:pt x="5058" y="15675"/>
                  <a:pt x="5062" y="15683"/>
                  <a:pt x="5085" y="15677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32120" y="6126120"/>
            <a:ext cx="81000" cy="17640"/>
          </a:xfrm>
          <a:custGeom>
            <a:avLst/>
            <a:gdLst/>
            <a:ahLst/>
            <a:rect l="l" t="t" r="r" b="b"/>
            <a:pathLst>
              <a:path w="225" h="51">
                <a:moveTo>
                  <a:pt x="10592" y="17041"/>
                </a:moveTo>
                <a:cubicBezTo>
                  <a:pt x="10554" y="17012"/>
                  <a:pt x="10541" y="17016"/>
                  <a:pt x="10492" y="17016"/>
                </a:cubicBezTo>
                <a:cubicBezTo>
                  <a:pt x="10468" y="17016"/>
                  <a:pt x="10459" y="17016"/>
                  <a:pt x="10443" y="17016"/>
                </a:cubicBezTo>
                <a:cubicBezTo>
                  <a:pt x="10427" y="17063"/>
                  <a:pt x="10409" y="17019"/>
                  <a:pt x="10393" y="17066"/>
                </a:cubicBezTo>
                <a:cubicBezTo>
                  <a:pt x="10385" y="17058"/>
                  <a:pt x="10376" y="17049"/>
                  <a:pt x="10368" y="17041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97000" y="5429160"/>
            <a:ext cx="490680" cy="98640"/>
          </a:xfrm>
          <a:custGeom>
            <a:avLst/>
            <a:gdLst/>
            <a:ahLst/>
            <a:rect l="l" t="t" r="r" b="b"/>
            <a:pathLst>
              <a:path w="1365" h="274">
                <a:moveTo>
                  <a:pt x="3324" y="15081"/>
                </a:moveTo>
                <a:cubicBezTo>
                  <a:pt x="3337" y="15120"/>
                  <a:pt x="3379" y="15124"/>
                  <a:pt x="3423" y="15156"/>
                </a:cubicBezTo>
                <a:cubicBezTo>
                  <a:pt x="3468" y="15189"/>
                  <a:pt x="3491" y="15205"/>
                  <a:pt x="3547" y="15205"/>
                </a:cubicBezTo>
                <a:cubicBezTo>
                  <a:pt x="3598" y="15205"/>
                  <a:pt x="3577" y="15164"/>
                  <a:pt x="3597" y="15205"/>
                </a:cubicBezTo>
                <a:cubicBezTo>
                  <a:pt x="3566" y="15205"/>
                  <a:pt x="3530" y="15213"/>
                  <a:pt x="3522" y="15230"/>
                </a:cubicBezTo>
                <a:cubicBezTo>
                  <a:pt x="3509" y="15256"/>
                  <a:pt x="3522" y="15324"/>
                  <a:pt x="3522" y="15354"/>
                </a:cubicBezTo>
                <a:cubicBezTo>
                  <a:pt x="3578" y="15354"/>
                  <a:pt x="3601" y="15343"/>
                  <a:pt x="3646" y="15329"/>
                </a:cubicBezTo>
                <a:cubicBezTo>
                  <a:pt x="3703" y="15312"/>
                  <a:pt x="3752" y="15283"/>
                  <a:pt x="3820" y="15280"/>
                </a:cubicBezTo>
                <a:cubicBezTo>
                  <a:pt x="3964" y="15274"/>
                  <a:pt x="4124" y="15250"/>
                  <a:pt x="4266" y="15230"/>
                </a:cubicBezTo>
                <a:cubicBezTo>
                  <a:pt x="4385" y="15213"/>
                  <a:pt x="4492" y="15205"/>
                  <a:pt x="4614" y="15205"/>
                </a:cubicBezTo>
                <a:cubicBezTo>
                  <a:pt x="4695" y="15205"/>
                  <a:pt x="4637" y="15197"/>
                  <a:pt x="4688" y="15180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0040" y="5661000"/>
            <a:ext cx="339840" cy="179280"/>
          </a:xfrm>
          <a:custGeom>
            <a:avLst/>
            <a:gdLst/>
            <a:ahLst/>
            <a:rect l="l" t="t" r="r" b="b"/>
            <a:pathLst>
              <a:path w="944" h="497">
                <a:moveTo>
                  <a:pt x="4837" y="15726"/>
                </a:moveTo>
                <a:cubicBezTo>
                  <a:pt x="4826" y="15759"/>
                  <a:pt x="4797" y="15756"/>
                  <a:pt x="4787" y="15776"/>
                </a:cubicBezTo>
                <a:cubicBezTo>
                  <a:pt x="4766" y="15818"/>
                  <a:pt x="4756" y="15837"/>
                  <a:pt x="4738" y="15875"/>
                </a:cubicBezTo>
                <a:cubicBezTo>
                  <a:pt x="4721" y="15909"/>
                  <a:pt x="4727" y="15944"/>
                  <a:pt x="4688" y="15949"/>
                </a:cubicBezTo>
                <a:cubicBezTo>
                  <a:pt x="4663" y="15949"/>
                  <a:pt x="4655" y="15949"/>
                  <a:pt x="4638" y="15949"/>
                </a:cubicBezTo>
                <a:cubicBezTo>
                  <a:pt x="4649" y="15982"/>
                  <a:pt x="4678" y="15979"/>
                  <a:pt x="4688" y="15999"/>
                </a:cubicBezTo>
                <a:cubicBezTo>
                  <a:pt x="4700" y="16024"/>
                  <a:pt x="4734" y="16065"/>
                  <a:pt x="4738" y="16073"/>
                </a:cubicBezTo>
                <a:cubicBezTo>
                  <a:pt x="4754" y="16104"/>
                  <a:pt x="4738" y="16186"/>
                  <a:pt x="4738" y="16222"/>
                </a:cubicBezTo>
                <a:cubicBezTo>
                  <a:pt x="4840" y="16222"/>
                  <a:pt x="4970" y="16230"/>
                  <a:pt x="5035" y="16197"/>
                </a:cubicBezTo>
                <a:cubicBezTo>
                  <a:pt x="5074" y="16177"/>
                  <a:pt x="5161" y="16184"/>
                  <a:pt x="5184" y="16173"/>
                </a:cubicBezTo>
                <a:cubicBezTo>
                  <a:pt x="5226" y="16153"/>
                  <a:pt x="5308" y="16161"/>
                  <a:pt x="5333" y="16148"/>
                </a:cubicBezTo>
                <a:cubicBezTo>
                  <a:pt x="5355" y="16137"/>
                  <a:pt x="5400" y="16126"/>
                  <a:pt x="5407" y="16123"/>
                </a:cubicBezTo>
                <a:cubicBezTo>
                  <a:pt x="5442" y="16106"/>
                  <a:pt x="5432" y="16097"/>
                  <a:pt x="5432" y="16049"/>
                </a:cubicBezTo>
                <a:cubicBezTo>
                  <a:pt x="5432" y="16009"/>
                  <a:pt x="5457" y="15994"/>
                  <a:pt x="5457" y="15949"/>
                </a:cubicBezTo>
                <a:cubicBezTo>
                  <a:pt x="5457" y="15904"/>
                  <a:pt x="5499" y="15891"/>
                  <a:pt x="5507" y="15875"/>
                </a:cubicBezTo>
                <a:cubicBezTo>
                  <a:pt x="5530" y="15829"/>
                  <a:pt x="5477" y="15795"/>
                  <a:pt x="5531" y="15776"/>
                </a:cubicBezTo>
                <a:cubicBezTo>
                  <a:pt x="5570" y="15789"/>
                  <a:pt x="5563" y="15887"/>
                  <a:pt x="5581" y="15850"/>
                </a:cubicBezTo>
                <a:cubicBezTo>
                  <a:pt x="5581" y="15842"/>
                  <a:pt x="5581" y="15833"/>
                  <a:pt x="5581" y="15825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31960" y="584820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4887" y="16247"/>
                </a:moveTo>
                <a:cubicBezTo>
                  <a:pt x="4887" y="16255"/>
                  <a:pt x="4887" y="16264"/>
                  <a:pt x="4887" y="16272"/>
                </a:cubicBezTo>
                <a:cubicBezTo>
                  <a:pt x="4847" y="16285"/>
                  <a:pt x="4877" y="16284"/>
                  <a:pt x="4837" y="16297"/>
                </a:cubicBezTo>
                <a:cubicBezTo>
                  <a:pt x="4837" y="16321"/>
                  <a:pt x="4837" y="16329"/>
                  <a:pt x="4812" y="16321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43040" y="5892840"/>
            <a:ext cx="88920" cy="3636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4812" y="16371"/>
                </a:moveTo>
                <a:cubicBezTo>
                  <a:pt x="4812" y="16396"/>
                  <a:pt x="4812" y="16421"/>
                  <a:pt x="4812" y="16446"/>
                </a:cubicBezTo>
                <a:cubicBezTo>
                  <a:pt x="4787" y="16446"/>
                  <a:pt x="4763" y="16446"/>
                  <a:pt x="4738" y="16446"/>
                </a:cubicBezTo>
                <a:cubicBezTo>
                  <a:pt x="4725" y="16482"/>
                  <a:pt x="4707" y="16470"/>
                  <a:pt x="4663" y="16470"/>
                </a:cubicBezTo>
                <a:cubicBezTo>
                  <a:pt x="4617" y="16470"/>
                  <a:pt x="4577" y="16484"/>
                  <a:pt x="4564" y="16446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3160" y="5742000"/>
            <a:ext cx="63720" cy="81000"/>
          </a:xfrm>
          <a:custGeom>
            <a:avLst/>
            <a:gdLst/>
            <a:ahLst/>
            <a:rect l="l" t="t" r="r" b="b"/>
            <a:pathLst>
              <a:path w="174" h="225">
                <a:moveTo>
                  <a:pt x="5482" y="16173"/>
                </a:moveTo>
                <a:cubicBezTo>
                  <a:pt x="5528" y="16173"/>
                  <a:pt x="5546" y="16179"/>
                  <a:pt x="5581" y="16148"/>
                </a:cubicBezTo>
                <a:cubicBezTo>
                  <a:pt x="5604" y="16125"/>
                  <a:pt x="5608" y="16117"/>
                  <a:pt x="5631" y="16123"/>
                </a:cubicBezTo>
                <a:cubicBezTo>
                  <a:pt x="5643" y="16086"/>
                  <a:pt x="5655" y="16101"/>
                  <a:pt x="5655" y="16049"/>
                </a:cubicBezTo>
                <a:cubicBezTo>
                  <a:pt x="5655" y="16016"/>
                  <a:pt x="5655" y="15982"/>
                  <a:pt x="5655" y="15949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52360" y="4991040"/>
            <a:ext cx="268560" cy="100080"/>
          </a:xfrm>
          <a:custGeom>
            <a:avLst/>
            <a:gdLst/>
            <a:ahLst/>
            <a:rect l="l" t="t" r="r" b="b"/>
            <a:pathLst>
              <a:path w="745" h="274">
                <a:moveTo>
                  <a:pt x="3696" y="14139"/>
                </a:moveTo>
                <a:cubicBezTo>
                  <a:pt x="3696" y="14082"/>
                  <a:pt x="3708" y="14064"/>
                  <a:pt x="3721" y="14039"/>
                </a:cubicBezTo>
                <a:cubicBezTo>
                  <a:pt x="3727" y="14026"/>
                  <a:pt x="3767" y="13973"/>
                  <a:pt x="3795" y="13965"/>
                </a:cubicBezTo>
                <a:cubicBezTo>
                  <a:pt x="3856" y="13947"/>
                  <a:pt x="3836" y="13934"/>
                  <a:pt x="3894" y="13915"/>
                </a:cubicBezTo>
                <a:cubicBezTo>
                  <a:pt x="3926" y="13904"/>
                  <a:pt x="3933" y="13898"/>
                  <a:pt x="3944" y="13866"/>
                </a:cubicBezTo>
                <a:cubicBezTo>
                  <a:pt x="3888" y="13866"/>
                  <a:pt x="3837" y="13854"/>
                  <a:pt x="3795" y="13891"/>
                </a:cubicBezTo>
                <a:cubicBezTo>
                  <a:pt x="3777" y="13906"/>
                  <a:pt x="3725" y="13938"/>
                  <a:pt x="3721" y="13940"/>
                </a:cubicBezTo>
                <a:cubicBezTo>
                  <a:pt x="3701" y="13950"/>
                  <a:pt x="3641" y="13958"/>
                  <a:pt x="3621" y="13965"/>
                </a:cubicBezTo>
                <a:cubicBezTo>
                  <a:pt x="3581" y="13978"/>
                  <a:pt x="3534" y="13977"/>
                  <a:pt x="3497" y="13990"/>
                </a:cubicBezTo>
                <a:cubicBezTo>
                  <a:pt x="3482" y="13995"/>
                  <a:pt x="3436" y="14014"/>
                  <a:pt x="3423" y="14039"/>
                </a:cubicBezTo>
                <a:cubicBezTo>
                  <a:pt x="3410" y="14065"/>
                  <a:pt x="3408" y="14085"/>
                  <a:pt x="3373" y="14089"/>
                </a:cubicBezTo>
                <a:cubicBezTo>
                  <a:pt x="3314" y="14097"/>
                  <a:pt x="3249" y="14096"/>
                  <a:pt x="3225" y="14064"/>
                </a:cubicBezTo>
                <a:cubicBezTo>
                  <a:pt x="3217" y="14056"/>
                  <a:pt x="3208" y="14047"/>
                  <a:pt x="3200" y="14039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0240" y="5045040"/>
            <a:ext cx="465120" cy="142920"/>
          </a:xfrm>
          <a:custGeom>
            <a:avLst/>
            <a:gdLst/>
            <a:ahLst/>
            <a:rect l="l" t="t" r="r" b="b"/>
            <a:pathLst>
              <a:path w="1290" h="398">
                <a:moveTo>
                  <a:pt x="3125" y="14263"/>
                </a:moveTo>
                <a:cubicBezTo>
                  <a:pt x="3117" y="14263"/>
                  <a:pt x="3109" y="14263"/>
                  <a:pt x="3101" y="14263"/>
                </a:cubicBezTo>
                <a:cubicBezTo>
                  <a:pt x="3093" y="14269"/>
                  <a:pt x="3039" y="14291"/>
                  <a:pt x="3026" y="14312"/>
                </a:cubicBezTo>
                <a:cubicBezTo>
                  <a:pt x="3026" y="14320"/>
                  <a:pt x="3026" y="14329"/>
                  <a:pt x="3026" y="14337"/>
                </a:cubicBezTo>
                <a:cubicBezTo>
                  <a:pt x="3006" y="14352"/>
                  <a:pt x="2997" y="14347"/>
                  <a:pt x="2977" y="14362"/>
                </a:cubicBezTo>
                <a:cubicBezTo>
                  <a:pt x="2962" y="14383"/>
                  <a:pt x="2968" y="14391"/>
                  <a:pt x="2952" y="14412"/>
                </a:cubicBezTo>
                <a:cubicBezTo>
                  <a:pt x="2795" y="14412"/>
                  <a:pt x="2637" y="14412"/>
                  <a:pt x="2480" y="14412"/>
                </a:cubicBezTo>
                <a:cubicBezTo>
                  <a:pt x="2470" y="14388"/>
                  <a:pt x="2466" y="14361"/>
                  <a:pt x="2456" y="14337"/>
                </a:cubicBezTo>
                <a:cubicBezTo>
                  <a:pt x="2436" y="14311"/>
                  <a:pt x="2439" y="14338"/>
                  <a:pt x="2431" y="14288"/>
                </a:cubicBezTo>
                <a:cubicBezTo>
                  <a:pt x="2410" y="14273"/>
                  <a:pt x="2402" y="14278"/>
                  <a:pt x="2381" y="14263"/>
                </a:cubicBezTo>
                <a:cubicBezTo>
                  <a:pt x="2381" y="14180"/>
                  <a:pt x="2381" y="14098"/>
                  <a:pt x="2381" y="14015"/>
                </a:cubicBezTo>
                <a:cubicBezTo>
                  <a:pt x="2199" y="14015"/>
                  <a:pt x="2018" y="14015"/>
                  <a:pt x="1836" y="14015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38160" y="5456160"/>
            <a:ext cx="776520" cy="61920"/>
          </a:xfrm>
          <a:custGeom>
            <a:avLst/>
            <a:gdLst/>
            <a:ahLst/>
            <a:rect l="l" t="t" r="r" b="b"/>
            <a:pathLst>
              <a:path w="2159" h="174">
                <a:moveTo>
                  <a:pt x="3721" y="15329"/>
                </a:moveTo>
                <a:cubicBezTo>
                  <a:pt x="3681" y="15324"/>
                  <a:pt x="3652" y="15310"/>
                  <a:pt x="3621" y="15304"/>
                </a:cubicBezTo>
                <a:cubicBezTo>
                  <a:pt x="3583" y="15296"/>
                  <a:pt x="3558" y="15286"/>
                  <a:pt x="3522" y="15280"/>
                </a:cubicBezTo>
                <a:cubicBezTo>
                  <a:pt x="3473" y="15272"/>
                  <a:pt x="3464" y="15242"/>
                  <a:pt x="3423" y="15230"/>
                </a:cubicBezTo>
                <a:cubicBezTo>
                  <a:pt x="3380" y="15218"/>
                  <a:pt x="3381" y="15211"/>
                  <a:pt x="3349" y="15205"/>
                </a:cubicBezTo>
                <a:cubicBezTo>
                  <a:pt x="3315" y="15198"/>
                  <a:pt x="3275" y="15185"/>
                  <a:pt x="3249" y="15180"/>
                </a:cubicBezTo>
                <a:cubicBezTo>
                  <a:pt x="3211" y="15172"/>
                  <a:pt x="3186" y="15162"/>
                  <a:pt x="3150" y="15156"/>
                </a:cubicBezTo>
                <a:cubicBezTo>
                  <a:pt x="2962" y="15126"/>
                  <a:pt x="2439" y="15156"/>
                  <a:pt x="2629" y="15156"/>
                </a:cubicBezTo>
                <a:cubicBezTo>
                  <a:pt x="2693" y="15156"/>
                  <a:pt x="2774" y="15174"/>
                  <a:pt x="2803" y="15180"/>
                </a:cubicBezTo>
                <a:cubicBezTo>
                  <a:pt x="2852" y="15189"/>
                  <a:pt x="2841" y="15198"/>
                  <a:pt x="2877" y="15205"/>
                </a:cubicBezTo>
                <a:cubicBezTo>
                  <a:pt x="2926" y="15215"/>
                  <a:pt x="2952" y="15222"/>
                  <a:pt x="3001" y="15230"/>
                </a:cubicBezTo>
                <a:cubicBezTo>
                  <a:pt x="3149" y="15255"/>
                  <a:pt x="3304" y="15199"/>
                  <a:pt x="3448" y="15255"/>
                </a:cubicBezTo>
                <a:cubicBezTo>
                  <a:pt x="3518" y="15282"/>
                  <a:pt x="3570" y="15280"/>
                  <a:pt x="3646" y="15280"/>
                </a:cubicBezTo>
                <a:cubicBezTo>
                  <a:pt x="3895" y="15280"/>
                  <a:pt x="4150" y="15287"/>
                  <a:pt x="4390" y="15255"/>
                </a:cubicBezTo>
                <a:cubicBezTo>
                  <a:pt x="4482" y="15243"/>
                  <a:pt x="4569" y="15230"/>
                  <a:pt x="4663" y="15230"/>
                </a:cubicBezTo>
                <a:cubicBezTo>
                  <a:pt x="4696" y="15230"/>
                  <a:pt x="4729" y="15230"/>
                  <a:pt x="4762" y="15230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13080" y="6081840"/>
            <a:ext cx="679320" cy="214200"/>
          </a:xfrm>
          <a:custGeom>
            <a:avLst/>
            <a:gdLst/>
            <a:ahLst/>
            <a:rect l="l" t="t" r="r" b="b"/>
            <a:pathLst>
              <a:path w="1886" h="596">
                <a:moveTo>
                  <a:pt x="10368" y="17214"/>
                </a:moveTo>
                <a:cubicBezTo>
                  <a:pt x="10259" y="17214"/>
                  <a:pt x="10116" y="17226"/>
                  <a:pt x="10046" y="17239"/>
                </a:cubicBezTo>
                <a:cubicBezTo>
                  <a:pt x="9968" y="17254"/>
                  <a:pt x="9895" y="17238"/>
                  <a:pt x="9847" y="17264"/>
                </a:cubicBezTo>
                <a:cubicBezTo>
                  <a:pt x="9815" y="17281"/>
                  <a:pt x="9787" y="17287"/>
                  <a:pt x="9748" y="17289"/>
                </a:cubicBezTo>
                <a:cubicBezTo>
                  <a:pt x="9706" y="17291"/>
                  <a:pt x="9680" y="17309"/>
                  <a:pt x="9649" y="17314"/>
                </a:cubicBezTo>
                <a:cubicBezTo>
                  <a:pt x="9582" y="17325"/>
                  <a:pt x="9629" y="17342"/>
                  <a:pt x="9575" y="17363"/>
                </a:cubicBezTo>
                <a:cubicBezTo>
                  <a:pt x="9548" y="17374"/>
                  <a:pt x="9427" y="17388"/>
                  <a:pt x="9426" y="17388"/>
                </a:cubicBezTo>
                <a:cubicBezTo>
                  <a:pt x="9382" y="17397"/>
                  <a:pt x="9378" y="17391"/>
                  <a:pt x="9351" y="17413"/>
                </a:cubicBezTo>
                <a:cubicBezTo>
                  <a:pt x="9333" y="17428"/>
                  <a:pt x="9313" y="17443"/>
                  <a:pt x="9277" y="17462"/>
                </a:cubicBezTo>
                <a:cubicBezTo>
                  <a:pt x="9256" y="17473"/>
                  <a:pt x="9224" y="17477"/>
                  <a:pt x="9203" y="17487"/>
                </a:cubicBezTo>
                <a:cubicBezTo>
                  <a:pt x="9210" y="17435"/>
                  <a:pt x="9206" y="17440"/>
                  <a:pt x="9227" y="17413"/>
                </a:cubicBezTo>
                <a:cubicBezTo>
                  <a:pt x="9250" y="17384"/>
                  <a:pt x="9244" y="17392"/>
                  <a:pt x="9252" y="17338"/>
                </a:cubicBezTo>
                <a:cubicBezTo>
                  <a:pt x="9318" y="17322"/>
                  <a:pt x="9337" y="17299"/>
                  <a:pt x="9401" y="17264"/>
                </a:cubicBezTo>
                <a:cubicBezTo>
                  <a:pt x="9444" y="17240"/>
                  <a:pt x="9472" y="17220"/>
                  <a:pt x="9525" y="17214"/>
                </a:cubicBezTo>
                <a:cubicBezTo>
                  <a:pt x="9562" y="17210"/>
                  <a:pt x="9596" y="17195"/>
                  <a:pt x="9624" y="17190"/>
                </a:cubicBezTo>
                <a:cubicBezTo>
                  <a:pt x="9685" y="17180"/>
                  <a:pt x="9659" y="17167"/>
                  <a:pt x="9723" y="17165"/>
                </a:cubicBezTo>
                <a:cubicBezTo>
                  <a:pt x="9782" y="17163"/>
                  <a:pt x="9829" y="17147"/>
                  <a:pt x="9872" y="17140"/>
                </a:cubicBezTo>
                <a:cubicBezTo>
                  <a:pt x="9928" y="17131"/>
                  <a:pt x="9975" y="17100"/>
                  <a:pt x="10021" y="17090"/>
                </a:cubicBezTo>
                <a:cubicBezTo>
                  <a:pt x="10179" y="17055"/>
                  <a:pt x="10414" y="17091"/>
                  <a:pt x="10542" y="17066"/>
                </a:cubicBezTo>
                <a:cubicBezTo>
                  <a:pt x="10607" y="17054"/>
                  <a:pt x="10657" y="17060"/>
                  <a:pt x="10716" y="17041"/>
                </a:cubicBezTo>
                <a:cubicBezTo>
                  <a:pt x="10774" y="17022"/>
                  <a:pt x="10829" y="17000"/>
                  <a:pt x="10889" y="16991"/>
                </a:cubicBezTo>
                <a:cubicBezTo>
                  <a:pt x="10945" y="16983"/>
                  <a:pt x="10991" y="16952"/>
                  <a:pt x="11038" y="16942"/>
                </a:cubicBezTo>
                <a:cubicBezTo>
                  <a:pt x="11102" y="16928"/>
                  <a:pt x="11069" y="16950"/>
                  <a:pt x="11088" y="16892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7160" y="5045040"/>
            <a:ext cx="258840" cy="108000"/>
          </a:xfrm>
          <a:custGeom>
            <a:avLst/>
            <a:gdLst/>
            <a:ahLst/>
            <a:rect l="l" t="t" r="r" b="b"/>
            <a:pathLst>
              <a:path w="721" h="298">
                <a:moveTo>
                  <a:pt x="2381" y="14015"/>
                </a:moveTo>
                <a:cubicBezTo>
                  <a:pt x="2381" y="14040"/>
                  <a:pt x="2381" y="14064"/>
                  <a:pt x="2381" y="14089"/>
                </a:cubicBezTo>
                <a:cubicBezTo>
                  <a:pt x="2419" y="14102"/>
                  <a:pt x="2406" y="14118"/>
                  <a:pt x="2406" y="14163"/>
                </a:cubicBezTo>
                <a:cubicBezTo>
                  <a:pt x="2406" y="14171"/>
                  <a:pt x="2406" y="14180"/>
                  <a:pt x="2406" y="14188"/>
                </a:cubicBezTo>
                <a:cubicBezTo>
                  <a:pt x="2441" y="14200"/>
                  <a:pt x="2431" y="14195"/>
                  <a:pt x="2431" y="14238"/>
                </a:cubicBezTo>
                <a:cubicBezTo>
                  <a:pt x="2466" y="14250"/>
                  <a:pt x="2456" y="14245"/>
                  <a:pt x="2456" y="14288"/>
                </a:cubicBezTo>
                <a:cubicBezTo>
                  <a:pt x="2492" y="14300"/>
                  <a:pt x="2477" y="14312"/>
                  <a:pt x="2530" y="14312"/>
                </a:cubicBezTo>
                <a:cubicBezTo>
                  <a:pt x="2622" y="14312"/>
                  <a:pt x="3079" y="14350"/>
                  <a:pt x="3101" y="14288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54120" y="5938920"/>
            <a:ext cx="115920" cy="54000"/>
          </a:xfrm>
          <a:custGeom>
            <a:avLst/>
            <a:gdLst/>
            <a:ahLst/>
            <a:rect l="l" t="t" r="r" b="b"/>
            <a:pathLst>
              <a:path w="323" h="150">
                <a:moveTo>
                  <a:pt x="4638" y="16495"/>
                </a:moveTo>
                <a:cubicBezTo>
                  <a:pt x="4635" y="16496"/>
                  <a:pt x="4567" y="16517"/>
                  <a:pt x="4564" y="16520"/>
                </a:cubicBezTo>
                <a:cubicBezTo>
                  <a:pt x="4537" y="16554"/>
                  <a:pt x="4577" y="16573"/>
                  <a:pt x="4514" y="16594"/>
                </a:cubicBezTo>
                <a:cubicBezTo>
                  <a:pt x="4481" y="16605"/>
                  <a:pt x="4485" y="16634"/>
                  <a:pt x="4465" y="16644"/>
                </a:cubicBezTo>
                <a:cubicBezTo>
                  <a:pt x="4434" y="16660"/>
                  <a:pt x="4352" y="16644"/>
                  <a:pt x="4316" y="16644"/>
                </a:cubicBezTo>
                <a:cubicBezTo>
                  <a:pt x="4334" y="16590"/>
                  <a:pt x="4368" y="16647"/>
                  <a:pt x="4415" y="16594"/>
                </a:cubicBezTo>
                <a:cubicBezTo>
                  <a:pt x="4422" y="16587"/>
                  <a:pt x="4463" y="16548"/>
                  <a:pt x="4465" y="16545"/>
                </a:cubicBezTo>
                <a:cubicBezTo>
                  <a:pt x="4485" y="16506"/>
                  <a:pt x="4433" y="16520"/>
                  <a:pt x="4415" y="16520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1160" y="5464080"/>
            <a:ext cx="17640" cy="460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2580" y="15180"/>
                </a:moveTo>
                <a:cubicBezTo>
                  <a:pt x="2580" y="15205"/>
                  <a:pt x="2580" y="15230"/>
                  <a:pt x="2580" y="15255"/>
                </a:cubicBezTo>
                <a:cubicBezTo>
                  <a:pt x="2533" y="15271"/>
                  <a:pt x="2577" y="15289"/>
                  <a:pt x="2530" y="15304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52360" y="4822920"/>
            <a:ext cx="2473560" cy="758880"/>
          </a:xfrm>
          <a:custGeom>
            <a:avLst/>
            <a:gdLst/>
            <a:ahLst/>
            <a:rect l="l" t="t" r="r" b="b"/>
            <a:pathLst>
              <a:path w="6872" h="2109">
                <a:moveTo>
                  <a:pt x="5383" y="14684"/>
                </a:moveTo>
                <a:cubicBezTo>
                  <a:pt x="5708" y="14684"/>
                  <a:pt x="6011" y="14636"/>
                  <a:pt x="6325" y="14610"/>
                </a:cubicBezTo>
                <a:cubicBezTo>
                  <a:pt x="6702" y="14579"/>
                  <a:pt x="7093" y="14633"/>
                  <a:pt x="7466" y="14560"/>
                </a:cubicBezTo>
                <a:cubicBezTo>
                  <a:pt x="7543" y="14541"/>
                  <a:pt x="7561" y="14549"/>
                  <a:pt x="7590" y="14511"/>
                </a:cubicBezTo>
                <a:cubicBezTo>
                  <a:pt x="7178" y="14511"/>
                  <a:pt x="6807" y="14584"/>
                  <a:pt x="6400" y="14635"/>
                </a:cubicBezTo>
                <a:cubicBezTo>
                  <a:pt x="6051" y="14679"/>
                  <a:pt x="5705" y="14727"/>
                  <a:pt x="5358" y="14784"/>
                </a:cubicBezTo>
                <a:cubicBezTo>
                  <a:pt x="5277" y="14797"/>
                  <a:pt x="4933" y="14808"/>
                  <a:pt x="4936" y="14808"/>
                </a:cubicBezTo>
                <a:cubicBezTo>
                  <a:pt x="5011" y="14808"/>
                  <a:pt x="5052" y="14808"/>
                  <a:pt x="5110" y="14808"/>
                </a:cubicBezTo>
                <a:cubicBezTo>
                  <a:pt x="5464" y="14839"/>
                  <a:pt x="5751" y="14776"/>
                  <a:pt x="6102" y="14734"/>
                </a:cubicBezTo>
                <a:cubicBezTo>
                  <a:pt x="6330" y="14707"/>
                  <a:pt x="6551" y="14695"/>
                  <a:pt x="6772" y="14635"/>
                </a:cubicBezTo>
                <a:cubicBezTo>
                  <a:pt x="6772" y="14627"/>
                  <a:pt x="6772" y="14618"/>
                  <a:pt x="6772" y="14610"/>
                </a:cubicBezTo>
                <a:cubicBezTo>
                  <a:pt x="6661" y="14585"/>
                  <a:pt x="6565" y="14575"/>
                  <a:pt x="6449" y="14560"/>
                </a:cubicBezTo>
                <a:cubicBezTo>
                  <a:pt x="6115" y="14518"/>
                  <a:pt x="5815" y="14585"/>
                  <a:pt x="5482" y="14635"/>
                </a:cubicBezTo>
                <a:cubicBezTo>
                  <a:pt x="5126" y="14689"/>
                  <a:pt x="4765" y="14748"/>
                  <a:pt x="4415" y="14808"/>
                </a:cubicBezTo>
                <a:cubicBezTo>
                  <a:pt x="4390" y="14816"/>
                  <a:pt x="4366" y="14825"/>
                  <a:pt x="4341" y="14833"/>
                </a:cubicBezTo>
                <a:cubicBezTo>
                  <a:pt x="4702" y="14833"/>
                  <a:pt x="5118" y="14894"/>
                  <a:pt x="5457" y="14784"/>
                </a:cubicBezTo>
                <a:cubicBezTo>
                  <a:pt x="5457" y="14776"/>
                  <a:pt x="5457" y="14767"/>
                  <a:pt x="5457" y="14759"/>
                </a:cubicBezTo>
                <a:cubicBezTo>
                  <a:pt x="5333" y="14721"/>
                  <a:pt x="5207" y="14669"/>
                  <a:pt x="5035" y="14660"/>
                </a:cubicBezTo>
                <a:cubicBezTo>
                  <a:pt x="4896" y="14653"/>
                  <a:pt x="3718" y="14732"/>
                  <a:pt x="3696" y="14684"/>
                </a:cubicBezTo>
                <a:cubicBezTo>
                  <a:pt x="3666" y="14619"/>
                  <a:pt x="3913" y="14658"/>
                  <a:pt x="3845" y="14635"/>
                </a:cubicBezTo>
                <a:cubicBezTo>
                  <a:pt x="3788" y="14616"/>
                  <a:pt x="3738" y="14617"/>
                  <a:pt x="3671" y="14610"/>
                </a:cubicBezTo>
                <a:cubicBezTo>
                  <a:pt x="3614" y="14604"/>
                  <a:pt x="3554" y="14612"/>
                  <a:pt x="3497" y="14610"/>
                </a:cubicBezTo>
                <a:cubicBezTo>
                  <a:pt x="3421" y="14610"/>
                  <a:pt x="3219" y="14608"/>
                  <a:pt x="3225" y="14610"/>
                </a:cubicBezTo>
                <a:cubicBezTo>
                  <a:pt x="3339" y="14644"/>
                  <a:pt x="3456" y="14607"/>
                  <a:pt x="3572" y="14635"/>
                </a:cubicBezTo>
                <a:cubicBezTo>
                  <a:pt x="3962" y="14728"/>
                  <a:pt x="4362" y="14789"/>
                  <a:pt x="4762" y="14858"/>
                </a:cubicBezTo>
                <a:cubicBezTo>
                  <a:pt x="5235" y="14939"/>
                  <a:pt x="5706" y="15010"/>
                  <a:pt x="6176" y="15106"/>
                </a:cubicBezTo>
                <a:cubicBezTo>
                  <a:pt x="6343" y="15140"/>
                  <a:pt x="6773" y="15092"/>
                  <a:pt x="6672" y="15230"/>
                </a:cubicBezTo>
                <a:cubicBezTo>
                  <a:pt x="6615" y="15308"/>
                  <a:pt x="5873" y="15255"/>
                  <a:pt x="5779" y="15255"/>
                </a:cubicBezTo>
                <a:cubicBezTo>
                  <a:pt x="5655" y="15255"/>
                  <a:pt x="5531" y="15255"/>
                  <a:pt x="5407" y="15255"/>
                </a:cubicBezTo>
                <a:cubicBezTo>
                  <a:pt x="5383" y="15255"/>
                  <a:pt x="5374" y="15255"/>
                  <a:pt x="5358" y="15255"/>
                </a:cubicBezTo>
                <a:cubicBezTo>
                  <a:pt x="5333" y="15259"/>
                  <a:pt x="5202" y="15239"/>
                  <a:pt x="5259" y="15255"/>
                </a:cubicBezTo>
                <a:cubicBezTo>
                  <a:pt x="5396" y="15294"/>
                  <a:pt x="5540" y="15266"/>
                  <a:pt x="5680" y="15280"/>
                </a:cubicBezTo>
                <a:cubicBezTo>
                  <a:pt x="5749" y="15287"/>
                  <a:pt x="5814" y="15295"/>
                  <a:pt x="5804" y="15304"/>
                </a:cubicBezTo>
                <a:cubicBezTo>
                  <a:pt x="5791" y="15316"/>
                  <a:pt x="5626" y="15371"/>
                  <a:pt x="5606" y="15379"/>
                </a:cubicBezTo>
                <a:cubicBezTo>
                  <a:pt x="5497" y="15420"/>
                  <a:pt x="5385" y="15462"/>
                  <a:pt x="5283" y="15503"/>
                </a:cubicBezTo>
                <a:cubicBezTo>
                  <a:pt x="5454" y="15492"/>
                  <a:pt x="5634" y="15498"/>
                  <a:pt x="5804" y="15478"/>
                </a:cubicBezTo>
                <a:cubicBezTo>
                  <a:pt x="6207" y="15431"/>
                  <a:pt x="6619" y="15389"/>
                  <a:pt x="7020" y="15329"/>
                </a:cubicBezTo>
                <a:cubicBezTo>
                  <a:pt x="7183" y="15304"/>
                  <a:pt x="7358" y="15262"/>
                  <a:pt x="7516" y="15230"/>
                </a:cubicBezTo>
                <a:cubicBezTo>
                  <a:pt x="7474" y="15230"/>
                  <a:pt x="7483" y="15230"/>
                  <a:pt x="7441" y="15230"/>
                </a:cubicBezTo>
                <a:cubicBezTo>
                  <a:pt x="6796" y="15230"/>
                  <a:pt x="6148" y="15218"/>
                  <a:pt x="5507" y="15255"/>
                </a:cubicBezTo>
                <a:cubicBezTo>
                  <a:pt x="6000" y="15255"/>
                  <a:pt x="6461" y="15173"/>
                  <a:pt x="6945" y="15081"/>
                </a:cubicBezTo>
                <a:cubicBezTo>
                  <a:pt x="7298" y="15014"/>
                  <a:pt x="7656" y="14955"/>
                  <a:pt x="8012" y="14908"/>
                </a:cubicBezTo>
                <a:cubicBezTo>
                  <a:pt x="8029" y="14908"/>
                  <a:pt x="8045" y="14908"/>
                  <a:pt x="8062" y="14908"/>
                </a:cubicBezTo>
                <a:cubicBezTo>
                  <a:pt x="7930" y="14901"/>
                  <a:pt x="7840" y="14885"/>
                  <a:pt x="7689" y="14883"/>
                </a:cubicBezTo>
                <a:cubicBezTo>
                  <a:pt x="7251" y="14878"/>
                  <a:pt x="6815" y="14789"/>
                  <a:pt x="6375" y="14833"/>
                </a:cubicBezTo>
                <a:cubicBezTo>
                  <a:pt x="6233" y="14847"/>
                  <a:pt x="6072" y="14888"/>
                  <a:pt x="5928" y="14908"/>
                </a:cubicBezTo>
                <a:cubicBezTo>
                  <a:pt x="6221" y="14923"/>
                  <a:pt x="6502" y="14953"/>
                  <a:pt x="6796" y="14957"/>
                </a:cubicBezTo>
                <a:cubicBezTo>
                  <a:pt x="7523" y="14968"/>
                  <a:pt x="8437" y="14957"/>
                  <a:pt x="9079" y="14957"/>
                </a:cubicBezTo>
                <a:cubicBezTo>
                  <a:pt x="9021" y="14957"/>
                  <a:pt x="8980" y="14957"/>
                  <a:pt x="8930" y="14957"/>
                </a:cubicBezTo>
                <a:cubicBezTo>
                  <a:pt x="8612" y="14926"/>
                  <a:pt x="8283" y="14915"/>
                  <a:pt x="7962" y="14932"/>
                </a:cubicBezTo>
                <a:cubicBezTo>
                  <a:pt x="7680" y="14947"/>
                  <a:pt x="7420" y="15026"/>
                  <a:pt x="7144" y="15056"/>
                </a:cubicBezTo>
                <a:cubicBezTo>
                  <a:pt x="7077" y="15063"/>
                  <a:pt x="6976" y="15040"/>
                  <a:pt x="7069" y="15056"/>
                </a:cubicBezTo>
                <a:cubicBezTo>
                  <a:pt x="7264" y="15090"/>
                  <a:pt x="7491" y="15122"/>
                  <a:pt x="7689" y="15131"/>
                </a:cubicBezTo>
                <a:cubicBezTo>
                  <a:pt x="7821" y="15137"/>
                  <a:pt x="7954" y="15128"/>
                  <a:pt x="8086" y="15131"/>
                </a:cubicBezTo>
                <a:cubicBezTo>
                  <a:pt x="8119" y="15131"/>
                  <a:pt x="8153" y="15131"/>
                  <a:pt x="8186" y="15131"/>
                </a:cubicBezTo>
                <a:cubicBezTo>
                  <a:pt x="8111" y="15141"/>
                  <a:pt x="8138" y="15155"/>
                  <a:pt x="8062" y="15156"/>
                </a:cubicBezTo>
                <a:cubicBezTo>
                  <a:pt x="7737" y="15162"/>
                  <a:pt x="7451" y="15159"/>
                  <a:pt x="7144" y="15255"/>
                </a:cubicBezTo>
                <a:cubicBezTo>
                  <a:pt x="7067" y="15274"/>
                  <a:pt x="7050" y="15267"/>
                  <a:pt x="7020" y="15304"/>
                </a:cubicBezTo>
                <a:cubicBezTo>
                  <a:pt x="7352" y="15314"/>
                  <a:pt x="7679" y="15329"/>
                  <a:pt x="8012" y="15329"/>
                </a:cubicBezTo>
                <a:cubicBezTo>
                  <a:pt x="8616" y="15329"/>
                  <a:pt x="9219" y="15329"/>
                  <a:pt x="9823" y="15329"/>
                </a:cubicBezTo>
                <a:cubicBezTo>
                  <a:pt x="9745" y="15306"/>
                  <a:pt x="9660" y="15266"/>
                  <a:pt x="9575" y="15255"/>
                </a:cubicBezTo>
                <a:cubicBezTo>
                  <a:pt x="9342" y="15226"/>
                  <a:pt x="9089" y="15278"/>
                  <a:pt x="8855" y="15280"/>
                </a:cubicBezTo>
                <a:cubicBezTo>
                  <a:pt x="8466" y="15284"/>
                  <a:pt x="8078" y="15280"/>
                  <a:pt x="7689" y="15280"/>
                </a:cubicBezTo>
                <a:cubicBezTo>
                  <a:pt x="7950" y="15198"/>
                  <a:pt x="8181" y="15188"/>
                  <a:pt x="8458" y="15156"/>
                </a:cubicBezTo>
                <a:cubicBezTo>
                  <a:pt x="8898" y="15105"/>
                  <a:pt x="9335" y="15048"/>
                  <a:pt x="9773" y="14982"/>
                </a:cubicBezTo>
                <a:cubicBezTo>
                  <a:pt x="9939" y="14961"/>
                  <a:pt x="9974" y="14960"/>
                  <a:pt x="10071" y="14932"/>
                </a:cubicBezTo>
                <a:cubicBezTo>
                  <a:pt x="9920" y="14885"/>
                  <a:pt x="9736" y="14813"/>
                  <a:pt x="9575" y="14784"/>
                </a:cubicBezTo>
                <a:cubicBezTo>
                  <a:pt x="9238" y="14724"/>
                  <a:pt x="8893" y="14703"/>
                  <a:pt x="8558" y="14660"/>
                </a:cubicBezTo>
                <a:cubicBezTo>
                  <a:pt x="8262" y="14622"/>
                  <a:pt x="7987" y="14610"/>
                  <a:pt x="7689" y="14610"/>
                </a:cubicBezTo>
                <a:cubicBezTo>
                  <a:pt x="8078" y="14610"/>
                  <a:pt x="8466" y="14610"/>
                  <a:pt x="8855" y="14610"/>
                </a:cubicBezTo>
                <a:cubicBezTo>
                  <a:pt x="8847" y="14607"/>
                  <a:pt x="8791" y="14568"/>
                  <a:pt x="8756" y="14560"/>
                </a:cubicBezTo>
                <a:cubicBezTo>
                  <a:pt x="8423" y="14481"/>
                  <a:pt x="8111" y="14442"/>
                  <a:pt x="7764" y="14436"/>
                </a:cubicBezTo>
                <a:cubicBezTo>
                  <a:pt x="7285" y="14428"/>
                  <a:pt x="6804" y="14436"/>
                  <a:pt x="6325" y="14436"/>
                </a:cubicBezTo>
                <a:cubicBezTo>
                  <a:pt x="6594" y="14449"/>
                  <a:pt x="6849" y="14498"/>
                  <a:pt x="7119" y="14511"/>
                </a:cubicBezTo>
                <a:cubicBezTo>
                  <a:pt x="7472" y="14528"/>
                  <a:pt x="7839" y="14519"/>
                  <a:pt x="8186" y="14486"/>
                </a:cubicBezTo>
                <a:cubicBezTo>
                  <a:pt x="8178" y="14486"/>
                  <a:pt x="8169" y="14486"/>
                  <a:pt x="8161" y="14486"/>
                </a:cubicBezTo>
                <a:cubicBezTo>
                  <a:pt x="8015" y="14423"/>
                  <a:pt x="7849" y="14321"/>
                  <a:pt x="7689" y="14288"/>
                </a:cubicBezTo>
                <a:cubicBezTo>
                  <a:pt x="7166" y="14179"/>
                  <a:pt x="6607" y="14099"/>
                  <a:pt x="6077" y="14015"/>
                </a:cubicBezTo>
                <a:cubicBezTo>
                  <a:pt x="5559" y="13933"/>
                  <a:pt x="5060" y="13940"/>
                  <a:pt x="4539" y="13940"/>
                </a:cubicBezTo>
                <a:cubicBezTo>
                  <a:pt x="4423" y="13940"/>
                  <a:pt x="4226" y="13926"/>
                  <a:pt x="4341" y="13940"/>
                </a:cubicBezTo>
                <a:cubicBezTo>
                  <a:pt x="4572" y="13968"/>
                  <a:pt x="4800" y="13965"/>
                  <a:pt x="5035" y="13965"/>
                </a:cubicBezTo>
                <a:cubicBezTo>
                  <a:pt x="5250" y="13965"/>
                  <a:pt x="5465" y="13965"/>
                  <a:pt x="5680" y="13965"/>
                </a:cubicBezTo>
                <a:cubicBezTo>
                  <a:pt x="5705" y="13965"/>
                  <a:pt x="5730" y="13965"/>
                  <a:pt x="5755" y="13965"/>
                </a:cubicBezTo>
                <a:cubicBezTo>
                  <a:pt x="5677" y="13959"/>
                  <a:pt x="5611" y="13944"/>
                  <a:pt x="5531" y="13940"/>
                </a:cubicBezTo>
                <a:cubicBezTo>
                  <a:pt x="5307" y="13930"/>
                  <a:pt x="5139" y="13974"/>
                  <a:pt x="4936" y="14064"/>
                </a:cubicBezTo>
                <a:cubicBezTo>
                  <a:pt x="4912" y="14075"/>
                  <a:pt x="4784" y="14132"/>
                  <a:pt x="4787" y="14163"/>
                </a:cubicBezTo>
                <a:cubicBezTo>
                  <a:pt x="4796" y="14255"/>
                  <a:pt x="5211" y="14261"/>
                  <a:pt x="5259" y="14263"/>
                </a:cubicBezTo>
                <a:cubicBezTo>
                  <a:pt x="5448" y="14272"/>
                  <a:pt x="5640" y="14263"/>
                  <a:pt x="5829" y="14263"/>
                </a:cubicBezTo>
                <a:cubicBezTo>
                  <a:pt x="5267" y="14263"/>
                  <a:pt x="4704" y="14263"/>
                  <a:pt x="4142" y="14263"/>
                </a:cubicBezTo>
                <a:cubicBezTo>
                  <a:pt x="4184" y="14260"/>
                  <a:pt x="4200" y="14239"/>
                  <a:pt x="4242" y="14238"/>
                </a:cubicBezTo>
                <a:cubicBezTo>
                  <a:pt x="4581" y="14229"/>
                  <a:pt x="5537" y="14325"/>
                  <a:pt x="5209" y="14238"/>
                </a:cubicBezTo>
                <a:cubicBezTo>
                  <a:pt x="5054" y="14197"/>
                  <a:pt x="4874" y="14173"/>
                  <a:pt x="4713" y="14163"/>
                </a:cubicBezTo>
                <a:cubicBezTo>
                  <a:pt x="4490" y="14149"/>
                  <a:pt x="4234" y="14138"/>
                  <a:pt x="4018" y="14188"/>
                </a:cubicBezTo>
                <a:cubicBezTo>
                  <a:pt x="3896" y="14217"/>
                  <a:pt x="4147" y="14197"/>
                  <a:pt x="4093" y="14188"/>
                </a:cubicBezTo>
                <a:cubicBezTo>
                  <a:pt x="4060" y="14182"/>
                  <a:pt x="4051" y="14166"/>
                  <a:pt x="4018" y="14163"/>
                </a:cubicBezTo>
                <a:cubicBezTo>
                  <a:pt x="3870" y="14151"/>
                  <a:pt x="3505" y="14255"/>
                  <a:pt x="3621" y="14163"/>
                </a:cubicBezTo>
                <a:cubicBezTo>
                  <a:pt x="3654" y="14137"/>
                  <a:pt x="3652" y="14144"/>
                  <a:pt x="3721" y="14139"/>
                </a:cubicBezTo>
                <a:cubicBezTo>
                  <a:pt x="3851" y="14129"/>
                  <a:pt x="3987" y="14139"/>
                  <a:pt x="4118" y="14139"/>
                </a:cubicBezTo>
                <a:cubicBezTo>
                  <a:pt x="4077" y="14144"/>
                  <a:pt x="4183" y="14133"/>
                  <a:pt x="4142" y="14139"/>
                </a:cubicBezTo>
                <a:cubicBezTo>
                  <a:pt x="4086" y="14147"/>
                  <a:pt x="4048" y="14160"/>
                  <a:pt x="3994" y="14163"/>
                </a:cubicBezTo>
                <a:cubicBezTo>
                  <a:pt x="3838" y="14173"/>
                  <a:pt x="3679" y="14163"/>
                  <a:pt x="3522" y="14163"/>
                </a:cubicBezTo>
                <a:cubicBezTo>
                  <a:pt x="3619" y="14155"/>
                  <a:pt x="3710" y="14158"/>
                  <a:pt x="3795" y="14139"/>
                </a:cubicBezTo>
                <a:cubicBezTo>
                  <a:pt x="3866" y="14123"/>
                  <a:pt x="3952" y="14092"/>
                  <a:pt x="4018" y="14064"/>
                </a:cubicBezTo>
                <a:cubicBezTo>
                  <a:pt x="4024" y="14061"/>
                  <a:pt x="4129" y="14076"/>
                  <a:pt x="4093" y="14039"/>
                </a:cubicBezTo>
                <a:cubicBezTo>
                  <a:pt x="4049" y="13994"/>
                  <a:pt x="3926" y="14082"/>
                  <a:pt x="3944" y="14039"/>
                </a:cubicBezTo>
                <a:cubicBezTo>
                  <a:pt x="3955" y="14013"/>
                  <a:pt x="3964" y="13994"/>
                  <a:pt x="3994" y="13965"/>
                </a:cubicBezTo>
                <a:cubicBezTo>
                  <a:pt x="4020" y="13940"/>
                  <a:pt x="4036" y="13933"/>
                  <a:pt x="4068" y="13915"/>
                </a:cubicBezTo>
                <a:cubicBezTo>
                  <a:pt x="4100" y="13897"/>
                  <a:pt x="4109" y="13880"/>
                  <a:pt x="4142" y="13866"/>
                </a:cubicBezTo>
                <a:cubicBezTo>
                  <a:pt x="4173" y="13853"/>
                  <a:pt x="4185" y="13852"/>
                  <a:pt x="4217" y="13841"/>
                </a:cubicBezTo>
                <a:cubicBezTo>
                  <a:pt x="4255" y="13828"/>
                  <a:pt x="4262" y="13821"/>
                  <a:pt x="4291" y="13816"/>
                </a:cubicBezTo>
                <a:cubicBezTo>
                  <a:pt x="4383" y="13800"/>
                  <a:pt x="4530" y="13801"/>
                  <a:pt x="4589" y="13791"/>
                </a:cubicBezTo>
                <a:cubicBezTo>
                  <a:pt x="4624" y="13785"/>
                  <a:pt x="4618" y="13777"/>
                  <a:pt x="4663" y="13767"/>
                </a:cubicBezTo>
                <a:cubicBezTo>
                  <a:pt x="4711" y="13756"/>
                  <a:pt x="4765" y="13759"/>
                  <a:pt x="4812" y="13742"/>
                </a:cubicBezTo>
                <a:cubicBezTo>
                  <a:pt x="4822" y="13738"/>
                  <a:pt x="4850" y="13724"/>
                  <a:pt x="4887" y="13717"/>
                </a:cubicBezTo>
                <a:cubicBezTo>
                  <a:pt x="4919" y="13711"/>
                  <a:pt x="4928" y="13695"/>
                  <a:pt x="4961" y="13692"/>
                </a:cubicBezTo>
                <a:cubicBezTo>
                  <a:pt x="5029" y="13685"/>
                  <a:pt x="5129" y="13670"/>
                  <a:pt x="5184" y="13667"/>
                </a:cubicBezTo>
                <a:cubicBezTo>
                  <a:pt x="5251" y="13663"/>
                  <a:pt x="5376" y="13645"/>
                  <a:pt x="5407" y="13643"/>
                </a:cubicBezTo>
                <a:cubicBezTo>
                  <a:pt x="5444" y="13640"/>
                  <a:pt x="5623" y="13646"/>
                  <a:pt x="5581" y="13643"/>
                </a:cubicBezTo>
                <a:cubicBezTo>
                  <a:pt x="5363" y="13627"/>
                  <a:pt x="5090" y="13657"/>
                  <a:pt x="4911" y="13667"/>
                </a:cubicBezTo>
                <a:cubicBezTo>
                  <a:pt x="4837" y="13671"/>
                  <a:pt x="4762" y="13664"/>
                  <a:pt x="4688" y="13667"/>
                </a:cubicBezTo>
                <a:cubicBezTo>
                  <a:pt x="4650" y="13676"/>
                  <a:pt x="4601" y="13688"/>
                  <a:pt x="4589" y="13692"/>
                </a:cubicBezTo>
                <a:cubicBezTo>
                  <a:pt x="4579" y="13695"/>
                  <a:pt x="4481" y="13678"/>
                  <a:pt x="4514" y="13717"/>
                </a:cubicBezTo>
                <a:cubicBezTo>
                  <a:pt x="4535" y="13742"/>
                  <a:pt x="4532" y="13725"/>
                  <a:pt x="4564" y="13717"/>
                </a:cubicBezTo>
                <a:cubicBezTo>
                  <a:pt x="4602" y="13707"/>
                  <a:pt x="4628" y="13704"/>
                  <a:pt x="4663" y="13692"/>
                </a:cubicBezTo>
                <a:cubicBezTo>
                  <a:pt x="4695" y="13681"/>
                  <a:pt x="4710" y="13685"/>
                  <a:pt x="4738" y="13667"/>
                </a:cubicBezTo>
                <a:cubicBezTo>
                  <a:pt x="4760" y="13654"/>
                  <a:pt x="4781" y="13628"/>
                  <a:pt x="4812" y="13618"/>
                </a:cubicBezTo>
                <a:cubicBezTo>
                  <a:pt x="4819" y="13616"/>
                  <a:pt x="4851" y="13598"/>
                  <a:pt x="4887" y="13593"/>
                </a:cubicBezTo>
                <a:cubicBezTo>
                  <a:pt x="5025" y="13572"/>
                  <a:pt x="5255" y="13574"/>
                  <a:pt x="5358" y="13568"/>
                </a:cubicBezTo>
                <a:cubicBezTo>
                  <a:pt x="5933" y="13535"/>
                  <a:pt x="6589" y="13525"/>
                  <a:pt x="7144" y="13618"/>
                </a:cubicBezTo>
                <a:cubicBezTo>
                  <a:pt x="7201" y="13628"/>
                  <a:pt x="7259" y="13633"/>
                  <a:pt x="7317" y="13643"/>
                </a:cubicBezTo>
                <a:cubicBezTo>
                  <a:pt x="7366" y="13652"/>
                  <a:pt x="7392" y="13658"/>
                  <a:pt x="7441" y="13667"/>
                </a:cubicBezTo>
                <a:cubicBezTo>
                  <a:pt x="7505" y="13678"/>
                  <a:pt x="7556" y="13675"/>
                  <a:pt x="7615" y="13692"/>
                </a:cubicBezTo>
                <a:cubicBezTo>
                  <a:pt x="7659" y="13705"/>
                  <a:pt x="7701" y="13729"/>
                  <a:pt x="7739" y="13742"/>
                </a:cubicBezTo>
                <a:cubicBezTo>
                  <a:pt x="7789" y="13759"/>
                  <a:pt x="7840" y="13766"/>
                  <a:pt x="7888" y="13791"/>
                </a:cubicBezTo>
                <a:cubicBezTo>
                  <a:pt x="7945" y="13820"/>
                  <a:pt x="7975" y="13842"/>
                  <a:pt x="8037" y="13866"/>
                </a:cubicBezTo>
                <a:cubicBezTo>
                  <a:pt x="8078" y="13882"/>
                  <a:pt x="8117" y="13877"/>
                  <a:pt x="8161" y="13891"/>
                </a:cubicBezTo>
                <a:cubicBezTo>
                  <a:pt x="8213" y="13908"/>
                  <a:pt x="8241" y="13921"/>
                  <a:pt x="8285" y="13940"/>
                </a:cubicBezTo>
                <a:cubicBezTo>
                  <a:pt x="8361" y="13973"/>
                  <a:pt x="8406" y="14009"/>
                  <a:pt x="8483" y="14039"/>
                </a:cubicBezTo>
                <a:cubicBezTo>
                  <a:pt x="8518" y="14053"/>
                  <a:pt x="8572" y="14049"/>
                  <a:pt x="8607" y="14064"/>
                </a:cubicBezTo>
                <a:cubicBezTo>
                  <a:pt x="8646" y="14081"/>
                  <a:pt x="8665" y="14100"/>
                  <a:pt x="8706" y="14114"/>
                </a:cubicBezTo>
                <a:cubicBezTo>
                  <a:pt x="8781" y="14139"/>
                  <a:pt x="8841" y="14188"/>
                  <a:pt x="8905" y="14213"/>
                </a:cubicBezTo>
                <a:cubicBezTo>
                  <a:pt x="8966" y="14237"/>
                  <a:pt x="9024" y="14270"/>
                  <a:pt x="9079" y="14288"/>
                </a:cubicBezTo>
                <a:cubicBezTo>
                  <a:pt x="9113" y="14299"/>
                  <a:pt x="9145" y="14300"/>
                  <a:pt x="9178" y="14312"/>
                </a:cubicBezTo>
                <a:cubicBezTo>
                  <a:pt x="9223" y="14328"/>
                  <a:pt x="9280" y="14350"/>
                  <a:pt x="9327" y="14362"/>
                </a:cubicBezTo>
                <a:cubicBezTo>
                  <a:pt x="9398" y="14380"/>
                  <a:pt x="9477" y="14406"/>
                  <a:pt x="9550" y="14412"/>
                </a:cubicBezTo>
                <a:cubicBezTo>
                  <a:pt x="9696" y="14425"/>
                  <a:pt x="9890" y="14402"/>
                  <a:pt x="9996" y="14387"/>
                </a:cubicBezTo>
                <a:cubicBezTo>
                  <a:pt x="9965" y="14370"/>
                  <a:pt x="9948" y="14373"/>
                  <a:pt x="9922" y="14362"/>
                </a:cubicBezTo>
                <a:cubicBezTo>
                  <a:pt x="9917" y="14360"/>
                  <a:pt x="9798" y="14312"/>
                  <a:pt x="9798" y="14312"/>
                </a:cubicBezTo>
                <a:cubicBezTo>
                  <a:pt x="9766" y="14275"/>
                  <a:pt x="9817" y="14243"/>
                  <a:pt x="9773" y="14213"/>
                </a:cubicBezTo>
                <a:cubicBezTo>
                  <a:pt x="9719" y="14177"/>
                  <a:pt x="9762" y="14181"/>
                  <a:pt x="9699" y="14163"/>
                </a:cubicBezTo>
                <a:cubicBezTo>
                  <a:pt x="9602" y="14135"/>
                  <a:pt x="9415" y="14128"/>
                  <a:pt x="9351" y="14114"/>
                </a:cubicBezTo>
                <a:cubicBezTo>
                  <a:pt x="9295" y="14102"/>
                  <a:pt x="9254" y="14107"/>
                  <a:pt x="9203" y="14089"/>
                </a:cubicBezTo>
                <a:cubicBezTo>
                  <a:pt x="9177" y="14080"/>
                  <a:pt x="9134" y="14042"/>
                  <a:pt x="9128" y="14039"/>
                </a:cubicBezTo>
                <a:cubicBezTo>
                  <a:pt x="9098" y="14026"/>
                  <a:pt x="9085" y="14027"/>
                  <a:pt x="9054" y="14015"/>
                </a:cubicBezTo>
                <a:cubicBezTo>
                  <a:pt x="9022" y="14003"/>
                  <a:pt x="8986" y="14003"/>
                  <a:pt x="8954" y="13990"/>
                </a:cubicBezTo>
                <a:cubicBezTo>
                  <a:pt x="8915" y="13974"/>
                  <a:pt x="8875" y="13953"/>
                  <a:pt x="8830" y="13940"/>
                </a:cubicBezTo>
                <a:cubicBezTo>
                  <a:pt x="8786" y="13927"/>
                  <a:pt x="8791" y="13925"/>
                  <a:pt x="8756" y="13915"/>
                </a:cubicBezTo>
                <a:cubicBezTo>
                  <a:pt x="8725" y="13906"/>
                  <a:pt x="8714" y="13900"/>
                  <a:pt x="8682" y="13891"/>
                </a:cubicBezTo>
                <a:cubicBezTo>
                  <a:pt x="8639" y="13879"/>
                  <a:pt x="8598" y="13875"/>
                  <a:pt x="8558" y="13866"/>
                </a:cubicBezTo>
                <a:cubicBezTo>
                  <a:pt x="8511" y="13855"/>
                  <a:pt x="8476" y="13858"/>
                  <a:pt x="8434" y="13841"/>
                </a:cubicBezTo>
                <a:cubicBezTo>
                  <a:pt x="8398" y="13826"/>
                  <a:pt x="8370" y="13809"/>
                  <a:pt x="8334" y="13791"/>
                </a:cubicBezTo>
                <a:cubicBezTo>
                  <a:pt x="8286" y="13767"/>
                  <a:pt x="8258" y="13748"/>
                  <a:pt x="8210" y="13717"/>
                </a:cubicBezTo>
                <a:cubicBezTo>
                  <a:pt x="8190" y="13704"/>
                  <a:pt x="8115" y="13644"/>
                  <a:pt x="8111" y="13643"/>
                </a:cubicBezTo>
                <a:cubicBezTo>
                  <a:pt x="8066" y="13627"/>
                  <a:pt x="8009" y="13629"/>
                  <a:pt x="7962" y="13618"/>
                </a:cubicBezTo>
                <a:cubicBezTo>
                  <a:pt x="7923" y="13609"/>
                  <a:pt x="7941" y="13598"/>
                  <a:pt x="7888" y="13593"/>
                </a:cubicBezTo>
                <a:cubicBezTo>
                  <a:pt x="7625" y="13567"/>
                  <a:pt x="7343" y="13609"/>
                  <a:pt x="7094" y="13568"/>
                </a:cubicBezTo>
                <a:cubicBezTo>
                  <a:pt x="7043" y="13560"/>
                  <a:pt x="7059" y="13555"/>
                  <a:pt x="7020" y="13543"/>
                </a:cubicBezTo>
                <a:cubicBezTo>
                  <a:pt x="6985" y="13532"/>
                  <a:pt x="6955" y="13531"/>
                  <a:pt x="6921" y="13519"/>
                </a:cubicBezTo>
                <a:cubicBezTo>
                  <a:pt x="6893" y="13509"/>
                  <a:pt x="6847" y="13507"/>
                  <a:pt x="6821" y="13494"/>
                </a:cubicBezTo>
                <a:cubicBezTo>
                  <a:pt x="6786" y="13476"/>
                  <a:pt x="6757" y="13460"/>
                  <a:pt x="6722" y="13444"/>
                </a:cubicBezTo>
                <a:cubicBezTo>
                  <a:pt x="6709" y="13438"/>
                  <a:pt x="6683" y="13429"/>
                  <a:pt x="6648" y="13419"/>
                </a:cubicBezTo>
                <a:cubicBezTo>
                  <a:pt x="6641" y="13417"/>
                  <a:pt x="6609" y="13399"/>
                  <a:pt x="6573" y="13395"/>
                </a:cubicBezTo>
                <a:cubicBezTo>
                  <a:pt x="6312" y="13364"/>
                  <a:pt x="5952" y="13384"/>
                  <a:pt x="5730" y="13419"/>
                </a:cubicBezTo>
                <a:cubicBezTo>
                  <a:pt x="5690" y="13425"/>
                  <a:pt x="5667" y="13440"/>
                  <a:pt x="5631" y="13444"/>
                </a:cubicBezTo>
                <a:cubicBezTo>
                  <a:pt x="5482" y="13461"/>
                  <a:pt x="5272" y="13456"/>
                  <a:pt x="5159" y="13469"/>
                </a:cubicBezTo>
                <a:cubicBezTo>
                  <a:pt x="5151" y="13469"/>
                  <a:pt x="5143" y="13469"/>
                  <a:pt x="5135" y="13469"/>
                </a:cubicBezTo>
                <a:cubicBezTo>
                  <a:pt x="5713" y="13469"/>
                  <a:pt x="6359" y="13462"/>
                  <a:pt x="6896" y="13494"/>
                </a:cubicBezTo>
                <a:cubicBezTo>
                  <a:pt x="7096" y="13506"/>
                  <a:pt x="7322" y="13456"/>
                  <a:pt x="7491" y="13543"/>
                </a:cubicBezTo>
                <a:cubicBezTo>
                  <a:pt x="7547" y="13572"/>
                  <a:pt x="7536" y="13599"/>
                  <a:pt x="7565" y="13618"/>
                </a:cubicBezTo>
                <a:cubicBezTo>
                  <a:pt x="7594" y="13637"/>
                  <a:pt x="7615" y="13627"/>
                  <a:pt x="7640" y="13643"/>
                </a:cubicBezTo>
                <a:cubicBezTo>
                  <a:pt x="7660" y="13656"/>
                  <a:pt x="7713" y="13717"/>
                  <a:pt x="7714" y="13717"/>
                </a:cubicBezTo>
                <a:cubicBezTo>
                  <a:pt x="7987" y="13790"/>
                  <a:pt x="8286" y="13673"/>
                  <a:pt x="8558" y="13767"/>
                </a:cubicBezTo>
                <a:cubicBezTo>
                  <a:pt x="8596" y="13780"/>
                  <a:pt x="8621" y="13800"/>
                  <a:pt x="8657" y="13816"/>
                </a:cubicBezTo>
                <a:cubicBezTo>
                  <a:pt x="8682" y="13828"/>
                  <a:pt x="8702" y="13824"/>
                  <a:pt x="8731" y="13841"/>
                </a:cubicBezTo>
                <a:cubicBezTo>
                  <a:pt x="8743" y="13848"/>
                  <a:pt x="8775" y="13899"/>
                  <a:pt x="8806" y="13915"/>
                </a:cubicBezTo>
                <a:cubicBezTo>
                  <a:pt x="8836" y="13931"/>
                  <a:pt x="8839" y="13943"/>
                  <a:pt x="8880" y="13965"/>
                </a:cubicBezTo>
                <a:cubicBezTo>
                  <a:pt x="8911" y="13982"/>
                  <a:pt x="8928" y="13979"/>
                  <a:pt x="8954" y="13990"/>
                </a:cubicBezTo>
                <a:cubicBezTo>
                  <a:pt x="8989" y="14005"/>
                  <a:pt x="9016" y="14005"/>
                  <a:pt x="9054" y="14015"/>
                </a:cubicBezTo>
                <a:cubicBezTo>
                  <a:pt x="9101" y="14027"/>
                  <a:pt x="9120" y="14034"/>
                  <a:pt x="9178" y="14039"/>
                </a:cubicBezTo>
                <a:cubicBezTo>
                  <a:pt x="9243" y="14045"/>
                  <a:pt x="9311" y="14039"/>
                  <a:pt x="9376" y="14039"/>
                </a:cubicBezTo>
                <a:cubicBezTo>
                  <a:pt x="9353" y="14063"/>
                  <a:pt x="9484" y="14060"/>
                  <a:pt x="9451" y="14064"/>
                </a:cubicBezTo>
                <a:cubicBezTo>
                  <a:pt x="9344" y="14077"/>
                  <a:pt x="9219" y="14070"/>
                  <a:pt x="9128" y="14039"/>
                </a:cubicBezTo>
                <a:cubicBezTo>
                  <a:pt x="9104" y="14031"/>
                  <a:pt x="9061" y="14009"/>
                  <a:pt x="9029" y="13990"/>
                </a:cubicBezTo>
                <a:cubicBezTo>
                  <a:pt x="8998" y="13972"/>
                  <a:pt x="8967" y="13923"/>
                  <a:pt x="8954" y="13915"/>
                </a:cubicBezTo>
                <a:cubicBezTo>
                  <a:pt x="8928" y="13898"/>
                  <a:pt x="8911" y="13909"/>
                  <a:pt x="8880" y="13891"/>
                </a:cubicBezTo>
                <a:cubicBezTo>
                  <a:pt x="8846" y="13871"/>
                  <a:pt x="8794" y="13778"/>
                  <a:pt x="8806" y="13816"/>
                </a:cubicBezTo>
                <a:cubicBezTo>
                  <a:pt x="8819" y="13859"/>
                  <a:pt x="8844" y="13881"/>
                  <a:pt x="8880" y="13915"/>
                </a:cubicBezTo>
                <a:cubicBezTo>
                  <a:pt x="8920" y="13953"/>
                  <a:pt x="8960" y="13984"/>
                  <a:pt x="9004" y="14015"/>
                </a:cubicBezTo>
                <a:cubicBezTo>
                  <a:pt x="9028" y="14032"/>
                  <a:pt x="9065" y="14045"/>
                  <a:pt x="9103" y="14064"/>
                </a:cubicBezTo>
                <a:cubicBezTo>
                  <a:pt x="9154" y="14090"/>
                  <a:pt x="9202" y="14120"/>
                  <a:pt x="9252" y="14139"/>
                </a:cubicBezTo>
                <a:cubicBezTo>
                  <a:pt x="9318" y="14164"/>
                  <a:pt x="9387" y="14166"/>
                  <a:pt x="9451" y="14188"/>
                </a:cubicBezTo>
                <a:cubicBezTo>
                  <a:pt x="9482" y="14199"/>
                  <a:pt x="9495" y="14198"/>
                  <a:pt x="9525" y="14213"/>
                </a:cubicBezTo>
                <a:cubicBezTo>
                  <a:pt x="9536" y="14218"/>
                  <a:pt x="9567" y="14251"/>
                  <a:pt x="9599" y="14263"/>
                </a:cubicBezTo>
                <a:cubicBezTo>
                  <a:pt x="9618" y="14270"/>
                  <a:pt x="9654" y="14279"/>
                  <a:pt x="9674" y="14288"/>
                </a:cubicBezTo>
              </a:path>
            </a:pathLst>
          </a:custGeom>
          <a:noFill/>
          <a:ln cap="sq" w="228600">
            <a:solidFill>
              <a:srgbClr val="99cc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211640" y="549360"/>
            <a:ext cx="4681440" cy="352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4788000" y="3860640"/>
            <a:ext cx="388764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4500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56360" y="3284640"/>
            <a:ext cx="2654280" cy="3097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1187280" y="2637000"/>
            <a:ext cx="251964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484360" y="3716280"/>
            <a:ext cx="1219320" cy="72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0" y="4221000"/>
            <a:ext cx="3564000" cy="216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3708360" y="2833560"/>
            <a:ext cx="2519280" cy="3116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716360" y="2205000"/>
            <a:ext cx="1079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5689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411280" y="692280"/>
            <a:ext cx="4969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835280" y="1125360"/>
            <a:ext cx="489744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124000" y="333360"/>
            <a:ext cx="4608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08000" y="1268280"/>
            <a:ext cx="5040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8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981000"/>
            <a:ext cx="32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o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311640" cy="2808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484360" y="981000"/>
            <a:ext cx="3313080" cy="3241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408720" y="3068640"/>
            <a:ext cx="2556000" cy="3041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580000" y="260280"/>
            <a:ext cx="3095640" cy="252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3564000" y="4797360"/>
            <a:ext cx="2735280" cy="165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250920" y="3500280"/>
            <a:ext cx="3097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Arial"/>
              </a:rPr>
              <a:t>Now you know the animals</a:t>
            </a:r>
            <a:br>
              <a:rPr sz="4400"/>
            </a:br>
            <a:r>
              <a:rPr b="1" lang="en-GB" sz="4400" spc="-1" strike="noStrike">
                <a:solidFill>
                  <a:srgbClr val="a50021"/>
                </a:solidFill>
                <a:latin typeface="Arial"/>
              </a:rPr>
              <a:t> in 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1228680"/>
            <a:ext cx="3029040" cy="5629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125960" cy="3795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340000" y="1484280"/>
            <a:ext cx="64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ONGRATULATIONS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627280" y="3645000"/>
            <a:ext cx="2521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0.11041 0.02636 L -0.03941 0.26289 L 0.19688 0.26289 L 0.00695 0.40856 L 0.079 0.64532 L -0.11041 0.49942 L -0.29982 0.64532 L -0.22812 0.40856 L -0.41736 0.26289 L -0.18177 0.26289 L -0.11041 0.02636 Z">
                                      <p:cBhvr>
                                        <p:cTn id="9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05000" y="260280"/>
            <a:ext cx="653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5229360"/>
            <a:ext cx="33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09600" y="406440"/>
            <a:ext cx="67248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9640" y="4005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400536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357336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giraff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55680" y="65160"/>
            <a:ext cx="663264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836640"/>
            <a:ext cx="42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monke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1:48:43Z</dcterms:created>
  <dc:creator>user</dc:creator>
  <dc:description/>
  <dc:language>en-US</dc:language>
  <cp:lastModifiedBy>user</cp:lastModifiedBy>
  <dcterms:modified xsi:type="dcterms:W3CDTF">2008-02-26T21:08:24Z</dcterms:modified>
  <cp:revision>12</cp:revision>
  <dc:subject/>
  <dc:title>THE ZOO</dc:title>
</cp:coreProperties>
</file>