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33.wmf" ContentType="image/x-wmf"/>
  <Override PartName="/ppt/media/image13.png" ContentType="image/png"/>
  <Override PartName="/ppt/media/image12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3.jpeg" ContentType="image/jpeg"/>
  <Override PartName="/ppt/media/image30.png" ContentType="image/png"/>
  <Override PartName="/ppt/media/image34.wmf" ContentType="image/x-wmf"/>
  <Override PartName="/ppt/media/image4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E2C7-7BEF-4815-B833-6EC3F95D0C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0D1-E3B3-4928-8203-F2A488B7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9EB-3764-4CBC-8FBA-C7E3407B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FCA-984D-439A-953A-B21CDD88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975-546C-4156-8371-60E71097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B53-B0AA-4186-8F1A-383099FE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3BA-B17A-4A74-BB2C-3BDF0293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A4B-90A7-4334-89F7-066155DD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109-4859-42AC-B24A-49A43F72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CBA-ED10-4C2A-B9BD-FFF3C84F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A50-34DA-4CBD-8994-CAA05DB1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06C-312C-4930-BCD9-CE4355AB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37D-F4CD-4278-ACAD-6E2C9B3A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500C-EDFE-4CF5-ADE0-E906B1E39F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оординатная прям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33520"/>
            <a:ext cx="899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ординатной прямой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ординатной ос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прямая, на которой выбраны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ма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ачалом координа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казывающий положительное направление координатной прям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66688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ординатой точк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ординатной прямой называется рас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начала координа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зятое со знаком "+", есл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ит положительной полуоси, и со знаком "–", есл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ит отрицательной полуос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876920"/>
            <a:ext cx="883944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орема.</a:t>
            </a: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точкам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рямой с координата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енно выражается форму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858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аются и ка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координатные прямые на координатной плоскост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114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рдинатные прямые обозначаю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зываются соответственно осью абсцисс и осью ордин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09480"/>
            <a:ext cx="8763120" cy="18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рямой 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т координа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енно. Найдите координату серед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2120" y="4191120"/>
            <a:ext cx="2374920" cy="825480"/>
            <a:chOff x="762120" y="4191120"/>
            <a:chExt cx="2374920" cy="825480"/>
          </a:xfrm>
        </p:grpSpPr>
        <p:sp>
          <p:nvSpPr>
            <p:cNvPr id="83" name=""/>
            <p:cNvSpPr/>
            <p:nvPr/>
          </p:nvSpPr>
          <p:spPr>
            <a:xfrm>
              <a:off x="762120" y="434340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2057400" y="4191120"/>
            <a:ext cx="1079640" cy="82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4191120"/>
                      <a:ext cx="107964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808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данных точек на координатной плоскости найдите их координа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638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2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1,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2847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5335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й плоскости изобразит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1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3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, 2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, 2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2, -3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284720" cy="4167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09680" y="1523880"/>
            <a:ext cx="42847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й, параллельной оси абсцисс, взяты две точки. У одной из них ордината равна 2. Чему равна ордината другой точ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876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й, перпендикулярной оси абсцисс, взяты две точки. У одной из них абсцисса равна 3. Чему равна абсцисса другой точ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876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б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, 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йдите его величин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380880" y="2286000"/>
            <a:ext cx="8136000" cy="4218120"/>
            <a:chOff x="380880" y="2286000"/>
            <a:chExt cx="8136000" cy="4218120"/>
          </a:xfrm>
        </p:grpSpPr>
        <p:sp>
          <p:nvSpPr>
            <p:cNvPr id="104" name=""/>
            <p:cNvSpPr/>
            <p:nvPr/>
          </p:nvSpPr>
          <p:spPr>
            <a:xfrm>
              <a:off x="380880" y="396252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1600200" y="2286000"/>
            <a:ext cx="6916680" cy="4218120"/>
            <a:chOff x="1600200" y="2286000"/>
            <a:chExt cx="6916680" cy="4218120"/>
          </a:xfrm>
        </p:grpSpPr>
        <p:sp>
          <p:nvSpPr>
            <p:cNvPr id="107" name=""/>
            <p:cNvSpPr/>
            <p:nvPr/>
          </p:nvSpPr>
          <p:spPr>
            <a:xfrm>
              <a:off x="1600200" y="457200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1600200" y="2286000"/>
            <a:ext cx="6916680" cy="4218120"/>
            <a:chOff x="1600200" y="2286000"/>
            <a:chExt cx="6916680" cy="4218120"/>
          </a:xfrm>
        </p:grpSpPr>
        <p:sp>
          <p:nvSpPr>
            <p:cNvPr id="110" name=""/>
            <p:cNvSpPr/>
            <p:nvPr/>
          </p:nvSpPr>
          <p:spPr>
            <a:xfrm>
              <a:off x="1600200" y="518148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35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1, 1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-2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б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1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1, 2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4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2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4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его величин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380880" y="2286000"/>
            <a:ext cx="8136000" cy="4218120"/>
            <a:chOff x="380880" y="2286000"/>
            <a:chExt cx="8136000" cy="4218120"/>
          </a:xfrm>
        </p:grpSpPr>
        <p:sp>
          <p:nvSpPr>
            <p:cNvPr id="116" name=""/>
            <p:cNvSpPr/>
            <p:nvPr/>
          </p:nvSpPr>
          <p:spPr>
            <a:xfrm>
              <a:off x="380880" y="396252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1600200" y="2286000"/>
            <a:ext cx="6916680" cy="4218120"/>
            <a:chOff x="1600200" y="2286000"/>
            <a:chExt cx="6916680" cy="4218120"/>
          </a:xfrm>
        </p:grpSpPr>
        <p:sp>
          <p:nvSpPr>
            <p:cNvPr id="119" name=""/>
            <p:cNvSpPr/>
            <p:nvPr/>
          </p:nvSpPr>
          <p:spPr>
            <a:xfrm>
              <a:off x="1600200" y="457200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1600200" y="2286000"/>
            <a:ext cx="6916680" cy="4218120"/>
            <a:chOff x="1600200" y="2286000"/>
            <a:chExt cx="6916680" cy="4218120"/>
          </a:xfrm>
        </p:grpSpPr>
        <p:sp>
          <p:nvSpPr>
            <p:cNvPr id="122" name=""/>
            <p:cNvSpPr/>
            <p:nvPr/>
          </p:nvSpPr>
          <p:spPr>
            <a:xfrm>
              <a:off x="1600200" y="518148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3) опущен перпендикуляр на ось абсцисс. Найдите координаты основания перпендикуля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876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0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очк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3) проведена прямая, параллельная оси абсцисс. Найдите координаты ее точки пересечения с осью ордин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876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3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оординатная плоск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533520"/>
            <a:ext cx="8991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ямоугольной системой координат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оскости называется пара перпендикулярных координатных прямых с общим началом координат. Начало координат обозначается букв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координатные прямые обозначаю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зываются соответственно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ью абсцисс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ью ордина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лоскость, с заданной прямоугольной системой координат, называетс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ординатной плоск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2385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2670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(3, 2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6094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координаты середины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: а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-2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 6); б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, 4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2); в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 7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, -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4724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(–1, 3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(1, 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808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еометрическое место точек на координатной плоскости, для которых: а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; б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; в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; г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724280" y="914400"/>
          <a:ext cx="2286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7315200" y="914400"/>
          <a:ext cx="22860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91440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8229600" y="914400"/>
          <a:ext cx="22860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91440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52280" y="16765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луплоскость, расположенная справа от оси ординат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514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луплоскость, расположенная ниже оси абсцисс, без самой оси абсцисс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352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левый верхний квадрант координатной плоскост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8600" y="3733920"/>
            <a:ext cx="8915400" cy="3004920"/>
            <a:chOff x="228600" y="3733920"/>
            <a:chExt cx="8915400" cy="3004920"/>
          </a:xfrm>
        </p:grpSpPr>
        <p:pic>
          <p:nvPicPr>
            <p:cNvPr id="147" name="" descr=""/>
            <p:cNvPicPr/>
            <p:nvPr/>
          </p:nvPicPr>
          <p:blipFill>
            <a:blip r:embed="rId7"/>
            <a:stretch/>
          </p:blipFill>
          <p:spPr>
            <a:xfrm>
              <a:off x="230040" y="4724280"/>
              <a:ext cx="891396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28600" y="373392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) правый верхний и левый нижний квадранты координатной плоскости, без осей координат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тре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тре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53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ямоугольный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тре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тре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59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Равнобедренный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09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четырех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четырех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65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Квадрат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09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четырех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четырех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71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ямоугольник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9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четырех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четырех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77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араллелограмм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09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четырех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четырех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83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Трапеция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094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исуйте ломаную, вершины которой имеют координаты: (1, 0), (2, 1), (1, 3), (2, 4), (1, 4,5), (1, 6), (1,5, 5,5), (2,5, 5,5), (3, 6), (3, 4,5), (2, 4), (3, 3), (4,5, 2,5), (4,5, 0), (5, 2,5), (5, 0). Очертания какого животного она напомина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363384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380880" y="2743200"/>
            <a:ext cx="6529680" cy="3638520"/>
            <a:chOff x="380880" y="2743200"/>
            <a:chExt cx="6529680" cy="3638520"/>
          </a:xfrm>
        </p:grpSpPr>
        <p:sp>
          <p:nvSpPr>
            <p:cNvPr id="189" name=""/>
            <p:cNvSpPr/>
            <p:nvPr/>
          </p:nvSpPr>
          <p:spPr>
            <a:xfrm>
              <a:off x="380880" y="44956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Кошка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3276720" y="2743200"/>
              <a:ext cx="3633840" cy="363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094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исуйте ломаную, вершины которой имеют координаты: (4, 0), (3, 1,5), (1, 2), (-1, 2), (-4, 0,5), (-6, 2), (-5,5, 0), (-6, -2), (-4, -0,5), (-1, -2), (1, -2), (3, -1,5), (4, 0). Очертания кого она напомина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976800" cy="290052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304920" y="2819520"/>
            <a:ext cx="7891200" cy="3433680"/>
            <a:chOff x="304920" y="2819520"/>
            <a:chExt cx="7891200" cy="3433680"/>
          </a:xfrm>
        </p:grpSpPr>
        <p:sp>
          <p:nvSpPr>
            <p:cNvPr id="195" name=""/>
            <p:cNvSpPr/>
            <p:nvPr/>
          </p:nvSpPr>
          <p:spPr>
            <a:xfrm>
              <a:off x="304920" y="2819520"/>
              <a:ext cx="304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Рыба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1219320" y="3352680"/>
              <a:ext cx="6976800" cy="290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оординаты точ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533520"/>
            <a:ext cx="899172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чка на координатной плоскости. 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м прямую, перпендикулярную ос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точку ее пересечения с ось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значи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ордината этой точки на ос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бсциссой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означаетс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налогично через точк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м прямую, перпендикулярную ос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очку ее пересечения с осью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значи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ордината этой точки на ос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ординатой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означаетс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350532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ординатной плоскости соответствует пара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называема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ординатами точ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оскости относительно данной системы координат. Точ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координатам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бознача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309888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6094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исуйте ломаную, вершины которой имеют координаты: (-5, 1), (-6, 0,5), (-7, 1), (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5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5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5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4,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4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5), (4,5, 0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Очертания какой породы собаки она напомина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6977160" cy="29005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380880" y="2971800"/>
            <a:ext cx="8120160" cy="3476880"/>
            <a:chOff x="380880" y="2971800"/>
            <a:chExt cx="8120160" cy="3476880"/>
          </a:xfrm>
        </p:grpSpPr>
        <p:sp>
          <p:nvSpPr>
            <p:cNvPr id="201" name=""/>
            <p:cNvSpPr/>
            <p:nvPr/>
          </p:nvSpPr>
          <p:spPr>
            <a:xfrm>
              <a:off x="380880" y="58672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Такса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1523880" y="2971800"/>
              <a:ext cx="6977160" cy="290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09480"/>
            <a:ext cx="5486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исуйте ломаную, вершины которой имеют координаты: (0, 0), (-1, 1), (-3, 1), (-2, 3), (-3, 3), (-4, 6), (0, 8), (2, 5), (2, 11), (6, 10), (3, 9), (4, 5), (3, 0), (2, 0), (1, -7), (3, -8), (0, -8), (0, 0). Очертания какой птицы она напомина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130560" cy="560088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380880" y="838080"/>
            <a:ext cx="8388360" cy="5600880"/>
            <a:chOff x="380880" y="838080"/>
            <a:chExt cx="8388360" cy="5600880"/>
          </a:xfrm>
        </p:grpSpPr>
        <p:sp>
          <p:nvSpPr>
            <p:cNvPr id="207" name=""/>
            <p:cNvSpPr/>
            <p:nvPr/>
          </p:nvSpPr>
          <p:spPr>
            <a:xfrm>
              <a:off x="380880" y="44956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Страус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5638680" y="838080"/>
              <a:ext cx="3130560" cy="560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координаты точки, симметричной точк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тносительно: а) оси абсцисс; б) оси ординат; в) начала координ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410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54100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(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5410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(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35164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609480"/>
            <a:ext cx="876312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, 6)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…) симметричны относительно оси ординат. Назовите пропущенные координаты этих точ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876920"/>
            <a:ext cx="75438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2, 6)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6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609480"/>
            <a:ext cx="876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координаты точки, полученной поворотом 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руг начала координат на угол 9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ив часовой стрелки, если точ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координаты: а) (2, 1); б) (-1, 3); в) (-2, -3); г) (1, -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3886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(–1, 2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43434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(–3, –1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4800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(3, –2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52578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(3, 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60948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координаты точки, полученной поворотом 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0) вокруг начала координат против часовой стрелки на угол: а) 3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б) 4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) 6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80880" y="3429000"/>
            <a:ext cx="8610840" cy="1092240"/>
            <a:chOff x="380880" y="3429000"/>
            <a:chExt cx="8610840" cy="1092240"/>
          </a:xfrm>
        </p:grpSpPr>
        <p:sp>
          <p:nvSpPr>
            <p:cNvPr id="227" name=""/>
            <p:cNvSpPr/>
            <p:nvPr/>
          </p:nvSpPr>
          <p:spPr>
            <a:xfrm>
              <a:off x="380880" y="3657600"/>
              <a:ext cx="861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8" name=""/>
            <p:cNvGraphicFramePr/>
            <p:nvPr/>
          </p:nvGraphicFramePr>
          <p:xfrm>
            <a:off x="2057400" y="3429000"/>
            <a:ext cx="1295280" cy="109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429000"/>
                      <a:ext cx="1295280" cy="10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0" name=""/>
          <p:cNvGrpSpPr/>
          <p:nvPr/>
        </p:nvGrpSpPr>
        <p:grpSpPr>
          <a:xfrm>
            <a:off x="1600200" y="4495680"/>
            <a:ext cx="5486400" cy="1092240"/>
            <a:chOff x="1600200" y="4495680"/>
            <a:chExt cx="5486400" cy="1092240"/>
          </a:xfrm>
        </p:grpSpPr>
        <p:graphicFrame>
          <p:nvGraphicFramePr>
            <p:cNvPr id="231" name=""/>
            <p:cNvGraphicFramePr/>
            <p:nvPr/>
          </p:nvGraphicFramePr>
          <p:xfrm>
            <a:off x="2057400" y="4495680"/>
            <a:ext cx="1574640" cy="1092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57400" y="4495680"/>
                      <a:ext cx="1574640" cy="10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1600200" y="464832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600200" y="5486400"/>
            <a:ext cx="5486400" cy="1092240"/>
            <a:chOff x="1600200" y="5486400"/>
            <a:chExt cx="5486400" cy="1092240"/>
          </a:xfrm>
        </p:grpSpPr>
        <p:graphicFrame>
          <p:nvGraphicFramePr>
            <p:cNvPr id="235" name=""/>
            <p:cNvGraphicFramePr/>
            <p:nvPr/>
          </p:nvGraphicFramePr>
          <p:xfrm>
            <a:off x="2133720" y="5486400"/>
            <a:ext cx="1295280" cy="109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33720" y="5486400"/>
                      <a:ext cx="1295280" cy="10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1600200" y="563868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7432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ямая, параллельная оси ордина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еометрическое место точек на координатной плоскости, для которых: а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; б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; в)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= 3; г)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; д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е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419720" y="1752480"/>
          <a:ext cx="2286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75248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523880" y="32004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ямая, параллельная оси абсцисс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65760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ве прямые, параллельные оси ордина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4572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две полуплоскос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0292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прямая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54864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пряма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расстояние от начала координат до точки с координатами: а) (1, 1); б) (-3, 4); в) (-1, -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04920" y="4267080"/>
            <a:ext cx="8305560" cy="581400"/>
            <a:chOff x="304920" y="4267080"/>
            <a:chExt cx="8305560" cy="581400"/>
          </a:xfrm>
        </p:grpSpPr>
        <p:sp>
          <p:nvSpPr>
            <p:cNvPr id="251" name=""/>
            <p:cNvSpPr/>
            <p:nvPr/>
          </p:nvSpPr>
          <p:spPr>
            <a:xfrm>
              <a:off x="304920" y="4267080"/>
              <a:ext cx="830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1981080" y="4343400"/>
            <a:ext cx="482760" cy="44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4343400"/>
                      <a:ext cx="4827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4" name=""/>
          <p:cNvSpPr/>
          <p:nvPr/>
        </p:nvSpPr>
        <p:spPr>
          <a:xfrm>
            <a:off x="2666880" y="42670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5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4267080"/>
            <a:ext cx="3429000" cy="581400"/>
            <a:chOff x="3657600" y="4267080"/>
            <a:chExt cx="3429000" cy="581400"/>
          </a:xfrm>
        </p:grpSpPr>
        <p:sp>
          <p:nvSpPr>
            <p:cNvPr id="256" name=""/>
            <p:cNvSpPr/>
            <p:nvPr/>
          </p:nvSpPr>
          <p:spPr>
            <a:xfrm>
              <a:off x="3657600" y="42670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7" name=""/>
            <p:cNvGraphicFramePr/>
            <p:nvPr/>
          </p:nvGraphicFramePr>
          <p:xfrm>
            <a:off x="4114800" y="4267080"/>
            <a:ext cx="469800" cy="44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4267080"/>
                      <a:ext cx="4698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533520"/>
            <a:ext cx="571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прямоугольные   координаты   были   введены Р. Декартом (1596-1650), поэтому прямоугольную систему  координат называют также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екартовой системой координ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сами координаты –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екартовыми координа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ведение прямоугольных координат на плоскости позволило свести многие геометрические задачи к чисто алгебраическим и, наоборот, алгебраические задачи – к геометрическим. Метод, основанный на этом, называется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тодом координ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:\Documents and Settings\Администратор\Мои документы\VOL\Презентации\Вводный курс\Декарт.jpg"/>
          <p:cNvPicPr/>
          <p:nvPr/>
        </p:nvPicPr>
        <p:blipFill>
          <a:blip r:embed="rId1"/>
          <a:stretch/>
        </p:blipFill>
        <p:spPr>
          <a:xfrm>
            <a:off x="0" y="762120"/>
            <a:ext cx="3395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858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прямая называется координатн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411480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ной прямой, или координатной осью называется прямая, на которой выбраны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мая началом координат, и 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казывающий положительное направление координатной прям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685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координатой точки на координатной пря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11480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ой точк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ординатной прямой называется рас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начала координа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зятое со знаком "+", есл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ит положительной полуоси, и со знаком "–", есл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ит отрицательной полуос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685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ражается расстояние между двумя точками на координатной пря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4114800"/>
            <a:ext cx="891540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точкам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рямой с координата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енно выражается форму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685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прямоугольной системой координа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 плоск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114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ой системой координат на плоскости называется пара перпендикулярных координатных прямых с общим началом координ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685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плоскость называется координатной плоскость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114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ь, с заданной прямоугольной системой координат, называется координатной плоск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13-02-07T13:05:23Z</dcterms:modified>
  <cp:revision>83</cp:revision>
  <dc:subject/>
  <dc:title>Основные геометрические фигуры</dc:title>
</cp:coreProperties>
</file>