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7E0-3633-4521-BB45-057641B5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823-1792-4F2D-9FEF-6FA7728D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518-6C1B-4D97-B051-C2C921CC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270-5993-4EE9-913C-4658A204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0122-3C3E-4FC6-9441-A943797E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18E3-D7B1-4DFC-9E73-FB65D9E7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36A7-8279-4C7F-8898-845BB1EB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994C-9A14-444E-9A5E-ED3BBF4C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16E5-3F34-4E0E-B4E8-81674CA8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4843-A68A-46A0-B19E-177053B1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AC1E-79F9-4584-A9E7-5CECB499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A69-CFBC-40B4-9BC4-20430641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EE27-C76A-41D5-AAAF-5A6320AC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A7A1-84EF-4A80-94CF-EE5568DD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07C8-250B-45C8-B1B0-69F012F7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B02-0179-4F95-B37C-D0689B5E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F670-90CD-4959-A956-7FC6357A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64A3-56D0-4ABC-BA0A-33AD25CA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BCBE-1951-40C6-9692-8741A6C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8279-3C3E-45AE-9F5F-84143F88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A88B-344B-4FAE-A88A-156C4DEE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47E5-F163-4CE8-A0AD-DEAAF789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7E6-E5ED-42A1-9736-3367371A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4723-B2C1-4DB4-9CF8-DC824F80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A287-8C8A-4589-917C-CC8512AF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5461-4C64-474B-9B56-672415DC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48C0F-4BAB-4086-950B-5ABA9D38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C750-CF19-45D5-AE95-71B1EF71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2A74-7F56-4066-A45E-2BC57CD8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02BE-A918-4DC4-B052-D6E6C2B9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B74AB-33DA-45FC-A8D8-C73668A7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7117-2C55-4C67-86F8-B7A0FC73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6306-5DBB-4D75-8476-305CF7FC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CA3-7AFB-41B4-B638-9D81BC29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4D2C-8D4F-4E98-A8EC-6A0DF15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655F-B39B-45E0-A6F4-3BB17C06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EAEAD-A90A-4654-8B9A-EF054DA3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137E-97BC-4B07-ADFD-94E2CB0D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CB3A7-D24E-4D0A-B58C-4782183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DFDE-0227-474E-9856-CBA52B5C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8971-E376-460C-864F-33AEB2A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42F4-392E-41AA-93D6-4370F0E7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E55B-5612-4196-9C5D-59512C60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4F2-EC8C-4625-93BF-B9B3FBD7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9EB-BCB2-4BD7-964C-7383CFD8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D6C-ECA7-46B3-AA13-2D50B431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0D3-AA7B-4F81-8F12-B5BFB488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47F-99FD-4F7E-8EE0-80CA627F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9244-F817-4E11-BB7B-C1923C7C13B4}" type="slidenum">
              <a:rPr b="0" lang="ru-RU" sz="11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84BA-0773-47D0-8D55-DCEA3288BCC6}" type="slidenum">
              <a:rPr b="0" lang="ru-RU" sz="11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9260-ACFE-49CC-B2C7-3E6E4C3E6869}" type="slidenum">
              <a:rPr b="0" lang="ru-RU" sz="11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291C-DAC6-4EDC-89D6-BF46B081C6CE}" type="slidenum">
              <a:rPr b="0" lang="ru-RU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060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000"/>
                </a:solidFill>
                <a:latin typeface="Arial Narrow"/>
              </a:rPr>
              <a:t>ЗНАМЕНИТЫЕ ЛОШАДИ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755640" y="4076640"/>
            <a:ext cx="81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изетт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Руси одной из самых известных была лошадь по кличке Лизетта, принадлежавшая царю Петру I, который выкупил ее у одного рижского купца. Лизетта принимала участие во многих боевых сражениях, а под Полтавой даже смогла спасти царю жизнь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4" descr="Picture background"/>
          <p:cNvPicPr/>
          <p:nvPr/>
        </p:nvPicPr>
        <p:blipFill>
          <a:blip r:embed="rId1"/>
          <a:stretch/>
        </p:blipFill>
        <p:spPr>
          <a:xfrm>
            <a:off x="1619280" y="620640"/>
            <a:ext cx="5848200" cy="328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5580000" y="2060640"/>
            <a:ext cx="338472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умир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Конь по кличке Куми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был известным любимцем маршала СССР Георгия Жукова. Именно на этом красавце светло-серого окраса Жуков принимал Парад Победы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Picture 4" descr="Picture background"/>
          <p:cNvPicPr/>
          <p:nvPr/>
        </p:nvPicPr>
        <p:blipFill>
          <a:blip r:embed="rId1"/>
          <a:stretch/>
        </p:blipFill>
        <p:spPr>
          <a:xfrm>
            <a:off x="324000" y="404640"/>
            <a:ext cx="504000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684360" y="4221000"/>
            <a:ext cx="7954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Янардага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национальном гербе Туркменистана можно увидеть изображение еще одного самого известного коня в истории – Янардага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который принадлежал первому президенту этой страны Сапармурату Ниязову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Picture 4" descr="Picture background"/>
          <p:cNvPicPr/>
          <p:nvPr/>
        </p:nvPicPr>
        <p:blipFill>
          <a:blip r:embed="rId1"/>
          <a:stretch/>
        </p:blipFill>
        <p:spPr>
          <a:xfrm>
            <a:off x="2104920" y="907920"/>
            <a:ext cx="511344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&amp;Fcy;&amp;ocy;&amp;tcy;&amp;ocy; &amp;Acy;&amp;bcy;&amp;scy;&amp;iecy;&amp;ncy;&amp;tcy;&amp;acy;"/>
          <p:cNvPicPr/>
          <p:nvPr/>
        </p:nvPicPr>
        <p:blipFill>
          <a:blip r:embed="rId1"/>
          <a:stretch/>
        </p:blipFill>
        <p:spPr>
          <a:xfrm>
            <a:off x="539640" y="333360"/>
            <a:ext cx="5104080" cy="33116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"/>
          <p:cNvSpPr/>
          <p:nvPr/>
        </p:nvSpPr>
        <p:spPr>
          <a:xfrm>
            <a:off x="4356000" y="4005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Абсен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знаменитая лошадь СССР. В 1960 году на Олимпийских играх в Риме он завоевал в выездке первую высшую олимпийскую награду в истории советского конного спорта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Fcy;&amp;ocy;&amp;tcy;&amp;ocy; &amp;Acy;&amp;ncy;&amp;icy;&amp;lcy;&amp;icy;&amp;ncy;&amp;acy;"/>
          <p:cNvPicPr/>
          <p:nvPr/>
        </p:nvPicPr>
        <p:blipFill>
          <a:blip r:embed="rId1"/>
          <a:stretch/>
        </p:blipFill>
        <p:spPr>
          <a:xfrm>
            <a:off x="2522520" y="669960"/>
            <a:ext cx="3940200" cy="25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"/>
          <p:cNvSpPr/>
          <p:nvPr/>
        </p:nvSpPr>
        <p:spPr>
          <a:xfrm>
            <a:off x="826920" y="3284640"/>
            <a:ext cx="7331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Анили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ребец английской чистокровной верховой породы. Первая скаковая лошадь в СССР ставшая победителем крупнейших скачек в Европе три года подряд. Был удостоен почётного титула "достояние Республики". Выиграл 22 скачки из 28, в которых принимал участие. Скакун славился своими звездными привычками. В годы славы у него был целый штат прислуги, время от времени он прикидывался больным и с наслаждением смотрел, как все вокруг суетятся. В конном заводе "Восход" (Краснодарский край) ему поставлен памятник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amp;Rcy;&amp;icy;&amp;scy;&amp;ucy;&amp;ncy;&amp;ocy;&amp;kcy; &amp;Bcy;&amp;ucy;&amp;tscy;&amp;iecy;&amp;fcy;&amp;acy;&amp;lcy;&amp;acy; &amp;scy; &amp;Acy;&amp;lcy;&amp;iecy;&amp;kcy;&amp;scy;&amp;acy;&amp;ncy;&amp;dcy;&amp;rcy;&amp;ocy;&amp;mcy; &amp;Mcy;&amp;acy;&amp;kcy;&amp;iecy;&amp;dcy;&amp;ocy;&amp;ncy;&amp;scy;&amp;kcy;&amp;icy;&amp;mcy;"/>
          <p:cNvPicPr/>
          <p:nvPr/>
        </p:nvPicPr>
        <p:blipFill>
          <a:blip r:embed="rId1"/>
          <a:stretch/>
        </p:blipFill>
        <p:spPr>
          <a:xfrm>
            <a:off x="539640" y="1052640"/>
            <a:ext cx="298764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"/>
          <p:cNvSpPr/>
          <p:nvPr/>
        </p:nvSpPr>
        <p:spPr>
          <a:xfrm>
            <a:off x="3924360" y="1433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Буцефа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Любимый конь Александра Македонского. Был привезён в подарок его отцу в 343 году до нашей эры. Был удивительно красив, но обладал злобным и диким нравом и его никому не удалось объездить. Александр, которому в то время было 12 лет, догадался, что Буцефал боиться теней и развернул коня мордой к солнцу, после чего тот спокойно позволил юноше сесть на свою спину.Умер Буцефал в 30 лет и в его честь Александр Македонский воздвиг город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&amp;Lcy;&amp;ocy;&amp;shcy;&amp;acy;&amp;dcy;&amp;softcy; &amp;pcy;&amp;ocy; &amp;kcy;&amp;lcy;&amp;icy;&amp;chcy;&amp;kcy;&amp;iecy; &amp;Scy;&amp;icy;&amp;iecy;&amp;tcy;&amp;tcy;&amp;lcy; &amp;Dcy;&amp;acy;&amp;ncy;&amp;scy;&amp;iecy;&amp;rcy;"/>
          <p:cNvPicPr/>
          <p:nvPr/>
        </p:nvPicPr>
        <p:blipFill>
          <a:blip r:embed="rId1"/>
          <a:stretch/>
        </p:blipFill>
        <p:spPr>
          <a:xfrm>
            <a:off x="1187280" y="189000"/>
            <a:ext cx="4176720" cy="3525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4067280" y="41497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иеттл Дансер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ребец английской чистокровной породы. Знаменит тем, что в 1985 году за него было уплачена сумма в 13 тысяч 100 долларов США мистером Робертом Сангстером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&amp;Scy;&amp;lcy;&amp;iecy;&amp;jcy;&amp;pcy;&amp;ncy;&amp;icy;&amp;rcy; &amp;icy; &amp;Ocy;&amp;dcy;&amp;icy;&amp;ncy;"/>
          <p:cNvPicPr/>
          <p:nvPr/>
        </p:nvPicPr>
        <p:blipFill>
          <a:blip r:embed="rId1"/>
          <a:stretch/>
        </p:blipFill>
        <p:spPr>
          <a:xfrm>
            <a:off x="1116000" y="189000"/>
            <a:ext cx="4917960" cy="36716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"/>
          <p:cNvSpPr/>
          <p:nvPr/>
        </p:nvSpPr>
        <p:spPr>
          <a:xfrm>
            <a:off x="4284720" y="4076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лейпнир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древнегерманской мифологии любимый конь верховного бога Одина. Имел серую масть, восемь ног, мог скакать по суше и воде. Символизирует ветер, дующий с восьми основных точек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&amp;Fcy;&amp;ocy;&amp;tcy;&amp;ocy; &amp;zhcy;&amp;iecy;&amp;rcy;&amp;iecy;&amp;bcy;&amp;tscy;&amp;acy; &amp;pcy;&amp;ocy; &amp;kcy;&amp;lcy;&amp;icy;&amp;chcy;&amp;kcy;&amp;iecy; &amp;Fcy;&amp;ocy;&amp;rcy;&amp;scy;"/>
          <p:cNvPicPr/>
          <p:nvPr/>
        </p:nvPicPr>
        <p:blipFill>
          <a:blip r:embed="rId1"/>
          <a:stretch/>
        </p:blipFill>
        <p:spPr>
          <a:xfrm>
            <a:off x="3903840" y="260280"/>
            <a:ext cx="4392360" cy="35067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"/>
          <p:cNvSpPr/>
          <p:nvPr/>
        </p:nvSpPr>
        <p:spPr>
          <a:xfrm>
            <a:off x="539640" y="37846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с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ребец советской тяжеловозной породы. В 1951 году установил рекорд по грузоподъёмности до сих пор оставшийся не побитым. Он провёз на 35 метров груз весом 23 тонны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images.forwallpaper.com/files/images/e/ee7c/ee7c8e03/1001662/pegasus-milkyway.jpg"/>
          <p:cNvPicPr/>
          <p:nvPr/>
        </p:nvPicPr>
        <p:blipFill>
          <a:blip r:embed="rId1"/>
          <a:stretch/>
        </p:blipFill>
        <p:spPr>
          <a:xfrm>
            <a:off x="1187280" y="404640"/>
            <a:ext cx="4129200" cy="30956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"/>
          <p:cNvSpPr/>
          <p:nvPr/>
        </p:nvSpPr>
        <p:spPr>
          <a:xfrm>
            <a:off x="2700360" y="350028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гас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рылатый конь - сын Посейдона и Медузы Горгоны, он родился при помощи Персея, появившись из туловища убитой им Горгоны. Пегас вознесся на Олимп, чтобы доставлять Зевсу громы и молнии. Символизирует творчество, поскольку копытом своим выбил из-под земли Гиппокрену - источник муз, обладающий свойством вдохновлять поэтов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971640" y="3213000"/>
            <a:ext cx="752472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Инцита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Еще одной самой известной в истории лошадью является Инцитат – испанский жеребец светло-серого окраса, принадлежавший императору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лигуле. Этот конь прославился тем, что был назначен… римским сенатором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Picture 4" descr="Picture background"/>
          <p:cNvPicPr/>
          <p:nvPr/>
        </p:nvPicPr>
        <p:blipFill>
          <a:blip r:embed="rId1"/>
          <a:stretch/>
        </p:blipFill>
        <p:spPr>
          <a:xfrm>
            <a:off x="1332000" y="260280"/>
            <a:ext cx="600084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15:50:01Z</dcterms:created>
  <dc:creator>user</dc:creator>
  <dc:description/>
  <dc:language>en-US</dc:language>
  <cp:lastModifiedBy>408</cp:lastModifiedBy>
  <dcterms:modified xsi:type="dcterms:W3CDTF">2024-06-25T08:14:35Z</dcterms:modified>
  <cp:revision>8</cp:revision>
  <dc:subject/>
  <dc:title>Презентация PowerPoint</dc:title>
</cp:coreProperties>
</file>