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CAC-9F67-4F81-A8E8-0CD21509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A65-9FC6-4FC4-B61C-5C1551EC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FD9-FDC0-446D-AF73-84FFFAAC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864D-1B46-4DED-B0ED-7244EE89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4F84-AFA6-418A-9BD8-C60B446B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7562-7A63-4A0A-B874-34C505B3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CECD-84CA-4223-B90B-58575536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88F0-5EB0-4EDD-AD1F-830235DC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B570-1815-418F-AC07-2A4BDDF3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04B1-D3BD-449A-AB43-CF144C8B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A476-942B-4BE2-BB51-6C21E90E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0355-4DA8-4864-BF84-A4187982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87CB-5120-4E1D-A3C9-D06822F4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3161-D6AF-4260-B8B6-8F988F11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71AF-AF88-4575-A960-C85DBA69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27F3-BAD0-4BB5-A6B6-9FE4BFA9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2BA4-C8EC-461B-AFEF-9B17E411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56DF-B91D-484E-9B6F-01FF57F3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3D8DB-66AC-40A5-81FE-37D3A39D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487B6-7F39-4692-9880-56C764B1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CF9B-9404-4282-BA8F-922F9A7A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DECD1-CDD4-4AAE-8DDD-38A46BA2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4E2-F916-4FB9-9DDE-A18F39CA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9D08-6F22-44C3-9ADE-B539FC21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F251-A53D-41C0-96E8-DC95F219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DB37-1B10-4D10-8DA1-AD5F26DB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3FB8F-8513-42A2-A0D6-B0F4E655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6F272-15D9-4220-914E-5F51E19C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64912-444E-4945-8DD6-3F4EF10C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27956-4118-4A65-B533-9953EB4E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841F3-69E6-4D88-8CF6-A2700B05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AEB5F-9790-4CD7-97C5-C28FBDFB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53B35-F0CB-45C6-88B7-55222D27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784-8E7D-45DC-A6E3-21140FE4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B359C-77B2-4515-B92C-364A60E0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043A1-E127-4994-ADDA-CB0514C5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80B56-058C-46D4-BAFD-B747CA40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E3C0C-AB04-4A60-BF38-9A8C0EF5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47611-006E-4CC6-B1FA-30837079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DC0DB-BF98-4BC1-BA74-BCCA2DD4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34CF5-D318-43E6-99D3-B6D38DE7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C31DE-15B1-4838-BC00-8EDCF36E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10492-1317-4905-B090-6F7BF937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CC8-685A-47BA-9318-337C99BC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7A9-A6BC-47F9-B408-F1E0C95B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DAD-6D41-45E6-BD5C-D35DFB78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785-00C5-4B40-AA99-EF5E8B29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DEE-EBD9-43B1-ADCD-4D15C536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DB87-F153-4D98-BBC5-3AB0114A732B}" type="slidenum">
              <a:rPr b="0" lang="ru-RU" sz="11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F42E-1D39-4BDB-885B-C4030F15E06C}" type="slidenum">
              <a:rPr b="0" lang="ru-RU" sz="11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CF28-E40E-4AF7-A527-B82574AB187F}" type="slidenum">
              <a:rPr b="0" lang="ru-RU" sz="11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10E9-F392-4B04-A319-4E61951FFE64}" type="slidenum">
              <a:rPr b="0" lang="ru-RU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060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000"/>
                </a:solidFill>
                <a:latin typeface="Arial Narrow"/>
              </a:rPr>
              <a:t>ЗНАМЕНИТЫЕ ЛОШАДИ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755640" y="4076640"/>
            <a:ext cx="813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Лизетт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Руси одной из самых известных была лошадь по кличке Лизетта, принадлежавшая царю Петру I, который выкупил ее у одного рижского купца. Лизетта принимала участие во многих боевых сражениях, а под Полтавой даже смогла спасти царю жизнь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4" descr="Picture background"/>
          <p:cNvPicPr/>
          <p:nvPr/>
        </p:nvPicPr>
        <p:blipFill>
          <a:blip r:embed="rId1"/>
          <a:stretch/>
        </p:blipFill>
        <p:spPr>
          <a:xfrm>
            <a:off x="1619280" y="620640"/>
            <a:ext cx="5848200" cy="328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5580000" y="2060640"/>
            <a:ext cx="338472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Кумир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Конь по кличке Куми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был известным любимцем маршала СССР Георгия Жукова. Именно на этом красавце светло-серого окраса Жуков принимал Парад Победы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7" name="Picture 4" descr="Picture background"/>
          <p:cNvPicPr/>
          <p:nvPr/>
        </p:nvPicPr>
        <p:blipFill>
          <a:blip r:embed="rId1"/>
          <a:stretch/>
        </p:blipFill>
        <p:spPr>
          <a:xfrm>
            <a:off x="324000" y="404640"/>
            <a:ext cx="504000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684360" y="4221000"/>
            <a:ext cx="79549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Янардага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национальном гербе Туркменистана можно увидеть изображение еще одного самого известного коня в истории – Янардага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который принадлежал первому президенту этой страны Сапармурату Ниязову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9" name="Picture 4" descr="Picture background"/>
          <p:cNvPicPr/>
          <p:nvPr/>
        </p:nvPicPr>
        <p:blipFill>
          <a:blip r:embed="rId1"/>
          <a:stretch/>
        </p:blipFill>
        <p:spPr>
          <a:xfrm>
            <a:off x="2104920" y="907920"/>
            <a:ext cx="511344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&amp;Fcy;&amp;ocy;&amp;tcy;&amp;ocy; &amp;Acy;&amp;bcy;&amp;scy;&amp;iecy;&amp;ncy;&amp;tcy;&amp;acy;"/>
          <p:cNvPicPr/>
          <p:nvPr/>
        </p:nvPicPr>
        <p:blipFill>
          <a:blip r:embed="rId1"/>
          <a:stretch/>
        </p:blipFill>
        <p:spPr>
          <a:xfrm>
            <a:off x="539640" y="333360"/>
            <a:ext cx="5104080" cy="331164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1"/>
          <p:cNvSpPr/>
          <p:nvPr/>
        </p:nvSpPr>
        <p:spPr>
          <a:xfrm>
            <a:off x="4356000" y="4005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Абсен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ая знаменитая лошадь СССР. В 1960 году на Олимпийских играх в Риме он завоевал в выездке первую высшую олимпийскую награду в истории советского конного спорта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&amp;Fcy;&amp;ocy;&amp;tcy;&amp;ocy; &amp;Acy;&amp;ncy;&amp;icy;&amp;lcy;&amp;icy;&amp;ncy;&amp;acy;"/>
          <p:cNvPicPr/>
          <p:nvPr/>
        </p:nvPicPr>
        <p:blipFill>
          <a:blip r:embed="rId1"/>
          <a:stretch/>
        </p:blipFill>
        <p:spPr>
          <a:xfrm>
            <a:off x="2522520" y="669960"/>
            <a:ext cx="3940200" cy="25909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1"/>
          <p:cNvSpPr/>
          <p:nvPr/>
        </p:nvSpPr>
        <p:spPr>
          <a:xfrm>
            <a:off x="826920" y="3284640"/>
            <a:ext cx="7331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Анилин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Жеребец английской чистокровной верховой породы. Первая скаковая лошадь в СССР ставшая победителем крупнейших скачек в Европе три года подряд. Был удостоен почётного титула "достояние Республики". Выиграл 22 скачки из 28, в которых принимал участие. Скакун славился своими звездными привычками. В годы славы у него был целый штат прислуги, время от времени он прикидывался больным и с наслаждением смотрел, как все вокруг суетятся. В конном заводе "Восход" (Краснодарский край) ему поставлен памятник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&amp;Rcy;&amp;icy;&amp;scy;&amp;ucy;&amp;ncy;&amp;ocy;&amp;kcy; &amp;Bcy;&amp;ucy;&amp;tscy;&amp;iecy;&amp;fcy;&amp;acy;&amp;lcy;&amp;acy; &amp;scy; &amp;Acy;&amp;lcy;&amp;iecy;&amp;kcy;&amp;scy;&amp;acy;&amp;ncy;&amp;dcy;&amp;rcy;&amp;ocy;&amp;mcy; &amp;Mcy;&amp;acy;&amp;kcy;&amp;iecy;&amp;dcy;&amp;ocy;&amp;ncy;&amp;scy;&amp;kcy;&amp;icy;&amp;mcy;"/>
          <p:cNvPicPr/>
          <p:nvPr/>
        </p:nvPicPr>
        <p:blipFill>
          <a:blip r:embed="rId1"/>
          <a:stretch/>
        </p:blipFill>
        <p:spPr>
          <a:xfrm>
            <a:off x="539640" y="1052640"/>
            <a:ext cx="2987640" cy="41767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1"/>
          <p:cNvSpPr/>
          <p:nvPr/>
        </p:nvSpPr>
        <p:spPr>
          <a:xfrm>
            <a:off x="3924360" y="1433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Буцефал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Любимый конь Александра Македонского. Был привезён в подарок его отцу в 343 году до нашей эры. Был удивительно красив, но обладал злобным и диким нравом и его никому не удалось объездить. Александр, которому в то время было 12 лет, догадался, что Буцефал боиться теней и развернул коня мордой к солнцу, после чего тот спокойно позволил юноше сесть на свою спину.Умер Буцефал в 30 лет и в его честь Александр Македонский воздвиг город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&amp;Lcy;&amp;ocy;&amp;shcy;&amp;acy;&amp;dcy;&amp;softcy; &amp;pcy;&amp;ocy; &amp;kcy;&amp;lcy;&amp;icy;&amp;chcy;&amp;kcy;&amp;iecy; &amp;Scy;&amp;icy;&amp;iecy;&amp;tcy;&amp;tcy;&amp;lcy; &amp;Dcy;&amp;acy;&amp;ncy;&amp;scy;&amp;iecy;&amp;rcy;"/>
          <p:cNvPicPr/>
          <p:nvPr/>
        </p:nvPicPr>
        <p:blipFill>
          <a:blip r:embed="rId1"/>
          <a:stretch/>
        </p:blipFill>
        <p:spPr>
          <a:xfrm>
            <a:off x="1187280" y="189000"/>
            <a:ext cx="4176720" cy="35258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"/>
          <p:cNvSpPr/>
          <p:nvPr/>
        </p:nvSpPr>
        <p:spPr>
          <a:xfrm>
            <a:off x="4067280" y="41497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иеттл Дансер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Жеребец английской чистокровной породы. Знаменит тем, что в 1985 году за него было уплачена сумма в 13 тысяч 100 долларов США мистером Робертом Сангстером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&amp;Scy;&amp;lcy;&amp;iecy;&amp;jcy;&amp;pcy;&amp;ncy;&amp;icy;&amp;rcy; &amp;icy; &amp;Ocy;&amp;dcy;&amp;icy;&amp;ncy;"/>
          <p:cNvPicPr/>
          <p:nvPr/>
        </p:nvPicPr>
        <p:blipFill>
          <a:blip r:embed="rId1"/>
          <a:stretch/>
        </p:blipFill>
        <p:spPr>
          <a:xfrm>
            <a:off x="1116000" y="189000"/>
            <a:ext cx="4917960" cy="36716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"/>
          <p:cNvSpPr/>
          <p:nvPr/>
        </p:nvSpPr>
        <p:spPr>
          <a:xfrm>
            <a:off x="4284720" y="4076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лейпнир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древнегерманской мифологии любимый конь верховного бога Одина. Имел серую масть, восемь ног, мог скакать по суше и воде. Символизирует ветер, дующий с восьми основных точек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&amp;Fcy;&amp;ocy;&amp;tcy;&amp;ocy; &amp;zhcy;&amp;iecy;&amp;rcy;&amp;iecy;&amp;bcy;&amp;tscy;&amp;acy; &amp;pcy;&amp;ocy; &amp;kcy;&amp;lcy;&amp;icy;&amp;chcy;&amp;kcy;&amp;iecy; &amp;Fcy;&amp;ocy;&amp;rcy;&amp;scy;"/>
          <p:cNvPicPr/>
          <p:nvPr/>
        </p:nvPicPr>
        <p:blipFill>
          <a:blip r:embed="rId1"/>
          <a:stretch/>
        </p:blipFill>
        <p:spPr>
          <a:xfrm>
            <a:off x="3903840" y="260280"/>
            <a:ext cx="4392360" cy="350676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1"/>
          <p:cNvSpPr/>
          <p:nvPr/>
        </p:nvSpPr>
        <p:spPr>
          <a:xfrm>
            <a:off x="539640" y="37846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с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Жеребец советской тяжеловозной породы. В 1951 году установил рекорд по грузоподъёмности до сих пор оставшийся не побитым. Он провёз на 35 метров груз весом 23 тонны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http://images.forwallpaper.com/files/images/e/ee7c/ee7c8e03/1001662/pegasus-milkyway.jpg"/>
          <p:cNvPicPr/>
          <p:nvPr/>
        </p:nvPicPr>
        <p:blipFill>
          <a:blip r:embed="rId1"/>
          <a:stretch/>
        </p:blipFill>
        <p:spPr>
          <a:xfrm>
            <a:off x="1187280" y="404640"/>
            <a:ext cx="4129200" cy="30956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1"/>
          <p:cNvSpPr/>
          <p:nvPr/>
        </p:nvSpPr>
        <p:spPr>
          <a:xfrm>
            <a:off x="2700360" y="3500280"/>
            <a:ext cx="61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егас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Крылатый конь - сын Посейдона и Медузы Горгоны, он родился при помощи Персея, появившись из туловища убитой им Горгоны. Пегас вознесся на Олимп, чтобы доставлять Зевсу громы и молнии. Символизирует творчество, поскольку копытом своим выбил из-под земли Гиппокрену - источник муз, обладающий свойством вдохновлять поэтов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971640" y="3213000"/>
            <a:ext cx="752472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Инцитат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Еще одной самой известной в истории лошадью является Инцитат – испанский жеребец светло-серого окраса, принадлежавший императору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лигуле. Этот конь прославился тем, что был назначен… римским сенатором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3" name="Picture 4" descr="Picture background"/>
          <p:cNvPicPr/>
          <p:nvPr/>
        </p:nvPicPr>
        <p:blipFill>
          <a:blip r:embed="rId1"/>
          <a:stretch/>
        </p:blipFill>
        <p:spPr>
          <a:xfrm>
            <a:off x="1332000" y="260280"/>
            <a:ext cx="600084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3T15:50:01Z</dcterms:created>
  <dc:creator>user</dc:creator>
  <dc:description/>
  <dc:language>en-US</dc:language>
  <cp:lastModifiedBy>408</cp:lastModifiedBy>
  <dcterms:modified xsi:type="dcterms:W3CDTF">2024-06-25T08:14:35Z</dcterms:modified>
  <cp:revision>8</cp:revision>
  <dc:subject/>
  <dc:title>Презентация PowerPoint</dc:title>
</cp:coreProperties>
</file>