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B06-4A1D-428C-BA11-2442B676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3EE-DBF7-499D-AF63-0A2A57BA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26297-E58C-44A5-B4F1-649C121D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41C38-AE23-4708-80CA-818E36E4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96066-2718-435A-BC4A-86A4B540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C1B13-EA82-46BA-9677-45227D28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3C66D-A3E9-4C52-8B14-E4625BF0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04466-76A9-477C-AF62-0705962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EEDFA-54A2-4763-8C1B-7CDDFE42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423C0-040C-4325-9070-42A6231E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EDC67-9D2C-42FD-8FB9-AB14D16C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86161-1D65-49BE-A45B-BA7EADEC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B17-9DA2-47AD-8509-D8D5E29B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F7C3E-4D42-4A51-957F-13591E3F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38B2D-A5F6-46B4-9694-08103B26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08E6E-FAC2-4EBD-B821-C68B60A0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6C20E-E9F2-4239-92A5-C71DC750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934F1-AFEF-46BB-A1EE-AE0C519E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5DD3B-4B5D-46F5-ACCB-D532D59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01809-2C2D-4FD8-BEAF-EC6FE39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BD9F1-31A5-4056-B194-F05E3DA1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2329C-84C6-4F0B-AC83-916EDE07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4A682-DDDE-4208-AF14-2AC6E17F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1DA-C69A-4229-946E-5F9B76FC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C5A16-FD6B-437B-BAB6-C20959A8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58604-657F-4364-A9C9-875CA6BC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59691-EF85-4A07-946A-379CDF64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48667-5584-4E82-9652-EA8323E7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793C8-B31D-4DA6-B6A3-3B65632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51F28-BED8-4167-B65F-395F3767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6BB56-E865-4E7C-9E8C-FEE24C54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F05E7-7305-434B-BE12-A2E90D2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908B1-BBD5-4833-8CBC-DF64794E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6549D-81D4-4493-88F0-7379250C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3876-684A-4349-BA3E-9AF497AF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C3D6B-6CEE-4135-B121-9B796C2E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F398A-B23C-4B8B-B9BE-509F5ED9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6E262-79D7-4E59-943C-F496FD7A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16C13-C55A-4649-8CB7-B7A9EE85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294D4-98DE-419E-BFA7-3A3C267F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997B8-7889-4DB6-ADCF-EE01B2D5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AA6FC-A216-4901-83B1-9414A042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67CE2-0E74-4549-86A3-8173E8DC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099B0-131A-4875-927B-053DDD6F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53AD6-3015-4443-A95F-24B2B24D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39FF-A6DB-4851-9F75-83B2B0E9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2B00A-89AF-452A-8F0A-D33D8EB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2AA3D-6264-43C1-9877-8E0EC796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AA88D-FD98-4B4C-BB76-46193192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3816D-6804-437D-95C0-AB9DFEAF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B3B2E-D670-478F-B10D-8996C1B2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AC2C0-8521-47C1-A6CA-809FA018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F1ECB-B38F-4A7C-9C3D-FD1B2E7A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812AA-4C18-4545-8EC3-1ABFD38B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C3455-6022-43A6-B56C-FC3F5B7C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AC030-2C5E-4B4E-B6E6-F791E987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CAED-0CA8-4A00-9862-C7AE06E5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89C65-8C1D-414A-9EAA-C3045B67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FC47C-9361-4F4F-9B0B-6B341568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209A3-6821-484C-A280-C08D938C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0F9DC-0346-4812-9685-C11F8E5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4D1AE-A8E1-4ECE-9A52-07911D30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F9CE5-3710-4645-ADD2-E143636D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EA6F1-E8F3-4286-B409-7324B738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5A2F0-4C93-4999-A818-75A4C761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54AE3-271E-4E43-924C-CE63475D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A2843-19C9-4C7A-9D1D-88FC805A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231F-6A4F-4357-82CB-E3E1D15C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B3CAF-DAE6-468F-B64B-BF655657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689FE-89FE-465D-AB94-CB610E39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EDCC7-63C5-49E4-8802-094C8E1A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0B63B-2EE0-4DCA-A7CB-3398CC2F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72DC9-727E-4C28-A8ED-26C9A69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05FE7-F4D5-4C76-96D7-755D0B6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2879F-D136-4CC8-BDCF-0E4B8469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10784-4EC4-45C9-843E-E86A8D78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F5858-E2CF-49F2-BF49-A0E0F050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4AC7D-7082-40EF-A48E-FFA10290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8B60-BF13-4896-901D-08C869D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5B919-0765-42BD-BFB7-A5B6A44B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DC419-03E5-4961-9551-566E636F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B9460-4B90-4077-A36A-D48E0DC5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704E7-2367-42D5-88CB-443CCD30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00100-728A-46F8-9C3E-928763FF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DCAC0-CBD5-4593-8223-225DAE9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302AB-9C1E-45C9-9C0C-AF770108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1F75B-BB13-4871-BCA4-AEBADD7C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32A16-772C-44E2-86CE-4C13DE95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8A616-9DA0-4C69-923B-A3295B5A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A11-F0D3-43C3-9664-DAAF1076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C3E55-0DA0-4BDC-804C-3DC23537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F9F53-79F2-4811-A945-A1B0429C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7CC68-7DF2-4BC1-B71C-94925BD5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9EC75-6BAC-4FA5-AD03-6C988399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7BF38-1F91-472B-9786-3E8273CC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5709C-4D65-4485-8671-DE3FAB9B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5F02E3-B474-49D1-AAF1-ED76FDE1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C325D-1EE6-46ED-B892-FB4DA0B7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5AA2F-329F-428D-8A73-17AC98C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F380E-5226-4345-82D6-C145FF26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E27-5107-4D30-B676-EDE6C0B5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D6498-473E-418D-A887-03E4E3AC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8D40E-6E86-4F97-8469-5F218F3F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BDBFA-BF0C-4A18-B5A7-07DFCA88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09819-CE7E-4BFC-A4FB-5D993C1F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AF513-FC9F-4F1B-8575-C5F1D69A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B1424-FB67-43C2-9B68-FA5989B4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16F9D-749B-4571-9782-8448CC34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CF4E2-0EB3-4851-844F-31861CB5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C226F-5616-4275-9AA0-C3C3E910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36C1F-1F52-4ABB-8AE5-B6A687E6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25B-9727-4206-A3DD-14E62CD7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145E-2C2D-4366-9356-2CAECAC7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8E27E-EA4F-4AB7-AD3D-C1EDB0C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883E9-70D1-4173-A6C1-9C038734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A293C-2B86-4138-8E31-EBA4A7C9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13667-9166-4B50-9227-EEB1AB36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B4B875-88F0-4C95-995B-99A79D00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BAF468-0628-4D3F-A9B0-DB19CF1E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241E5-2413-4E4A-95E0-F034EC13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CC803-3C4C-4313-8837-581A4F06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C5724-7571-4F92-BFD9-65441D57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9B704-593D-4E38-A672-00F95386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681A-B382-4267-98FA-04593EB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3F246D-BEE9-41D5-AB6B-12997033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960E6-4426-422E-80FD-421CE5C8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908ED1-480A-469C-8369-BED83C17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81171-3627-44AA-B41C-E3423CAC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C3C9A-94E9-4295-A551-790CBBC0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03822-F9B2-4162-A3A9-3364CEA5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83E08-AFC2-45D3-BC4B-0F2235F5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0B5D-C6D6-448B-A660-1D2399D6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67F4-2308-4616-95E3-C59A322D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CFB5-9885-4667-9E70-63D4CE95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90B5-77ED-43F3-B44D-27A5F311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FBF89-3B48-4A90-AFF9-D69F0E2D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28C1-52AA-4906-9039-AD1C8B85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F58EA-168D-4CA5-A8CF-95E10229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944D-291A-41B2-9DA4-2AE3A9AA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502-05CE-4975-B737-A78F7B0F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E563-872A-4C32-9991-51B05C32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C096-D0AB-4D1F-A844-0F6CA387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1D6A-D112-4B4F-96FB-0AC33D8F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5501-6782-4C41-B5D9-7C76869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BD17-3100-4C44-9CBB-FC1957AE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CDC7-B436-40BD-8903-2D1DD81D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7F89-FED5-4E65-9D74-7B905FB8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9151-E2DE-4A7D-92EC-13BF918F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C460-A226-4969-9B80-F9096568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5E5BF-E01C-4DE3-ABF9-E21BB338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605-A702-4D38-89F0-82F4CA56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B96B-0D43-4A5F-ABD1-81271D1B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BDB9-FB3F-46AA-BD92-F2BA14A8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8C1F4-7BEB-4CCF-941E-1FDAE54F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A298-DFD5-45AE-867B-E0C67E6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C8B4-F2BA-4947-88A9-46C619C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8D025-5BC5-43BF-841C-6AC05D71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14AB-B91D-4D22-B2BE-401E60EC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37974-2798-48A7-9B1D-042AD7D4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50E2-8C16-4DD4-92B1-60FDAFB1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68A0-26DA-4A32-8CC8-5BBFDB01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58F-0A17-43E3-A8E9-9F95EF7A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58D90-C4BA-4C87-B1DD-A5E9FBB6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F57B8-0CAD-4657-9FCE-6A0317A0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CDD3-4743-4F0F-8A90-7BBF6D1F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F3881-FB45-4361-A24A-79D5BA2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80F5-FB64-4B10-9B3C-21330129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C38FD-1264-4FD2-9551-AC9C7D62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E28B6-6EDA-4843-BBB3-CE07F66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CA4B-D84B-4EF0-A5CF-416ACF7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18E7-A724-4EBB-8AA1-F9D570EE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52EFD-E85F-45EB-BFB1-35EC4F7F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349-7715-4ADB-9557-38966EE3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8A121-AAE8-4CF3-B51C-48E4CE1D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B2DC2-0EEA-46EA-ADEF-4C11D4B2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E625-3711-4FFE-B4B0-21EFDEE8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5660F-4EA1-4C21-BE8F-07A98B17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DB7B8-F13A-4B04-860B-77AECD3F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7C75C-E1A3-4FFC-B6AD-47482496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31AE3-2D77-4516-9982-678DCAB5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70153-684F-45D2-9D08-C89B3C5A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E65D-20FD-4ACE-8085-EA1FF40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9E19E-5F5C-44F2-82B7-18F9F72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CF3-0CA0-420D-B0D9-D2A051A3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ED542-ACB9-442C-8553-5EADBAB9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36E51-08CC-4EDD-AD1A-98162477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3054-6075-4716-91F2-56B434C4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79A3B-FEF0-459C-BC94-7FA89E4F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36830-F426-4D73-A294-44C1F0D3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68E2E-6C6C-46BC-BCB9-9240204C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1EF10-276E-40CB-817F-037857FE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3BE4B-D69C-4AE7-8670-09747912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AB14B-1665-4C5D-946E-6466DD03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9E2E-5059-422C-9C09-1E0F179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E40-DDAF-4430-ACB9-3F026C6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8498-2CB0-4A47-B5B5-275AE53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1AC89-E419-40FC-B6F0-E732D16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68BDA-FEEB-4748-87E8-A338C61B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8256-1D66-4D61-B614-85FCDEDF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4D500-8EDB-4A29-8636-2BD17D8B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E20F8-D089-45DD-869F-85414787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DFD38-873D-4A91-8597-9C9745A5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AB1E0-11E9-4A68-91CB-6D84AC44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E51CF-BF5A-49B3-8308-21F770F1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E802-C6B3-45F6-B4FB-AA45FE85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500-2561-4182-9A3C-82860B7E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AF954-B011-4745-888D-A71FC89C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EFF10-DED9-4626-98D2-0C9EADC1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C8005-51F7-4DDD-A6DB-7586F8D1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FBF94-1BFA-4A54-AE55-2E4D1B9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3024E-6917-4AEE-8E2F-62AD748C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3AC51-B344-4767-BBF9-8D92C489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E585-BE87-4A68-8582-69975286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8AAB2-55A8-4E93-9B38-19A2B80E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2F2CC-E817-4F3F-BA39-5FEEF40E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C7CD7-77AC-4B0F-8C95-0992AE1C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35D01-8827-48AA-A2BB-5ED9367F7F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C3ABD-3175-4EF4-97FB-4E9ACEA48F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16915-8561-4D12-A470-BF1BAB5309F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1A816-204D-43AD-B5AC-A83CFD7A5DA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7A179-EDFE-4346-8D3E-3CDBA2B613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B7EA3-FDEB-4328-8232-880D7E1B69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95FD6-C6BD-409A-9DEA-292D855D61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66941-4D36-4675-8461-F7711290C1F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BE8B3-0915-4CDF-B21B-CEA3980252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F4E32-4682-486C-8A54-32131F1EAC1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8450D-DD51-470C-A0AA-64D819255B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2CA95-6E8E-4B6B-9FF0-1ADD1CD876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CACCF-8045-4529-B7BD-3D9387B3E4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96B6A-D1D1-4067-8D53-B1D987AC06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11316-2611-452D-8DC7-07E3241F92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CCB8F-EE36-4971-B35E-0E2ABA98FC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0F75A-1D41-45C5-95D4-57CB48BB70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FBF78-B708-4C4A-BD44-751C11A235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WordArt 10"/>
          <p:cNvSpPr txBox="1"/>
          <p:nvPr/>
        </p:nvSpPr>
        <p:spPr>
          <a:xfrm>
            <a:off x="324000" y="1484280"/>
            <a:ext cx="8712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245" name="Прямоугольник 1"/>
          <p:cNvSpPr/>
          <p:nvPr/>
        </p:nvSpPr>
        <p:spPr>
          <a:xfrm>
            <a:off x="1547640" y="3105000"/>
            <a:ext cx="67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Место и роль СССР в послевоенном мир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TextBox 2"/>
          <p:cNvSpPr/>
          <p:nvPr/>
        </p:nvSpPr>
        <p:spPr>
          <a:xfrm>
            <a:off x="2340000" y="40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История России. 10 класс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/>
          </p:nvPr>
        </p:nvSpPr>
        <p:spPr>
          <a:xfrm>
            <a:off x="4716360" y="620280"/>
            <a:ext cx="4392720" cy="6193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Высадившись в Чемульпо союзники стремительно освободили захва-ченные территории и вторглись в С.Корею. КНДР обратилась за по мощью к Китаю и Со-ветскому Союзу. Полу-чив советскую технику и помощь Китайской армии, северяне выро-вняли линию фронта и в 1954 г. был подписан мирный договор. Корей- ская война показала, как «холодная» война легко может перерости в «горячую».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Rectangle 6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орейская вой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7" name="Text Box 7"/>
          <p:cNvSpPr/>
          <p:nvPr/>
        </p:nvSpPr>
        <p:spPr>
          <a:xfrm>
            <a:off x="1305000" y="5661000"/>
            <a:ext cx="29268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Американские войск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в Южной Коре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8" name="Picture 9" descr="Рисунок1"/>
          <p:cNvPicPr/>
          <p:nvPr/>
        </p:nvPicPr>
        <p:blipFill>
          <a:blip r:embed="rId1"/>
          <a:stretch/>
        </p:blipFill>
        <p:spPr>
          <a:xfrm>
            <a:off x="684360" y="938160"/>
            <a:ext cx="3490920" cy="4349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/>
          </p:nvPr>
        </p:nvSpPr>
        <p:spPr>
          <a:xfrm>
            <a:off x="1403280" y="1555560"/>
            <a:ext cx="7632720" cy="4537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0" lang="ru-RU" sz="3900" spc="-1" strike="noStrike">
                <a:solidFill>
                  <a:srgbClr val="ffff99"/>
                </a:solidFill>
                <a:latin typeface="Arial Black"/>
              </a:rPr>
              <a:t>1. СССР в послевоенном мире.</a:t>
            </a:r>
            <a:endParaRPr b="0" lang="en-US" sz="39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900" spc="-1" strike="noStrike">
                <a:solidFill>
                  <a:srgbClr val="ffff99"/>
                </a:solidFill>
                <a:latin typeface="Arial Black"/>
              </a:rPr>
              <a:t>2. Начало «холодной войны».</a:t>
            </a:r>
            <a:endParaRPr b="0" lang="en-US" sz="39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900" spc="-1" strike="noStrike">
                <a:solidFill>
                  <a:srgbClr val="ffff99"/>
                </a:solidFill>
                <a:latin typeface="Arial Black"/>
              </a:rPr>
              <a:t>3. Создание социалистического лагеря.</a:t>
            </a:r>
            <a:endParaRPr b="0" lang="en-US" sz="39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900" spc="-1" strike="noStrike">
                <a:solidFill>
                  <a:srgbClr val="ffff99"/>
                </a:solidFill>
                <a:latin typeface="Arial Black"/>
              </a:rPr>
              <a:t>4. Корейская война.</a:t>
            </a:r>
            <a:endParaRPr b="0" lang="en-US" sz="3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899640" y="2131920"/>
            <a:ext cx="7704360" cy="25941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Какие цели преследовала внешняя политика СССР в конце 40-х начале 50-х  годов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Задание на уро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/>
          </p:nvPr>
        </p:nvSpPr>
        <p:spPr>
          <a:xfrm>
            <a:off x="4355640" y="620280"/>
            <a:ext cx="4753080" cy="6193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Поражение Германии в войне коренным образом изменило обстановку в мире - СССР превратился в ведущую международ-ную державу. Учитывая это, Сталин потребовал установить протекторат СССР над Ливией и пре-доставить военные базы в Турции. В свою очередь Трумен считал, что США должны «править ми-ром». Это привело к ох-лаждению отношений и началу «холодной вой-ны»  СССР и США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ССР в послевоенном мир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729440" y="6237360"/>
            <a:ext cx="1306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Г.Труме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4" name="Picture 11" descr="Рисунок7"/>
          <p:cNvPicPr/>
          <p:nvPr/>
        </p:nvPicPr>
        <p:blipFill>
          <a:blip r:embed="rId1"/>
          <a:stretch/>
        </p:blipFill>
        <p:spPr>
          <a:xfrm>
            <a:off x="468360" y="876240"/>
            <a:ext cx="3444840" cy="5103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228240" y="3579840"/>
            <a:ext cx="8785080" cy="32400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Уже 11 мая 1945 г. США объявили о прекращении поставок в СССР. Применив атомную бомбу США стали отходить от достигнутых в годы войны дого-воренностей. США решили не делить Японию на зоны оккупаци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В ответ Сталин усилил давление на те территории, которые находились в зоне советского влияния. Численность компартий в этих государствах быстро росла и это вызвало тревогу у западных лидеров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чало «холодной войны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7" name="Text Box 6"/>
          <p:cNvSpPr/>
          <p:nvPr/>
        </p:nvSpPr>
        <p:spPr>
          <a:xfrm>
            <a:off x="824400" y="1484280"/>
            <a:ext cx="19897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В.Говорк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Фразы и базы</a:t>
            </a:r>
            <a:r>
              <a:rPr b="0" lang="ru-RU" sz="2000" spc="-1" strike="noStrike">
                <a:solidFill>
                  <a:srgbClr val="99003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8" name="Picture 8" descr="Рисунок6"/>
          <p:cNvPicPr/>
          <p:nvPr/>
        </p:nvPicPr>
        <p:blipFill>
          <a:blip r:embed="rId1"/>
          <a:stretch/>
        </p:blipFill>
        <p:spPr>
          <a:xfrm>
            <a:off x="4284720" y="561960"/>
            <a:ext cx="4535280" cy="293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/>
          </p:nvPr>
        </p:nvSpPr>
        <p:spPr>
          <a:xfrm>
            <a:off x="4643280" y="620280"/>
            <a:ext cx="4500720" cy="6193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В начале 1946г. бывший премьер Англии У.Черчилль обвинил СССР в распространении «своих доктрин» в мире. Вскоре Трумэн провозгласил программу спасения Европы от советской экспансии. Он пред-ложил оказать крупную экономическую помощь тем странам, в которых в правительстве не будет коммунистов. В 1949 г. возник НАТО. Вокруг СССР были раз мещены военные базы. С лета 1947 г. Европа оказалась разделенной на сторонников США и СССР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2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чало «холодной войны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1" name="Text Box 6"/>
          <p:cNvSpPr/>
          <p:nvPr/>
        </p:nvSpPr>
        <p:spPr>
          <a:xfrm>
            <a:off x="1490400" y="5589720"/>
            <a:ext cx="1651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У.Черчилль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2" name="Picture 12" descr="Рисунок5"/>
          <p:cNvPicPr/>
          <p:nvPr/>
        </p:nvPicPr>
        <p:blipFill>
          <a:blip r:embed="rId1"/>
          <a:stretch/>
        </p:blipFill>
        <p:spPr>
          <a:xfrm>
            <a:off x="527040" y="907920"/>
            <a:ext cx="3578400" cy="4170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200160" y="3760920"/>
            <a:ext cx="8929440" cy="28080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С 1947 г.под давлением СССР ускорился процесс фор мирования коммунистических правительств в странах «народной демократии». В это же время установился коммунистический режим в Северной Корее, а в 1949 г. в Китае. СССР оказывал им огромную материальную пошощь, «привязывая» к себе. В 1949 г. был создан СЭВ, а в 1955 г. Организация Варшавского Договора. Кроме того коммунисты оказались у власти во Франции и в Итали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социалистического лагер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2009520" y="1714680"/>
            <a:ext cx="16527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И.Сталин 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Г.Димитр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6" name="Picture 9" descr="Рисунок4"/>
          <p:cNvPicPr/>
          <p:nvPr/>
        </p:nvPicPr>
        <p:blipFill>
          <a:blip r:embed="rId1"/>
          <a:stretch/>
        </p:blipFill>
        <p:spPr>
          <a:xfrm>
            <a:off x="4427640" y="573120"/>
            <a:ext cx="4248000" cy="291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446580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Сталин попытался объединить коммунистические партии разных государств. Вместо упраздненного в 1943 г. Коминтерна было создано Коминформбюро. В его рамках Сталин подверг критике ком-партии Франции, Ита-лии и Югославии за не достаточную критику действий США. Затем началась борьба с оппортунизмом в партиях Восточной Европы. Их лидеры были объявлены врагами, а отношения с Югославией были разорван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социалистического лагеря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9" name="Text Box 7"/>
          <p:cNvSpPr/>
          <p:nvPr/>
        </p:nvSpPr>
        <p:spPr>
          <a:xfrm>
            <a:off x="1465200" y="5819760"/>
            <a:ext cx="2386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Карикатур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на И.Тит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0" name="Picture 9" descr="Рисунок3"/>
          <p:cNvPicPr/>
          <p:nvPr/>
        </p:nvPicPr>
        <p:blipFill>
          <a:blip r:embed="rId1"/>
          <a:stretch/>
        </p:blipFill>
        <p:spPr>
          <a:xfrm>
            <a:off x="493560" y="739800"/>
            <a:ext cx="3573720" cy="488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/>
          </p:nvPr>
        </p:nvSpPr>
        <p:spPr>
          <a:xfrm>
            <a:off x="231840" y="3614760"/>
            <a:ext cx="8858160" cy="2952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В 1948-49 г. СССР и США  вывели свои войска из Кореи. Правительства Южной и Северной Кореи начали готовиться к войне за объединение страны силой. 25 июня 1950 г., ссылаясь на провокации С.Корея начала войну и на 4-й день ее армия заняла Сеул. Тогда США через Совет Безопасности ООН провели резолюцию осуждавшую Северную Корею и получили право на вмешательство в конфликт под флагом ООН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орейская вой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3" name="Text Box 6"/>
          <p:cNvSpPr/>
          <p:nvPr/>
        </p:nvSpPr>
        <p:spPr>
          <a:xfrm>
            <a:off x="1127160" y="1773360"/>
            <a:ext cx="22824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Высадка десант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США в Инчхоу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4" name="Picture 10" descr="Рисунок2"/>
          <p:cNvPicPr/>
          <p:nvPr/>
        </p:nvPicPr>
        <p:blipFill>
          <a:blip r:embed="rId1"/>
          <a:stretch/>
        </p:blipFill>
        <p:spPr>
          <a:xfrm>
            <a:off x="4572000" y="584280"/>
            <a:ext cx="4248000" cy="277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/>
  <dc:description/>
  <dc:language>en-US</dc:language>
  <cp:lastModifiedBy/>
  <dcterms:modified xsi:type="dcterms:W3CDTF">2024-06-25T08:24:58Z</dcterms:modified>
  <cp:revision>63</cp:revision>
  <dc:subject/>
  <dc:title/>
</cp:coreProperties>
</file>