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45-70BC-4884-9DD3-946D0257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227-9AAA-40F6-B99E-F342471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D0344-B36D-46D7-A151-803C9BEF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CDCC7-6978-4F6F-8C4D-15A482E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39CA6-532F-4B3D-9515-F1493E3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7C37-0A56-414E-9C79-A5DB3B3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189D4-85BE-40A8-9F59-A01D191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6622-00ED-40A5-A4C8-4C26B18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75F69-E241-4D0E-9065-868C95F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2C350-15BB-4245-8097-A387E2AA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5E21C-8CBC-4467-A714-8671CC91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C0F2B-8C61-404A-9AF7-6706116B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5F6-6136-4872-8329-9139824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BF4E4-A6DC-4D70-9E37-24E6D0E9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A368-6041-4918-B028-501A8B4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45AAE-8971-4D36-B519-87EB794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044CB-B663-494C-965E-A4AB769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A849A-80BF-4005-8114-B3BF26C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DA9D5-57FC-4AEC-ADBB-F195475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6AAF9-9BA4-4937-8E82-49037A4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472B6-8EDE-416E-AA0E-0C42369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3019B-D4AF-490A-9E82-5CFD7B1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8B1F-82BF-422D-A0CC-0E18FB90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725-6967-45E2-B34D-7903B505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0F9DB-D51D-4E1A-8DBE-1A2CAB39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93E31-5E57-46C4-A000-CBA2B66B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3855-D53B-48DF-8227-8F39A8CC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392F3-2D01-4DF0-8330-26FABEAF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49E0A-4187-49B2-91F8-1779BFAF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BA35F-287C-43FB-8C5E-8BA319D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D9CB6-61D1-48D5-884E-98DCE14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7781C-53A0-4A5D-8E76-7FC30B7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A2CB6-FF41-4CFF-AB0F-E0F2DB6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9CD42-2696-4B39-AB1B-030DC17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0BD-92E0-431C-BDE8-8A06E398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36503-250F-4321-84E2-6ABEEA9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B4EE3-F905-47D6-ADE8-FC7D2859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8F06-E3C7-4FCE-AB58-7EC96CD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D79CB-D1C0-47B7-B5E7-7A45BA44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E7592-080B-45CC-AC7A-E5104FC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1E7CC-46C0-4BA2-97CF-262BCF4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23C9E-2B97-4910-8127-7C6C607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4D200-8B47-42AC-A485-FDB261CB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48F5-B2D1-40CA-859D-7D61E2E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051A-BF45-41EC-BF82-E5347F1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9CB-CCB9-4988-96B6-B048349A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53835-40FA-4A85-B583-D63144C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365FA-25A9-4D7C-BDF5-D6F9DE1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75445-6443-4C56-8ED4-E13D36A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5CFD-FABB-40C2-9E26-F09B08F1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FCA7-2C33-4C4D-B614-18838E0C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35F1-E90A-47CA-9C0D-CFB44353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C2106-31BC-49A1-8FD8-75CDEDF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A257D-E0A3-48C5-8F47-39FB093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9F18F-FFEA-4B59-8049-77D84111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0FF38-9C57-43ED-B5E0-C421FDB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2D45-02EC-4A28-8F26-627D4088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8F2D0-B92F-4AAC-B9BB-BA5266B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95EF9-92FD-4EAE-B6B7-C16F25D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3FA2A-4F7D-40C0-A3D4-01F0040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B5AB0-1304-4E9B-BA87-11B0C657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36698-3B77-4EA5-B060-7F61C90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187E5-B4DB-48FB-A225-45FD5D8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4E679-11DA-4F97-8972-87866D74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4FCEE-8362-4E60-8587-566DF4B8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AED4D-C388-4E2C-B3F4-5801262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44AD2-4A9E-46B9-8AB6-7A421FC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B1A4-B537-4297-957E-90B96A3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53752-229E-4B04-8158-ACFC55E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CC139-101E-4156-A027-70FA9108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EC0C3-3A0D-4985-B0DF-D3C6C4C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4310B-77AF-4F43-9A0D-AE31784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02504-4B83-4148-96C2-0088A6C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4024E-661F-439A-9B57-9291D5E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81596-8BA0-46FA-A60C-4CB04998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6826A-1C59-49C8-BA1C-19C1F611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761A2-2F78-4B55-8D6B-26A47C4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AA9ED-BC55-4778-9DB3-0BB633B3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0A67-5AE6-434B-8954-8BF6521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3B594-5D8F-43E0-ABC8-B75181B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D95F8-4BA7-465C-8CA3-609AA3B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B2B2A-4E76-4648-93FF-B3F6C173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D6A69-9F5C-45D5-9327-B3EFF1D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6BC65-A6D1-4297-97EF-10648738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2951F-E5EC-49BC-8594-A6A30A3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874A8-C59D-4ABD-B5D8-670E3E9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0E034-619C-44A0-9CBF-AB2FA6F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F88D8-38E3-43B7-88FD-69A6829F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237D5-698A-421B-9074-A84D1DCA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612F-989B-4589-9FEA-DB8C316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1804C-8020-4ECC-8F84-B40049B8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0036D-385E-4694-82B4-EF5C6C6A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863BB-2C26-4F0E-8E1E-250145B1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2F7F7-ABEF-44EC-BDF0-C834F5B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0CA48-3225-4B66-A846-2A518DC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87C49-A7A2-4B5A-A180-249F4019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FE53F-9B83-48CC-A3A7-0BDDA5D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77A6D-F940-468B-A29F-A80C8C0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1C6D7-C0AD-4991-996E-62A762D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7076F-6F99-4E56-820E-9DC95B9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709-338F-427D-95F3-097BF01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9424B-1512-48A1-8BB4-77ECCD0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2B0F5-DFC6-419A-AF1B-65953557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39ADB-76A7-4687-9B9D-9189267A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4ED38-E72B-450F-A2E8-952C6E97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CFD57-6FC8-4245-98E5-77D1FFB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C7E19-8022-42A8-B960-5DAD66E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9CDD6-157D-428D-B6B5-DB4625CE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BB74B-86F9-4224-B39F-77C5911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85FC2-A9C8-43BA-98C6-74293C01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ABA29-C425-4334-876A-4AE2F7C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0F6-3EAD-4948-A0CA-928FC38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398-95AE-468D-9012-80248EC3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9DF45-5E34-42A5-A312-5937DE5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D520A-59F3-485C-94E7-70816E04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8CFD0-BF14-44E8-AE27-307D10A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43A4D-BEF4-47A3-8251-7897520F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B2367-11E4-4536-BA39-B0E38C29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71359-1E46-4FE4-85FA-601ADC94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6AD89-E972-476D-978F-DCBFF17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35373-405D-4191-B2D2-C2E1664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0DD24-B7F2-4DC1-9E0B-B9B77BF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B6EA7-DB42-4F72-802E-8664A36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26D-B693-446E-9E2B-73562D7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9BAF7-3FF0-421E-BF94-CA2807D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519E2-E27B-47DA-B6C0-9F01AD7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09ED6-C48F-4F88-A40F-B15C711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B2F36-B416-4F16-97C5-049E3FD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3B8AC-2504-41C7-9F7D-9E0A7B25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FCFC4-C450-4F15-B0FE-644B735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354C4-6418-4A95-A89A-64506A6C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C210-98EE-4800-B14B-0654B2D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B549-C807-48FA-AA7F-FD814B30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2190-DD54-4AF4-A6E3-3C1C473F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A98B-5BA7-4BCE-A25B-CFB07E03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654D-CC7B-455D-A33B-B71C8E68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B9D7-B5E9-4453-96A4-A4CCA939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79EF-50B4-4193-8B69-023FB53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B129-705B-404A-8C0B-3C59D0D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BB4-6CE1-4D11-89C6-587093E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533B-3C39-42CA-AD96-AA1D76C2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EF7F-5651-4651-A010-2A299C2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4E5B-7EBF-49A6-8EE5-ECBDC21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146E-0141-4096-A156-7B415BA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9DFD-DCEA-4F3A-8D8E-60BAF634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27BD-C6AE-4DC6-9147-9EFFDE7E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A435-D6C0-4049-B34F-D74B13F9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2575-928F-4A2C-AC9B-DD202831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57AD-20DA-43A2-B330-30B3DD0A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1425-5B1C-4BF2-B5DB-465C244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D9E-BF79-4AAB-A700-13624FA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E411-0938-43D1-86A5-FA6A169D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0BB5-892F-4536-914D-77D1686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4484-92C4-4153-AEC6-69A741F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A8C4-28C6-4B25-A51C-C3F565B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0319-430D-4611-A6CB-F55549A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EC84-8FC2-4336-B494-905321C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B5FF-EC92-42A7-BB17-8CDE8BBF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65A8-CDC5-4510-A4CB-6101E87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6574-27A5-456C-A363-40AC9D22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F613-77FA-40FF-B89B-40350010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FE4-8A02-488E-AB03-9CF9242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7F5B-3317-4F2C-B0C9-33D4926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F81C-9C5D-4431-AB34-C630825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CBB2-E345-45C6-96A3-0722C75C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D9A4-937E-405E-B9B5-D43A8C2A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2369-E738-4900-92CC-4E4B909D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8B4BB-B981-4742-8E69-8C7EEFF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3540-5F63-4FF3-A776-4EB76B6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0522-70F4-46BF-99CC-FF9FA87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16AE6-0A18-4AE5-8A84-1115B2D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B7BF-259D-474F-8346-D14E2BD7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2E7-43D4-4452-B22C-76584693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444F-FDBF-41D3-9921-40CDDC2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BB07-A01F-43DC-94F0-B608E3D8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C79D7-86EC-4664-8C05-3F25B8F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B035-9A09-4258-894C-7F88310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94E05-C51B-4E0A-A4B1-6F7D1CC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8FBC-1CFE-4EA3-B7DB-D854B181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4600-2241-4585-8D87-7E301E56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08C6D-F4C6-4926-B459-9EEE82C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CD80-FD84-40C3-9EF5-9940F2F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BC2B-5A90-4015-AD7D-99C51BA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682-EB5C-46F3-A5BB-FDD4C86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380E-398C-4AF4-931B-E188173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19D5-33FF-46A5-97F8-EBC13843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8177-19B3-4619-BC17-5C050A33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A156-3B10-4AEE-B82B-F179EAB5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F2BE-20C7-4FAF-93A6-BD2374E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84D9-B015-4FA1-A12D-2553642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3AAB4-C946-4E58-8B2D-9BE72D4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6A92B-895E-4CEB-9F27-89B0233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FCFCC-F85D-4B56-96FB-7C10614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7616-D59C-4BB9-A40B-1AB8DE3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825-0027-465D-B92F-54739E9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8A81-2040-40E3-8DD3-D405B3D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2BDB-F89C-4699-825F-960047E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D718-7A3F-4D64-9B71-F9204C2E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82F1-021B-49C6-BCB2-63A460C2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6C58-B0CE-4998-8473-FCF90BA7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84F7-73EA-4101-BAC1-66C80852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CBBC-B63A-4737-AC92-1232B50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E818-CA97-4F4B-8A24-C8574684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49ED-308A-4C0A-AE95-5030D92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594F-DA1E-406D-B5B7-C1B6B32C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A64-8D1C-4496-B0BB-0F351E9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FE6B-45DC-4676-BD92-2339098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2198D-F6E5-4F26-A19C-7C56DA4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CBA53-8F5B-4F3F-8F0E-11C039E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989BC-D7D3-41F1-89A4-2456FEB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A7A8-D1A5-4E64-8986-BA1C405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ABD0-8734-4BA1-B931-A1528E88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FD6BF-0A5B-480D-9988-0EA3B8B9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B78BC-6F4F-43C9-8198-A5F97D5A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C5DD1-03B1-4CCF-A0C4-B3F1DB7E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08772-61FE-41F9-92FF-250E5396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23273-5FE2-46BD-BCC1-43A759E16E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6FD04-E871-4FE5-A6A6-98F97BBBD4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034D2-B46E-410C-A74C-4DF849A105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ACD15-C6A2-49F4-BEA0-C11D7CC086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7C44A-382E-44A5-98AF-B42EB3B89F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27CBA-1A95-47E2-91B5-7C2CFE01D6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8238E-A956-4F72-9DC9-0411B0A611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9560D-41E5-48D8-8671-946366EA81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F1818-5B0B-4C90-91E6-3751244C8D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09D5E-7E9B-4363-8D3E-52D1DE0A44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429A7-0098-4C80-A5B8-0F81DC09D0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30E3-618B-4DAB-BF25-19297AA868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9CAC7-FBBD-47BA-8CE6-9F69E85E98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D4635-E481-4A51-8501-7BC18BF114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9FCFB-84F9-43C9-8A95-43EFB45D43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3EB98-E475-4338-8B83-013A66C2AF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8EA1A-D55C-46E9-BA65-7B629F02EB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C103-6BE8-4257-AA82-82CB202CD7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10"/>
          <p:cNvSpPr txBox="1"/>
          <p:nvPr/>
        </p:nvSpPr>
        <p:spPr>
          <a:xfrm>
            <a:off x="324000" y="1484280"/>
            <a:ext cx="8712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245" name="Прямоугольник 1"/>
          <p:cNvSpPr/>
          <p:nvPr/>
        </p:nvSpPr>
        <p:spPr>
          <a:xfrm>
            <a:off x="1547640" y="3105000"/>
            <a:ext cx="67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Место и роль СССР в послевоенном мир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2"/>
          <p:cNvSpPr/>
          <p:nvPr/>
        </p:nvSpPr>
        <p:spPr>
          <a:xfrm>
            <a:off x="234000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История России. 10 клас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/>
          </p:nvPr>
        </p:nvSpPr>
        <p:spPr>
          <a:xfrm>
            <a:off x="4716360" y="620280"/>
            <a:ext cx="439272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ысадившись в Чемульпо союзники стремительно освободили захва-ченные территории и вторглись в С.Корею. КНДР обратилась за по мощью к Китаю и Со-ветскому Союзу. Полу-чив советскую технику и помощь Китайской армии, северяне выро-вняли линию фронта и в 1954 г. был подписан мирный договор. Корей- ская война показала, как «холодная» война легко может перерости в «горячую».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орейская вой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7" name="Text Box 7"/>
          <p:cNvSpPr/>
          <p:nvPr/>
        </p:nvSpPr>
        <p:spPr>
          <a:xfrm>
            <a:off x="1305000" y="5661000"/>
            <a:ext cx="29268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мериканские войс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 Южной Коре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8" name="Picture 9" descr="Рисунок1"/>
          <p:cNvPicPr/>
          <p:nvPr/>
        </p:nvPicPr>
        <p:blipFill>
          <a:blip r:embed="rId1"/>
          <a:stretch/>
        </p:blipFill>
        <p:spPr>
          <a:xfrm>
            <a:off x="684360" y="938160"/>
            <a:ext cx="3490920" cy="4349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/>
          </p:nvPr>
        </p:nvSpPr>
        <p:spPr>
          <a:xfrm>
            <a:off x="1403280" y="1555560"/>
            <a:ext cx="7632720" cy="4537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1. СССР в послевоенном мире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2. Начало «холодной войны»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3. Создание социалистического лагеря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900" spc="-1" strike="noStrike">
                <a:solidFill>
                  <a:srgbClr val="ffff99"/>
                </a:solidFill>
                <a:latin typeface="Arial Black"/>
              </a:rPr>
              <a:t>4. Корейская война.</a:t>
            </a:r>
            <a:endParaRPr b="0" lang="en-US" sz="3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899640" y="2131920"/>
            <a:ext cx="7704360" cy="25941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Какие цели преследовала внешняя политика СССР в конце 40-х начале 50-х  годов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дание на ур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4355640" y="620280"/>
            <a:ext cx="475308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Поражение Германии в войне коренным образом изменило обстановку в мире - СССР превратился в ведущую международ-ную державу. Учитывая это, Сталин потребовал установить протекторат СССР над Ливией и пре-доставить военные базы в Турции. В свою очередь Трумен считал, что США должны «править ми-ром». Это привело к ох-лаждению отношений и началу «холодной вой-ны»  СССР и СШ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ССР в послевоенном мир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729440" y="6237360"/>
            <a:ext cx="1306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Г.Труме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4" name="Picture 11" descr="Рисунок7"/>
          <p:cNvPicPr/>
          <p:nvPr/>
        </p:nvPicPr>
        <p:blipFill>
          <a:blip r:embed="rId1"/>
          <a:stretch/>
        </p:blipFill>
        <p:spPr>
          <a:xfrm>
            <a:off x="468360" y="876240"/>
            <a:ext cx="3444840" cy="5103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228240" y="3579840"/>
            <a:ext cx="8785080" cy="3240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Уже 11 мая 1945 г. США объявили о прекращении поставок в СССР. Применив атомную бомбу США стали отходить от достигнутых в годы войны дого-воренностей. США решили не делить Японию на зоны оккупаци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 ответ Сталин усилил давление на те территории, которые находились в зоне советского влияния. Численность компартий в этих государствах быстро росла и это вызвало тревогу у западных лидеров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чало «холодной войн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824400" y="1484280"/>
            <a:ext cx="19897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.Говорк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Фразы и базы</a:t>
            </a:r>
            <a:r>
              <a:rPr b="0" lang="ru-RU" sz="2000" spc="-1" strike="noStrike">
                <a:solidFill>
                  <a:srgbClr val="99003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8" name="Picture 8" descr="Рисунок6"/>
          <p:cNvPicPr/>
          <p:nvPr/>
        </p:nvPicPr>
        <p:blipFill>
          <a:blip r:embed="rId1"/>
          <a:stretch/>
        </p:blipFill>
        <p:spPr>
          <a:xfrm>
            <a:off x="4284720" y="561960"/>
            <a:ext cx="4535280" cy="29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4643280" y="620280"/>
            <a:ext cx="4500720" cy="6193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начале 1946г. бывший премьер Англии У.Черчилль обвинил СССР в распространении «своих доктрин» в мире. Вскоре Трумэн провозгласил программу спасения Европы от советской экспансии. Он пред-ложил оказать крупную экономическую помощь тем странам, в которых в правительстве не будет коммунистов. В 1949 г. возник НАТО. Вокруг СССР были раз мещены военные базы. С лета 1947 г. Европа оказалась разделенной на сторонников США и ССС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2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чало «холодной войн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1490400" y="5589720"/>
            <a:ext cx="1651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У.Черчилл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2" name="Picture 12" descr="Рисунок5"/>
          <p:cNvPicPr/>
          <p:nvPr/>
        </p:nvPicPr>
        <p:blipFill>
          <a:blip r:embed="rId1"/>
          <a:stretch/>
        </p:blipFill>
        <p:spPr>
          <a:xfrm>
            <a:off x="527040" y="907920"/>
            <a:ext cx="3578400" cy="417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200160" y="3760920"/>
            <a:ext cx="8929440" cy="2808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С 1947 г.под давлением СССР ускорился процесс фор мирования коммунистических правительств в странах «народной демократии». В это же время установился коммунистический режим в Северной Корее, а в 1949 г. в Китае. СССР оказывал им огромную материальную пошощь, «привязывая» к себе. В 1949 г. был создан СЭВ, а в 1955 г. Организация Варшавского Договора. Кроме того коммунисты оказались у власти во Франции и в Итал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оциалистического лагер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2009520" y="1714680"/>
            <a:ext cx="16527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И.Сталин 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Г.Димитр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6" name="Picture 9" descr="Рисунок4"/>
          <p:cNvPicPr/>
          <p:nvPr/>
        </p:nvPicPr>
        <p:blipFill>
          <a:blip r:embed="rId1"/>
          <a:stretch/>
        </p:blipFill>
        <p:spPr>
          <a:xfrm>
            <a:off x="4427640" y="573120"/>
            <a:ext cx="4248000" cy="291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46580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Сталин попытался объединить коммунистические партии разных государств. Вместо упраздненного в 1943 г. Коминтерна было создано Коминформбюро. В его рамках Сталин подверг критике ком-партии Франции, Ита-лии и Югославии за не достаточную критику действий США. Затем началась борьба с оппортунизмом в партиях Восточной Европы. Их лидеры были объявлены врагами, а отношения с Югославией были разорван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оциалистического лагеря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1465200" y="5819760"/>
            <a:ext cx="2386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Карикатур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на И.Тит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0" name="Picture 9" descr="Рисунок3"/>
          <p:cNvPicPr/>
          <p:nvPr/>
        </p:nvPicPr>
        <p:blipFill>
          <a:blip r:embed="rId1"/>
          <a:stretch/>
        </p:blipFill>
        <p:spPr>
          <a:xfrm>
            <a:off x="493560" y="739800"/>
            <a:ext cx="3573720" cy="488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231840" y="3614760"/>
            <a:ext cx="8858160" cy="295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 1948-49 г. СССР и США  вывели свои войска из Кореи. Правительства Южной и Северной Кореи начали готовиться к войне за объединение страны силой. 25 июня 1950 г., ссылаясь на провокации С.Корея начала войну и на 4-й день ее армия заняла Сеул. Тогда США через Совет Безопасности ООН провели резолюцию осуждавшую Северную Корею и получили право на вмешательство в конфликт под флагом ООН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рейская вой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3" name="Text Box 6"/>
          <p:cNvSpPr/>
          <p:nvPr/>
        </p:nvSpPr>
        <p:spPr>
          <a:xfrm>
            <a:off x="1127160" y="1773360"/>
            <a:ext cx="22824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Высадка десан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ША в Инчхоу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4" name="Picture 10" descr="Рисунок2"/>
          <p:cNvPicPr/>
          <p:nvPr/>
        </p:nvPicPr>
        <p:blipFill>
          <a:blip r:embed="rId1"/>
          <a:stretch/>
        </p:blipFill>
        <p:spPr>
          <a:xfrm>
            <a:off x="4572000" y="584280"/>
            <a:ext cx="4248000" cy="27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/>
  <dc:description/>
  <dc:language>en-US</dc:language>
  <cp:lastModifiedBy/>
  <dcterms:modified xsi:type="dcterms:W3CDTF">2024-06-25T08:24:58Z</dcterms:modified>
  <cp:revision>63</cp:revision>
  <dc:subject/>
  <dc:title/>
</cp:coreProperties>
</file>