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EBB-1730-4CA5-A0D1-20F0EA85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553-0364-426F-892B-2AECE06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422-6F4D-41C3-BE1F-99113446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E26-B50B-4F05-BF71-933141F2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7D1-A2CF-4BC5-8519-1BEFD8A1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128-034F-4815-A5DA-5E8AEAEC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0EC-A5EA-424B-97CC-9938B52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E10-D214-4A63-B6ED-49B2B21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168-2BC3-4D3E-9203-C8BD17F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043-31F6-4E6D-B709-B4ED5EC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22D-4A04-46F4-815B-87447E52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95F-5749-482D-9C65-ACE64C3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A32-6303-46E1-A860-79FA712C2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648320" y="68580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64832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ая характеристик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ноже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грибов в природе и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бастьян Вайян (1669-17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 — это дьявольское произведение, нарушающее общую гармонию природы, чтобы смущать самых талантливых исследователей и приводить в отчаяние молодых бота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23:20:45Z</dcterms:created>
  <dc:creator>Алексей</dc:creator>
  <dc:description/>
  <dc:language>en-US</dc:language>
  <cp:lastModifiedBy>Алексей</cp:lastModifiedBy>
  <dcterms:modified xsi:type="dcterms:W3CDTF">2015-11-19T01:26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