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808-7A4C-489C-9B84-6DFE798F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06E-CB49-4B56-8D77-5BF3DF5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A2F-CFAC-42E4-81C8-7754D7C2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19F-98E1-47F3-918C-9EE52DB2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B72-150B-44DE-82A9-5D3AE6FE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D18-7724-4814-A8EC-BC3B349D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FFF-C1B2-413E-BAF7-20928704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558-6832-4BBB-B9BA-FDF2A207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632-38FF-40BD-B56B-A58E0174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316-5824-4242-B977-E4AAB18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F00-8EFA-429F-A3E7-4BE9F6B6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F44-D752-411D-808B-5C2FF94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A146-375B-4BA9-8DB7-5D31DBC2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648320" y="68580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4648320" y="380988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ая характеристик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ние гри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гри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ножение гри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грибов в природе и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бастьян Вайян (1669-17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ы — это дьявольское произведение, нарушающее общую гармонию природы, чтобы смущать самых талантливых исследователей и приводить в отчаяние молодых бота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23:20:45Z</dcterms:created>
  <dc:creator>Алексей</dc:creator>
  <dc:description/>
  <dc:language>en-US</dc:language>
  <cp:lastModifiedBy>Алексей</cp:lastModifiedBy>
  <dcterms:modified xsi:type="dcterms:W3CDTF">2015-11-19T01:26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