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1B0-6F5E-4944-8D5A-AC7C2D21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D34-5138-4212-ABA3-42BFDF81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1F5-93FC-4226-A6FD-48B4B09B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6D2-546A-47C8-9C62-F5598645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1D81-5947-4931-B93E-AAE84DD0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CD70-93FB-46BE-BB9B-FD54FA3C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B4D3-D5FA-4F55-8DC0-2195B679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EE44-27CF-4161-B92A-3EFDBCCF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536E-A7C3-40A8-B683-3BD52421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E6DF-2BB6-4042-A943-F549A56A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6089-46FA-4A7C-A9CA-AAFCBB4A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384-D7BA-49EF-B3C3-2376BC34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03A3-009E-4F47-B977-D05CBBD4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63F9-D7E8-4AA5-BCB5-B3029809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B04E-9D12-486A-9ECE-CF6BA8AD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0B72-AF9D-4FD2-8BAC-AA08D918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1D34-73F7-4EC2-89BB-DE375A40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43D-4817-4720-88C9-D8A3B34A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D4E-7F63-4DC8-9330-B63EB806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5D0-6659-47B0-BBD6-ECE07E9C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995-1FE2-4405-96FE-61856A2A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840B-26EE-4FF6-930F-E1580DC6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7D8-7DEF-446E-92DB-26EFCE9C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2ED6-E6AC-4A79-9EE1-0C066462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F7F7-E5ED-4378-9761-F4AE9536AD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7F52-B05C-477F-97A4-F7DCC297A1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224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Урок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95280" y="220500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Тема: Информационная переработка текстов различных стилей и жанр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(практическая работа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1187280" y="834120"/>
            <a:ext cx="691380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omic Sans MS"/>
              </a:rPr>
              <a:t>- Какие функциональные стили языка вы знаете?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omic Sans MS"/>
              </a:rPr>
              <a:t>- Какую цель преследует каждый из них?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Определить стиль текста, его стилевые черты, жанр, выявить языковые особенности; представить текст в исходном варианте.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239040"/>
            <a:ext cx="777744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Comic Sans MS"/>
              </a:rPr>
              <a:t>Задание всем группам: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Comic Sans MS"/>
              </a:rPr>
              <a:t>прочитать текст, определить его стиль и жанр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mic Sans MS"/>
              </a:rPr>
              <a:t>Ответить на вопросы: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mic Sans MS"/>
              </a:rPr>
              <a:t>- Какое произведение переработано в данном варианте?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mic Sans MS"/>
              </a:rPr>
              <a:t>- Озвучьте первоначальный вариант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08000" y="0"/>
          <a:ext cx="9036000" cy="6819840"/>
        </p:xfrm>
        <a:graphic>
          <a:graphicData uri="http://schemas.openxmlformats.org/drawingml/2006/table">
            <a:tbl>
              <a:tblPr/>
              <a:tblGrid>
                <a:gridCol w="520560"/>
                <a:gridCol w="1497240"/>
                <a:gridCol w="1206360"/>
                <a:gridCol w="2411280"/>
                <a:gridCol w="1646280"/>
                <a:gridCol w="1754280"/>
              </a:tblGrid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евые черты.   Ц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н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сические особен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фолог. особен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такс. особен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нутая, строгая логичность изложения. Точность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сность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ивность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леченность 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енность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</a:t>
                      </a:r>
                      <a:r>
                        <a:rPr b="1" lang="ru-RU" sz="9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и сохранение научной информ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е труды, учебники, лекци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ичие стилистически нейтральной лекси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учная терминология (историческая, лингвистическая, математическая и др.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научная (процесс, вопрос, и т.п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оменклатурные зна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ичие слов с отвлеченным значением  (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: пустота, скорость, время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ретная лексика выступает для обозначения общих понятий: н: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за хорошо переносит тепло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аличие ключевых сл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н. Ч. от абстрактных сущ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: длины, величины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потребление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 ср. рода: образование, свойство, значени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Глаголы в обобщенно-отвлеченном значении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дет о проблемах, отсюда следует вывод и д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Часты глаголы несов. вида (отв. На вопрос: что делать?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еобладание местоим. 3 ли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раткие прила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ичие наречий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ачала, прежде всего, потом, затем, дале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й порядок сл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вусоставных предлож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стых глагольных сказуемых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ПП, часто с несколькими придаточным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Широкое использование обособленных оборотов, уточняющих членов предложения, вводных слов (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-первых, итак, следовательно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пределенно-личных предложений (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: считают, что…),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езличных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естно, что…)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о-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х(Н: рассмотрим проблему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юзы: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 как, потому что, чтобы, поэтом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цистиче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чность  Образно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-сть Убедит -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ывно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доступно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верность Точность   Конкретность Строгая обоснованно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нформирование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е, внушение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уждение к определен. поступкам, действ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газет и журналов; очерк,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портаж, интервью, фельетон; ораторская речь, судебная речь, выступление по радио, телевидению, на собрании, докла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тилистически нейтральной лексики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, выражающих эмоции торжественности, сочувствия, иронии, него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теты, метафо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 с приставками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-, анти-, де-, меж-, раз (с); с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уффиксами 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и (я), -ци (я)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заци (я), -изм, -ист;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рнями, близкими по значению к приставкам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-, обще-, сверх-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ы в повелительном наклонении (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Должен быть интеллигентен, надо развивать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составные предложе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клицательные,  вопросительные предлож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остраненные обращения, риторические вопросы, повто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ные именные и глагольные сказуем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о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е точных сведений, имеющих практическое значени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ача точных указаний, рекомендац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енствующе-предписывающий характ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эмоциональност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общение деловой информ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ления, протоколы, заявления, закон, указ, приказ, доверенность, объяснительная, и д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тилистически нейтральной лексики. Эмоциональной лексики нет. Профессиональная терминология. Стандартизированные словосочетания (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по истечении срока, вступать в законную силу, в установленном порядке, обжалованию не подлежит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: -глаг. несов. в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.: признаются, гарантируются)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уставах, кодексах, законах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Глаг. сов. в. ( в более конкретных документах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спользование инфинитив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раткие прилагат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глаг. сущ. в форме род.п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ыменные предлоги и союзы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соответствии, в связи, ввиду того, что);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ные простые предложения (обособленные обороты, однородные члены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64"/>
          <p:cNvSpPr/>
          <p:nvPr/>
        </p:nvSpPr>
        <p:spPr>
          <a:xfrm>
            <a:off x="0" y="10800"/>
            <a:ext cx="8964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кст №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держание особи одомашненного вида птиц отряда куриных с пятнами другого цвета на фоне основного окраса в семье мужчины и женщины преклонного возраста привело к кладке одного яйца данной особью. Яйцо, то есть оплодотворённая яйцеклетка овальной формы, имело скорлупу из золота 585 пробы. Попытки мужчины и женщины разбить яйцо не дали желаемого результата, потому что золото является твёрдым металлом. Однако небольшой грызун, а именно мышь, задев яйцо хвостом,  разбил его скорлуп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зрачная солоноватая жидкость, выделяемая сальными железами семейной пары преклонного возраста, произвела огромное впечатление на курицу, которая, заговорив человеческим языком, уверила пожилых людей, что в ближайшем будущем будет класть яйца, но уже не золотые, а просты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187280" y="-189360"/>
            <a:ext cx="7056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кст №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небольшой деревне Рязанской области произошёл сверхслучай, о котором говорят до сих пор. Пожилая пара на Пасху решила испечь не кулич, не пирожок, а какой-то колобок. Это хлебобулочное изделие вместо благодарности сделало ноги. Старики его больше не видели. До наших корреспондентов дошла информация, что Колобок был замечен в лесу. Несмотря на опасную обстановку Колобку не раз удалось уйти от преступников: Зайца, Волка и Медведя,- но он (по оперативным данным) стал жертвой хитрой мошенницы Лис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орогие детки! Будьте бдительны! Не уподобляйтесь Колобку! Не ходите в лес одни без присмотра взрослых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0" y="-5760"/>
            <a:ext cx="9144000" cy="68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кст №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иректору школы №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вановой М.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еницы 1 класса «А» Машень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2 мая 2007г я, Машенька, ученица 1 класса «А» пропустила занятия в школе в связи с тем, что потерялась в лесу. В течение нескольких часов мне не удавалось найти дорогу к школе. Ввиду того, что мои попытки выбраться из леса оказались безуспешными, я коротала время в незнакомой избе. Сильно проголодавшись,  я съела чужую кашу. А так же  сломала чужой стул и измяла чужую постел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сле неожиданного появления хозяев избы - медведей мне пришлось спасаться бегств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орогу к школе я в итоге нашла, но идти на занят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мысла уже не было, т.к. в населенный пункт 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ернулась затем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 algn="ctr"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3.01.2007                  Машень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На оценку «3»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учить стилевые особенности каждого стил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На оценку «4»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написать газетную статью о нашем техникум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 или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готовить реферат о своеобразии функциональных стилей языка (тему формулирует сам обучающийся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На оценку «5»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переработать любую сказку в одном из трех стил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8:04:58Z</dcterms:created>
  <dc:creator>www.PHILka.RU</dc:creator>
  <dc:description/>
  <dc:language>en-US</dc:language>
  <cp:lastModifiedBy>Админ</cp:lastModifiedBy>
  <dcterms:modified xsi:type="dcterms:W3CDTF">2024-02-01T11:26:57Z</dcterms:modified>
  <cp:revision>46</cp:revision>
  <dc:subject/>
  <dc:title>Урок 18/17 </dc:title>
</cp:coreProperties>
</file>