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613-F84A-490F-A0DE-1523165D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6B8-FBF1-47BD-AE3C-767D5C9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DDF-5BB6-4B49-AADD-790B29A4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81E-754E-4B58-BFFD-BD1C4BEF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1C6-1C7A-415B-8A09-3AC5214E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FD4-4980-49DB-BBEA-3AF17006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055-DD40-4DDE-8715-BFBE65C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D65-2B3C-4DCE-AAD1-EC025B2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EC8-AA3C-46E6-9617-07EA5E3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BFB-FDDF-4081-AED0-4C6FE1A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115-5FA6-4D4C-96A0-84D0351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4DF-FE66-4EF2-816E-36E99E6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DA0-D846-4FC4-8666-E169A0B86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3"/>
          <p:cNvGrpSpPr/>
          <p:nvPr/>
        </p:nvGrpSpPr>
        <p:grpSpPr>
          <a:xfrm>
            <a:off x="2865600" y="2389320"/>
            <a:ext cx="1815840" cy="1670040"/>
            <a:chOff x="2865600" y="2389320"/>
            <a:chExt cx="1815840" cy="1670040"/>
          </a:xfrm>
        </p:grpSpPr>
        <p:pic>
          <p:nvPicPr>
            <p:cNvPr id="4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865600" y="2389320"/>
              <a:ext cx="18158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92896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оугольник 5"/>
          <p:cNvGrpSpPr/>
          <p:nvPr/>
        </p:nvGrpSpPr>
        <p:grpSpPr>
          <a:xfrm>
            <a:off x="2865600" y="822240"/>
            <a:ext cx="1815840" cy="1665360"/>
            <a:chOff x="2865600" y="822240"/>
            <a:chExt cx="1815840" cy="1665360"/>
          </a:xfrm>
        </p:grpSpPr>
        <p:pic>
          <p:nvPicPr>
            <p:cNvPr id="45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65600" y="822240"/>
              <a:ext cx="18158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92896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6"/>
          <p:cNvGrpSpPr/>
          <p:nvPr/>
        </p:nvGrpSpPr>
        <p:grpSpPr>
          <a:xfrm>
            <a:off x="4584600" y="3962520"/>
            <a:ext cx="1816200" cy="1670040"/>
            <a:chOff x="4584600" y="3962520"/>
            <a:chExt cx="1816200" cy="1670040"/>
          </a:xfrm>
        </p:grpSpPr>
        <p:pic>
          <p:nvPicPr>
            <p:cNvPr id="48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58460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64328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7"/>
          <p:cNvGrpSpPr/>
          <p:nvPr/>
        </p:nvGrpSpPr>
        <p:grpSpPr>
          <a:xfrm>
            <a:off x="6297480" y="3962520"/>
            <a:ext cx="1816200" cy="1670040"/>
            <a:chOff x="6297480" y="3962520"/>
            <a:chExt cx="1816200" cy="1670040"/>
          </a:xfrm>
        </p:grpSpPr>
        <p:pic>
          <p:nvPicPr>
            <p:cNvPr id="51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29748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35796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8"/>
          <p:cNvGrpSpPr/>
          <p:nvPr/>
        </p:nvGrpSpPr>
        <p:grpSpPr>
          <a:xfrm>
            <a:off x="4584600" y="2389320"/>
            <a:ext cx="1816200" cy="1670040"/>
            <a:chOff x="4584600" y="2389320"/>
            <a:chExt cx="1816200" cy="1670040"/>
          </a:xfrm>
        </p:grpSpPr>
        <p:pic>
          <p:nvPicPr>
            <p:cNvPr id="54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8460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64328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9"/>
          <p:cNvGrpSpPr/>
          <p:nvPr/>
        </p:nvGrpSpPr>
        <p:grpSpPr>
          <a:xfrm>
            <a:off x="4584600" y="822240"/>
            <a:ext cx="1816200" cy="1665360"/>
            <a:chOff x="4584600" y="822240"/>
            <a:chExt cx="1816200" cy="1665360"/>
          </a:xfrm>
        </p:grpSpPr>
        <p:pic>
          <p:nvPicPr>
            <p:cNvPr id="57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8460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4328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0"/>
          <p:cNvGrpSpPr/>
          <p:nvPr/>
        </p:nvGrpSpPr>
        <p:grpSpPr>
          <a:xfrm>
            <a:off x="6297480" y="2389320"/>
            <a:ext cx="1816200" cy="1670040"/>
            <a:chOff x="6297480" y="2389320"/>
            <a:chExt cx="1816200" cy="1670040"/>
          </a:xfrm>
        </p:grpSpPr>
        <p:pic>
          <p:nvPicPr>
            <p:cNvPr id="60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29748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35796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1"/>
          <p:cNvGrpSpPr/>
          <p:nvPr/>
        </p:nvGrpSpPr>
        <p:grpSpPr>
          <a:xfrm>
            <a:off x="6297480" y="822240"/>
            <a:ext cx="1816200" cy="1665360"/>
            <a:chOff x="6297480" y="822240"/>
            <a:chExt cx="1816200" cy="1665360"/>
          </a:xfrm>
        </p:grpSpPr>
        <p:pic>
          <p:nvPicPr>
            <p:cNvPr id="63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29748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35796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2"/>
          <p:cNvGrpSpPr/>
          <p:nvPr/>
        </p:nvGrpSpPr>
        <p:grpSpPr>
          <a:xfrm>
            <a:off x="2865600" y="3962520"/>
            <a:ext cx="1815840" cy="1670040"/>
            <a:chOff x="2865600" y="3962520"/>
            <a:chExt cx="1815840" cy="1670040"/>
          </a:xfrm>
        </p:grpSpPr>
        <p:pic>
          <p:nvPicPr>
            <p:cNvPr id="66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2865600" y="3962520"/>
              <a:ext cx="18158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92896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13"/>
          <p:cNvGrpSpPr/>
          <p:nvPr/>
        </p:nvGrpSpPr>
        <p:grpSpPr>
          <a:xfrm>
            <a:off x="1152360" y="822240"/>
            <a:ext cx="1816200" cy="1665360"/>
            <a:chOff x="1152360" y="822240"/>
            <a:chExt cx="1816200" cy="1665360"/>
          </a:xfrm>
        </p:grpSpPr>
        <p:pic>
          <p:nvPicPr>
            <p:cNvPr id="69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152360" y="822240"/>
              <a:ext cx="18162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14280" y="85716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14"/>
          <p:cNvGrpSpPr/>
          <p:nvPr/>
        </p:nvGrpSpPr>
        <p:grpSpPr>
          <a:xfrm>
            <a:off x="1152360" y="2389320"/>
            <a:ext cx="1816200" cy="1670040"/>
            <a:chOff x="1152360" y="2389320"/>
            <a:chExt cx="1816200" cy="1670040"/>
          </a:xfrm>
        </p:grpSpPr>
        <p:pic>
          <p:nvPicPr>
            <p:cNvPr id="72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1152360" y="23893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14280" y="2428920"/>
              <a:ext cx="17002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15"/>
          <p:cNvGrpSpPr/>
          <p:nvPr/>
        </p:nvGrpSpPr>
        <p:grpSpPr>
          <a:xfrm>
            <a:off x="1152360" y="3962520"/>
            <a:ext cx="1816200" cy="1670040"/>
            <a:chOff x="1152360" y="3962520"/>
            <a:chExt cx="1816200" cy="1670040"/>
          </a:xfrm>
        </p:grpSpPr>
        <p:pic>
          <p:nvPicPr>
            <p:cNvPr id="75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1152360" y="3962520"/>
              <a:ext cx="18162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214280" y="4000680"/>
              <a:ext cx="1700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928880" y="1500120"/>
            <a:ext cx="5286240" cy="35244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3577680" y="3571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102480" y="5429160"/>
            <a:ext cx="271656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уткон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5715000" cy="46432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6" name="TextBox 2"/>
          <p:cNvSpPr/>
          <p:nvPr/>
        </p:nvSpPr>
        <p:spPr>
          <a:xfrm>
            <a:off x="4103640" y="14292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473480" y="5857920"/>
            <a:ext cx="6023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Тасманский дьяв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http://festival.1september.ru/articles/517439/img4.jpg"/>
          <p:cNvPicPr/>
          <p:nvPr/>
        </p:nvPicPr>
        <p:blipFill>
          <a:blip r:embed="rId1"/>
          <a:stretch/>
        </p:blipFill>
        <p:spPr>
          <a:xfrm>
            <a:off x="6643800" y="1643040"/>
            <a:ext cx="2173320" cy="298152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5595840" cy="42292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0" name="TextBox 3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351800" y="5786280"/>
            <a:ext cx="61592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Зонтичная а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7680" y="1214280"/>
            <a:ext cx="3714480" cy="432936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632760" y="5786280"/>
            <a:ext cx="20674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оа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1" descr="http://festival.1september.ru/articles/517439/img18.jpg"/>
          <p:cNvPicPr/>
          <p:nvPr/>
        </p:nvPicPr>
        <p:blipFill>
          <a:blip r:embed="rId1"/>
          <a:stretch/>
        </p:blipFill>
        <p:spPr>
          <a:xfrm>
            <a:off x="3000240" y="1071720"/>
            <a:ext cx="3200400" cy="42670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16" name="TextBox 2"/>
          <p:cNvSpPr/>
          <p:nvPr/>
        </p:nvSpPr>
        <p:spPr>
          <a:xfrm>
            <a:off x="3817800" y="21420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748600" y="5572080"/>
            <a:ext cx="3746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траус Э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1" descr="http://festival.1september.ru/articles/517439/img8.jpg"/>
          <p:cNvPicPr/>
          <p:nvPr/>
        </p:nvPicPr>
        <p:blipFill>
          <a:blip r:embed="rId1"/>
          <a:stretch/>
        </p:blipFill>
        <p:spPr>
          <a:xfrm>
            <a:off x="1857240" y="1285920"/>
            <a:ext cx="6139080" cy="411156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sp>
        <p:nvSpPr>
          <p:cNvPr id="78" name="TextBox 3"/>
          <p:cNvSpPr/>
          <p:nvPr/>
        </p:nvSpPr>
        <p:spPr>
          <a:xfrm>
            <a:off x="3857760" y="42876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714840" y="5715000"/>
            <a:ext cx="2103480" cy="8251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и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381400" cy="382896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00040" y="1000080"/>
            <a:ext cx="4143240" cy="552456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82" name="TextBox 4"/>
          <p:cNvSpPr/>
          <p:nvPr/>
        </p:nvSpPr>
        <p:spPr>
          <a:xfrm>
            <a:off x="3792240" y="1429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135400" y="5572080"/>
            <a:ext cx="3190680" cy="825120"/>
          </a:xfrm>
          <a:prstGeom prst="rect">
            <a:avLst/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эвкалип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643120" y="1857240"/>
            <a:ext cx="4286160" cy="32194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85" name="TextBox 2"/>
          <p:cNvSpPr/>
          <p:nvPr/>
        </p:nvSpPr>
        <p:spPr>
          <a:xfrm>
            <a:off x="4435200" y="92880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735360" y="5643720"/>
            <a:ext cx="26938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енгу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075440" cy="47116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88" name="TextBox 2"/>
          <p:cNvSpPr/>
          <p:nvPr/>
        </p:nvSpPr>
        <p:spPr>
          <a:xfrm>
            <a:off x="3863520" y="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40840" y="5715000"/>
            <a:ext cx="37148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ельвич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9" descr="http://festival.1september.ru/articles/517439/img16.jpg"/>
          <p:cNvPicPr/>
          <p:nvPr/>
        </p:nvPicPr>
        <p:blipFill>
          <a:blip r:embed="rId1"/>
          <a:stretch/>
        </p:blipFill>
        <p:spPr>
          <a:xfrm>
            <a:off x="2571840" y="1500120"/>
            <a:ext cx="4267080" cy="29844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91" name="TextBox 2"/>
          <p:cNvSpPr/>
          <p:nvPr/>
        </p:nvSpPr>
        <p:spPr>
          <a:xfrm>
            <a:off x="4292280" y="5000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008800" y="5000760"/>
            <a:ext cx="561996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тица секрет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353360" cy="4534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4363560" y="5000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541680" y="5786280"/>
            <a:ext cx="254304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омб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0" descr="http://festival.1september.ru/articles/517439/img7.jpg"/>
          <p:cNvPicPr/>
          <p:nvPr/>
        </p:nvPicPr>
        <p:blipFill>
          <a:blip r:embed="rId1"/>
          <a:stretch/>
        </p:blipFill>
        <p:spPr>
          <a:xfrm>
            <a:off x="3071880" y="1000080"/>
            <a:ext cx="2857320" cy="426708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97" name="TextBox 2"/>
          <p:cNvSpPr/>
          <p:nvPr/>
        </p:nvSpPr>
        <p:spPr>
          <a:xfrm>
            <a:off x="3720600" y="14292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210480" y="5715000"/>
            <a:ext cx="243468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баоб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4" descr="http://festival.1september.ru/articles/517439/img1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112000" cy="3844800"/>
          </a:xfrm>
          <a:prstGeom prst="rect">
            <a:avLst/>
          </a:prstGeom>
          <a:ln w="38160">
            <a:solidFill>
              <a:srgbClr val="17375e"/>
            </a:solidFill>
            <a:miter/>
          </a:ln>
        </p:spPr>
      </p:pic>
      <p:sp>
        <p:nvSpPr>
          <p:cNvPr id="100" name="TextBox 4"/>
          <p:cNvSpPr/>
          <p:nvPr/>
        </p:nvSpPr>
        <p:spPr>
          <a:xfrm>
            <a:off x="3720600" y="28584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425400" y="5429160"/>
            <a:ext cx="2012400" cy="82512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1:52:35Z</dcterms:created>
  <dc:creator>www.PHILka.RU</dc:creator>
  <dc:description/>
  <dc:language>en-US</dc:language>
  <cp:lastModifiedBy>www.PHILka.RU</cp:lastModifiedBy>
  <dcterms:modified xsi:type="dcterms:W3CDTF">2010-03-14T13:43:37Z</dcterms:modified>
  <cp:revision>14</cp:revision>
  <dc:subject/>
  <dc:title>Слайд 1</dc:title>
</cp:coreProperties>
</file>