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137-F7DE-4BD5-90C4-F27643AB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80D-FFBE-4022-A7F7-59CD9F00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213-DF94-4570-A945-10B86AD9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842-F3DB-4751-B9D8-2F979780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EDD-C52E-4215-96F5-BFB9835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67E-856A-405E-BEDE-0F5AAAA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0D6-51F1-4D5A-ADF0-D08DD63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A39-30B0-476C-A412-C066C34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C1A-7264-4F8D-A3FE-846A063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05D-6388-437D-8CB2-A70AE56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CBF-E7D8-47B2-B6EA-0AE3E03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C43-9628-46F1-9755-C0E6264B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CBED-3A2F-4BF8-9E74-4A7E1EEB6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3"/>
          <p:cNvGrpSpPr/>
          <p:nvPr/>
        </p:nvGrpSpPr>
        <p:grpSpPr>
          <a:xfrm>
            <a:off x="2865600" y="2389320"/>
            <a:ext cx="1815840" cy="1670040"/>
            <a:chOff x="2865600" y="2389320"/>
            <a:chExt cx="1815840" cy="1670040"/>
          </a:xfrm>
        </p:grpSpPr>
        <p:pic>
          <p:nvPicPr>
            <p:cNvPr id="4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865600" y="2389320"/>
              <a:ext cx="18158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92896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оугольник 5"/>
          <p:cNvGrpSpPr/>
          <p:nvPr/>
        </p:nvGrpSpPr>
        <p:grpSpPr>
          <a:xfrm>
            <a:off x="2865600" y="822240"/>
            <a:ext cx="1815840" cy="1665360"/>
            <a:chOff x="2865600" y="822240"/>
            <a:chExt cx="1815840" cy="1665360"/>
          </a:xfrm>
        </p:grpSpPr>
        <p:pic>
          <p:nvPicPr>
            <p:cNvPr id="45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65600" y="822240"/>
              <a:ext cx="18158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92896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6"/>
          <p:cNvGrpSpPr/>
          <p:nvPr/>
        </p:nvGrpSpPr>
        <p:grpSpPr>
          <a:xfrm>
            <a:off x="4584600" y="3962520"/>
            <a:ext cx="1816200" cy="1670040"/>
            <a:chOff x="4584600" y="3962520"/>
            <a:chExt cx="1816200" cy="1670040"/>
          </a:xfrm>
        </p:grpSpPr>
        <p:pic>
          <p:nvPicPr>
            <p:cNvPr id="48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58460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64328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7"/>
          <p:cNvGrpSpPr/>
          <p:nvPr/>
        </p:nvGrpSpPr>
        <p:grpSpPr>
          <a:xfrm>
            <a:off x="6297480" y="3962520"/>
            <a:ext cx="1816200" cy="1670040"/>
            <a:chOff x="6297480" y="3962520"/>
            <a:chExt cx="1816200" cy="1670040"/>
          </a:xfrm>
        </p:grpSpPr>
        <p:pic>
          <p:nvPicPr>
            <p:cNvPr id="51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29748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35796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8"/>
          <p:cNvGrpSpPr/>
          <p:nvPr/>
        </p:nvGrpSpPr>
        <p:grpSpPr>
          <a:xfrm>
            <a:off x="4584600" y="2389320"/>
            <a:ext cx="1816200" cy="1670040"/>
            <a:chOff x="4584600" y="2389320"/>
            <a:chExt cx="1816200" cy="1670040"/>
          </a:xfrm>
        </p:grpSpPr>
        <p:pic>
          <p:nvPicPr>
            <p:cNvPr id="54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8460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64328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9"/>
          <p:cNvGrpSpPr/>
          <p:nvPr/>
        </p:nvGrpSpPr>
        <p:grpSpPr>
          <a:xfrm>
            <a:off x="4584600" y="822240"/>
            <a:ext cx="1816200" cy="1665360"/>
            <a:chOff x="4584600" y="822240"/>
            <a:chExt cx="1816200" cy="1665360"/>
          </a:xfrm>
        </p:grpSpPr>
        <p:pic>
          <p:nvPicPr>
            <p:cNvPr id="57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8460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4328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0"/>
          <p:cNvGrpSpPr/>
          <p:nvPr/>
        </p:nvGrpSpPr>
        <p:grpSpPr>
          <a:xfrm>
            <a:off x="6297480" y="2389320"/>
            <a:ext cx="1816200" cy="1670040"/>
            <a:chOff x="6297480" y="2389320"/>
            <a:chExt cx="1816200" cy="1670040"/>
          </a:xfrm>
        </p:grpSpPr>
        <p:pic>
          <p:nvPicPr>
            <p:cNvPr id="60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29748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35796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1"/>
          <p:cNvGrpSpPr/>
          <p:nvPr/>
        </p:nvGrpSpPr>
        <p:grpSpPr>
          <a:xfrm>
            <a:off x="6297480" y="822240"/>
            <a:ext cx="1816200" cy="1665360"/>
            <a:chOff x="6297480" y="822240"/>
            <a:chExt cx="1816200" cy="1665360"/>
          </a:xfrm>
        </p:grpSpPr>
        <p:pic>
          <p:nvPicPr>
            <p:cNvPr id="63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29748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35796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2"/>
          <p:cNvGrpSpPr/>
          <p:nvPr/>
        </p:nvGrpSpPr>
        <p:grpSpPr>
          <a:xfrm>
            <a:off x="2865600" y="3962520"/>
            <a:ext cx="1815840" cy="1670040"/>
            <a:chOff x="2865600" y="3962520"/>
            <a:chExt cx="1815840" cy="1670040"/>
          </a:xfrm>
        </p:grpSpPr>
        <p:pic>
          <p:nvPicPr>
            <p:cNvPr id="66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2865600" y="3962520"/>
              <a:ext cx="18158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92896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13"/>
          <p:cNvGrpSpPr/>
          <p:nvPr/>
        </p:nvGrpSpPr>
        <p:grpSpPr>
          <a:xfrm>
            <a:off x="1152360" y="822240"/>
            <a:ext cx="1816200" cy="1665360"/>
            <a:chOff x="1152360" y="822240"/>
            <a:chExt cx="1816200" cy="1665360"/>
          </a:xfrm>
        </p:grpSpPr>
        <p:pic>
          <p:nvPicPr>
            <p:cNvPr id="69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15236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1428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14"/>
          <p:cNvGrpSpPr/>
          <p:nvPr/>
        </p:nvGrpSpPr>
        <p:grpSpPr>
          <a:xfrm>
            <a:off x="1152360" y="2389320"/>
            <a:ext cx="1816200" cy="1670040"/>
            <a:chOff x="1152360" y="2389320"/>
            <a:chExt cx="1816200" cy="1670040"/>
          </a:xfrm>
        </p:grpSpPr>
        <p:pic>
          <p:nvPicPr>
            <p:cNvPr id="72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115236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1428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15"/>
          <p:cNvGrpSpPr/>
          <p:nvPr/>
        </p:nvGrpSpPr>
        <p:grpSpPr>
          <a:xfrm>
            <a:off x="1152360" y="3962520"/>
            <a:ext cx="1816200" cy="1670040"/>
            <a:chOff x="1152360" y="3962520"/>
            <a:chExt cx="1816200" cy="1670040"/>
          </a:xfrm>
        </p:grpSpPr>
        <p:pic>
          <p:nvPicPr>
            <p:cNvPr id="75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115236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21428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928880" y="1500120"/>
            <a:ext cx="5286240" cy="35244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3577680" y="3571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102480" y="5429160"/>
            <a:ext cx="271656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уткон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5715000" cy="46432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6" name="TextBox 2"/>
          <p:cNvSpPr/>
          <p:nvPr/>
        </p:nvSpPr>
        <p:spPr>
          <a:xfrm>
            <a:off x="4103640" y="14292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473480" y="5857920"/>
            <a:ext cx="6023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Тасманский дьяв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http://festival.1september.ru/articles/517439/img4.jpg"/>
          <p:cNvPicPr/>
          <p:nvPr/>
        </p:nvPicPr>
        <p:blipFill>
          <a:blip r:embed="rId1"/>
          <a:stretch/>
        </p:blipFill>
        <p:spPr>
          <a:xfrm>
            <a:off x="6643800" y="1643040"/>
            <a:ext cx="2173320" cy="298152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5595840" cy="42292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0" name="TextBox 3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351800" y="5786280"/>
            <a:ext cx="61592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Зонтичная а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7680" y="1214280"/>
            <a:ext cx="3714480" cy="432936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632760" y="5786280"/>
            <a:ext cx="20674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оа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1" descr="http://festival.1september.ru/articles/517439/img18.jpg"/>
          <p:cNvPicPr/>
          <p:nvPr/>
        </p:nvPicPr>
        <p:blipFill>
          <a:blip r:embed="rId1"/>
          <a:stretch/>
        </p:blipFill>
        <p:spPr>
          <a:xfrm>
            <a:off x="3000240" y="1071720"/>
            <a:ext cx="3200400" cy="42670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6" name="TextBox 2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748600" y="5572080"/>
            <a:ext cx="3746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траус Э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1" descr="http://festival.1september.ru/articles/517439/img8.jpg"/>
          <p:cNvPicPr/>
          <p:nvPr/>
        </p:nvPicPr>
        <p:blipFill>
          <a:blip r:embed="rId1"/>
          <a:stretch/>
        </p:blipFill>
        <p:spPr>
          <a:xfrm>
            <a:off x="1857240" y="1285920"/>
            <a:ext cx="6139080" cy="411156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sp>
        <p:nvSpPr>
          <p:cNvPr id="78" name="TextBox 3"/>
          <p:cNvSpPr/>
          <p:nvPr/>
        </p:nvSpPr>
        <p:spPr>
          <a:xfrm>
            <a:off x="3857760" y="42876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714840" y="5715000"/>
            <a:ext cx="2103480" cy="8251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и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381400" cy="382896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00040" y="1000080"/>
            <a:ext cx="4143240" cy="552456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82" name="TextBox 4"/>
          <p:cNvSpPr/>
          <p:nvPr/>
        </p:nvSpPr>
        <p:spPr>
          <a:xfrm>
            <a:off x="3792240" y="1429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135400" y="5572080"/>
            <a:ext cx="3190680" cy="825120"/>
          </a:xfrm>
          <a:prstGeom prst="rect">
            <a:avLst/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эвкалип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643120" y="1857240"/>
            <a:ext cx="4286160" cy="32194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85" name="TextBox 2"/>
          <p:cNvSpPr/>
          <p:nvPr/>
        </p:nvSpPr>
        <p:spPr>
          <a:xfrm>
            <a:off x="4435200" y="92880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735360" y="5643720"/>
            <a:ext cx="2693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енгу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075440" cy="47116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88" name="TextBox 2"/>
          <p:cNvSpPr/>
          <p:nvPr/>
        </p:nvSpPr>
        <p:spPr>
          <a:xfrm>
            <a:off x="3863520" y="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40840" y="5715000"/>
            <a:ext cx="37148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ельвич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9" descr="http://festival.1september.ru/articles/517439/img16.jpg"/>
          <p:cNvPicPr/>
          <p:nvPr/>
        </p:nvPicPr>
        <p:blipFill>
          <a:blip r:embed="rId1"/>
          <a:stretch/>
        </p:blipFill>
        <p:spPr>
          <a:xfrm>
            <a:off x="2571840" y="1500120"/>
            <a:ext cx="4267080" cy="29844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91" name="TextBox 2"/>
          <p:cNvSpPr/>
          <p:nvPr/>
        </p:nvSpPr>
        <p:spPr>
          <a:xfrm>
            <a:off x="4292280" y="5000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008800" y="5000760"/>
            <a:ext cx="561996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тица секрет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353360" cy="4534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4363560" y="5000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541680" y="5786280"/>
            <a:ext cx="25430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омб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0" descr="http://festival.1september.ru/articles/517439/img7.jpg"/>
          <p:cNvPicPr/>
          <p:nvPr/>
        </p:nvPicPr>
        <p:blipFill>
          <a:blip r:embed="rId1"/>
          <a:stretch/>
        </p:blipFill>
        <p:spPr>
          <a:xfrm>
            <a:off x="3071880" y="1000080"/>
            <a:ext cx="2857320" cy="42670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97" name="TextBox 2"/>
          <p:cNvSpPr/>
          <p:nvPr/>
        </p:nvSpPr>
        <p:spPr>
          <a:xfrm>
            <a:off x="3720600" y="1429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210480" y="5715000"/>
            <a:ext cx="24346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баоб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4" descr="http://festival.1september.ru/articles/517439/img1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112000" cy="38448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0" name="TextBox 4"/>
          <p:cNvSpPr/>
          <p:nvPr/>
        </p:nvSpPr>
        <p:spPr>
          <a:xfrm>
            <a:off x="3720600" y="2858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425400" y="5429160"/>
            <a:ext cx="201240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1:52:35Z</dcterms:created>
  <dc:creator>www.PHILka.RU</dc:creator>
  <dc:description/>
  <dc:language>en-US</dc:language>
  <cp:lastModifiedBy>www.PHILka.RU</cp:lastModifiedBy>
  <dcterms:modified xsi:type="dcterms:W3CDTF">2010-03-14T13:43:37Z</dcterms:modified>
  <cp:revision>14</cp:revision>
  <dc:subject/>
  <dc:title>Слайд 1</dc:title>
</cp:coreProperties>
</file>