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F7A-2B01-46A5-A8BC-BFB9E07E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6A0-75FD-4F1B-AE62-6A810D2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7D6-BAD8-4DA5-B333-A2A61076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4B-712A-4998-8782-5EB9A003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3D8-FB67-423D-9D16-1400877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83F-CB11-4688-A624-07881D8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2B1-91C2-4467-885F-B6AA68F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DDD-6D89-4916-9C13-C128BF29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E0D-1F65-4382-8BA0-AB42F50C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B7C-066D-4848-B764-6ED8018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086-4746-4C94-86E2-E7FB30A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7FD-3A67-4722-A1A9-CE51F9B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BCE3-B80A-44C9-905F-60B7874B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dokonline.com/uploads/posts/2010-12/1292244030_1.jpg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XV — начале XVI в. Кремль был полностью построен заново. Строительство его велось постепенно, по участкам, так, чтобы центр Москвы ни на один год не оставался лишенным укреплений. К строительству были привлечены итальянские мастера, среди которых ведущую роль играл миланец Пьетро Антонио Солар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, современный вид Московского Кремля сильно отличается от первоначального; все башни его были в XVII в. надстроены декоративными вышками, ров засыпан, большинство стрельниц уничтожено. Но Основная часть кремлевских стен и башен относится к постройке конца XV — начала XV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1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опримечательности Мос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900igr.net/datas/geografija/Gorod-Moskva/0012-012-TSar-pushka.jpg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360" y="475920"/>
            <a:ext cx="439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амятник «В ознаменование 300-летия российского флота») работы З. Церетели был воздвигнут в 1997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5084640"/>
            <a:ext cx="352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 К.  Минину и Д.Пожарскому установлен на Красной площади в 1818 (скульптор И.П.Марто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036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2060640"/>
            <a:ext cx="49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ровский собор был построен в 1555-1561 годах по приказу Ивана Грозного в память о взятии Казани и победе над Казанским хан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http://www.soglasie-v.ru/docs/gold/27.jpg"/>
          <p:cNvPicPr/>
          <p:nvPr/>
        </p:nvPicPr>
        <p:blipFill>
          <a:blip r:embed="rId1"/>
          <a:stretch/>
        </p:blipFill>
        <p:spPr>
          <a:xfrm>
            <a:off x="755640" y="1125360"/>
            <a:ext cx="7993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5229360"/>
            <a:ext cx="295272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ик А.С. Пушкину на Тверской улице (скульптор - А.М. Опекушин, архитектор - И.С. Богомолов)  был открыт 6 июня 1880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292360" y="515736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ик Ивану Федорову - создателю первой русской датированной печатной книги.  Установлен в 1909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кульптор С.Волнухин, архитектор И.Машк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http://img01.communa.ru/albums/userpics/10003/27Fedorov.jpg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475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4560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ольшой театр— один из крупнейших в России один из самых значительных в мире театров оперы и бале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http://img-fotki.yandex.ru/get/2/eigenartig.f/0_1e1d_67f476e8_XL"/>
          <p:cNvPicPr/>
          <p:nvPr/>
        </p:nvPicPr>
        <p:blipFill>
          <a:blip r:embed="rId1"/>
          <a:stretch/>
        </p:blipFill>
        <p:spPr>
          <a:xfrm>
            <a:off x="395280" y="1197000"/>
            <a:ext cx="849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ание московского государственн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Наша Москв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осква, Москва!.. люблю тебя как с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 русский, – сильно, пламенно и не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юблю священный блеск твоих се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 этот Кремль зубчатый, безмяте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прасно думал чуждый власт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 тобой, столетним русским велика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меряться главою и – обм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ебя низвергнуть. Тщетно пора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ебя пришлец: ты вздрогнул – он уп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еленная замолкла... Велич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дин ты жив, наследник нашей сл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ы жив!.. Ты жив, и каждый камень тво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Заветное преданье поколени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(М. Лермо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cs9752.userapi.com/u27177673/-14/x_08fa489a.jpg"/>
          <p:cNvPicPr/>
          <p:nvPr/>
        </p:nvPicPr>
        <p:blipFill>
          <a:blip r:embed="rId1"/>
          <a:stretch/>
        </p:blipFill>
        <p:spPr>
          <a:xfrm>
            <a:off x="2657520" y="1268280"/>
            <a:ext cx="3828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508360" y="1052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Москва…Как много в этом зву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ля сердца русского слило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ного в нем отозвалось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(700x474, 144Kb)"/>
          <p:cNvPicPr/>
          <p:nvPr/>
        </p:nvPicPr>
        <p:blipFill>
          <a:blip r:embed="rId1"/>
          <a:stretch/>
        </p:blipFill>
        <p:spPr>
          <a:xfrm>
            <a:off x="179280" y="1268280"/>
            <a:ext cx="50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37544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47 год – год первого летописного упоминания о Москве. Его принято считать официальной датой основания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л Москву князь Юрий Долгору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ttp://gkaf.narod.ru/rh-book/l-feod4/f04-03.jpg"/>
          <p:cNvPicPr/>
          <p:nvPr/>
        </p:nvPicPr>
        <p:blipFill>
          <a:blip r:embed="rId1"/>
          <a:stretch/>
        </p:blipFill>
        <p:spPr>
          <a:xfrm>
            <a:off x="4500720" y="549360"/>
            <a:ext cx="4535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302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156 году были построены первые деревянные стены Московского Кр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о «Кремль» происходит от древне- русского слова «кром». Так называлась центральная часть древнерусских городов, обнесенная со всех сторон крепостными стенами с башн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5761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www.posterlux.ru/new/5/big/vasnecov_apollinarii_mihailovich_1856_1933/posterlux-vasnecov_apollinarii_mihailovich_1856_1933-medvedchiki_razvlechenie_staraya_moskva_1911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school.ilona.su/msk_html_m6781de3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02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367 году, в княжение Дмитрия Ивановича был построен новый Кремль – уже не из дерева, а из белого кам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ttp://www.nemiga.info/moskva/moskva/moskovsky-kreml-2.jpg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1:05:08Z</dcterms:created>
  <dc:creator>User</dc:creator>
  <dc:description/>
  <dc:language>en-US</dc:language>
  <cp:lastModifiedBy>User</cp:lastModifiedBy>
  <dcterms:modified xsi:type="dcterms:W3CDTF">2013-08-31T12:39:10Z</dcterms:modified>
  <cp:revision>2</cp:revision>
  <dc:subject/>
  <dc:title>Слайд 1</dc:title>
</cp:coreProperties>
</file>