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7ACC-121E-489D-A2F4-D328FA67F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A0A0-AAD7-4D49-9DA7-697D2B60D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2383-7457-4BBF-AC98-CC73B7F47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99E1-4B1B-4B19-ADB1-4F4CAB8F7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0530-3BCA-4C18-BE56-CBFA666A1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7462-29E4-46CC-8488-864A4A042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34C0-D26D-4417-8B75-BDE60E469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A364-30EA-4140-B7B2-0B48F889A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A9E6-A5EB-4681-9B63-27A4F5D64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D854-FDF1-4840-A373-34DAAA7C1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EE0D-1993-4806-BC48-1A0CBD582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0013-3660-4326-90F2-4A8F3A6C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808D0-48E6-4F15-B083-2D0FC5644B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http://dokonline.com/uploads/posts/2010-12/1292244030_1.jpg"/>
          <p:cNvPicPr/>
          <p:nvPr/>
        </p:nvPicPr>
        <p:blipFill>
          <a:blip r:embed="rId1"/>
          <a:stretch/>
        </p:blipFill>
        <p:spPr>
          <a:xfrm>
            <a:off x="468360" y="333360"/>
            <a:ext cx="8424720" cy="615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49780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конце XV — начале XVI в. Кремль был полностью построен заново. Строительство его велось постепенно, по участкам, так, чтобы центр Москвы ни на один год не оставался лишенным укреплений. К строительству были привлечены итальянские мастера, среди которых ведущую роль играл миланец Пьетро Антонио Солари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792144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ечно, современный вид Московского Кремля сильно отличается от первоначального; все башни его были в XVII в. надстроены декоративными вышками, ров засыпан, большинство стрельниц уничтожено. Но Основная часть кремлевских стен и башен относится к постройке конца XV — начала XVI 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11280" y="1844640"/>
            <a:ext cx="81374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остопримечательности Москв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http://900igr.net/datas/geografija/Gorod-Moskva/0012-012-TSar-pushka.jpg"/>
          <p:cNvPicPr/>
          <p:nvPr/>
        </p:nvPicPr>
        <p:blipFill>
          <a:blip r:embed="rId1"/>
          <a:stretch/>
        </p:blipFill>
        <p:spPr>
          <a:xfrm>
            <a:off x="395280" y="1197000"/>
            <a:ext cx="842472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00360" y="475920"/>
            <a:ext cx="4392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амятник «В ознаменование 300-летия российского флота») работы З. Церетели был воздвигнут в 1997 год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-360" y="5084640"/>
            <a:ext cx="3529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мятник К.  Минину и Д.Пожарскому установлен на Красной площади в 1818 (скульптор И.П.Мартос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3600360" cy="4752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067280" y="2060640"/>
            <a:ext cx="49687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кровский собор был построен в 1555-1561 годах по приказу Ивана Грозного в память о взятии Казани и победе над Казанским ханств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http://www.soglasie-v.ru/docs/gold/27.jpg"/>
          <p:cNvPicPr/>
          <p:nvPr/>
        </p:nvPicPr>
        <p:blipFill>
          <a:blip r:embed="rId1"/>
          <a:stretch/>
        </p:blipFill>
        <p:spPr>
          <a:xfrm>
            <a:off x="755640" y="1125360"/>
            <a:ext cx="799308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5640" y="5229360"/>
            <a:ext cx="295272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амятник А.С. Пушкину на Тверской улице (скульптор - А.М. Опекушин, архитектор - И.С. Богомолов)  был открыт 6 июня 1880 го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5292360" y="5157360"/>
            <a:ext cx="33829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амятник Ивану Федорову - создателю первой русской датированной печатной книги.  Установлен в 1909 год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Скульптор С.Волнухин, архитектор И.Машков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http://img01.communa.ru/albums/userpics/10003/27Fedorov.jpg"/>
          <p:cNvPicPr/>
          <p:nvPr/>
        </p:nvPicPr>
        <p:blipFill>
          <a:blip r:embed="rId1"/>
          <a:stretch/>
        </p:blipFill>
        <p:spPr>
          <a:xfrm>
            <a:off x="5364000" y="260280"/>
            <a:ext cx="3384720" cy="47530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39640" y="189000"/>
            <a:ext cx="345600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Большой театр— один из крупнейших в России один из самых значительных в мире театров оперы и балета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http://img-fotki.yandex.ru/get/2/eigenartig.f/0_1e1d_67f476e8_XL"/>
          <p:cNvPicPr/>
          <p:nvPr/>
        </p:nvPicPr>
        <p:blipFill>
          <a:blip r:embed="rId1"/>
          <a:stretch/>
        </p:blipFill>
        <p:spPr>
          <a:xfrm>
            <a:off x="395280" y="1197000"/>
            <a:ext cx="849780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дание московского государственного университ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7632720" cy="51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Monotype Corsiva"/>
              </a:rPr>
              <a:t>Наша Москва</a:t>
            </a: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Москва, Москва!.. люблю тебя как сын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Как русский, – сильно, пламенно и неж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Люблю священный блеск твоих сед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И этот Кремль зубчатый, безмятеж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Напрасно думал чуждый властел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С тобой, столетним русским великано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Померяться главою и – обма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Тебя низвергнуть. Тщетно пораж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Тебя пришлец: ты вздрогнул – он упал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Вселенная замолкла... Величав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Один ты жив, наследник нашей сла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Ты жив!.. Ты жив, и каждый камень твой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Заветное преданье поколений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(М. Лермонт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ерб Москв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http://cs9752.userapi.com/u27177673/-14/x_08fa489a.jpg"/>
          <p:cNvPicPr/>
          <p:nvPr/>
        </p:nvPicPr>
        <p:blipFill>
          <a:blip r:embed="rId1"/>
          <a:stretch/>
        </p:blipFill>
        <p:spPr>
          <a:xfrm>
            <a:off x="2657520" y="1268280"/>
            <a:ext cx="38289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5508360" y="1052640"/>
            <a:ext cx="338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«Москва…Как много в этом зву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ля сердца русского слилось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ак много в нем отозвалось!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 (700x474, 144Kb)"/>
          <p:cNvPicPr/>
          <p:nvPr/>
        </p:nvPicPr>
        <p:blipFill>
          <a:blip r:embed="rId1"/>
          <a:stretch/>
        </p:blipFill>
        <p:spPr>
          <a:xfrm>
            <a:off x="179280" y="1268280"/>
            <a:ext cx="5040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6840" y="620280"/>
            <a:ext cx="375444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147 год – год первого летописного упоминания о Москве. Его принято считать официальной датой основания го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ал Москву князь Юрий Долгорук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http://gkaf.narod.ru/rh-book/l-feod4/f04-03.jpg"/>
          <p:cNvPicPr/>
          <p:nvPr/>
        </p:nvPicPr>
        <p:blipFill>
          <a:blip r:embed="rId1"/>
          <a:stretch/>
        </p:blipFill>
        <p:spPr>
          <a:xfrm>
            <a:off x="4500720" y="549360"/>
            <a:ext cx="453528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78920" y="692280"/>
            <a:ext cx="3024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1156 году были построены первые деревянные стены Московского Кремл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лово «Кремль» происходит от древне- русского слова «кром». Так называлась центральная часть древнерусских городов, обнесенная со всех сторон крепостными стенами с башн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203640" y="549360"/>
            <a:ext cx="576108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http://www.posterlux.ru/new/5/big/vasnecov_apollinarii_mihailovich_1856_1933/posterlux-vasnecov_apollinarii_mihailovich_1856_1933-medvedchiki_razvlechenie_staraya_moskva_1911.jpg"/>
          <p:cNvPicPr/>
          <p:nvPr/>
        </p:nvPicPr>
        <p:blipFill>
          <a:blip r:embed="rId1"/>
          <a:stretch/>
        </p:blipFill>
        <p:spPr>
          <a:xfrm>
            <a:off x="250920" y="404640"/>
            <a:ext cx="856908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http://school.ilona.su/msk_html_m6781de3.jpg"/>
          <p:cNvPicPr/>
          <p:nvPr/>
        </p:nvPicPr>
        <p:blipFill>
          <a:blip r:embed="rId1"/>
          <a:stretch/>
        </p:blipFill>
        <p:spPr>
          <a:xfrm>
            <a:off x="179280" y="333360"/>
            <a:ext cx="878544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94920" y="333000"/>
            <a:ext cx="83026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1367 году, в княжение Дмитрия Ивановича был построен новый Кремль – уже не из дерева, а из белого камн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http://www.nemiga.info/moskva/moskva/moskovsky-kreml-2.jpg"/>
          <p:cNvPicPr/>
          <p:nvPr/>
        </p:nvPicPr>
        <p:blipFill>
          <a:blip r:embed="rId1"/>
          <a:stretch/>
        </p:blipFill>
        <p:spPr>
          <a:xfrm>
            <a:off x="826920" y="1125360"/>
            <a:ext cx="763272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1:05:08Z</dcterms:created>
  <dc:creator>User</dc:creator>
  <dc:description/>
  <dc:language>en-US</dc:language>
  <cp:lastModifiedBy>User</cp:lastModifiedBy>
  <dcterms:modified xsi:type="dcterms:W3CDTF">2013-08-31T12:39:10Z</dcterms:modified>
  <cp:revision>2</cp:revision>
  <dc:subject/>
  <dc:title>Слайд 1</dc:title>
</cp:coreProperties>
</file>