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23.gif" ContentType="image/gif"/>
  <Override PartName="/ppt/media/image49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34.jpeg" ContentType="image/jpeg"/>
  <Override PartName="/ppt/media/image7.jpeg" ContentType="image/jpeg"/>
  <Override PartName="/ppt/media/image41.jpeg" ContentType="image/jpeg"/>
  <Override PartName="/ppt/media/image45.jpeg" ContentType="image/jpeg"/>
  <Override PartName="/ppt/media/image33.gif" ContentType="image/gif"/>
  <Override PartName="/ppt/media/image44.jpeg" ContentType="image/jpeg"/>
  <Override PartName="/ppt/media/image30.jpeg" ContentType="image/jpeg"/>
  <Override PartName="/ppt/media/image47.jpeg" ContentType="image/jpeg"/>
  <Override PartName="/ppt/media/image38.gif" ContentType="image/gif"/>
  <Override PartName="/ppt/media/image48.jpeg" ContentType="image/jpeg"/>
  <Override PartName="/ppt/media/image46.jpeg" ContentType="image/jpeg"/>
  <Override PartName="/ppt/media/image53.gif" ContentType="image/gif"/>
  <Override PartName="/ppt/media/image54.jpeg" ContentType="image/jpeg"/>
  <Override PartName="/ppt/media/image55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29.jpeg" ContentType="image/jpeg"/>
  <Override PartName="/ppt/media/image52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18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FE1-B193-4453-AC16-14AF96BD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049-A7B2-4F71-B405-D46646EC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225B6-3AD8-4289-BCD0-38DDB721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549EE-BE70-42F8-A0E4-EF021E7F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44DE3-A412-416B-8022-7EC19135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2B00D-8BC0-4B5C-A437-3C00FBF7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43935-E55B-4C4B-A7EF-71977B87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74B68-6659-4FB5-8880-051D98F2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9B653-E5AA-4966-96B5-3F98FE6B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E06A7-0D2E-43F7-941C-0C2A81B9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184A2-B5F2-4C71-9CA2-88403D66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92BD7-F358-4E64-A0A5-63366836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C98-ECC9-4705-835E-BF32CE90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A0D4B-FB26-4CC4-B3D4-F2BA7209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4611F-0DC2-4AD0-BE28-7D2D2AF8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A338B-6773-4FAF-B508-FDB4C9B4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32F72-DF00-46AF-B1FB-1D058C03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F6846-4869-46C2-A1D0-A3106256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8DD85-DB38-4F3A-8AA7-F4B806D2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3D542-0DEC-49A6-95CE-C6296841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28875-09BF-4CE4-B541-16D65A8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79DAE-C933-464A-8385-78C4EB51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6EB37-8475-4CA9-896C-7E0AD485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05C-9D95-42D2-B2E0-2661B362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3C7E4-BDCE-4EAF-9AA1-0D65D7E9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9AF1E-4302-4B25-9311-C6D2B92D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175F9-7C62-47F9-9CFE-DC43A909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8AC04-A3D4-411C-A3F3-639533FD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652D0-A923-4D88-BF66-34A12F7F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6EC32-D88F-428E-8865-0747B8C8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2CE61-10CF-472D-9B00-8F6C4FEC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9238C-9D6A-49C3-926B-6211A03F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896EC-54E7-4162-9F7A-13282A00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EE1E9-FEFA-47EE-965F-5F87F4C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93CE-4DC1-4D96-B682-FB1A3286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6EC8C-0B7F-40AE-B5E7-DCD0DC95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9E358-DF85-47E6-9197-C421D98E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41202-7651-4587-9331-6215BCCC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961E3-EC52-428C-A8F9-93A1BCD7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555F9-5F4B-4F24-BA63-7963FC10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101A5-BB62-4D9E-BE8D-64A0008D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6ABB7-92F0-4FD3-955A-0927B0E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E9407-D64D-4531-A9FC-92230F5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A7255-809C-4AFD-B341-60DAF00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B0160-DA16-4EE0-A930-C057A221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9646-4FBC-44D9-9397-5D4AFB36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3B240-4D0D-457E-9909-1347FA30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B6294-AD99-495D-A0FD-E8B7943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ED5AD-F321-477D-A8D3-824B8D76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3B6D5-C40C-4A48-899E-DEA10C07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DA5DD-250A-4204-999F-2034D519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1873D-EE48-44FD-9332-251FA9BB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10A93-7557-4C5D-9086-AD29383D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A3E77-A2C9-4560-B49A-5B08F30F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3A849-01F0-410C-A412-58746FA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C5A23-425B-4FEF-BAF3-136770D6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2A6C-EE22-4399-98EC-477A49E4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F19AF-85D4-4E4F-A962-6DECA54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C3D65-6B58-49A9-8586-0EE0D31D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AC000-10F5-4307-9C9A-7292149C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821D4-E907-43B6-AFC3-4606433D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081A7-3ACE-4943-AA8A-0C4025CC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8C20A-3E5E-4BC9-AAB7-AFFE7CD1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9A7C3-C114-4FFB-8FDD-EDC872CB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D95B-B193-4138-9823-E3904979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94DA-882E-43E3-B3A9-4C33016E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D2AB-530E-4703-9553-EE8EA819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6F24-A1F5-443F-A011-B73C5B7C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076-59C1-4A79-A978-F6BA1184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A1E4-A07E-4592-9F6A-B2A79747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C05D-21F5-45E5-8B7A-B7BF4BA7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C184-74AE-42D1-9477-239556CF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D189-90FB-4ADF-82BA-D9376836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FE5B-7C98-4FC6-8195-097ECCBA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CCFC-001F-4778-88F0-D6DBBFD9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6345-2CCB-4CA2-B3E8-647DFD3D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678A-55AD-423B-B1DC-B98F310D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53BF-5801-499A-9199-8B111F63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2C7C-9529-43E9-8C86-02E32552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47B-2845-4D02-A5A1-9EFA06B6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E43D-F98D-4E77-A9D2-482E0D29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E7497-982C-4532-9E1D-36CB5BC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B6A1-065D-4F06-AF0A-1335A64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4C28-704E-4048-9E6E-B952659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8E02-5EC0-46D0-9AE3-2990FA92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9853-9AFE-4369-9E37-6446C09E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CF81-0E0A-4C99-AA01-B579375C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C9B4-B56F-4E33-95D9-37BB8086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33F8-384B-49C9-A152-C8DB34B4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7947-8F83-4003-8CBC-5EC7278B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B97-C5F8-4688-9935-A683A16B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75111-B57D-41BD-A4D0-432FED9B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D0756-BDF2-482B-8D63-55452447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C6EB-E784-4BD3-9321-07834E84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40AA2-1B7D-4CC3-9AEC-A518E4CC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0AD4D-FA75-4630-9F6A-34F81BF9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B160-AC77-46EB-BDC5-5EB5D8CA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BAB3-044C-467A-A656-80F01FAD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1DD8-6C9D-4859-A2DC-05204CCB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22D3-EBE3-4EFA-B85B-ED3BDD95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94440-2484-46AE-A87B-22A0F25A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54D-F771-41D8-8813-D2C76C46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72055-FA75-48DC-A3E5-6C8A6D25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8093E-FFE3-446B-A89B-BC197B55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C04E0-3587-48CA-A65D-B54FA4DC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17BC6-F90E-441E-8348-3613D734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DD8D4-1987-41A3-81DD-9E973C3D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0B88E-B852-4C2F-B654-4CFF1753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8784-7206-4B96-B63D-1E0826C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EE7F5-DED8-4F3C-821F-BAB65F1E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0115C-7757-4A74-9161-EB0EA714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B65FF-7538-4514-B5A1-F3ACC07A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8C3-F919-42D8-BFFB-D7F4AC7F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0C911-97ED-40EB-BED0-8426069D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06B4-B993-4105-825F-2961DA68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64055-CF26-4ECC-95BD-2A69328D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09FD9-BC88-4C19-915D-FC73213B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735B7-698D-427D-B228-C0943D06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06F45-CA92-43A3-88B7-6189DCD9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BBC1-5877-473A-BB69-705C923D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DFC1D-007E-4788-9D35-BBFC2AC1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8F9DF-ACF2-4B88-924C-2B4F0AE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538AA-6BAB-4EF4-BAFF-02B37B45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357-1640-4A3D-B8ED-3C693C25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8AAE3-FCAB-4A22-8164-CFDEBADD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757B1-7E6B-4FC2-8899-7539DFAC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A9E29-1806-4E5F-9132-D657AA4A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F20B6-9F4A-4790-91F7-9D8687D2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9FB93-F233-4C9B-A199-6FD2FE6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1165D-FEB1-466D-9E43-88A12391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53487-3B78-44A4-AE56-A61172AA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4F798-EFE8-4E69-8FA3-A5C2939D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8CDE-6BB0-46FC-8E76-80238964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39A7C-1C72-4623-9C9D-D13FFAB2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477-5B70-4BD1-BA53-0E133605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6A265-04EC-4F99-9056-74F7A086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081AC-08E1-4429-AA4A-7BAAC20D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B527E-1091-4897-B08D-3843B95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122CA-B7A8-48B1-97C9-F321DEE2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599D-8B4D-44B3-B05A-141B1C52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90364-0E27-4611-9099-54DA5FC1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12035-7B29-4A0B-AC99-740992F1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94D88-854A-426E-A7DF-6488299F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00EE4-7AD7-44E1-B81F-D7EB53A0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F10A3-8FAD-43AF-A938-CF376D12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7EF-E885-4300-AF17-FC7C727C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E2E93-649F-4B01-ADD7-8667CAD1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66470-B037-4CC5-82A2-4C8F51E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FE4A-DBF1-430E-A4EF-FFC7B737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72000-97C7-4D40-A956-793083DB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FC565-B148-45A2-813F-37482442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9AD27-4FC7-40FB-84AE-925242C5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215CE-63EA-4177-A304-2E1117DA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51557-5F2D-4687-B77E-23354528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38A84-7B59-4C83-966A-5741BF84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7977E-177C-43AF-ABC4-24FB16E8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B60B-0C95-4CDD-A518-0C754FA0EE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9346-993E-4022-ADE5-4BE58C7DC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783C-E8CA-49CF-A4E3-4313D4F754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90EB-4B07-4E82-833C-CD4DB614F0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F8DB-1321-4F45-A54C-DD2758116D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E723-BB2E-42A6-97D5-55CB069F55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E3DC-8299-4E5C-86FE-FDE9D39B8C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F778-3BB7-4411-A135-8514137EA6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CA51-D786-4A84-9D12-4A4A54CF6D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F03F-918B-4B18-8E9C-6CB7EFAC67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1174-AA49-4141-BD83-98BFDFDE65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ACA-A277-470B-97E0-F0634FA779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B808-E427-4761-ACAD-1D9CA840BB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4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4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4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4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4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4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4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9900"/>
                </a:solidFill>
                <a:latin typeface="Arial"/>
              </a:rPr>
              <a:t>Die Feiertage Deutschlands</a:t>
            </a:r>
            <a:br>
              <a:rPr sz="7200"/>
            </a:br>
            <a:r>
              <a:rPr b="1" i="1" lang="en-US" sz="7200" spc="-1" strike="noStrike">
                <a:solidFill>
                  <a:srgbClr val="ff9900"/>
                </a:solidFill>
                <a:latin typeface="Arial"/>
              </a:rPr>
              <a:t> in Grusskart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75931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ccff33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3. Advent, Kerzen, Figuren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Weihnachtsstern, Blьten, Blдtter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tl00_ctl00_ContentPlaceHolder2_Bild" descr="weihnachten_fotos_0006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Kuchen, Kerzen, Gedicht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Glasherz, Rosenblätter, Kerze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Orchideen, Wiese, Gras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Elefant, Rose, Alles Gut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Happy Birthday, alles Gute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Geburtstag, 77 Jahre, Orchideen, Glückwunsch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Torte, Herzlichen Glückwunsch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Glückwunsch, Ros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Geburtstagskuchen, Lebensjahr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14. februar, Kalender, Datum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Sonnenuntergang, Meer, Gute Nacht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5" descr="Herzen, Rose, verliebt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Vorschau" descr="liebe20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5" descr="Herzen, Schmetterlinge, Valentinsta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Herzen, Schmetterlinge, Valentinstag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Wiese, Blume, Herz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Vorschau" descr="liebe1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5" descr="Haus, Schnee, Baum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Vorschau" descr="liebe09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5" descr="Wolken, Herz, Rosen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5" descr="Hasen, Osterei, Wies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Osterkorb, Ostergras, fдrben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Osterei, Schleife, Hase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5" descr="Hase +  Nest = Ostern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bunte Eier, Ostereiersuche, Bastelei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5" descr="Kaninchen, Hase, Wiese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Eier, Frohe Ostern, Osterhas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Tulpe, Kaninchen, Hase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5" descr="Osterhase, Ostereier, Wiese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Vorschau" descr="glueckwuensche-muttertag_michaela-yvonne_01_07_2007_10_51_31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Vorschau" descr="muttertag1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Vorschau" descr="muttertag15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muttertag_oberhausen2_kl"/>
          <p:cNvPicPr/>
          <p:nvPr/>
        </p:nvPicPr>
        <p:blipFill>
          <a:blip r:embed="rId1"/>
          <a:stretch/>
        </p:blipFill>
        <p:spPr>
          <a:xfrm>
            <a:off x="3022560" y="711360"/>
            <a:ext cx="3098880" cy="5283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Vorschau" descr="glueckwuensche-muttertag_laubfrosch_10_05_2008_03_39_59"/>
          <p:cNvPicPr/>
          <p:nvPr/>
        </p:nvPicPr>
        <p:blipFill>
          <a:blip r:embed="rId1"/>
          <a:stretch/>
        </p:blipFill>
        <p:spPr>
          <a:xfrm>
            <a:off x="1692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Vorschau" descr="muttertag0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Vorschau" descr="muttertag18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1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Erntedank - Gott sei Dank!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4" descr="Щедрый урожай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Teddy, Weihnachtsbaum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С Днём работников сельского хозяйства!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Vitamine, Obst, krank, gesund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Открытки урожай"/>
          <p:cNvPicPr/>
          <p:nvPr/>
        </p:nvPicPr>
        <p:blipFill>
          <a:blip r:embed="rId1"/>
          <a:stretch/>
        </p:blipFill>
        <p:spPr>
          <a:xfrm>
            <a:off x="1116000" y="620640"/>
            <a:ext cx="720108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erntedank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Wünsche, Alles Gute, Klatschmohn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55640" y="450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cc"/>
                </a:solidFill>
                <a:latin typeface="Georgia"/>
              </a:rPr>
              <a:t>DANKE F</a:t>
            </a:r>
            <a:r>
              <a:rPr b="0" i="1" lang="en-US" sz="5400" spc="-1" strike="noStrike">
                <a:solidFill>
                  <a:srgbClr val="3333cc"/>
                </a:solidFill>
                <a:latin typeface="Georgia"/>
                <a:ea typeface="Times New Roman"/>
              </a:rPr>
              <a:t>ÜR</a:t>
            </a:r>
            <a:br>
              <a:rPr sz="5400"/>
            </a:br>
            <a:r>
              <a:rPr b="0" i="1" lang="en-US" sz="5400" spc="-1" strike="noStrike">
                <a:solidFill>
                  <a:srgbClr val="3333cc"/>
                </a:solidFill>
                <a:latin typeface="Georgia"/>
                <a:ea typeface="Times New Roman"/>
              </a:rPr>
              <a:t> DIE AUFMERKSAMKEIT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Fee, Elfe, Lichtlein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Schцner 2. Advent, Kugeln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6-24T05:31:40Z</dcterms:modified>
  <cp:revision>84</cp:revision>
  <dc:subject/>
  <dc:title>PowerPoint Presentation</dc:title>
</cp:coreProperties>
</file>