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26.jpeg" ContentType="image/jpeg"/>
  <Override PartName="/ppt/media/image23.gif" ContentType="image/gif"/>
  <Override PartName="/ppt/media/image49.jpeg" ContentType="image/jpeg"/>
  <Override PartName="/ppt/media/image21.jpeg" ContentType="image/jpeg"/>
  <Override PartName="/ppt/media/image19.jpeg" ContentType="image/jpeg"/>
  <Override PartName="/ppt/media/image42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0.jpeg" ContentType="image/jpeg"/>
  <Override PartName="/ppt/media/image22.jpeg" ContentType="image/jpeg"/>
  <Override PartName="/ppt/media/image9.png" ContentType="image/png"/>
  <Override PartName="/ppt/media/image1.jpeg" ContentType="image/jpeg"/>
  <Override PartName="/ppt/media/image2.jpeg" ContentType="image/jpeg"/>
  <Override PartName="/ppt/media/image20.png" ContentType="image/pn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32.png" ContentType="image/png"/>
  <Override PartName="/ppt/media/image4.jpeg" ContentType="image/jpeg"/>
  <Override PartName="/ppt/media/image40.png" ContentType="image/png"/>
  <Override PartName="/ppt/media/image27.jpeg" ContentType="image/jpeg"/>
  <Override PartName="/ppt/media/image50.jpeg" ContentType="image/jpeg"/>
  <Override PartName="/ppt/media/image34.jpeg" ContentType="image/jpeg"/>
  <Override PartName="/ppt/media/image7.jpeg" ContentType="image/jpeg"/>
  <Override PartName="/ppt/media/image41.jpeg" ContentType="image/jpeg"/>
  <Override PartName="/ppt/media/image45.jpeg" ContentType="image/jpeg"/>
  <Override PartName="/ppt/media/image33.gif" ContentType="image/gif"/>
  <Override PartName="/ppt/media/image44.jpeg" ContentType="image/jpeg"/>
  <Override PartName="/ppt/media/image30.jpeg" ContentType="image/jpeg"/>
  <Override PartName="/ppt/media/image47.jpeg" ContentType="image/jpeg"/>
  <Override PartName="/ppt/media/image38.gif" ContentType="image/gif"/>
  <Override PartName="/ppt/media/image48.jpeg" ContentType="image/jpeg"/>
  <Override PartName="/ppt/media/image46.jpeg" ContentType="image/jpeg"/>
  <Override PartName="/ppt/media/image53.gif" ContentType="image/gif"/>
  <Override PartName="/ppt/media/image54.jpeg" ContentType="image/jpeg"/>
  <Override PartName="/ppt/media/image55.jpeg" ContentType="image/jpeg"/>
  <Override PartName="/ppt/media/image39.jpeg" ContentType="image/jpeg"/>
  <Override PartName="/ppt/media/image8.jpeg" ContentType="image/jpeg"/>
  <Override PartName="/ppt/media/image5.png" ContentType="image/png"/>
  <Override PartName="/ppt/media/image43.jpeg" ContentType="image/jpeg"/>
  <Override PartName="/ppt/media/image35.png" ContentType="image/png"/>
  <Override PartName="/ppt/media/image29.jpeg" ContentType="image/jpeg"/>
  <Override PartName="/ppt/media/image52.jpeg" ContentType="image/jpeg"/>
  <Override PartName="/ppt/media/image13.jpeg" ContentType="image/jpeg"/>
  <Override PartName="/ppt/media/image28.jpeg" ContentType="image/jpeg"/>
  <Override PartName="/ppt/media/image51.jpeg" ContentType="image/jpeg"/>
  <Override PartName="/ppt/media/image12.jpeg" ContentType="image/jpeg"/>
  <Override PartName="/ppt/media/image31.gif" ContentType="image/gif"/>
  <Override PartName="/ppt/media/image11.jpeg" ContentType="image/jpeg"/>
  <Override PartName="/ppt/media/image18.png" ContentType="image/png"/>
  <Override PartName="/ppt/media/image6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  <p:sldId id="289" r:id="rId48"/>
    <p:sldId id="290" r:id="rId49"/>
    <p:sldId id="291" r:id="rId50"/>
    <p:sldId id="292" r:id="rId51"/>
    <p:sldId id="293" r:id="rId52"/>
    <p:sldId id="294" r:id="rId53"/>
    <p:sldId id="295" r:id="rId54"/>
    <p:sldId id="296" r:id="rId55"/>
    <p:sldId id="297" r:id="rId56"/>
    <p:sldId id="298" r:id="rId57"/>
    <p:sldId id="299" r:id="rId58"/>
    <p:sldId id="300" r:id="rId59"/>
    <p:sldId id="301" r:id="rId60"/>
    <p:sldId id="302" r:id="rId61"/>
    <p:sldId id="303" r:id="rId62"/>
    <p:sldId id="304" r:id="rId63"/>
    <p:sldId id="305" r:id="rId64"/>
    <p:sldId id="306" r:id="rId65"/>
    <p:sldId id="307" r:id="rId66"/>
    <p:sldId id="308" r:id="rId67"/>
    <p:sldId id="309" r:id="rId68"/>
    <p:sldId id="310" r:id="rId6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slide" Target="slides/slide34.xml"/><Relationship Id="rId49" Type="http://schemas.openxmlformats.org/officeDocument/2006/relationships/slide" Target="slides/slide35.xml"/><Relationship Id="rId50" Type="http://schemas.openxmlformats.org/officeDocument/2006/relationships/slide" Target="slides/slide36.xml"/><Relationship Id="rId51" Type="http://schemas.openxmlformats.org/officeDocument/2006/relationships/slide" Target="slides/slide37.xml"/><Relationship Id="rId52" Type="http://schemas.openxmlformats.org/officeDocument/2006/relationships/slide" Target="slides/slide38.xml"/><Relationship Id="rId53" Type="http://schemas.openxmlformats.org/officeDocument/2006/relationships/slide" Target="slides/slide39.xml"/><Relationship Id="rId54" Type="http://schemas.openxmlformats.org/officeDocument/2006/relationships/slide" Target="slides/slide40.xml"/><Relationship Id="rId55" Type="http://schemas.openxmlformats.org/officeDocument/2006/relationships/slide" Target="slides/slide41.xml"/><Relationship Id="rId56" Type="http://schemas.openxmlformats.org/officeDocument/2006/relationships/slide" Target="slides/slide42.xml"/><Relationship Id="rId57" Type="http://schemas.openxmlformats.org/officeDocument/2006/relationships/slide" Target="slides/slide43.xml"/><Relationship Id="rId58" Type="http://schemas.openxmlformats.org/officeDocument/2006/relationships/slide" Target="slides/slide44.xml"/><Relationship Id="rId59" Type="http://schemas.openxmlformats.org/officeDocument/2006/relationships/slide" Target="slides/slide45.xml"/><Relationship Id="rId60" Type="http://schemas.openxmlformats.org/officeDocument/2006/relationships/slide" Target="slides/slide46.xml"/><Relationship Id="rId61" Type="http://schemas.openxmlformats.org/officeDocument/2006/relationships/slide" Target="slides/slide47.xml"/><Relationship Id="rId62" Type="http://schemas.openxmlformats.org/officeDocument/2006/relationships/slide" Target="slides/slide48.xml"/><Relationship Id="rId63" Type="http://schemas.openxmlformats.org/officeDocument/2006/relationships/slide" Target="slides/slide49.xml"/><Relationship Id="rId64" Type="http://schemas.openxmlformats.org/officeDocument/2006/relationships/slide" Target="slides/slide50.xml"/><Relationship Id="rId65" Type="http://schemas.openxmlformats.org/officeDocument/2006/relationships/slide" Target="slides/slide51.xml"/><Relationship Id="rId66" Type="http://schemas.openxmlformats.org/officeDocument/2006/relationships/slide" Target="slides/slide52.xml"/><Relationship Id="rId67" Type="http://schemas.openxmlformats.org/officeDocument/2006/relationships/slide" Target="slides/slide53.xml"/><Relationship Id="rId68" Type="http://schemas.openxmlformats.org/officeDocument/2006/relationships/slide" Target="slides/slide54.xml"/><Relationship Id="rId69" Type="http://schemas.openxmlformats.org/officeDocument/2006/relationships/slide" Target="slides/slide55.xml"/><Relationship Id="rId7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58174-7265-4986-85E2-F6E886D82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F51EB-B764-4067-ABE0-7D0AA4BFC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49C6E4-2F7E-4C10-85A7-FDE335AEC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1542CC-6645-40BD-A5D9-F0A1CA31F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ABDB8F-E9FD-41FE-99F3-205F421C7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6F7471-E302-4172-9FDE-2635A8BFC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70B0C6-848C-4E20-8608-26FF8BD53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99F57E-D34C-41EE-9DF4-3C5266B0E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780487-518A-4E33-A86C-A3D55F595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46B1BD-1938-47CA-85C8-94CA637E2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AF2B86-61FF-4E09-9036-83B3CF476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28D87D-7E24-459F-AB7B-B0F4D2B7B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5273A-4EB7-4DCB-9A90-CF0E559CE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4719BF-004B-4E2F-A3F5-BD54B3187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4169DE-A760-4633-A735-083458414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AF8629-D531-4E2F-92C7-A4A0B77FD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12FDFB-87E8-40B7-922A-E48C567D3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147D58-AF05-40F8-8957-81B20C586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73DEEB-25F9-4753-8DD1-54AFF46C7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A53B83-9A35-4635-BEFE-5868DE458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0074DF-5232-4422-BA0F-5B69F55AB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7BACBD-4172-42E8-80B1-1A47E85C6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C16C2E-4D93-4EEC-BC15-D6F7B32A6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30A29-2F5F-4C1A-89BD-1E0B91BBD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7A8304-0F91-47AE-BC8E-F785141BD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A54FCD-0C79-49E0-B7D1-35D48A2B5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084546-4D1C-47E1-AC94-C0CFA0BC1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5B5301-A69C-4ED2-BC42-209489030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1D0A55-48F8-4CB6-BBEC-E6EC54246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888094-EF34-4FB7-B541-AA74530F4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D4BCB8-7E52-435F-B870-59D2AD5F0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49C069-A7B7-4E53-9CF4-1C4EA9A9C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A8E3B2-8046-4B51-A294-22DDAAC61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B6D98C-867C-4D58-AAA9-19B0023AE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2E00A-1CE1-4BCF-B276-A891D7D4C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377228-0443-4724-8993-451198D3C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076569-7740-429E-B87E-563A69814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95BA7F-7B7B-41B0-89FB-5A34AE32E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2EEAC1-A2BE-48B5-8144-8DC2F0642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57A96A-D51A-4647-BD1C-F5A0829C8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E63D7E-F3A4-4A30-B2AC-8960CC5A4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2A893F-6D4C-49F9-A46F-00CE58329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03ED12-0E91-4555-9890-CED81602C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D1B6DA-BBBD-4EF3-A439-D25CAE33E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6953B1-89A0-4044-8109-3B1A0A446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02677-7997-4945-A0C1-3003730FA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B1E88F-0AEA-4017-8D90-896A00A08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7BF4CB-6FA9-4BAC-B94B-1E6B8B11E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14A453-8971-495A-96CF-B8DF130CF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8F6DFA-194B-4899-A3CE-E8E12AD10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4E6CEE-C9B7-47E6-895E-3EB14908F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5976474-07EA-4749-9020-A73E6FCC9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F7354B4-54EF-4E0F-8495-CD800333A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CD36B0F-FE3B-4A5C-83B0-6DED4ED4D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7A16759-5060-45D0-BADE-87914926C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0100C64-D9D1-47EF-A9FC-A1674275E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90FBB-B077-4474-9FE5-DB8D9B2D3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BCF4DA4-9A8B-4299-8E45-861B78856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31B9A2D-90E4-4FFE-A1FD-D0EFEB635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F601C46-2750-4F9E-82D9-02EDACACB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B827425-396A-4C04-A34E-20409E93F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245E88B-28C2-4EFB-9B44-36E0F40D3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4B477EC-DD6E-4CB7-A610-82EBA049B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BC65A75-3EDE-4EF9-AE0B-8D511509A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D3A45-F4D1-4DE4-83DF-73C871E04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3A244-2607-4689-B222-617D828DF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F0687-5AA2-4D02-866A-6B85A63A3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993D2-5481-430B-8A3A-89D81FA26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FC133-1445-4EAE-86D2-0B15C843C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C2FCE-7FBC-429C-B6C6-E61432F91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841BB-7967-4AD4-BDD3-B26A62180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B8CD7-A4ED-48E2-B502-193734567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3198A-6A98-4FD7-A1F3-32231E8CB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63557-7577-40ED-A4D4-FE23FDB73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820F2B-5C0B-4D16-8889-2EAD1E525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D8F592-F9AB-4FCF-802C-D37B20D3C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853F64-A66B-4FB2-945A-97C07E381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B454EA-734F-4AD9-AF9A-80E0AD07C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3A0095-BA2F-4B40-92FB-7A57F27BF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2BCBC-4DC7-4D22-93D6-4895B7D64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DD4AFA-A497-42CB-AC5B-30C2AA78F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9224FC-9709-4A87-8B20-E636A71C2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6D1974-768E-4A56-A59B-71B356894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5558AD-4BFD-4DE2-A280-5943335DE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1BAE14-58A5-4710-AC51-DBBC74C64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9C8DC0-E2A9-46AE-84CC-86A674764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831229-DDB2-4C3A-B2DC-D33F3A2C0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3E3FB1-1AAD-4AF9-B442-F59714D4B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A93DCF-3772-4499-955B-7B5F90C3A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07083A-AECA-4EC7-96CB-918D67DEF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1B075-0A0B-4DBA-9981-633D41F88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0278AF-26F5-4CFD-AE8E-2F81CDF50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80F9CC-FCFD-4B3A-A1B2-1070438F5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201A5D-19FB-432D-A9FB-E603770AB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EDA5EB-E3CC-4749-A50E-A2594AF49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99CA21-167F-4F39-94D3-12366E358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D002D9-2DC2-4D2F-92A1-581F7D110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3263BB-6708-421E-B2E7-85EB27B78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67F93C-B018-4EE0-AF44-DE2A049CB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246436-C24C-496E-B90C-EB7A3FF03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6E33FA-36EB-4C95-88C2-A58A7CB82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0CC4C-06C5-4636-8CDC-38FEEA76A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C3218D-F842-469C-B5BB-1CF2F0152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43D083-C003-466B-956B-60447D4AC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58F5CC-32D0-4181-8CE2-F46898D76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FF0430-FF3D-4BC2-B6FB-F87826573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6FB2F8-FD79-478B-887B-D818916AF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23F3D6-E0BC-4399-8DBE-227317CAB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B5F06E-8776-4762-A58E-B2E6BA582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E6131A-72D4-40B3-B520-0925692AD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A73EAD-A915-4C76-84C1-818E07AE5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F6FC13-05B8-4E91-A41C-0A532819F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51B48-62CB-454C-9CAB-FF41C0242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3A6063-D8E5-4472-9EFA-4BFDE2650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21E498-3B7B-40BD-B2BA-7139CCB33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1D58A0-FB6E-46F0-B514-634AED710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A16362-8F0D-46B5-9A08-400EB3241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ED40E7-6FD8-4E44-BCE2-195660357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FB00B7-A55E-488E-909C-599807092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F08F2D-38FB-42E8-B882-6883B6DFF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9CE24A-60FC-4213-9738-E5DA4E3A0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173A6A-4219-4525-BD99-53777721F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5F2807-ED4A-4E2D-9E67-8C90CDFF9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1D284-3EE2-4990-B47B-409F0B737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1FFD08-5159-4B82-AD02-837D66FBC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4654ED-953D-4C85-B65A-841515A3B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BBB7D5-27F5-460D-A3C0-2D1EE8A56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326EBC-DB83-4ACE-B3E1-D40018FD8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56018C-7653-4A79-8FDF-D6E8C1961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E6BAB9-02A6-4E35-A80A-147E885BD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7527ED-2018-40D8-A2C5-BF19E7770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82D4DC-BF5A-409B-8458-C5E635B70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BC5CC5-4F29-4066-9C30-8BB10E57D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6B095E-A7D6-4AAA-9E2E-0C2C91639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C228C-B4D4-407C-8A34-803F1E4CE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DA5E0F-1B85-4F86-AB25-A50B15A6E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75BB43-AA3E-4105-B7AB-8B24FE129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861E56-011E-40F1-BFAF-3D42A3B65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82593C-60EB-4980-8B51-E94C65042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67666C-2FF8-483F-B35E-640D597EE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C1F759-296A-44D2-A6C9-BF91E5897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DD9118-664C-4783-BD59-54A2C1DCC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7FB054-6CE1-4CC6-8905-A175E4287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0BB214-5300-4946-8F0A-5EF885E03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4012FD-1ACA-4A75-9A0E-96A25F516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950DE-3436-48E7-90F3-8F2278437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A6E9B2-ED7E-4A18-AFFD-F2756767D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7FB193-D711-436A-9351-E69DA99AD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183B0B-55EE-4BC4-9253-A4DED3ABE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C781D5-907D-4626-851B-BB4C67256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B3857B-E321-4535-AA36-BC2645AEC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2A6981-B1C6-447D-937A-A46C3E5E7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EB8CA3-F1A8-479C-B14C-A037466B2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94F294-CF2A-4619-BD3A-D813C1254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48F404-2FE2-4677-BDB1-55F4EF8BE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4DA5D7-74CF-4E15-B8EE-F955D8004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BB29F-4C39-4119-B84D-F4D493A35AB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298A7-6C00-4909-92B3-107C8EACBD2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41E82-94D6-4CB8-ABE2-4BA6716B2D7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87AFE-A30C-4B15-A8F5-58C215DF63F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3ECA6-04E3-44D6-85F6-0ED638A1B35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0CA31-F3D3-4608-8328-9E57A47013B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B8792-ECDB-4956-9E03-12656FE3E93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61101-9904-45F2-919F-4764622362A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B583C-1E64-4438-9889-8044249920E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96748-E263-468C-8D0F-6A629F374D9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DA811-1AB9-47F7-B2CE-DD16C4F1725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68DDF-850B-415C-ABC6-6BAA7F24128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7F434-E7E7-41EA-B917-9B00F63B209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4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4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4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4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4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4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4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4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4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8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4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4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4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slideLayout" Target="../slideLayouts/slideLayout14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4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4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4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4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4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4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4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gif"/><Relationship Id="rId2" Type="http://schemas.openxmlformats.org/officeDocument/2006/relationships/slideLayout" Target="../slideLayouts/slideLayout14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4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Layout" Target="../slideLayouts/slideLayout14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4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4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4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4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8.gif"/><Relationship Id="rId2" Type="http://schemas.openxmlformats.org/officeDocument/2006/relationships/slideLayout" Target="../slideLayouts/slideLayout14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4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4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4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4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4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4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4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4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4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4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4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4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4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53.gif"/><Relationship Id="rId2" Type="http://schemas.openxmlformats.org/officeDocument/2006/relationships/slideLayout" Target="../slideLayouts/slideLayout14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14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4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4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620280"/>
            <a:ext cx="7772400" cy="297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ff9900"/>
                </a:solidFill>
                <a:latin typeface="Arial"/>
              </a:rPr>
              <a:t>Die Feiertage Deutschlands</a:t>
            </a:r>
            <a:br>
              <a:rPr sz="7200"/>
            </a:br>
            <a:r>
              <a:rPr b="1" i="1" lang="en-US" sz="7200" spc="-1" strike="noStrike">
                <a:solidFill>
                  <a:srgbClr val="ff9900"/>
                </a:solidFill>
                <a:latin typeface="Arial"/>
              </a:rPr>
              <a:t> in Grusskarten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subTitle"/>
          </p:nvPr>
        </p:nvSpPr>
        <p:spPr>
          <a:xfrm>
            <a:off x="1371600" y="4508640"/>
            <a:ext cx="7593120" cy="23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3200" spc="-1" strike="noStrike">
              <a:solidFill>
                <a:srgbClr val="ccff33"/>
              </a:solidFill>
              <a:latin typeface="Verdana"/>
            </a:endParaRPr>
          </a:p>
        </p:txBody>
      </p:sp>
    </p:spTree>
  </p:cSld>
  <p:transition spd="med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9" name="Picture 2" descr="3. Advent, Kerzen, Figuren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4087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0" name="Picture 3" descr="Weihnachtsstern, Blьten, Blдtter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4087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1" name="ctl00_ctl00_ContentPlaceHolder2_Bild" descr="weihnachten_fotos_0006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64800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2" name="Picture 4" descr="Kuchen, Kerzen, Gedicht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3374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3" name="Picture 4" descr="Glasherz, Rosenblätter, Kerze"/>
          <p:cNvPicPr/>
          <p:nvPr/>
        </p:nvPicPr>
        <p:blipFill>
          <a:blip r:embed="rId1"/>
          <a:stretch/>
        </p:blipFill>
        <p:spPr>
          <a:xfrm>
            <a:off x="179280" y="189000"/>
            <a:ext cx="8964720" cy="64800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4" name="Picture 5" descr="Orchideen, Wiese, Gras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4087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5" name="Picture 4" descr="Elefant, Rose, Alles Gute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64087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Picture 4" descr="Happy Birthday, alles Gute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4087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4" descr="Geburtstag, 77 Jahre, Orchideen, Glückwunsch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64800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8" name="Picture 4" descr="Torte, Herzlichen Glückwunsch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64800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9" name="Picture 4" descr="Glückwunsch, Rose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64087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0" name="Picture 4" descr="Geburtstagskuchen, Lebensjahr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64800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1" name="Picture 5" descr="14. februar, Kalender, Datum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64800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Picture 5" descr="Sonnenuntergang, Meer, Gute Nacht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64800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3" name="Picture 5" descr="Herzen, Rose, verliebt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64800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4" name="pVorschau" descr="liebe20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19308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5" name="Picture 5" descr="Herzen, Schmetterlinge, Valentinstag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6480000"/>
          </a:xfrm>
          <a:prstGeom prst="rect">
            <a:avLst/>
          </a:prstGeom>
          <a:ln w="0">
            <a:noFill/>
          </a:ln>
        </p:spPr>
      </p:pic>
      <p:pic>
        <p:nvPicPr>
          <p:cNvPr id="556" name="Picture 5" descr="Herzen, Schmetterlinge, Valentinstag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64800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7" name="Picture 5" descr="Wiese, Blume, Herz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4087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8" name="pVorschau" descr="liebe14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64087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5" name="Picture 5" descr="Haus, Schnee, Baum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64087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9" name="pVorschau" descr="liebe09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3374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0" name="Picture 5" descr="Wolken, Herz, Rosen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3374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1" name="Picture 5" descr="Hasen, Osterei, Wiese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64087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2" name="Picture 5" descr="Osterkorb, Ostergras, fдrben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3374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3" name="Picture 5" descr="Osterei, Schleife, Hase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3374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4" name="Picture 5" descr="Hase +  Nest = Ostern"/>
          <p:cNvPicPr/>
          <p:nvPr/>
        </p:nvPicPr>
        <p:blipFill>
          <a:blip r:embed="rId1"/>
          <a:stretch/>
        </p:blipFill>
        <p:spPr>
          <a:xfrm>
            <a:off x="0" y="333360"/>
            <a:ext cx="9144000" cy="626436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5" name="Picture 5" descr="bunte Eier, Ostereiersuche, Bastelei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4087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6" name="Picture 5" descr="Kaninchen, Hase, Wiese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3374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7" name="Picture 5" descr="Eier, Frohe Ostern, Osterhase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64800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8" name="Picture 5" descr="Tulpe, Kaninchen, Hase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4087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>
    <p:dissolv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9" name="Picture 5" descr="Osterhase, Ostereier, Wiese"/>
          <p:cNvPicPr/>
          <p:nvPr/>
        </p:nvPicPr>
        <p:blipFill>
          <a:blip r:embed="rId1"/>
          <a:stretch/>
        </p:blipFill>
        <p:spPr>
          <a:xfrm>
            <a:off x="0" y="333360"/>
            <a:ext cx="9144000" cy="626436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0" name="pVorschau" descr="glueckwuensche-muttertag_michaela-yvonne_01_07_2007_10_51_31"/>
          <p:cNvPicPr/>
          <p:nvPr/>
        </p:nvPicPr>
        <p:blipFill>
          <a:blip r:embed="rId1"/>
          <a:stretch/>
        </p:blipFill>
        <p:spPr>
          <a:xfrm>
            <a:off x="250920" y="260280"/>
            <a:ext cx="8569080" cy="63374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1" name="pVorschau" descr="muttertag13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3374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2" name="pVorschau" descr="muttertag15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64800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3" name="Picture 4" descr="muttertag_oberhausen2_kl"/>
          <p:cNvPicPr/>
          <p:nvPr/>
        </p:nvPicPr>
        <p:blipFill>
          <a:blip r:embed="rId1"/>
          <a:stretch/>
        </p:blipFill>
        <p:spPr>
          <a:xfrm>
            <a:off x="3022560" y="711360"/>
            <a:ext cx="3098880" cy="52830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4" name="pVorschau" descr="glueckwuensche-muttertag_laubfrosch_10_05_2008_03_39_59"/>
          <p:cNvPicPr/>
          <p:nvPr/>
        </p:nvPicPr>
        <p:blipFill>
          <a:blip r:embed="rId1"/>
          <a:stretch/>
        </p:blipFill>
        <p:spPr>
          <a:xfrm>
            <a:off x="1692360" y="0"/>
            <a:ext cx="619272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5" name="pVorschau" descr="muttertag05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26436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6" name="pVorschau" descr="muttertag18"/>
          <p:cNvPicPr/>
          <p:nvPr/>
        </p:nvPicPr>
        <p:blipFill>
          <a:blip r:embed="rId1"/>
          <a:stretch/>
        </p:blipFill>
        <p:spPr>
          <a:xfrm>
            <a:off x="179280" y="189000"/>
            <a:ext cx="8785440" cy="64818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7" name="Picture 4" descr="Erntedank - Gott sei Dank!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26436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8" name="Picture 4" descr="Щедрый урожай"/>
          <p:cNvPicPr/>
          <p:nvPr/>
        </p:nvPicPr>
        <p:blipFill>
          <a:blip r:embed="rId1"/>
          <a:stretch/>
        </p:blipFill>
        <p:spPr>
          <a:xfrm>
            <a:off x="324000" y="260280"/>
            <a:ext cx="8496000" cy="619308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6" name="Picture 2" descr="Teddy, Weihnachtsbaum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4087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9" name="Picture 4" descr="С Днём работников сельского хозяйства!"/>
          <p:cNvPicPr/>
          <p:nvPr/>
        </p:nvPicPr>
        <p:blipFill>
          <a:blip r:embed="rId1"/>
          <a:stretch/>
        </p:blipFill>
        <p:spPr>
          <a:xfrm>
            <a:off x="0" y="333360"/>
            <a:ext cx="9144000" cy="626436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0" name="Picture 4" descr="Vitamine, Obst, krank, gesund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4087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1" name="Picture 4" descr="Открытки урожай"/>
          <p:cNvPicPr/>
          <p:nvPr/>
        </p:nvPicPr>
        <p:blipFill>
          <a:blip r:embed="rId1"/>
          <a:stretch/>
        </p:blipFill>
        <p:spPr>
          <a:xfrm>
            <a:off x="1116000" y="620640"/>
            <a:ext cx="7201080" cy="58327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2" name="Picture 4" descr="erntedank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26436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3" name="Picture 4" descr="Wünsche, Alles Gute, Klatschmohn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64800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755640" y="4508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3333cc"/>
                </a:solidFill>
                <a:latin typeface="Georgia"/>
              </a:rPr>
              <a:t>DANKE F</a:t>
            </a:r>
            <a:r>
              <a:rPr b="0" i="1" lang="en-US" sz="5400" spc="-1" strike="noStrike">
                <a:solidFill>
                  <a:srgbClr val="3333cc"/>
                </a:solidFill>
                <a:latin typeface="Georgia"/>
                <a:ea typeface="Times New Roman"/>
              </a:rPr>
              <a:t>ÜR</a:t>
            </a:r>
            <a:br>
              <a:rPr sz="5400"/>
            </a:br>
            <a:r>
              <a:rPr b="0" i="1" lang="en-US" sz="5400" spc="-1" strike="noStrike">
                <a:solidFill>
                  <a:srgbClr val="3333cc"/>
                </a:solidFill>
                <a:latin typeface="Georgia"/>
                <a:ea typeface="Times New Roman"/>
              </a:rPr>
              <a:t> DIE AUFMERKSAMKEIT!!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7" name="Picture 2" descr="Fee, Elfe, Lichtlein"/>
          <p:cNvPicPr/>
          <p:nvPr/>
        </p:nvPicPr>
        <p:blipFill>
          <a:blip r:embed="rId1"/>
          <a:stretch/>
        </p:blipFill>
        <p:spPr>
          <a:xfrm>
            <a:off x="0" y="333360"/>
            <a:ext cx="9144000" cy="63356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8" name="Picture 2" descr="Schцner 2. Advent, Kugeln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63356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ользователь</cp:lastModifiedBy>
  <dcterms:modified xsi:type="dcterms:W3CDTF">2024-06-24T05:31:40Z</dcterms:modified>
  <cp:revision>84</cp:revision>
  <dc:subject/>
  <dc:title>PowerPoint Presentation</dc:title>
</cp:coreProperties>
</file>