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19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3.jpeg" ContentType="image/jpeg"/>
  <Override PartName="/ppt/media/image1.jpeg" ContentType="image/jpeg"/>
  <Override PartName="/ppt/media/image4.gif" ContentType="image/gif"/>
  <Override PartName="/ppt/media/image5.gif" ContentType="image/gif"/>
  <Override PartName="/ppt/media/image13.png" ContentType="image/png"/>
  <Override PartName="/ppt/media/image10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5F1-347D-4E32-A35E-D55D549E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C889-C997-4F94-9767-A1ABA99A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229A-4E03-429B-A5DC-1A1D3F06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5F2B-1BD5-4D8B-8340-3AB2F5F8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E5F-B306-4FA6-9C34-2AD91D8D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392-64BF-46BF-B87B-6BC47D46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197-F317-44FE-B5A5-CCCFDB8F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BBD4-024D-44A3-9DD4-CB7ED697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7A1F-65D3-43A6-ACF9-8AB971B9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C69-88E4-418A-B5DA-43165555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A70-4C6B-43FB-BEF7-41062FE2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47E-C85C-4939-AC29-6D85022F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17D5-3778-4DFE-A469-EB33F928B0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rantto.narod.ru/photo11.gif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ootball_Formation_-_Pyramid.png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grantto.narod.ru/photo11.gif" TargetMode="External"/><Relationship Id="rId4" Type="http://schemas.openxmlformats.org/officeDocument/2006/relationships/image" Target="../media/image11.gif"/><Relationship Id="rId5" Type="http://schemas.openxmlformats.org/officeDocument/2006/relationships/hyperlink" Target="http://grantto.narod.ru/photo11.gif" TargetMode="External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ootball_formation_wm_russian.svg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grantto.narod.ru/photo11.gif" TargetMode="External"/><Relationship Id="rId4" Type="http://schemas.openxmlformats.org/officeDocument/2006/relationships/image" Target="../media/image11.gif"/><Relationship Id="rId5" Type="http://schemas.openxmlformats.org/officeDocument/2006/relationships/hyperlink" Target="http://grantto.narod.ru/photo11.gif" TargetMode="External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ootball_Formation_-_4-2-4.png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grantto.narod.ru/photo11.gif" TargetMode="External"/><Relationship Id="rId4" Type="http://schemas.openxmlformats.org/officeDocument/2006/relationships/image" Target="../media/image11.gif"/><Relationship Id="rId5" Type="http://schemas.openxmlformats.org/officeDocument/2006/relationships/hyperlink" Target="http://grantto.narod.ru/photo11.gif" TargetMode="External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lm1.meta.ua/pic/0/24/6/Cmg3x8kcQQ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rantto.narod.ru/photo06.gif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hotobucket.com/albums/ae354/Annabellerockz/FOOTBALL/joe-soccer-by-kirk-kennedy.gif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ifsgifsgifsgratuits.free.fr/images/gif-gratuit/gif-foot/gif-anime-foot-4-gratuit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01.chitalnya.ru/upload/722/463996438309550272.gif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obilewallpapers.narod.ru/sport/images/football_4.gif" TargetMode="Externa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all-blog.de/wp-content/pics/meezAnimatedBodyshot300x400.gif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3/22/578/22578719_1208019102_foto240x320ru_sport_screensavers_0073.gif" TargetMode="Externa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Calibri"/>
              </a:rPr>
              <a:t>Футбо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3640" y="3789360"/>
            <a:ext cx="3384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езентацию выполни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Шабулин Евгений Олегович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, учитель физической культуры МБОУ Лицей №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50" autoRev="1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" dur="250" autoRev="1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" dur="250" autoRev="1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Тактические постро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28960" y="1356840"/>
            <a:ext cx="5857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кольку футбол игра командная, на первое место выдвигается взаимопонимание игроков, умение вести грамотные совместные действия. Важное значение при этом имеет 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тактическое построение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гроко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амой распространенной тактической схемой в современном футболе является игра с четырьмя защитниками, четырьмя полузащитниками и двумя нападающими — 4-4-2. Схем существует великое множество , рассмотрим некоторые из ни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grantto.narod.ru/photo1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1811160"/>
            <a:ext cx="185760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Схема 2-3-5 («пирамида</a:t>
            </a: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upload.wikimedia.org/wikipedia/commons/thumb/7/78/Football_Formation_-_Pyramid.png/220px-Football_Formation_-_Pyramid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6040" y="1857240"/>
            <a:ext cx="3400560" cy="464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grantto.narod.ru/photo11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700280"/>
            <a:ext cx="1857240" cy="418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grantto.narod.ru/photo11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29560" y="1700280"/>
            <a:ext cx="18572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030a0"/>
                </a:solidFill>
                <a:latin typeface="Calibri"/>
              </a:rPr>
              <a:t>Схема с тремя защитниками — 3-2-5 («W-M», либо «дубль-вэ»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ttp://upload.wikimedia.org/wikipedia/commons/thumb/a/a7/Football_formation_wm_russian.svg/220px-Football_formation_wm_russian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43120" y="1952640"/>
            <a:ext cx="3357720" cy="4548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grantto.narod.ru/photo11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700280"/>
            <a:ext cx="1857240" cy="4189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grantto.narod.ru/photo11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43640" y="1951200"/>
            <a:ext cx="18572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Схема 4-2-4 («бразильская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upload.wikimedia.org/wikipedia/commons/thumb/b/b1/Football_Formation_-_4-2-4.png/150px-Football_Formation_-_4-2-4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1714680"/>
            <a:ext cx="3714840" cy="4714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grantto.narod.ru/photo11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700280"/>
            <a:ext cx="1857240" cy="4189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grantto.narod.ru/photo11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59640" y="1714680"/>
            <a:ext cx="18572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Безопас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ходя на футбольное поле , нельзя забывать о </a:t>
            </a:r>
            <a:r>
              <a:rPr b="0" i="1" lang="ru-RU" sz="3000" spc="-1" strike="noStrike">
                <a:solidFill>
                  <a:srgbClr val="7030a0"/>
                </a:solidFill>
                <a:latin typeface="Calibri"/>
              </a:rPr>
              <a:t>безопасност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Футболист должен использовать только ту экипировку, которая обеспечивает ему и остальным игрокам полную безопасность. А это , прежде всего, </a:t>
            </a:r>
            <a:r>
              <a:rPr b="0" i="1" lang="ru-RU" sz="3000" spc="-1" strike="noStrike">
                <a:solidFill>
                  <a:srgbClr val="7030a0"/>
                </a:solidFill>
                <a:latin typeface="Calibri"/>
              </a:rPr>
              <a:t>футболка ,шорты ,гетры , щитки и удобная обув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Картинка 4 из 36027"/>
          <p:cNvPicPr/>
          <p:nvPr/>
        </p:nvPicPr>
        <p:blipFill>
          <a:blip r:embed="rId1"/>
          <a:stretch/>
        </p:blipFill>
        <p:spPr>
          <a:xfrm>
            <a:off x="1928880" y="4071960"/>
            <a:ext cx="3786120" cy="2643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Картинка 4 из 261"/>
          <p:cNvPicPr/>
          <p:nvPr/>
        </p:nvPicPr>
        <p:blipFill>
          <a:blip r:embed="rId2"/>
          <a:stretch/>
        </p:blipFill>
        <p:spPr>
          <a:xfrm>
            <a:off x="5715000" y="3905280"/>
            <a:ext cx="21430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214800" y="714240"/>
            <a:ext cx="5472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Что такое футбол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нает сегодня каждый человек, ведь эта игра уже давно стала именоваться международно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ще многие лета назад женщину давались диву, почему мужчин настолько увлекает такая неинтересная и даже в какой-то степени глупая детская игра, в которой все гонятся за одним и тем же мячом, толкают друг друга локтями и подставляют подножк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Картинка 133 из 36027"/>
          <p:cNvPicPr/>
          <p:nvPr/>
        </p:nvPicPr>
        <p:blipFill>
          <a:blip r:embed="rId1"/>
          <a:stretch/>
        </p:blipFill>
        <p:spPr>
          <a:xfrm>
            <a:off x="357120" y="1785960"/>
            <a:ext cx="2857680" cy="32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6840" y="499680"/>
            <a:ext cx="6186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чему так много людей чтут эту игру, остальные же ненавидят ее или просто не понимают? Почему так происходит, вряд ли когда-то найдется ответ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Ясно одно, годы, сквозь которые идут рука об руку любители футбола и его фанаты, создавая клубы, подтверждают, что если футбол по сути своей игра и глупая, то он каким-то мистическим образом сумел сделать то, что не под силу и всякому умному человеку – сплотить миллионы людей и сделать их братьями и сестрами на время матч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роднить их и заставить радостно бросаться друг другу в объятья при каждом забитом голе или поддерживать друг друга, если мяч оказался в воротах любимой команд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Картинка 146 из 36223"/>
          <p:cNvPicPr/>
          <p:nvPr/>
        </p:nvPicPr>
        <p:blipFill>
          <a:blip r:embed="rId1"/>
          <a:stretch/>
        </p:blipFill>
        <p:spPr>
          <a:xfrm>
            <a:off x="6429240" y="1500120"/>
            <a:ext cx="250056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ru.wikipedi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eurodonetsk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brandpost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Картинка 173 из 36223"/>
          <p:cNvPicPr/>
          <p:nvPr/>
        </p:nvPicPr>
        <p:blipFill>
          <a:blip r:embed="rId1"/>
          <a:stretch/>
        </p:blipFill>
        <p:spPr>
          <a:xfrm>
            <a:off x="5786280" y="3214800"/>
            <a:ext cx="2467080" cy="3333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Картинка 170 из 36223"/>
          <p:cNvPicPr/>
          <p:nvPr/>
        </p:nvPicPr>
        <p:blipFill>
          <a:blip r:embed="rId2"/>
          <a:stretch/>
        </p:blipFill>
        <p:spPr>
          <a:xfrm>
            <a:off x="857160" y="3500280"/>
            <a:ext cx="4929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Что такое футбо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14840" y="1600200"/>
            <a:ext cx="49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Футбол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от англ. 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foot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— нога,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ball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— мяч) — командный вид спорта, в котором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целью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является забить мяч в ворота соперника ногами или другими частями тела (кроме рук) большее количество раз, чем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команда соперник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В настоящее время самый популярный и массовый вид спорта в мир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Картинка 11 из 36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57320"/>
            <a:ext cx="2923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История футб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99680" y="160020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гры, похожие на современный футбол, существовали довольно давно у разных народов, однако первые записанные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правил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датированы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1848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годом. Датой рождения футбола считается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1863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год, когда была организована первая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Ассоциация футбола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составлены правила, похожие на современны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Картинка 12 из 36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214720"/>
            <a:ext cx="31370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928960" y="785880"/>
            <a:ext cx="5757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тория футбола началась очень давно. Так, например, и в Египте, и в Германии, и в Китае были игры, похожие на футбол. Самая удачная из них называлась </a:t>
            </a:r>
            <a:r>
              <a:rPr b="0" i="1" lang="ru-RU" sz="3000" spc="-1" strike="noStrike">
                <a:solidFill>
                  <a:srgbClr val="7030a0"/>
                </a:solidFill>
                <a:latin typeface="Calibri"/>
              </a:rPr>
              <a:t>гарпасту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 придумали её итальянцы. Но когда </a:t>
            </a:r>
            <a:r>
              <a:rPr b="0" i="1" lang="ru-RU" sz="3000" spc="-1" strike="noStrike">
                <a:solidFill>
                  <a:srgbClr val="7030a0"/>
                </a:solidFill>
                <a:latin typeface="Calibri"/>
              </a:rPr>
              <a:t>футбол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придумали англичане, они сразу стали популяризировать его во всех странах, включая Россию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Картинка 2 из 36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1214280"/>
            <a:ext cx="2786040" cy="392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1428840"/>
            <a:ext cx="521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дельная футбольная игра называется матч, который в свою очередь состоит из двух таймов по 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45 минут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Пауза между первым и вторым таймами составляет 15 мину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футбол играют на поле с травяным или синтетическим покрытием. В игре участвуют две команды: в каждой от 7 до 11 человек. Один человек в команде (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вратар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ь) может играть руками в штрафной площади у своих ворот, его основной задачей является защита воро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gifsgifsgifsgratuits.free.fr/images/gif-gratuit/gif-foot/gif-anime-foot-4-gratui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15040" y="1500120"/>
            <a:ext cx="258624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071520" y="857160"/>
            <a:ext cx="56149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стальные игроки также имеют свои задачи и позиции на поле. 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Защитник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располагаются в основном на своей половине поля, их задача — противодействовать нападающим игрокам противоположной команд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Полузащитник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действуют в середине поля, их роль — помогать защитникам или нападающим в зависимости от игровой ситу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Нападающие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располагаются, преимущественно на половине поля соперника, основная задача — забивать 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голы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Картинка 7 из 362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1214280"/>
            <a:ext cx="2714760" cy="408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85480" y="713880"/>
            <a:ext cx="60008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Цель игры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— забить мяч в ворота противника, сделать это как можно большее количество раз и постараться не допустить гола в свои ворота. Матч выигрывает команда, забившая большее количество гол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случае, если в течение двух таймов команды забили одинаковое количество голов, то или фиксируется ничья, или победитель выявляется согласно установленному регламенту матча. В этом случае может быть назначено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дополнительное врем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— ещё два тайма по 15 минут кажды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Картинка 8 из 362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00880" y="178596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499920" y="713880"/>
            <a:ext cx="5186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равило, между основным и дополнительным временем матча командам предоставляется перерыв. Между дополнительными таймами командам даётся лишь время на смену стор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Картинка 26 из 362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357200"/>
            <a:ext cx="3214440" cy="43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928440"/>
            <a:ext cx="51148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 течение дополнительного времени победителя выявить не удаётся, проводится серия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послематчевых пенальт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не являющихся частью матча : по воротам противника с расстояния 11 метров пробивается по пять ударов разными игрок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количество забитых пенальти у обеих команд будет равным, тогда пробиваются по одной паре пенальти, пока не будет выявлен победител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Картинка 87 из 360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86280" y="1428840"/>
            <a:ext cx="3000600" cy="407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10:41:33Z</dcterms:created>
  <dc:creator>Горшков Андрей Александрович</dc:creator>
  <dc:description/>
  <dc:language>en-US</dc:language>
  <cp:lastModifiedBy>ученик</cp:lastModifiedBy>
  <dcterms:modified xsi:type="dcterms:W3CDTF">2024-06-24T05:55:42Z</dcterms:modified>
  <cp:revision>22</cp:revision>
  <dc:subject/>
  <dc:title>Футбол</dc:title>
</cp:coreProperties>
</file>