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gif" ContentType="image/gif"/>
  <Override PartName="/ppt/media/image8.gif" ContentType="image/gif"/>
  <Override PartName="/ppt/media/image7.gif" ContentType="image/gif"/>
  <Override PartName="/ppt/media/image11.gif" ContentType="image/gif"/>
  <Override PartName="/ppt/media/image14.png" ContentType="image/png"/>
  <Override PartName="/ppt/media/image19.gif" ContentType="image/gif"/>
  <Override PartName="/ppt/media/image18.gif" ContentType="image/gif"/>
  <Override PartName="/ppt/media/image17.gif" ContentType="image/gif"/>
  <Override PartName="/ppt/media/image2.jpeg" ContentType="image/jpeg"/>
  <Override PartName="/ppt/media/image16.gif" ContentType="image/gif"/>
  <Override PartName="/ppt/media/image15.gif" ContentType="image/gif"/>
  <Override PartName="/ppt/media/image3.jpeg" ContentType="image/jpeg"/>
  <Override PartName="/ppt/media/image1.jpeg" ContentType="image/jpeg"/>
  <Override PartName="/ppt/media/image4.gif" ContentType="image/gif"/>
  <Override PartName="/ppt/media/image5.gif" ContentType="image/gif"/>
  <Override PartName="/ppt/media/image13.png" ContentType="image/png"/>
  <Override PartName="/ppt/media/image10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420D-49A6-4E1B-880D-065F7A84B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1E87-CA38-4E15-ADEE-FA3B403A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F4E9-86A1-49DC-9F63-6F8C10E11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429C-D941-4FD3-BF3E-F3E3AD455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5165-39DF-4583-AF5F-557C2F9E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77FC-7BFE-4B09-A9BA-60BFF189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C681-AE8B-4B7F-8A8B-8F9D56D7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FB6A-F797-49BA-8742-19C0C14E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7F90-5B08-4E1A-B61C-13A04C10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FAA2-3685-426E-B5D1-5E51D439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7CD4-0177-4370-9567-15094C34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D725-2329-496A-AB9B-8A796270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1345-93E8-4BBF-9D3F-EAAB3C77BD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grantto.narod.ru/photo11.gif" TargetMode="Externa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Football_Formation_-_Pyramid.png" TargetMode="External"/><Relationship Id="rId2" Type="http://schemas.openxmlformats.org/officeDocument/2006/relationships/image" Target="../media/image12.png"/><Relationship Id="rId3" Type="http://schemas.openxmlformats.org/officeDocument/2006/relationships/hyperlink" Target="http://grantto.narod.ru/photo11.gif" TargetMode="External"/><Relationship Id="rId4" Type="http://schemas.openxmlformats.org/officeDocument/2006/relationships/image" Target="../media/image11.gif"/><Relationship Id="rId5" Type="http://schemas.openxmlformats.org/officeDocument/2006/relationships/hyperlink" Target="http://grantto.narod.ru/photo11.gif" TargetMode="External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Football_formation_wm_russian.svg" TargetMode="External"/><Relationship Id="rId2" Type="http://schemas.openxmlformats.org/officeDocument/2006/relationships/image" Target="../media/image13.png"/><Relationship Id="rId3" Type="http://schemas.openxmlformats.org/officeDocument/2006/relationships/hyperlink" Target="http://grantto.narod.ru/photo11.gif" TargetMode="External"/><Relationship Id="rId4" Type="http://schemas.openxmlformats.org/officeDocument/2006/relationships/image" Target="../media/image11.gif"/><Relationship Id="rId5" Type="http://schemas.openxmlformats.org/officeDocument/2006/relationships/hyperlink" Target="http://grantto.narod.ru/photo11.gif" TargetMode="External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Football_Formation_-_4-2-4.png" TargetMode="External"/><Relationship Id="rId2" Type="http://schemas.openxmlformats.org/officeDocument/2006/relationships/image" Target="../media/image14.png"/><Relationship Id="rId3" Type="http://schemas.openxmlformats.org/officeDocument/2006/relationships/hyperlink" Target="http://grantto.narod.ru/photo11.gif" TargetMode="External"/><Relationship Id="rId4" Type="http://schemas.openxmlformats.org/officeDocument/2006/relationships/image" Target="../media/image11.gif"/><Relationship Id="rId5" Type="http://schemas.openxmlformats.org/officeDocument/2006/relationships/hyperlink" Target="http://grantto.narod.ru/photo11.gif" TargetMode="External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dlm1.meta.ua/pic/0/24/6/Cmg3x8kcQQ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grantto.narod.ru/photo06.gif" TargetMode="Externa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hotobucket.com/albums/ae354/Annabellerockz/FOOTBALL/joe-soccer-by-kirk-kennedy.gif" TargetMode="Externa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ifsgifsgifsgratuits.free.fr/images/gif-gratuit/gif-foot/gif-anime-foot-4-gratuit.gif" TargetMode="Externa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g01.chitalnya.ru/upload/722/463996438309550272.gif" TargetMode="Externa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mobilewallpapers.narod.ru/sport/images/football_4.gif" TargetMode="External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all-blog.de/wp-content/pics/meezAnimatedBodyshot300x400.gif" TargetMode="Externa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b/3/22/578/22578719_1208019102_foto240x320ru_sport_screensavers_0073.gif" TargetMode="External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4260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Calibri"/>
              </a:rPr>
              <a:t>Футбол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03640" y="3789360"/>
            <a:ext cx="338472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резентацию выполнил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:Шабулин Евгений Олегович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, учитель физической культуры МБОУ Лицей №2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250" autoRev="1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" dur="250" autoRev="1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" dur="250" autoRev="1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7030a0"/>
                </a:solidFill>
                <a:latin typeface="Calibri"/>
              </a:rPr>
              <a:t>Тактические постро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928960" y="1356840"/>
            <a:ext cx="58579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скольку футбол игра командная, на первое место выдвигается взаимопонимание игроков, умение вести грамотные совместные действия. Важное значение при этом имеет </a:t>
            </a:r>
            <a:r>
              <a:rPr b="0" i="1" lang="ru-RU" sz="2500" spc="-1" strike="noStrike">
                <a:solidFill>
                  <a:srgbClr val="7030a0"/>
                </a:solidFill>
                <a:latin typeface="Calibri"/>
              </a:rPr>
              <a:t>тактическое построение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игроков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амой распространенной тактической схемой в современном футболе является игра с четырьмя защитниками, четырьмя полузащитниками и двумя нападающими — 4-4-2. Схем существует великое множество , рассмотрим некоторые из них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grantto.narod.ru/photo11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57160" y="1811160"/>
            <a:ext cx="1857600" cy="41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7030a0"/>
                </a:solidFill>
                <a:latin typeface="Calibri"/>
              </a:rPr>
              <a:t>Схема 2-3-5 («пирамида</a:t>
            </a:r>
            <a:r>
              <a:rPr b="1" i="1" lang="ru-RU" sz="4400" spc="-1" strike="noStrike">
                <a:solidFill>
                  <a:srgbClr val="7030a0"/>
                </a:solidFill>
                <a:latin typeface="Calibri"/>
              </a:rPr>
              <a:t>»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://upload.wikimedia.org/wikipedia/commons/thumb/7/78/Football_Formation_-_Pyramid.png/220px-Football_Formation_-_Pyramid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86040" y="1857240"/>
            <a:ext cx="3400560" cy="4643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http://grantto.narod.ru/photo11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1700280"/>
            <a:ext cx="1857240" cy="4189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grantto.narod.ru/photo11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29560" y="1700280"/>
            <a:ext cx="185724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7030a0"/>
                </a:solidFill>
                <a:latin typeface="Calibri"/>
              </a:rPr>
              <a:t>Схема с тремя защитниками — 3-2-5 («W-M», либо «дубль-вэ»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http://upload.wikimedia.org/wikipedia/commons/thumb/a/a7/Football_formation_wm_russian.svg/220px-Football_formation_wm_russian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43120" y="1952640"/>
            <a:ext cx="3357720" cy="4548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http://grantto.narod.ru/photo11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1700280"/>
            <a:ext cx="1857240" cy="4189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ttp://grantto.narod.ru/photo11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43640" y="1951200"/>
            <a:ext cx="185724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7030a0"/>
                </a:solidFill>
                <a:latin typeface="Calibri"/>
              </a:rPr>
              <a:t>Схема 4-2-4 («бразильская»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://upload.wikimedia.org/wikipedia/commons/thumb/b/b1/Football_Formation_-_4-2-4.png/150px-Football_Formation_-_4-2-4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0200" y="1714680"/>
            <a:ext cx="3714840" cy="4714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http://grantto.narod.ru/photo11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1700280"/>
            <a:ext cx="1857240" cy="4189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http://grantto.narod.ru/photo11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659640" y="1714680"/>
            <a:ext cx="185724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7030a0"/>
                </a:solidFill>
                <a:latin typeface="Calibri"/>
              </a:rPr>
              <a:t>Безопас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ыходя на футбольное поле , нельзя забывать о </a:t>
            </a:r>
            <a:r>
              <a:rPr b="0" i="1" lang="ru-RU" sz="3000" spc="-1" strike="noStrike">
                <a:solidFill>
                  <a:srgbClr val="7030a0"/>
                </a:solidFill>
                <a:latin typeface="Calibri"/>
              </a:rPr>
              <a:t>безопасности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 Футболист должен использовать только ту экипировку, которая обеспечивает ему и остальным игрокам полную безопасность. А это , прежде всего, </a:t>
            </a:r>
            <a:r>
              <a:rPr b="0" i="1" lang="ru-RU" sz="3000" spc="-1" strike="noStrike">
                <a:solidFill>
                  <a:srgbClr val="7030a0"/>
                </a:solidFill>
                <a:latin typeface="Calibri"/>
              </a:rPr>
              <a:t>футболка ,шорты ,гетры , щитки и удобная обувь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Картинка 4 из 36027"/>
          <p:cNvPicPr/>
          <p:nvPr/>
        </p:nvPicPr>
        <p:blipFill>
          <a:blip r:embed="rId1"/>
          <a:stretch/>
        </p:blipFill>
        <p:spPr>
          <a:xfrm>
            <a:off x="1928880" y="4071960"/>
            <a:ext cx="3786120" cy="2643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Картинка 4 из 261"/>
          <p:cNvPicPr/>
          <p:nvPr/>
        </p:nvPicPr>
        <p:blipFill>
          <a:blip r:embed="rId2"/>
          <a:stretch/>
        </p:blipFill>
        <p:spPr>
          <a:xfrm>
            <a:off x="5715000" y="3905280"/>
            <a:ext cx="214308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214800" y="714240"/>
            <a:ext cx="5472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7030a0"/>
                </a:solidFill>
                <a:latin typeface="Calibri"/>
              </a:rPr>
              <a:t>Что такое футбол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нает сегодня каждый человек, ведь эта игра уже давно стала именоваться международной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ще многие лета назад женщину давались диву, почему мужчин настолько увлекает такая неинтересная и даже в какой-то степени глупая детская игра, в которой все гонятся за одним и тем же мячом, толкают друг друга локтями и подставляют подножк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Картинка 133 из 36027"/>
          <p:cNvPicPr/>
          <p:nvPr/>
        </p:nvPicPr>
        <p:blipFill>
          <a:blip r:embed="rId1"/>
          <a:stretch/>
        </p:blipFill>
        <p:spPr>
          <a:xfrm>
            <a:off x="357120" y="1785960"/>
            <a:ext cx="2857680" cy="32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6840" y="499680"/>
            <a:ext cx="6186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чему так много людей чтут эту игру, остальные же ненавидят ее или просто не понимают? Почему так происходит, вряд ли когда-то найдется ответ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Ясно одно, годы, сквозь которые идут рука об руку любители футбола и его фанаты, создавая клубы, подтверждают, что если футбол по сути своей игра и глупая, то он каким-то мистическим образом сумел сделать то, что не под силу и всякому умному человеку – сплотить миллионы людей и сделать их братьями и сестрами на время матч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роднить их и заставить радостно бросаться друг другу в объятья при каждом забитом голе или поддерживать друг друга, если мяч оказался в воротах любимой команд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Картинка 146 из 36223"/>
          <p:cNvPicPr/>
          <p:nvPr/>
        </p:nvPicPr>
        <p:blipFill>
          <a:blip r:embed="rId1"/>
          <a:stretch/>
        </p:blipFill>
        <p:spPr>
          <a:xfrm>
            <a:off x="6429240" y="1500120"/>
            <a:ext cx="250056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7030a0"/>
                </a:solidFill>
                <a:latin typeface="Calibri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ru.wikipedia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eurodonetsk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brandpost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Картинка 173 из 36223"/>
          <p:cNvPicPr/>
          <p:nvPr/>
        </p:nvPicPr>
        <p:blipFill>
          <a:blip r:embed="rId1"/>
          <a:stretch/>
        </p:blipFill>
        <p:spPr>
          <a:xfrm>
            <a:off x="5786280" y="3214800"/>
            <a:ext cx="2467080" cy="3333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Картинка 170 из 36223"/>
          <p:cNvPicPr/>
          <p:nvPr/>
        </p:nvPicPr>
        <p:blipFill>
          <a:blip r:embed="rId2"/>
          <a:stretch/>
        </p:blipFill>
        <p:spPr>
          <a:xfrm>
            <a:off x="857160" y="3500280"/>
            <a:ext cx="4929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7030a0"/>
                </a:solidFill>
                <a:latin typeface="Calibri"/>
              </a:rPr>
              <a:t>Что такое футбол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714840" y="1600200"/>
            <a:ext cx="4929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Футбол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(от англ. 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foot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— нога,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ball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— мяч) — командный вид спорта, в котором </a:t>
            </a:r>
            <a:r>
              <a:rPr b="0" i="1" lang="ru-RU" sz="2700" spc="-1" strike="noStrike">
                <a:solidFill>
                  <a:srgbClr val="7030a0"/>
                </a:solidFill>
                <a:latin typeface="Calibri"/>
              </a:rPr>
              <a:t>целью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является забить мяч в ворота соперника ногами или другими частями тела (кроме рук) большее количество раз, чем </a:t>
            </a:r>
            <a:r>
              <a:rPr b="0" i="1" lang="ru-RU" sz="2700" spc="-1" strike="noStrike">
                <a:solidFill>
                  <a:srgbClr val="7030a0"/>
                </a:solidFill>
                <a:latin typeface="Calibri"/>
              </a:rPr>
              <a:t>команда соперник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. В настоящее время самый популярный и массовый вид спорта в мир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Картинка 11 из 360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957320"/>
            <a:ext cx="29239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7030a0"/>
                </a:solidFill>
                <a:latin typeface="Calibri"/>
              </a:rPr>
              <a:t>История футбо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99680" y="1600200"/>
            <a:ext cx="47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гры, похожие на современный футбол, существовали довольно давно у разных народов, однако первые записанные </a:t>
            </a:r>
            <a:r>
              <a:rPr b="0" i="1" lang="ru-RU" sz="2700" spc="-1" strike="noStrike">
                <a:solidFill>
                  <a:srgbClr val="7030a0"/>
                </a:solidFill>
                <a:latin typeface="Calibri"/>
              </a:rPr>
              <a:t>правил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датированы </a:t>
            </a:r>
            <a:r>
              <a:rPr b="0" i="1" lang="ru-RU" sz="2700" spc="-1" strike="noStrike">
                <a:solidFill>
                  <a:srgbClr val="7030a0"/>
                </a:solidFill>
                <a:latin typeface="Calibri"/>
              </a:rPr>
              <a:t>1848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годом. Датой рождения футбола считается </a:t>
            </a:r>
            <a:r>
              <a:rPr b="0" i="1" lang="ru-RU" sz="2700" spc="-1" strike="noStrike">
                <a:solidFill>
                  <a:srgbClr val="7030a0"/>
                </a:solidFill>
                <a:latin typeface="Calibri"/>
              </a:rPr>
              <a:t>1863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год, когда была организована первая </a:t>
            </a:r>
            <a:r>
              <a:rPr b="0" i="1" lang="ru-RU" sz="2700" spc="-1" strike="noStrike">
                <a:solidFill>
                  <a:srgbClr val="7030a0"/>
                </a:solidFill>
                <a:latin typeface="Calibri"/>
              </a:rPr>
              <a:t>Ассоциация футбола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составлены правила, похожие на современные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Картинка 12 из 360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2214720"/>
            <a:ext cx="31370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928960" y="785880"/>
            <a:ext cx="57578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стория футбола началась очень давно. Так, например, и в Египте, и в Германии, и в Китае были игры, похожие на футбол. Самая удачная из них называлась </a:t>
            </a:r>
            <a:r>
              <a:rPr b="0" i="1" lang="ru-RU" sz="3000" spc="-1" strike="noStrike">
                <a:solidFill>
                  <a:srgbClr val="7030a0"/>
                </a:solidFill>
                <a:latin typeface="Calibri"/>
              </a:rPr>
              <a:t>гарпастум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и придумали её итальянцы. Но когда </a:t>
            </a:r>
            <a:r>
              <a:rPr b="0" i="1" lang="ru-RU" sz="3000" spc="-1" strike="noStrike">
                <a:solidFill>
                  <a:srgbClr val="7030a0"/>
                </a:solidFill>
                <a:latin typeface="Calibri"/>
              </a:rPr>
              <a:t>футбол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придумали англичане, они сразу стали популяризировать его во всех странах, включая Россию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Картинка 2 из 360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120" y="1214280"/>
            <a:ext cx="2786040" cy="3929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7030a0"/>
                </a:solidFill>
                <a:latin typeface="Calibri"/>
              </a:rPr>
              <a:t>Правила иг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28760" y="1428840"/>
            <a:ext cx="52149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тдельная футбольная игра называется матч, который в свою очередь состоит из двух таймов по </a:t>
            </a:r>
            <a:r>
              <a:rPr b="0" i="1" lang="ru-RU" sz="2500" spc="-1" strike="noStrike">
                <a:solidFill>
                  <a:srgbClr val="7030a0"/>
                </a:solidFill>
                <a:latin typeface="Calibri"/>
              </a:rPr>
              <a:t>45 минут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 Пауза между первым и вторым таймами составляет 15 минут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футбол играют на поле с травяным или синтетическим покрытием. В игре участвуют две команды: в каждой от 7 до 11 человек. Один человек в команде (</a:t>
            </a:r>
            <a:r>
              <a:rPr b="0" i="1" lang="ru-RU" sz="2500" spc="-1" strike="noStrike">
                <a:solidFill>
                  <a:srgbClr val="7030a0"/>
                </a:solidFill>
                <a:latin typeface="Calibri"/>
              </a:rPr>
              <a:t>вратар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ь) может играть руками в штрафной площади у своих ворот, его основной задачей является защита ворот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gifsgifsgifsgratuits.free.fr/images/gif-gratuit/gif-foot/gif-anime-foot-4-gratuit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15040" y="1500120"/>
            <a:ext cx="2586240" cy="4214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071520" y="857160"/>
            <a:ext cx="561492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стальные игроки также имеют свои задачи и позиции на поле. </a:t>
            </a:r>
            <a:r>
              <a:rPr b="0" i="1" lang="ru-RU" sz="2500" spc="-1" strike="noStrike">
                <a:solidFill>
                  <a:srgbClr val="7030a0"/>
                </a:solidFill>
                <a:latin typeface="Calibri"/>
              </a:rPr>
              <a:t>Защитники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располагаются в основном на своей половине поля, их задача — противодействовать нападающим игрокам противоположной команд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500" spc="-1" strike="noStrike">
                <a:solidFill>
                  <a:srgbClr val="7030a0"/>
                </a:solidFill>
                <a:latin typeface="Calibri"/>
              </a:rPr>
              <a:t>Полузащитники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действуют в середине поля, их роль — помогать защитникам или нападающим в зависимости от игровой ситуаци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500" spc="-1" strike="noStrike">
                <a:solidFill>
                  <a:srgbClr val="7030a0"/>
                </a:solidFill>
                <a:latin typeface="Calibri"/>
              </a:rPr>
              <a:t>Нападающие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располагаются, преимущественно на половине поля соперника, основная задача — забивать </a:t>
            </a:r>
            <a:r>
              <a:rPr b="0" i="1" lang="ru-RU" sz="2500" spc="-1" strike="noStrike">
                <a:solidFill>
                  <a:srgbClr val="7030a0"/>
                </a:solidFill>
                <a:latin typeface="Calibri"/>
              </a:rPr>
              <a:t>голы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Картинка 7 из 362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120" y="1214280"/>
            <a:ext cx="2714760" cy="408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85480" y="713880"/>
            <a:ext cx="60008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7030a0"/>
                </a:solidFill>
                <a:latin typeface="Calibri"/>
              </a:rPr>
              <a:t>Цель игры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— забить мяч в ворота противника, сделать это как можно большее количество раз и постараться не допустить гола в свои ворота. Матч выигрывает команда, забившая большее количество голо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случае, если в течение двух таймов команды забили одинаковое количество голов, то или фиксируется ничья, или победитель выявляется согласно установленному регламенту матча. В этом случае может быть назначено </a:t>
            </a:r>
            <a:r>
              <a:rPr b="0" i="1" lang="ru-RU" sz="2700" spc="-1" strike="noStrike">
                <a:solidFill>
                  <a:srgbClr val="7030a0"/>
                </a:solidFill>
                <a:latin typeface="Calibri"/>
              </a:rPr>
              <a:t>дополнительное время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— ещё два тайма по 15 минут кажды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Картинка 8 из 362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00880" y="178596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499920" y="713880"/>
            <a:ext cx="518652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правило, между основным и дополнительным временем матча командам предоставляется перерыв. Между дополнительными таймами командам даётся лишь время на смену сторо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Картинка 26 из 362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760" y="1357200"/>
            <a:ext cx="3214440" cy="4357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928440"/>
            <a:ext cx="511488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сли в течение дополнительного времени победителя выявить не удаётся, проводится серия </a:t>
            </a:r>
            <a:r>
              <a:rPr b="0" i="1" lang="ru-RU" sz="2700" spc="-1" strike="noStrike">
                <a:solidFill>
                  <a:srgbClr val="7030a0"/>
                </a:solidFill>
                <a:latin typeface="Calibri"/>
              </a:rPr>
              <a:t>послематчевых пенальти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не являющихся частью матча : по воротам противника с расстояния 11 метров пробивается по пять ударов разными игрокам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сли количество забитых пенальти у обеих команд будет равным, тогда пробиваются по одной паре пенальти, пока не будет выявлен победитель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Картинка 87 из 3602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86280" y="1428840"/>
            <a:ext cx="3000600" cy="4071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2T10:41:33Z</dcterms:created>
  <dc:creator>Горшков Андрей Александрович</dc:creator>
  <dc:description/>
  <dc:language>en-US</dc:language>
  <cp:lastModifiedBy>ученик</cp:lastModifiedBy>
  <dcterms:modified xsi:type="dcterms:W3CDTF">2024-06-24T05:55:42Z</dcterms:modified>
  <cp:revision>22</cp:revision>
  <dc:subject/>
  <dc:title>Футбол</dc:title>
</cp:coreProperties>
</file>