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9.png" ContentType="image/png"/>
  <Override PartName="/ppt/media/image14.jpeg" ContentType="image/jpeg"/>
  <Override PartName="/ppt/media/image5.gif" ContentType="image/gif"/>
  <Override PartName="/ppt/media/image8.png" ContentType="image/png"/>
  <Override PartName="/ppt/media/image11.jpeg" ContentType="image/jpeg"/>
  <Override PartName="/ppt/media/image10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E4E1-D050-4D00-9FBD-7639359C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903B-9C55-4BA4-BD60-18BF6B92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D8AB-8DDF-4134-AD34-730DB636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444-5052-421E-A0E7-E09F8991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6E17-6C27-47FC-A5FC-ED98292F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7916-D3B8-4690-B35E-4DB4FE1E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2984-C5F7-4382-A576-B61F8403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9899-32B7-4F40-9EB6-68110104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5E14-C9DD-4270-B4F2-FCDB0E1F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958-03BB-42CD-9F18-839EB161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850A-82C0-40EB-8A3B-799EEA41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CE07-2DC9-49E8-A8B2-D6EEFAFF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E887-416E-41B0-B7FD-13EEEE53B8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842976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рок-игра «Клеточное строение организмо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1" descr="http://fs00.infourok.ru/images/doc/223/22484/7/hello_html_m166910e.png"/>
          <p:cNvPicPr/>
          <p:nvPr/>
        </p:nvPicPr>
        <p:blipFill>
          <a:blip r:embed="rId1"/>
          <a:srcRect l="0" t="18267" r="0" b="31922"/>
          <a:stretch/>
        </p:blipFill>
        <p:spPr>
          <a:xfrm>
            <a:off x="1000080" y="3357720"/>
            <a:ext cx="3162240" cy="2346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is5_100"/>
          <p:cNvPicPr/>
          <p:nvPr/>
        </p:nvPicPr>
        <p:blipFill>
          <a:blip r:embed="rId2"/>
          <a:stretch/>
        </p:blipFill>
        <p:spPr>
          <a:xfrm>
            <a:off x="5430960" y="2786040"/>
            <a:ext cx="314640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840" y="71388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 раунд. «Загадочные вещест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Знак вопроса"/>
          <p:cNvPicPr/>
          <p:nvPr/>
        </p:nvPicPr>
        <p:blipFill>
          <a:blip r:embed="rId1"/>
          <a:stretch/>
        </p:blipFill>
        <p:spPr>
          <a:xfrm>
            <a:off x="214200" y="2214720"/>
            <a:ext cx="3071880" cy="3273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s://avatars.mds.yandex.net/get-zen_doc/174930/pub_5c9cd4d736474000b3777dbe_5c9cd4fc7825b400af14941c/scale_1200"/>
          <p:cNvPicPr/>
          <p:nvPr/>
        </p:nvPicPr>
        <p:blipFill>
          <a:blip r:embed="rId2"/>
          <a:stretch/>
        </p:blipFill>
        <p:spPr>
          <a:xfrm>
            <a:off x="4071960" y="2212920"/>
            <a:ext cx="40845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Установите соответствие между названием веществ клетки и группой, к которой они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571760"/>
            <a:ext cx="435276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неральные со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гле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и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л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уклеиновые кисл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00720" y="1571760"/>
            <a:ext cx="46432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. Неорганические веще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. Органические веще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Установите соответствие между названием веществ клетки и группой, к которой они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840" y="1571760"/>
            <a:ext cx="857232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. Неорганические вещества: 1,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Б. Органические вещества: 2, 3, 4,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6 балл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 раунд. «Выбирай-ка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s://avatars.mds.yandex.net/get-pdb/197794/5ef6884e-2934-44b2-a407-cd43b0092ecd/s1200"/>
          <p:cNvPicPr/>
          <p:nvPr/>
        </p:nvPicPr>
        <p:blipFill>
          <a:blip r:embed="rId1"/>
          <a:stretch/>
        </p:blipFill>
        <p:spPr>
          <a:xfrm>
            <a:off x="3286080" y="2000160"/>
            <a:ext cx="32734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4. Среди предложенных ответов выберите один наиболее полный и правильны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2560" y="1143000"/>
            <a:ext cx="9001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91440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1) Внутренняя среда клетки – это: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А)вакуоль; Б)клеточный сок; В) пластиды; Г)цитоплазма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2) Хлоропласты – это: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А)зеленые пластиды растений;          Б)носители наследственной информации;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В)сахара, образующиеся в листьях растений;     Г)зеленые пигменты растений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3) Резервуар, содержащий клеточный сок, носит название: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А) вакуоль;                        Б) цитоплазма;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В) ядро;                              Г) хромосома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4. Среди предложенных ответов выберите один наиболее полный и правильны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42560" y="1285560"/>
            <a:ext cx="9001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) Внутренняя среда клетки – эт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вакуоль; Б)клеточный сок; В) пластиды;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)цитоплазм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) Хлоропласты – эт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)зеленые пластиды растени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         Б)носители наследственной информ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сахара, образующиеся в листьях растений;     Г)зеленые пигменты раст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) Резервуар, содержащий клеточный сок, носит название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) вакуол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                       Б) цитоплаз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ядро;                              Г) хромосо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3 балл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 раунд. «Допиши картину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s://img2.freepng.ru/20180402/qwq/kisspng-3d-computer-graphics-woman-web-hosting-service-pre-woman-watercolor-5ac1b1c9dc1a22.7792863815226434019016.jpg"/>
          <p:cNvPicPr/>
          <p:nvPr/>
        </p:nvPicPr>
        <p:blipFill>
          <a:blip r:embed="rId1"/>
          <a:stretch/>
        </p:blipFill>
        <p:spPr>
          <a:xfrm>
            <a:off x="2998800" y="2073240"/>
            <a:ext cx="32432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. Подпишите названия частей клет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s://ds04.infourok.ru/uploads/ex/0438/00058277-b4bb1c45/hello_html_2808f5c1.jpg"/>
          <p:cNvPicPr/>
          <p:nvPr/>
        </p:nvPicPr>
        <p:blipFill>
          <a:blip r:embed="rId1"/>
          <a:srcRect l="3702" t="0" r="2470" b="0"/>
          <a:stretch/>
        </p:blipFill>
        <p:spPr>
          <a:xfrm>
            <a:off x="1357200" y="1428840"/>
            <a:ext cx="65134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. Подпишите названия частей клет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2920" y="4572000"/>
            <a:ext cx="878688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ембрана; 2. цитоплазма; 3. ядро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. ядрышко; 5. хлоропласты; 6. вакуо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6 балл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s://ds04.infourok.ru/uploads/ex/0438/00058277-b4bb1c45/hello_html_2808f5c1.jpg"/>
          <p:cNvPicPr/>
          <p:nvPr/>
        </p:nvPicPr>
        <p:blipFill>
          <a:blip r:embed="rId1"/>
          <a:srcRect l="3702" t="0" r="2470" b="0"/>
          <a:stretch/>
        </p:blipFill>
        <p:spPr>
          <a:xfrm>
            <a:off x="2000160" y="1143000"/>
            <a:ext cx="45007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6 раунд. «Знато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ОТЧЕТЫ.ГОСУДАРСТВЕННОЕ УЧРЕЖДЕНИЕ ОБРАЗОВАНИЯ &quot;ЯСЛИ-САД № 86"/>
          <p:cNvPicPr/>
          <p:nvPr/>
        </p:nvPicPr>
        <p:blipFill>
          <a:blip r:embed="rId1"/>
          <a:stretch/>
        </p:blipFill>
        <p:spPr>
          <a:xfrm>
            <a:off x="2428920" y="2071800"/>
            <a:ext cx="4714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авила поведения во время игр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ажай окружающ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имательно слушай и читай зад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бсуждении ответов выслушивай мнение своих товарищ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ты считаешь, что товарищ не прав, объясни ему свою точку зр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шуми, не оскорбляй окружающ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. Какой процесс изображён на схем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42560" y="4642920"/>
            <a:ext cx="4352760" cy="148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. раздражимость клет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. рост клет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785840" y="4642920"/>
            <a:ext cx="4038840" cy="148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. деление клет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. развитие клет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900igr.net/up/datai/173692/0004-004-.jpg"/>
          <p:cNvPicPr/>
          <p:nvPr/>
        </p:nvPicPr>
        <p:blipFill>
          <a:blip r:embed="rId1"/>
          <a:stretch/>
        </p:blipFill>
        <p:spPr>
          <a:xfrm>
            <a:off x="214200" y="1714680"/>
            <a:ext cx="8572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. Какой процесс изображён на схем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42560" y="4642920"/>
            <a:ext cx="4352760" cy="148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. раздражимость клет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. рост клет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785840" y="4642920"/>
            <a:ext cx="4038840" cy="148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. деление клет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. развитие клет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1 бал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900igr.net/up/datai/173692/0004-004-.jpg"/>
          <p:cNvPicPr/>
          <p:nvPr/>
        </p:nvPicPr>
        <p:blipFill>
          <a:blip r:embed="rId1"/>
          <a:stretch/>
        </p:blipFill>
        <p:spPr>
          <a:xfrm>
            <a:off x="214200" y="1714680"/>
            <a:ext cx="8572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. Вставьте в текст пропущенные терми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107136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ждая клетка имеет плотную прозрачную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…(1)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 ней находится живое бесцветное вязкое вещество -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…(2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 которая медленно движется. Внутри клетки находится небольшое плотное тельце -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…(3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в котором можно различить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…(4)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помощью электронного микроскопа было установлено, что ядро клетки имеет очень сложное строение, в нем находятся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…(5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Слова для справок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а. ядро, б. хлоропласт, в.цитоплазма, г. оболочка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д. вакуоль, е. ядрышко, ж. хромосом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7 раунд. «Писател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s://www.kirovipk.ru/sites/default/files/novost/5221626b36b9b08457b0f845a47a6886_477564_1.jpg"/>
          <p:cNvPicPr/>
          <p:nvPr/>
        </p:nvPicPr>
        <p:blipFill>
          <a:blip r:embed="rId1"/>
          <a:stretch/>
        </p:blipFill>
        <p:spPr>
          <a:xfrm>
            <a:off x="2143080" y="1500120"/>
            <a:ext cx="448776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. Вставьте в текст пропущенные терми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071360"/>
            <a:ext cx="8786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ая клетка имеет плотную прозрачную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болочку (1-г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 ней находится живое бесцветное вязкое вещество –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цитоплазма (2-в)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которая медленно движется. Внутри клетки находится небольшое плотное тельце –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ядро(3-а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котором можно различить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ядрышко(4-е)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помощью электронного микроскопа было установлено, что ядро клетки имеет очень сложное строение, в нем находятся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хромосомы(5-ж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5 балл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3.bp.blogspot.com/-8fJ5qao3nUU/TwnQkkARgjI/AAAAAAAAB6c/TJJjPoN3CZA/s1600/champion.jpg"/>
          <p:cNvPicPr/>
          <p:nvPr/>
        </p:nvPicPr>
        <p:blipFill>
          <a:blip r:embed="rId1"/>
          <a:stretch/>
        </p:blipFill>
        <p:spPr>
          <a:xfrm>
            <a:off x="1643040" y="1214280"/>
            <a:ext cx="59292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дведём итог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читайте общее количество баллов за иг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цените работу каждого участника груп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авьте отметку группе за урок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5» – 25-29 бал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4» – 15-24 бал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3» – 7-14 бал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пределите роли в команд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857480" y="1571760"/>
            <a:ext cx="40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ранитель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кретар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ике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s://www.culture.ru/storage/images/d90d428a4e0cdec577d8d2f1971a0f90/5f6a70b0b229a429e8471fe3aeb71e61.png"/>
          <p:cNvPicPr/>
          <p:nvPr/>
        </p:nvPicPr>
        <p:blipFill>
          <a:blip r:embed="rId1"/>
          <a:stretch/>
        </p:blipFill>
        <p:spPr>
          <a:xfrm>
            <a:off x="357120" y="1643040"/>
            <a:ext cx="4425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 раунд. «Да – не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Вопросительный знак из мобильного приложения"/>
          <p:cNvPicPr/>
          <p:nvPr/>
        </p:nvPicPr>
        <p:blipFill>
          <a:blip r:embed="rId1"/>
          <a:stretch/>
        </p:blipFill>
        <p:spPr>
          <a:xfrm>
            <a:off x="2712960" y="2073240"/>
            <a:ext cx="414504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786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Среди утверждений выберите вер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200" y="1214280"/>
            <a:ext cx="871560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па даёт увеличение в 100 ра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м усовершенствовал микроскоп и использовал его для изучения клеток Роберт Гу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помощью микроскопа можно изучать строение клет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м простым увеличительным прибором является телеско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ереводе с греческого «микро» означает «большой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7868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Среди утверждений выберите вер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4200" y="1071360"/>
            <a:ext cx="8715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па даёт увеличение в 100 раз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Первым усовершенствовал микроскоп и использовал его для изучения клеток Роберт Гу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С помощью микроскопа можно изучать строение клето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амым простым увеличительным прибором является телеско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ереводе с греческого «микро» означает «большой»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(2 балл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 раунд. «Гонка за лидеро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Анимация PowerPoint - тематическая подборка: бегущий человек, деньги в интернет, планета Земля, финишная черта, 100 долларов, кирпичная стена, строительство, воздушные шары, знак вопроса, кривая экономического роста, идея, чтение книг."/>
          <p:cNvPicPr/>
          <p:nvPr/>
        </p:nvPicPr>
        <p:blipFill>
          <a:blip r:embed="rId1"/>
          <a:stretch/>
        </p:blipFill>
        <p:spPr>
          <a:xfrm>
            <a:off x="2786040" y="2071800"/>
            <a:ext cx="44290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tmpmbS37n_html_m2f4f9d10"/>
          <p:cNvPicPr/>
          <p:nvPr/>
        </p:nvPicPr>
        <p:blipFill>
          <a:blip r:embed="rId1"/>
          <a:stretch/>
        </p:blipFill>
        <p:spPr>
          <a:xfrm>
            <a:off x="2230560" y="1714680"/>
            <a:ext cx="4538520" cy="4071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Укажите названия частей микроско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6"/>
          <p:cNvSpPr/>
          <p:nvPr/>
        </p:nvSpPr>
        <p:spPr>
          <a:xfrm>
            <a:off x="1928880" y="3643200"/>
            <a:ext cx="785880" cy="21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428840" y="34290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tmpmbS37n_html_m2f4f9d10"/>
          <p:cNvPicPr/>
          <p:nvPr/>
        </p:nvPicPr>
        <p:blipFill>
          <a:blip r:embed="rId1"/>
          <a:stretch/>
        </p:blipFill>
        <p:spPr>
          <a:xfrm>
            <a:off x="714240" y="1285920"/>
            <a:ext cx="4000680" cy="40719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Укажите названия частей микроско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928760" y="1428840"/>
            <a:ext cx="40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едметный стол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бъекти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куля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инты настрой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Штати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ерка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(6 балл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>
            <a:off x="642960" y="3214800"/>
            <a:ext cx="78588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85840" y="29289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9T18:46:35Z</dcterms:created>
  <dc:creator>Val Star</dc:creator>
  <dc:description/>
  <dc:language>en-US</dc:language>
  <cp:lastModifiedBy>Admin</cp:lastModifiedBy>
  <dcterms:modified xsi:type="dcterms:W3CDTF">2021-11-28T02:15:25Z</dcterms:modified>
  <cp:revision>12</cp:revision>
  <dc:subject/>
  <dc:title>Слайд 1</dc:title>
</cp:coreProperties>
</file>