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9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512-0D5C-46D0-A747-97C0564A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F27-C343-4243-9DB6-2ED37E1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174-21E7-4D68-AF1F-67B953F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975-7455-49BE-ACD9-AF789278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FA8-3417-424F-9331-CF58047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4CD-6A1C-4105-9E44-9DA47D1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1E5-8E72-4EE1-B28C-3D8EA88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199-BCA9-4919-8A7A-4B5A279C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ECC-B3C4-4106-A117-9B0551B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0B5-DB12-4920-BFF5-27EE14E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A70-DAB7-4F70-9EC4-8AD47341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33-AF94-4D14-8450-ED266D6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352-D3E9-4189-B669-9D1C3EB85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4297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-игра «Клеточное строение организм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http://fs00.infourok.ru/images/doc/223/22484/7/hello_html_m166910e.png"/>
          <p:cNvPicPr/>
          <p:nvPr/>
        </p:nvPicPr>
        <p:blipFill>
          <a:blip r:embed="rId1"/>
          <a:srcRect l="0" t="18267" r="0" b="31922"/>
          <a:stretch/>
        </p:blipFill>
        <p:spPr>
          <a:xfrm>
            <a:off x="1000080" y="3357720"/>
            <a:ext cx="3162240" cy="2346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is5_100"/>
          <p:cNvPicPr/>
          <p:nvPr/>
        </p:nvPicPr>
        <p:blipFill>
          <a:blip r:embed="rId2"/>
          <a:stretch/>
        </p:blipFill>
        <p:spPr>
          <a:xfrm>
            <a:off x="5430960" y="2786040"/>
            <a:ext cx="314640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раунд. «Загадочные веще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Знак вопроса"/>
          <p:cNvPicPr/>
          <p:nvPr/>
        </p:nvPicPr>
        <p:blipFill>
          <a:blip r:embed="rId1"/>
          <a:stretch/>
        </p:blipFill>
        <p:spPr>
          <a:xfrm>
            <a:off x="214200" y="2214720"/>
            <a:ext cx="3071880" cy="327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avatars.mds.yandex.net/get-zen_doc/174930/pub_5c9cd4d736474000b3777dbe_5c9cd4fc7825b400af14941c/scale_1200"/>
          <p:cNvPicPr/>
          <p:nvPr/>
        </p:nvPicPr>
        <p:blipFill>
          <a:blip r:embed="rId2"/>
          <a:stretch/>
        </p:blipFill>
        <p:spPr>
          <a:xfrm>
            <a:off x="4071960" y="2212920"/>
            <a:ext cx="4084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Установите соответствие между названием веществ клетки и группой, к которой они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клеиновые кисл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00720" y="1571760"/>
            <a:ext cx="46432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Неорганические 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Органические 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Установите соответствие между названием веществ клетки и группой, к которой они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571760"/>
            <a:ext cx="85723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. Неорганические вещества: 1,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. Органические вещества: 2, 3, 4,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раунд. «Выбирай-ка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avatars.mds.yandex.net/get-pdb/197794/5ef6884e-2934-44b2-a407-cd43b0092ecd/s1200"/>
          <p:cNvPicPr/>
          <p:nvPr/>
        </p:nvPicPr>
        <p:blipFill>
          <a:blip r:embed="rId1"/>
          <a:stretch/>
        </p:blipFill>
        <p:spPr>
          <a:xfrm>
            <a:off x="3286080" y="2000160"/>
            <a:ext cx="32734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Среди предложенных ответов выберите один наиболее полный и правильны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560" y="114300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1) Внутренняя среда клетки – это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вакуоль; Б)клеточный сок; В) пластиды; Г)цитоплазм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) Хлоропласты – это: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зеленые пластиды растений;          Б)носители наследственной информаци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)сахара, образующиеся в листьях растений;     Г)зеленые пигменты растений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) Резервуар, содержащий клеточный сок, носит название: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) вакуоль;                        Б) цитоплазма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) ядро;                              Г) хромосом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Среди предложенных ответов выберите один наиболее полный и правильны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5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нутренняя среда клетки – э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вакуоль; Б)клеточный сок; В) пластиды;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)цитоплаз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Хлоропласты – э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зеленые пластиды раст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         Б)носители наследствен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сахара, образующиеся в листьях растений;     Г)зеленые пигменты раст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Резервуар, содержащий клеточный сок, носит название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 вакуо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                       Б) цитоплаз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ядро;                              Г) хромос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 раунд. «Допиши картину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img2.freepng.ru/20180402/qwq/kisspng-3d-computer-graphics-woman-web-hosting-service-pre-woman-watercolor-5ac1b1c9dc1a22.7792863815226434019016.jpg"/>
          <p:cNvPicPr/>
          <p:nvPr/>
        </p:nvPicPr>
        <p:blipFill>
          <a:blip r:embed="rId1"/>
          <a:stretch/>
        </p:blipFill>
        <p:spPr>
          <a:xfrm>
            <a:off x="2998800" y="2073240"/>
            <a:ext cx="3243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Подпишите названия частей клет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s://ds04.infourok.ru/uploads/ex/0438/00058277-b4bb1c45/hello_html_2808f5c1.jpg"/>
          <p:cNvPicPr/>
          <p:nvPr/>
        </p:nvPicPr>
        <p:blipFill>
          <a:blip r:embed="rId1"/>
          <a:srcRect l="3702" t="0" r="2470" b="0"/>
          <a:stretch/>
        </p:blipFill>
        <p:spPr>
          <a:xfrm>
            <a:off x="1357200" y="1428840"/>
            <a:ext cx="6513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Подпишите названия частей клет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920" y="457200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мбрана; 2. цитоплазма; 3. ядр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ядрышко; 5. хлоропласты; 6. вакуо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ds04.infourok.ru/uploads/ex/0438/00058277-b4bb1c45/hello_html_2808f5c1.jpg"/>
          <p:cNvPicPr/>
          <p:nvPr/>
        </p:nvPicPr>
        <p:blipFill>
          <a:blip r:embed="rId1"/>
          <a:srcRect l="3702" t="0" r="2470" b="0"/>
          <a:stretch/>
        </p:blipFill>
        <p:spPr>
          <a:xfrm>
            <a:off x="2000160" y="1143000"/>
            <a:ext cx="4500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 раунд. «Знато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ОТЧЕТЫ.ГОСУДАРСТВЕННОЕ УЧРЕЖДЕНИЕ ОБРАЗОВАНИЯ &quot;ЯСЛИ-САД № 86"/>
          <p:cNvPicPr/>
          <p:nvPr/>
        </p:nvPicPr>
        <p:blipFill>
          <a:blip r:embed="rId1"/>
          <a:stretch/>
        </p:blipFill>
        <p:spPr>
          <a:xfrm>
            <a:off x="2428920" y="207180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ила поведения во время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ай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 слушай и читай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бсуждении ответов выслушивай мнение своих товарищ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ты считаешь, что товарищ не прав, объясни ему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шуми, не оскорбляй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процесс изображён на сх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560" y="4642920"/>
            <a:ext cx="435276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раздражимость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рост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85840" y="4642920"/>
            <a:ext cx="403884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деление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развитие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900igr.net/up/datai/173692/0004-004-.jpg"/>
          <p:cNvPicPr/>
          <p:nvPr/>
        </p:nvPicPr>
        <p:blipFill>
          <a:blip r:embed="rId1"/>
          <a:stretch/>
        </p:blipFill>
        <p:spPr>
          <a:xfrm>
            <a:off x="214200" y="1714680"/>
            <a:ext cx="857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процесс изображён на сх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560" y="4642920"/>
            <a:ext cx="435276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раздражимость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рост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5840" y="4642920"/>
            <a:ext cx="4038840" cy="148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. деление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развитие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 бал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900igr.net/up/datai/173692/0004-004-.jpg"/>
          <p:cNvPicPr/>
          <p:nvPr/>
        </p:nvPicPr>
        <p:blipFill>
          <a:blip r:embed="rId1"/>
          <a:stretch/>
        </p:blipFill>
        <p:spPr>
          <a:xfrm>
            <a:off x="214200" y="1714680"/>
            <a:ext cx="857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Вставьте в текст пропущенные терми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0713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ая клетка имеет плотную прозрачную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1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ей находится живое бесцветное вязкое вещество 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2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 которая медленно движется. Внутри клетки находится небольшое плотное тельце 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3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котором можно различить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4)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помощью электронного микроскопа было установлено, что ядро клетки имеет очень сложное строение, в нем находятс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…(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лова для спр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. ядро, б. хлоропласт, в.цитоплазма, г. оболочк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д. вакуоль, е. ядрышко, ж. хромосо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 раунд. «Писат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s://www.kirovipk.ru/sites/default/files/novost/5221626b36b9b08457b0f845a47a6886_477564_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48776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Вставьте в текст пропущенные терми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713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клетка имеет плотную прозрачную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олочку (1-г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ней находится живое бесцветное вязкое вещество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итоплазма (2-в)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которая медленно движется. Внутри клетки находится небольшое плотное тельце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дро(3-а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м можно различ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дрышко(4-е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электронного микроскопа было установлено, что ядро клетки имеет очень сложное строение, в нем находятс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ромосомы(5-ж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3.bp.blogspot.com/-8fJ5qao3nUU/TwnQkkARgjI/AAAAAAAAB6c/TJJjPoN3CZA/s1600/champion.jpg"/>
          <p:cNvPicPr/>
          <p:nvPr/>
        </p:nvPicPr>
        <p:blipFill>
          <a:blip r:embed="rId1"/>
          <a:stretch/>
        </p:blipFill>
        <p:spPr>
          <a:xfrm>
            <a:off x="1643040" y="1214280"/>
            <a:ext cx="5929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ведём итог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читайте общее количество баллов за иг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ите работу каждого участника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ьте отметку группе за ур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5» – 25-29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4» – 15-2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3» – 7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пределите роли в коман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57480" y="157176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ель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к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www.culture.ru/storage/images/d90d428a4e0cdec577d8d2f1971a0f90/5f6a70b0b229a429e8471fe3aeb71e61.png"/>
          <p:cNvPicPr/>
          <p:nvPr/>
        </p:nvPicPr>
        <p:blipFill>
          <a:blip r:embed="rId1"/>
          <a:stretch/>
        </p:blipFill>
        <p:spPr>
          <a:xfrm>
            <a:off x="357120" y="1643040"/>
            <a:ext cx="4425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раунд. «Да – н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Вопросительный знак из мобильного приложения"/>
          <p:cNvPicPr/>
          <p:nvPr/>
        </p:nvPicPr>
        <p:blipFill>
          <a:blip r:embed="rId1"/>
          <a:stretch/>
        </p:blipFill>
        <p:spPr>
          <a:xfrm>
            <a:off x="2712960" y="207324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реди утверждений выберите вер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214280"/>
            <a:ext cx="87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па даёт увеличение в 100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м усовершенствовал микроскоп и использовал его для изучения клеток Роберт Г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микроскопа можно изучать строение кле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простым увеличительным прибором является телеск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реводе с греческого «микро» означает «больш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реди утверждений выберите вер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107136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па даёт увеличение в 100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Первым усовершенствовал микроскоп и использовал его для изучения клеток Роберт Гу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 помощью микроскопа можно изучать строение кле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ым простым увеличительным прибором является телеско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еводе с греческого «микро» означает «большой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2 бал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раунд. «Гонка за лидер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Анимация PowerPoint - тематическая подборка: бегущий человек, деньги в интернет, планета Земля, финишная черта, 100 долларов, кирпичная стена, строительство, воздушные шары, знак вопроса, кривая экономического роста, идея, чтение книг."/>
          <p:cNvPicPr/>
          <p:nvPr/>
        </p:nvPicPr>
        <p:blipFill>
          <a:blip r:embed="rId1"/>
          <a:stretch/>
        </p:blipFill>
        <p:spPr>
          <a:xfrm>
            <a:off x="2786040" y="2071800"/>
            <a:ext cx="4429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tmpmbS37n_html_m2f4f9d10"/>
          <p:cNvPicPr/>
          <p:nvPr/>
        </p:nvPicPr>
        <p:blipFill>
          <a:blip r:embed="rId1"/>
          <a:stretch/>
        </p:blipFill>
        <p:spPr>
          <a:xfrm>
            <a:off x="2230560" y="1714680"/>
            <a:ext cx="4538520" cy="40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Укажите названия частей микроск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>
            <a:off x="1928880" y="3643200"/>
            <a:ext cx="78588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42884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tmpmbS37n_html_m2f4f9d10"/>
          <p:cNvPicPr/>
          <p:nvPr/>
        </p:nvPicPr>
        <p:blipFill>
          <a:blip r:embed="rId1"/>
          <a:stretch/>
        </p:blipFill>
        <p:spPr>
          <a:xfrm>
            <a:off x="714240" y="1285920"/>
            <a:ext cx="4000680" cy="4071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Укажите названия частей микроск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8760" y="142884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едметный стол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ъект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куля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нты настрой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Штат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ерк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6 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642960" y="3214800"/>
            <a:ext cx="78588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85840" y="2928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18:46:35Z</dcterms:created>
  <dc:creator>Val Star</dc:creator>
  <dc:description/>
  <dc:language>en-US</dc:language>
  <cp:lastModifiedBy>Admin</cp:lastModifiedBy>
  <dcterms:modified xsi:type="dcterms:W3CDTF">2021-11-28T02:15:25Z</dcterms:modified>
  <cp:revision>12</cp:revision>
  <dc:subject/>
  <dc:title>Слайд 1</dc:title>
</cp:coreProperties>
</file>