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33.png" ContentType="image/png"/>
  <Override PartName="/ppt/media/image14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laser.wav" ContentType="audio/x-wav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759-407C-48A9-870F-E4333E23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5AC-FE36-4DB8-8995-290A7CB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7E6-F976-4A29-978D-3D194FF0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2D2-73A4-4B6B-946D-DB27A44F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626-494B-481C-989C-47BD4B38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328E-A09D-4FDF-9656-9E958BE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5936-C666-4E8B-ACC8-A53A24C1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7B1C-8770-431F-AB7E-400A473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351E-430A-41D5-9D97-18B8E93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B4E-2A2A-4EA6-8C82-88C98A20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9D87-DC33-4CF4-9E2A-64277205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D7D-6159-41ED-9076-346AA22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F28E-AAAD-413B-9BBB-BE79D1F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4AE8-CAAC-42FD-8F02-492F0BB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0F3-FEE1-418B-B95F-5A7C260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AA01-9C8D-4F86-AF7E-2D3EF347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3CF3-76E1-4FEE-9D52-A03D732E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ED9-98D0-439D-80A6-F8E27E7A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8B5-57BD-4649-9E38-0248203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FC2-8DBA-4CA2-BD0D-2D7B3F7C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56A-0215-45E4-A3B1-C80897D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249-EBF8-4EC8-AE15-779315D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C49-CF0C-4B65-B002-9ACFC38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DC0-2135-488B-AD61-42F5C299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739-8B5E-43E4-9A8A-4089D04A31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E07-02AA-49FA-A09C-2B2045BFD9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4;&#1087;&#1099;&#1090;%204%20-%20&#1042;&#1086;&#1089;&#1089;&#1090;&#1072;&#1085;&#1086;&#1074;&#1083;&#1077;&#1085;&#1080;&#1077;%20&#1084;&#1077;&#1076;&#1080;%20&#1074;&#1086;&#1076;&#1086;&#1088;&#1086;&#1076;&#1086;&#1084;%20&#1080;&#1079;%20&#1086;&#1082;&#1089;&#1080;&#1076;&#1072;.mp4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69;&#1083;&#1077;&#1082;&#1090;&#1088;&#1086;&#1083;&#1080;&#1079;%20&#1074;&#1086;&#1076;&#1099;.mp4" TargetMode="External"/><Relationship Id="rId2" Type="http://schemas.openxmlformats.org/officeDocument/2006/relationships/hyperlink" Target="file:///&#1069;&#1083;&#1077;&#1082;&#1090;&#1088;&#1086;&#1083;&#1080;&#1079;%20&#1074;&#1086;&#1076;&#1099;.mp4" TargetMode="External"/><Relationship Id="rId3" Type="http://schemas.openxmlformats.org/officeDocument/2006/relationships/hyperlink" Target="file:///&#1069;&#1083;&#1077;&#1082;&#1090;&#1088;&#1086;&#1083;&#1080;&#1079;%20&#1074;&#1086;&#1076;&#1099;.mp4" TargetMode="External"/><Relationship Id="rId4" Type="http://schemas.openxmlformats.org/officeDocument/2006/relationships/hyperlink" Target="file:///&#1069;&#1083;&#1077;&#1082;&#1090;&#1088;&#1086;&#1083;&#1080;&#1079;%20&#1074;&#1086;&#1076;&#1099;.mp4" TargetMode="External"/><Relationship Id="rId5" Type="http://schemas.openxmlformats.org/officeDocument/2006/relationships/hyperlink" Target="file:///&#1069;&#1083;&#1077;&#1082;&#1090;&#1088;&#1086;&#1083;&#1080;&#1079;%20&#1074;&#1086;&#1076;&#1099;.mp4" TargetMode="External"/><Relationship Id="rId6" Type="http://schemas.openxmlformats.org/officeDocument/2006/relationships/hyperlink" Target="file:///&#1069;&#1083;&#1077;&#1082;&#1090;&#1088;&#1086;&#1083;&#1080;&#1079;%20&#1074;&#1086;&#1076;&#1099;.mp4" TargetMode="External"/><Relationship Id="rId7" Type="http://schemas.openxmlformats.org/officeDocument/2006/relationships/hyperlink" Target="file:///&#1069;&#1083;&#1077;&#1082;&#1090;&#1088;&#1086;&#1083;&#1080;&#1079;%20&#1074;&#1086;&#1076;&#1099;.mp4" TargetMode="External"/><Relationship Id="rId8" Type="http://schemas.openxmlformats.org/officeDocument/2006/relationships/hyperlink" Target="file:///&#1069;&#1083;&#1077;&#1082;&#1090;&#1088;&#1086;&#1083;&#1080;&#1079;%20&#1074;&#1086;&#1076;&#1099;.mp4" TargetMode="Externa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2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3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4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5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6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7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8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9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10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11" Type="http://schemas.openxmlformats.org/officeDocument/2006/relationships/hyperlink" Target="file:///&#1055;&#1086;&#1083;&#1091;&#1095;&#1077;&#1085;&#1080;&#1077;%20&#1074;&#1086;&#1076;&#1086;&#1088;&#1086;&#1076;&#1072;%20&#1080;%20&#1087;&#1088;&#1086;&#1074;&#1077;&#1088;&#1082;&#1072;%20&#1077;&#1075;&#1086;%20&#1085;&#1072;%20&#1095;&#1080;&#1089;&#1090;&#1086;&#1090;&#1091;.mp4" TargetMode="External"/><Relationship Id="rId12" Type="http://schemas.openxmlformats.org/officeDocument/2006/relationships/image" Target="../media/image30.pn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оисхождение назва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48000" y="3357360"/>
            <a:ext cx="57960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ое наименование «водород» предложил химик М. Ф. Соловьев в 1824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vodopod3"/>
          <p:cNvPicPr/>
          <p:nvPr/>
        </p:nvPicPr>
        <p:blipFill>
          <a:blip r:embed="rId1"/>
          <a:stretch/>
        </p:blipFill>
        <p:spPr>
          <a:xfrm>
            <a:off x="468360" y="1844640"/>
            <a:ext cx="2857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арактеристика водорода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557360"/>
          <a:ext cx="8229600" cy="528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7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 – химический э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- прост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ая атомная или молекулярная 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в ПСХ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свойств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грегатное состояние, растворимость в воде, цвет, запах, вку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имический элемен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170028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овый номер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форму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окис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, 0,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Модель атома водорода (протия)."/>
          <p:cNvPicPr/>
          <p:nvPr/>
        </p:nvPicPr>
        <p:blipFill>
          <a:blip r:embed="rId1"/>
          <a:stretch/>
        </p:blipFill>
        <p:spPr>
          <a:xfrm>
            <a:off x="5724360" y="422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Атомная структура водорода"/>
          <p:cNvPicPr/>
          <p:nvPr/>
        </p:nvPicPr>
        <p:blipFill>
          <a:blip r:embed="rId2"/>
          <a:stretch/>
        </p:blipFill>
        <p:spPr>
          <a:xfrm>
            <a:off x="5364000" y="981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Физические свойства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гкий горючий газ без цвета, запаха и вк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плавления -259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кипения -252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хо растворим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381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indenburg"/>
          <p:cNvPicPr/>
          <p:nvPr/>
        </p:nvPicPr>
        <p:blipFill>
          <a:blip r:embed="rId2"/>
          <a:stretch/>
        </p:blipFill>
        <p:spPr>
          <a:xfrm>
            <a:off x="250920" y="1413000"/>
            <a:ext cx="4286160" cy="33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дород, водород – эле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оборо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щелочных металлов не отстал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 галогенам не при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0006-008-Atom-vodorod"/>
          <p:cNvPicPr/>
          <p:nvPr/>
        </p:nvPicPr>
        <p:blipFill>
          <a:blip r:embed="rId1"/>
          <a:stretch/>
        </p:blipFill>
        <p:spPr>
          <a:xfrm>
            <a:off x="0" y="549360"/>
            <a:ext cx="22431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записывают в 2 резко противоположные группы химических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главной подгруппе 1 группы – подгруппе Щелочные 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главной подгруппе 7 группы- подгруппе галог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3933720"/>
          <a:ext cx="8229600" cy="240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с щелочными металл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с галоген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имические свой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Водород .jpg"/>
          <p:cNvPicPr/>
          <p:nvPr/>
        </p:nvPicPr>
        <p:blipFill>
          <a:blip r:embed="rId1"/>
          <a:stretch/>
        </p:blipFill>
        <p:spPr>
          <a:xfrm>
            <a:off x="539640" y="1557360"/>
            <a:ext cx="82105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заимодействие с неметаллам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Водород3 .jpg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осстановительные свой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поджигании реагирует с кислородом (горит в кислороде с выделением большого количества тепла, 3000ºС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галогенами образует галогеноводор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H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я протекает со взрывом при любой темпера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H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я протекает только на св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агреван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 +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азотом — при нагревании, повышенном давлении и в присутствии катализатора (желез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N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ставьте коэффициенты методом электронного баланс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сложными веществ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9640" y="83664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2" descr="Водород4 .jpg"/>
          <p:cNvPicPr/>
          <p:nvPr/>
        </p:nvPicPr>
        <p:blipFill>
          <a:blip r:embed="rId2"/>
          <a:stretch/>
        </p:blipFill>
        <p:spPr>
          <a:xfrm>
            <a:off x="971640" y="2060640"/>
            <a:ext cx="7200720" cy="2139840"/>
          </a:xfrm>
          <a:prstGeom prst="rect">
            <a:avLst/>
          </a:prstGeom>
          <a:ln w="9360">
            <a:solidFill>
              <a:srgbClr val="9595b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тгадайте о чём идёт реч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, газ, легчайший и бесцвет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ядовитый и безвред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яясь с кислород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для питья даю вам во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10_crednerkohle"/>
          <p:cNvPicPr/>
          <p:nvPr/>
        </p:nvPicPr>
        <p:blipFill>
          <a:blip r:embed="rId1"/>
          <a:stretch/>
        </p:blipFill>
        <p:spPr>
          <a:xfrm>
            <a:off x="179280" y="1484280"/>
            <a:ext cx="4392720" cy="340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ydrogen"/>
          <p:cNvPicPr/>
          <p:nvPr/>
        </p:nvPicPr>
        <p:blipFill>
          <a:blip r:embed="rId2"/>
          <a:stretch/>
        </p:blipFill>
        <p:spPr>
          <a:xfrm>
            <a:off x="2340000" y="1268280"/>
            <a:ext cx="468000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кислительные свойст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ростыми веществами (металлам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 + 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g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g(O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ветьте на вопро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бы перед вами стояла задача получить большое количество водорода, какое сырьё вы бы выбрали и поче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спарившаяся отметка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кзамене академик Иван Алексеевич Каблуков просит студента рассказать, как в лаборатории получают вод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з ртути», - отвечает 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к это из ртути?! Обычно говорят «из цинка», а вот из ртути – это что – то оригинальное. Напишите –ка реакцию». Студент пиш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ворит: «Ртуть нагревают, она разлагается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одород, он легкий и поэтому улетает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скорение силы тяжести, тяжелое ост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 такой ответ надо ставить пятерку, - говорит Каблуков. – Давайте зачетку. Только пятерку я сначала тоже подогрею. «Три» улетает, а «два» ост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5608610"/>
          <p:cNvPicPr/>
          <p:nvPr/>
        </p:nvPicPr>
        <p:blipFill>
          <a:blip r:embed="rId1"/>
          <a:stretch/>
        </p:blipFill>
        <p:spPr>
          <a:xfrm>
            <a:off x="4859280" y="1916280"/>
            <a:ext cx="39909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лучение водород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мышленности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сией метана парами 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сией оксида угле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ческим  разложением мет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С + 2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лизом воды. Получаемый водор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ый, но очень доро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2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3"/>
              </a:rPr>
              <a:t>2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4"/>
              </a:rPr>
              <a:t>O = 2H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5"/>
              </a:rPr>
              <a:t>2 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6"/>
              </a:rPr>
              <a:t>↑ + O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7"/>
              </a:rPr>
              <a:t>2 </a:t>
            </a:r>
            <a:r>
              <a:rPr b="0" lang="en-US" sz="2400" spc="-1" strike="noStrike" u="sng" baseline="-25000">
                <a:solidFill>
                  <a:srgbClr val="6767ff"/>
                </a:solidFill>
                <a:uFillTx/>
                <a:latin typeface="Arial"/>
                <a:hlinkClick r:id="rId8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лабора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ействием на металлы (обычно цинк) соляной или разбавленной серной кислот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Zn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 +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</a:t>
            </a:r>
            <a:r>
              <a:rPr b="0" lang="ru-RU" sz="16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2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SO</a:t>
            </a:r>
            <a:r>
              <a:rPr b="0" lang="ru-RU" sz="16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4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 =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ZnSO</a:t>
            </a:r>
            <a:r>
              <a:rPr b="0" lang="ru-RU" sz="16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4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 +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8"/>
          <p:cNvPicPr/>
          <p:nvPr/>
        </p:nvPicPr>
        <p:blipFill>
          <a:blip r:embed="rId12"/>
          <a:stretch/>
        </p:blipFill>
        <p:spPr>
          <a:xfrm>
            <a:off x="611280" y="3284640"/>
            <a:ext cx="2733480" cy="3362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mg3"/>
          <p:cNvPicPr/>
          <p:nvPr/>
        </p:nvPicPr>
        <p:blipFill>
          <a:blip r:embed="rId13"/>
          <a:stretch/>
        </p:blipFill>
        <p:spPr>
          <a:xfrm>
            <a:off x="5508720" y="3429000"/>
            <a:ext cx="31716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обирание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ом вытеснени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ом вытеснения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714840" cy="36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714920" y="2500200"/>
            <a:ext cx="378612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бразование гремучей смес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лёгок и лету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друг становится могу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нагрев     неостор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орвать в округе всё 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>
            <a:lum contrast="18000"/>
          </a:blip>
          <a:srcRect l="2413" t="0" r="0" b="0"/>
          <a:stretch/>
        </p:blipFill>
        <p:spPr>
          <a:xfrm>
            <a:off x="4648320" y="1716120"/>
            <a:ext cx="4038480" cy="3887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заимодействие металлов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металлов со щелоч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l+2NaOH+6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=2Na[Al(O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+3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м паров воды с раскаленными железными стружк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: с металлами водород является окислителем ( как галогены), а с неметаллами и со сл. веществами– восстановителем ( как Щ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именение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19760" cy="54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Водород"/>
          <p:cNvPicPr/>
          <p:nvPr/>
        </p:nvPicPr>
        <p:blipFill>
          <a:blip r:embed="rId1"/>
          <a:stretch/>
        </p:blipFill>
        <p:spPr>
          <a:xfrm>
            <a:off x="468360" y="3429000"/>
            <a:ext cx="8432640" cy="32194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475000" y="182520"/>
            <a:ext cx="7003800" cy="1725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24000" y="1700280"/>
            <a:ext cx="57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гляни на звезды: много звез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езмолвии ноч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, блестит вокруг лу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ебе голу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ыбери правильное сужд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дород – самый распространённый элемент во Всел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одород  - самый распространённый газ на Зем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сновным соединением водорода на нашей планете является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Большое количество атомов водорода входит в состав веществ, образующих живые орган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одород – самый легкий г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тепень окисления водорода в соединениях с металлами равна -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Формула простого вещества водорода равна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Газ водород обладает наименьшей среди всех веществ молекулярной масс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Газообразный водород хорошо растворим в в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Водород в смеси с кислородом взрывоопас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Чтобы собрать водород, пробирку надо держать отверстием ввер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Водород можно собрать методом вытеснения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 Соединения водорода с металлами называются гидри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. Водород во всех химических реакциях является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. Водород при взаимодействии с металлами является окисл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56760" y="1642680"/>
            <a:ext cx="82868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домашнее зада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сообщения (§ 19, упр.3,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сообщения по тем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дород во Вселенной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аринные способы получения водоро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з истории развития воздухоплава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одород в космос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festival.1september.ru/articles/413578/image3037.gif"/>
          <p:cNvPicPr/>
          <p:nvPr/>
        </p:nvPicPr>
        <p:blipFill>
          <a:blip r:embed="rId1"/>
          <a:srcRect l="0" t="0" r="0" b="2249"/>
          <a:stretch/>
        </p:blipFill>
        <p:spPr>
          <a:xfrm>
            <a:off x="324000" y="1197000"/>
            <a:ext cx="3843360" cy="29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astrosite.narod.ru/Pict/tri1b.jpg"/>
          <p:cNvPicPr/>
          <p:nvPr/>
        </p:nvPicPr>
        <p:blipFill>
          <a:blip r:embed="rId2"/>
          <a:stretch/>
        </p:blipFill>
        <p:spPr>
          <a:xfrm>
            <a:off x="5473800" y="1341360"/>
            <a:ext cx="3670200" cy="244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junior.ru/students/malakhova/b1.jpg"/>
          <p:cNvPicPr/>
          <p:nvPr/>
        </p:nvPicPr>
        <p:blipFill>
          <a:blip r:embed="rId3"/>
          <a:stretch/>
        </p:blipFill>
        <p:spPr>
          <a:xfrm>
            <a:off x="0" y="4352760"/>
            <a:ext cx="3543480" cy="2505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pics.livejournal.com/seo_kiev/pic/000097kc"/>
          <p:cNvPicPr/>
          <p:nvPr/>
        </p:nvPicPr>
        <p:blipFill>
          <a:blip r:embed="rId4"/>
          <a:stretch/>
        </p:blipFill>
        <p:spPr>
          <a:xfrm>
            <a:off x="3635280" y="3716280"/>
            <a:ext cx="252432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kosmosx.ru/images/sized/images/lib/antares-401x281.jpg"/>
          <p:cNvPicPr/>
          <p:nvPr/>
        </p:nvPicPr>
        <p:blipFill>
          <a:blip r:embed="rId5"/>
          <a:stretch/>
        </p:blipFill>
        <p:spPr>
          <a:xfrm>
            <a:off x="6191280" y="4789440"/>
            <a:ext cx="2952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лижайшая  к нам звезда Галактики, которую мы знаем под именем «Солнце», на 70 % своей массы состоит из водород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www.zavasek.narod.ru/sistema/sun006.jpg"/>
          <p:cNvPicPr/>
          <p:nvPr/>
        </p:nvPicPr>
        <p:blipFill>
          <a:blip r:embed="rId1"/>
          <a:stretch/>
        </p:blipFill>
        <p:spPr>
          <a:xfrm>
            <a:off x="250920" y="2205000"/>
            <a:ext cx="4089240" cy="39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yoganirvana.com/wp-content/uploads/2011/08/the-sun.jpg"/>
          <p:cNvPicPr/>
          <p:nvPr/>
        </p:nvPicPr>
        <p:blipFill>
          <a:blip r:embed="rId2"/>
          <a:stretch/>
        </p:blipFill>
        <p:spPr>
          <a:xfrm>
            <a:off x="4859280" y="2637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festival.1september.ru/articles/413578/image3038.gif"/>
          <p:cNvPicPr/>
          <p:nvPr/>
        </p:nvPicPr>
        <p:blipFill>
          <a:blip r:embed="rId1"/>
          <a:srcRect l="971" t="2098" r="0" b="0"/>
          <a:stretch/>
        </p:blipFill>
        <p:spPr>
          <a:xfrm>
            <a:off x="4932360" y="1268280"/>
            <a:ext cx="356400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одород на Земл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urano.ru/wp-content/uploads/2011/02/%D0%B2%D0%BE%D0%B4%D0%B0-3.jpg"/>
          <p:cNvPicPr/>
          <p:nvPr/>
        </p:nvPicPr>
        <p:blipFill>
          <a:blip r:embed="rId2"/>
          <a:stretch/>
        </p:blipFill>
        <p:spPr>
          <a:xfrm>
            <a:off x="0" y="1341360"/>
            <a:ext cx="3419640" cy="256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www.topneftegaz.ru/images/%D0%A0%D0%B5%D0%B9%D1%82%D0%B8%D0%BD%D0%B3%D0%B8/9.jpg"/>
          <p:cNvPicPr/>
          <p:nvPr/>
        </p:nvPicPr>
        <p:blipFill>
          <a:blip r:embed="rId3"/>
          <a:stretch/>
        </p:blipFill>
        <p:spPr>
          <a:xfrm>
            <a:off x="2124000" y="3789360"/>
            <a:ext cx="2708280" cy="270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neftegazeta.info/wp-content/uploads/109142_01.png"/>
          <p:cNvPicPr/>
          <p:nvPr/>
        </p:nvPicPr>
        <p:blipFill>
          <a:blip r:embed="rId4"/>
          <a:stretch/>
        </p:blipFill>
        <p:spPr>
          <a:xfrm>
            <a:off x="4716360" y="4497480"/>
            <a:ext cx="3168720" cy="2360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61200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846880" y="64580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ф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7637040" y="50133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крытие водоро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mednal.ru/wp-content/uploads/2012/06/mesmer4.jpg"/>
          <p:cNvPicPr/>
          <p:nvPr/>
        </p:nvPicPr>
        <p:blipFill>
          <a:blip r:embed="rId1"/>
          <a:stretch/>
        </p:blipFill>
        <p:spPr>
          <a:xfrm>
            <a:off x="826920" y="1268280"/>
            <a:ext cx="2592720" cy="388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chpz.ru/wp-content/uploads/2012/01/%D0%93%D0%B5%D0%BD%D1%80%D0%B8-%D0%9A%D0%B0%D0%B2%D0%B5%D0%BD%D0%B4%D0%B8%D1%88.jpg"/>
          <p:cNvPicPr/>
          <p:nvPr/>
        </p:nvPicPr>
        <p:blipFill>
          <a:blip r:embed="rId2"/>
          <a:stretch/>
        </p:blipFill>
        <p:spPr>
          <a:xfrm>
            <a:off x="5292720" y="1341360"/>
            <a:ext cx="3086280" cy="3810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59560" y="5300640"/>
            <a:ext cx="37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одород был открыт в пер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ловине XVI века немецк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рачом и естествоиспытате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арацельсо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299120" y="5373720"/>
            <a:ext cx="484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ервым ученым, описавшим сво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этого газа, был английский уче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Генри Кавенди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сё те же открыт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66 году известный английский учёный Генри Кавендиш получил «искусственный воздух» действием цинка  на разведённую соляную кислоту. Это было совершенно новое вещество, которое хорошо горело и получило название «горючего возду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IR5"/>
          <p:cNvPicPr/>
          <p:nvPr/>
        </p:nvPicPr>
        <p:blipFill>
          <a:blip r:embed="rId1"/>
          <a:stretch/>
        </p:blipFill>
        <p:spPr>
          <a:xfrm>
            <a:off x="4859280" y="1773360"/>
            <a:ext cx="2924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в 1787 году Антуан Лавуазье доказал, что «горючий воздух»,открытый в 1766 году входит в состав воды и дал ему название «гидрогениум», т.е. «рождающий воду», «водор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76947"/>
          <p:cNvPicPr/>
          <p:nvPr/>
        </p:nvPicPr>
        <p:blipFill>
          <a:blip r:embed="rId1"/>
          <a:stretch/>
        </p:blipFill>
        <p:spPr>
          <a:xfrm>
            <a:off x="5076720" y="1700280"/>
            <a:ext cx="33339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6:27:41Z</dcterms:created>
  <dc:creator>Мария</dc:creator>
  <dc:description/>
  <dc:language>en-US</dc:language>
  <cp:lastModifiedBy>Учетная запись Майкрософт</cp:lastModifiedBy>
  <dcterms:modified xsi:type="dcterms:W3CDTF">2022-12-14T06:53:57Z</dcterms:modified>
  <cp:revision>31</cp:revision>
  <dc:subject/>
  <dc:title>Слайд 1</dc:title>
</cp:coreProperties>
</file>