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BF3-044B-40EE-A909-07C10299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68F-40BF-4798-AB70-FF2300AA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DD1-A7C8-417B-B4D9-BD0F5A5A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D79-BE6A-4C32-82DE-E81328FA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107-99AB-4D37-A96E-E89A0AE7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809-A178-4E78-931A-7673614C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8B6-F13E-46EA-A898-5895FDA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E6A-7AF7-4CE4-8102-792D595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B14-DE9A-4BE0-A002-F98F8CE8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41C-E86E-4572-B376-0D974C6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975-1BC1-408C-89DA-19F15D32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289-8A02-4D89-A949-6405C856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5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8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71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74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EB1D-7475-4E0C-9487-A580253261BC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ipi.ru/" TargetMode="External"/><Relationship Id="rId2" Type="http://schemas.openxmlformats.org/officeDocument/2006/relationships/hyperlink" Target="https://rus-ege.sdamgia.ru/" TargetMode="External"/><Relationship Id="rId3" Type="http://schemas.openxmlformats.org/officeDocument/2006/relationships/hyperlink" Target="http://4ege.ru/russkiy/" TargetMode="External"/><Relationship Id="rId4" Type="http://schemas.openxmlformats.org/officeDocument/2006/relationships/hyperlink" Target="https://ege.yandex.ru/ege" TargetMode="External"/><Relationship Id="rId5" Type="http://schemas.openxmlformats.org/officeDocument/2006/relationships/hyperlink" Target="http://sait-ege-gia.ru/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197000"/>
            <a:ext cx="782172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3300"/>
                </a:solidFill>
                <a:latin typeface="Comic Sans MS"/>
              </a:rPr>
              <a:t>МАОУ СОШ №29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16100"/>
                </a:solidFill>
                <a:latin typeface="Comic Sans MS"/>
              </a:rPr>
              <a:t>Система подготовки обучающихся 11 классов</a:t>
            </a:r>
            <a:br>
              <a:rPr sz="3600"/>
            </a:br>
            <a:r>
              <a:rPr b="0" lang="ru-RU" sz="3600" spc="-1" strike="noStrike">
                <a:solidFill>
                  <a:srgbClr val="616100"/>
                </a:solidFill>
                <a:latin typeface="Comic Sans MS"/>
              </a:rPr>
              <a:t>к государственной итоговой аттестации по русскому языку</a:t>
            </a:r>
            <a:br>
              <a:rPr sz="3600"/>
            </a:br>
            <a:r>
              <a:rPr b="0" lang="ru-RU" sz="3600" spc="-1" strike="noStrike">
                <a:solidFill>
                  <a:srgbClr val="616100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691160" y="4149360"/>
            <a:ext cx="391320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втор: О.Г. Кирюшенко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 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3780000" y="574344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Comic Sans MS"/>
              </a:rPr>
              <a:t>2024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23162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360" y="549360"/>
          <a:ext cx="8207280" cy="5570280"/>
        </p:xfrm>
        <a:graphic>
          <a:graphicData uri="http://schemas.openxmlformats.org/drawingml/2006/table">
            <a:tbl>
              <a:tblPr/>
              <a:tblGrid>
                <a:gridCol w="341280"/>
                <a:gridCol w="2754360"/>
                <a:gridCol w="360360"/>
                <a:gridCol w="358560"/>
                <a:gridCol w="360360"/>
                <a:gridCol w="360360"/>
                <a:gridCol w="360360"/>
                <a:gridCol w="358920"/>
                <a:gridCol w="431640"/>
                <a:gridCol w="428760"/>
                <a:gridCol w="358920"/>
                <a:gridCol w="357120"/>
                <a:gridCol w="430200"/>
                <a:gridCol w="357120"/>
                <a:gridCol w="300240"/>
                <a:gridCol w="288720"/>
              </a:tblGrid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Да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492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№ </a:t>
                      </a:r>
                      <a:r>
                        <a:rPr b="1" lang="ru-RU" sz="5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задан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омер вариан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йти главную информацию, содержащуюся в тексте.  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о подобрать средство связ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пределить лексическое значение слова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28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йти ошибку в постановке ударения.</a:t>
                      </a:r>
                      <a:br>
                        <a:rPr sz="500"/>
                      </a:b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справить лексическую ошибку, подобрать пароним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справить лексическую ошибку, исключить или заменить слово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справить ошибку в форме слова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624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Установить соответствие между грамматическими ошибками и предложениям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корней.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приставок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суффиксов (кроме Н/НН)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суффиксов причастий и окончаний глаголов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НЕ и НИ с частями реч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литное, дефисное, раздельное написание слов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Н/НН в различных частях реч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624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пятые в простом предложении с однородными членами или в ССП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58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пятые при обособленных членах предложения (определение, дополнение, обстоятельство, приложения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наки препинания при обращении и вводных словах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наки препинания в СПП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наки препинания в предложениях с разными видами связ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унктуационный анализ текста. (Тире, двоеточие, запятая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йти высказывание(я), соответствующее содержанию текста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Функционально-смысловые типы реч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ексическое значение слова. Синонимы. Антонимы. Омонимы. Фразеологические обороты. Группы слов по происхождению и употреблению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редства связи предложений в тексте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Языковые средства выразительност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83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алл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68360" y="404640"/>
          <a:ext cx="8496360" cy="6048720"/>
        </p:xfrm>
        <a:graphic>
          <a:graphicData uri="http://schemas.openxmlformats.org/drawingml/2006/table">
            <a:tbl>
              <a:tblPr/>
              <a:tblGrid>
                <a:gridCol w="855720"/>
                <a:gridCol w="379440"/>
                <a:gridCol w="396720"/>
                <a:gridCol w="345960"/>
                <a:gridCol w="347760"/>
                <a:gridCol w="345960"/>
                <a:gridCol w="347760"/>
                <a:gridCol w="345960"/>
                <a:gridCol w="347760"/>
                <a:gridCol w="347760"/>
                <a:gridCol w="345960"/>
                <a:gridCol w="347760"/>
                <a:gridCol w="345960"/>
                <a:gridCol w="347760"/>
                <a:gridCol w="385920"/>
                <a:gridCol w="384120"/>
                <a:gridCol w="385560"/>
                <a:gridCol w="385920"/>
                <a:gridCol w="385560"/>
                <a:gridCol w="1121040"/>
              </a:tblGrid>
              <a:tr h="208440">
                <a:tc gridSpan="20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7.     Сочин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ритерии/Д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24080">
                <a:tc gridSpan="20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7.     Сочин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ритерии/Д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07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Учебный центр «Годограф». Екатерина Оськина</a:t>
            </a: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41" name="Объект 4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77724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756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6100"/>
                </a:solidFill>
                <a:latin typeface="Comic Sans MS"/>
              </a:rPr>
              <a:t>Уроки Наталии Ягинцевой. Русский язык. ЕГЭ.</a:t>
            </a:r>
            <a:endParaRPr b="0" lang="en-US" sz="24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43" name="Содержимое 2" descr=""/>
          <p:cNvPicPr/>
          <p:nvPr/>
        </p:nvPicPr>
        <p:blipFill>
          <a:blip r:embed="rId1"/>
          <a:stretch/>
        </p:blipFill>
        <p:spPr>
          <a:xfrm>
            <a:off x="542880" y="1407960"/>
            <a:ext cx="82771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"/>
          <p:cNvSpPr/>
          <p:nvPr/>
        </p:nvSpPr>
        <p:spPr>
          <a:xfrm>
            <a:off x="530280" y="83664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Прямоугольник 4" descr=""/>
          <p:cNvPicPr/>
          <p:nvPr/>
        </p:nvPicPr>
        <p:blipFill>
          <a:blip r:embed="rId1"/>
          <a:stretch/>
        </p:blipFill>
        <p:spPr>
          <a:xfrm>
            <a:off x="682560" y="1639800"/>
            <a:ext cx="79977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Плюсы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47" name="Объект 2" descr=""/>
          <p:cNvPicPr/>
          <p:nvPr/>
        </p:nvPicPr>
        <p:blipFill>
          <a:blip r:embed="rId1"/>
          <a:stretch/>
        </p:blipFill>
        <p:spPr>
          <a:xfrm>
            <a:off x="669960" y="1901880"/>
            <a:ext cx="79135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Речевая разми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48392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 Поставьте ударение. Произнесите слова правильно. Запомни, как произносятся сл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анты, вероисповедание, дешевизна, досуг, еретик, жалюзи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авьте предложение с каждым слово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Еретик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 1. Последователь ереси // В христианстве: тот, кто неуважительно относится к религии; неверующий,безбожник. 2. О том, кто отступает от господствующих или общепринятых правил, взглядов, положен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Речевая разми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ыучи стишки, которые помогут запомнить произношение сло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верь себ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амота. р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Если есть в тебе таланты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вяжи на праздник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Ант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скорее привез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м для окон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жалюз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 Балда приговаривал с укоризно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Не гонялся бы ты, поп, за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ешевИзно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Речевая разми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Проверь по словарю значение слов представить – предостави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ю на проверку конспект нужно __________________ , а однокласснику перед экзаменом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____________________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ерно ли употреблено выделенное слово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одатель обязан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едставить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плачиваемый учебный отпуск работнику, который учится в аспирантуре заочн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Речевая разми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 Найдите, объясните и исправьте ошибки в тексте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моё день рождения пришла молодая девушка с пятистами пятидесяти пяти розами для моей мамы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 Обсуждая ненавистное ЕГЭ, мешающее нам жить спокойно и радостно в двухтысячно двадцать четвёртом году, разговор продолжался в течен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лу-часа. Потом все спустились вниз, в сад, где был накрыт стол с праздничной яблочной шарлотко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Установ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22" name="Объект 2" descr=""/>
          <p:cNvPicPr/>
          <p:nvPr/>
        </p:nvPicPr>
        <p:blipFill>
          <a:blip r:embed="rId1"/>
          <a:stretch/>
        </p:blipFill>
        <p:spPr>
          <a:xfrm>
            <a:off x="500040" y="1865160"/>
            <a:ext cx="82598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Домашнее задание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йт Гущина «Решу ЕГЭ»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6100"/>
                </a:solidFill>
                <a:latin typeface="Comic Sans MS"/>
              </a:rPr>
              <a:t>Сайты - помощники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341000"/>
            <a:ext cx="791856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ge.edu.ru/r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тал информационной поддержки единого государственного экзамена. Новости, нормативные документы, демоверсии, результаты ЕГЭ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http://www.fipi.r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едеральный институт педагогических измерений. ЕГЭ - контрольно-измерительные материалы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https://rus-ege.sdamgia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учающая система Дмитрия Гущина. Образовательный портал для подготовки к ЕГЭ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ucthat-v-skole.ru/eg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сайт ЕГЭ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://4ege.ru/russkiy/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https://ege.yandex.ru/eg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ка к ЕГЭ и ОГЭ по всем предметам от Яндекса. Есть видеорешения, вебинары разборы заданий и тесты с ответам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5"/>
              </a:rPr>
              <a:t>http://sait-ege-gia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айт предлагает подготовку к ЕГЭ и ОГЭ по всем предметам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6"/>
          <a:stretch/>
        </p:blipFill>
        <p:spPr>
          <a:xfrm>
            <a:off x="6058080" y="33242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Users\User\Desktop\hqdefault.jpg"/>
          <p:cNvPicPr/>
          <p:nvPr/>
        </p:nvPicPr>
        <p:blipFill>
          <a:blip r:embed="rId2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61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616100"/>
                </a:solidFill>
                <a:latin typeface="Comic Sans MS"/>
              </a:rPr>
              <a:t>Главная задача учителя </a:t>
            </a:r>
            <a:r>
              <a:rPr b="0" lang="ru-RU" sz="4800" spc="-1" strike="noStrike">
                <a:solidFill>
                  <a:srgbClr val="616100"/>
                </a:solidFill>
                <a:latin typeface="Comic Sans MS"/>
              </a:rPr>
              <a:t>-  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640" y="1773360"/>
            <a:ext cx="7918560" cy="39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00"/>
                </a:solidFill>
                <a:latin typeface="Comic Sans MS"/>
              </a:rPr>
              <a:t>создание оптимальных условий для обучение учащихся через определённую систему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00"/>
                </a:solidFill>
                <a:latin typeface="Comic Sans MS"/>
              </a:rPr>
              <a:t>ВАЖН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6161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00"/>
                </a:solidFill>
                <a:latin typeface="Comic Sans MS"/>
              </a:rPr>
              <a:t>СИСТЕМАТИЗИРОВАТЬ ТЕОРИЮ И ПРАКТИЧЕСКОЕ ЗАКРЕПЛЕНИЕ в нечто целое, состоящее из связанных элементов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 меня 5 блоко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1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 первых занятиях предполагается знакомство учащихся с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емоверсией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со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труктурой экзаменационной работ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Кроме того, считаю правильным сразу же разобраться с теорией 26 задания, с алгоритмом выполнения этого задания «убиваем двух зайцев»: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) учимся выполнять одно из самых сложных заданий, которое позволяет ученику получить 3 балла;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) следующий блок работы будет посвящён критериям написания сочинения, умение видеть использованные автором средства выразительности, по моему мнению, даёт возможность лучше понять текст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2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 algn="just">
              <a:spcBef>
                <a:spcPts val="6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читаю правильным начинать подготовку к ЕГЭ с обучения написанию сочинения. 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-274320" algn="just">
              <a:spcBef>
                <a:spcPts val="6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о 2-м смысловом знакомимся с «правилами игры»: с критериями проверки, определяющими содержание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очинения (К1 – К4). На этом этапе разбираем большое количество фрагментов сочинений и готовых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очинений. На мой взгляд, очень важно дать ученикам образцы хороших работ, чтобы было понятно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 какому результаты надо стремиться. 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-274320" algn="just">
              <a:spcBef>
                <a:spcPts val="6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олноценные тексты начинаем писать после сдачи итогового сочинения по литературе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196640"/>
            <a:ext cx="5975280" cy="50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6100"/>
                </a:solidFill>
                <a:latin typeface="Comic Sans MS"/>
              </a:rPr>
              <a:t>Использую шаблоны и клише с учётом способностей учащихся.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лише — удобные формулировки, проверенные временем. Можно использовать и не бояться, что за них кто-то накажет, экспертам легче проверять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406240" y="698400"/>
            <a:ext cx="47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6100"/>
                </a:solidFill>
                <a:latin typeface="Comic Sans MS"/>
              </a:rPr>
              <a:t>Задание №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C:\Users\User\Desktop\20171011104036_a5c35de9a21b0a24397b49d9b95a9296.jpg"/>
          <p:cNvPicPr/>
          <p:nvPr/>
        </p:nvPicPr>
        <p:blipFill>
          <a:blip r:embed="rId1"/>
          <a:stretch/>
        </p:blipFill>
        <p:spPr>
          <a:xfrm>
            <a:off x="6659640" y="2112840"/>
            <a:ext cx="172872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3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збираемся с видами речевых, грамматических, логических ошибок. Это логично, так ка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следующем этапе ученики будут создавать свои сочинения. Для их эффективной провер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еобходимо, чтобы ученики знали, за что им снижают баллы по К 5, 9, 10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ечевые ошибки // Задания 5, 6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амматические ошибки // Задания 7, 8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огические ошибки // Задания 1, 25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4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нализируем тексты, пишем сочинения в формате ЕГЭ, знакомимся с алгоритмами выполнения тестовой части (в 10 классе начинаем с орфографии , в 11 продолжаем  пунктуацию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5</a:t>
            </a:r>
            <a:br>
              <a:rPr sz="4800"/>
            </a:br>
            <a:r>
              <a:rPr b="0" lang="ru-RU" sz="3600" spc="-1" strike="noStrike">
                <a:solidFill>
                  <a:srgbClr val="ff0000"/>
                </a:solidFill>
                <a:latin typeface="Arial Narrow"/>
              </a:rPr>
              <a:t>Обобщение и закрепление изученного</a:t>
            </a: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37" name="Объект 2" descr=""/>
          <p:cNvPicPr/>
          <p:nvPr/>
        </p:nvPicPr>
        <p:blipFill>
          <a:blip r:embed="rId1"/>
          <a:stretch/>
        </p:blipFill>
        <p:spPr>
          <a:xfrm>
            <a:off x="500040" y="1981080"/>
            <a:ext cx="82058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5:37:05Z</dcterms:created>
  <dc:creator>COMPUTER</dc:creator>
  <dc:description/>
  <dc:language>en-US</dc:language>
  <cp:lastModifiedBy>Никита Кирюшенко</cp:lastModifiedBy>
  <dcterms:modified xsi:type="dcterms:W3CDTF">2024-01-15T15:53:11Z</dcterms:modified>
  <cp:revision>185</cp:revision>
  <dc:subject/>
  <dc:title>Современные принципы обучения русскому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50000000000010243100207f6000400038000</vt:lpwstr>
  </property>
</Properties>
</file>