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C0F-5914-45E9-BEC5-AFF9244C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CE0-B563-43DE-8008-BCFD9CCF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31D-BFD0-47C8-8970-FFDA4AEE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BFF-E1FC-45D5-AE79-2AEA4263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E6C-BCDD-4634-AAF8-268F6C05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249-6A1A-414C-8C8A-AFB70552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E8B-2C2B-48E2-87D6-29D52E27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366-D088-47F0-BA38-F668E5A8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3DB-7B25-4474-B053-FB9FD422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E06-A6A0-47A5-9CCE-747CD762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CAF-EC8E-4BC8-893C-E75E73A7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214-C8B3-411F-BC20-DA48E356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C6ED-E2A7-47FD-9FD4-7D269F9FD3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65040" y="981000"/>
            <a:ext cx="828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О С Т О Я Н И 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 Л Е К Т Р О Н 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 Т О М 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92400" y="26352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62040" y="1692360"/>
            <a:ext cx="74134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 – 3;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ьте электронные конфигу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томов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, Fe, Zr, Sn, Nb, Hf, 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C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0"/>
          <p:cNvGrpSpPr/>
          <p:nvPr/>
        </p:nvGrpSpPr>
        <p:grpSpPr>
          <a:xfrm>
            <a:off x="2771640" y="2924280"/>
            <a:ext cx="576360" cy="576000"/>
            <a:chOff x="2771640" y="2924280"/>
            <a:chExt cx="576360" cy="576000"/>
          </a:xfrm>
        </p:grpSpPr>
        <p:sp>
          <p:nvSpPr>
            <p:cNvPr id="43" name="Oval 4"/>
            <p:cNvSpPr/>
            <p:nvPr/>
          </p:nvSpPr>
          <p:spPr>
            <a:xfrm>
              <a:off x="2771640" y="2924280"/>
              <a:ext cx="57636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7"/>
            <p:cNvSpPr/>
            <p:nvPr/>
          </p:nvSpPr>
          <p:spPr>
            <a:xfrm>
              <a:off x="2843280" y="2995560"/>
              <a:ext cx="4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9"/>
          <p:cNvGrpSpPr/>
          <p:nvPr/>
        </p:nvGrpSpPr>
        <p:grpSpPr>
          <a:xfrm>
            <a:off x="5364000" y="2924280"/>
            <a:ext cx="576000" cy="576000"/>
            <a:chOff x="5364000" y="2924280"/>
            <a:chExt cx="576000" cy="576000"/>
          </a:xfrm>
        </p:grpSpPr>
        <p:sp>
          <p:nvSpPr>
            <p:cNvPr id="46" name="Oval 5"/>
            <p:cNvSpPr/>
            <p:nvPr/>
          </p:nvSpPr>
          <p:spPr>
            <a:xfrm>
              <a:off x="5364000" y="2924280"/>
              <a:ext cx="576000" cy="576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5442120" y="299700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3"/>
          <p:cNvGrpSpPr/>
          <p:nvPr/>
        </p:nvGrpSpPr>
        <p:grpSpPr>
          <a:xfrm>
            <a:off x="3851280" y="2708280"/>
            <a:ext cx="914400" cy="914400"/>
            <a:chOff x="3851280" y="2708280"/>
            <a:chExt cx="914400" cy="914400"/>
          </a:xfrm>
        </p:grpSpPr>
        <p:sp>
          <p:nvSpPr>
            <p:cNvPr id="49" name="Oval 11"/>
            <p:cNvSpPr/>
            <p:nvPr/>
          </p:nvSpPr>
          <p:spPr>
            <a:xfrm>
              <a:off x="3851280" y="2708280"/>
              <a:ext cx="914400" cy="9144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2"/>
            <p:cNvSpPr/>
            <p:nvPr/>
          </p:nvSpPr>
          <p:spPr>
            <a:xfrm>
              <a:off x="4068720" y="28530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6"/>
          <p:cNvGrpSpPr/>
          <p:nvPr/>
        </p:nvGrpSpPr>
        <p:grpSpPr>
          <a:xfrm>
            <a:off x="4140360" y="1125360"/>
            <a:ext cx="360360" cy="368280"/>
            <a:chOff x="4140360" y="1125360"/>
            <a:chExt cx="360360" cy="368280"/>
          </a:xfrm>
        </p:grpSpPr>
        <p:sp>
          <p:nvSpPr>
            <p:cNvPr id="52" name="Oval 14"/>
            <p:cNvSpPr/>
            <p:nvPr/>
          </p:nvSpPr>
          <p:spPr>
            <a:xfrm>
              <a:off x="4140360" y="1125360"/>
              <a:ext cx="360360" cy="3603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5"/>
            <p:cNvSpPr/>
            <p:nvPr/>
          </p:nvSpPr>
          <p:spPr>
            <a:xfrm>
              <a:off x="4145400" y="112536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7"/>
          <p:cNvSpPr/>
          <p:nvPr/>
        </p:nvSpPr>
        <p:spPr>
          <a:xfrm>
            <a:off x="335520" y="18900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ЛАНЕТАРНАЯ» МОДЕЛЬ СТРОЕНИЯ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4505040" y="6093000"/>
            <a:ext cx="44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Э. РЕЗЕРФОРД 19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4" descr="резерфорд"/>
          <p:cNvPicPr/>
          <p:nvPr/>
        </p:nvPicPr>
        <p:blipFill>
          <a:blip r:embed="rId1"/>
          <a:stretch/>
        </p:blipFill>
        <p:spPr>
          <a:xfrm>
            <a:off x="250920" y="836640"/>
            <a:ext cx="1800000" cy="2160720"/>
          </a:xfrm>
          <a:prstGeom prst="rect">
            <a:avLst/>
          </a:prstGeom>
          <a:ln w="0">
            <a:noFill/>
          </a:ln>
        </p:spPr>
      </p:pic>
      <p:sp>
        <p:nvSpPr>
          <p:cNvPr id="57" name="Oval 31"/>
          <p:cNvSpPr/>
          <p:nvPr/>
        </p:nvSpPr>
        <p:spPr>
          <a:xfrm>
            <a:off x="2411280" y="1341360"/>
            <a:ext cx="3816360" cy="381636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540360" y="4149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3"/>
          <p:cNvSpPr/>
          <p:nvPr/>
        </p:nvSpPr>
        <p:spPr>
          <a:xfrm>
            <a:off x="6878160" y="407664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й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4"/>
          <p:cNvSpPr/>
          <p:nvPr/>
        </p:nvSpPr>
        <p:spPr>
          <a:xfrm>
            <a:off x="2197440" y="62064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лек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5"/>
          <p:cNvSpPr/>
          <p:nvPr/>
        </p:nvSpPr>
        <p:spPr>
          <a:xfrm>
            <a:off x="1695240" y="5084640"/>
            <a:ext cx="14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яд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6"/>
          <p:cNvSpPr/>
          <p:nvPr/>
        </p:nvSpPr>
        <p:spPr>
          <a:xfrm>
            <a:off x="6443280" y="90792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нергети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7"/>
          <p:cNvSpPr/>
          <p:nvPr/>
        </p:nvSpPr>
        <p:spPr>
          <a:xfrm flipV="1">
            <a:off x="1908000" y="3500280"/>
            <a:ext cx="8636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8"/>
          <p:cNvSpPr/>
          <p:nvPr/>
        </p:nvSpPr>
        <p:spPr>
          <a:xfrm flipH="1" flipV="1">
            <a:off x="6012000" y="342864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9"/>
          <p:cNvSpPr/>
          <p:nvPr/>
        </p:nvSpPr>
        <p:spPr>
          <a:xfrm flipV="1">
            <a:off x="5651640" y="1341360"/>
            <a:ext cx="720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0"/>
          <p:cNvSpPr/>
          <p:nvPr/>
        </p:nvSpPr>
        <p:spPr>
          <a:xfrm>
            <a:off x="3635280" y="1052640"/>
            <a:ext cx="43200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1"/>
          <p:cNvSpPr/>
          <p:nvPr/>
        </p:nvSpPr>
        <p:spPr>
          <a:xfrm flipV="1">
            <a:off x="2843280" y="3644640"/>
            <a:ext cx="115236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251640" y="60930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2485800" y="60930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й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5"/>
          <p:cNvSpPr/>
          <p:nvPr/>
        </p:nvSpPr>
        <p:spPr>
          <a:xfrm>
            <a:off x="2843280" y="5805360"/>
            <a:ext cx="36036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 flipH="1">
            <a:off x="1258920" y="5805360"/>
            <a:ext cx="43344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8422E-006 L 0.13351 -0.00092 E">
                                      <p:cBhvr>
                                        <p:cTn id="5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06338E-006 L -0.14948 0.00023 E">
                                      <p:cBhvr>
                                        <p:cTn id="5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486 C 0.11476 0.00486 0.20851 0.12908 0.20851 0.28314 C 0.20851 0.43604 0.11476 0.56118 -0.00017 0.56118 C -0.11545 0.56118 -0.20885 0.43604 -0.20885 0.28314 C -0.20885 0.12908 -0.11545 0.00486 -0.00017 0.00486 Z">
                                      <p:cBhvr>
                                        <p:cTn id="9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33840" y="214200"/>
            <a:ext cx="44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КВАНТОВЫЕ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88520" y="782640"/>
            <a:ext cx="55206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главное квантов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общий запас энергии  элект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89240" y="1628640"/>
            <a:ext cx="8068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орбитальное квантов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а орби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личество подуровней на энергетическ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92120" y="2924280"/>
            <a:ext cx="65325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–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магнитное квантов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положение орбитали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личество орбиталей на под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38200" y="4437000"/>
            <a:ext cx="6039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спиновое квантов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омент вращения самого электр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ите состояние электронов, находящихся на </a:t>
            </a:r>
            <a:r>
              <a:rPr b="1" lang="en-US" sz="4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d</a:t>
            </a:r>
            <a:r>
              <a:rPr b="1" lang="en-US" sz="43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ров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06600" y="5805360"/>
            <a:ext cx="77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Arial"/>
              </a:rPr>
              <a:t>Домашнее 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3р</a:t>
            </a:r>
            <a:r>
              <a:rPr b="1" lang="ru-RU" sz="48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; 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4f</a:t>
            </a:r>
            <a:r>
              <a:rPr b="1" lang="en-US" sz="48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; 5s</a:t>
            </a:r>
            <a:r>
              <a:rPr b="1" lang="en-US" sz="4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; 3d</a:t>
            </a:r>
            <a:r>
              <a:rPr b="1" lang="en-US" sz="4800" spc="-1" strike="noStrike" baseline="30000">
                <a:solidFill>
                  <a:srgbClr val="0066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53640" y="1125360"/>
            <a:ext cx="730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ПРЕДЕЛ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ЛЕКТРОНО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ТО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893880" y="336600"/>
            <a:ext cx="75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 МИНИМУМА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4600" y="1127160"/>
            <a:ext cx="59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 (запрет) ПА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97120" y="1917720"/>
            <a:ext cx="42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ИЛО ХУ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896400" y="2709720"/>
            <a:ext cx="62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ИЛА КЛЕЧКО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5662440" y="3716280"/>
            <a:ext cx="30258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24000" y="260280"/>
          <a:ext cx="8280360" cy="5699160"/>
        </p:xfrm>
        <a:graphic>
          <a:graphicData uri="http://schemas.openxmlformats.org/drawingml/2006/table">
            <a:tbl>
              <a:tblPr/>
              <a:tblGrid>
                <a:gridCol w="1035000"/>
                <a:gridCol w="1035000"/>
                <a:gridCol w="1035000"/>
                <a:gridCol w="1035000"/>
                <a:gridCol w="1035000"/>
                <a:gridCol w="1035000"/>
                <a:gridCol w="1035360"/>
                <a:gridCol w="103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/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+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/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+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1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2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5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3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6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4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7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266"/>
          <p:cNvSpPr/>
          <p:nvPr/>
        </p:nvSpPr>
        <p:spPr>
          <a:xfrm>
            <a:off x="-2520" y="6093000"/>
            <a:ext cx="90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s2s2p3s3p4s3d4p5s4d5p6s4f5d6p7s5f6d7p6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-2160" y="189000"/>
            <a:ext cx="90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ЛЕКТРОННЫЕ СЕМЕЙСТВА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69080" y="1119240"/>
            <a:ext cx="33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S -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элементы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510160" y="104760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 -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69800" y="320832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d -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510160" y="3135240"/>
            <a:ext cx="30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 -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0:29:48Z</dcterms:created>
  <dc:creator>alex</dc:creator>
  <dc:description/>
  <dc:language>en-US</dc:language>
  <cp:lastModifiedBy>user</cp:lastModifiedBy>
  <dcterms:modified xsi:type="dcterms:W3CDTF">2022-09-04T12:34:44Z</dcterms:modified>
  <cp:revision>34</cp:revision>
  <dc:subject/>
  <dc:title>Слайд 1</dc:title>
</cp:coreProperties>
</file>