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2FA-F02D-43A5-B200-3EB5904F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A84-7C66-401C-A5D7-6E8050D2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BB9-9DB0-4057-A0DE-9CB089B6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49F-B6E8-4E47-A33D-8A1708BF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79C1-114C-47A6-8E07-62B36CE6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5E1-087B-4DFB-AF96-8CB37DE2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0EC2-FED6-45DD-8163-8238211B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6FA1-AE41-4B1C-A3C4-B2933072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13E1-F99B-41EB-96D2-7895BA31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E673-F695-4C44-9EDE-1837E79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7EDB-A0AD-4E2F-A1BE-8F0D680D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2B1-5E6B-4FC2-AA1A-468DBB38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ABBD-92BF-4C7E-A619-2AB12529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4E12-6DF8-4BA3-9EA4-C0AAA2C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8D24-E410-4839-88D2-4C37E023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3C18-8B8F-4139-B856-B9AB2686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D3E7-9CB9-4E5E-BE85-69DF93FB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06E4-3FFF-451C-A76C-6C0D9133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DB2B3-8109-4144-A56F-5D7EAA1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18B6-AB48-4BD7-BF9B-442F62E1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B1EF-6CDF-4E6E-8089-2075C0B6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9F9D-1554-49E0-BEB5-750E1521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2F5-2525-46A4-B79A-2DAB41BD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53F9-7DAD-4BEF-80A3-4FAC71CF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FAF5-E16E-44AF-A4C1-211631B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601C-1544-418F-9287-FB1B4DF5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B3F1-2C48-4E5B-BAEF-04D3AD0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EFCB-4ED1-44ED-961C-44EFDC8C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2E69-3662-4390-81C9-93A4B7DE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A364-389E-468C-AC0C-D0251AF5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BA72-2C78-4148-915A-A1F1D7CA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F2D8-092E-4132-81E3-AC10D8F6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0308-789E-417F-9B0D-B033D57C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F60-0E98-4297-8D5E-EEE0500E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C172-6A4D-4DF4-9AEC-4B6D5AFF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B5A0-FB7D-455E-9464-8B4DBA19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1847-90D7-44A1-A7A5-6133A851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8BA4-BF52-49C5-A131-3DD6909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325A9-3D7D-4743-B398-DECF7C5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0CC55-BA6F-477D-982A-407BF31C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374A-F1E4-466F-A2A7-69677A36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7BF0-B8A2-4ED6-BCFD-1FDE2125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A2BD-FAB7-487B-898F-9E59479E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C2772-2306-4F7B-A672-CD13ED0B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592-75AD-4314-8088-7C83BB1C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08B8-8F59-4443-9C56-26BC8968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13AC-27B3-4C03-875B-F6570656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3C63-156F-445D-9A15-EFDE0D6F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83D0B-EA0A-4036-B9A1-C4D524C6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4F58-862D-4E7D-83B7-6786FDE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11E5B-967D-4DDB-81C6-B1C345CB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CD603-4777-4830-B595-2D52117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791F9-A833-4E3D-9DAC-568F781E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5C04B-8900-479F-973E-96ACEA7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B6D9-53DF-4658-8B5F-D7683CD7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50F-39C4-4008-AC85-7066829C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9A76-4C5F-4A9E-95B7-89DF7E8F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C4DC7-3DBC-447A-BCE7-72EE8D56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AB05-914E-46AA-AA88-FD7E133C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4DBAC-AB88-4B5E-8C26-E155D0D8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A2654-E32E-411D-ACA1-15A6F127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A6BA5-FF58-4DAE-A1D4-F9B9E66E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0C607-1208-48E2-9C5B-B238DB9C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636B5-392B-4C6A-857D-1CCB1C7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F7B2-7C43-486C-A79C-CA0BAC05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50252-CF69-4E7A-BC1F-BDCF21B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F80-EBEF-4565-ABFD-1221B255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27B43-DC93-44EE-A2D9-FD93D4A6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1FFED-6FEE-45FD-BABC-6ADD807D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C5930-BCE7-48E9-A00F-2BBD499D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68E0E-A037-49B6-B7E7-7A4254B5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23794-1DD5-4734-9E52-403BD190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BBEDB-86FB-443F-A0C2-2697623A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68188-DDAA-4AB8-85A8-FA034AF0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A9A14-5C04-45D6-A261-33AB68DB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E0230-FC14-4B32-AC40-4589B2F3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01AD0-C281-402C-8619-B9097A2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BEA-94DF-4EE6-9871-0C6C826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061D4-B077-4219-99A0-18F32BE5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05636-41E4-4D2D-A09B-F92C65DE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C46DE-5AD8-4091-AE11-1C6FC006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1A025-A18C-472E-967C-75A0779B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42DF7-12CE-4B29-A466-3815822D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076-D4C6-4890-A444-0338DF8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EC8F-9840-41C9-AA71-0C5B540092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5F6E-247C-404D-9E35-C8EA10294CD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D3E9-E149-463A-B27C-B6072DE9DA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603B-529A-4B93-AAC4-C3CDE9A4213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60A5-D153-4C6A-946B-1A957BE4EA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F3A2-4724-4155-B136-D7230F9E98D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D330-AEAA-46F0-9AD4-82968297D1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991800" y="1103400"/>
            <a:ext cx="800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Кислородсодержащ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органическ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оеди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340200" y="83664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1910520" y="80964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3206160" y="80964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4503240" y="80964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812200" y="73836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206160" y="181764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4516920" y="181764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1476360" y="112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71640" y="1197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406728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5364000" y="1125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5"/>
          <p:cNvSpPr/>
          <p:nvPr/>
        </p:nvSpPr>
        <p:spPr>
          <a:xfrm>
            <a:off x="3419640" y="155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6"/>
          <p:cNvSpPr/>
          <p:nvPr/>
        </p:nvSpPr>
        <p:spPr>
          <a:xfrm>
            <a:off x="4716360" y="1484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47016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198144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278520" y="47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450252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5869440" y="40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3"/>
          <p:cNvSpPr/>
          <p:nvPr/>
        </p:nvSpPr>
        <p:spPr>
          <a:xfrm>
            <a:off x="1476360" y="1268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4"/>
          <p:cNvSpPr/>
          <p:nvPr/>
        </p:nvSpPr>
        <p:spPr>
          <a:xfrm>
            <a:off x="545040" y="2708280"/>
            <a:ext cx="80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 – МЕТИЛПЕНТЕН – 1 – ОЛ –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5"/>
          <p:cNvSpPr/>
          <p:nvPr/>
        </p:nvSpPr>
        <p:spPr>
          <a:xfrm>
            <a:off x="700560" y="376236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6"/>
          <p:cNvSpPr/>
          <p:nvPr/>
        </p:nvSpPr>
        <p:spPr>
          <a:xfrm>
            <a:off x="2270880" y="376236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7"/>
          <p:cNvSpPr/>
          <p:nvPr/>
        </p:nvSpPr>
        <p:spPr>
          <a:xfrm>
            <a:off x="4011840" y="376236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8"/>
          <p:cNvSpPr/>
          <p:nvPr/>
        </p:nvSpPr>
        <p:spPr>
          <a:xfrm>
            <a:off x="2198160" y="47973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9"/>
          <p:cNvSpPr/>
          <p:nvPr/>
        </p:nvSpPr>
        <p:spPr>
          <a:xfrm>
            <a:off x="3998160" y="47973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30"/>
          <p:cNvSpPr/>
          <p:nvPr/>
        </p:nvSpPr>
        <p:spPr>
          <a:xfrm>
            <a:off x="1692360" y="41497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1"/>
          <p:cNvSpPr/>
          <p:nvPr/>
        </p:nvSpPr>
        <p:spPr>
          <a:xfrm>
            <a:off x="3276720" y="41497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32"/>
          <p:cNvSpPr/>
          <p:nvPr/>
        </p:nvSpPr>
        <p:spPr>
          <a:xfrm>
            <a:off x="2484360" y="4437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3"/>
          <p:cNvSpPr/>
          <p:nvPr/>
        </p:nvSpPr>
        <p:spPr>
          <a:xfrm>
            <a:off x="4211640" y="4365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3137040" y="5877000"/>
            <a:ext cx="526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ОПАНДИОЛ – 1,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4069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7"/>
          <p:cNvSpPr/>
          <p:nvPr/>
        </p:nvSpPr>
        <p:spPr>
          <a:xfrm>
            <a:off x="234180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8"/>
          <p:cNvSpPr/>
          <p:nvPr/>
        </p:nvSpPr>
        <p:spPr>
          <a:xfrm>
            <a:off x="75744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1656360" y="33336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16800" y="95256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те структурную формулу спир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2187000" y="1844640"/>
            <a:ext cx="53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2 – метилбутанол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757800" y="4338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2486520" y="4338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4142520" y="4338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5726520" y="4338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82908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421344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4"/>
          <p:cNvSpPr/>
          <p:nvPr/>
        </p:nvSpPr>
        <p:spPr>
          <a:xfrm>
            <a:off x="5797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2050920" y="47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>
            <a:off x="3348000" y="47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7"/>
          <p:cNvSpPr/>
          <p:nvPr/>
        </p:nvSpPr>
        <p:spPr>
          <a:xfrm>
            <a:off x="5292720" y="4724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8"/>
          <p:cNvSpPr/>
          <p:nvPr/>
        </p:nvSpPr>
        <p:spPr>
          <a:xfrm>
            <a:off x="2700360" y="5013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>
            <a:off x="270036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0"/>
          <p:cNvSpPr/>
          <p:nvPr/>
        </p:nvSpPr>
        <p:spPr>
          <a:xfrm>
            <a:off x="2427480" y="275436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1"/>
          <p:cNvSpPr/>
          <p:nvPr/>
        </p:nvSpPr>
        <p:spPr>
          <a:xfrm>
            <a:off x="2413800" y="5562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"/>
          <p:cNvSpPr/>
          <p:nvPr/>
        </p:nvSpPr>
        <p:spPr>
          <a:xfrm>
            <a:off x="1203120" y="433872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6172200" y="433872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4516560" y="433872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Rectangle 9"/>
          <p:cNvGrpSpPr/>
          <p:nvPr/>
        </p:nvGrpSpPr>
        <p:grpSpPr>
          <a:xfrm>
            <a:off x="1974960" y="225360"/>
            <a:ext cx="6711840" cy="822240"/>
            <a:chOff x="1974960" y="225360"/>
            <a:chExt cx="6711840" cy="822240"/>
          </a:xfrm>
        </p:grpSpPr>
        <p:pic>
          <p:nvPicPr>
            <p:cNvPr id="475" name="Rectangle 9" descr=""/>
            <p:cNvPicPr/>
            <p:nvPr/>
          </p:nvPicPr>
          <p:blipFill>
            <a:blip r:embed="rId1"/>
            <a:stretch/>
          </p:blipFill>
          <p:spPr>
            <a:xfrm>
              <a:off x="1974960" y="225360"/>
              <a:ext cx="67118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128680" y="271440"/>
              <a:ext cx="6386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Georgia"/>
                </a:rPr>
                <a:t>ФИЗИЧЕСКИЕ СВОЙСТВА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0"/>
          <p:cNvSpPr/>
          <p:nvPr/>
        </p:nvSpPr>
        <p:spPr>
          <a:xfrm>
            <a:off x="558000" y="1111320"/>
            <a:ext cx="1970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– 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2896920" y="114300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дк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 характерным спиртовым запа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578520" y="2276640"/>
            <a:ext cx="1970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– 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2987640" y="2060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дкости, имеющие сладковатый, удуш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запах, плохо растворимые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578160" y="3860640"/>
            <a:ext cx="2149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– 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2987640" y="37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идкости, имеющие неприятный зап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растворимые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505080" y="5373720"/>
            <a:ext cx="1607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c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2916360" y="537372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Твердые вещества, без запах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растворимые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Rectangle 2"/>
          <p:cNvGrpSpPr/>
          <p:nvPr/>
        </p:nvGrpSpPr>
        <p:grpSpPr>
          <a:xfrm>
            <a:off x="1116000" y="212760"/>
            <a:ext cx="7924680" cy="720720"/>
            <a:chOff x="1116000" y="212760"/>
            <a:chExt cx="7924680" cy="720720"/>
          </a:xfrm>
        </p:grpSpPr>
        <p:pic>
          <p:nvPicPr>
            <p:cNvPr id="486" name="Rectangle 2" descr=""/>
            <p:cNvPicPr/>
            <p:nvPr/>
          </p:nvPicPr>
          <p:blipFill>
            <a:blip r:embed="rId1"/>
            <a:stretch/>
          </p:blipFill>
          <p:spPr>
            <a:xfrm>
              <a:off x="1116000" y="212760"/>
              <a:ext cx="792468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1189080" y="260280"/>
              <a:ext cx="7775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Georgia"/>
                </a:rPr>
                <a:t>Х И М И Ч Е С К И Е   С В О Й С Т В А   С П И Р Т О 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168480" y="1484280"/>
            <a:ext cx="81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заимодействие с металлами(щелочные и щелочноземель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354960" y="1989000"/>
            <a:ext cx="499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О –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5438520" y="1989000"/>
            <a:ext cx="16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8"/>
          <p:cNvSpPr/>
          <p:nvPr/>
        </p:nvSpPr>
        <p:spPr>
          <a:xfrm>
            <a:off x="395280" y="3645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395280" y="2708280"/>
            <a:ext cx="47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езводный (абсолютизирован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0"/>
          <p:cNvSpPr/>
          <p:nvPr/>
        </p:nvSpPr>
        <p:spPr>
          <a:xfrm>
            <a:off x="7308720" y="242100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4"/>
          <p:cNvSpPr/>
          <p:nvPr/>
        </p:nvSpPr>
        <p:spPr>
          <a:xfrm>
            <a:off x="1579320" y="3284640"/>
            <a:ext cx="4637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6388560" y="3284640"/>
            <a:ext cx="1146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7321320" y="1916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43600" y="90792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А. РЕАКЦИИ 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69360" y="4214880"/>
            <a:ext cx="52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заимодействие с галогеноводор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6"/>
          <p:cNvSpPr/>
          <p:nvPr/>
        </p:nvSpPr>
        <p:spPr>
          <a:xfrm>
            <a:off x="327600" y="4869000"/>
            <a:ext cx="408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H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7"/>
          <p:cNvSpPr/>
          <p:nvPr/>
        </p:nvSpPr>
        <p:spPr>
          <a:xfrm>
            <a:off x="4500720" y="515772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8"/>
          <p:cNvSpPr/>
          <p:nvPr/>
        </p:nvSpPr>
        <p:spPr>
          <a:xfrm flipH="1">
            <a:off x="4500720" y="5300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4"/>
          <p:cNvSpPr/>
          <p:nvPr/>
        </p:nvSpPr>
        <p:spPr>
          <a:xfrm>
            <a:off x="5381280" y="4869000"/>
            <a:ext cx="3178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0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4"/>
          <p:cNvSpPr/>
          <p:nvPr/>
        </p:nvSpPr>
        <p:spPr>
          <a:xfrm>
            <a:off x="1289520" y="20952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Б. РЕАКЦИИ ОТЩ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446040" y="90324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еакции дегидра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211680" y="1557360"/>
            <a:ext cx="3364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7"/>
          <p:cNvSpPr/>
          <p:nvPr/>
        </p:nvSpPr>
        <p:spPr>
          <a:xfrm>
            <a:off x="3635280" y="191628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3585240" y="1413000"/>
            <a:ext cx="23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 &gt;1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3"/>
          <p:cNvSpPr/>
          <p:nvPr/>
        </p:nvSpPr>
        <p:spPr>
          <a:xfrm>
            <a:off x="4074840" y="1916280"/>
            <a:ext cx="92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5"/>
          <p:cNvSpPr/>
          <p:nvPr/>
        </p:nvSpPr>
        <p:spPr>
          <a:xfrm>
            <a:off x="6187320" y="1484280"/>
            <a:ext cx="2549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242280" y="3645000"/>
            <a:ext cx="712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7"/>
          <p:cNvSpPr/>
          <p:nvPr/>
        </p:nvSpPr>
        <p:spPr>
          <a:xfrm>
            <a:off x="1332000" y="5229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1984680" y="5300640"/>
            <a:ext cx="8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9"/>
          <p:cNvSpPr/>
          <p:nvPr/>
        </p:nvSpPr>
        <p:spPr>
          <a:xfrm>
            <a:off x="992880" y="4653000"/>
            <a:ext cx="23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 &lt;1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0"/>
          <p:cNvSpPr/>
          <p:nvPr/>
        </p:nvSpPr>
        <p:spPr>
          <a:xfrm>
            <a:off x="3481560" y="4869000"/>
            <a:ext cx="5281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O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C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"/>
          <p:cNvSpPr/>
          <p:nvPr/>
        </p:nvSpPr>
        <p:spPr>
          <a:xfrm>
            <a:off x="327600" y="604512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"/>
          <p:cNvSpPr/>
          <p:nvPr/>
        </p:nvSpPr>
        <p:spPr>
          <a:xfrm>
            <a:off x="399960" y="27338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ВНУТРИМОЛЕ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7524720" y="393372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6885000" y="220500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ЛК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5"/>
          <p:cNvSpPr/>
          <p:nvPr/>
        </p:nvSpPr>
        <p:spPr>
          <a:xfrm>
            <a:off x="4932360" y="573408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ОСТОЙ ЭФ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0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3"/>
          <p:cNvSpPr/>
          <p:nvPr/>
        </p:nvSpPr>
        <p:spPr>
          <a:xfrm>
            <a:off x="1131120" y="1890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В. РЕАКЦИИ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250200" y="90792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Реакции г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70520" y="1628640"/>
            <a:ext cx="6986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 +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322920" y="292428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еакции ок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470880" y="3716280"/>
            <a:ext cx="19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2556000" y="407664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4430520" y="3716280"/>
            <a:ext cx="23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4"/>
          <p:cNvSpPr/>
          <p:nvPr/>
        </p:nvSpPr>
        <p:spPr>
          <a:xfrm>
            <a:off x="6948360" y="4005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2919240" y="5516640"/>
            <a:ext cx="27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O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6"/>
          <p:cNvSpPr/>
          <p:nvPr/>
        </p:nvSpPr>
        <p:spPr>
          <a:xfrm>
            <a:off x="1116000" y="5877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323640" y="443700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ервичный спи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1"/>
          <p:cNvSpPr/>
          <p:nvPr/>
        </p:nvSpPr>
        <p:spPr>
          <a:xfrm>
            <a:off x="4932360" y="44370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2"/>
          <p:cNvSpPr/>
          <p:nvPr/>
        </p:nvSpPr>
        <p:spPr>
          <a:xfrm>
            <a:off x="2986560" y="623736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2505600" y="3500280"/>
            <a:ext cx="161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, K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r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7235280" y="342900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, “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6"/>
          <p:cNvSpPr/>
          <p:nvPr/>
        </p:nvSpPr>
        <p:spPr>
          <a:xfrm>
            <a:off x="1258200" y="53737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, “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2851560" y="422100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H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0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8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Рисунок 2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1" descr="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Georgia"/>
              </a:rPr>
              <a:t>Применение спир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тр.62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писать применение метанола, этано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Rectangle 3"/>
          <p:cNvGrpSpPr/>
          <p:nvPr/>
        </p:nvGrpSpPr>
        <p:grpSpPr>
          <a:xfrm>
            <a:off x="1122480" y="285840"/>
            <a:ext cx="7435800" cy="1030320"/>
            <a:chOff x="1122480" y="285840"/>
            <a:chExt cx="7435800" cy="1030320"/>
          </a:xfrm>
        </p:grpSpPr>
        <p:pic>
          <p:nvPicPr>
            <p:cNvPr id="542" name="Rectangle 3" descr=""/>
            <p:cNvPicPr/>
            <p:nvPr/>
          </p:nvPicPr>
          <p:blipFill>
            <a:blip r:embed="rId1"/>
            <a:stretch/>
          </p:blipFill>
          <p:spPr>
            <a:xfrm>
              <a:off x="1122480" y="285840"/>
              <a:ext cx="74358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1476360" y="404640"/>
              <a:ext cx="669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ff"/>
                  </a:solidFill>
                  <a:latin typeface="Georgia"/>
                </a:rPr>
                <a:t>Д О М А Ш Н Е Е   З А Д А Н И 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7"/>
          <p:cNvSpPr/>
          <p:nvPr/>
        </p:nvSpPr>
        <p:spPr>
          <a:xfrm>
            <a:off x="1318680" y="1484280"/>
            <a:ext cx="701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§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11,1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упр. 2,3,5,6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стр. 62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Составить конспект по 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«Многоатомные спир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Arial"/>
              </a:rPr>
              <a:t>Упр. 3-5 (письменно) – стр. 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0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Rectangle 5"/>
          <p:cNvGrpSpPr/>
          <p:nvPr/>
        </p:nvGrpSpPr>
        <p:grpSpPr>
          <a:xfrm>
            <a:off x="4584600" y="2481120"/>
            <a:ext cx="4473720" cy="1030320"/>
            <a:chOff x="4584600" y="2481120"/>
            <a:chExt cx="4473720" cy="1030320"/>
          </a:xfrm>
        </p:grpSpPr>
        <p:pic>
          <p:nvPicPr>
            <p:cNvPr id="320" name="Rectangle 5" descr=""/>
            <p:cNvPicPr/>
            <p:nvPr/>
          </p:nvPicPr>
          <p:blipFill>
            <a:blip r:embed="rId1"/>
            <a:stretch/>
          </p:blipFill>
          <p:spPr>
            <a:xfrm>
              <a:off x="4584600" y="2481120"/>
              <a:ext cx="44737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859280" y="2637000"/>
              <a:ext cx="3889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Georgia"/>
                </a:rPr>
                <a:t>А Л Ь Д Е Г И Д 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Rectangle 6"/>
          <p:cNvGrpSpPr/>
          <p:nvPr/>
        </p:nvGrpSpPr>
        <p:grpSpPr>
          <a:xfrm>
            <a:off x="420840" y="4572000"/>
            <a:ext cx="8119800" cy="1030320"/>
            <a:chOff x="420840" y="4572000"/>
            <a:chExt cx="8119800" cy="1030320"/>
          </a:xfrm>
        </p:grpSpPr>
        <p:pic>
          <p:nvPicPr>
            <p:cNvPr id="323" name="Rectangle 6" descr=""/>
            <p:cNvPicPr/>
            <p:nvPr/>
          </p:nvPicPr>
          <p:blipFill>
            <a:blip r:embed="rId2"/>
            <a:stretch/>
          </p:blipFill>
          <p:spPr>
            <a:xfrm>
              <a:off x="420840" y="4572000"/>
              <a:ext cx="81198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84360" y="4724280"/>
              <a:ext cx="7559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Georgia"/>
                </a:rPr>
                <a:t>К А Р Б О Н О В Ы Е  К И С Л О Т 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Rectangle 7"/>
          <p:cNvGrpSpPr/>
          <p:nvPr/>
        </p:nvGrpSpPr>
        <p:grpSpPr>
          <a:xfrm>
            <a:off x="324000" y="2554200"/>
            <a:ext cx="3456000" cy="1030320"/>
            <a:chOff x="324000" y="2554200"/>
            <a:chExt cx="3456000" cy="1030320"/>
          </a:xfrm>
        </p:grpSpPr>
        <p:pic>
          <p:nvPicPr>
            <p:cNvPr id="326" name="Rectangle 7" descr=""/>
            <p:cNvPicPr/>
            <p:nvPr/>
          </p:nvPicPr>
          <p:blipFill>
            <a:blip r:embed="rId3"/>
            <a:stretch/>
          </p:blipFill>
          <p:spPr>
            <a:xfrm>
              <a:off x="324000" y="2554200"/>
              <a:ext cx="3456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95280" y="2708280"/>
              <a:ext cx="331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Georgia"/>
                </a:rPr>
                <a:t>С П И Р Т 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Rectangle 8"/>
          <p:cNvGrpSpPr/>
          <p:nvPr/>
        </p:nvGrpSpPr>
        <p:grpSpPr>
          <a:xfrm>
            <a:off x="682560" y="285840"/>
            <a:ext cx="7925040" cy="725400"/>
            <a:chOff x="682560" y="285840"/>
            <a:chExt cx="7925040" cy="725400"/>
          </a:xfrm>
        </p:grpSpPr>
        <p:pic>
          <p:nvPicPr>
            <p:cNvPr id="329" name="Rectangle 8" descr=""/>
            <p:cNvPicPr/>
            <p:nvPr/>
          </p:nvPicPr>
          <p:blipFill>
            <a:blip r:embed="rId4"/>
            <a:stretch/>
          </p:blipFill>
          <p:spPr>
            <a:xfrm>
              <a:off x="682560" y="285840"/>
              <a:ext cx="79250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55640" y="333360"/>
              <a:ext cx="777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orbel"/>
                </a:rPr>
                <a:t>КИСЛОРОДСОДЕРЖАЩИЕ ОРГАНИЧЕСКИЕ СОЕДИ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Line 13"/>
          <p:cNvSpPr/>
          <p:nvPr/>
        </p:nvSpPr>
        <p:spPr>
          <a:xfrm flipH="1">
            <a:off x="1763280" y="907920"/>
            <a:ext cx="107964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>
            <a:off x="4427640" y="907920"/>
            <a:ext cx="0" cy="360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6156360" y="907920"/>
            <a:ext cx="936720" cy="151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1247040" y="26028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СПИ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707120" y="1359000"/>
            <a:ext cx="6028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8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8800" spc="-1" strike="noStrike" baseline="-25000">
                <a:solidFill>
                  <a:srgbClr val="000000"/>
                </a:solidFill>
                <a:latin typeface="Arial"/>
              </a:rPr>
              <a:t>2n + 1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O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382920" y="4581360"/>
            <a:ext cx="5286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8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8800" spc="-1" strike="noStrike" baseline="-25000">
                <a:solidFill>
                  <a:srgbClr val="000000"/>
                </a:solidFill>
                <a:latin typeface="Arial"/>
              </a:rPr>
              <a:t>2n + 2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4213080" y="35002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1285560" y="26028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95280" y="1004760"/>
            <a:ext cx="71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молекулярные формулы спир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щ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53800" y="2133720"/>
            <a:ext cx="29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тома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2520" y="3789360"/>
            <a:ext cx="346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15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томов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2520" y="5445000"/>
            <a:ext cx="346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25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томов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733920" y="2084400"/>
            <a:ext cx="2683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9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Н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31720" y="2060640"/>
            <a:ext cx="2273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10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3759120" y="3716280"/>
            <a:ext cx="2887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15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31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Н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6950520" y="3716280"/>
            <a:ext cx="2142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15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32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3686040" y="5445000"/>
            <a:ext cx="3043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25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51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Н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795000" y="5445000"/>
            <a:ext cx="2297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25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feb80a"/>
                </a:solidFill>
                <a:latin typeface="Arial"/>
              </a:rPr>
              <a:t>52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Rectangle 2"/>
          <p:cNvGrpSpPr/>
          <p:nvPr/>
        </p:nvGrpSpPr>
        <p:grpSpPr>
          <a:xfrm>
            <a:off x="1547640" y="212760"/>
            <a:ext cx="6340680" cy="824040"/>
            <a:chOff x="1547640" y="212760"/>
            <a:chExt cx="6340680" cy="824040"/>
          </a:xfrm>
        </p:grpSpPr>
        <p:pic>
          <p:nvPicPr>
            <p:cNvPr id="350" name="Rectangle 2" descr=""/>
            <p:cNvPicPr/>
            <p:nvPr/>
          </p:nvPicPr>
          <p:blipFill>
            <a:blip r:embed="rId1"/>
            <a:stretch/>
          </p:blipFill>
          <p:spPr>
            <a:xfrm>
              <a:off x="1547640" y="212760"/>
              <a:ext cx="63406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619280" y="260280"/>
              <a:ext cx="619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Georgia"/>
                </a:rPr>
                <a:t>КЛАССИФИКАЦИЯ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5"/>
          <p:cNvGrpSpPr/>
          <p:nvPr/>
        </p:nvGrpSpPr>
        <p:grpSpPr>
          <a:xfrm>
            <a:off x="176040" y="1292400"/>
            <a:ext cx="4542120" cy="695160"/>
            <a:chOff x="176040" y="1292400"/>
            <a:chExt cx="4542120" cy="695160"/>
          </a:xfrm>
        </p:grpSpPr>
        <p:pic>
          <p:nvPicPr>
            <p:cNvPr id="353" name="Rectangle 5" descr=""/>
            <p:cNvPicPr/>
            <p:nvPr/>
          </p:nvPicPr>
          <p:blipFill>
            <a:blip r:embed="rId2"/>
            <a:stretch/>
          </p:blipFill>
          <p:spPr>
            <a:xfrm>
              <a:off x="176040" y="1292400"/>
              <a:ext cx="45421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50920" y="1341360"/>
              <a:ext cx="4392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1.ПО КОЛИЧЕСТВУ ГИДРОКСОГРУП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8"/>
          <p:cNvSpPr/>
          <p:nvPr/>
        </p:nvSpPr>
        <p:spPr>
          <a:xfrm>
            <a:off x="3856680" y="198900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ОДНОАТОМ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3713760" y="2781360"/>
            <a:ext cx="50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МНОГОАТОМ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Rectangle 10"/>
          <p:cNvGrpSpPr/>
          <p:nvPr/>
        </p:nvGrpSpPr>
        <p:grpSpPr>
          <a:xfrm>
            <a:off x="176040" y="3743280"/>
            <a:ext cx="5475600" cy="695520"/>
            <a:chOff x="176040" y="3743280"/>
            <a:chExt cx="5475600" cy="695520"/>
          </a:xfrm>
        </p:grpSpPr>
        <p:pic>
          <p:nvPicPr>
            <p:cNvPr id="358" name="Rectangle 10" descr=""/>
            <p:cNvPicPr/>
            <p:nvPr/>
          </p:nvPicPr>
          <p:blipFill>
            <a:blip r:embed="rId3"/>
            <a:stretch/>
          </p:blipFill>
          <p:spPr>
            <a:xfrm>
              <a:off x="176040" y="3743280"/>
              <a:ext cx="54756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0920" y="3789360"/>
              <a:ext cx="532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2. ПО СТРОЕНИЮ УГЛЕРОДНОГО СКЕЛ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13"/>
          <p:cNvSpPr/>
          <p:nvPr/>
        </p:nvSpPr>
        <p:spPr>
          <a:xfrm>
            <a:off x="3654720" y="4581360"/>
            <a:ext cx="415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ПРЕД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3655080" y="528336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НЕПРЕД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3721680" y="598176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АРОМАТ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Rectangle 2"/>
          <p:cNvGrpSpPr/>
          <p:nvPr/>
        </p:nvGrpSpPr>
        <p:grpSpPr>
          <a:xfrm>
            <a:off x="1474920" y="212760"/>
            <a:ext cx="6340320" cy="824040"/>
            <a:chOff x="1474920" y="212760"/>
            <a:chExt cx="6340320" cy="824040"/>
          </a:xfrm>
        </p:grpSpPr>
        <p:pic>
          <p:nvPicPr>
            <p:cNvPr id="364" name="Rectangle 2" descr=""/>
            <p:cNvPicPr/>
            <p:nvPr/>
          </p:nvPicPr>
          <p:blipFill>
            <a:blip r:embed="rId1"/>
            <a:stretch/>
          </p:blipFill>
          <p:spPr>
            <a:xfrm>
              <a:off x="1474920" y="212760"/>
              <a:ext cx="63403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1547640" y="260280"/>
              <a:ext cx="619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Georgia"/>
                </a:rPr>
                <a:t>КЛАССИФИКАЦИЯ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Rectangle 3"/>
          <p:cNvGrpSpPr/>
          <p:nvPr/>
        </p:nvGrpSpPr>
        <p:grpSpPr>
          <a:xfrm>
            <a:off x="1066680" y="1285920"/>
            <a:ext cx="7680600" cy="695160"/>
            <a:chOff x="1066680" y="1285920"/>
            <a:chExt cx="7680600" cy="695160"/>
          </a:xfrm>
        </p:grpSpPr>
        <p:pic>
          <p:nvPicPr>
            <p:cNvPr id="367" name="Rectangle 3" descr=""/>
            <p:cNvPicPr/>
            <p:nvPr/>
          </p:nvPicPr>
          <p:blipFill>
            <a:blip r:embed="rId2"/>
            <a:stretch/>
          </p:blipFill>
          <p:spPr>
            <a:xfrm>
              <a:off x="1066680" y="1285920"/>
              <a:ext cx="7680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187280" y="1333440"/>
              <a:ext cx="74901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3. ПО АТОМУ УГЛЕРОДА, СВЯЗАННОМУ С ГИДРОКСОГРУПП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"/>
          <p:cNvSpPr/>
          <p:nvPr/>
        </p:nvSpPr>
        <p:spPr>
          <a:xfrm>
            <a:off x="5151960" y="2276640"/>
            <a:ext cx="38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ПЕРВ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5223240" y="378936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ВТОР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5295600" y="5734080"/>
            <a:ext cx="37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- ТРЕТ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282240" y="2349360"/>
            <a:ext cx="3748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 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140760" y="3860640"/>
            <a:ext cx="5001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(ОН) – 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225360" y="5734080"/>
            <a:ext cx="4870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357920" y="32868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1133280" y="979560"/>
            <a:ext cx="66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цируйте предложенные спир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88000" y="1484280"/>
            <a:ext cx="8596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H</a:t>
            </a:r>
            <a:r>
              <a:rPr b="1" lang="en-US" sz="44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– CH</a:t>
            </a:r>
            <a:r>
              <a:rPr b="1" lang="en-US" sz="4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– CH = CH – CH</a:t>
            </a:r>
            <a:r>
              <a:rPr b="1" lang="en-US" sz="4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- 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079240" y="2492280"/>
            <a:ext cx="358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дноато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епред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ервич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75040" y="4292640"/>
            <a:ext cx="8368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СН</a:t>
            </a:r>
            <a:r>
              <a:rPr b="1" lang="ru-RU" sz="44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– СН (ОН) – СН (ОН) – СН</a:t>
            </a:r>
            <a:r>
              <a:rPr b="1" lang="ru-RU" sz="44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5006520" y="5229360"/>
            <a:ext cx="35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ногоато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ед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197360" y="836640"/>
            <a:ext cx="68727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я предельных одноатомных спиртов обра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названий соответствующих углеводо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 числу атомов в пронумерованной углеродной цеп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рибавлением суффик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– ол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214640" y="2217600"/>
            <a:ext cx="26694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СН</a:t>
            </a:r>
            <a:r>
              <a:rPr b="1" lang="ru-RU" sz="6000" spc="-1" strike="noStrike" baseline="-25000">
                <a:solidFill>
                  <a:srgbClr val="feb80a"/>
                </a:solidFill>
                <a:latin typeface="Arial"/>
              </a:rPr>
              <a:t>3</a:t>
            </a: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619520" y="2065320"/>
            <a:ext cx="24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ет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4573440" y="3068640"/>
            <a:ext cx="41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есцветная жидкость с характер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апахом; прекрасный растворит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ЯДОВИТ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1298520" y="3716280"/>
            <a:ext cx="29149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С</a:t>
            </a:r>
            <a:r>
              <a:rPr b="1" lang="ru-RU" sz="6000" spc="-1" strike="noStrike" baseline="-25000">
                <a:solidFill>
                  <a:srgbClr val="feb80a"/>
                </a:solidFill>
                <a:latin typeface="Arial"/>
              </a:rPr>
              <a:t>2</a:t>
            </a: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Н</a:t>
            </a:r>
            <a:r>
              <a:rPr b="1" lang="ru-RU" sz="6000" spc="-1" strike="noStrike" baseline="-25000">
                <a:solidFill>
                  <a:srgbClr val="feb80a"/>
                </a:solidFill>
                <a:latin typeface="Arial"/>
              </a:rPr>
              <a:t>5</a:t>
            </a:r>
            <a:r>
              <a:rPr b="1" lang="ru-RU" sz="6000" spc="-1" strike="noStrike">
                <a:solidFill>
                  <a:srgbClr val="feb80a"/>
                </a:solidFill>
                <a:latin typeface="Arial"/>
              </a:rPr>
              <a:t>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5186520" y="3789360"/>
            <a:ext cx="18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т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4565880" y="4869000"/>
            <a:ext cx="45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есцветная жидкость с характер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апахом; смешивается с водо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любых соотношениях; в больш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оличествах крайн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ядовит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используется в медицине, парфюме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и пищевой промышлен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2" descr="берцелиус"/>
          <p:cNvPicPr/>
          <p:nvPr/>
        </p:nvPicPr>
        <p:blipFill>
          <a:blip r:embed="rId1"/>
          <a:stretch/>
        </p:blipFill>
        <p:spPr>
          <a:xfrm>
            <a:off x="250920" y="4869000"/>
            <a:ext cx="1728720" cy="1800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5"/>
          <p:cNvSpPr/>
          <p:nvPr/>
        </p:nvSpPr>
        <p:spPr>
          <a:xfrm>
            <a:off x="2127600" y="580536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.Я.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2340720" y="6237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8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6856560" y="2052720"/>
            <a:ext cx="113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6856560" y="3789360"/>
            <a:ext cx="113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3"/>
          <p:cNvSpPr/>
          <p:nvPr/>
        </p:nvSpPr>
        <p:spPr>
          <a:xfrm>
            <a:off x="1986480" y="14292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Номенклатура      спи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ectangle 2"/>
          <p:cNvGrpSpPr/>
          <p:nvPr/>
        </p:nvGrpSpPr>
        <p:grpSpPr>
          <a:xfrm>
            <a:off x="1023840" y="182520"/>
            <a:ext cx="6973920" cy="920880"/>
            <a:chOff x="1023840" y="182520"/>
            <a:chExt cx="6973920" cy="920880"/>
          </a:xfrm>
        </p:grpSpPr>
        <p:pic>
          <p:nvPicPr>
            <p:cNvPr id="395" name="Rectangle 2" descr=""/>
            <p:cNvPicPr/>
            <p:nvPr/>
          </p:nvPicPr>
          <p:blipFill>
            <a:blip r:embed="rId1"/>
            <a:stretch/>
          </p:blipFill>
          <p:spPr>
            <a:xfrm>
              <a:off x="1023840" y="182520"/>
              <a:ext cx="69739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187280" y="333360"/>
              <a:ext cx="6624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Georgia"/>
                </a:rPr>
                <a:t>н о м е н к л а т у р а      с п и р т о 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4"/>
          <p:cNvSpPr/>
          <p:nvPr/>
        </p:nvSpPr>
        <p:spPr>
          <a:xfrm>
            <a:off x="627480" y="203508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270880" y="203508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3796200" y="203508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5451840" y="203508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166880" y="203508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2284560" y="3259080"/>
            <a:ext cx="107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1763640" y="2421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3276720" y="242100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4932360" y="2421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2484360" y="278136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6588000" y="2421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5561280" y="150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392616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241344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68616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468720" y="472428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3 – МЕТИЛ</a:t>
            </a:r>
            <a:r>
              <a:rPr b="1" lang="ru-RU" sz="44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3"/>
          <p:cNvSpPr/>
          <p:nvPr/>
        </p:nvSpPr>
        <p:spPr>
          <a:xfrm flipH="1">
            <a:off x="755640" y="1773360"/>
            <a:ext cx="1728720" cy="295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4"/>
          <p:cNvSpPr/>
          <p:nvPr/>
        </p:nvSpPr>
        <p:spPr>
          <a:xfrm flipH="1">
            <a:off x="2484000" y="3860640"/>
            <a:ext cx="14292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3348720" y="4724280"/>
            <a:ext cx="207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БУ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7"/>
          <p:cNvSpPr/>
          <p:nvPr/>
        </p:nvSpPr>
        <p:spPr>
          <a:xfrm>
            <a:off x="5221080" y="472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ff"/>
                </a:solidFill>
                <a:latin typeface="Arial"/>
              </a:rPr>
              <a:t>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8"/>
          <p:cNvSpPr/>
          <p:nvPr/>
        </p:nvSpPr>
        <p:spPr>
          <a:xfrm flipH="1">
            <a:off x="5796000" y="2637000"/>
            <a:ext cx="1728720" cy="20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6302160" y="4653000"/>
            <a:ext cx="9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ff"/>
                </a:solidFill>
                <a:latin typeface="Arial"/>
              </a:rPr>
              <a:t>-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1"/>
          <p:cNvSpPr/>
          <p:nvPr/>
        </p:nvSpPr>
        <p:spPr>
          <a:xfrm>
            <a:off x="5724360" y="1844640"/>
            <a:ext cx="1079640" cy="2952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5:44:15Z</dcterms:created>
  <dc:creator>alex</dc:creator>
  <dc:description/>
  <dc:language>en-US</dc:language>
  <cp:lastModifiedBy>user</cp:lastModifiedBy>
  <dcterms:modified xsi:type="dcterms:W3CDTF">2021-01-18T14:36:28Z</dcterms:modified>
  <cp:revision>36</cp:revision>
  <dc:subject/>
  <dc:title>Слайд 1</dc:title>
</cp:coreProperties>
</file>