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694-9095-4C19-9F18-1ECB3A7E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C09-5AED-4D5E-9FE1-1EC42F35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3C4-157C-4573-B01A-EF0EFBDB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5B6-CA77-469B-BF00-0C503D2E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16C7-4445-4AD2-AFB7-2C266431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0E97-D9B9-476B-9266-02245212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7759-F4CC-4BDD-8751-2D8C58CE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4D70-1CAB-4E7B-A4E1-9A1AF092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1228-B0F5-4808-B287-A11DDFA0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9256-A454-4879-8B9A-7F51538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C636-150B-42C4-93C4-A6EF9C48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BEB-4B7A-4CE4-94C8-FB78DCFB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3197-FE48-4EFD-B30F-F216267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A24A-11F6-4FF5-80FC-F74A75F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F2B2-78AF-4AA4-BFC7-F1B3A19B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B51A-7D07-43CD-A807-6EFC8B46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0370-5456-4E29-80B7-E3F31BD7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22C6-2B23-4C48-B1EE-12CFFB7E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32CA2-A79E-421D-960E-FB290C9D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B06F6-B628-41D3-AB36-22B14938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AB11-2D0C-4459-8625-5877B023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A8A6-102F-4FF0-99CF-736D8899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142-C7EB-4884-B687-A5DE66A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B3EC-B7E0-4DFF-A8BB-B12055D4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FA16-870D-4822-99ED-6F4A4DD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65BA-DD12-428B-BEA6-902861C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8DC0-64B6-4C42-B948-E2777F05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2C00-4E4C-41BF-A2A4-6711B59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576F-7FB3-4B64-B08B-8EDA9FF5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17F7-B5AB-4FA2-A9D2-674E46FF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2B896-0D1E-482C-8684-20AF787C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C66E-3377-4A66-9295-86EB69E2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BB4F-48E6-48BA-8671-85E085E2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EF5-74B4-466B-90B6-95248960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F469-2682-4BEB-945E-1DBFEEF7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5EE1-1931-4E83-9231-5526A055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B927-8D0E-4C01-8659-984296BA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A305-7745-4384-B97A-03E1718C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4F0C-35E4-4BCF-86D1-47426C55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6513F-7218-4B6A-9105-B00434D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B042-B2F7-47F0-ADE4-A8A1676C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1302-A1AF-49F3-9A4B-7892FC48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6DB8-8586-4D60-9018-4D1EAF1C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6726-49F3-403A-8D36-B9313CCB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56D-F89B-424A-9CA0-36870270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59B3-F6BA-4C0B-8DD3-0EE71A9E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84112-C809-44EF-8ACF-18B17BBB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59CF-6FF2-4FB8-B50B-DD7FFEA5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C501-4F0C-4D59-816C-0438A747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91E89-09D6-4C6E-A94E-1F2EF621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6A8D1-64BA-4D30-A1F1-C05C2F5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D999C-7E43-4A23-8CC2-670122BB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8AA2-8196-4219-934E-D4EE6096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C541-DDE8-4F1C-83CC-C0CAF963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74707-EA9A-4DC3-94EF-A22F3A9B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C44-5CF2-43CE-9618-0D64EDD7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CD85-267B-4D5B-A5A1-F3F7D8F7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7DFB4-858F-4520-B653-0FDF26EF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781B-E520-4056-AB47-651441A1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7E06C-44D5-4043-8A51-EF388A5C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C1430-1E5F-4E2D-BF10-B2EDDDB4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7E41-5666-464B-8A94-FEF3FD26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A9E3F-369A-49F0-82BA-A531946A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839FC-AE17-4582-BF2A-639D31D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047B0-6F48-40EC-BE5C-BD5A7A6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700F-F1A1-4325-9425-9D4BB9C5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DD6-B8B6-40D6-9CD1-011D3775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463A0-3C4D-4A80-8DC7-E69C0AB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6DF95-0972-414F-AD96-EEB7744E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0B4B6-BE15-4F89-BE2C-37894992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37500-CAAD-453E-99C1-00B724FF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F3680-F36E-4938-A690-A6509800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723D9-531B-41AE-A0E4-68FEF6DA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032F-4C3F-429E-9456-27C3F39B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3D746-61D2-4789-9CB7-20011451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84D19-B5F0-409E-9A1C-45E58776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F882C-5948-4822-95A3-00C4BC5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BE2-6068-411E-8F5A-DF949697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0DA6-3228-4DDD-AE2D-126A4F16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FAACD-263A-4B83-9B6E-ECBF4F4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0D57C-4ADC-40FA-A284-D29ABC0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E2E03-C1E8-4B11-9D62-84BE91CF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74DCC-6C48-423D-A74F-46BC036C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C29-7552-4726-91E0-6AC2964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150E-14CC-495F-9DE1-02BC94F13CA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C714-5E19-4942-B199-45147ACBE8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37CB-5A07-4915-9627-6824D12336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F509-C2B9-44AE-AC98-BF8B954A86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AC8D-479F-4807-B5E9-959656B76F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A5C6-1A0E-4772-86AA-EF7F6C301B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1966-4D00-430E-A188-364C99FB0C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991800" y="1103400"/>
            <a:ext cx="800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Кислородсодержащ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органическ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оеди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340200" y="83664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1910520" y="80964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3206160" y="80964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4503240" y="80964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812200" y="73836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206160" y="181764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4516920" y="181764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1476360" y="112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71640" y="1197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406728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5364000" y="1125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5"/>
          <p:cNvSpPr/>
          <p:nvPr/>
        </p:nvSpPr>
        <p:spPr>
          <a:xfrm>
            <a:off x="3419640" y="155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6"/>
          <p:cNvSpPr/>
          <p:nvPr/>
        </p:nvSpPr>
        <p:spPr>
          <a:xfrm>
            <a:off x="4716360" y="1484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47016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198144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278520" y="47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450252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586944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3"/>
          <p:cNvSpPr/>
          <p:nvPr/>
        </p:nvSpPr>
        <p:spPr>
          <a:xfrm>
            <a:off x="1476360" y="1268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4"/>
          <p:cNvSpPr/>
          <p:nvPr/>
        </p:nvSpPr>
        <p:spPr>
          <a:xfrm>
            <a:off x="545040" y="2708280"/>
            <a:ext cx="80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 – МЕТИЛПЕНТЕН – 1 – ОЛ –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5"/>
          <p:cNvSpPr/>
          <p:nvPr/>
        </p:nvSpPr>
        <p:spPr>
          <a:xfrm>
            <a:off x="700560" y="376236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6"/>
          <p:cNvSpPr/>
          <p:nvPr/>
        </p:nvSpPr>
        <p:spPr>
          <a:xfrm>
            <a:off x="2270880" y="376236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7"/>
          <p:cNvSpPr/>
          <p:nvPr/>
        </p:nvSpPr>
        <p:spPr>
          <a:xfrm>
            <a:off x="4011840" y="376236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8"/>
          <p:cNvSpPr/>
          <p:nvPr/>
        </p:nvSpPr>
        <p:spPr>
          <a:xfrm>
            <a:off x="2198160" y="47973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9"/>
          <p:cNvSpPr/>
          <p:nvPr/>
        </p:nvSpPr>
        <p:spPr>
          <a:xfrm>
            <a:off x="3998160" y="47973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0"/>
          <p:cNvSpPr/>
          <p:nvPr/>
        </p:nvSpPr>
        <p:spPr>
          <a:xfrm>
            <a:off x="1692360" y="41497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1"/>
          <p:cNvSpPr/>
          <p:nvPr/>
        </p:nvSpPr>
        <p:spPr>
          <a:xfrm>
            <a:off x="3276720" y="41497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32"/>
          <p:cNvSpPr/>
          <p:nvPr/>
        </p:nvSpPr>
        <p:spPr>
          <a:xfrm>
            <a:off x="2484360" y="4437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3"/>
          <p:cNvSpPr/>
          <p:nvPr/>
        </p:nvSpPr>
        <p:spPr>
          <a:xfrm>
            <a:off x="4211640" y="4365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3137040" y="5877000"/>
            <a:ext cx="526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ОПАНДИОЛ – 1,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4069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7"/>
          <p:cNvSpPr/>
          <p:nvPr/>
        </p:nvSpPr>
        <p:spPr>
          <a:xfrm>
            <a:off x="234180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8"/>
          <p:cNvSpPr/>
          <p:nvPr/>
        </p:nvSpPr>
        <p:spPr>
          <a:xfrm>
            <a:off x="7574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1656360" y="33336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6800" y="95256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те структурную формулу спир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2187000" y="1844640"/>
            <a:ext cx="53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2 – метилбутанол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757800" y="4338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2486520" y="4338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4142520" y="4338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5726520" y="4338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82908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421344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4"/>
          <p:cNvSpPr/>
          <p:nvPr/>
        </p:nvSpPr>
        <p:spPr>
          <a:xfrm>
            <a:off x="5797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2050920" y="47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>
            <a:off x="3348000" y="47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7"/>
          <p:cNvSpPr/>
          <p:nvPr/>
        </p:nvSpPr>
        <p:spPr>
          <a:xfrm>
            <a:off x="5292720" y="4724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8"/>
          <p:cNvSpPr/>
          <p:nvPr/>
        </p:nvSpPr>
        <p:spPr>
          <a:xfrm>
            <a:off x="2700360" y="5013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>
            <a:off x="270036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0"/>
          <p:cNvSpPr/>
          <p:nvPr/>
        </p:nvSpPr>
        <p:spPr>
          <a:xfrm>
            <a:off x="2427480" y="275436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1"/>
          <p:cNvSpPr/>
          <p:nvPr/>
        </p:nvSpPr>
        <p:spPr>
          <a:xfrm>
            <a:off x="2413800" y="5562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"/>
          <p:cNvSpPr/>
          <p:nvPr/>
        </p:nvSpPr>
        <p:spPr>
          <a:xfrm>
            <a:off x="1203120" y="433872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6172200" y="433872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4516560" y="433872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Rectangle 9"/>
          <p:cNvGrpSpPr/>
          <p:nvPr/>
        </p:nvGrpSpPr>
        <p:grpSpPr>
          <a:xfrm>
            <a:off x="1974960" y="225360"/>
            <a:ext cx="6711840" cy="822240"/>
            <a:chOff x="1974960" y="225360"/>
            <a:chExt cx="6711840" cy="822240"/>
          </a:xfrm>
        </p:grpSpPr>
        <p:pic>
          <p:nvPicPr>
            <p:cNvPr id="475" name="Rectangle 9" descr=""/>
            <p:cNvPicPr/>
            <p:nvPr/>
          </p:nvPicPr>
          <p:blipFill>
            <a:blip r:embed="rId1"/>
            <a:stretch/>
          </p:blipFill>
          <p:spPr>
            <a:xfrm>
              <a:off x="1974960" y="225360"/>
              <a:ext cx="67118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128680" y="271440"/>
              <a:ext cx="6386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Georgia"/>
                </a:rPr>
                <a:t>ФИЗИЧЕСКИЕ СВОЙСТВА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0"/>
          <p:cNvSpPr/>
          <p:nvPr/>
        </p:nvSpPr>
        <p:spPr>
          <a:xfrm>
            <a:off x="558000" y="1111320"/>
            <a:ext cx="1970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– 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2896920" y="114300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дк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 характерным спиртовым запа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578520" y="2276640"/>
            <a:ext cx="1970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– 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2987640" y="2060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дкости, имеющие сладковатый, удуш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ах, плохо растворимые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578160" y="3860640"/>
            <a:ext cx="2149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– 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2987640" y="37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дкости, имеющие неприятный зап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растворимые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505080" y="5373720"/>
            <a:ext cx="1607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2916360" y="537372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вердые вещества, без запах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растворимые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2"/>
          <p:cNvGrpSpPr/>
          <p:nvPr/>
        </p:nvGrpSpPr>
        <p:grpSpPr>
          <a:xfrm>
            <a:off x="1116000" y="212760"/>
            <a:ext cx="7924680" cy="720720"/>
            <a:chOff x="1116000" y="212760"/>
            <a:chExt cx="7924680" cy="720720"/>
          </a:xfrm>
        </p:grpSpPr>
        <p:pic>
          <p:nvPicPr>
            <p:cNvPr id="486" name="Rectangle 2" descr=""/>
            <p:cNvPicPr/>
            <p:nvPr/>
          </p:nvPicPr>
          <p:blipFill>
            <a:blip r:embed="rId1"/>
            <a:stretch/>
          </p:blipFill>
          <p:spPr>
            <a:xfrm>
              <a:off x="1116000" y="212760"/>
              <a:ext cx="792468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1189080" y="260280"/>
              <a:ext cx="7775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Georgia"/>
                </a:rPr>
                <a:t>Х И М И Ч Е С К И Е   С В О Й С Т В А   С П И Р Т О 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168480" y="1484280"/>
            <a:ext cx="81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заимодействие с металлами(щелочные и щелочноземель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354960" y="1989000"/>
            <a:ext cx="499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О –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5438520" y="1989000"/>
            <a:ext cx="16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8"/>
          <p:cNvSpPr/>
          <p:nvPr/>
        </p:nvSpPr>
        <p:spPr>
          <a:xfrm>
            <a:off x="395280" y="3645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395280" y="2708280"/>
            <a:ext cx="47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езводный (абсолютизирован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0"/>
          <p:cNvSpPr/>
          <p:nvPr/>
        </p:nvSpPr>
        <p:spPr>
          <a:xfrm>
            <a:off x="7308720" y="242100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4"/>
          <p:cNvSpPr/>
          <p:nvPr/>
        </p:nvSpPr>
        <p:spPr>
          <a:xfrm>
            <a:off x="1579320" y="3284640"/>
            <a:ext cx="4637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6388560" y="3284640"/>
            <a:ext cx="114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7321320" y="1916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43600" y="90792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А. РЕАКЦИИ 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69360" y="4214880"/>
            <a:ext cx="52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заимодействие с галогеноводор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6"/>
          <p:cNvSpPr/>
          <p:nvPr/>
        </p:nvSpPr>
        <p:spPr>
          <a:xfrm>
            <a:off x="327600" y="4869000"/>
            <a:ext cx="40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H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7"/>
          <p:cNvSpPr/>
          <p:nvPr/>
        </p:nvSpPr>
        <p:spPr>
          <a:xfrm>
            <a:off x="4500720" y="5157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8"/>
          <p:cNvSpPr/>
          <p:nvPr/>
        </p:nvSpPr>
        <p:spPr>
          <a:xfrm flipH="1">
            <a:off x="4500720" y="5300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4"/>
          <p:cNvSpPr/>
          <p:nvPr/>
        </p:nvSpPr>
        <p:spPr>
          <a:xfrm>
            <a:off x="5381280" y="4869000"/>
            <a:ext cx="3178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0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4"/>
          <p:cNvSpPr/>
          <p:nvPr/>
        </p:nvSpPr>
        <p:spPr>
          <a:xfrm>
            <a:off x="1289520" y="20952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Б. РЕАКЦИИ ОТЩ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446040" y="90324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еакции дегидра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211680" y="1557360"/>
            <a:ext cx="3364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7"/>
          <p:cNvSpPr/>
          <p:nvPr/>
        </p:nvSpPr>
        <p:spPr>
          <a:xfrm>
            <a:off x="3635280" y="191628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3585240" y="1413000"/>
            <a:ext cx="23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 &gt;1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3"/>
          <p:cNvSpPr/>
          <p:nvPr/>
        </p:nvSpPr>
        <p:spPr>
          <a:xfrm>
            <a:off x="4074840" y="1916280"/>
            <a:ext cx="92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5"/>
          <p:cNvSpPr/>
          <p:nvPr/>
        </p:nvSpPr>
        <p:spPr>
          <a:xfrm>
            <a:off x="6187320" y="1484280"/>
            <a:ext cx="2549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242280" y="3645000"/>
            <a:ext cx="712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7"/>
          <p:cNvSpPr/>
          <p:nvPr/>
        </p:nvSpPr>
        <p:spPr>
          <a:xfrm>
            <a:off x="1332000" y="5229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1984680" y="5300640"/>
            <a:ext cx="8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9"/>
          <p:cNvSpPr/>
          <p:nvPr/>
        </p:nvSpPr>
        <p:spPr>
          <a:xfrm>
            <a:off x="992880" y="4653000"/>
            <a:ext cx="23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 &lt;1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0"/>
          <p:cNvSpPr/>
          <p:nvPr/>
        </p:nvSpPr>
        <p:spPr>
          <a:xfrm>
            <a:off x="3481560" y="4869000"/>
            <a:ext cx="5281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O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"/>
          <p:cNvSpPr/>
          <p:nvPr/>
        </p:nvSpPr>
        <p:spPr>
          <a:xfrm>
            <a:off x="327600" y="604512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"/>
          <p:cNvSpPr/>
          <p:nvPr/>
        </p:nvSpPr>
        <p:spPr>
          <a:xfrm>
            <a:off x="399960" y="27338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ВНУТРИМОЛЕ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7524720" y="3933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6885000" y="220500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ЛК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5"/>
          <p:cNvSpPr/>
          <p:nvPr/>
        </p:nvSpPr>
        <p:spPr>
          <a:xfrm>
            <a:off x="4932360" y="573408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ОСТОЙ ЭФ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0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3"/>
          <p:cNvSpPr/>
          <p:nvPr/>
        </p:nvSpPr>
        <p:spPr>
          <a:xfrm>
            <a:off x="1131120" y="1890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В. РЕАКЦИИ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250200" y="90792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Реакции г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70520" y="1628640"/>
            <a:ext cx="6986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 +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322920" y="292428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еакции ок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470880" y="3716280"/>
            <a:ext cx="19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2556000" y="407664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4430520" y="3716280"/>
            <a:ext cx="23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>
            <a:off x="6948360" y="4005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2919240" y="5516640"/>
            <a:ext cx="27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O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6"/>
          <p:cNvSpPr/>
          <p:nvPr/>
        </p:nvSpPr>
        <p:spPr>
          <a:xfrm>
            <a:off x="1116000" y="5877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323640" y="443700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ервичный спи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1"/>
          <p:cNvSpPr/>
          <p:nvPr/>
        </p:nvSpPr>
        <p:spPr>
          <a:xfrm>
            <a:off x="4932360" y="44370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2"/>
          <p:cNvSpPr/>
          <p:nvPr/>
        </p:nvSpPr>
        <p:spPr>
          <a:xfrm>
            <a:off x="2986560" y="623736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2505600" y="3500280"/>
            <a:ext cx="161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, K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r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7235280" y="34290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, “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6"/>
          <p:cNvSpPr/>
          <p:nvPr/>
        </p:nvSpPr>
        <p:spPr>
          <a:xfrm>
            <a:off x="1258200" y="53737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, “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2851560" y="422100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H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0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Рисунок 2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1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Georgia"/>
              </a:rPr>
              <a:t>Применение спир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р.62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писать применение метанола, этано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Rectangle 3"/>
          <p:cNvGrpSpPr/>
          <p:nvPr/>
        </p:nvGrpSpPr>
        <p:grpSpPr>
          <a:xfrm>
            <a:off x="1122480" y="285840"/>
            <a:ext cx="7435800" cy="1030320"/>
            <a:chOff x="1122480" y="285840"/>
            <a:chExt cx="7435800" cy="1030320"/>
          </a:xfrm>
        </p:grpSpPr>
        <p:pic>
          <p:nvPicPr>
            <p:cNvPr id="542" name="Rectangle 3" descr=""/>
            <p:cNvPicPr/>
            <p:nvPr/>
          </p:nvPicPr>
          <p:blipFill>
            <a:blip r:embed="rId1"/>
            <a:stretch/>
          </p:blipFill>
          <p:spPr>
            <a:xfrm>
              <a:off x="1122480" y="285840"/>
              <a:ext cx="74358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1476360" y="404640"/>
              <a:ext cx="669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ff"/>
                  </a:solidFill>
                  <a:latin typeface="Georgia"/>
                </a:rPr>
                <a:t>Д О М А Ш Н Е Е   З А Д А Н И 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7"/>
          <p:cNvSpPr/>
          <p:nvPr/>
        </p:nvSpPr>
        <p:spPr>
          <a:xfrm>
            <a:off x="1318680" y="1484280"/>
            <a:ext cx="701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§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11,1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упр. 2,3,5,6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стр. 62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Составить конспект по 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«Многоатомные спир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Упр. 3-5 (письменно) – стр. 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0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Rectangle 5"/>
          <p:cNvGrpSpPr/>
          <p:nvPr/>
        </p:nvGrpSpPr>
        <p:grpSpPr>
          <a:xfrm>
            <a:off x="4584600" y="2481120"/>
            <a:ext cx="4473720" cy="1030320"/>
            <a:chOff x="4584600" y="2481120"/>
            <a:chExt cx="4473720" cy="1030320"/>
          </a:xfrm>
        </p:grpSpPr>
        <p:pic>
          <p:nvPicPr>
            <p:cNvPr id="320" name="Rectangle 5" descr=""/>
            <p:cNvPicPr/>
            <p:nvPr/>
          </p:nvPicPr>
          <p:blipFill>
            <a:blip r:embed="rId1"/>
            <a:stretch/>
          </p:blipFill>
          <p:spPr>
            <a:xfrm>
              <a:off x="4584600" y="2481120"/>
              <a:ext cx="44737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859280" y="2637000"/>
              <a:ext cx="3889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Georgia"/>
                </a:rPr>
                <a:t>А Л Ь Д Е Г И Д 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Rectangle 6"/>
          <p:cNvGrpSpPr/>
          <p:nvPr/>
        </p:nvGrpSpPr>
        <p:grpSpPr>
          <a:xfrm>
            <a:off x="420840" y="4572000"/>
            <a:ext cx="8119800" cy="1030320"/>
            <a:chOff x="420840" y="4572000"/>
            <a:chExt cx="8119800" cy="1030320"/>
          </a:xfrm>
        </p:grpSpPr>
        <p:pic>
          <p:nvPicPr>
            <p:cNvPr id="323" name="Rectangle 6" descr=""/>
            <p:cNvPicPr/>
            <p:nvPr/>
          </p:nvPicPr>
          <p:blipFill>
            <a:blip r:embed="rId2"/>
            <a:stretch/>
          </p:blipFill>
          <p:spPr>
            <a:xfrm>
              <a:off x="420840" y="4572000"/>
              <a:ext cx="81198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84360" y="4724280"/>
              <a:ext cx="7559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Georgia"/>
                </a:rPr>
                <a:t>К А Р Б О Н О В Ы Е  К И С Л О Т 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Rectangle 7"/>
          <p:cNvGrpSpPr/>
          <p:nvPr/>
        </p:nvGrpSpPr>
        <p:grpSpPr>
          <a:xfrm>
            <a:off x="324000" y="2554200"/>
            <a:ext cx="3456000" cy="1030320"/>
            <a:chOff x="324000" y="2554200"/>
            <a:chExt cx="3456000" cy="1030320"/>
          </a:xfrm>
        </p:grpSpPr>
        <p:pic>
          <p:nvPicPr>
            <p:cNvPr id="326" name="Rectangle 7" descr=""/>
            <p:cNvPicPr/>
            <p:nvPr/>
          </p:nvPicPr>
          <p:blipFill>
            <a:blip r:embed="rId3"/>
            <a:stretch/>
          </p:blipFill>
          <p:spPr>
            <a:xfrm>
              <a:off x="324000" y="2554200"/>
              <a:ext cx="3456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95280" y="2708280"/>
              <a:ext cx="331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Georgia"/>
                </a:rPr>
                <a:t>С П И Р Т 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Rectangle 8"/>
          <p:cNvGrpSpPr/>
          <p:nvPr/>
        </p:nvGrpSpPr>
        <p:grpSpPr>
          <a:xfrm>
            <a:off x="682560" y="285840"/>
            <a:ext cx="7925040" cy="725400"/>
            <a:chOff x="682560" y="285840"/>
            <a:chExt cx="7925040" cy="725400"/>
          </a:xfrm>
        </p:grpSpPr>
        <p:pic>
          <p:nvPicPr>
            <p:cNvPr id="329" name="Rectangle 8" descr=""/>
            <p:cNvPicPr/>
            <p:nvPr/>
          </p:nvPicPr>
          <p:blipFill>
            <a:blip r:embed="rId4"/>
            <a:stretch/>
          </p:blipFill>
          <p:spPr>
            <a:xfrm>
              <a:off x="682560" y="285840"/>
              <a:ext cx="79250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55640" y="333360"/>
              <a:ext cx="777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orbel"/>
                </a:rPr>
                <a:t>КИСЛОРОДСОДЕРЖАЩИЕ ОРГАНИЧЕСКИЕ СОЕДИ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Line 13"/>
          <p:cNvSpPr/>
          <p:nvPr/>
        </p:nvSpPr>
        <p:spPr>
          <a:xfrm flipH="1">
            <a:off x="1763280" y="907920"/>
            <a:ext cx="107964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>
            <a:off x="4427640" y="907920"/>
            <a:ext cx="0" cy="360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6156360" y="907920"/>
            <a:ext cx="936720" cy="151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1247040" y="26028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СПИ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707120" y="1359000"/>
            <a:ext cx="6028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8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8800" spc="-1" strike="noStrike" baseline="-25000">
                <a:solidFill>
                  <a:srgbClr val="000000"/>
                </a:solidFill>
                <a:latin typeface="Arial"/>
              </a:rPr>
              <a:t>2n + 1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O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382920" y="4581360"/>
            <a:ext cx="5286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8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8800" spc="-1" strike="noStrike" baseline="-25000">
                <a:solidFill>
                  <a:srgbClr val="000000"/>
                </a:solidFill>
                <a:latin typeface="Arial"/>
              </a:rPr>
              <a:t>2n + 2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4213080" y="35002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1285560" y="26028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95280" y="1004760"/>
            <a:ext cx="71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молекулярные формулы спир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щ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53800" y="2133720"/>
            <a:ext cx="29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тома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2520" y="3789360"/>
            <a:ext cx="346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15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томов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2520" y="5445000"/>
            <a:ext cx="346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25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томов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733920" y="2084400"/>
            <a:ext cx="2683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9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Н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31720" y="2060640"/>
            <a:ext cx="2273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10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3759120" y="3716280"/>
            <a:ext cx="2887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15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31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Н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6950520" y="3716280"/>
            <a:ext cx="2142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15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32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3686040" y="5445000"/>
            <a:ext cx="3043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25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51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Н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795000" y="5445000"/>
            <a:ext cx="2297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25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52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Rectangle 2"/>
          <p:cNvGrpSpPr/>
          <p:nvPr/>
        </p:nvGrpSpPr>
        <p:grpSpPr>
          <a:xfrm>
            <a:off x="1547640" y="212760"/>
            <a:ext cx="6340680" cy="824040"/>
            <a:chOff x="1547640" y="212760"/>
            <a:chExt cx="6340680" cy="824040"/>
          </a:xfrm>
        </p:grpSpPr>
        <p:pic>
          <p:nvPicPr>
            <p:cNvPr id="350" name="Rectangle 2" descr=""/>
            <p:cNvPicPr/>
            <p:nvPr/>
          </p:nvPicPr>
          <p:blipFill>
            <a:blip r:embed="rId1"/>
            <a:stretch/>
          </p:blipFill>
          <p:spPr>
            <a:xfrm>
              <a:off x="1547640" y="212760"/>
              <a:ext cx="63406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619280" y="260280"/>
              <a:ext cx="619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Georgia"/>
                </a:rPr>
                <a:t>КЛАССИФИКАЦИЯ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5"/>
          <p:cNvGrpSpPr/>
          <p:nvPr/>
        </p:nvGrpSpPr>
        <p:grpSpPr>
          <a:xfrm>
            <a:off x="176040" y="1292400"/>
            <a:ext cx="4542120" cy="695160"/>
            <a:chOff x="176040" y="1292400"/>
            <a:chExt cx="4542120" cy="695160"/>
          </a:xfrm>
        </p:grpSpPr>
        <p:pic>
          <p:nvPicPr>
            <p:cNvPr id="353" name="Rectangle 5" descr=""/>
            <p:cNvPicPr/>
            <p:nvPr/>
          </p:nvPicPr>
          <p:blipFill>
            <a:blip r:embed="rId2"/>
            <a:stretch/>
          </p:blipFill>
          <p:spPr>
            <a:xfrm>
              <a:off x="176040" y="1292400"/>
              <a:ext cx="45421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50920" y="1341360"/>
              <a:ext cx="4392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1.ПО КОЛИЧЕСТВУ ГИДРОКСОГРУП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8"/>
          <p:cNvSpPr/>
          <p:nvPr/>
        </p:nvSpPr>
        <p:spPr>
          <a:xfrm>
            <a:off x="3856680" y="198900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ОДНОАТОМ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3713760" y="2781360"/>
            <a:ext cx="50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МНОГОАТОМ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Rectangle 10"/>
          <p:cNvGrpSpPr/>
          <p:nvPr/>
        </p:nvGrpSpPr>
        <p:grpSpPr>
          <a:xfrm>
            <a:off x="176040" y="3743280"/>
            <a:ext cx="5475600" cy="695520"/>
            <a:chOff x="176040" y="3743280"/>
            <a:chExt cx="5475600" cy="695520"/>
          </a:xfrm>
        </p:grpSpPr>
        <p:pic>
          <p:nvPicPr>
            <p:cNvPr id="358" name="Rectangle 10" descr=""/>
            <p:cNvPicPr/>
            <p:nvPr/>
          </p:nvPicPr>
          <p:blipFill>
            <a:blip r:embed="rId3"/>
            <a:stretch/>
          </p:blipFill>
          <p:spPr>
            <a:xfrm>
              <a:off x="176040" y="3743280"/>
              <a:ext cx="54756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0920" y="3789360"/>
              <a:ext cx="532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2. ПО СТРОЕНИЮ УГЛЕРОДНОГО СКЕЛ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13"/>
          <p:cNvSpPr/>
          <p:nvPr/>
        </p:nvSpPr>
        <p:spPr>
          <a:xfrm>
            <a:off x="3654720" y="4581360"/>
            <a:ext cx="415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ПРЕД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3655080" y="528336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НЕПРЕД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3721680" y="598176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АРОМАТ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Rectangle 2"/>
          <p:cNvGrpSpPr/>
          <p:nvPr/>
        </p:nvGrpSpPr>
        <p:grpSpPr>
          <a:xfrm>
            <a:off x="1474920" y="212760"/>
            <a:ext cx="6340320" cy="824040"/>
            <a:chOff x="1474920" y="212760"/>
            <a:chExt cx="6340320" cy="824040"/>
          </a:xfrm>
        </p:grpSpPr>
        <p:pic>
          <p:nvPicPr>
            <p:cNvPr id="364" name="Rectangle 2" descr=""/>
            <p:cNvPicPr/>
            <p:nvPr/>
          </p:nvPicPr>
          <p:blipFill>
            <a:blip r:embed="rId1"/>
            <a:stretch/>
          </p:blipFill>
          <p:spPr>
            <a:xfrm>
              <a:off x="1474920" y="212760"/>
              <a:ext cx="63403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1547640" y="260280"/>
              <a:ext cx="619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Georgia"/>
                </a:rPr>
                <a:t>КЛАССИФИКАЦИЯ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Rectangle 3"/>
          <p:cNvGrpSpPr/>
          <p:nvPr/>
        </p:nvGrpSpPr>
        <p:grpSpPr>
          <a:xfrm>
            <a:off x="1066680" y="1285920"/>
            <a:ext cx="7680600" cy="695160"/>
            <a:chOff x="1066680" y="1285920"/>
            <a:chExt cx="7680600" cy="695160"/>
          </a:xfrm>
        </p:grpSpPr>
        <p:pic>
          <p:nvPicPr>
            <p:cNvPr id="367" name="Rectangle 3" descr=""/>
            <p:cNvPicPr/>
            <p:nvPr/>
          </p:nvPicPr>
          <p:blipFill>
            <a:blip r:embed="rId2"/>
            <a:stretch/>
          </p:blipFill>
          <p:spPr>
            <a:xfrm>
              <a:off x="1066680" y="1285920"/>
              <a:ext cx="7680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187280" y="1333440"/>
              <a:ext cx="74901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3. ПО АТОМУ УГЛЕРОДА, СВЯЗАННОМУ С ГИДРОКСОГРУПП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"/>
          <p:cNvSpPr/>
          <p:nvPr/>
        </p:nvSpPr>
        <p:spPr>
          <a:xfrm>
            <a:off x="5151960" y="2276640"/>
            <a:ext cx="38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ПЕРВ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5223240" y="378936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ВТОР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5295600" y="5734080"/>
            <a:ext cx="37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ТРЕТ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282240" y="2349360"/>
            <a:ext cx="3748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 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140760" y="3860640"/>
            <a:ext cx="5001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(ОН) –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225360" y="5734080"/>
            <a:ext cx="4870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357920" y="32868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1133280" y="979560"/>
            <a:ext cx="66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цируйте предложенные спир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88000" y="1484280"/>
            <a:ext cx="8596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H</a:t>
            </a:r>
            <a:r>
              <a:rPr b="1" lang="en-US" sz="44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– CH</a:t>
            </a:r>
            <a:r>
              <a:rPr b="1" lang="en-US" sz="4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– CH = CH – CH</a:t>
            </a:r>
            <a:r>
              <a:rPr b="1" lang="en-US" sz="4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- 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079240" y="2492280"/>
            <a:ext cx="358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дноато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епред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ервич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75040" y="4292640"/>
            <a:ext cx="8368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Н</a:t>
            </a:r>
            <a:r>
              <a:rPr b="1" lang="ru-RU" sz="44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– СН (ОН) – СН (ОН) – СН</a:t>
            </a:r>
            <a:r>
              <a:rPr b="1" lang="ru-RU" sz="44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5006520" y="5229360"/>
            <a:ext cx="35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ногоато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ед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197360" y="836640"/>
            <a:ext cx="68727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я предельных одноатомных спиртов обра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названий соответствующих углеводо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 числу атомов в пронумерованной углеродной цеп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рибавлением суффик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– ол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214640" y="2217600"/>
            <a:ext cx="26694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СН</a:t>
            </a:r>
            <a:r>
              <a:rPr b="1" lang="ru-RU" sz="6000" spc="-1" strike="noStrike" baseline="-25000">
                <a:solidFill>
                  <a:srgbClr val="feb80a"/>
                </a:solidFill>
                <a:latin typeface="Arial"/>
              </a:rPr>
              <a:t>3</a:t>
            </a: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619520" y="206532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ет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4573440" y="3068640"/>
            <a:ext cx="41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есцветная жидкость с характер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апахом; прекрасный растворит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ЯДОВИТ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1298520" y="3716280"/>
            <a:ext cx="29149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6000" spc="-1" strike="noStrike" baseline="-25000">
                <a:solidFill>
                  <a:srgbClr val="feb80a"/>
                </a:solidFill>
                <a:latin typeface="Arial"/>
              </a:rPr>
              <a:t>2</a:t>
            </a: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Н</a:t>
            </a:r>
            <a:r>
              <a:rPr b="1" lang="ru-RU" sz="6000" spc="-1" strike="noStrike" baseline="-25000">
                <a:solidFill>
                  <a:srgbClr val="feb80a"/>
                </a:solidFill>
                <a:latin typeface="Arial"/>
              </a:rPr>
              <a:t>5</a:t>
            </a: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5186520" y="3789360"/>
            <a:ext cx="18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т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4565880" y="4869000"/>
            <a:ext cx="45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есцветная жидкость с характер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апахом; смешивается с водо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любых соотношениях; в больш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оличествах крайн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ядовит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используется в медицине, парфюме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и пищевой промышлен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2" descr="берцелиус"/>
          <p:cNvPicPr/>
          <p:nvPr/>
        </p:nvPicPr>
        <p:blipFill>
          <a:blip r:embed="rId1"/>
          <a:stretch/>
        </p:blipFill>
        <p:spPr>
          <a:xfrm>
            <a:off x="250920" y="4869000"/>
            <a:ext cx="1728720" cy="1800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5"/>
          <p:cNvSpPr/>
          <p:nvPr/>
        </p:nvSpPr>
        <p:spPr>
          <a:xfrm>
            <a:off x="2127600" y="580536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.Я.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2340720" y="6237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8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6856560" y="2052720"/>
            <a:ext cx="113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6856560" y="3789360"/>
            <a:ext cx="113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3"/>
          <p:cNvSpPr/>
          <p:nvPr/>
        </p:nvSpPr>
        <p:spPr>
          <a:xfrm>
            <a:off x="1986480" y="14292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оменклатура      спи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ectangle 2"/>
          <p:cNvGrpSpPr/>
          <p:nvPr/>
        </p:nvGrpSpPr>
        <p:grpSpPr>
          <a:xfrm>
            <a:off x="1023840" y="182520"/>
            <a:ext cx="6973920" cy="920880"/>
            <a:chOff x="1023840" y="182520"/>
            <a:chExt cx="6973920" cy="920880"/>
          </a:xfrm>
        </p:grpSpPr>
        <p:pic>
          <p:nvPicPr>
            <p:cNvPr id="395" name="Rectangle 2" descr=""/>
            <p:cNvPicPr/>
            <p:nvPr/>
          </p:nvPicPr>
          <p:blipFill>
            <a:blip r:embed="rId1"/>
            <a:stretch/>
          </p:blipFill>
          <p:spPr>
            <a:xfrm>
              <a:off x="1023840" y="182520"/>
              <a:ext cx="69739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187280" y="333360"/>
              <a:ext cx="6624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Georgia"/>
                </a:rPr>
                <a:t>н о м е н к л а т у р а      с п и р т о 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4"/>
          <p:cNvSpPr/>
          <p:nvPr/>
        </p:nvSpPr>
        <p:spPr>
          <a:xfrm>
            <a:off x="627480" y="203508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270880" y="203508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3796200" y="203508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5451840" y="203508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166880" y="203508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2284560" y="325908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1763640" y="2421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3276720" y="242100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4932360" y="2421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2484360" y="278136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588000" y="2421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5561280" y="150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392616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241344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68616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468720" y="472428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3 – МЕТИЛ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3"/>
          <p:cNvSpPr/>
          <p:nvPr/>
        </p:nvSpPr>
        <p:spPr>
          <a:xfrm flipH="1">
            <a:off x="755640" y="1773360"/>
            <a:ext cx="172872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4"/>
          <p:cNvSpPr/>
          <p:nvPr/>
        </p:nvSpPr>
        <p:spPr>
          <a:xfrm flipH="1">
            <a:off x="2484000" y="3860640"/>
            <a:ext cx="14292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3348720" y="4724280"/>
            <a:ext cx="207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БУ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7"/>
          <p:cNvSpPr/>
          <p:nvPr/>
        </p:nvSpPr>
        <p:spPr>
          <a:xfrm>
            <a:off x="5221080" y="472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ff"/>
                </a:solidFill>
                <a:latin typeface="Arial"/>
              </a:rPr>
              <a:t>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8"/>
          <p:cNvSpPr/>
          <p:nvPr/>
        </p:nvSpPr>
        <p:spPr>
          <a:xfrm flipH="1">
            <a:off x="5796000" y="2637000"/>
            <a:ext cx="1728720" cy="20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6302160" y="4653000"/>
            <a:ext cx="9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ff"/>
                </a:solidFill>
                <a:latin typeface="Arial"/>
              </a:rPr>
              <a:t>-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1"/>
          <p:cNvSpPr/>
          <p:nvPr/>
        </p:nvSpPr>
        <p:spPr>
          <a:xfrm>
            <a:off x="5724360" y="1844640"/>
            <a:ext cx="1079640" cy="2952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5:44:15Z</dcterms:created>
  <dc:creator>alex</dc:creator>
  <dc:description/>
  <dc:language>en-US</dc:language>
  <cp:lastModifiedBy>user</cp:lastModifiedBy>
  <dcterms:modified xsi:type="dcterms:W3CDTF">2021-01-18T14:36:28Z</dcterms:modified>
  <cp:revision>36</cp:revision>
  <dc:subject/>
  <dc:title>Слайд 1</dc:title>
</cp:coreProperties>
</file>