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11B-3BC1-4F26-BF75-EA03C7C1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4AB-CC07-4871-A060-0E85F2AE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614-39EC-43CA-A5F5-0122B54D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E18-4886-44B8-9F68-E4C46289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1346-09AB-460B-A835-BF8594C3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B77D-E7A6-4667-9E8C-4996BC38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1B92-9F28-49CD-845D-F0D82AC8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9149-E250-4644-90F7-2CE8C8B7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F492-5B47-4009-A20B-C3FC5D4D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F67F-A7A2-46D6-A3EC-444A12A5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62B5-2E13-48BA-81DC-E06625B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FC0-23E7-4451-8652-CE786001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3D97-3C32-418E-914B-09E5A762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4433-A319-4E83-B512-755AA585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CD45-1775-4674-A8DF-E28A263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D3EC-1D78-4D06-A9B6-F7D75D95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8610-EBC2-492A-B2A0-C9CDECFA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EBC65-01AE-4D64-8A73-DC1DBDB8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7FE2-BFD7-4368-9206-3877D41C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AB39-01DA-4484-B60C-D6B0F240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73402-B6C4-4D40-8AE6-35055D28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CC94-56E6-4362-BD98-7CF59447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E89-E3A2-46A5-AD25-DB09164F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2777-5F0F-4294-87E4-C78499A2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BEDB-51EE-4E56-BC26-DFD2F073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1F5AE-EB3B-403A-A3F1-D9DB360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670E-61E6-4B13-84BF-D0E01E8E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DE9E-92F0-42CA-A98B-9ACCEC19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16EA-8085-45A4-A2A9-E3B059E7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CA30-CC32-4EA6-8F97-1EDEB2AF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9786E-95BB-4715-B7CC-6C411B83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EF94B-9C41-4FEF-9F8D-4F34A17A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DC7F-ABB7-4A98-9AF4-DC79C321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E55-7BD4-469D-A797-32A01A2E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0679-73BA-41FC-B6EE-4A9BBFD9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4B8F-4EB1-4657-9718-4F4B2C3D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399B7-304D-414D-A1E9-2407FDE7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D7574-7BAA-49A3-B813-09170FBF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DBF8-4386-482D-AAB7-06907C91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4944-5F43-4839-89F3-71AF9CBE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D215-81CA-4217-B798-975E7729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77B16-0CB8-41FC-AE6C-1733EC11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93B3C-F6EE-4F7C-B2AC-300D5E65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96DC-44FC-45D3-8F49-AE8561DA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9BE-94B5-47CA-B86D-EF4167EA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F8779-2BD3-4773-A64A-4B9D5A89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95DAC-C6F7-4946-B700-BE8B93D5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40BB1-87BF-420E-83C2-720D4669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6ACD8-07B3-4323-B9C9-B776417F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FE45C-39E5-4859-A1AA-FC7E8E50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A45B-6A16-4B22-ADFC-BAE0B012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B0001-4B3F-459B-BE30-B2399B26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24E3-4BDD-44E4-9D2E-DFB8103A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F4F8-343D-49F7-A63F-00D9313A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048A-BF9C-46E4-8CB3-9232832A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3A5-7717-4D75-9723-B25D04A8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9AB45-4051-4F2A-87B5-45D11487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CB21B-FB98-4F34-A4A3-6190FCA9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F8E50-1E0F-4909-A951-85FDB4C6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B5114-89C8-4C57-A03F-333F5F9F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B18E2-F67A-4B45-A34B-05324B09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74DB7-06DE-412F-813E-844850A7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F93C9-97A5-40F2-B5D0-C63B7604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2C015-F417-496C-8C14-22D2E20F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362D1-CD40-4CE7-810C-B4D1E8E9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A1569-A9C5-4E20-97E7-124D30C9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3A5-6006-4613-9F18-936BFA46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7EA0A-807D-4060-878F-B73958DD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F85A1-52CC-4F9E-A9E6-C89C8B65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CDFA1-310C-4D5D-9E67-671A7CE9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5B51D-E77F-4DE1-A2C1-C79DFEA6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792CF-DED6-42ED-AD2B-557D3D55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59D04-89B1-407B-AA4D-B003B5EB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922D6-C7B1-494E-A5B7-6E63F2CB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D7FDF-C2B2-4556-A106-38CFBF4C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E1EA2-AC8F-421B-9865-FCE45701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2755C-9C8F-4406-AE50-0E74B944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0AD-EEF9-4A29-95CE-3240D9FB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F6F4E-43F1-413D-9F47-C77E935F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B8AB3-A6A0-4A96-8078-D5FA7C63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4F13E-40D6-42FB-8ACF-3C3F68A2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E614C-BAF8-422B-B139-C634AB8A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CB66E-33D3-4EA9-8F8A-FF64F35A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54B-2889-4C9C-B414-DB44633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8EC4-63E6-44E6-BD8D-016A19C64AD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8D97-F161-497E-AF37-8800D4A4A32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93CF-33C2-4FF7-AB8F-094603E8BF9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9649-9C5A-402A-8C8B-E0B121F5D8F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D395-97D8-48FE-9122-8FC94AF4934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46C0-4480-45A8-9C08-2C74A39699C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92D7-0CFA-454A-9555-E7D5A4E035A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3"/>
          <p:cNvSpPr/>
          <p:nvPr/>
        </p:nvSpPr>
        <p:spPr>
          <a:xfrm>
            <a:off x="108000" y="836640"/>
            <a:ext cx="878508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МБОУ «Бокситогорская средняя общеобразовательная школа №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Arial"/>
              </a:rPr>
              <a:t>Формирование общеучебных умений и навыков в условиях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Arial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Arial"/>
              </a:rPr>
              <a:t>Учитель истории и обществознания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Arial"/>
              </a:rPr>
              <a:t>                      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Arial"/>
              </a:rPr>
              <a:t>А.Л.Ив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58880" y="115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Замени  выделенным курсивом фрагмент историческим термином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24000" y="141300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 начале </a:t>
            </a:r>
            <a:r>
              <a:rPr b="1" lang="en-US" sz="2400" spc="-1" strike="noStrike">
                <a:solidFill>
                  <a:srgbClr val="073e87"/>
                </a:solidFill>
                <a:latin typeface="Gill Sans MT"/>
              </a:rPr>
              <a:t>XX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в. сохранени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187280" y="1362240"/>
            <a:ext cx="79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ограниченной никакими механизмами контроля со стороны представительных выборных органов или разделение на ветви исполнительную, законодательную и судебную наследственной власти одн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1258920" y="1341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солютной монархии или самодерж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258920" y="3232080"/>
            <a:ext cx="7561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авалось главным пережитком прошлого в политической системе Российской импе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1041 L -0.00382 -0.21574 E">
                                      <p:cBhvr>
                                        <p:cTn id="161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857160" y="79272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ряду с такими методами борьбы, как агитация или стачки, эсеры признавали дей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857160" y="221472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ланомерного физического устранения чиновников и полицейских с целью дезорганизации  и ослабления самодержавия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928800" y="221472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ивидуальный терр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ndara"/>
              </a:rPr>
              <a:t>Замени  выделенным курсивом фрагмент историческим термином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645920" y="18568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73e87"/>
                </a:solidFill>
                <a:latin typeface="Candara"/>
              </a:rPr>
              <a:t>Основной формой расширения влияния России на Дальнем Востоке стала </a:t>
            </a:r>
            <a:r>
              <a:rPr b="0" lang="ru-RU" sz="3000" spc="-1" strike="noStrike" u="sng">
                <a:solidFill>
                  <a:srgbClr val="073e87"/>
                </a:solidFill>
                <a:uFillTx/>
                <a:latin typeface="Candara"/>
              </a:rPr>
              <a:t>система хозяйственных мер, на деле приводившая к мирному захвату территорий за счет добровольного переселения русского населения, строительства железных дорог и европейской промышленной инфраструктуры в примыкающих к ним зонам, активизации торгово-промышленной деятельности.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1500120" y="242892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ной формой расширения влияния России на Дальнем Востоке стала экономическая экспан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1"/>
          <p:cNvSpPr/>
          <p:nvPr/>
        </p:nvSpPr>
        <p:spPr>
          <a:xfrm>
            <a:off x="431640" y="476280"/>
            <a:ext cx="5832720" cy="2066760"/>
          </a:xfrm>
          <a:prstGeom prst="roundRect">
            <a:avLst>
              <a:gd name="adj" fmla="val 16667"/>
            </a:avLst>
          </a:prstGeom>
          <a:solidFill>
            <a:srgbClr val="c6e7fc"/>
          </a:solidFill>
          <a:ln w="3816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Дисцип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Общеобязательная             Специ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(направленность на социальную групп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кругленный прямоугольник 2"/>
          <p:cNvSpPr/>
          <p:nvPr/>
        </p:nvSpPr>
        <p:spPr>
          <a:xfrm>
            <a:off x="611280" y="2924280"/>
            <a:ext cx="8213760" cy="2376360"/>
          </a:xfrm>
          <a:prstGeom prst="roundRect">
            <a:avLst>
              <a:gd name="adj" fmla="val 16667"/>
            </a:avLst>
          </a:prstGeom>
          <a:solidFill>
            <a:srgbClr val="c6e7fc"/>
          </a:solidFill>
          <a:ln w="3816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Са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по форме фиксации        по характеру во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формальные  неформальные     поощрения            нака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Прямая со стрелкой 4"/>
          <p:cNvCxnSpPr/>
          <p:nvPr/>
        </p:nvCxnSpPr>
        <p:spPr>
          <a:xfrm>
            <a:off x="4971960" y="3706920"/>
            <a:ext cx="457920" cy="2894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08" name="Прямая со стрелкой 7"/>
          <p:cNvCxnSpPr/>
          <p:nvPr/>
        </p:nvCxnSpPr>
        <p:spPr>
          <a:xfrm flipH="1">
            <a:off x="3706920" y="3689280"/>
            <a:ext cx="576360" cy="28800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09" name="Прямая со стрелкой 9"/>
          <p:cNvCxnSpPr/>
          <p:nvPr/>
        </p:nvCxnSpPr>
        <p:spPr>
          <a:xfrm>
            <a:off x="3017880" y="4301640"/>
            <a:ext cx="504000" cy="2883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10" name="Прямая со стрелкой 13"/>
          <p:cNvCxnSpPr/>
          <p:nvPr/>
        </p:nvCxnSpPr>
        <p:spPr>
          <a:xfrm flipH="1">
            <a:off x="1546920" y="4292640"/>
            <a:ext cx="864360" cy="2894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11" name="Прямая со стрелкой 15"/>
          <p:cNvCxnSpPr/>
          <p:nvPr/>
        </p:nvCxnSpPr>
        <p:spPr>
          <a:xfrm>
            <a:off x="6997680" y="4292640"/>
            <a:ext cx="432720" cy="2894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12" name="Прямая со стрелкой 17"/>
          <p:cNvCxnSpPr/>
          <p:nvPr/>
        </p:nvCxnSpPr>
        <p:spPr>
          <a:xfrm flipH="1">
            <a:off x="5696640" y="4292640"/>
            <a:ext cx="577080" cy="2894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pic>
        <p:nvPicPr>
          <p:cNvPr id="413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213680" y="545472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F:\Новая папка\DSC_0148.JPG"/>
          <p:cNvPicPr/>
          <p:nvPr/>
        </p:nvPicPr>
        <p:blipFill>
          <a:blip r:embed="rId1"/>
          <a:stretch/>
        </p:blipFill>
        <p:spPr>
          <a:xfrm>
            <a:off x="395280" y="528480"/>
            <a:ext cx="4392720" cy="2963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F:\Новая папка\DSC_0135.JPG"/>
          <p:cNvPicPr/>
          <p:nvPr/>
        </p:nvPicPr>
        <p:blipFill>
          <a:blip r:embed="rId2"/>
          <a:stretch/>
        </p:blipFill>
        <p:spPr>
          <a:xfrm>
            <a:off x="4067280" y="3141720"/>
            <a:ext cx="47527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5208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8" descr="F:\Новая папка\DSC_0131.JPG"/>
          <p:cNvPicPr/>
          <p:nvPr/>
        </p:nvPicPr>
        <p:blipFill>
          <a:blip r:embed="rId1"/>
          <a:stretch/>
        </p:blipFill>
        <p:spPr>
          <a:xfrm>
            <a:off x="611280" y="522360"/>
            <a:ext cx="4140000" cy="27176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6" descr="F:\Новая папка\DSC_0139.JPG"/>
          <p:cNvPicPr/>
          <p:nvPr/>
        </p:nvPicPr>
        <p:blipFill>
          <a:blip r:embed="rId2"/>
          <a:stretch/>
        </p:blipFill>
        <p:spPr>
          <a:xfrm>
            <a:off x="2759040" y="2565360"/>
            <a:ext cx="3924360" cy="2616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6" descr="F:\Новая папка\DSC_0142.JPG"/>
          <p:cNvPicPr/>
          <p:nvPr/>
        </p:nvPicPr>
        <p:blipFill>
          <a:blip r:embed="rId3"/>
          <a:stretch/>
        </p:blipFill>
        <p:spPr>
          <a:xfrm>
            <a:off x="5364000" y="4016520"/>
            <a:ext cx="349272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2" descr="P1020041"/>
          <p:cNvPicPr/>
          <p:nvPr/>
        </p:nvPicPr>
        <p:blipFill>
          <a:blip r:embed="rId1"/>
          <a:stretch/>
        </p:blipFill>
        <p:spPr>
          <a:xfrm>
            <a:off x="395280" y="333360"/>
            <a:ext cx="4788000" cy="35863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P1020067"/>
          <p:cNvPicPr/>
          <p:nvPr/>
        </p:nvPicPr>
        <p:blipFill>
          <a:blip r:embed="rId2"/>
          <a:stretch/>
        </p:blipFill>
        <p:spPr>
          <a:xfrm>
            <a:off x="3780000" y="2746440"/>
            <a:ext cx="4848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108000" y="765000"/>
            <a:ext cx="864072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Функции обра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21b2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1b2b"/>
                </a:solidFill>
                <a:latin typeface="Arial"/>
              </a:rPr>
              <a:t>Формирование умений социальной адап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21b2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1b2b"/>
                </a:solidFill>
                <a:latin typeface="Arial"/>
              </a:rPr>
              <a:t>Воспитание интеллектуальной и нравственной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21b2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1b2b"/>
                </a:solidFill>
                <a:latin typeface="Arial"/>
              </a:rPr>
              <a:t>Формирование общекультурных интере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21b2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1b2b"/>
                </a:solidFill>
                <a:latin typeface="Arial"/>
              </a:rPr>
              <a:t>Развитие навыков самообразования, умения мыслить творчески и независ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093080" y="53751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1"/>
          <p:cNvSpPr/>
          <p:nvPr/>
        </p:nvSpPr>
        <p:spPr>
          <a:xfrm>
            <a:off x="395280" y="404640"/>
            <a:ext cx="8353440" cy="79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Международная программа по оценке образовательных достижений учащихся </a:t>
            </a:r>
            <a:r>
              <a:rPr b="1" lang="en-US" sz="2800" spc="-1" strike="noStrike">
                <a:solidFill>
                  <a:srgbClr val="262626"/>
                </a:solidFill>
                <a:latin typeface="Arial"/>
              </a:rPr>
              <a:t>PISA</a:t>
            </a: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Programme for Internationale Student Asses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Затруднения при работе с задания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21b2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с большим объёмом текстовой информации и информации в виде таблиц, схем, рисунков, диа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21b2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с интеграцией разнообразных знаний, общеучебных умений, различных способов размыш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21b2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с привлечением дополнительной информации или удаления «лишне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21b2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с творческим применением зн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21b2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093080" y="515772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684360" y="1484280"/>
            <a:ext cx="7775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Знания – орудие , а не ц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Л. Н.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Основная задача цивилизац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научить человека мысл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                                                     </a:t>
            </a: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Т. А. Эди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6630840" y="52228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428840" y="2143080"/>
            <a:ext cx="18396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6835680" y="49417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1"/>
          <p:cNvSpPr/>
          <p:nvPr/>
        </p:nvSpPr>
        <p:spPr>
          <a:xfrm>
            <a:off x="2286000" y="2274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2"/>
          <p:cNvSpPr/>
          <p:nvPr/>
        </p:nvSpPr>
        <p:spPr>
          <a:xfrm>
            <a:off x="387360" y="1125360"/>
            <a:ext cx="5184720" cy="1346400"/>
          </a:xfrm>
          <a:prstGeom prst="roundRect">
            <a:avLst>
              <a:gd name="adj" fmla="val 16667"/>
            </a:avLst>
          </a:prstGeom>
          <a:solidFill>
            <a:srgbClr val="dae6f6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  <a:ea typeface="Arial"/>
              </a:rPr>
              <a:t>Ученики решают предметные зада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  <a:ea typeface="Arial"/>
              </a:rPr>
              <a:t>а в жизни все проблемы межпредмет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вправо с вырезом 5"/>
          <p:cNvSpPr/>
          <p:nvPr/>
        </p:nvSpPr>
        <p:spPr>
          <a:xfrm rot="2485800">
            <a:off x="2889000" y="2776680"/>
            <a:ext cx="804600" cy="441360"/>
          </a:xfrm>
          <a:custGeom>
            <a:avLst/>
            <a:gdLst>
              <a:gd name="textAreaLeft" fmla="*/ 125280 w 804600"/>
              <a:gd name="textAreaRight" fmla="*/ 679320 w 804600"/>
              <a:gd name="textAreaTop" fmla="*/ 95040 h 441360"/>
              <a:gd name="textAreaBottom" fmla="*/ 346320 h 441360"/>
            </a:gdLst>
            <a:ahLst/>
            <a:rect l="textAreaLeft" t="textAreaTop" r="textAreaRight" b="textAreaBottom"/>
            <a:pathLst>
              <a:path w="21600" h="21600">
                <a:moveTo>
                  <a:pt x="0" y="4653"/>
                </a:moveTo>
                <a:lnTo>
                  <a:pt x="15678" y="4653"/>
                </a:lnTo>
                <a:lnTo>
                  <a:pt x="15678" y="0"/>
                </a:lnTo>
                <a:lnTo>
                  <a:pt x="21600" y="10800"/>
                </a:lnTo>
                <a:lnTo>
                  <a:pt x="15678" y="21600"/>
                </a:lnTo>
                <a:lnTo>
                  <a:pt x="15678" y="16947"/>
                </a:lnTo>
                <a:lnTo>
                  <a:pt x="0" y="16947"/>
                </a:lnTo>
                <a:lnTo>
                  <a:pt x="3371" y="10800"/>
                </a:lnTo>
                <a:lnTo>
                  <a:pt x="0" y="4653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кругленный прямоугольник 6"/>
          <p:cNvSpPr/>
          <p:nvPr/>
        </p:nvSpPr>
        <p:spPr>
          <a:xfrm>
            <a:off x="3417840" y="3429000"/>
            <a:ext cx="5184720" cy="1346040"/>
          </a:xfrm>
          <a:prstGeom prst="roundRect">
            <a:avLst>
              <a:gd name="adj" fmla="val 16667"/>
            </a:avLst>
          </a:prstGeom>
          <a:solidFill>
            <a:srgbClr val="dae6f6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  <a:ea typeface="Arial"/>
              </a:rPr>
              <a:t>Формирование общеучебных умений, навыков и компетен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611280" y="1125360"/>
            <a:ext cx="2016000" cy="914400"/>
          </a:xfrm>
          <a:prstGeom prst="rect">
            <a:avLst/>
          </a:prstGeom>
          <a:solidFill>
            <a:srgbClr val="c6e7fc"/>
          </a:solidFill>
          <a:ln w="3816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436b"/>
                </a:solidFill>
                <a:latin typeface="Arial"/>
                <a:ea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2"/>
          <p:cNvSpPr/>
          <p:nvPr/>
        </p:nvSpPr>
        <p:spPr>
          <a:xfrm>
            <a:off x="3348000" y="1087560"/>
            <a:ext cx="2160720" cy="1189080"/>
          </a:xfrm>
          <a:prstGeom prst="ellipse">
            <a:avLst/>
          </a:prstGeom>
          <a:solidFill>
            <a:srgbClr val="c6e7f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ро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принадлеж-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6227640" y="1224000"/>
            <a:ext cx="2333880" cy="914400"/>
          </a:xfrm>
          <a:prstGeom prst="roundRect">
            <a:avLst>
              <a:gd name="adj" fmla="val 16667"/>
            </a:avLst>
          </a:prstGeom>
          <a:solidFill>
            <a:srgbClr val="c6e7fc"/>
          </a:solidFill>
          <a:ln w="5724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вид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от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4"/>
          <p:cNvSpPr/>
          <p:nvPr/>
        </p:nvSpPr>
        <p:spPr>
          <a:xfrm>
            <a:off x="243000" y="3535200"/>
            <a:ext cx="2354040" cy="914400"/>
          </a:xfrm>
          <a:prstGeom prst="rect">
            <a:avLst/>
          </a:prstGeom>
          <a:solidFill>
            <a:srgbClr val="c6e7fc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Граждан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5"/>
          <p:cNvSpPr/>
          <p:nvPr/>
        </p:nvSpPr>
        <p:spPr>
          <a:xfrm>
            <a:off x="3193920" y="3405240"/>
            <a:ext cx="1656000" cy="1322280"/>
          </a:xfrm>
          <a:prstGeom prst="ellipse">
            <a:avLst/>
          </a:prstGeom>
          <a:solidFill>
            <a:srgbClr val="c6e7fc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отрасль п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6"/>
          <p:cNvSpPr/>
          <p:nvPr/>
        </p:nvSpPr>
        <p:spPr>
          <a:xfrm>
            <a:off x="5459400" y="3141720"/>
            <a:ext cx="3505320" cy="1585800"/>
          </a:xfrm>
          <a:prstGeom prst="roundRect">
            <a:avLst>
              <a:gd name="adj" fmla="val 16667"/>
            </a:avLst>
          </a:prstGeom>
          <a:solidFill>
            <a:srgbClr val="c6e7fc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которая регулирует имущественные и ряд личных неимуществен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>
            <a:off x="2906640" y="1596960"/>
            <a:ext cx="287280" cy="0"/>
          </a:xfrm>
          <a:prstGeom prst="line">
            <a:avLst/>
          </a:prstGeom>
          <a:ln w="7632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>
            <a:off x="5832360" y="1341360"/>
            <a:ext cx="0" cy="432000"/>
          </a:xfrm>
          <a:prstGeom prst="line">
            <a:avLst/>
          </a:prstGeom>
          <a:ln w="5724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18"/>
          <p:cNvSpPr/>
          <p:nvPr/>
        </p:nvSpPr>
        <p:spPr>
          <a:xfrm>
            <a:off x="5651640" y="1596960"/>
            <a:ext cx="360360" cy="0"/>
          </a:xfrm>
          <a:prstGeom prst="line">
            <a:avLst/>
          </a:prstGeom>
          <a:ln w="5724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31"/>
          <p:cNvSpPr/>
          <p:nvPr/>
        </p:nvSpPr>
        <p:spPr>
          <a:xfrm>
            <a:off x="2762280" y="3992400"/>
            <a:ext cx="287280" cy="0"/>
          </a:xfrm>
          <a:prstGeom prst="line">
            <a:avLst/>
          </a:prstGeom>
          <a:ln w="7632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33"/>
          <p:cNvSpPr/>
          <p:nvPr/>
        </p:nvSpPr>
        <p:spPr>
          <a:xfrm>
            <a:off x="5003640" y="3992400"/>
            <a:ext cx="360360" cy="0"/>
          </a:xfrm>
          <a:prstGeom prst="line">
            <a:avLst/>
          </a:prstGeom>
          <a:ln w="5724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34"/>
          <p:cNvSpPr/>
          <p:nvPr/>
        </p:nvSpPr>
        <p:spPr>
          <a:xfrm>
            <a:off x="5184720" y="3776760"/>
            <a:ext cx="0" cy="431640"/>
          </a:xfrm>
          <a:prstGeom prst="line">
            <a:avLst/>
          </a:prstGeom>
          <a:ln w="5724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238880" y="54291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361" name="Правая фигурная скобка 36"/>
          <p:cNvSpPr/>
          <p:nvPr/>
        </p:nvSpPr>
        <p:spPr>
          <a:xfrm rot="5400000">
            <a:off x="5145480" y="3194640"/>
            <a:ext cx="1373040" cy="3816360"/>
          </a:xfrm>
          <a:custGeom>
            <a:avLst/>
            <a:gdLst>
              <a:gd name="textAreaLeft" fmla="*/ 0 w 1373040"/>
              <a:gd name="textAreaRight" fmla="*/ 495720 w 137304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2"/>
                </a:lnTo>
                <a:cubicBezTo>
                  <a:pt x="10800" y="10652"/>
                  <a:pt x="16200" y="10652"/>
                  <a:pt x="21600" y="10652"/>
                </a:cubicBezTo>
                <a:cubicBezTo>
                  <a:pt x="16200" y="10652"/>
                  <a:pt x="10800" y="10652"/>
                  <a:pt x="10800" y="10652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7"/>
          <p:cNvSpPr/>
          <p:nvPr/>
        </p:nvSpPr>
        <p:spPr>
          <a:xfrm>
            <a:off x="5025960" y="578952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определение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1"/>
          <p:cNvSpPr/>
          <p:nvPr/>
        </p:nvSpPr>
        <p:spPr>
          <a:xfrm>
            <a:off x="826920" y="26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Соедини термин с его родовой и видовой принадлежностью или наоборот, к определению подбери по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684360" y="1700280"/>
            <a:ext cx="8208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1)р(   ,и) п(  ,о) рации                              1)   объединение, союз государств  или 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партий и т.д. для достижения общих це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2)а(     ,н)ексия                                        2)  политика усиления вооружений и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подготовка к  захватнической вой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3)к(о,   ) питуляция                                3)  временное занятие вооруженными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силами одного   государства части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       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всей территории друг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4)о(    ,к)упация                                     4)  прекращение сопротивления на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                  условиях, продиктованных победите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5)к(  ,    )лиция                                       5)  насильственные присоединения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      одним   государством террит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                               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(или части)друг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6)м(    ,е)л(    ,е)тариз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1042920" y="1700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1547640" y="1700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1042920" y="2349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1116000" y="2781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1042920" y="34099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971640" y="38606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1"/>
          <p:cNvSpPr/>
          <p:nvPr/>
        </p:nvSpPr>
        <p:spPr>
          <a:xfrm>
            <a:off x="1123920" y="4500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       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13"/>
          <p:cNvSpPr/>
          <p:nvPr/>
        </p:nvSpPr>
        <p:spPr>
          <a:xfrm>
            <a:off x="2071800" y="2500200"/>
            <a:ext cx="171432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17"/>
          <p:cNvSpPr/>
          <p:nvPr/>
        </p:nvSpPr>
        <p:spPr>
          <a:xfrm flipV="1">
            <a:off x="2071800" y="2928960"/>
            <a:ext cx="178596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19"/>
          <p:cNvSpPr/>
          <p:nvPr/>
        </p:nvSpPr>
        <p:spPr>
          <a:xfrm flipV="1">
            <a:off x="2714040" y="2499840"/>
            <a:ext cx="1214280" cy="21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21"/>
          <p:cNvSpPr/>
          <p:nvPr/>
        </p:nvSpPr>
        <p:spPr>
          <a:xfrm flipV="1">
            <a:off x="2071080" y="1857240"/>
            <a:ext cx="1785960" cy="21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23"/>
          <p:cNvSpPr/>
          <p:nvPr/>
        </p:nvSpPr>
        <p:spPr>
          <a:xfrm>
            <a:off x="2428920" y="2928960"/>
            <a:ext cx="135720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238880" y="53006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8880" y="285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Соедини термин с его родовой принадлежностью или наоборот, к определению подбери понят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000" y="1844640"/>
            <a:ext cx="8675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1) Знак на теле раба                                                    1.книга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2) Лица, наживавшиеся на том, что                             2.долг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давали имущество «в рост»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3) Каменные доски на которых были                         3.скрижал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написаны заповеди                          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4) Земля или имущество, взятые во                        4.ростовщик временное пользование за плату       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                                                                                         </a:t>
            </a: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5. клеймо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AutoShape 4"/>
          <p:cNvSpPr/>
          <p:nvPr/>
        </p:nvSpPr>
        <p:spPr>
          <a:xfrm rot="2836800">
            <a:off x="3887280" y="3373560"/>
            <a:ext cx="4032000" cy="289080"/>
          </a:xfrm>
          <a:prstGeom prst="rightArrow">
            <a:avLst>
              <a:gd name="adj1" fmla="val 50000"/>
              <a:gd name="adj2" fmla="val 348692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 rot="2066400">
            <a:off x="4981320" y="3632040"/>
            <a:ext cx="2592360" cy="263520"/>
          </a:xfrm>
          <a:prstGeom prst="rightArrow">
            <a:avLst>
              <a:gd name="adj1" fmla="val 50000"/>
              <a:gd name="adj2" fmla="val 245936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 rot="21137400">
            <a:off x="4847760" y="3565440"/>
            <a:ext cx="2089080" cy="289080"/>
          </a:xfrm>
          <a:prstGeom prst="rightArrow">
            <a:avLst>
              <a:gd name="adj1" fmla="val 50000"/>
              <a:gd name="adj2" fmla="val 180666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 rot="19086000">
            <a:off x="4894200" y="3565080"/>
            <a:ext cx="2737080" cy="289080"/>
          </a:xfrm>
          <a:prstGeom prst="rightArrow">
            <a:avLst>
              <a:gd name="adj1" fmla="val 50000"/>
              <a:gd name="adj2" fmla="val 236706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238880" y="541512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6426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Назовите соответствующий русскому переводу термин. Раскрой его содержание.</a:t>
            </a:r>
            <a:br>
              <a:rPr sz="30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2057040"/>
            <a:ext cx="487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еобразование, измен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идящий вперед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ходящийся на краю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аявление, объявл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щенародное дело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борный глава государства, в странах с республиканской формой правл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7143840" y="203508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7020000" y="25401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7164360" y="2971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ги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702000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ла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6877080" y="383544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6929280" y="42861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218360" y="54291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8:52:47Z</dcterms:created>
  <dc:creator>user</dc:creator>
  <dc:description/>
  <dc:language>en-US</dc:language>
  <cp:lastModifiedBy>lenovo</cp:lastModifiedBy>
  <dcterms:modified xsi:type="dcterms:W3CDTF">2024-03-25T15:21:45Z</dcterms:modified>
  <cp:revision>41</cp:revision>
  <dc:subject/>
  <dc:title>Слайд 1</dc:title>
</cp:coreProperties>
</file>