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964-2FD4-41F3-8F07-B755CC73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DE-FF9E-4EC0-9245-3B1E4CB8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FC6-A278-433F-BEAC-3684AB8F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FFA-8092-4F92-B003-33BB8891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114-0F91-4A8C-AE49-A21DBD86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4C08-104B-40EC-B41F-8FB8B1E2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1029-2D7A-43D1-B671-D3624BF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D58-EA5E-4EB2-BADD-81F2D5B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887-307E-4A6E-880C-9B84E6CB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3E73-DA29-4AC5-8640-1741052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ADA7-2304-48A4-86AE-ED5FCDA6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596-987E-4525-AA02-A86F14A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745-B7B7-4181-A80E-332CFA61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4B92-A1B4-4D21-95FB-5D94769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E284-5C76-40BB-B90C-F7FCA04B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458D-1382-46CF-B214-CF86C769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D4C5-5CA0-44F9-9079-6936F04D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F9D2-4413-4EB7-9BFE-3C69622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9E97-3EE2-4438-860B-D1A5385A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E4DE-8C29-49FC-9353-1144547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DF0B-B8D5-4BAE-8F41-7A4C2E1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085A-8515-492A-98F8-2CF6BAC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717-0F3F-4827-8858-B43A504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5ABF-4222-4B4C-9195-B29EC1C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3499-B76C-4577-AAFD-FA72A7D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A55B-DD42-477E-99BC-A304056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B591-CBEC-4B1E-ABEE-1D9271A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308B-1E71-48ED-A404-79E966E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6DA2-78D9-47AC-AE22-A7CC0883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3534-4012-4B6F-9AF8-81552AB7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2560-7A5D-4072-A762-7E1EEEBB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1FB0-0377-47F0-A496-2556B3D5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025C-408E-471B-91B5-592DC79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067-348C-40D6-AD73-368DBDD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9972-BB64-435C-ABCA-13C39963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8C1F-703C-4CCE-9D8E-3DDCA47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854C-F646-43EC-8A3D-8C82D7B5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620A-FDD8-4E81-8C70-203A815E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9416-EBEC-462D-A769-95D1E4E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2DF4-AC62-4CBB-AF00-B6C01EB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B2A1-4403-4294-A9F9-4AB3D41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420F-64F8-484E-A10B-02B54FDB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7458-C485-4E17-B9D0-435E7256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4810-7AF8-4ABE-B37A-9F3A0E29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398-C9CF-4A70-BC59-05D655C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C422B-0554-44F4-A86F-D68B8AC5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EDBC-3469-4629-87A5-73AAB7B8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D692-7965-465E-A231-79210AB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9331-5822-43C3-B72F-E85C2D62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31B9-D81B-4718-B439-9594523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2767-8EE1-44B2-97BE-266EAD3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4519-2FA2-4DD8-8AD9-FAA073F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FB42-1CCD-495D-BF1F-AD460AE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FE46-B04E-4F2C-B1DB-A96A181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CBE8-7648-4AA6-A061-51CECE07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0D7-DF84-4490-8047-A69D1DD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923F-0B54-4AC4-A959-9EAAD472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95A0-65F9-4003-89DD-6FE05CDF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5B1E4-6638-47C5-A772-2B040C08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8AFE-3ABE-4DF2-8DA4-4170DCC1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4D37-F894-479C-B83A-563A3D5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CA50-7C7D-401D-BFAE-2B31A986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36ED-1341-4762-8564-69A1DFE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2D10-5242-4A64-A569-D4AAF2E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921D-6313-488A-8232-A44F8992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F88C-F470-480F-85B9-D58F39C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29E-D3CF-4161-8458-A896626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5AEF2-88C8-4481-B5EE-B047C65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20F7-FBAB-4903-A89E-2E6E9D75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1E73-D0F1-4DE4-8EE0-F0969A49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88355-7E5B-4009-AF9F-0874F0AC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B2B7-9EDC-4646-9CCD-5F700E57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1684-3E54-4348-9C8E-F7E7515A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6F205-F9D2-489C-9469-271B25B7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2D19D-43E8-4809-B6AC-B5881488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B0DA-8F26-4BB8-ACD7-1E819FC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A8EE-21DE-4DBC-A04A-5D6E9DC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353-F0A0-4819-B16A-018888F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C0C94-8EC1-4F03-982F-CD3CADB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B3F7-8AE3-4ACF-A010-6BFA7BB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9E3F4-1561-4CA5-89EF-AB6A5146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C4F4D-032C-4497-92AF-6E2E4162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D107-9811-4DE5-A8E4-C5606EF9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F37-795E-4D5A-84C9-51579AA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ABDA-6732-4866-80D0-F58F21FA9C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B1D-19EF-4CB5-A4BD-EF4C36C153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691-BA86-4598-9863-9872F97BA8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9B7-420C-469D-83CC-ED376D0326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024-AE2D-4AD3-820D-4464DDF5A61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37BF-E262-4C98-A4BE-D568801CCA7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8E3F-6EAE-4966-B0F5-A544068DC4C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108000" y="836640"/>
            <a:ext cx="878508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МБОУ «Бокситогорская средняя общеобразовательная школа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Arial"/>
              </a:rPr>
              <a:t>Формирование общеучебных умений и навыков в условиях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Учитель истории и обществознани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Arial"/>
              </a:rPr>
              <a:t>А.Л.Ив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888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Замени  выделенным курсивом фрагмент историческим термином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24000" y="141300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 начале </a:t>
            </a:r>
            <a:r>
              <a:rPr b="1" lang="en-US" sz="2400" spc="-1" strike="noStrike">
                <a:solidFill>
                  <a:srgbClr val="073e87"/>
                </a:solidFill>
                <a:latin typeface="Gill Sans MT"/>
              </a:rPr>
              <a:t>XX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в. сохранен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187280" y="1362240"/>
            <a:ext cx="79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ограниченной никакими механизмами контроля со стороны представительных выборных органов или разделение на ветви исполнительную, законодательную и судебную наследственной власти одн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258920" y="1341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ой монархии или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258920" y="3232080"/>
            <a:ext cx="7561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авалось главным пережитком прошлого в политической системе Российской имп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1041 L -0.00382 -0.21574 E">
                                      <p:cBhvr>
                                        <p:cTn id="16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857160" y="79272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ряду с такими методами борьбы, как агитация или стачки, эсеры признавали дей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857160" y="2214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ланомерного физического устранения чиновников и полицейских с целью дезорганизации  и ослабления самодержави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28800" y="22147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ый терр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ndara"/>
              </a:rPr>
              <a:t>Замени  выделенным курсивом фрагмент историческим термином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645920" y="18568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Основной формой расширения влияния России на Дальнем Востоке стала </a:t>
            </a:r>
            <a:r>
              <a:rPr b="0" lang="ru-RU" sz="3000" spc="-1" strike="noStrike" u="sng">
                <a:solidFill>
                  <a:srgbClr val="073e87"/>
                </a:solidFill>
                <a:uFillTx/>
                <a:latin typeface="Candara"/>
              </a:rPr>
              <a:t>система хозяйственных мер, на деле приводившая к мирному захвату территорий за счет добровольного переселения русского населения, строительства железных дорог и европейской промышленной инфраструктуры в примыкающих к ним зонам, активизации торгово-промышленной деятельности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242892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ной формой расширения влияния России на Дальнем Востоке стала экономическая экспан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1"/>
          <p:cNvSpPr/>
          <p:nvPr/>
        </p:nvSpPr>
        <p:spPr>
          <a:xfrm>
            <a:off x="431640" y="476280"/>
            <a:ext cx="5832720" cy="206676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Дисцип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Общеобязательная             Спе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(направленность на социальную групп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2"/>
          <p:cNvSpPr/>
          <p:nvPr/>
        </p:nvSpPr>
        <p:spPr>
          <a:xfrm>
            <a:off x="611280" y="2924280"/>
            <a:ext cx="8213760" cy="237636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Са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по форме фиксации        по характеру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436b"/>
                </a:solidFill>
                <a:latin typeface="Arial"/>
                <a:ea typeface="Arial"/>
              </a:rPr>
              <a:t>формальные  неформальные     поощрения            на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Прямая со стрелкой 4"/>
          <p:cNvCxnSpPr/>
          <p:nvPr/>
        </p:nvCxnSpPr>
        <p:spPr>
          <a:xfrm>
            <a:off x="4971960" y="3706920"/>
            <a:ext cx="45792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08" name="Прямая со стрелкой 7"/>
          <p:cNvCxnSpPr/>
          <p:nvPr/>
        </p:nvCxnSpPr>
        <p:spPr>
          <a:xfrm flipH="1">
            <a:off x="3706920" y="3689280"/>
            <a:ext cx="576360" cy="28800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3017880" y="4301640"/>
            <a:ext cx="504000" cy="28836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0" name="Прямая со стрелкой 13"/>
          <p:cNvCxnSpPr/>
          <p:nvPr/>
        </p:nvCxnSpPr>
        <p:spPr>
          <a:xfrm flipH="1">
            <a:off x="1546920" y="4292640"/>
            <a:ext cx="86436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1" name="Прямая со стрелкой 15"/>
          <p:cNvCxnSpPr/>
          <p:nvPr/>
        </p:nvCxnSpPr>
        <p:spPr>
          <a:xfrm>
            <a:off x="6997680" y="4292640"/>
            <a:ext cx="43272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2" name="Прямая со стрелкой 17"/>
          <p:cNvCxnSpPr/>
          <p:nvPr/>
        </p:nvCxnSpPr>
        <p:spPr>
          <a:xfrm flipH="1">
            <a:off x="5696640" y="4292640"/>
            <a:ext cx="577080" cy="289440"/>
          </a:xfrm>
          <a:prstGeom prst="straightConnector1">
            <a:avLst/>
          </a:prstGeom>
          <a:ln w="9360">
            <a:solidFill>
              <a:srgbClr val="31b6fd"/>
            </a:solidFill>
            <a:miter/>
            <a:tailEnd len="med" type="arrow" w="med"/>
          </a:ln>
        </p:spPr>
      </p:cxnSp>
      <p:pic>
        <p:nvPicPr>
          <p:cNvPr id="41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13680" y="5454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F:\Новая папка\DSC_0148.JPG"/>
          <p:cNvPicPr/>
          <p:nvPr/>
        </p:nvPicPr>
        <p:blipFill>
          <a:blip r:embed="rId1"/>
          <a:stretch/>
        </p:blipFill>
        <p:spPr>
          <a:xfrm>
            <a:off x="395280" y="528480"/>
            <a:ext cx="4392720" cy="296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F:\Новая папка\DSC_0135.JPG"/>
          <p:cNvPicPr/>
          <p:nvPr/>
        </p:nvPicPr>
        <p:blipFill>
          <a:blip r:embed="rId2"/>
          <a:stretch/>
        </p:blipFill>
        <p:spPr>
          <a:xfrm>
            <a:off x="4067280" y="3141720"/>
            <a:ext cx="4752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208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F:\Новая папка\DSC_0131.JPG"/>
          <p:cNvPicPr/>
          <p:nvPr/>
        </p:nvPicPr>
        <p:blipFill>
          <a:blip r:embed="rId1"/>
          <a:stretch/>
        </p:blipFill>
        <p:spPr>
          <a:xfrm>
            <a:off x="611280" y="522360"/>
            <a:ext cx="4140000" cy="2717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F:\Новая папка\DSC_0139.JPG"/>
          <p:cNvPicPr/>
          <p:nvPr/>
        </p:nvPicPr>
        <p:blipFill>
          <a:blip r:embed="rId2"/>
          <a:stretch/>
        </p:blipFill>
        <p:spPr>
          <a:xfrm>
            <a:off x="2759040" y="256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F:\Новая папка\DSC_0142.JPG"/>
          <p:cNvPicPr/>
          <p:nvPr/>
        </p:nvPicPr>
        <p:blipFill>
          <a:blip r:embed="rId3"/>
          <a:stretch/>
        </p:blipFill>
        <p:spPr>
          <a:xfrm>
            <a:off x="5364000" y="4016520"/>
            <a:ext cx="3492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2" descr="P1020041"/>
          <p:cNvPicPr/>
          <p:nvPr/>
        </p:nvPicPr>
        <p:blipFill>
          <a:blip r:embed="rId1"/>
          <a:stretch/>
        </p:blipFill>
        <p:spPr>
          <a:xfrm>
            <a:off x="395280" y="333360"/>
            <a:ext cx="4788000" cy="3586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P1020067"/>
          <p:cNvPicPr/>
          <p:nvPr/>
        </p:nvPicPr>
        <p:blipFill>
          <a:blip r:embed="rId2"/>
          <a:stretch/>
        </p:blipFill>
        <p:spPr>
          <a:xfrm>
            <a:off x="3780000" y="2746440"/>
            <a:ext cx="4848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108000" y="765000"/>
            <a:ext cx="8640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Функции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Формирование умений социальной адап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Воспитание интеллектуальной и нравственной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Формирование общекультурных интер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21b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b2b"/>
                </a:solidFill>
                <a:latin typeface="Arial"/>
              </a:rPr>
              <a:t>Развитие навыков самообразования, умения мыслить творчески и независ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093080" y="53751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"/>
          <p:cNvSpPr/>
          <p:nvPr/>
        </p:nvSpPr>
        <p:spPr>
          <a:xfrm>
            <a:off x="395280" y="404640"/>
            <a:ext cx="8353440" cy="79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Международная программа по оценке образовательных достижений учащихся </a:t>
            </a: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PISA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Programme for Internationale Student Asse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Затруднения при работе с задани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большим объёмом текстовой информации и информации в виде таблиц, схем, рисунков, диа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интеграцией разнообразных знаний, общеучебных умений, различных способов раз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привлечением дополнительной информации или удаления «лишн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</a:rPr>
              <a:t>с творческим применением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21b2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093080" y="515772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684360" y="1484280"/>
            <a:ext cx="7775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Знания – орудие , а не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Л. Н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Основная задача цивилиз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научить человека мыс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021b2b"/>
                </a:solidFill>
                <a:latin typeface="Arial"/>
              </a:rPr>
              <a:t>Т. А. Эди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6630840" y="52228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428840" y="2143080"/>
            <a:ext cx="18396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6835680" y="49417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2"/>
          <p:cNvSpPr/>
          <p:nvPr/>
        </p:nvSpPr>
        <p:spPr>
          <a:xfrm>
            <a:off x="387360" y="1125360"/>
            <a:ext cx="5184720" cy="1346400"/>
          </a:xfrm>
          <a:prstGeom prst="roundRect">
            <a:avLst>
              <a:gd name="adj" fmla="val 16667"/>
            </a:avLst>
          </a:prstGeom>
          <a:solidFill>
            <a:srgbClr val="dae6f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Ученики решают предметные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а в жизни все проблемы межпредмет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право с вырезом 5"/>
          <p:cNvSpPr/>
          <p:nvPr/>
        </p:nvSpPr>
        <p:spPr>
          <a:xfrm rot="2485800">
            <a:off x="2889000" y="2776680"/>
            <a:ext cx="804600" cy="441360"/>
          </a:xfrm>
          <a:custGeom>
            <a:avLst/>
            <a:gdLst>
              <a:gd name="textAreaLeft" fmla="*/ 125280 w 804600"/>
              <a:gd name="textAreaRight" fmla="*/ 679320 w 804600"/>
              <a:gd name="textAreaTop" fmla="*/ 95040 h 441360"/>
              <a:gd name="textAreaBottom" fmla="*/ 346320 h 441360"/>
            </a:gdLst>
            <a:ahLst/>
            <a:rect l="textAreaLeft" t="textAreaTop" r="textAreaRight" b="textAreaBottom"/>
            <a:pathLst>
              <a:path w="21600" h="21600">
                <a:moveTo>
                  <a:pt x="0" y="4653"/>
                </a:moveTo>
                <a:lnTo>
                  <a:pt x="15678" y="4653"/>
                </a:lnTo>
                <a:lnTo>
                  <a:pt x="15678" y="0"/>
                </a:lnTo>
                <a:lnTo>
                  <a:pt x="21600" y="10800"/>
                </a:lnTo>
                <a:lnTo>
                  <a:pt x="15678" y="21600"/>
                </a:lnTo>
                <a:lnTo>
                  <a:pt x="15678" y="16947"/>
                </a:lnTo>
                <a:lnTo>
                  <a:pt x="0" y="16947"/>
                </a:lnTo>
                <a:lnTo>
                  <a:pt x="3371" y="10800"/>
                </a:lnTo>
                <a:lnTo>
                  <a:pt x="0" y="4653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6"/>
          <p:cNvSpPr/>
          <p:nvPr/>
        </p:nvSpPr>
        <p:spPr>
          <a:xfrm>
            <a:off x="3417840" y="3429000"/>
            <a:ext cx="5184720" cy="1346040"/>
          </a:xfrm>
          <a:prstGeom prst="roundRect">
            <a:avLst>
              <a:gd name="adj" fmla="val 16667"/>
            </a:avLst>
          </a:prstGeom>
          <a:solidFill>
            <a:srgbClr val="dae6f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Arial"/>
                <a:ea typeface="Arial"/>
              </a:rPr>
              <a:t>Формирование общеучебных умений, навыков и компет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611280" y="1125360"/>
            <a:ext cx="2016000" cy="914400"/>
          </a:xfrm>
          <a:prstGeom prst="rect">
            <a:avLst/>
          </a:prstGeom>
          <a:solidFill>
            <a:srgbClr val="c6e7fc"/>
          </a:solidFill>
          <a:ln w="3816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436b"/>
                </a:solidFill>
                <a:latin typeface="Arial"/>
                <a:ea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2"/>
          <p:cNvSpPr/>
          <p:nvPr/>
        </p:nvSpPr>
        <p:spPr>
          <a:xfrm>
            <a:off x="3348000" y="1087560"/>
            <a:ext cx="2160720" cy="1189080"/>
          </a:xfrm>
          <a:prstGeom prst="ellipse">
            <a:avLst/>
          </a:prstGeom>
          <a:solidFill>
            <a:srgbClr val="c6e7f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ро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принадлеж-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6227640" y="1224000"/>
            <a:ext cx="2333880" cy="91440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вид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от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"/>
          <p:cNvSpPr/>
          <p:nvPr/>
        </p:nvSpPr>
        <p:spPr>
          <a:xfrm>
            <a:off x="243000" y="3535200"/>
            <a:ext cx="2354040" cy="914400"/>
          </a:xfrm>
          <a:prstGeom prst="rect">
            <a:avLst/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Граждан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"/>
          <p:cNvSpPr/>
          <p:nvPr/>
        </p:nvSpPr>
        <p:spPr>
          <a:xfrm>
            <a:off x="3193920" y="3405240"/>
            <a:ext cx="1656000" cy="1322280"/>
          </a:xfrm>
          <a:prstGeom prst="ellipse">
            <a:avLst/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отрасль п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6"/>
          <p:cNvSpPr/>
          <p:nvPr/>
        </p:nvSpPr>
        <p:spPr>
          <a:xfrm>
            <a:off x="5459400" y="3141720"/>
            <a:ext cx="3505320" cy="1585800"/>
          </a:xfrm>
          <a:prstGeom prst="roundRect">
            <a:avLst>
              <a:gd name="adj" fmla="val 16667"/>
            </a:avLst>
          </a:prstGeom>
          <a:solidFill>
            <a:srgbClr val="c6e7fc"/>
          </a:solidFill>
          <a:ln w="3816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  <a:ea typeface="Arial"/>
              </a:rPr>
              <a:t>которая регулирует имущественные и ряд личных неимуществен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>
            <a:off x="2906640" y="1596960"/>
            <a:ext cx="287280" cy="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>
            <a:off x="5832360" y="1341360"/>
            <a:ext cx="0" cy="43200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>
            <a:off x="5651640" y="1596960"/>
            <a:ext cx="360360" cy="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>
            <a:off x="2762280" y="3992400"/>
            <a:ext cx="287280" cy="0"/>
          </a:xfrm>
          <a:prstGeom prst="line">
            <a:avLst/>
          </a:prstGeom>
          <a:ln w="7632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>
            <a:off x="5003640" y="3992400"/>
            <a:ext cx="360360" cy="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4"/>
          <p:cNvSpPr/>
          <p:nvPr/>
        </p:nvSpPr>
        <p:spPr>
          <a:xfrm>
            <a:off x="5184720" y="3776760"/>
            <a:ext cx="0" cy="431640"/>
          </a:xfrm>
          <a:prstGeom prst="line">
            <a:avLst/>
          </a:prstGeom>
          <a:ln w="57240">
            <a:solidFill>
              <a:srgbClr val="064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42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361" name="Правая фигурная скобка 36"/>
          <p:cNvSpPr/>
          <p:nvPr/>
        </p:nvSpPr>
        <p:spPr>
          <a:xfrm rot="5400000">
            <a:off x="5145480" y="3194640"/>
            <a:ext cx="1373040" cy="3816360"/>
          </a:xfrm>
          <a:custGeom>
            <a:avLst/>
            <a:gdLst>
              <a:gd name="textAreaLeft" fmla="*/ 0 w 1373040"/>
              <a:gd name="textAreaRight" fmla="*/ 495720 w 137304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2"/>
                </a:lnTo>
                <a:cubicBezTo>
                  <a:pt x="10800" y="10652"/>
                  <a:pt x="16200" y="10652"/>
                  <a:pt x="21600" y="10652"/>
                </a:cubicBezTo>
                <a:cubicBezTo>
                  <a:pt x="16200" y="10652"/>
                  <a:pt x="10800" y="10652"/>
                  <a:pt x="10800" y="1065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7"/>
          <p:cNvSpPr/>
          <p:nvPr/>
        </p:nvSpPr>
        <p:spPr>
          <a:xfrm>
            <a:off x="5025960" y="578952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436b"/>
                </a:solidFill>
                <a:latin typeface="Arial"/>
              </a:rPr>
              <a:t>определение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1"/>
          <p:cNvSpPr/>
          <p:nvPr/>
        </p:nvSpPr>
        <p:spPr>
          <a:xfrm>
            <a:off x="82692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оедини термин с его родовой и видовой принадлежностью или наоборот, к определению подбери по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684360" y="1700280"/>
            <a:ext cx="820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1)р(   ,и) п(  ,о) рации                              1)   объединение, союз государств  или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партий и т.д. для достижения общих ц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2)а(     ,н)ексия                                        2)  политика усиления вооружений и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подготовка к  захватнической вой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3)к(о,   ) питуляция                                3)  временное занятие вооруженными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силами одного   государства част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всей территории друг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4)о(    ,к)упация                                     4)  прекращение сопротивления на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условиях, продиктованных победите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5)к(  ,    )лиция                                       5)  насильственные присоединения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одним   государством территор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(или части)друг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6436b"/>
                </a:solidFill>
                <a:latin typeface="Arial"/>
              </a:rPr>
              <a:t>6)м(    ,е)л(    ,е)тариз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042920" y="1700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547640" y="1700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1042920" y="2349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116000" y="2781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1042920" y="340992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971640" y="3860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1123920" y="4500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       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3"/>
          <p:cNvSpPr/>
          <p:nvPr/>
        </p:nvSpPr>
        <p:spPr>
          <a:xfrm>
            <a:off x="2071800" y="2500200"/>
            <a:ext cx="171432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7"/>
          <p:cNvSpPr/>
          <p:nvPr/>
        </p:nvSpPr>
        <p:spPr>
          <a:xfrm flipV="1">
            <a:off x="2071800" y="2928960"/>
            <a:ext cx="17859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9"/>
          <p:cNvSpPr/>
          <p:nvPr/>
        </p:nvSpPr>
        <p:spPr>
          <a:xfrm flipV="1">
            <a:off x="2714040" y="2499840"/>
            <a:ext cx="1214280" cy="21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1"/>
          <p:cNvSpPr/>
          <p:nvPr/>
        </p:nvSpPr>
        <p:spPr>
          <a:xfrm flipV="1">
            <a:off x="2071080" y="1857240"/>
            <a:ext cx="1785960" cy="21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23"/>
          <p:cNvSpPr/>
          <p:nvPr/>
        </p:nvSpPr>
        <p:spPr>
          <a:xfrm>
            <a:off x="2428920" y="2928960"/>
            <a:ext cx="13572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30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888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Соедини термин с его родовой принадлежностью или наоборот, к определению подбери понят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1844640"/>
            <a:ext cx="867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1) Знак на теле раба                                                    1.книг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2) Лица, наживавшиеся на том, что                             2.дол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давали имущество «в рост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3) Каменные доски на которых были                         3.скрижал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написаны заповеди                   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4) Земля или имущество, взятые во                        4.ростовщик временное пользование за плату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                                                                                        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  <a:ea typeface="Arial"/>
              </a:rPr>
              <a:t>5. клеймо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AutoShape 4"/>
          <p:cNvSpPr/>
          <p:nvPr/>
        </p:nvSpPr>
        <p:spPr>
          <a:xfrm rot="2836800">
            <a:off x="3887280" y="3373560"/>
            <a:ext cx="4032000" cy="289080"/>
          </a:xfrm>
          <a:prstGeom prst="rightArrow">
            <a:avLst>
              <a:gd name="adj1" fmla="val 50000"/>
              <a:gd name="adj2" fmla="val 348692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 rot="2066400">
            <a:off x="4981320" y="3632040"/>
            <a:ext cx="2592360" cy="263520"/>
          </a:xfrm>
          <a:prstGeom prst="rightArrow">
            <a:avLst>
              <a:gd name="adj1" fmla="val 50000"/>
              <a:gd name="adj2" fmla="val 24593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 rot="21137400">
            <a:off x="4847760" y="3565440"/>
            <a:ext cx="2089080" cy="289080"/>
          </a:xfrm>
          <a:prstGeom prst="rightArrow">
            <a:avLst>
              <a:gd name="adj1" fmla="val 50000"/>
              <a:gd name="adj2" fmla="val 18066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 rot="19086000">
            <a:off x="4894200" y="35650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38880" y="54151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426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Назовите соответствующий русскому переводу термин. Раскрой его содержание.</a:t>
            </a:r>
            <a:br>
              <a:rPr sz="3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2057040"/>
            <a:ext cx="487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образование, измен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идящий вперед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ходящийся на кра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явление, объявл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щенародное дел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борный глава государства, в странах с республиканской формой правл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7143840" y="203508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7020000" y="254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7164360" y="2971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7020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ла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6877080" y="38354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6929280" y="4286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http://im2-tub-ru.yandex.net/i?id=dcac0fa5e98e2802ec2762f37f50d1ca-92-144&amp;n=21"/>
          <p:cNvPicPr/>
          <p:nvPr/>
        </p:nvPicPr>
        <p:blipFill>
          <a:blip r:embed="rId1"/>
          <a:stretch/>
        </p:blipFill>
        <p:spPr>
          <a:xfrm>
            <a:off x="721836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8:52:47Z</dcterms:created>
  <dc:creator>user</dc:creator>
  <dc:description/>
  <dc:language>en-US</dc:language>
  <cp:lastModifiedBy>lenovo</cp:lastModifiedBy>
  <dcterms:modified xsi:type="dcterms:W3CDTF">2024-03-25T15:21:45Z</dcterms:modified>
  <cp:revision>41</cp:revision>
  <dc:subject/>
  <dc:title>Слайд 1</dc:title>
</cp:coreProperties>
</file>