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12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93E-3E38-4C3F-B3B6-2AC3CF8E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2FB-CBA9-4AB0-BBD4-4EA0458B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DAE-F1E4-470C-94E1-68D25A10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A0E-C968-43AF-A27D-3207CD0A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85D-C171-4C89-BE9D-FDD73E7A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AAE-E7BC-413F-9A51-81ACA5FE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B0F-C118-4C0E-9088-DAE8C8A2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E40-4E75-4858-B0C0-142B6E45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DF0-CB28-4DFE-A2BF-C99B8DB0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C36F-6C7D-4CE6-8B3B-6FAC732D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16D-EF74-4F7D-8B7C-FC603149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B30-418D-4D8B-B90E-2449A01D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1C59-AA05-4315-9D89-6E2666877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yandex.ru/video/preview/?filmId=16155629849146484012&amp;parent-reqid=1586937821220734-1359823692704014755400326-production-app-host-man-web-yp-311&amp;path=wizard&amp;text=head+and+shoulders+knees+and+toes+&#1087;&#1077;&#1089;&#1085;&#1103;+&#1074;&#1080;&#1076;&#1077;&#1086;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043840" cy="56358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838080" y="4267080"/>
            <a:ext cx="228600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ead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хэд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"/>
          <p:cNvPicPr/>
          <p:nvPr/>
        </p:nvPicPr>
        <p:blipFill>
          <a:blip r:embed="rId1"/>
          <a:srcRect l="0" t="0" r="691" b="0"/>
          <a:stretch/>
        </p:blipFill>
        <p:spPr>
          <a:xfrm>
            <a:off x="549360" y="590400"/>
            <a:ext cx="7988040" cy="5670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838080" y="1143000"/>
            <a:ext cx="221004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nd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хэнд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/>
          <p:cNvPicPr/>
          <p:nvPr/>
        </p:nvPicPr>
        <p:blipFill>
          <a:blip r:embed="rId1"/>
          <a:srcRect l="0" t="0" r="687" b="0"/>
          <a:stretch/>
        </p:blipFill>
        <p:spPr>
          <a:xfrm>
            <a:off x="527040" y="579600"/>
            <a:ext cx="8032680" cy="56926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914400" y="1295280"/>
            <a:ext cx="251460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ing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фингэ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"/>
          <p:cNvPicPr/>
          <p:nvPr/>
        </p:nvPicPr>
        <p:blipFill>
          <a:blip r:embed="rId1"/>
          <a:srcRect l="0" t="0" r="691" b="0"/>
          <a:stretch/>
        </p:blipFill>
        <p:spPr>
          <a:xfrm>
            <a:off x="609480" y="533520"/>
            <a:ext cx="7988400" cy="56926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838080" y="1219320"/>
            <a:ext cx="182880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m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арм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"/>
          <p:cNvPicPr/>
          <p:nvPr/>
        </p:nvPicPr>
        <p:blipFill>
          <a:blip r:embed="rId1"/>
          <a:srcRect l="0" t="0" r="705" b="0"/>
          <a:stretch/>
        </p:blipFill>
        <p:spPr>
          <a:xfrm>
            <a:off x="527040" y="573120"/>
            <a:ext cx="8031240" cy="57038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90720" y="3505320"/>
            <a:ext cx="1981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ne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нии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49360" y="590400"/>
            <a:ext cx="8045280" cy="5670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914400" y="4495680"/>
            <a:ext cx="274320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ould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шеулдэ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49360" y="590400"/>
            <a:ext cx="8043840" cy="5670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172200" y="2819520"/>
            <a:ext cx="1981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ack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бэк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49360" y="579600"/>
            <a:ext cx="8045280" cy="5692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066680" y="4648320"/>
            <a:ext cx="198144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o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фут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49360" y="579600"/>
            <a:ext cx="8043840" cy="5692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6019920" y="1752480"/>
            <a:ext cx="1981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o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тэу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0" r="648" b="0"/>
          <a:stretch/>
        </p:blipFill>
        <p:spPr>
          <a:xfrm>
            <a:off x="527040" y="573120"/>
            <a:ext cx="8035920" cy="5703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990720" y="2819520"/>
            <a:ext cx="1981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лэг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А теперь давайте споём весёлую песенку!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Arial"/>
              </a:rPr>
              <a:t> Head and shoulders knees and t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5718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yandex.ru/video/preview/?filmId=16155629849146484012&amp;parent-reqid=1586937821220734-1359823692704014755400326-production-app-host-man-web-yp-311&amp;path=wizard&amp;text=head+and+shoulders+knees+and+toes+%D0%BF%D0%B5%D1%81%D0%BD%D1%8F+%D0%B2%D0%B8%D0%B4%D0%B5%D0%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549360" y="601560"/>
            <a:ext cx="8043840" cy="5648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6553080" y="1143000"/>
            <a:ext cx="175284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i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хэа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504720" y="608040"/>
            <a:ext cx="8134560" cy="5635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914400" y="4419720"/>
            <a:ext cx="28954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c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фейс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9992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7086600" y="4038480"/>
            <a:ext cx="160020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s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нэуз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"/>
          <p:cNvPicPr/>
          <p:nvPr/>
        </p:nvPicPr>
        <p:blipFill>
          <a:blip r:embed="rId1"/>
          <a:srcRect l="0" t="0" r="691" b="0"/>
          <a:stretch/>
        </p:blipFill>
        <p:spPr>
          <a:xfrm>
            <a:off x="549360" y="584280"/>
            <a:ext cx="7988040" cy="5681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934320" y="4724280"/>
            <a:ext cx="10666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a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иа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549360" y="584280"/>
            <a:ext cx="8043840" cy="56815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7391520" y="3733920"/>
            <a:ext cx="114300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y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ай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5" descr=""/>
          <p:cNvPicPr/>
          <p:nvPr/>
        </p:nvPicPr>
        <p:blipFill>
          <a:blip r:embed="rId1"/>
          <a:srcRect l="0" t="0" r="691" b="0"/>
          <a:stretch/>
        </p:blipFill>
        <p:spPr>
          <a:xfrm>
            <a:off x="549360" y="584280"/>
            <a:ext cx="7988040" cy="56815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762120" y="2743200"/>
            <a:ext cx="1981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ut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маус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"/>
          <p:cNvPicPr/>
          <p:nvPr/>
        </p:nvPicPr>
        <p:blipFill>
          <a:blip r:embed="rId1"/>
          <a:srcRect l="0" t="0" r="865" b="0"/>
          <a:stretch/>
        </p:blipFill>
        <p:spPr>
          <a:xfrm>
            <a:off x="527040" y="579600"/>
            <a:ext cx="8018640" cy="5692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914400" y="4495680"/>
            <a:ext cx="167652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eet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тиис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43840" cy="5681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705720" y="2438280"/>
            <a:ext cx="160020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ck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нэк/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0:54:36Z</dcterms:created>
  <dc:creator>User</dc:creator>
  <dc:description/>
  <dc:language>en-US</dc:language>
  <cp:lastModifiedBy>Marina</cp:lastModifiedBy>
  <dcterms:modified xsi:type="dcterms:W3CDTF">2020-04-15T08:17:31Z</dcterms:modified>
  <cp:revision>16</cp:revision>
  <dc:subject/>
  <dc:title>Slide 1</dc:title>
</cp:coreProperties>
</file>