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3B4B-5487-4F64-9AD0-9DB1D80DCF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0CAF-545D-4959-AAFA-D6FF8C8014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6E23-A475-4E6A-8DFF-34653BE4578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AE40-551C-40F8-BA9B-2531AD84999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B73D-EA9E-4E9A-A478-34F30CEA90B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0BEC-44D5-4061-80BB-1FF056FABDB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3983-068F-4A8F-9216-002204938D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77F4-5802-45CE-8BE6-0236C45F0B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CD0-282B-4625-9118-D4B1D220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9F7-09FE-4414-844C-E875F19D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11F-E99C-411A-B240-02229210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89C-C729-4EB8-A9B3-FB5A0282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C760-EDFD-443A-BFA2-39E714C9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6650-4708-441B-A093-0A3A995B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1DEB-E93D-4CC2-9CF3-E6052D5E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B043-3D81-4164-B82B-5083FB53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3D13-44CF-496A-9454-A5877292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C33D-A884-497C-8E3F-DDE8DD88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546C-ED61-468C-B732-43B7BE5F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5E9-6ADA-4A1D-923E-64A68852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0D82-3202-44A1-ACAA-99EE85ED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BDC8-ECBB-481D-A67A-BD7A1171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3D1D-8757-48E7-A6AB-14F3E5CD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369F-E203-4B2F-BCCE-9355B982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0BD5-D1C5-4CB2-B230-9DA315D8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D5DC6-7FC0-4349-922E-028E276A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B0E5E-5CCB-408B-820C-A0910946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8031-98AB-4843-8770-C0EE9D7F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42B4-2D49-4AA5-A9E5-13ABF843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1767A-14F9-4646-8F38-BD80B29D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F25-9A20-4AF7-80C9-C598A4DC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26E35-7696-41AA-9103-0073531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305E-AFB1-492A-B0B1-CD475524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5AAF-3BE2-402C-B6BD-246353E2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D9DE-77E6-4443-A0EB-9BD6BBD7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0441-7F50-41E7-97A0-C671CC73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81F5-1AFD-473A-8C98-66D479B1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E7786-ABF3-4DA8-B544-3DD63B8E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3BF14-F6AC-449B-98E3-979FFB1A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73674-DD60-4575-9B96-7B43E8EC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BF7F4-5339-4905-B78D-0B507AA9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8EF-692C-41B0-A976-CDAAB0C3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5EC4B-3EE8-4CEE-8D18-C043C082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79BA-828F-4F70-ADD1-F922F158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37AC-8356-4536-8A4B-1FAAB201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BA9C-435B-4F7B-A809-AC4B73C3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F0710-FD9B-4235-A3FC-3501B7AC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0185-BA19-48BB-BAFC-1C488B2B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BB264-2014-4124-B40C-3D76266A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190CF-1894-43E3-AE8D-F7E38823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4F100-5709-45B3-9B0E-3B9827AF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76B9E-422A-459D-B26D-D72B1844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3A0-5E99-445B-8685-E9321A07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C07A-4223-436D-BC46-0DECAD46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5825D-3C6D-43DB-B502-1EA96579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7374A-0308-4498-87C2-B5EF0B33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9C598-2CCB-46CC-B213-7A284E23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3D629-0498-4A34-8CC3-218328BB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DA75C-9801-4B03-91F3-25761F94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18107-B9AD-4223-AD06-5ADC3DE5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35486-8D92-4487-A4C7-7E17A058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C0F68-13F6-4B5F-A126-C0AF8216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7D713-15F0-47D4-9947-B4FBBE24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904-E9B0-4377-BC45-11C0865C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B4111-D8C4-4591-A331-BD7C4F20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3E491-2AE0-48D9-9550-06141398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EC313-ACFB-413D-B0D9-FF813794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C0F2C-B3DC-4641-9088-BF01FC42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8AA7-E83E-4A79-A8FC-DF95FEC0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9965B-DCCA-410D-9796-57490272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E2210-EECC-4B6E-ABD7-D84A17F7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138C4-C701-4C56-BCE5-3B8A5A81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003BC-59E4-49F3-A1D7-E4D122FA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19C40-7F01-4370-94A3-B6B5C065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200-70A9-4CB8-9B62-FE3E6783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03410-8DD9-440C-B614-CFD18970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3D5BA-960D-49AE-BE8F-62700998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F3538-46D4-4B57-9F03-34CDC3B9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99F0C-6F88-4AC7-9F51-40370DD4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539E1-B5F7-48B9-B114-8CEE825C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2BCF8-CF20-47C8-8B11-64E958E5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2D22C-F64D-4F2F-BA0E-D8930070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99D7A-0768-40BB-A38A-9E0F5531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1DC34-8C1B-4B6C-9A3A-F05B94D5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CEFBC-205B-45CF-AC76-47D8DE31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F25-7A25-4D57-B219-96A3862E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49F58-FF70-4794-9883-BE952DFD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CA478-3276-4C49-9A98-D6FDB4C4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9499A-A122-4D7F-9AD9-733913CF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23303-7144-4244-B83D-9F401F19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34B8C-FD93-4371-AB1F-7549136D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9D1-1AB8-4A20-A6B2-5EE492E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024C-3B8E-4BCB-8677-364A7D58638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33F0-461B-4DF3-ACF3-48264B81E11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689C-5EFE-4734-8AE8-3C8BD74CB0E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8D83-A3AA-4F44-97F3-A86A0045390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A932-A7EB-4615-B893-81AB3FD1BE5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9DC0-DC49-44F8-9FBD-2C6232E9056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A1C2-B93F-4D85-A069-58B9B3CFF96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1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531960" cy="42670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2"/>
          <p:cNvSpPr/>
          <p:nvPr/>
        </p:nvSpPr>
        <p:spPr>
          <a:xfrm>
            <a:off x="1219320" y="4800600"/>
            <a:ext cx="563868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“</a:t>
            </a: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The future belong to those who believe in their dream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4f271c"/>
                </a:solidFill>
                <a:latin typeface="Arial"/>
              </a:rPr>
              <a:t>Eleanor Roosev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1241640" y="246960"/>
            <a:ext cx="4909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a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dream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18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lp me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2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ny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__   </a:t>
            </a:r>
            <a:r>
              <a:rPr b="1" lang="en-US" sz="18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fairy 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take the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5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6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lieve in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     in everything I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lieve in ang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 know the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10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 is right for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cross the stre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 have a </a:t>
            </a:r>
            <a:r>
              <a:rPr b="0" lang="en-US" sz="1800" spc="-1" strike="noStrike">
                <a:solidFill>
                  <a:srgbClr val="2119c7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I have a dream, a fantas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To help me through re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And my destination makes it worth the wh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Pushing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the darkness still another m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I believe in ang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Something good in everything I s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I believe in ang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When I know the time is right for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I’ll cross the stream - I have a dr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6400800" y="152280"/>
            <a:ext cx="23623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Ang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Fan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W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19c7"/>
                </a:solidFill>
                <a:latin typeface="Arial"/>
              </a:rPr>
              <a:t>Dar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119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88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Conditionals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1763640"/>
            <a:ext cx="914400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1697040" y="291960"/>
            <a:ext cx="82281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Conditional I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5880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20040" indent="-240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означае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осуществимы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ситуаци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торые могут относиться к настоящему или будущем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7200" y="3629160"/>
            <a:ext cx="82296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If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0" i="1" lang="ru-RU" sz="3900" spc="-1" strike="noStrike">
                <a:solidFill>
                  <a:srgbClr val="808080"/>
                </a:solidFill>
                <a:latin typeface="Arial"/>
                <a:ea typeface="Arial Unicode MS"/>
              </a:rPr>
              <a:t>Present Simple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, </a:t>
            </a:r>
            <a:r>
              <a:rPr b="0" i="1" lang="ru-RU" sz="3900" spc="-1" strike="noStrike">
                <a:solidFill>
                  <a:srgbClr val="808080"/>
                </a:solidFill>
                <a:latin typeface="Arial"/>
                <a:ea typeface="Arial Unicode MS"/>
              </a:rPr>
              <a:t>Future Simple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587520" y="5029200"/>
            <a:ext cx="82278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04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 Unicode MS"/>
              </a:rPr>
              <a:t>If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 I 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  <a:ea typeface="Arial Unicode MS"/>
              </a:rPr>
              <a:t>find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 a good job, I 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  <a:ea typeface="Arial Unicode MS"/>
              </a:rPr>
              <a:t>will be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 happ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587520" y="3409920"/>
            <a:ext cx="8489880" cy="1279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"/>
          <p:cNvPicPr/>
          <p:nvPr/>
        </p:nvPicPr>
        <p:blipFill>
          <a:blip r:embed="rId2"/>
          <a:stretch/>
        </p:blipFill>
        <p:spPr>
          <a:xfrm>
            <a:off x="5224320" y="0"/>
            <a:ext cx="3722760" cy="24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1633680" y="42192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Conditional II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2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08520" indent="-231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хватывае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маловероятные,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воображаемые  ситуаци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носящиеся к настоящему или будущем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49240" y="3200400"/>
            <a:ext cx="8228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If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0" i="1" lang="ru-RU" sz="3900" spc="-1" strike="noStrike">
                <a:solidFill>
                  <a:srgbClr val="808080"/>
                </a:solidFill>
                <a:latin typeface="Arial"/>
                <a:ea typeface="Arial Unicode MS"/>
              </a:rPr>
              <a:t>Past Simple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, </a:t>
            </a:r>
            <a:r>
              <a:rPr b="0" i="1" lang="ru-RU" sz="3900" spc="-1" strike="noStrike">
                <a:solidFill>
                  <a:srgbClr val="808080"/>
                </a:solidFill>
                <a:latin typeface="Arial"/>
                <a:ea typeface="Arial Unicode MS"/>
              </a:rPr>
              <a:t>would+verb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92040" y="5746680"/>
            <a:ext cx="88822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If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 I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had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 more money, I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Arial Unicode MS"/>
              </a:rPr>
              <a:t>would live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 in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a palace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457200" y="3036960"/>
            <a:ext cx="8489880" cy="127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5813280" y="65160"/>
            <a:ext cx="3198960" cy="235116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7"/>
          <p:cNvSpPr/>
          <p:nvPr/>
        </p:nvSpPr>
        <p:spPr>
          <a:xfrm>
            <a:off x="522360" y="4408560"/>
            <a:ext cx="822780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rmAutofit fontScale="96000"/>
          </a:bodyPr>
          <a:p>
            <a:pPr marL="414360" indent="-3106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Note: в условной части глагол </a:t>
            </a:r>
            <a:r>
              <a:rPr b="1" lang="ru-RU" sz="2900" spc="-1" strike="noStrike">
                <a:solidFill>
                  <a:srgbClr val="008080"/>
                </a:solidFill>
                <a:latin typeface="Bookman Old Style"/>
                <a:ea typeface="Arial Unicode MS"/>
              </a:rPr>
              <a:t>to be</a:t>
            </a:r>
            <a:r>
              <a:rPr b="0" lang="ru-RU" sz="29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может иметь форму </a:t>
            </a:r>
            <a:r>
              <a:rPr b="1" lang="ru-RU" sz="2900" spc="-1" strike="noStrike">
                <a:solidFill>
                  <a:srgbClr val="008080"/>
                </a:solidFill>
                <a:latin typeface="Bookman Old Style"/>
                <a:ea typeface="Arial Unicode MS"/>
              </a:rPr>
              <a:t>were</a:t>
            </a:r>
            <a:r>
              <a:rPr b="0" lang="ru-RU" sz="29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для любых подлежащих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100000"/>
              </a:lnSpc>
              <a:spcAft>
                <a:spcPts val="1287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Arial"/>
                <a:ea typeface="Arial Unicode MS"/>
              </a:rPr>
              <a:t>If I </a:t>
            </a:r>
            <a:r>
              <a:rPr b="1" lang="ru-RU" sz="2900" spc="-1" strike="noStrike">
                <a:solidFill>
                  <a:srgbClr val="008080"/>
                </a:solidFill>
                <a:latin typeface="Arial"/>
                <a:ea typeface="Arial Unicode MS"/>
              </a:rPr>
              <a:t>were</a:t>
            </a:r>
            <a:r>
              <a:rPr b="1" lang="ru-RU" sz="2900" spc="-1" strike="noStrike">
                <a:solidFill>
                  <a:srgbClr val="0000ff"/>
                </a:solidFill>
                <a:latin typeface="Arial"/>
                <a:ea typeface="Arial Unicode MS"/>
              </a:rPr>
              <a:t> you, I would read this fantasy book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1306800" y="131400"/>
            <a:ext cx="82278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Conditional III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9920" y="1231560"/>
            <a:ext cx="5224680" cy="19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35880" indent="-2523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исывает невыполненные условия в прошлом, ситуацию, которую нельзя изменить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392040" y="3527280"/>
            <a:ext cx="8489880" cy="1278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4832280" y="979560"/>
            <a:ext cx="4268880" cy="241596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719280" y="3657600"/>
            <a:ext cx="8032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If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0" i="1" lang="ru-RU" sz="3900" spc="-1" strike="noStrike">
                <a:solidFill>
                  <a:srgbClr val="808080"/>
                </a:solidFill>
                <a:latin typeface="Arial"/>
                <a:ea typeface="Arial Unicode MS"/>
              </a:rPr>
              <a:t>Past Perfect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, </a:t>
            </a:r>
            <a:r>
              <a:rPr b="0" i="1" lang="ru-RU" sz="3900" spc="-1" strike="noStrike">
                <a:solidFill>
                  <a:srgbClr val="808080"/>
                </a:solidFill>
                <a:latin typeface="Arial"/>
                <a:ea typeface="Arial Unicode MS"/>
              </a:rPr>
              <a:t>would have +V</a:t>
            </a:r>
            <a:r>
              <a:rPr b="0" i="1" lang="ru-RU" sz="2500" spc="-1" strike="noStrike">
                <a:solidFill>
                  <a:srgbClr val="808080"/>
                </a:solidFill>
                <a:latin typeface="Arial"/>
                <a:ea typeface="Arial Unicode MS"/>
              </a:rPr>
              <a:t>3</a:t>
            </a: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457200" y="4960800"/>
            <a:ext cx="8229600" cy="18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rmAutofit fontScale="94000"/>
          </a:bodyPr>
          <a:p>
            <a:pPr marL="405720" indent="-304200" algn="ctr">
              <a:lnSpc>
                <a:spcPct val="100000"/>
              </a:lnSpc>
              <a:spcAft>
                <a:spcPts val="1287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Arial"/>
                <a:ea typeface="Arial Unicode MS"/>
              </a:rPr>
              <a:t>If </a:t>
            </a:r>
            <a:r>
              <a:rPr b="0" lang="ru-RU" sz="3900" spc="-1" strike="noStrike">
                <a:solidFill>
                  <a:srgbClr val="0000ff"/>
                </a:solidFill>
                <a:latin typeface="Arial"/>
                <a:ea typeface="Arial Unicode MS"/>
              </a:rPr>
              <a:t>I </a:t>
            </a:r>
            <a:r>
              <a:rPr b="0" lang="ru-RU" sz="3900" spc="-1" strike="noStrike">
                <a:solidFill>
                  <a:srgbClr val="333333"/>
                </a:solidFill>
                <a:latin typeface="Arial"/>
                <a:ea typeface="Arial Unicode MS"/>
              </a:rPr>
              <a:t>had listened </a:t>
            </a:r>
            <a:r>
              <a:rPr b="0" lang="ru-RU" sz="3900" spc="-1" strike="noStrike">
                <a:solidFill>
                  <a:srgbClr val="0000ff"/>
                </a:solidFill>
                <a:latin typeface="Arial"/>
                <a:ea typeface="Arial Unicode MS"/>
              </a:rPr>
              <a:t>to your advice, I </a:t>
            </a:r>
            <a:r>
              <a:rPr b="0" lang="ru-RU" sz="3900" spc="-1" strike="noStrike">
                <a:solidFill>
                  <a:srgbClr val="333333"/>
                </a:solidFill>
                <a:latin typeface="Arial"/>
                <a:ea typeface="Arial Unicode MS"/>
              </a:rPr>
              <a:t>would have been</a:t>
            </a:r>
            <a:r>
              <a:rPr b="0" lang="ru-RU" sz="3900" spc="-1" strike="noStrike">
                <a:solidFill>
                  <a:srgbClr val="0000ff"/>
                </a:solidFill>
                <a:latin typeface="Arial"/>
                <a:ea typeface="Arial Unicode MS"/>
              </a:rPr>
              <a:t> saf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ff"/>
                </a:solidFill>
                <a:latin typeface="Arial"/>
                <a:ea typeface="Arial Unicode MS"/>
              </a:rPr>
              <a:t>But now I am in a hospita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plete the sentences using the</a:t>
            </a:r>
            <a:r>
              <a:rPr b="1" i="1" lang="en-US" sz="3900" spc="-1" strike="noStrike">
                <a:solidFill>
                  <a:srgbClr val="572314"/>
                </a:solidFill>
                <a:latin typeface="Gill Sans MT"/>
              </a:rPr>
              <a:t> Conditional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. If I have a chance to get a high education I…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If I were so lucky to chose a present I…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I will enter any university if I…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. If I had enough money I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. If my friend asks me to help I…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. If I had worked harder I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503280" y="530280"/>
          <a:ext cx="8147160" cy="4324320"/>
        </p:xfrm>
        <a:graphic>
          <a:graphicData uri="http://schemas.openxmlformats.org/drawingml/2006/table">
            <a:tbl>
              <a:tblPr/>
              <a:tblGrid>
                <a:gridCol w="450720"/>
                <a:gridCol w="5130720"/>
                <a:gridCol w="2565720"/>
              </a:tblGrid>
              <a:tr h="52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43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our 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43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our mark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4305"/>
                    </a:solidFill>
                  </a:tcPr>
                </a:tc>
              </a:tr>
              <a:tr h="60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know new words and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 2  3  4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can understands the words of the s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 2  3  4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can speak about my dr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 2  3  4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 can make up sentences using Conditio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 2  3  4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’ve written the  test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 2  3  4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cf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9e7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5"/>
          <p:cNvSpPr/>
          <p:nvPr/>
        </p:nvSpPr>
        <p:spPr>
          <a:xfrm>
            <a:off x="1371600" y="533520"/>
            <a:ext cx="6248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19c7"/>
                </a:solidFill>
                <a:latin typeface="Georgia"/>
              </a:rPr>
              <a:t>“</a:t>
            </a:r>
            <a:r>
              <a:rPr b="1" lang="en-US" sz="2800" spc="-1" strike="noStrike">
                <a:solidFill>
                  <a:srgbClr val="2119c7"/>
                </a:solidFill>
                <a:latin typeface="Georgia"/>
              </a:rPr>
              <a:t>The</a:t>
            </a:r>
            <a:r>
              <a:rPr b="1" lang="ru-RU" sz="2800" spc="-1" strike="noStrike">
                <a:solidFill>
                  <a:srgbClr val="2119c7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2119c7"/>
                </a:solidFill>
                <a:latin typeface="Georgia"/>
              </a:rPr>
              <a:t>poorest man  is not someone who has no money but someone who has no dream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19c7"/>
                </a:solidFill>
                <a:latin typeface="Georgia"/>
              </a:rPr>
              <a:t>                                                             </a:t>
            </a:r>
            <a:r>
              <a:rPr b="1" lang="ru-RU" sz="2800" spc="-1" strike="noStrike">
                <a:solidFill>
                  <a:srgbClr val="2119c7"/>
                </a:solidFill>
                <a:latin typeface="Georgia"/>
              </a:rPr>
              <a:t>                           </a:t>
            </a:r>
            <a:r>
              <a:rPr b="1" lang="en-US" sz="2800" spc="-1" strike="noStrike">
                <a:solidFill>
                  <a:srgbClr val="2119c7"/>
                </a:solidFill>
                <a:latin typeface="Georgia"/>
              </a:rPr>
              <a:t>Soc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2209680" y="3352680"/>
            <a:ext cx="5639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https://avatars.mds.yandex.net/i?id=023f06fb8b8d2f7f5f9b4047b9f4802749068ac4-10448002-images-thumbs&amp;n=13"/>
          <p:cNvPicPr/>
          <p:nvPr/>
        </p:nvPicPr>
        <p:blipFill>
          <a:blip r:embed="rId1"/>
          <a:stretch/>
        </p:blipFill>
        <p:spPr>
          <a:xfrm>
            <a:off x="1066680" y="2514600"/>
            <a:ext cx="2934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8" descr=""/>
          <p:cNvPicPr/>
          <p:nvPr/>
        </p:nvPicPr>
        <p:blipFill>
          <a:blip r:embed="rId1"/>
          <a:srcRect l="5726" t="7143" r="0" b="0"/>
          <a:stretch/>
        </p:blipFill>
        <p:spPr>
          <a:xfrm rot="441600">
            <a:off x="4114440" y="2057040"/>
            <a:ext cx="2509920" cy="2971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2"/>
          <a:stretch/>
        </p:blipFill>
        <p:spPr>
          <a:xfrm rot="20570400">
            <a:off x="837720" y="2743200"/>
            <a:ext cx="2457720" cy="3276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3"/>
          <a:stretch/>
        </p:blipFill>
        <p:spPr>
          <a:xfrm rot="643800">
            <a:off x="6222600" y="3429000"/>
            <a:ext cx="2921040" cy="3048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4"/>
          <a:stretch/>
        </p:blipFill>
        <p:spPr>
          <a:xfrm>
            <a:off x="2895480" y="3200400"/>
            <a:ext cx="2248200" cy="35053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9"/>
          <p:cNvSpPr/>
          <p:nvPr/>
        </p:nvSpPr>
        <p:spPr>
          <a:xfrm>
            <a:off x="1905120" y="6094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271c"/>
                </a:solidFill>
                <a:latin typeface="Georgia"/>
              </a:rPr>
              <a:t>I have a DREAM 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By the end of the lesson you will be able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practice new wo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listen to the so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make-up sentences using condition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speak about your dreams and hop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write  a small te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Picture 2" descr="C:\Users\Ольга Веснина\Desktop\Без названия (3).jpg"/>
          <p:cNvPicPr/>
          <p:nvPr/>
        </p:nvPicPr>
        <p:blipFill>
          <a:blip r:embed="rId1"/>
          <a:stretch/>
        </p:blipFill>
        <p:spPr>
          <a:xfrm>
            <a:off x="250920" y="263520"/>
            <a:ext cx="1199880" cy="1440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:\Users\Ольга Веснина\Desktop\Без названия (4).jpg"/>
          <p:cNvPicPr/>
          <p:nvPr/>
        </p:nvPicPr>
        <p:blipFill>
          <a:blip r:embed="rId2"/>
          <a:stretch/>
        </p:blipFill>
        <p:spPr>
          <a:xfrm>
            <a:off x="1106640" y="1012680"/>
            <a:ext cx="1401480" cy="1401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C:\Users\Ольга Веснина\Desktop\Без названия (5).jpg"/>
          <p:cNvPicPr/>
          <p:nvPr/>
        </p:nvPicPr>
        <p:blipFill>
          <a:blip r:embed="rId3"/>
          <a:stretch/>
        </p:blipFill>
        <p:spPr>
          <a:xfrm>
            <a:off x="1378080" y="5373720"/>
            <a:ext cx="1325520" cy="1216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Users\Ольга Веснина\Desktop\start.jpg"/>
          <p:cNvPicPr/>
          <p:nvPr/>
        </p:nvPicPr>
        <p:blipFill>
          <a:blip r:embed="rId4"/>
          <a:srcRect l="15267" t="0" r="11490" b="0"/>
          <a:stretch/>
        </p:blipFill>
        <p:spPr>
          <a:xfrm>
            <a:off x="281160" y="4290840"/>
            <a:ext cx="1503360" cy="1152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C:\Users\Ольга Веснина\Desktop\Без названия (6).jpg"/>
          <p:cNvPicPr/>
          <p:nvPr/>
        </p:nvPicPr>
        <p:blipFill>
          <a:blip r:embed="rId5"/>
          <a:stretch/>
        </p:blipFill>
        <p:spPr>
          <a:xfrm>
            <a:off x="1378080" y="3284640"/>
            <a:ext cx="1058760" cy="1565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C:\Users\Ольга Веснина\Desktop\Jordan_Lipofsky.jpg"/>
          <p:cNvPicPr/>
          <p:nvPr/>
        </p:nvPicPr>
        <p:blipFill>
          <a:blip r:embed="rId6"/>
          <a:stretch/>
        </p:blipFill>
        <p:spPr>
          <a:xfrm>
            <a:off x="250920" y="2060640"/>
            <a:ext cx="1382760" cy="15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2703600" y="404640"/>
          <a:ext cx="5986440" cy="822600"/>
        </p:xfrm>
        <a:graphic>
          <a:graphicData uri="http://schemas.openxmlformats.org/drawingml/2006/table">
            <a:tbl>
              <a:tblPr/>
              <a:tblGrid>
                <a:gridCol w="59864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t took him 30 years to achieve his drea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703600" y="1301760"/>
          <a:ext cx="5986440" cy="824040"/>
        </p:xfrm>
        <a:graphic>
          <a:graphicData uri="http://schemas.openxmlformats.org/drawingml/2006/table">
            <a:tbl>
              <a:tblPr/>
              <a:tblGrid>
                <a:gridCol w="5986440"/>
              </a:tblGrid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 failed over and over again, that’s why he succe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2703600" y="2414520"/>
          <a:ext cx="5986440" cy="822240"/>
        </p:xfrm>
        <a:graphic>
          <a:graphicData uri="http://schemas.openxmlformats.org/drawingml/2006/table">
            <a:tbl>
              <a:tblPr/>
              <a:tblGrid>
                <a:gridCol w="59864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 was considered an “unteachable fool” in early ea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705040" y="3465360"/>
          <a:ext cx="5986440" cy="822600"/>
        </p:xfrm>
        <a:graphic>
          <a:graphicData uri="http://schemas.openxmlformats.org/drawingml/2006/table">
            <a:tbl>
              <a:tblPr/>
              <a:tblGrid>
                <a:gridCol w="59864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s teacher thought that he was hopeles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703600" y="4638600"/>
          <a:ext cx="5986440" cy="822240"/>
        </p:xfrm>
        <a:graphic>
          <a:graphicData uri="http://schemas.openxmlformats.org/drawingml/2006/table">
            <a:tbl>
              <a:tblPr/>
              <a:tblGrid>
                <a:gridCol w="59864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s script was rejected by many stud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2703600" y="5530680"/>
          <a:ext cx="5986440" cy="822600"/>
        </p:xfrm>
        <a:graphic>
          <a:graphicData uri="http://schemas.openxmlformats.org/drawingml/2006/table">
            <a:tbl>
              <a:tblPr/>
              <a:tblGrid>
                <a:gridCol w="59864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s mother was told that he was “too stupid to learn”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mplete the sentences with the phras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sh one’s hop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 the hope th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pe for the b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t one’s ho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ive up ho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ve high hopes o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in one’s hopes 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Match the words with their meaning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 a candidate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inuing with smth even when it’s difficult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 faced with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t first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 rid of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 big that it cannot be solved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of a new , creative idea 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aults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st 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urned down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6"/>
          <p:cNvSpPr/>
          <p:nvPr/>
        </p:nvSpPr>
        <p:spPr>
          <a:xfrm>
            <a:off x="2209680" y="3808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Georgia"/>
              </a:rPr>
              <a:t>What should (shouldn’t) we do according the author of this 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600200" y="2362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houl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095880" y="2286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6019920" y="2286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houldn’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523880" y="3200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119c7"/>
                </a:solidFill>
                <a:latin typeface="Arial"/>
              </a:rPr>
              <a:t>believe in our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1523880" y="39625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119c7"/>
                </a:solidFill>
                <a:latin typeface="Arial"/>
              </a:rPr>
              <a:t>take steps to achieve our d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1523880" y="48769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19c7"/>
                </a:solidFill>
                <a:latin typeface="Arial"/>
              </a:rPr>
              <a:t>remember, Rome wasn’t built in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6095880" y="3124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19c7"/>
                </a:solidFill>
                <a:latin typeface="Arial"/>
              </a:rPr>
              <a:t>giv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6248520" y="38862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601992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19c7"/>
                </a:solidFill>
                <a:latin typeface="Arial"/>
              </a:rPr>
              <a:t>be afraid of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609588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19c7"/>
                </a:solidFill>
                <a:latin typeface="Arial"/>
              </a:rPr>
              <a:t>never say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5"/>
          <p:cNvSpPr/>
          <p:nvPr/>
        </p:nvSpPr>
        <p:spPr>
          <a:xfrm>
            <a:off x="5181480" y="36576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629400" cy="4745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9"/>
          <p:cNvSpPr/>
          <p:nvPr/>
        </p:nvSpPr>
        <p:spPr>
          <a:xfrm>
            <a:off x="2057400" y="6094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Georgia"/>
              </a:rPr>
              <a:t>ABBA “I have a DREAM 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8:35:18Z</dcterms:created>
  <dc:creator>Denis</dc:creator>
  <dc:description/>
  <dc:language>en-US</dc:language>
  <cp:lastModifiedBy>Toma</cp:lastModifiedBy>
  <dcterms:modified xsi:type="dcterms:W3CDTF">2024-03-19T20:27:51Z</dcterms:modified>
  <cp:revision>99</cp:revision>
  <dc:subject/>
  <dc:title>William Shakespeare.</dc:title>
</cp:coreProperties>
</file>