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719B-D9D5-4DED-8AF4-349D6A0E6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E1A4-ACDA-466D-8D25-2CA599FA8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891A-73AA-49BA-A21B-6D0ACA57B63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82B-8003-431E-A2E5-78DE4A9586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4CB0-37DC-41FA-94BD-D268F64391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0F9-EA9A-4731-A2AB-1229EB18B6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233-2CDD-46FD-AD38-8F77E937F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E54-48DB-4F19-81AB-2C613AD1BB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F9C-3BEA-4D4C-9762-7A84E208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FC8-3944-4A0E-8289-57F99841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651-26CA-461B-B449-927CA7C1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3AD-FA31-438F-8980-C2F6AE40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58A9-1978-441B-9A33-21F7B20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BA0-FC08-49BC-8F3E-28A070E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82E-9A8C-448A-93D5-A6C33139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48B2-AE88-4099-B80F-1C007E06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AD17-9A57-4BB7-82D6-0E89BAC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8188-0259-4DEC-A384-307080A9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F5A-01AE-45F7-AA92-641B537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D85-1684-4707-81FE-30DAC43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B2C-1304-4F07-9126-CB34095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C7D-460E-4221-93AD-9D6A416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0861-3605-4D49-A1FE-88885084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415B-823C-4B19-A25F-E43EC43E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5C4-EC05-447D-9B9F-EC1AA031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419D-0D54-483D-8E07-D58CE404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5C7B-DDA0-4796-8035-9B4E4783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0511-3013-47D2-8A62-13B4CC8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4439-B394-4EBA-9DD3-8F2B00E1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4319-8B3A-40A7-8F19-BA613BE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BCF-12CD-4AC1-9B1E-A65D4E92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C21C-4111-464D-A0E6-2AAAFDB2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8145-C936-4BB9-A288-EC40F3D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A126-50BD-4AD7-8C4F-D55F2E2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6434-A16F-4D92-A560-54965BC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9A47-8EB8-48B6-BFA9-1184EA0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AF28-032F-4310-A380-F4852EEE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D165-666A-4439-8AE2-43AA0558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FE9F-2ED9-4DFC-916B-D75BF37C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EF05-B725-4BC6-830C-99FA7968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103D-13DF-4DE6-BFE4-C564F98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03-3310-41D3-9E76-4B084E8E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B124-1F6F-4319-AA8F-42100EC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5B5A-8FDE-47A0-890E-1037BF5C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983C-2561-479A-A600-C787494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08FE-62FD-4956-90FC-FF14278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517B-3FF1-4E8D-9CF2-A9E2CFE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E944-FA22-432C-8F30-B46B600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AEE8-366D-42BA-AAC2-654B4EE4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760C-D8CB-49FE-B44E-6C8B4D4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7FB5-8AC0-4182-9F60-E684713F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55B5-7653-4ED4-8A4F-EED6382F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3D9-3605-4F8F-AD90-C266B1D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8470-DA64-4859-A7F1-4AE2B14F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0BA7-830D-49A0-A28B-51B844D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D09E-A4C5-41A5-9C31-9ADAC0C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2E1A-3781-4ED8-A52D-79928B1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ABA7-5028-45D1-BB83-943BA80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5F44-275E-49CC-A978-7833D1C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02D5-5A23-49D7-B121-0799192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F249-CCB0-4AEB-A57B-40B4119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6FAC-8083-4F8A-AF1D-760D08E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E25F-E4CE-4703-8DBE-D0FC6953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DD0-C723-4602-8510-ABA13CEF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B556-B1EE-41AD-B232-043A9636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76F4-D702-4D4A-AE79-8B23352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8162-64C4-4837-9F8A-B0F58D3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EDC3-791B-42C2-AED9-1F6047E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0BC4A-D1C6-4D83-A6ED-2A6A8EEC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D8DB-91DB-4151-8204-2E6E7070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713C-3354-4A8B-AC46-3BA2C25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BAE7-79F5-44E5-BDBF-DABE8A8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2DAA-A189-4069-B512-CC41FC5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F712-21E9-4872-9E7A-3ABE4F6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C06-6C37-4839-9415-B2BC404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AADF-EA9E-44C2-B129-7B23EC7E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F81D-FDC4-4DC8-98E0-AA95A04E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411C-DF1F-466A-A755-4D6F7DB5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263D-3BEC-40BE-A0EC-DFFC7726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B392-920E-4277-AC54-912EF2B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B19E-7A38-4AFF-9A75-A66E7D3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02CB-A6D0-476D-A7B5-81143F96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935C-67D3-4EB2-823A-C25AB3B1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3F9C-70A9-490C-8B2C-C571ABB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4684E-A814-43D6-BE39-A8F5E9E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643-9574-4428-BC46-2271BA1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3739-A595-43EB-8238-EF11B57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3D19-AA74-4030-B03F-085A2FA8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3564-07CE-4AD3-91BA-F627CFD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B2AED-5F7D-4B26-ADAB-EA3F6BE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19DC2-F198-4326-9245-08D30A70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7D8-2A26-4489-99B9-D58C153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C54-8CAB-47C2-B88F-63DF1B6AF8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F37-C182-463F-9C46-3E9F04389A1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3F9C-BAFA-4C22-BBA1-554B6E4409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7907-0AD0-4865-AE36-A8637D8A69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FE0D-BCF0-48AB-8FCC-584115FB10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6F9C-88F5-4309-AFFD-94F01DB192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3A84-D7AD-47E2-8F80-9DE7412A0C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1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531960" cy="42670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2"/>
          <p:cNvSpPr/>
          <p:nvPr/>
        </p:nvSpPr>
        <p:spPr>
          <a:xfrm>
            <a:off x="1219320" y="4800600"/>
            <a:ext cx="56386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“</a:t>
            </a: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The future belong to those who believe in their dre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4f271c"/>
                </a:solidFill>
                <a:latin typeface="Arial"/>
              </a:rPr>
              <a:t>Eleanor Roosev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1241640" y="246960"/>
            <a:ext cx="4909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a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dream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m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ny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__  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fairy 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take 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5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6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n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     in everything I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know 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0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 is right for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cross the str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 have a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have a dream, a fant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o help me through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And my destination makes it worth the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ush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he darkness still another m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omething good in everything I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When I know the time is right for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’ll cross the stream - I have a dr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400800" y="152280"/>
            <a:ext cx="23623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an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W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Dar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88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Conditional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763640"/>
            <a:ext cx="91440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1697040" y="29196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58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0040" indent="-240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знач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существим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е могут относить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7200" y="362916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resent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Future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87520" y="5029200"/>
            <a:ext cx="8227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find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a good job,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will b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587520" y="3409920"/>
            <a:ext cx="8489880" cy="1279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5224320" y="0"/>
            <a:ext cx="3722760" cy="24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1633680" y="42192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08520" indent="-231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хватыв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маловероятные,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воображаемые 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носящие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49240" y="3200400"/>
            <a:ext cx="8228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ast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would+verb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92040" y="5746680"/>
            <a:ext cx="8882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I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had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more money, I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would liv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i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a palac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57200" y="3036960"/>
            <a:ext cx="8489880" cy="127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5813280" y="65160"/>
            <a:ext cx="3198960" cy="23511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522360" y="4408560"/>
            <a:ext cx="82278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Note: в условной части глагол </a:t>
            </a:r>
            <a:r>
              <a:rPr b="1" lang="ru-RU" sz="2900" spc="-1" strike="noStrike">
                <a:solidFill>
                  <a:srgbClr val="008080"/>
                </a:solidFill>
                <a:latin typeface="Bookman Old Style"/>
                <a:ea typeface="Arial Unicode MS"/>
              </a:rPr>
              <a:t>to be</a:t>
            </a: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может иметь форму </a:t>
            </a:r>
            <a:r>
              <a:rPr b="1" lang="ru-RU" sz="2900" spc="-1" strike="noStrike">
                <a:solidFill>
                  <a:srgbClr val="008080"/>
                </a:solidFill>
                <a:latin typeface="Bookman Old Style"/>
                <a:ea typeface="Arial Unicode MS"/>
              </a:rPr>
              <a:t>were</a:t>
            </a: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для любых подлежащих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100000"/>
              </a:lnSpc>
              <a:spcAft>
                <a:spcPts val="1287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"/>
                <a:ea typeface="Arial Unicode MS"/>
              </a:rPr>
              <a:t>If I </a:t>
            </a:r>
            <a:r>
              <a:rPr b="1" lang="ru-RU" sz="2900" spc="-1" strike="noStrike">
                <a:solidFill>
                  <a:srgbClr val="008080"/>
                </a:solidFill>
                <a:latin typeface="Arial"/>
                <a:ea typeface="Arial Unicode MS"/>
              </a:rPr>
              <a:t>were</a:t>
            </a:r>
            <a:r>
              <a:rPr b="1" lang="ru-RU" sz="2900" spc="-1" strike="noStrike">
                <a:solidFill>
                  <a:srgbClr val="0000ff"/>
                </a:solidFill>
                <a:latin typeface="Arial"/>
                <a:ea typeface="Arial Unicode MS"/>
              </a:rPr>
              <a:t> you, I would read this fantasy boo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1306800" y="13140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I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9920" y="1231560"/>
            <a:ext cx="522468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35880" indent="-2523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сывает невыполненные условия в прошлом, ситуацию, которую нельзя измени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392040" y="3527280"/>
            <a:ext cx="8489880" cy="127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832280" y="979560"/>
            <a:ext cx="4268880" cy="24159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719280" y="3657600"/>
            <a:ext cx="8032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ast Perfect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would have +V</a:t>
            </a:r>
            <a:r>
              <a:rPr b="0" i="1" lang="ru-RU" sz="2500" spc="-1" strike="noStrike">
                <a:solidFill>
                  <a:srgbClr val="808080"/>
                </a:solidFill>
                <a:latin typeface="Arial"/>
                <a:ea typeface="Arial Unicode MS"/>
              </a:rPr>
              <a:t>3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57200" y="4960800"/>
            <a:ext cx="822960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 fontScale="94000"/>
          </a:bodyPr>
          <a:p>
            <a:pPr marL="405720" indent="-304200" algn="ctr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 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I </a:t>
            </a:r>
            <a:r>
              <a:rPr b="0" lang="ru-RU" sz="3900" spc="-1" strike="noStrike">
                <a:solidFill>
                  <a:srgbClr val="333333"/>
                </a:solidFill>
                <a:latin typeface="Arial"/>
                <a:ea typeface="Arial Unicode MS"/>
              </a:rPr>
              <a:t>had listened 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to your advice, I </a:t>
            </a:r>
            <a:r>
              <a:rPr b="0" lang="ru-RU" sz="3900" spc="-1" strike="noStrike">
                <a:solidFill>
                  <a:srgbClr val="333333"/>
                </a:solidFill>
                <a:latin typeface="Arial"/>
                <a:ea typeface="Arial Unicode MS"/>
              </a:rPr>
              <a:t>would have been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 saf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But now I am in a hospita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lete the sentences using the</a:t>
            </a: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 Conditional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If I have a chance to get a high education I…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If I were so lucky to chose a present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I will enter any university if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If I had enough money I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If my friend asks me to help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If I had worked harder I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03280" y="530280"/>
          <a:ext cx="8147160" cy="4324320"/>
        </p:xfrm>
        <a:graphic>
          <a:graphicData uri="http://schemas.openxmlformats.org/drawingml/2006/table">
            <a:tbl>
              <a:tblPr/>
              <a:tblGrid>
                <a:gridCol w="450720"/>
                <a:gridCol w="5130720"/>
                <a:gridCol w="2565720"/>
              </a:tblGrid>
              <a:tr h="52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our 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our mark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</a:tr>
              <a:tr h="60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know new words and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understands the words of the s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speak about my d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make up sentences using Conditio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’ve written the  test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1371600" y="53352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“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The</a:t>
            </a:r>
            <a:r>
              <a:rPr b="1" lang="ru-RU" sz="2800" spc="-1" strike="noStrike">
                <a:solidFill>
                  <a:srgbClr val="2119c7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poorest man  is not someone who has no money but someone who has no dre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                                                             </a:t>
            </a:r>
            <a:r>
              <a:rPr b="1" lang="ru-RU" sz="2800" spc="-1" strike="noStrike">
                <a:solidFill>
                  <a:srgbClr val="2119c7"/>
                </a:solidFill>
                <a:latin typeface="Georgia"/>
              </a:rPr>
              <a:t>                           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Soc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209680" y="3352680"/>
            <a:ext cx="5639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https://avatars.mds.yandex.net/i?id=023f06fb8b8d2f7f5f9b4047b9f4802749068ac4-10448002-images-thumbs&amp;n=13"/>
          <p:cNvPicPr/>
          <p:nvPr/>
        </p:nvPicPr>
        <p:blipFill>
          <a:blip r:embed="rId1"/>
          <a:stretch/>
        </p:blipFill>
        <p:spPr>
          <a:xfrm>
            <a:off x="1066680" y="251460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"/>
          <p:cNvPicPr/>
          <p:nvPr/>
        </p:nvPicPr>
        <p:blipFill>
          <a:blip r:embed="rId1"/>
          <a:srcRect l="5726" t="7143" r="0" b="0"/>
          <a:stretch/>
        </p:blipFill>
        <p:spPr>
          <a:xfrm rot="441600">
            <a:off x="4114440" y="2057040"/>
            <a:ext cx="2509920" cy="2971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 rot="20570400">
            <a:off x="837720" y="2743200"/>
            <a:ext cx="2457720" cy="3276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 rot="643800">
            <a:off x="6222600" y="3429000"/>
            <a:ext cx="2921040" cy="3048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4"/>
          <a:stretch/>
        </p:blipFill>
        <p:spPr>
          <a:xfrm>
            <a:off x="2895480" y="3200400"/>
            <a:ext cx="2248200" cy="35053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905120" y="6094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I have a DREAM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By the end of the lesson you will be abl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practice new 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listen to the so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ake-up sentences using conditio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speak about your dreams and ho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write  a small te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C:\Users\Ольга Веснина\Desktop\Без названия (3).jpg"/>
          <p:cNvPicPr/>
          <p:nvPr/>
        </p:nvPicPr>
        <p:blipFill>
          <a:blip r:embed="rId1"/>
          <a:stretch/>
        </p:blipFill>
        <p:spPr>
          <a:xfrm>
            <a:off x="250920" y="263520"/>
            <a:ext cx="1199880" cy="1440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Ольга Веснина\Desktop\Без названия (4).jpg"/>
          <p:cNvPicPr/>
          <p:nvPr/>
        </p:nvPicPr>
        <p:blipFill>
          <a:blip r:embed="rId2"/>
          <a:stretch/>
        </p:blipFill>
        <p:spPr>
          <a:xfrm>
            <a:off x="1106640" y="1012680"/>
            <a:ext cx="1401480" cy="1401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Users\Ольга Веснина\Desktop\Без названия (5).jpg"/>
          <p:cNvPicPr/>
          <p:nvPr/>
        </p:nvPicPr>
        <p:blipFill>
          <a:blip r:embed="rId3"/>
          <a:stretch/>
        </p:blipFill>
        <p:spPr>
          <a:xfrm>
            <a:off x="1378080" y="5373720"/>
            <a:ext cx="1325520" cy="121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Ольга Веснина\Desktop\start.jpg"/>
          <p:cNvPicPr/>
          <p:nvPr/>
        </p:nvPicPr>
        <p:blipFill>
          <a:blip r:embed="rId4"/>
          <a:srcRect l="15267" t="0" r="11490" b="0"/>
          <a:stretch/>
        </p:blipFill>
        <p:spPr>
          <a:xfrm>
            <a:off x="281160" y="4290840"/>
            <a:ext cx="150336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Users\Ольга Веснина\Desktop\Без названия (6).jpg"/>
          <p:cNvPicPr/>
          <p:nvPr/>
        </p:nvPicPr>
        <p:blipFill>
          <a:blip r:embed="rId5"/>
          <a:stretch/>
        </p:blipFill>
        <p:spPr>
          <a:xfrm>
            <a:off x="1378080" y="3284640"/>
            <a:ext cx="1058760" cy="1565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Users\Ольга Веснина\Desktop\Jordan_Lipofsky.jpg"/>
          <p:cNvPicPr/>
          <p:nvPr/>
        </p:nvPicPr>
        <p:blipFill>
          <a:blip r:embed="rId6"/>
          <a:stretch/>
        </p:blipFill>
        <p:spPr>
          <a:xfrm>
            <a:off x="250920" y="2060640"/>
            <a:ext cx="138276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2703600" y="40464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t took him 30 years to achieve his drea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703600" y="1301760"/>
          <a:ext cx="5986440" cy="8240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 failed over and over again, that’s why he succe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703600" y="2414520"/>
          <a:ext cx="5986440" cy="8222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 was considered an “unteachable fool” in early 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705040" y="346536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teacher thought that he was hopel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703600" y="4638600"/>
          <a:ext cx="5986440" cy="8222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script was rejected by many stud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703600" y="553068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mother was told that he was “too stupid to learn”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lete the sentences with the phras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sh one’s ho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the hope th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pe for the b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t one’s h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ive up h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ve high hopes o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in one’s hopes 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atch the words with their meanin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 a candidate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inuing with smth even when it’s difficult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 faced with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t first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 rid of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 big that it cannot be solved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of a new , creative idea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aults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st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urned down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6"/>
          <p:cNvSpPr/>
          <p:nvPr/>
        </p:nvSpPr>
        <p:spPr>
          <a:xfrm>
            <a:off x="2209680" y="380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Georgia"/>
              </a:rPr>
              <a:t>What should (shouldn’t) we do according the author of this 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60020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095880" y="2286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019920" y="2286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n’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23880" y="3200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believe in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523880" y="39625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take steps to achieve our d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523880" y="48769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remember, Rome wasn’t built in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6095880" y="3124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248520" y="38862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1992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be afraid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60958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never say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5"/>
          <p:cNvSpPr/>
          <p:nvPr/>
        </p:nvSpPr>
        <p:spPr>
          <a:xfrm>
            <a:off x="5181480" y="3657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629400" cy="474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2057400" y="6094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Georgia"/>
              </a:rPr>
              <a:t>ABBA “I have a DREAM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18Z</dcterms:created>
  <dc:creator>Denis</dc:creator>
  <dc:description/>
  <dc:language>en-US</dc:language>
  <cp:lastModifiedBy>Toma</cp:lastModifiedBy>
  <dcterms:modified xsi:type="dcterms:W3CDTF">2024-03-19T20:27:51Z</dcterms:modified>
  <cp:revision>99</cp:revision>
  <dc:subject/>
  <dc:title>William Shakespeare.</dc:title>
</cp:coreProperties>
</file>