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311-2917-484D-9D0B-1C9770E1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DC2-5DE7-42E3-8107-748B8E3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D3B-FCF6-4516-B3C5-7CBE02EC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ECF-726D-4715-8BFE-CA14E6E2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37D-36D0-43F9-9B11-F2AA0F99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D073-520E-4DC8-A48E-F2AF2C67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52B-0BD0-4BC8-AB54-BB6D25E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BBE-35C3-4B61-8227-EBB5BC0A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337-A581-46EA-9FEA-0B1159A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6CFA-D2DF-40F1-994D-0A73C46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E84-DC98-4B87-A3B0-C33261E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2C7-7DB5-4D3B-97C4-3A4563B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2D27-233D-4C4E-A2BB-8BE2F0E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C53-4EDC-4C8D-8BDB-8AB5B6C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021-596A-4252-9726-D9B9FFB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9DA-B04C-48C3-ACC3-6A192ADE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E68A-098A-44C0-84F1-2B0FD775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2F3-5398-45EE-BDD7-63374D30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6CF-1E08-4328-9CA4-7DD36B29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32C-ED46-4DA7-9A9F-2E7ACBF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0F7-3162-4C89-855D-5C7EA78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B54-57BD-428C-8740-4AE0E66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588-2097-45A9-9704-1693062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9DD-CC22-4908-B3A2-F730607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D2C8-CB64-44F9-9A64-EF79A3CE27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1B01-61AE-4366-96F4-02E317EA1EF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ля детей старш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Знакомство с театром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одготовила: воспитатель  Шабанова Наталья Георгиевн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Содержимое 5" descr="37.png"/>
          <p:cNvPicPr/>
          <p:nvPr/>
        </p:nvPicPr>
        <p:blipFill>
          <a:blip r:embed="rId1"/>
          <a:stretch/>
        </p:blipFill>
        <p:spPr>
          <a:xfrm>
            <a:off x="2127240" y="1920960"/>
            <a:ext cx="5657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00"/>
                </a:solidFill>
                <a:latin typeface="Calibri"/>
              </a:rPr>
              <a:t>На сцене есть красивый занавес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7" name="Содержимое 9" descr="81681406.jpg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ред сценой есть оркестровая яма.  В ней сидят музыканты.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Содержимое 3" descr="1426724496_0920.700x466.jpeg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435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Без кого не может жить театр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Без режиссё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Без артист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Содержимое 6" descr="Театральный-режиссер.-Специфика-работы-режиссера-в-театре..jpg"/>
          <p:cNvPicPr/>
          <p:nvPr/>
        </p:nvPicPr>
        <p:blipFill>
          <a:blip r:embed="rId1"/>
          <a:stretch/>
        </p:blipFill>
        <p:spPr>
          <a:xfrm>
            <a:off x="324000" y="2708280"/>
            <a:ext cx="3743280" cy="370512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7" descr="1341000767__gbr7878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907640" y="752400"/>
            <a:ext cx="4040280" cy="102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гримё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костюме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" name="Содержимое 6" descr="1010307_0307_201.jpg"/>
          <p:cNvPicPr/>
          <p:nvPr/>
        </p:nvPicPr>
        <p:blipFill>
          <a:blip r:embed="rId1"/>
          <a:stretch/>
        </p:blipFill>
        <p:spPr>
          <a:xfrm>
            <a:off x="324000" y="1992240"/>
            <a:ext cx="4039920" cy="374328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7" descr="gubved_02062011174029.jpg"/>
          <p:cNvPicPr/>
          <p:nvPr/>
        </p:nvPicPr>
        <p:blipFill>
          <a:blip r:embed="rId2"/>
          <a:stretch/>
        </p:blipFill>
        <p:spPr>
          <a:xfrm>
            <a:off x="4645080" y="2133720"/>
            <a:ext cx="4041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704880"/>
            <a:ext cx="4040280" cy="8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ириже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музыкан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Рисунок 58" descr=""/>
          <p:cNvPicPr/>
          <p:nvPr/>
        </p:nvPicPr>
        <p:blipFill>
          <a:blip r:embed="rId1"/>
          <a:stretch/>
        </p:blipFill>
        <p:spPr>
          <a:xfrm>
            <a:off x="4645080" y="2514600"/>
            <a:ext cx="4040280" cy="384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0" y="2349360"/>
            <a:ext cx="4176720" cy="401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Рисунок 60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925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А так ж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вукорежиссё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осветител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7" name="Содержимое 6" descr="28441542eYP.jpg"/>
          <p:cNvPicPr/>
          <p:nvPr/>
        </p:nvPicPr>
        <p:blipFill>
          <a:blip r:embed="rId1"/>
          <a:stretch/>
        </p:blipFill>
        <p:spPr>
          <a:xfrm>
            <a:off x="324000" y="2708280"/>
            <a:ext cx="4039920" cy="352908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1395311932_706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99308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Очень много людей трудится над спектаклем, но мы этого не видим, мы видим конечный результат-спектакль.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0" name="Содержимое 8" descr="9ed9dd42ccb138fa0c7fe1387e580df9_w960_h2048.jpg"/>
          <p:cNvPicPr/>
          <p:nvPr/>
        </p:nvPicPr>
        <p:blipFill>
          <a:blip r:embed="rId1"/>
          <a:stretch/>
        </p:blipFill>
        <p:spPr>
          <a:xfrm>
            <a:off x="1187280" y="2421000"/>
            <a:ext cx="6585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А благодарностью за труд артистов  являются аплодисменты зрителей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2" name="Содержимое 3" descr="standing-ovation-auditorium-pop_8703-e1327488756451.jpg"/>
          <p:cNvPicPr/>
          <p:nvPr/>
        </p:nvPicPr>
        <p:blipFill>
          <a:blip r:embed="rId1"/>
          <a:stretch/>
        </p:blipFill>
        <p:spPr>
          <a:xfrm>
            <a:off x="1116000" y="2349360"/>
            <a:ext cx="7272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 попасть в театр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7760" y="19890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Сначала надо купить билет в кассе теат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А потом зайти в гардероб и раздеть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Содержимое 12" descr="i.jpg"/>
          <p:cNvPicPr/>
          <p:nvPr/>
        </p:nvPicPr>
        <p:blipFill>
          <a:blip r:embed="rId1"/>
          <a:stretch/>
        </p:blipFill>
        <p:spPr>
          <a:xfrm>
            <a:off x="395280" y="2852640"/>
            <a:ext cx="3732120" cy="313704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13" descr="IMGP0167big.jpg"/>
          <p:cNvPicPr/>
          <p:nvPr/>
        </p:nvPicPr>
        <p:blipFill>
          <a:blip r:embed="rId2"/>
          <a:stretch/>
        </p:blipFill>
        <p:spPr>
          <a:xfrm>
            <a:off x="4645080" y="292248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ие бывают театр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Театры бывают для взросл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И для детей                                 детский театр им.И.Сац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Содержимое 11" descr="3.jpg"/>
          <p:cNvPicPr/>
          <p:nvPr/>
        </p:nvPicPr>
        <p:blipFill>
          <a:blip r:embed="rId1"/>
          <a:stretch/>
        </p:blipFill>
        <p:spPr>
          <a:xfrm>
            <a:off x="457200" y="2922480"/>
            <a:ext cx="4040280" cy="331488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12" descr="0_e3146_c59a59ea_XXL.jpg"/>
          <p:cNvPicPr/>
          <p:nvPr/>
        </p:nvPicPr>
        <p:blipFill>
          <a:blip r:embed="rId2"/>
          <a:stretch/>
        </p:blipFill>
        <p:spPr>
          <a:xfrm>
            <a:off x="4645080" y="2938320"/>
            <a:ext cx="40417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00"/>
                </a:solidFill>
                <a:latin typeface="Calibri"/>
              </a:rPr>
              <a:t>Какие спектакли ставят в театре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зросл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етск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Содержимое 6" descr="17c9r.jpg"/>
          <p:cNvPicPr/>
          <p:nvPr/>
        </p:nvPicPr>
        <p:blipFill>
          <a:blip r:embed="rId1"/>
          <a:stretch/>
        </p:blipFill>
        <p:spPr>
          <a:xfrm>
            <a:off x="457200" y="2565360"/>
            <a:ext cx="404028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1a0690676_4443907.jpg"/>
          <p:cNvPicPr/>
          <p:nvPr/>
        </p:nvPicPr>
        <p:blipFill>
          <a:blip r:embed="rId2"/>
          <a:stretch/>
        </p:blipFill>
        <p:spPr>
          <a:xfrm>
            <a:off x="4645080" y="2492280"/>
            <a:ext cx="404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ие бывают спектакл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Балет. Здесь артисты не говорят, а танцую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Опера. Здесь артисты не говорят, а пою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Содержимое 10" descr="balet.jpg"/>
          <p:cNvPicPr/>
          <p:nvPr/>
        </p:nvPicPr>
        <p:blipFill>
          <a:blip r:embed="rId1"/>
          <a:stretch/>
        </p:blipFill>
        <p:spPr>
          <a:xfrm>
            <a:off x="457200" y="3049560"/>
            <a:ext cx="4040280" cy="34038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11" descr="r2_www.go2life.net_1320428926_bolshoi_021_f661ff67.jpg"/>
          <p:cNvPicPr/>
          <p:nvPr/>
        </p:nvPicPr>
        <p:blipFill>
          <a:blip r:embed="rId2"/>
          <a:stretch/>
        </p:blipFill>
        <p:spPr>
          <a:xfrm>
            <a:off x="4645080" y="3137040"/>
            <a:ext cx="4041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Детские спектакли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кукольн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 актёрами-людь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Содержимое 6" descr="128.jpg"/>
          <p:cNvPicPr/>
          <p:nvPr/>
        </p:nvPicPr>
        <p:blipFill>
          <a:blip r:embed="rId1"/>
          <a:stretch/>
        </p:blipFill>
        <p:spPr>
          <a:xfrm>
            <a:off x="468360" y="2565360"/>
            <a:ext cx="4040280" cy="374328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1" descr="beauty_3.jpg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5075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Театры, где артисты-животны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4" name="Содержимое 16" descr="1285144661_dscf6891.jpg"/>
          <p:cNvPicPr/>
          <p:nvPr/>
        </p:nvPicPr>
        <p:blipFill>
          <a:blip r:embed="rId1"/>
          <a:stretch/>
        </p:blipFill>
        <p:spPr>
          <a:xfrm>
            <a:off x="324000" y="2133720"/>
            <a:ext cx="4038480" cy="433368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17" descr="original.jpg"/>
          <p:cNvPicPr/>
          <p:nvPr/>
        </p:nvPicPr>
        <p:blipFill>
          <a:blip r:embed="rId2"/>
          <a:stretch/>
        </p:blipFill>
        <p:spPr>
          <a:xfrm>
            <a:off x="4716360" y="2133720"/>
            <a:ext cx="40388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ой театр изнутр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театре есть фой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рительный за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9" name="Содержимое 11" descr="thumb_7660_news_big.jpeg"/>
          <p:cNvPicPr/>
          <p:nvPr/>
        </p:nvPicPr>
        <p:blipFill>
          <a:blip r:embed="rId1"/>
          <a:stretch/>
        </p:blipFill>
        <p:spPr>
          <a:xfrm>
            <a:off x="457200" y="2565360"/>
            <a:ext cx="4040280" cy="367200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2" descr="22526541.jpg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В театре есть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це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рительный за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Содержимое 6" descr="wrapper.jpg"/>
          <p:cNvPicPr/>
          <p:nvPr/>
        </p:nvPicPr>
        <p:blipFill>
          <a:blip r:embed="rId1"/>
          <a:stretch/>
        </p:blipFill>
        <p:spPr>
          <a:xfrm>
            <a:off x="250920" y="2708280"/>
            <a:ext cx="3889440" cy="37353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7" descr="170_73b2dsovremennik_01_big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9:51:58Z</dcterms:created>
  <dc:creator>елена гаврилина</dc:creator>
  <dc:description/>
  <dc:language>en-US</dc:language>
  <cp:lastModifiedBy>Ирада Шабанова</cp:lastModifiedBy>
  <dcterms:modified xsi:type="dcterms:W3CDTF">2024-03-21T15:47:58Z</dcterms:modified>
  <cp:revision>17</cp:revision>
  <dc:subject/>
  <dc:title>Знакомство с театром</dc:title>
</cp:coreProperties>
</file>