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5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37B1-065D-43B3-A454-99844BAF2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69800" y="38199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9526-9E69-4A58-B0A8-8B4183135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4672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3566-FE32-47EB-A3A4-197BC5FF0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384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1788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6980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384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1788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A6D0-EDA1-4FCF-9D78-6F7B86553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B93-1D5C-4C2F-B25B-49950369F4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41B-13CA-41B6-AA43-1513957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3DC-2E02-4A03-A2CB-0CA46334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F94-C607-4E90-920C-093A2189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F3B-1146-4D9D-B460-19AEE61A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69800" y="376200"/>
            <a:ext cx="77612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87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D94-98A8-424E-A80B-F2385290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58F-C65A-419E-B652-D41B0418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64D0-1A29-42A2-868A-DA5C62B5F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4672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774-E58B-4269-A967-F6C72116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145-7C79-4878-AF64-F272BBA5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69800" y="38199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C7A-D045-498F-9767-318A3E4E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4672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7D8-2E0E-4241-8138-532636E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384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17880" y="16761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6980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384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17880" y="3819960"/>
            <a:ext cx="249876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D4C-8505-445A-A294-EF66CDBFCA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07D6-8054-4B53-8520-AFC08A3D7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808A-8970-4CE5-89D8-712970832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C4C4-A0E0-430A-A345-A5AB8E4A0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69800" y="376200"/>
            <a:ext cx="77612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87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8B95-DF5E-4057-A63E-9ECDD0C98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724B-B275-4C8C-9D3E-85578D89F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720" y="38199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EA8C-F3BF-4CAD-8ECB-C6ED5EB89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720" y="1676160"/>
            <a:ext cx="378720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819960"/>
            <a:ext cx="7761240" cy="19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87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367E-0741-4865-8123-41D4C8551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87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7080" y="639900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BE9F59-8756-489D-9906-581EBDD6B996}" type="slidenum"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7520" y="6156360"/>
            <a:ext cx="539640" cy="41256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87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2964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76200"/>
            <a:ext cx="776124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69800" y="16761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87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329040" indent="-329040">
              <a:spcBef>
                <a:spcPts val="887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2"/>
          </p:nvPr>
        </p:nvSpPr>
        <p:spPr>
          <a:xfrm>
            <a:off x="1904760" y="2133360"/>
            <a:ext cx="227484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3200" spc="-1" strike="noStrike" u="sng">
                <a:solidFill>
                  <a:srgbClr val="336699"/>
                </a:solidFill>
                <a:uFillTx/>
                <a:latin typeface="Arial"/>
                <a:ea typeface="Segoe UI"/>
              </a:defRPr>
            </a:lvl1pPr>
          </a:lstStyle>
          <a:p>
            <a:pPr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6699"/>
                </a:solidFill>
                <a:uFillTx/>
                <a:latin typeface="Arial"/>
                <a:ea typeface="Segoe UI"/>
              </a:rPr>
              <a:t>03.01.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7237080" y="6399000"/>
            <a:ext cx="1893960" cy="44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400" spc="-1" strike="noStrike" u="sng">
                <a:solidFill>
                  <a:srgbClr val="336699"/>
                </a:solidFill>
                <a:uFillTx/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1B7820-FF1F-4154-AB8F-EBB92E16516D}" type="slidenum">
              <a:rPr b="1" lang="ru-RU" sz="1400" spc="-1" strike="noStrike" u="sng">
                <a:solidFill>
                  <a:srgbClr val="336699"/>
                </a:solidFill>
                <a:uFillTx/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5680" y="-900000"/>
            <a:ext cx="85550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7504" t="13512" r="33727" b="12672"/>
          <a:stretch/>
        </p:blipFill>
        <p:spPr>
          <a:xfrm>
            <a:off x="2571840" y="857160"/>
            <a:ext cx="3357360" cy="4073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76320" y="4522680"/>
            <a:ext cx="730404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4120" y="8287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020000" y="0"/>
            <a:ext cx="21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76320" y="5486400"/>
            <a:ext cx="8991360" cy="1371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90a11"/>
                </a:solidFill>
                <a:uFillTx/>
                <a:latin typeface="Arial"/>
              </a:rPr>
              <a:t>Узнав о появлении шведов Александр с дружи ной и ополчением стремительно подошел к Неве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56000" y="2273040"/>
            <a:ext cx="5058720" cy="4578840"/>
            <a:chOff x="1656000" y="2273040"/>
            <a:chExt cx="5058720" cy="4578840"/>
          </a:xfrm>
        </p:grpSpPr>
        <p:sp>
          <p:nvSpPr>
            <p:cNvPr id="125" name=""/>
            <p:cNvSpPr/>
            <p:nvPr/>
          </p:nvSpPr>
          <p:spPr>
            <a:xfrm rot="19560000">
              <a:off x="1846080" y="5612400"/>
              <a:ext cx="1102320" cy="1018080"/>
            </a:xfrm>
            <a:prstGeom prst="flowChartPredefinedProcess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560000">
              <a:off x="3633480" y="4046400"/>
              <a:ext cx="1102320" cy="1014840"/>
            </a:xfrm>
            <a:prstGeom prst="flowChartPredefinedProcess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560000">
              <a:off x="5421600" y="2494080"/>
              <a:ext cx="1102320" cy="1018080"/>
            </a:xfrm>
            <a:prstGeom prst="flowChartPredefinedProcess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95280" y="2352600"/>
            <a:ext cx="2465640" cy="1217520"/>
            <a:chOff x="1295280" y="2352600"/>
            <a:chExt cx="2465640" cy="1217520"/>
          </a:xfrm>
        </p:grpSpPr>
        <p:sp>
          <p:nvSpPr>
            <p:cNvPr id="129" name=""/>
            <p:cNvSpPr/>
            <p:nvPr/>
          </p:nvSpPr>
          <p:spPr>
            <a:xfrm>
              <a:off x="1295280" y="2585880"/>
              <a:ext cx="435240" cy="190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87400" y="2529000"/>
              <a:ext cx="435240" cy="19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79520" y="2470320"/>
              <a:ext cx="435240" cy="19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3440" y="2411280"/>
              <a:ext cx="434880" cy="190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65560" y="2352600"/>
              <a:ext cx="434880" cy="190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66ff"/>
                </a:gs>
                <a:gs pos="50000">
                  <a:srgbClr val="ffff00"/>
                </a:gs>
                <a:gs pos="100000">
                  <a:srgbClr val="0066ff"/>
                </a:gs>
              </a:gsLst>
              <a:lin ang="5400000"/>
            </a:gra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506600" y="2593800"/>
              <a:ext cx="2254320" cy="97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-4608360" y="-2319840"/>
            <a:ext cx="9532080" cy="7057080"/>
            <a:chOff x="-4608360" y="-2319840"/>
            <a:chExt cx="9532080" cy="7057080"/>
          </a:xfrm>
        </p:grpSpPr>
        <p:sp>
          <p:nvSpPr>
            <p:cNvPr id="136" name=""/>
            <p:cNvSpPr/>
            <p:nvPr/>
          </p:nvSpPr>
          <p:spPr>
            <a:xfrm rot="13680000">
              <a:off x="2138400" y="3273120"/>
              <a:ext cx="2255760" cy="474480"/>
            </a:xfrm>
            <a:custGeom>
              <a:avLst/>
              <a:gdLst>
                <a:gd name="textAreaLeft" fmla="*/ 352800 w 2255760"/>
                <a:gd name="textAreaRight" fmla="*/ 1973880 w 2255760"/>
                <a:gd name="textAreaTop" fmla="*/ 119160 h 474480"/>
                <a:gd name="textAreaBottom" fmla="*/ 35676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-4608360" y="-2319840"/>
              <a:ext cx="9532080" cy="7057080"/>
              <a:chOff x="-4608360" y="-2319840"/>
              <a:chExt cx="9532080" cy="7057080"/>
            </a:xfrm>
          </p:grpSpPr>
          <p:sp>
            <p:nvSpPr>
              <p:cNvPr id="138" name=""/>
              <p:cNvSpPr/>
              <p:nvPr/>
            </p:nvSpPr>
            <p:spPr>
              <a:xfrm rot="14640000">
                <a:off x="-5812920" y="1120680"/>
                <a:ext cx="6168600" cy="1173960"/>
              </a:xfrm>
              <a:custGeom>
                <a:avLst/>
                <a:gdLst>
                  <a:gd name="textAreaLeft" fmla="*/ 965520 w 6168600"/>
                  <a:gd name="textAreaRight" fmla="*/ 5397120 w 6168600"/>
                  <a:gd name="textAreaTop" fmla="*/ 295200 h 1173960"/>
                  <a:gd name="textAreaBottom" fmla="*/ 882360 h 117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8"/>
                  </a:spcBef>
                  <a:spcAft>
                    <a:spcPts val="88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4000" spc="-1" strike="noStrike" u="sng">
                  <a:solidFill>
                    <a:srgbClr val="336699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2780000">
                <a:off x="-559080" y="-905400"/>
                <a:ext cx="5578920" cy="1301040"/>
              </a:xfrm>
              <a:custGeom>
                <a:avLst/>
                <a:gdLst>
                  <a:gd name="textAreaLeft" fmla="*/ 873000 w 5578920"/>
                  <a:gd name="textAreaRight" fmla="*/ 4881240 w 5578920"/>
                  <a:gd name="textAreaTop" fmla="*/ 327240 h 1301040"/>
                  <a:gd name="textAreaBottom" fmla="*/ 978120 h 130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88"/>
                  </a:spcBef>
                  <a:spcAft>
                    <a:spcPts val="88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4000" spc="-1" strike="noStrike" u="sng">
                  <a:solidFill>
                    <a:srgbClr val="336699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76320" y="5486400"/>
            <a:ext cx="8991360" cy="1371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90a11"/>
                </a:solidFill>
                <a:uFillTx/>
                <a:latin typeface="Arial"/>
              </a:rPr>
              <a:t>Несмотря на малочисленность своих войск Але ксандр неожиданно атаковал противника, стре мясь отрезать его от кораблей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36240" y="1516680"/>
            <a:ext cx="4280760" cy="1825560"/>
            <a:chOff x="336240" y="1516680"/>
            <a:chExt cx="4280760" cy="1825560"/>
          </a:xfrm>
        </p:grpSpPr>
        <p:sp>
          <p:nvSpPr>
            <p:cNvPr id="142" name=""/>
            <p:cNvSpPr/>
            <p:nvPr/>
          </p:nvSpPr>
          <p:spPr>
            <a:xfrm rot="20580000">
              <a:off x="506160" y="1901880"/>
              <a:ext cx="1029600" cy="1318320"/>
            </a:xfrm>
            <a:prstGeom prst="upArrowCallout">
              <a:avLst>
                <a:gd name="adj1" fmla="val 12501"/>
                <a:gd name="adj2" fmla="val 25000"/>
                <a:gd name="adj3" fmla="val 21340"/>
                <a:gd name="adj4" fmla="val 160946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1240000">
              <a:off x="1943640" y="1566720"/>
              <a:ext cx="1031400" cy="1318680"/>
            </a:xfrm>
            <a:prstGeom prst="upArrowCallout">
              <a:avLst>
                <a:gd name="adj1" fmla="val 12501"/>
                <a:gd name="adj2" fmla="val 25000"/>
                <a:gd name="adj3" fmla="val 21309"/>
                <a:gd name="adj4" fmla="val 160946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140000">
              <a:off x="3398760" y="1719360"/>
              <a:ext cx="1031400" cy="1318680"/>
            </a:xfrm>
            <a:prstGeom prst="upArrowCallout">
              <a:avLst>
                <a:gd name="adj1" fmla="val 12501"/>
                <a:gd name="adj2" fmla="val 25000"/>
                <a:gd name="adj3" fmla="val 21309"/>
                <a:gd name="adj4" fmla="val 160946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4000" spc="-1" strike="noStrike" u="sng">
                <a:solidFill>
                  <a:srgbClr val="3366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5486400"/>
            <a:ext cx="9067680" cy="1371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реди шведов началась паника. Князь приказал дружинникам во главе с новгородцем Мишей подрубить мостки и затруднить посадку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5000760" cy="6858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Одним из героев битвы стал Гавриил Олексич-предок А.С. Пушкина. В пылу сражения он на коне въехал на ладью, сокрушая врага и хотя шведы сбросили его в воду, герой остался жив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Князь Александр в ходе бит вы ранил Биргера в лицо копьем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Шведы потерпели сокрушительное поражение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91280" cy="4419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7143840" cy="5286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4610160"/>
            <a:ext cx="9144000" cy="22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сторожная и даже льстивая политика Невского по отношению Золотой Орде позволила избавиться от новых набегов.</a:t>
            </a:r>
            <a:endParaRPr b="1" lang="en-US" sz="20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лександр Невский осознавал слабость Руси и не мог противостоять монголам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он признавал их власть сознательно шел на сотрудничество с ними. В тех условиях политика сотрудничества с ордынской властью была весьма дальновидной, так как Русь не имела сил противостоять им, а это помогло избежать ненужного кровопролития и новых погромов.</a:t>
            </a:r>
            <a:endParaRPr b="1" lang="en-US" sz="2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43680" y="2357280"/>
            <a:ext cx="4000320" cy="450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57120" y="0"/>
            <a:ext cx="3786120" cy="2928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86160" y="9360"/>
            <a:ext cx="485784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В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1725 году императрица Екатерина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учредила орден Александра Невского, ставшей одной из высших наград Российской империи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86080"/>
            <a:ext cx="50720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 время Великой Отечественной войны 29 июня 1942 года был учрежден орден Александра Невского. Им награждались командиры дивизий, бригад, полков, батальонов, рот и взводов, проявившие полководческий талант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429160" y="0"/>
            <a:ext cx="3714840" cy="6357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преданию князь произнес перед новгородцами речь, которую закончил словами: «Кто к нам с мечом придет, тот от меча и погибнет!»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За свои ратные подвиги Александр Невский удостоился высшей награды - он был канонизирован церковью и объявлен Святым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02080" cy="68580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13000" y="1690560"/>
            <a:ext cx="457200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380360" y="0"/>
            <a:ext cx="1763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160" y="2789280"/>
            <a:ext cx="91216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6699"/>
                </a:solidFill>
                <a:uFillTx/>
                <a:latin typeface="Times New Roman"/>
              </a:rPr>
              <a:t>Домашняя задание стр 125-128 читать, контурная карта.</a:t>
            </a: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:</a:t>
            </a:r>
            <a:endParaRPr b="1" lang="en-US" sz="4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7280" y="879480"/>
            <a:ext cx="67867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Из жизни князя Александра Ярославич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9960" y="1562400"/>
            <a:ext cx="50936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Внешнеполитическая обстановк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Руси в </a:t>
            </a:r>
            <a:r>
              <a:rPr b="1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XIII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век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28920" y="2419560"/>
            <a:ext cx="5072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77880" y="3287880"/>
            <a:ext cx="37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Невская битва 1240 год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3930480"/>
            <a:ext cx="363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03920" y="4577040"/>
            <a:ext cx="439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7840" y="5562720"/>
            <a:ext cx="45302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Александр Невский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</a:rPr>
              <a:t>исторический символ Росси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79280" y="4087800"/>
            <a:ext cx="20066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15192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Times New Roman"/>
              </a:rPr>
              <a:t>Из жизни князя </a:t>
            </a:r>
            <a:br>
              <a:rPr sz="4800"/>
            </a:br>
            <a:r>
              <a:rPr b="1" lang="ru-RU" sz="4800" spc="-1" strike="noStrike" u="sng">
                <a:solidFill>
                  <a:srgbClr val="ffff00"/>
                </a:solidFill>
                <a:uFillTx/>
                <a:latin typeface="Times New Roman"/>
              </a:rPr>
              <a:t>Александра Ярославича</a:t>
            </a:r>
            <a:endParaRPr b="1" lang="en-US" sz="4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71760"/>
            <a:ext cx="6929280" cy="5286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286680" y="1500120"/>
            <a:ext cx="2857320" cy="53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87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r>
              <a:rPr b="1" lang="ru-RU" sz="24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336699"/>
                </a:solidFill>
                <a:uFillTx/>
                <a:latin typeface="Times New Roman"/>
              </a:rPr>
              <a:t>Александр был младшим сыном великого князя владимирского Ярослава Всеволодовича.  </a:t>
            </a:r>
            <a:r>
              <a:rPr b="1" lang="ru-RU" sz="2000" spc="-1" strike="noStrike" u="sng">
                <a:solidFill>
                  <a:srgbClr val="336699"/>
                </a:solidFill>
                <a:uFillTx/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336699"/>
                </a:solidFill>
                <a:uFillTx/>
                <a:latin typeface="Times New Roman"/>
              </a:rPr>
              <a:t>Родился в городе Переяславле – Суздальском 30 мая 1220 года. </a:t>
            </a:r>
            <a:endParaRPr b="1" lang="en-US" sz="2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4960" y="39528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71920" y="1000080"/>
            <a:ext cx="5138640" cy="5595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оспользовавшись нашествием монголов немецкие и шведские рыцари обрушились на новгородские владения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удьба Новгорода оказалась в руках 18-летнего князя Александра Ярославича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 1240 г. у устья Невы появились ладьи шведов.</a:t>
            </a:r>
            <a:endParaRPr b="1" lang="en-US" sz="2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4200" y="789120"/>
            <a:ext cx="3071880" cy="6068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ff00"/>
                </a:solidFill>
                <a:uFillTx/>
                <a:latin typeface="Times New Roman"/>
              </a:rPr>
              <a:t>Невская битва</a:t>
            </a:r>
            <a:endParaRPr b="1" lang="en-US" sz="48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1868400"/>
            <a:ext cx="8809200" cy="31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6699"/>
                </a:solidFill>
                <a:uFillTx/>
                <a:latin typeface="Times New Roman"/>
              </a:rPr>
              <a:t>Когда новгородцы позвали князя Александра, ему было …. лет.</a:t>
            </a: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6699"/>
                </a:solidFill>
                <a:uFillTx/>
                <a:latin typeface="Times New Roman"/>
              </a:rPr>
              <a:t>Человеком он был … , жалел бедных, прощал врагов. Но предателей …. .</a:t>
            </a: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0560" y="585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0560" y="585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79720" y="1440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199280" y="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/>
  <dcterms:modified xsi:type="dcterms:W3CDTF">2023-01-17T15:05:33Z</dcterms:modified>
  <cp:revision>86</cp:revision>
  <dc:subject/>
  <dc:title>Заголовок слайда отсутствует</dc:title>
</cp:coreProperties>
</file>