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5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3703-86E6-4A3E-B457-D3BA7602C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F0A2-EB2F-4E64-9005-A8BEB37BD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BAF3-7F37-4613-8F4D-393C3029B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384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1788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6980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384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1788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8938-D4FB-42E6-8CC2-9715C4DED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C3B-0E88-4F0B-8FBF-D7B803A4E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3EF-7BCD-4498-8511-AB4E0EE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E11-EB8B-4B4B-9C7E-65901FD7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7B0-4CB3-4B67-91F8-B2AC75D3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6BB-A235-4EE6-BF34-52F7949D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69800" y="37620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810-44BF-452D-ABF3-A3BA75A1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5DD-B3E7-4500-8A9F-5010A7E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D4C6-753A-4EC2-BB1E-6D062DFE7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65A-A0C3-46E7-9251-BB53EB2F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F80-7A65-41EE-80DF-9E3FD1C6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974-436F-4BB9-A3B4-63EDDE7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2E0-CBBE-49F3-B5FD-4A81FC9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384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1788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6980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384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1788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256-7E82-4287-8DF2-DF54CF46E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04AA-BE6C-4D7B-AD2C-447F29178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D09E-6001-42F4-8906-F51844561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A1AA-41FB-4169-8D1F-463EFF3F8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69800" y="37620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9EC2-0032-4144-8D45-73C446D72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DC7-C580-45DE-9A50-3A111842C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B6F8-6508-48DE-AC67-09FABBC85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0FCB-51B3-49B1-9D26-3EF5CF0B2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708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3EC6EE-57BC-4FCE-8EC7-C583A51F27FB}" type="slidenum"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7520" y="6156360"/>
            <a:ext cx="539640" cy="41256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87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2"/>
          </p:nvPr>
        </p:nvSpPr>
        <p:spPr>
          <a:xfrm>
            <a:off x="1904760" y="2133360"/>
            <a:ext cx="227484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3200" spc="-1" strike="noStrike" u="sng">
                <a:solidFill>
                  <a:srgbClr val="336699"/>
                </a:solidFill>
                <a:uFillTx/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6699"/>
                </a:solidFill>
                <a:uFillTx/>
                <a:latin typeface="Arial"/>
                <a:ea typeface="Segoe UI"/>
              </a:rPr>
              <a:t>03.01.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723708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400" spc="-1" strike="noStrike" u="sng">
                <a:solidFill>
                  <a:srgbClr val="336699"/>
                </a:solidFill>
                <a:uFillTx/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2BA2A4-ABCE-465F-8CCF-71A2FB841F73}" type="slidenum">
              <a:rPr b="1" lang="ru-RU" sz="1400" spc="-1" strike="noStrike" u="sng">
                <a:solidFill>
                  <a:srgbClr val="336699"/>
                </a:solidFill>
                <a:uFillTx/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5680" y="-900000"/>
            <a:ext cx="85550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7504" t="13512" r="33727" b="12672"/>
          <a:stretch/>
        </p:blipFill>
        <p:spPr>
          <a:xfrm>
            <a:off x="2571840" y="857160"/>
            <a:ext cx="3357360" cy="4073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76320" y="4522680"/>
            <a:ext cx="730404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4120" y="828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20000" y="0"/>
            <a:ext cx="21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6320" y="5486400"/>
            <a:ext cx="899136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90a11"/>
                </a:solidFill>
                <a:uFillTx/>
                <a:latin typeface="Arial"/>
              </a:rPr>
              <a:t>Узнав о появлении шведов Александр с дружи ной и ополчением стремительно подошел к Неве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56000" y="2273040"/>
            <a:ext cx="5058720" cy="4578840"/>
            <a:chOff x="1656000" y="2273040"/>
            <a:chExt cx="5058720" cy="4578840"/>
          </a:xfrm>
        </p:grpSpPr>
        <p:sp>
          <p:nvSpPr>
            <p:cNvPr id="125" name=""/>
            <p:cNvSpPr/>
            <p:nvPr/>
          </p:nvSpPr>
          <p:spPr>
            <a:xfrm rot="19560000">
              <a:off x="1846080" y="5612400"/>
              <a:ext cx="1102320" cy="101808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560000">
              <a:off x="3633480" y="4046400"/>
              <a:ext cx="1102320" cy="101484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560000">
              <a:off x="5421600" y="2494080"/>
              <a:ext cx="1102320" cy="101808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95280" y="2352600"/>
            <a:ext cx="2465640" cy="1217520"/>
            <a:chOff x="1295280" y="2352600"/>
            <a:chExt cx="2465640" cy="1217520"/>
          </a:xfrm>
        </p:grpSpPr>
        <p:sp>
          <p:nvSpPr>
            <p:cNvPr id="129" name=""/>
            <p:cNvSpPr/>
            <p:nvPr/>
          </p:nvSpPr>
          <p:spPr>
            <a:xfrm>
              <a:off x="1295280" y="2585880"/>
              <a:ext cx="435240" cy="190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87400" y="2529000"/>
              <a:ext cx="43524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79520" y="2470320"/>
              <a:ext cx="43524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3440" y="2411280"/>
              <a:ext cx="434880" cy="190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65560" y="2352600"/>
              <a:ext cx="43488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506600" y="2593800"/>
              <a:ext cx="225432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-4608360" y="-2319840"/>
            <a:ext cx="9532080" cy="7057080"/>
            <a:chOff x="-4608360" y="-2319840"/>
            <a:chExt cx="9532080" cy="7057080"/>
          </a:xfrm>
        </p:grpSpPr>
        <p:sp>
          <p:nvSpPr>
            <p:cNvPr id="136" name=""/>
            <p:cNvSpPr/>
            <p:nvPr/>
          </p:nvSpPr>
          <p:spPr>
            <a:xfrm rot="13680000">
              <a:off x="2138400" y="3273120"/>
              <a:ext cx="2255760" cy="474480"/>
            </a:xfrm>
            <a:custGeom>
              <a:avLst/>
              <a:gdLst>
                <a:gd name="textAreaLeft" fmla="*/ 352800 w 2255760"/>
                <a:gd name="textAreaRight" fmla="*/ 1973880 w 2255760"/>
                <a:gd name="textAreaTop" fmla="*/ 119160 h 474480"/>
                <a:gd name="textAreaBottom" fmla="*/ 35676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-4608360" y="-2319840"/>
              <a:ext cx="9532080" cy="7057080"/>
              <a:chOff x="-4608360" y="-2319840"/>
              <a:chExt cx="9532080" cy="7057080"/>
            </a:xfrm>
          </p:grpSpPr>
          <p:sp>
            <p:nvSpPr>
              <p:cNvPr id="138" name=""/>
              <p:cNvSpPr/>
              <p:nvPr/>
            </p:nvSpPr>
            <p:spPr>
              <a:xfrm rot="14640000">
                <a:off x="-5812920" y="1120680"/>
                <a:ext cx="6168600" cy="1173960"/>
              </a:xfrm>
              <a:custGeom>
                <a:avLst/>
                <a:gdLst>
                  <a:gd name="textAreaLeft" fmla="*/ 965520 w 6168600"/>
                  <a:gd name="textAreaRight" fmla="*/ 5397120 w 6168600"/>
                  <a:gd name="textAreaTop" fmla="*/ 295200 h 1173960"/>
                  <a:gd name="textAreaBottom" fmla="*/ 882360 h 117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8"/>
                  </a:spcBef>
                  <a:spcAft>
                    <a:spcPts val="88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4000" spc="-1" strike="noStrike" u="sng">
                  <a:solidFill>
                    <a:srgbClr val="33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2780000">
                <a:off x="-559080" y="-905400"/>
                <a:ext cx="5578920" cy="1301040"/>
              </a:xfrm>
              <a:custGeom>
                <a:avLst/>
                <a:gdLst>
                  <a:gd name="textAreaLeft" fmla="*/ 873000 w 5578920"/>
                  <a:gd name="textAreaRight" fmla="*/ 4881240 w 5578920"/>
                  <a:gd name="textAreaTop" fmla="*/ 327240 h 1301040"/>
                  <a:gd name="textAreaBottom" fmla="*/ 978120 h 130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8"/>
                  </a:spcBef>
                  <a:spcAft>
                    <a:spcPts val="88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4000" spc="-1" strike="noStrike" u="sng">
                  <a:solidFill>
                    <a:srgbClr val="336699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76320" y="5486400"/>
            <a:ext cx="899136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90a11"/>
                </a:solidFill>
                <a:uFillTx/>
                <a:latin typeface="Arial"/>
              </a:rPr>
              <a:t>Несмотря на малочисленность своих войск Але ксандр неожиданно атаковал противника, стре мясь отрезать его от кораблей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6240" y="1516680"/>
            <a:ext cx="4280760" cy="1825560"/>
            <a:chOff x="336240" y="1516680"/>
            <a:chExt cx="4280760" cy="1825560"/>
          </a:xfrm>
        </p:grpSpPr>
        <p:sp>
          <p:nvSpPr>
            <p:cNvPr id="142" name=""/>
            <p:cNvSpPr/>
            <p:nvPr/>
          </p:nvSpPr>
          <p:spPr>
            <a:xfrm rot="20580000">
              <a:off x="506160" y="1901880"/>
              <a:ext cx="1029600" cy="1318320"/>
            </a:xfrm>
            <a:prstGeom prst="upArrowCallout">
              <a:avLst>
                <a:gd name="adj1" fmla="val 12501"/>
                <a:gd name="adj2" fmla="val 25000"/>
                <a:gd name="adj3" fmla="val 21340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240000">
              <a:off x="1943640" y="1566720"/>
              <a:ext cx="1031400" cy="1318680"/>
            </a:xfrm>
            <a:prstGeom prst="upArrowCallout">
              <a:avLst>
                <a:gd name="adj1" fmla="val 12501"/>
                <a:gd name="adj2" fmla="val 25000"/>
                <a:gd name="adj3" fmla="val 21309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140000">
              <a:off x="3398760" y="1719360"/>
              <a:ext cx="1031400" cy="1318680"/>
            </a:xfrm>
            <a:prstGeom prst="upArrowCallout">
              <a:avLst>
                <a:gd name="adj1" fmla="val 12501"/>
                <a:gd name="adj2" fmla="val 25000"/>
                <a:gd name="adj3" fmla="val 21309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5486400"/>
            <a:ext cx="906768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реди шведов началась паника. Князь приказал дружинникам во главе с новгородцем Мишей подрубить мостки и затруднить посадку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500076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дним из героев битвы стал Гавриил Олексич-предок А.С. Пушкина. В пылу сражения он на коне въехал на ладью, сокрушая врага и хотя шведы сбросили его в воду, герой остался жив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Князь Александр в ходе бит вы ранил Биргера в лицо копьем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Шведы потерпели сокрушительное поражение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91280" cy="441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7143840" cy="5286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4610160"/>
            <a:ext cx="9144000" cy="22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торожная и даже льстивая политика Невского по отношению Золотой Орде позволила избавиться от новых набегов.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лександр Невский осознавал слабость Руси и не мог противостоять монголам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он признавал их власть сознательно шел на сотрудничество с ними. В тех условиях политика сотрудничества с ордынской властью была весьма дальновидной, так как Русь не имела сил противостоять им, а это помогло избежать ненужного кровопролития и новых погромов.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43680" y="2357280"/>
            <a:ext cx="4000320" cy="450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7120" y="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86160" y="9360"/>
            <a:ext cx="485784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1725 году императрица Екатерина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чредила орден Александра Невского, ставшей одной из высших наград Российской империи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6080"/>
            <a:ext cx="50720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 время Великой Отечественной войны 29 июня 1942 года был учрежден орден Александра Невского. Им награждались командиры дивизий, бригад, полков, батальонов, рот и взводов, проявившие полководческий талант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429160" y="0"/>
            <a:ext cx="3714840" cy="635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преданию князь произнес перед новгородцами речь, которую закончил словами: «Кто к нам с мечом придет, тот от меча и погибнет!»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За свои ратные подвиги Александр Невский удостоился высшей награды - он был канонизирован церковью и объявлен Святым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2080" cy="6858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13000" y="169056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380360" y="0"/>
            <a:ext cx="1763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160" y="2789280"/>
            <a:ext cx="9121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Домашняя задание стр 125-128 читать, контурная карта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: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7280" y="879480"/>
            <a:ext cx="6786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Из жизни князя Александра Ярославич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960" y="1562400"/>
            <a:ext cx="509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Внешнеполитическая обстанов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Руси в 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XIII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век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8920" y="2419560"/>
            <a:ext cx="5072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77880" y="3287880"/>
            <a:ext cx="37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Невская битва 1240 год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3930480"/>
            <a:ext cx="363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3920" y="4577040"/>
            <a:ext cx="439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7840" y="5562720"/>
            <a:ext cx="4530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Александр Невский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исторический символ Росс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79280" y="4087800"/>
            <a:ext cx="20066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15192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Из жизни князя </a:t>
            </a:r>
            <a:br>
              <a:rPr sz="4800"/>
            </a:b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Александра Ярославича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6929280" cy="5286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86680" y="1500120"/>
            <a:ext cx="2857320" cy="53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Александр был младшим сыном великого князя владимирского Ярослава Всеволодовича.  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Родился в городе Переяславле – Суздальском 30 мая 1220 года. 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4960" y="3952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71920" y="1000080"/>
            <a:ext cx="5138640" cy="5595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спользовавшись нашествием монголов немецкие и шведские рыцари обрушились на новгородские владения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удьба Новгорода оказалась в руках 18-летнего князя Александра Ярославича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 1240 г. у устья Невы появились ладьи шведов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4200" y="789120"/>
            <a:ext cx="3071880" cy="6068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Невская битва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1868400"/>
            <a:ext cx="880920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Когда новгородцы позвали князя Александра, ему было …. лет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Человеком он был … , жалел бедных, прощал врагов. Но предателей …. 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560" y="585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0560" y="585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79720" y="1440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99280" y="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/>
  <dcterms:modified xsi:type="dcterms:W3CDTF">2023-01-17T15:05:33Z</dcterms:modified>
  <cp:revision>86</cp:revision>
  <dc:subject/>
  <dc:title>Заголовок слайда отсутствует</dc:title>
</cp:coreProperties>
</file>