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9243E-C822-4BBB-B280-79991F93BB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32840"/>
            <a:ext cx="6019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390852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1F07A-9753-45C0-8FA9-B4A6C968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132840"/>
            <a:ext cx="6019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390852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390852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DC5B0-9A74-470E-986D-9DF19726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132840"/>
            <a:ext cx="6019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5998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5998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390852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390852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390852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70B15-2C3A-42F9-9380-F68C809685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32840"/>
            <a:ext cx="6019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86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132840"/>
            <a:ext cx="6019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32840"/>
            <a:ext cx="6019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132840"/>
            <a:ext cx="6019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28600" y="132840"/>
            <a:ext cx="60199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132840"/>
            <a:ext cx="6019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228600" y="390852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132840"/>
            <a:ext cx="6019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8F152-1587-48C6-B5F1-A587749D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32840"/>
            <a:ext cx="6019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0000" y="390852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32840"/>
            <a:ext cx="6019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390852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32840"/>
            <a:ext cx="6019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28600" y="390852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132840"/>
            <a:ext cx="6019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390852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0000" y="390852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132840"/>
            <a:ext cx="6019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65840" y="15998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02720" y="15998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28600" y="390852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65840" y="390852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02720" y="390852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32840"/>
            <a:ext cx="6019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C6932-EC19-42BC-AE03-C7444DAD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32840"/>
            <a:ext cx="6019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BA059-7AAD-41F9-9BB3-F6A27879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132840"/>
            <a:ext cx="6019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694EA-4D7E-4725-B33B-9B4FB0E61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132840"/>
            <a:ext cx="60199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415AE-8E46-45B1-AB3E-2CA0413BC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32840"/>
            <a:ext cx="6019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390852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E9DB3-B593-464B-8D1C-937C314A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32840"/>
            <a:ext cx="6019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390852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51960-54B8-495E-AE51-C2E22738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132840"/>
            <a:ext cx="6019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390852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2E4C6-B0FE-4945-B025-CF4E4D45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32840"/>
            <a:ext cx="6019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4767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ecember 19,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352680" y="6480000"/>
            <a:ext cx="236232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839D-B48B-4FEE-9BD2-B780851A1084}" type="slidenum"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132840"/>
            <a:ext cx="6019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8765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Классификация сильных сторон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К. Петерсон, М. Селигман.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Карта сильных сторон.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Педагог-психолог Караленя О.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3284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Согласно источнику, в 2004 году психологи Мартин Селигман и Кристофер Петерсон составили список из 24 положительных черт, которыми обладают люди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Они разделили их на шесть груп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Объект 1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883944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132840"/>
            <a:ext cx="62485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Сильные стороны характера – это основные черты нашей личности, которые проявляются в наших мыслях, чувствах и действиях и представляют собой наши естественные способности, таланты, которые мы можем использовать для достижения своих целей и улучшения качества нашей жиз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Объект 1" descr=""/>
          <p:cNvPicPr/>
          <p:nvPr/>
        </p:nvPicPr>
        <p:blipFill>
          <a:blip r:embed="rId1"/>
          <a:stretch/>
        </p:blipFill>
        <p:spPr>
          <a:xfrm>
            <a:off x="76320" y="1600200"/>
            <a:ext cx="8839080" cy="380988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2"/>
          <p:cNvSpPr/>
          <p:nvPr/>
        </p:nvSpPr>
        <p:spPr>
          <a:xfrm>
            <a:off x="228600" y="541008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нимание своих сильных сторон характера может помочь лучше понять себя и наши потребности. Это помогает выбрать правильный путь в жизни, который соответствует нашим сильным сторонам и добродетелям. Это также помогает улучшить отношения, уважая и ценя сильные стороны других люд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152280" y="380880"/>
            <a:ext cx="579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чем нам знать о своих сильных сторонах характе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Прямоугольник 8"/>
          <p:cNvSpPr/>
          <p:nvPr/>
        </p:nvSpPr>
        <p:spPr>
          <a:xfrm>
            <a:off x="152280" y="1523880"/>
            <a:ext cx="87631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нимать себя лучш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Когда мы знаем свои сильные стороны, мы лучше понимаем, что нас мотивирует и что нам нравится. Это помогает нам делать выбор, который подходит именно на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Чувствовать себя счастливее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юди, которые используют свои сильные стороны, часто чувствуют себя счастливее. Они меньше переживают из-за стресса и редко страдают от депресс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Достигать целей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Если мы используем свои сильные стороны, мы можем лучше справляться с работой или учебой. Это помогает нам достигать своих цел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 Улучшить отношения.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нание своих сильных сторон и сильных сторон других людей помогает нам лучше ладить с другими. Мы начинаем больше ценить других и наши отношения становятся более теплыми и близким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 Стать сильнее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Наши сильные стороны помогают нам справляться с трудностями. Когда мы знаем, что у нас есть эти сильные стороны, мы можем использовать их, чтобы преодолеть препятствия на нашем пу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узнать свои сильные сторо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685800" y="3049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 развить свои сильные сторо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Прямоугольник 2"/>
          <p:cNvSpPr/>
          <p:nvPr/>
        </p:nvSpPr>
        <p:spPr>
          <a:xfrm>
            <a:off x="304920" y="1828800"/>
            <a:ext cx="883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и сильные стороны попробуйте использовать  как можно чаще. Это может помочь вам улучшить свои навыки и увеличить уровень удовлетворенности жизнь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жно помнить, что все сильные стороны хороши в меру. Например, если вы очень любознательны, важно также уметь сосредоточиться и завершать начатые задачи, а не прыгать с дела на дело. Поэтому стремитесь к балансу в своих сильных сторон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457200" y="30492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льные стороны в образовании, терапии и личностном развит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Прямоугольник 2"/>
          <p:cNvSpPr/>
          <p:nvPr/>
        </p:nvSpPr>
        <p:spPr>
          <a:xfrm>
            <a:off x="228600" y="1523880"/>
            <a:ext cx="8686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ьные стороны характера играют важную роль в образовательном процессе. Ученики, которые знают свои сильные стороны, могут использовать их для улучшения своих учебных навыков и достижения академических целе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ример, студент с сильной стороной “любознательность” может использовать ее для исследования новых тем и идей. Также учителя могут использовать знание о сильных сторонах учеников для создания более эффективных и мотивирующих учебных программ. Знания сильных сторон может помочь определиться с будущей професси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5883120" cy="10126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2"/>
          <p:cNvSpPr/>
          <p:nvPr/>
        </p:nvSpPr>
        <p:spPr>
          <a:xfrm>
            <a:off x="228600" y="1523880"/>
            <a:ext cx="8534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рап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психотерапии сильные стороны характера могут быть ценным инструментом. Вместо того чтобы сосредоточиться только на проблемах и слабостях клиента, специалисты могут помочь клиентам узнать и использовать их сильные стороны для исправления трудностей. Это улучшит самооценку клиентов и увеличит их мотивацию к изменения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чностное развит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ьные стороны характера играют ключевую роль в личностном развитии. Они помогают лучше понять себя, свои ценности и то, что вдохновляет. Мы можем использовать сильные стороны для достижения целей и строительства жизни, которая соответствует нашим ценностям и интерес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2"/>
          <p:cNvSpPr/>
          <p:nvPr/>
        </p:nvSpPr>
        <p:spPr>
          <a:xfrm>
            <a:off x="304920" y="3808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льные стороны в бизнесе, на работе, в карье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Прямоугольник 3"/>
          <p:cNvSpPr/>
          <p:nvPr/>
        </p:nvSpPr>
        <p:spPr>
          <a:xfrm>
            <a:off x="304920" y="1508040"/>
            <a:ext cx="87627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изне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бизнесе сильные стороны характера могут быть мощным инструментом для улучшения производительности и эффективности. Лидеры и менеджеры могут использовать знание о сильных сторонах своих сотрудников для создания более сильных и сбалансированных коман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работ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рабочем месте сильные стороны могут помочь сотрудникам быть более удовлетворенными и продуктивными. Сотрудники, которые используют свои сильные стороны на работе, часто чувствуют себя более мотивированными и вовлеченными в свою работу. Это может привести к улучшению производительности и удовлетворенности работо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рье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контексте карьерного развития сильные стороны могут помочь людям выбрать карьеру, которая подходит их интересам и навыкам. Знание своих сильных сторон может помочь людям определить, какие виды работы они могут наиболее эффективно выполнять и в каких областях они могут достичь наибольшего успех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21:25:17Z</dcterms:created>
  <dc:creator>Markasian, Pavel (KIEVH)</dc:creator>
  <dc:description/>
  <cp:keywords/>
  <dc:language>en-US</dc:language>
  <cp:lastModifiedBy>19</cp:lastModifiedBy>
  <dcterms:modified xsi:type="dcterms:W3CDTF">2024-03-22T11:27:38Z</dcterms:modified>
  <cp:revision>38</cp:revision>
  <dc:subject/>
  <dc:title>Presentation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