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6B29C-9E78-4904-B7A2-2FAC423EBB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390852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07226-2579-41F6-A4E3-DC34A8B6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F2DA3-779D-4C60-B85A-FBD7E4BF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390852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390852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390852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94CA8-584C-4B1C-877D-50F639CF02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28600" y="132840"/>
            <a:ext cx="6019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286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E33CB-1D8D-4035-953F-286EB5C8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00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0852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28600" y="390852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00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28600" y="390852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65840" y="390852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02720" y="390852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5EFF6-4146-48A9-91D9-5ACD7E95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59891-2642-42A3-813C-0FF676D3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6E026-015A-4EE5-9EB3-25A5907E5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132840"/>
            <a:ext cx="6019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63CBB-7741-40A0-A13E-13CFD16E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47DBE-4A59-4E7A-B6B2-745C071C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2B76B-D1E9-4045-BDB1-33C1648D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390852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8AFCE-744A-463E-8496-DF8C1966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4767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ecember 19,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352680" y="6480000"/>
            <a:ext cx="236232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C201-C0CC-47CE-92DC-AF93E4B732BD}" type="slidenum"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132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8765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Классификация сильных сторон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К. Петерсон, М. Селигман.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Карта сильных сторон.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Педагог-психолог Караленя О.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3284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огласно источнику, в 2004 году психологи Мартин Селигман и Кристофер Петерсон составили список из 24 положительных черт, которыми обладают люд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Они разделили их на шесть груп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Объект 1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83944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132840"/>
            <a:ext cx="62485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Сильные стороны характера – это основные черты нашей личности, которые проявляются в наших мыслях, чувствах и действиях и представляют собой наши естественные способности, таланты, которые мы можем использовать для достижения своих целей и улучшения качества нашей жи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Объект 1" descr=""/>
          <p:cNvPicPr/>
          <p:nvPr/>
        </p:nvPicPr>
        <p:blipFill>
          <a:blip r:embed="rId1"/>
          <a:stretch/>
        </p:blipFill>
        <p:spPr>
          <a:xfrm>
            <a:off x="76320" y="1600200"/>
            <a:ext cx="8839080" cy="38098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2"/>
          <p:cNvSpPr/>
          <p:nvPr/>
        </p:nvSpPr>
        <p:spPr>
          <a:xfrm>
            <a:off x="228600" y="54100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нимание своих сильных сторон характера может помочь лучше понять себя и наши потребности. Это помогает выбрать правильный путь в жизни, который соответствует нашим сильным сторонам и добродетелям. Это также помогает улучшить отношения, уважая и ценя сильные стороны других люд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152280" y="38088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чем нам знать о своих сильных сторонах характе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Прямоугольник 8"/>
          <p:cNvSpPr/>
          <p:nvPr/>
        </p:nvSpPr>
        <p:spPr>
          <a:xfrm>
            <a:off x="152280" y="1523880"/>
            <a:ext cx="8763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нимать себя лучш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Когда мы знаем свои сильные стороны, мы лучше понимаем, что нас мотивирует и что нам нравится. Это помогает нам делать выбор, который подходит именно на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Чувствовать себя счастливее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ди, которые используют свои сильные стороны, часто чувствуют себя счастливее. Они меньше переживают из-за стресса и редко страдают от депресс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Достигать целей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Если мы используем свои сильные стороны, мы можем лучше справляться с работой или учебой. Это помогает нам достигать своих це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Улучшить отношения.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нание своих сильных сторон и сильных сторон других людей помогает нам лучше ладить с другими. Мы начинаем больше ценить других и наши отношения становятся более теплыми и близким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Стать сильнее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Наши сильные стороны помогают нам справляться с трудностями. Когда мы знаем, что у нас есть эти сильные стороны, мы можем использовать их, чтобы преодолеть препятствия на нашем пу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узнать свои сильные сторо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685800" y="3049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развить свои сильные сторо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304920" y="1828800"/>
            <a:ext cx="883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и сильные стороны попробуйте использовать  как можно чаще. Это может помочь вам улучшить свои навыки и увеличить уровень удовлетворенности жизнь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о помнить, что все сильные стороны хороши в меру. Например, если вы очень любознательны, важно также уметь сосредоточиться и завершать начатые задачи, а не прыгать с дела на дело. Поэтому стремитесь к балансу в своих сильных сторон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457200" y="30492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льные стороны в образовании, терапии и личностном развит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228600" y="1523880"/>
            <a:ext cx="868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ьные стороны характера играют важную роль в образовательном процессе. Ученики, которые знают свои сильные стороны, могут использовать их для улучшения своих учебных навыков и достижения академических целе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имер, студент с сильной стороной “любознательность” может использовать ее для исследования новых тем и идей. Также учителя могут использовать знание о сильных сторонах учеников для создания более эффективных и мотивирующих учебных программ. Знания сильных сторон может помочь определиться с будущей професси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5883120" cy="10126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"/>
          <p:cNvSpPr/>
          <p:nvPr/>
        </p:nvSpPr>
        <p:spPr>
          <a:xfrm>
            <a:off x="228600" y="1523880"/>
            <a:ext cx="8534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рап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сихотерапии сильные стороны характера могут быть ценным инструментом. Вместо того чтобы сосредоточиться только на проблемах и слабостях клиента, специалисты могут помочь клиентам узнать и использовать их сильные стороны для исправления трудностей. Это улучшит самооценку клиентов и увеличит их мотивацию к изменения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чностное развит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ьные стороны характера играют ключевую роль в личностном развитии. Они помогают лучше понять себя, свои ценности и то, что вдохновляет. Мы можем использовать сильные стороны для достижения целей и строительства жизни, которая соответствует нашим ценностям и интерес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2"/>
          <p:cNvSpPr/>
          <p:nvPr/>
        </p:nvSpPr>
        <p:spPr>
          <a:xfrm>
            <a:off x="304920" y="3808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льные стороны в бизнесе, на работе, в карье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304920" y="1508040"/>
            <a:ext cx="87627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изне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бизнесе сильные стороны характера могут быть мощным инструментом для улучшения производительности и эффективности. Лидеры и менеджеры могут использовать знание о сильных сторонах своих сотрудников для создания более сильных и сбалансированных коман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рабо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рабочем месте сильные стороны могут помочь сотрудникам быть более удовлетворенными и продуктивными. Сотрудники, которые используют свои сильные стороны на работе, часто чувствуют себя более мотивированными и вовлеченными в свою работу. Это может привести к улучшению производительности и удовлетворенности работ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рье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контексте карьерного развития сильные стороны могут помочь людям выбрать карьеру, которая подходит их интересам и навыкам. Знание своих сильных сторон может помочь людям определить, какие виды работы они могут наиболее эффективно выполнять и в каких областях они могут достичь наибольшего успех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21:25:17Z</dcterms:created>
  <dc:creator>Markasian, Pavel (KIEVH)</dc:creator>
  <dc:description/>
  <cp:keywords/>
  <dc:language>en-US</dc:language>
  <cp:lastModifiedBy>19</cp:lastModifiedBy>
  <dcterms:modified xsi:type="dcterms:W3CDTF">2024-03-22T11:27:38Z</dcterms:modified>
  <cp:revision>38</cp:revision>
  <dc:subject/>
  <dc:title>Presentation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