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4DE-0075-4741-99F0-F7D7FBBC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B3E-CD69-4DB0-995E-8E453BE5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A4375-1568-42FA-81A7-BDD77E0D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1B7A0-8804-48F3-BD65-89BB6A30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C42B3-2624-4058-878D-09842486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E5838-A67E-44D1-8C5D-964328F6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464C6-841C-4924-8A7A-0112571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156EE-8841-4FA8-A9A7-DC5A897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2C539-320E-49C5-9C5D-F641EC1F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47C75-F458-482E-AC6F-62716628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EB469-BF50-4EEA-A0A8-BAC9A24E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6C727-90C1-43CB-AB75-2C8DAB5D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9D8-346C-4402-9B9E-632FDBEE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0E53D-7F6C-4537-8D49-998EE03F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35DCD-0649-4687-92C3-63F226B7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72C9D-8612-49AC-8033-42FF5A3D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AE6BD-1C81-4278-9BD7-6C04D1BB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64C32-F92C-4CD6-A01E-9410E613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ADFB5-72F4-46DD-9AFF-C41CD5FE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B8E20-6BF4-4685-BE87-37C1B625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A5D57-6F0A-472D-BC0A-D16711E3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A91B4-35DF-48D9-BDEC-405A2F02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2374E-3CE8-4EE2-9263-09830B97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A85-F84D-44BC-9A10-6201E3AA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CD6B2-33D7-4ACA-8CD0-8333DDD5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A703A-90B3-45BC-8423-15EEEF22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B6D93-2EE2-44D1-B0DD-2599B81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2FCF3-4F47-4E24-82A5-09434F60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090A3-C612-4FEE-9D24-F09EE715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D9114-F092-4B68-BEEA-1F17CD89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5D2AF-B8A4-4E33-AD83-A43629E8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8FC91-C4D2-4C94-9BE0-C6A7C1C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4BF27-0312-4E25-BCCF-553C76B9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4EF9C-C25B-4E82-8091-BA7A9B1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1B2D-9258-4C1E-9E08-92498E00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80CCD-F8D8-452E-9519-ACC724DA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72B9E-A910-4940-825C-1F7D1BE9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232E4-D42B-4F09-B80F-64A693BE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3941A-167E-4893-BD96-7DCFD742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05B8B-4594-41CA-B91E-4FFECE72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45F66-EABA-4B4D-967B-6E05D52B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B68D-BDED-4FBF-89F9-A8ACA966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E1C4A-9EC9-43CE-B32E-4B96A220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9367F-FA06-4749-BFAA-8F9CF29F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88040-E082-4EA8-9A48-F8F3460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C4D6-333A-44C4-94DF-ED042D24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4D0BA-01C7-4526-8514-3312BD5E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A4592-DAE4-42A7-83D9-36CEA43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6FBE3-19EB-4513-8273-C45289DB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59FB5-59A5-4D69-9B38-55BAF49C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0634D-4986-40A0-834D-06452B7F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13A7E-FB36-470F-B89E-3CD6F0AE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124B2-F9B2-4984-ACE3-D3D4F8E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FFFD8-B787-4C84-BCFD-3F5B3AC7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45CA2-42DA-4B0D-A766-4A12B848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C0ABE-46C0-480A-AE1D-6F6DC999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05B0-E2B8-4067-B385-CF653C1A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17D8F-936C-4E15-87D8-A6F793EB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241B1-67BF-4974-BC05-7F4C1C2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AEABC-AF98-49F2-B4F5-84CF459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F44CC-CAEA-4D1B-976E-D7DF4F0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BBDC1-7B0C-4392-ABCB-7A25F6C8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FB929-FC9E-4B2B-93EA-8864E1FE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F3968-1C67-40FA-884A-C86661E3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7D26C-0C32-42C3-BD7A-3574C1AD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6EA97-C2AF-4109-84AA-8DE995FB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BB3D5-6BDD-4024-A1B9-D99397C4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5577-A646-4C9F-B6B5-62AA2346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ED125-831C-4137-BAE4-1C6C723C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20600-151C-4247-9836-38FE46EF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C84B2-5004-4702-9A67-49B1A82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16CBA-7152-4BE3-B980-0DDFD1B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1A9BC-8A87-4958-A60F-3FEA209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DBB3D-80E2-4367-A40D-2F1908F8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AFF02-278F-48EA-8878-A1318C93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DBDF4-67B2-4FB7-A3A9-53D273FD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C9B3F-26C5-4B3E-9987-1A8C0B41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0C01-34EC-4E44-921E-171EC63E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AA25-220D-4B6A-A812-4AD0DD5B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C9FE-9E79-464D-A3B6-03016D3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1EF-51C5-46E9-99FB-647D65B4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CC24-61B8-4E41-B95E-48D4E52A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3D93-9F50-48A5-A53E-6D6F7DEA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8A72-76A2-46C2-AC3E-101A46F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E3B1-D8F6-46F5-B627-6A91C273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8DC7-1290-43E8-BC6C-546AF693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744E-C032-4A7A-9E11-CAF86ADF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A1F3-FC61-4511-93D9-92AB43A0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BB12D-7EA5-426F-92F8-8DB6C94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A15C-B83D-4459-9F62-70F9E01D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89B6-60C3-4C14-99BA-45A05CD0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79C-868C-4EF6-8737-5CCDE3D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0C0D-9AE5-4F4F-8B26-2C26EC2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A552-54A8-4940-9544-CE92633A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6D4C-4726-4B0D-8436-D71A19C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8B49-E3A1-4773-82EF-FD628A10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EDC8-7959-41EE-948A-FD554DAC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C3CF1-1E4B-4E3E-B03C-3E20BBD0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D924-B84F-4AFB-8E46-984C94B9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5893-BAAC-4F18-935D-6A1A5AC3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0829C-6A46-48DE-87A7-444B6BA4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2BC1-372B-4BC4-8764-96451938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0B9-F178-4B78-84B1-76C6FBA6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9FB22-8A0E-4D9F-8260-F14617B9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D04D-BE05-42B8-B6BD-BC3076BF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8B03-56A4-4753-8848-18E45584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B1A3-F2FE-4DB8-9E78-11D56C4D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6DD1-BFE7-4E2A-892B-6E2CE2E1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95358-247B-48B7-93C1-347F2B98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6D047-A44C-405F-AE01-5623DFE8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97CD-C995-495F-9B34-176956BF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6A1E-1ED9-42FA-9EDE-341E46EA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F2D6-4160-43BB-B2F9-15F50135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2A7-0C4B-4AC5-B86C-F771EA31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3903-B942-4984-8526-A15DEC0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0FE7-68A2-4CEC-90C3-D5A6691C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51BF6-7A4E-45C3-853A-06C0B357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AB777-1B28-428A-A7C3-5AE10F53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89719-C9E5-43C0-8A6B-B593CA06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5BA65-613A-465C-89AD-D18BDD0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65F79-DF02-46E0-9AF9-4679087B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D71D8-888D-4F0A-B924-B31AA92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24F24-D984-4BF7-9968-8FAC232C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DE363-56EC-494F-8BBE-C4184512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B12-59E8-4475-BC1D-BC9D2A30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0202-F3D0-4D98-9E98-73E3F5ED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72D44-D846-40B5-868E-571F6A9B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F4468-673E-4D07-AEB2-384910BC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20B3-47DE-4B56-9345-3CAB7AF5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9EE90-8E95-4E66-A032-C8D83973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8FBC6-4714-4398-996E-C80ECC39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F17F-BD28-448D-A358-1EB7BE6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69DC1-D792-4595-8026-6997C0DD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98933-B281-4DE2-9F24-ADA62E0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CE924-27EC-4F04-8A3A-4C5881CE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E45-506E-48DB-8DD2-DFE0930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59CF5-EFED-4DB9-86E1-414A6DD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2A29-6691-42F2-90D5-BD402BB0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6CFA0-0AF0-4B45-8ACA-4D9B1EE2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D494-1047-4C2F-B31E-E7CF7C56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2B949-BC2F-407C-B672-2752AAE0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AF834-6789-452E-967D-3C7870A9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D4B1-DA20-4256-B30A-5C9B8C7A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DA9C5-82E3-4566-8886-E1FAAEB1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6F4CA-61EB-4E99-B737-2EEB6705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E3FE8-8E18-4E02-803C-DFD1072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4AD-07A0-4815-AC10-CEDD4A6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1AA3-6FA8-4A40-B29C-25AD875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6DC6C-C355-427D-9AE3-34B891A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8DB8B-1460-47C3-9115-E2B17905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B8FB-D6DD-45A5-8BEC-DB5E94DD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1C264-316A-4DA8-902B-1A59CF4D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214E9-DDE8-4E52-8FE1-233B3B86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4CBE-E3B8-4F8A-A4F4-8AC2382E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C9E1A-7B28-40D9-A7EC-7C23AE4C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47EEE-051D-4171-B8EA-2D24A5DD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412C2-E402-4F93-9050-EBB06C96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8DA-B66B-492F-82E0-79E40FE7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480"/>
            <a:ext cx="679896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72B93-B70E-4D96-A279-8C3A8E9B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AB0D-2609-4051-8C6B-06312F6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E181B-943A-4003-98F2-015E33DA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37AB8-2FDC-4851-A5FC-73E37A1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62043-275F-4A13-AEE4-F1EE9C97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249048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9F0C9-6D88-4567-A6FC-1ED09C0F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544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4400" y="249048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9C2CE-E2FB-467F-92C1-074A9CE0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3862-50FE-4E22-B4DB-636F657A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1767D-DE2D-4F3D-94A9-8A4350E3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ABBE7-AF63-48B9-966F-F1BF5206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DB768-FC7B-4F55-933B-81D2611E3B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4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TextBox 11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ramond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278000" y="414036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49CE4-9E0A-453E-85C9-C4523E449C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4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4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4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11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aramond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Straight Connector 25"/>
          <p:cNvSpPr/>
          <p:nvPr/>
        </p:nvSpPr>
        <p:spPr>
          <a:xfrm>
            <a:off x="1278000" y="34290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54153-7E40-4D45-AA31-0FD2782335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Straight Connector 14"/>
          <p:cNvSpPr/>
          <p:nvPr/>
        </p:nvSpPr>
        <p:spPr>
          <a:xfrm>
            <a:off x="1278000" y="34290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BB430-5441-477E-BB94-F00D730D7B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5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5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Straight Connector 13"/>
          <p:cNvSpPr/>
          <p:nvPr/>
        </p:nvSpPr>
        <p:spPr>
          <a:xfrm>
            <a:off x="1278000" y="235440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78A38-BFFA-4B90-849E-15C6B24832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64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643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645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Straight Connector 13"/>
          <p:cNvSpPr/>
          <p:nvPr/>
        </p:nvSpPr>
        <p:spPr>
          <a:xfrm>
            <a:off x="6245280" y="906480"/>
            <a:ext cx="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6A579-E1D5-4EFB-A5E9-61C9685978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" name="Picture 7" descr="SD-PanelTitle-R1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10"/>
            <p:cNvGrpSpPr/>
            <p:nvPr/>
          </p:nvGrpSpPr>
          <p:grpSpPr>
            <a:xfrm>
              <a:off x="1511640" y="1511640"/>
              <a:ext cx="6126480" cy="3840480"/>
              <a:chOff x="1511640" y="1511640"/>
              <a:chExt cx="6126480" cy="3840480"/>
            </a:xfrm>
          </p:grpSpPr>
          <p:pic>
            <p:nvPicPr>
              <p:cNvPr id="51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640" y="1511640"/>
                <a:ext cx="6126480" cy="384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5240" y="1519920"/>
                <a:ext cx="6112800" cy="38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3" name="Picture 11" descr="HDRibbonTitle-UniformTrim.png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2" descr="HDRibbonTitle-UniformTrim.png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080" y="3128400"/>
              <a:ext cx="16639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14"/>
          <p:cNvSpPr/>
          <p:nvPr/>
        </p:nvSpPr>
        <p:spPr>
          <a:xfrm>
            <a:off x="2019240" y="3471840"/>
            <a:ext cx="511344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065640" y="5054760"/>
            <a:ext cx="672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2204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816240" y="5054760"/>
            <a:ext cx="414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59C66-502F-40DE-BB97-085160B887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98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102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Straight Connector 6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B53C7-9A3B-45F4-9D86-8E89336536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47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4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151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Straight Connector 30"/>
          <p:cNvSpPr/>
          <p:nvPr/>
        </p:nvSpPr>
        <p:spPr>
          <a:xfrm>
            <a:off x="1278000" y="359892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1171A-00B6-4223-845E-C532BBB420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196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198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00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Straight Connector 7"/>
          <p:cNvSpPr/>
          <p:nvPr/>
        </p:nvSpPr>
        <p:spPr>
          <a:xfrm>
            <a:off x="1278000" y="235584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FBEEE-1DC3-41A7-872D-EE0F6AD82B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45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4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49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Straight Connector 40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FC7DD-4D0C-4190-9B06-D93CD6C5B4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294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296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298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Straight Connector 13"/>
          <p:cNvSpPr/>
          <p:nvPr/>
        </p:nvSpPr>
        <p:spPr>
          <a:xfrm>
            <a:off x="1278000" y="2354400"/>
            <a:ext cx="65959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06666-5B1F-4326-A192-9DBDA61F18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4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347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Straight Connector 15"/>
          <p:cNvSpPr/>
          <p:nvPr/>
        </p:nvSpPr>
        <p:spPr>
          <a:xfrm>
            <a:off x="1278000" y="2913120"/>
            <a:ext cx="233352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7D4BC-9D68-4C89-BAF7-54DC25D068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6"/>
          <p:cNvGrpSpPr/>
          <p:nvPr/>
        </p:nvGrpSpPr>
        <p:grpSpPr>
          <a:xfrm>
            <a:off x="0" y="0"/>
            <a:ext cx="9151920" cy="6858000"/>
            <a:chOff x="0" y="0"/>
            <a:chExt cx="9151920" cy="6858000"/>
          </a:xfrm>
        </p:grpSpPr>
        <p:pic>
          <p:nvPicPr>
            <p:cNvPr id="392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Rectangle 8"/>
            <p:cNvGrpSpPr/>
            <p:nvPr/>
          </p:nvGrpSpPr>
          <p:grpSpPr>
            <a:xfrm>
              <a:off x="548640" y="536400"/>
              <a:ext cx="8058960" cy="5772960"/>
              <a:chOff x="548640" y="536400"/>
              <a:chExt cx="8058960" cy="5772960"/>
            </a:xfrm>
          </p:grpSpPr>
          <p:pic>
            <p:nvPicPr>
              <p:cNvPr id="39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640" y="536400"/>
                <a:ext cx="8058960" cy="57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3680" y="542520"/>
                <a:ext cx="8039520" cy="575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396" name="Picture 9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0" descr="HDRibbonContent-UniformTrim.png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480" y="3128400"/>
              <a:ext cx="68544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Straight Connector 14"/>
          <p:cNvSpPr/>
          <p:nvPr/>
        </p:nvSpPr>
        <p:spPr>
          <a:xfrm>
            <a:off x="1278000" y="4140360"/>
            <a:ext cx="6607080" cy="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480"/>
            <a:ext cx="67989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896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1152000" indent="-27432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48104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919880" indent="-1641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919880" indent="-1641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6356520" y="5961240"/>
            <a:ext cx="1149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117612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580160" y="5961240"/>
            <a:ext cx="395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C4B91-5302-46B1-8E69-61A33126AE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176480" y="2490480"/>
            <a:ext cx="6798960" cy="344484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66400" y="2490840"/>
            <a:ext cx="679932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еление рациональных чисел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Определим  знак  частного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2" name="WordArt 25"/>
          <p:cNvSpPr txBox="1"/>
          <p:nvPr/>
        </p:nvSpPr>
        <p:spPr>
          <a:xfrm>
            <a:off x="1908000" y="191628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 - ) : ( + ) = ( - )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3" name="WordArt 29"/>
          <p:cNvSpPr txBox="1"/>
          <p:nvPr/>
        </p:nvSpPr>
        <p:spPr>
          <a:xfrm>
            <a:off x="1908000" y="364500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 + ) : ( - ) = ( - )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WordArt 33"/>
          <p:cNvSpPr txBox="1"/>
          <p:nvPr/>
        </p:nvSpPr>
        <p:spPr>
          <a:xfrm>
            <a:off x="1908000" y="5445000"/>
            <a:ext cx="4753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 - ) : ( - ) = ( + )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062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Алгоритм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деления рациональных чисел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07760" y="1413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8584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Garamond"/>
              </a:rPr>
              <a:t>1)Определить знак частного   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  <a:p>
            <a:pPr marL="28584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Garamond"/>
              </a:rPr>
              <a:t>2)Разделить модуль делимого на модуль делителя</a:t>
            </a:r>
            <a:r>
              <a:rPr b="1" i="1" lang="ru-RU" sz="4000" spc="-1" strike="noStrike">
                <a:solidFill>
                  <a:srgbClr val="262626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60160" y="304920"/>
            <a:ext cx="56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амостоятельная  работ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98" name="Group 3"/>
          <p:cNvGrpSpPr/>
          <p:nvPr/>
        </p:nvGrpSpPr>
        <p:grpSpPr>
          <a:xfrm>
            <a:off x="468360" y="907920"/>
            <a:ext cx="8229600" cy="5257800"/>
            <a:chOff x="468360" y="907920"/>
            <a:chExt cx="8229600" cy="5257800"/>
          </a:xfrm>
        </p:grpSpPr>
        <p:sp>
          <p:nvSpPr>
            <p:cNvPr id="699" name="Rectangle 4"/>
            <p:cNvSpPr/>
            <p:nvPr/>
          </p:nvSpPr>
          <p:spPr>
            <a:xfrm>
              <a:off x="4583160" y="907920"/>
              <a:ext cx="41148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3c9770"/>
                  </a:solidFill>
                  <a:latin typeface="Georgia"/>
                </a:rPr>
                <a:t>2 вариант.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0" name="Rectangle 5"/>
            <p:cNvSpPr/>
            <p:nvPr/>
          </p:nvSpPr>
          <p:spPr>
            <a:xfrm>
              <a:off x="468360" y="907920"/>
              <a:ext cx="41148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3c9770"/>
                  </a:solidFill>
                  <a:latin typeface="Georgia"/>
                </a:rPr>
                <a:t>1 вариант.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1" name="Rectangle 6"/>
            <p:cNvSpPr/>
            <p:nvPr/>
          </p:nvSpPr>
          <p:spPr>
            <a:xfrm>
              <a:off x="4583160" y="193824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2" name="Rectangle 7"/>
            <p:cNvSpPr/>
            <p:nvPr/>
          </p:nvSpPr>
          <p:spPr>
            <a:xfrm>
              <a:off x="468360" y="193824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3" name="Rectangle 8"/>
            <p:cNvSpPr/>
            <p:nvPr/>
          </p:nvSpPr>
          <p:spPr>
            <a:xfrm>
              <a:off x="4583160" y="5013360"/>
              <a:ext cx="41148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4" name="Rectangle 9"/>
            <p:cNvSpPr/>
            <p:nvPr/>
          </p:nvSpPr>
          <p:spPr>
            <a:xfrm>
              <a:off x="468360" y="5013360"/>
              <a:ext cx="41148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5" name="Rectangle 10"/>
            <p:cNvSpPr/>
            <p:nvPr/>
          </p:nvSpPr>
          <p:spPr>
            <a:xfrm>
              <a:off x="4583160" y="3854520"/>
              <a:ext cx="4114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6" name="Rectangle 11"/>
            <p:cNvSpPr/>
            <p:nvPr/>
          </p:nvSpPr>
          <p:spPr>
            <a:xfrm>
              <a:off x="468360" y="3854520"/>
              <a:ext cx="4114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7" name="Rectangle 12"/>
            <p:cNvSpPr/>
            <p:nvPr/>
          </p:nvSpPr>
          <p:spPr>
            <a:xfrm>
              <a:off x="4583160" y="322740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8" name="Rectangle 13"/>
            <p:cNvSpPr/>
            <p:nvPr/>
          </p:nvSpPr>
          <p:spPr>
            <a:xfrm>
              <a:off x="468360" y="3227400"/>
              <a:ext cx="41148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9" name="Rectangle 14"/>
            <p:cNvSpPr/>
            <p:nvPr/>
          </p:nvSpPr>
          <p:spPr>
            <a:xfrm>
              <a:off x="4583160" y="2565360"/>
              <a:ext cx="411480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0" name="Rectangle 15"/>
            <p:cNvSpPr/>
            <p:nvPr/>
          </p:nvSpPr>
          <p:spPr>
            <a:xfrm>
              <a:off x="468360" y="2565360"/>
              <a:ext cx="411480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1" name="Line 16"/>
            <p:cNvSpPr/>
            <p:nvPr/>
          </p:nvSpPr>
          <p:spPr>
            <a:xfrm>
              <a:off x="468360" y="90792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2" name="Line 17"/>
            <p:cNvSpPr/>
            <p:nvPr/>
          </p:nvSpPr>
          <p:spPr>
            <a:xfrm>
              <a:off x="468360" y="32274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3" name="Line 18"/>
            <p:cNvSpPr/>
            <p:nvPr/>
          </p:nvSpPr>
          <p:spPr>
            <a:xfrm>
              <a:off x="468360" y="38545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4" name="Line 19"/>
            <p:cNvSpPr/>
            <p:nvPr/>
          </p:nvSpPr>
          <p:spPr>
            <a:xfrm>
              <a:off x="468360" y="5013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5" name="Line 20"/>
            <p:cNvSpPr/>
            <p:nvPr/>
          </p:nvSpPr>
          <p:spPr>
            <a:xfrm>
              <a:off x="468360" y="6165720"/>
              <a:ext cx="8229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6" name="Line 21"/>
            <p:cNvSpPr/>
            <p:nvPr/>
          </p:nvSpPr>
          <p:spPr>
            <a:xfrm>
              <a:off x="468360" y="907920"/>
              <a:ext cx="0" cy="525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7" name="Line 22"/>
            <p:cNvSpPr/>
            <p:nvPr/>
          </p:nvSpPr>
          <p:spPr>
            <a:xfrm>
              <a:off x="4583160" y="90792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8" name="Line 23"/>
            <p:cNvSpPr/>
            <p:nvPr/>
          </p:nvSpPr>
          <p:spPr>
            <a:xfrm>
              <a:off x="8697960" y="907920"/>
              <a:ext cx="0" cy="525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9" name="Line 24"/>
            <p:cNvSpPr/>
            <p:nvPr/>
          </p:nvSpPr>
          <p:spPr>
            <a:xfrm>
              <a:off x="46836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0" name="Line 25"/>
            <p:cNvSpPr/>
            <p:nvPr/>
          </p:nvSpPr>
          <p:spPr>
            <a:xfrm>
              <a:off x="468360" y="19382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21" name="Text Box 26"/>
          <p:cNvSpPr/>
          <p:nvPr/>
        </p:nvSpPr>
        <p:spPr>
          <a:xfrm>
            <a:off x="1258920" y="198900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,5 : (–0,5)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Text Box 27"/>
          <p:cNvSpPr/>
          <p:nvPr/>
        </p:nvSpPr>
        <p:spPr>
          <a:xfrm>
            <a:off x="5364000" y="206064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,5 : (– 0,5)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3" name="Text Box 28"/>
          <p:cNvSpPr/>
          <p:nvPr/>
        </p:nvSpPr>
        <p:spPr>
          <a:xfrm>
            <a:off x="118728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–0,56) : (–1,4)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4" name="Text Box 29"/>
          <p:cNvSpPr/>
          <p:nvPr/>
        </p:nvSpPr>
        <p:spPr>
          <a:xfrm>
            <a:off x="5435640" y="2637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–0,45) : (–0,5)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Text Box 30"/>
          <p:cNvSpPr/>
          <p:nvPr/>
        </p:nvSpPr>
        <p:spPr>
          <a:xfrm>
            <a:off x="1258920" y="328464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,8 : 12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6" name="Text Box 31"/>
          <p:cNvSpPr/>
          <p:nvPr/>
        </p:nvSpPr>
        <p:spPr>
          <a:xfrm>
            <a:off x="5508720" y="328464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,6  : 13 =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32"/>
              <p:cNvSpPr txBox="1"/>
              <p:nvPr/>
            </p:nvSpPr>
            <p:spPr>
              <a:xfrm>
                <a:off x="1241280" y="3933720"/>
                <a:ext cx="18367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33"/>
              <p:cNvSpPr txBox="1"/>
              <p:nvPr/>
            </p:nvSpPr>
            <p:spPr>
              <a:xfrm>
                <a:off x="5562720" y="3860640"/>
                <a:ext cx="1869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34"/>
              <p:cNvSpPr txBox="1"/>
              <p:nvPr/>
            </p:nvSpPr>
            <p:spPr>
              <a:xfrm>
                <a:off x="1366920" y="5013360"/>
                <a:ext cx="22352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35"/>
              <p:cNvSpPr txBox="1"/>
              <p:nvPr/>
            </p:nvSpPr>
            <p:spPr>
              <a:xfrm>
                <a:off x="5580000" y="5013360"/>
                <a:ext cx="2232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den>
                    </m:f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Елена Ванденко</cp:lastModifiedBy>
  <dcterms:modified xsi:type="dcterms:W3CDTF">2024-03-25T11:35:29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