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A284-AB2C-4968-A12C-C70915F1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ECBE-B5F1-4504-94F7-0CB35AD1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3E2C2-7E46-498E-97EA-EEE1F40C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F417F-EB48-45ED-9A83-D25ECF33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99414-B78A-4BE5-A250-9A283CF0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8DDD4-BC05-4629-8F52-76D52788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A3035-7876-48D2-801D-1302DA45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A2A77-297B-4749-8E6D-771EAB65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C2BC8-C371-4413-BDE4-B2F6022E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0E0CC-D3BE-44E3-8106-193366A5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0BEF3-485A-436D-B061-8F9EEDD6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501E9-112B-4954-8A3C-23D52969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4A5-8B24-4BF8-9A9E-4A3AC3B7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C3D03-28B4-42B7-B5EB-19E958ED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DCB2A-8090-44B4-A468-970737C9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47F44-8023-4DE2-B115-557E2C23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94267-E913-44E6-BBE3-DF5B84EA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275A8-70E0-4216-A612-3D0B6ACF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FFA43-BE9B-4F18-A5B1-2B489844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76569-A303-4E26-B545-E77325B9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96CA0-9D9A-44DA-B00F-68F2DC92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920D3-75BC-4A42-9610-B703EC35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00420-B2E3-4FD1-B82A-F712CBF6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A6F4-E739-43DC-9D0B-01D23A5A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50B3F-CC52-4350-90D5-0F66F991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A20EB-F58E-4C05-89E0-3652D44D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749D0-624C-4315-8C31-4C6E7E84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67227-8161-472F-8C7D-30B276CF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44D90-92A9-498A-BBF1-0481DD6C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71A7C-35EF-42C2-B0FE-A2819511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CF189-0A7A-48CF-990C-58B3BFD7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9A6E1-A616-4E5F-A6AA-D53F4798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6D83F-CA0A-4CBC-BF90-D8F20E1A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41554-F7EE-404C-915D-99703C52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0906-BDAD-4D1F-BBEE-2DD9A521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5671C-162A-4598-819A-A7CE5881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AA74E-9CD7-4911-BD45-F8042C84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9D09F-7E2F-4CC6-A34E-F39FA9AE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CAFFD-731D-4BD5-AF57-73FEFD33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AD0D0-DFA4-4B6C-B5FD-D81D778D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6C3DB-145E-4D20-9477-B998751B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AFA9D-E48C-4739-BA03-1C9D4CF4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6E24A-C6F7-47D8-8317-97947771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1400C-364D-4AC2-99A7-2F747783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72836-2823-44EC-88EC-14FC3A32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9250-5AE0-42F1-9D76-2591A1BF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3FC01-4938-4B34-BBEA-53E98DDD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2BAF0-DA22-4155-B0D1-0920CD05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C46F0-6F51-4993-90B3-275403CA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AA2BE-2776-4F66-99DA-3585460B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4162F-C16B-46B6-BAE1-97C8CEC1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1109E8-7CF0-4B54-B6C1-5C1C9A28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C222C4-3D30-426B-B8FD-6C385F10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B9059-297C-4EA1-8334-1208CAED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443074-8822-40DA-870A-78BCAF73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BF8B65-152C-415E-807A-545F2232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382C-A0FD-4CBA-96B6-3C0622A1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BE644A-7A25-4360-B05E-98967833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01C936-417A-46EC-93E0-69D73FCD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317FFB-1080-422A-86DA-926F4430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17699-F98C-4538-B1F4-5FDE74A5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95D421-16EF-4382-9C39-1D6A3D94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6346C0-E10C-4031-B185-0B2D6551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21892-B62F-427A-838B-04220A20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F34228-96E3-456A-B640-B3B15E5E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9AC8CC-3CFE-4083-9C16-07234453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EBE8C1-EF21-46D2-B099-53432973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8FDF-4B84-4EB4-9825-8CC87E09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471F0C-4ABA-40A7-91D0-EA97319E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657C57-0246-4101-92D6-76326513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972A5A-A29D-4CAC-B6CD-E1439467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CA578-1883-423B-BB33-5D687863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6ECE24-70C6-43AD-BB37-6A08FF28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00F6AC-1004-4823-9E75-CED6261A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BAC6DE-6571-4C94-8233-E9B85E2F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8B3FEF-9263-4938-A4FF-5464EE42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1DB648-B0C2-43FA-A8C7-71B916B8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A6B9-1EC6-4AE3-B221-4EF183F6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2C3C-A72E-473D-8D9A-96BBEA61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2B64-9319-47E1-BABC-FEB0A2A2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5E49-D707-4B80-95E7-DEF9FA5C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CBFA-B173-4847-B848-2BA07A59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3FCD-5058-4B7A-AFCF-B6429A8B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DF4A-B0EA-4C91-9650-738CE9C2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F3E4-969D-40CE-B2D2-7938A5C3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827D-840A-4049-AEE8-D33A9AA4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25782-FEE6-4802-BD56-490D9B78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11232-1577-4EC8-8CDD-154313FA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BF41A-7563-4DEE-820C-95FF4141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06093-E688-4DEA-A83E-F9D9D5A5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72B1D-8F62-402B-BA2B-9A162DDD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F048-2904-4DBF-BA37-EDE49F62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B3D66-D9CD-401F-9F4F-C33B2C8A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4CFD1-6C01-45A0-A864-C1C9BBAD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0DF3F-98B0-4066-89EB-F38FE596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8BDFB-B766-43A9-B58B-2BFD7B07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25D7D-C1CC-474E-B709-4E0BB441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45B08-CAFF-4AD9-B647-164A0107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47777-5C02-4047-A3D6-9C8BBEBC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C1085-294A-4FDF-A5D0-F8404368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EB06E-A640-45CF-B848-884FFD83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0ECC9-E457-4A26-8734-8A2A974C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A17F-1324-46B8-A227-E59124EC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1C9A0-6356-49B0-B0E2-334B40FC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53DE5-477E-4DAC-AEAF-EBEB9FE4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3A4F4-23D4-4673-B40B-4E660529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D6881-4DBC-4240-A56C-C7CB4A55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F168B-7369-4E0C-B2AC-40FB4354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BC365-A7E9-483C-A8B1-C3AC4422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896C9-4F72-427E-85DC-D9E98028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B27FD-3EE5-41DA-AD1C-E2EC810F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112EE-BBE9-4B4D-9448-CEFF679F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0ED23-C614-4EBD-B39D-38D9ACA1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4529-5493-4D57-B322-CE49BA83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C80C8-E873-48E3-BD97-C7B68301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EB102-1747-4D0D-B6BA-CEC60F13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34CD8-C7F7-4B19-B663-E383AB11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5B333-4CA7-4BD6-9731-75ECFCF6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564AB-2A8F-4DFB-BE14-CE366FB8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C7CBE-27ED-42A7-BA1C-DC1AACC5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285FF-FEB7-4086-AA7C-6EAB72C4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C077A-5193-4372-A384-904E6C84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6855B-5E59-4779-8B06-3B868DA0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970B7-E4FF-4A31-8893-B63E218C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F25F-9D20-4E46-ABB8-23474CFF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C0A62-1B12-450A-AA6A-9604778F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FD951-21DC-4055-B111-9055CCA3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9604C-8A80-4BB3-B40A-F49D7CDC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4C874-BB52-40CC-AA21-B13CFCC5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D645A-059B-468C-BFB8-FB5EB811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E1FDB-9AC5-4333-BED9-D2A4B6B3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EC8B8-26AC-4CE8-AB71-E2274FC1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E1589-CEBF-4875-AE08-566634FA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F2636-C675-46CC-A8A8-04899AAF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5D3FA-0736-4EAB-B124-15E60533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B2A-1F2E-4D07-9CD6-573BEB56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95E7B-B8F1-4602-97F8-ADE9BF35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FCA50-5E40-4B93-99C0-B839AD63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96659-75AD-4F27-A753-42DC2B15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0F169-E911-46E7-AEFC-7E520D75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3D581-5E9A-4FFD-8DFC-6341931F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F72EA-38A2-4EE1-AC5D-0B4CC47E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E43E6-9ABE-4AF4-B18D-7AC151C1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DE798-C980-4E9D-AC76-9B2F80E6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56BC9-DF3C-4D23-AEFF-A53A19BE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E05E6-00C9-44D8-A645-86510661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0E8-A936-4128-B096-3EC592ED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86A9A-1D3E-4385-8C9A-16A77818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E0BB2-2083-417B-AC69-27FA4FEC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6DE79-15AB-4271-9A1B-611B0FE7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0B78D-C2AB-4D6A-9E2A-F6E7933E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8CC82-8AB4-4B5C-A118-6B49887E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01F33-AFCA-4F9B-BB66-00423D90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641EC-E3D9-4284-8722-4E482D1F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2C319-DE39-46C5-82FB-D36BAB34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AFB41-4006-46E2-886E-2DF3ABBD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86860-33D4-4CDF-8447-793F2E5E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AD4E-B0A1-4B8D-BAC2-314405DF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9A35E-EA03-415C-B7F9-6A31976A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5B5A4-CEAB-4BE8-97D1-8F4BCABC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8D5A8-3D2F-4BB7-A4B9-E033E6B3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79A70-DD19-43B0-9908-C00AAF54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55921-63CE-4EC2-B2E1-4DFF41CA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5C14D-1B23-4419-A18A-EABFD04A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D33E9-C707-4CE3-9E07-C89DC934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DB254-5368-4D9B-890E-D9E381C4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45293-065D-4379-AC80-276ABAC1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86C9E-38C1-4F35-BE8C-93ADB9C6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1C7A8-5C74-41AB-A8B8-A48380B934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4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44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44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TextBox 11"/>
          <p:cNvSpPr/>
          <p:nvPr/>
        </p:nvSpPr>
        <p:spPr>
          <a:xfrm>
            <a:off x="849240" y="9050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aramond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TextBox 12"/>
          <p:cNvSpPr/>
          <p:nvPr/>
        </p:nvSpPr>
        <p:spPr>
          <a:xfrm>
            <a:off x="7634160" y="28274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aramond"/>
              </a:rPr>
              <a:t>”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9" name="Straight Connector 18"/>
          <p:cNvSpPr/>
          <p:nvPr/>
        </p:nvSpPr>
        <p:spPr>
          <a:xfrm>
            <a:off x="1278000" y="414036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17059-43ED-48E3-B7C9-9D433947CE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3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4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4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TextBox 11"/>
          <p:cNvSpPr/>
          <p:nvPr/>
        </p:nvSpPr>
        <p:spPr>
          <a:xfrm>
            <a:off x="878040" y="8967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aramond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9" name="TextBox 12"/>
          <p:cNvSpPr/>
          <p:nvPr/>
        </p:nvSpPr>
        <p:spPr>
          <a:xfrm>
            <a:off x="7650000" y="2608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aramond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0" name="Straight Connector 25"/>
          <p:cNvSpPr/>
          <p:nvPr/>
        </p:nvSpPr>
        <p:spPr>
          <a:xfrm>
            <a:off x="1278000" y="34290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05FAC-88AC-4965-A5CA-0BD18C6BDD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54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54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54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Straight Connector 14"/>
          <p:cNvSpPr/>
          <p:nvPr/>
        </p:nvSpPr>
        <p:spPr>
          <a:xfrm>
            <a:off x="1278000" y="34290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B1A68B-211A-4FFD-8539-C3008BD545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5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3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5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5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8" name="Straight Connector 13"/>
          <p:cNvSpPr/>
          <p:nvPr/>
        </p:nvSpPr>
        <p:spPr>
          <a:xfrm>
            <a:off x="1278000" y="23544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4E700-903F-46DD-8813-50383E8F02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64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2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64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64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7" name="Straight Connector 13"/>
          <p:cNvSpPr/>
          <p:nvPr/>
        </p:nvSpPr>
        <p:spPr>
          <a:xfrm>
            <a:off x="6245280" y="906480"/>
            <a:ext cx="0" cy="496872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BA6CE4-C2A3-4BE0-A41E-B8F8797BE5D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Picture 7" descr="SD-PanelTitle-R1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Rectangle 10"/>
            <p:cNvGrpSpPr/>
            <p:nvPr/>
          </p:nvGrpSpPr>
          <p:grpSpPr>
            <a:xfrm>
              <a:off x="1511640" y="1511640"/>
              <a:ext cx="6126480" cy="3840480"/>
              <a:chOff x="1511640" y="1511640"/>
              <a:chExt cx="6126480" cy="3840480"/>
            </a:xfrm>
          </p:grpSpPr>
          <p:pic>
            <p:nvPicPr>
              <p:cNvPr id="51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1511640" y="1511640"/>
                <a:ext cx="6126480" cy="384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515240" y="1519920"/>
                <a:ext cx="6112800" cy="38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53" name="Picture 11" descr="HDRibbonTitle-UniformTrim.png"/>
            <p:cNvPicPr/>
            <p:nvPr/>
          </p:nvPicPr>
          <p:blipFill>
            <a:blip r:embed="rId5"/>
            <a:srcRect l="0" t="0" r="47963" b="0"/>
            <a:stretch/>
          </p:blipFill>
          <p:spPr>
            <a:xfrm>
              <a:off x="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2" descr="HDRibbonTitle-UniformTrim.png"/>
            <p:cNvPicPr/>
            <p:nvPr/>
          </p:nvPicPr>
          <p:blipFill>
            <a:blip r:embed="rId6"/>
            <a:srcRect l="0" t="0" r="47963" b="0"/>
            <a:stretch/>
          </p:blipFill>
          <p:spPr>
            <a:xfrm>
              <a:off x="748008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Straight Connector 14"/>
          <p:cNvSpPr/>
          <p:nvPr/>
        </p:nvSpPr>
        <p:spPr>
          <a:xfrm>
            <a:off x="2019240" y="3471840"/>
            <a:ext cx="511344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065640" y="5054760"/>
            <a:ext cx="672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922040" y="5054760"/>
            <a:ext cx="406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816240" y="5054760"/>
            <a:ext cx="414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33A7D-DB88-451B-BE19-B33EE03A27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98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10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102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Straight Connector 6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361C7-22D3-4347-84AF-799BDE065B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47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14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151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Straight Connector 30"/>
          <p:cNvSpPr/>
          <p:nvPr/>
        </p:nvSpPr>
        <p:spPr>
          <a:xfrm>
            <a:off x="1278000" y="359892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0A04C9-D8E9-43F8-A6F0-269401E671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96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198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200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Straight Connector 7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E16E03-E677-40DE-AF6A-2B3CD0F5773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245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6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247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249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Straight Connector 40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A6B63-3323-4F54-A3A6-A952BDCB0A8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294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5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296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298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Straight Connector 13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DD0E3-CC2A-4FA8-83F5-58FF76EE691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34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4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34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34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Straight Connector 15"/>
          <p:cNvSpPr/>
          <p:nvPr/>
        </p:nvSpPr>
        <p:spPr>
          <a:xfrm>
            <a:off x="1278000" y="2913120"/>
            <a:ext cx="23335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15C34-B394-406E-8EEC-441186076B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3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3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3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3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Straight Connector 14"/>
          <p:cNvSpPr/>
          <p:nvPr/>
        </p:nvSpPr>
        <p:spPr>
          <a:xfrm>
            <a:off x="1278000" y="414036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FCCE2-081C-4336-AB23-2B0CFA8061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1176480" y="2490480"/>
            <a:ext cx="6798960" cy="344484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66400" y="2490840"/>
            <a:ext cx="6799320" cy="13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Деление рациональных чисел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Определим  знак  частного</a:t>
            </a:r>
            <a:endParaRPr b="0" lang="en-US" sz="36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2" name="WordArt 25"/>
          <p:cNvSpPr txBox="1"/>
          <p:nvPr/>
        </p:nvSpPr>
        <p:spPr>
          <a:xfrm>
            <a:off x="1908000" y="1916280"/>
            <a:ext cx="4753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 - ) : ( + ) = ( - )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3" name="WordArt 29"/>
          <p:cNvSpPr txBox="1"/>
          <p:nvPr/>
        </p:nvSpPr>
        <p:spPr>
          <a:xfrm>
            <a:off x="1908000" y="3645000"/>
            <a:ext cx="4753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 + ) : ( - ) = ( - )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4" name="WordArt 33"/>
          <p:cNvSpPr txBox="1"/>
          <p:nvPr/>
        </p:nvSpPr>
        <p:spPr>
          <a:xfrm>
            <a:off x="1908000" y="5445000"/>
            <a:ext cx="4753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 - ) : ( - ) = ( + )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062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Алгоритм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деления рациональных чисел</a:t>
            </a:r>
            <a:endParaRPr b="0" lang="en-US" sz="36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07760" y="14130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285840"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Garamond"/>
              </a:rPr>
              <a:t>1)Определить знак частного   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  <a:p>
            <a:pPr marL="285840"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Garamond"/>
              </a:rPr>
              <a:t>2)Разделить модуль делимого на модуль делителя</a:t>
            </a:r>
            <a:r>
              <a:rPr b="1" i="1" lang="ru-RU" sz="4000" spc="-1" strike="noStrike">
                <a:solidFill>
                  <a:srgbClr val="262626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1460160" y="304920"/>
            <a:ext cx="56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амостоятельная  работ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698" name="Group 3"/>
          <p:cNvGrpSpPr/>
          <p:nvPr/>
        </p:nvGrpSpPr>
        <p:grpSpPr>
          <a:xfrm>
            <a:off x="468360" y="907920"/>
            <a:ext cx="8229600" cy="5257800"/>
            <a:chOff x="468360" y="907920"/>
            <a:chExt cx="8229600" cy="5257800"/>
          </a:xfrm>
        </p:grpSpPr>
        <p:sp>
          <p:nvSpPr>
            <p:cNvPr id="699" name="Rectangle 4"/>
            <p:cNvSpPr/>
            <p:nvPr/>
          </p:nvSpPr>
          <p:spPr>
            <a:xfrm>
              <a:off x="4583160" y="907920"/>
              <a:ext cx="411480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3c9770"/>
                  </a:solidFill>
                  <a:latin typeface="Georgia"/>
                </a:rPr>
                <a:t>2 вариант.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0" name="Rectangle 5"/>
            <p:cNvSpPr/>
            <p:nvPr/>
          </p:nvSpPr>
          <p:spPr>
            <a:xfrm>
              <a:off x="468360" y="907920"/>
              <a:ext cx="411480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3c9770"/>
                  </a:solidFill>
                  <a:latin typeface="Georgia"/>
                </a:rPr>
                <a:t>1 вариант.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1" name="Rectangle 6"/>
            <p:cNvSpPr/>
            <p:nvPr/>
          </p:nvSpPr>
          <p:spPr>
            <a:xfrm>
              <a:off x="4583160" y="1938240"/>
              <a:ext cx="41148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2" name="Rectangle 7"/>
            <p:cNvSpPr/>
            <p:nvPr/>
          </p:nvSpPr>
          <p:spPr>
            <a:xfrm>
              <a:off x="468360" y="1938240"/>
              <a:ext cx="41148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3" name="Rectangle 8"/>
            <p:cNvSpPr/>
            <p:nvPr/>
          </p:nvSpPr>
          <p:spPr>
            <a:xfrm>
              <a:off x="4583160" y="5013360"/>
              <a:ext cx="411480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4" name="Rectangle 9"/>
            <p:cNvSpPr/>
            <p:nvPr/>
          </p:nvSpPr>
          <p:spPr>
            <a:xfrm>
              <a:off x="468360" y="5013360"/>
              <a:ext cx="411480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5" name="Rectangle 10"/>
            <p:cNvSpPr/>
            <p:nvPr/>
          </p:nvSpPr>
          <p:spPr>
            <a:xfrm>
              <a:off x="4583160" y="3854520"/>
              <a:ext cx="41148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6" name="Rectangle 11"/>
            <p:cNvSpPr/>
            <p:nvPr/>
          </p:nvSpPr>
          <p:spPr>
            <a:xfrm>
              <a:off x="468360" y="3854520"/>
              <a:ext cx="41148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7" name="Rectangle 12"/>
            <p:cNvSpPr/>
            <p:nvPr/>
          </p:nvSpPr>
          <p:spPr>
            <a:xfrm>
              <a:off x="4583160" y="3227400"/>
              <a:ext cx="41148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8" name="Rectangle 13"/>
            <p:cNvSpPr/>
            <p:nvPr/>
          </p:nvSpPr>
          <p:spPr>
            <a:xfrm>
              <a:off x="468360" y="3227400"/>
              <a:ext cx="41148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9" name="Rectangle 14"/>
            <p:cNvSpPr/>
            <p:nvPr/>
          </p:nvSpPr>
          <p:spPr>
            <a:xfrm>
              <a:off x="4583160" y="2565360"/>
              <a:ext cx="411480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0" name="Rectangle 15"/>
            <p:cNvSpPr/>
            <p:nvPr/>
          </p:nvSpPr>
          <p:spPr>
            <a:xfrm>
              <a:off x="468360" y="2565360"/>
              <a:ext cx="411480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1" name="Line 16"/>
            <p:cNvSpPr/>
            <p:nvPr/>
          </p:nvSpPr>
          <p:spPr>
            <a:xfrm>
              <a:off x="468360" y="90792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2" name="Line 17"/>
            <p:cNvSpPr/>
            <p:nvPr/>
          </p:nvSpPr>
          <p:spPr>
            <a:xfrm>
              <a:off x="468360" y="32274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3" name="Line 18"/>
            <p:cNvSpPr/>
            <p:nvPr/>
          </p:nvSpPr>
          <p:spPr>
            <a:xfrm>
              <a:off x="468360" y="38545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4" name="Line 19"/>
            <p:cNvSpPr/>
            <p:nvPr/>
          </p:nvSpPr>
          <p:spPr>
            <a:xfrm>
              <a:off x="468360" y="50133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5" name="Line 20"/>
            <p:cNvSpPr/>
            <p:nvPr/>
          </p:nvSpPr>
          <p:spPr>
            <a:xfrm>
              <a:off x="468360" y="616572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6" name="Line 21"/>
            <p:cNvSpPr/>
            <p:nvPr/>
          </p:nvSpPr>
          <p:spPr>
            <a:xfrm>
              <a:off x="468360" y="907920"/>
              <a:ext cx="0" cy="525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7" name="Line 22"/>
            <p:cNvSpPr/>
            <p:nvPr/>
          </p:nvSpPr>
          <p:spPr>
            <a:xfrm>
              <a:off x="4583160" y="907920"/>
              <a:ext cx="0" cy="525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8" name="Line 23"/>
            <p:cNvSpPr/>
            <p:nvPr/>
          </p:nvSpPr>
          <p:spPr>
            <a:xfrm>
              <a:off x="8697960" y="907920"/>
              <a:ext cx="0" cy="525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9" name="Line 24"/>
            <p:cNvSpPr/>
            <p:nvPr/>
          </p:nvSpPr>
          <p:spPr>
            <a:xfrm>
              <a:off x="468360" y="25653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0" name="Line 25"/>
            <p:cNvSpPr/>
            <p:nvPr/>
          </p:nvSpPr>
          <p:spPr>
            <a:xfrm>
              <a:off x="468360" y="193824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21" name="Text Box 26"/>
          <p:cNvSpPr/>
          <p:nvPr/>
        </p:nvSpPr>
        <p:spPr>
          <a:xfrm>
            <a:off x="1258920" y="1989000"/>
            <a:ext cx="21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,5 : (–0,5) =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2" name="Text Box 27"/>
          <p:cNvSpPr/>
          <p:nvPr/>
        </p:nvSpPr>
        <p:spPr>
          <a:xfrm>
            <a:off x="5364000" y="206064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,5 : (– 0,5) =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3" name="Text Box 28"/>
          <p:cNvSpPr/>
          <p:nvPr/>
        </p:nvSpPr>
        <p:spPr>
          <a:xfrm>
            <a:off x="1187280" y="2637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–0,56) : (–1,4) =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4" name="Text Box 29"/>
          <p:cNvSpPr/>
          <p:nvPr/>
        </p:nvSpPr>
        <p:spPr>
          <a:xfrm>
            <a:off x="5435640" y="263700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–0,45) : (–0,5) =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5" name="Text Box 30"/>
          <p:cNvSpPr/>
          <p:nvPr/>
        </p:nvSpPr>
        <p:spPr>
          <a:xfrm>
            <a:off x="1258920" y="3284640"/>
            <a:ext cx="20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,8 : 12 =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6" name="Text Box 31"/>
          <p:cNvSpPr/>
          <p:nvPr/>
        </p:nvSpPr>
        <p:spPr>
          <a:xfrm>
            <a:off x="5508720" y="3284640"/>
            <a:ext cx="20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,6  : 13 =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Object 32"/>
              <p:cNvSpPr txBox="1"/>
              <p:nvPr/>
            </p:nvSpPr>
            <p:spPr>
              <a:xfrm>
                <a:off x="1241280" y="3933720"/>
                <a:ext cx="183672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Object 33"/>
              <p:cNvSpPr txBox="1"/>
              <p:nvPr/>
            </p:nvSpPr>
            <p:spPr>
              <a:xfrm>
                <a:off x="5562720" y="3860640"/>
                <a:ext cx="18698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Object 34"/>
              <p:cNvSpPr txBox="1"/>
              <p:nvPr/>
            </p:nvSpPr>
            <p:spPr>
              <a:xfrm>
                <a:off x="1366920" y="5013360"/>
                <a:ext cx="22352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Object 35"/>
              <p:cNvSpPr txBox="1"/>
              <p:nvPr/>
            </p:nvSpPr>
            <p:spPr>
              <a:xfrm>
                <a:off x="5580000" y="5013360"/>
                <a:ext cx="22320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</m:den>
                    </m:f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ксана</dc:creator>
  <dc:description/>
  <dc:language>en-US</dc:language>
  <cp:lastModifiedBy>Елена Ванденко</cp:lastModifiedBy>
  <dcterms:modified xsi:type="dcterms:W3CDTF">2024-03-25T11:35:29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