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CDF-93C8-4438-82C9-380044CD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423-B219-4A6D-AA2B-608A196A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116-75D2-4A3A-A3E7-04C77CF0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D98-0E74-4995-AB27-87463834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653-058B-43EA-829E-9B821C52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E47-A138-4569-A1B8-F9E2D92B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04A-7B25-4CC1-ACF1-7B801410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A52-DF80-4932-9317-069DBC63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CB6-F7F6-47B8-93FD-1DDD3544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906-9DF3-464E-BEFB-84544E99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0D9-0445-462B-9773-804B9827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45B-1815-4244-832C-ABAAFCAD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C6FF-54C0-4CF6-9DF5-78BBED797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zlatoriza.ru/uploads/items/big/01-10388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04920" y="7621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Не стоит село без праведник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220968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ЧИТАЕМ И ОБСУЖДАЕМ РАССК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А.И.Солженицы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«Матрёнин дво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Идея и проблематика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28600" y="11430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дчинены одной цели - раскрыть красоту души Матрё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0" y="1828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24382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а примере судьбы деревенской женщины показать, что жизненные потери и страдания только ярче проявляют меру человеческого в каждом из люд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блемат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04920" y="4495680"/>
            <a:ext cx="8534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усская деревня начала 50-х годов 20 века, её жизнь, обычаи, нрав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заимоотношения власти и человека-тружен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арающая сила люб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обая святость помыслов героини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Композиция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114300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.И.Солженицын разделил свой рассказ на три ч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274320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усская деревня начала 50-х годов 20 века, её жизнь, обычаи, нрав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Жизнь и судьба героини расск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роки нрав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80880" y="16765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ак бы вы озагла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мпозиционные части расск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06"/>
          <p:cNvPicPr/>
          <p:nvPr/>
        </p:nvPicPr>
        <p:blipFill>
          <a:blip r:embed="rId1"/>
          <a:stretch/>
        </p:blipFill>
        <p:spPr>
          <a:xfrm>
            <a:off x="3581280" y="4191120"/>
            <a:ext cx="1905120" cy="245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01"/>
          <p:cNvPicPr/>
          <p:nvPr/>
        </p:nvPicPr>
        <p:blipFill>
          <a:blip r:embed="rId2"/>
          <a:stretch/>
        </p:blipFill>
        <p:spPr>
          <a:xfrm>
            <a:off x="6934320" y="4191120"/>
            <a:ext cx="186840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03"/>
          <p:cNvPicPr/>
          <p:nvPr/>
        </p:nvPicPr>
        <p:blipFill>
          <a:blip r:embed="rId3"/>
          <a:stretch/>
        </p:blipFill>
        <p:spPr>
          <a:xfrm>
            <a:off x="380880" y="4191120"/>
            <a:ext cx="190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Не стоит село без праведни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04920" y="5638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ав ли Солженицын, называя отнюдь не идеальную Матрёну праведниц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80880" y="114300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АВЕДНИК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еловек с чистой совестью и душой (В.И.Даль«Толковый словарь живого великорусского языка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едно живущий; во всем по закону Божью поступающий, безгрешник; человек, ни в чём не погрешающий против правил нравственности, морали  (С.И.Ожегов «Толковый словарь русского языка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т, кто во всём руководствуется принципами справедливости, честности, не нарушает правил нравственности («Академический словарь русского языка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2"/>
          <p:cNvPicPr/>
          <p:nvPr/>
        </p:nvPicPr>
        <p:blipFill>
          <a:blip r:embed="rId1"/>
          <a:stretch/>
        </p:blipFill>
        <p:spPr>
          <a:xfrm>
            <a:off x="609480" y="990720"/>
            <a:ext cx="7786800" cy="5222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533520" y="62164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продукция картины В.Е.Попкова «Старость», 196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В чём праведность Матрё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Не стоит село без праведни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04920" y="1295280"/>
            <a:ext cx="853416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оральные качества Матрёны Григорьевны, такие как честность, терпение, отсутствие зависти, позволяют нам считать её праведниц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втор отмечает простоту и неприметность героини и в то же время исходящий от неё внутренний свет, добавляя, что она “всегда... обезоруживала лучезарной улыбкой”. К тому же, она живёт по правилам, которые считает непоколебимыми, то есть, по своей прав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аведность Матрёны основана на безразличии к материальным ценностям. Героиня не предаётся греху гордыни, умеет быть благодарной за каждый прожитый миг, довольствуется тем, что у неё е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сле смерти Матрёны многие её укоряли: “...и нечистоплотная была, и за обзаводком не гналась, и не бережная; ...и глупая, помогала чужим бесплатно”, и лишь Игнатьич встал на её сторону, осознав её моральные принципы: “Все мы жили рядом с ней и не поняли, что есть она тот самый праведник, без которого, по пословице, не стоит село, ни город, ни вся земля наша...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Нравственный идеал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1143000"/>
            <a:ext cx="8534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аведница Матрёна - нравственный идеал писате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 А.И.Солженицыну, «смысл земного существования - не в благоденствии, а в развитии души». Солженицын продолжает одну из главных традиций русской литературы, согласно которой писатель видит своё назначение в проповедовании истины, духовности, в необходимости стави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«вечные» вопросы и искать на них отве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4"/>
          <p:cNvGrpSpPr/>
          <p:nvPr/>
        </p:nvGrpSpPr>
        <p:grpSpPr>
          <a:xfrm>
            <a:off x="914400" y="3733920"/>
            <a:ext cx="7467120" cy="2895480"/>
            <a:chOff x="914400" y="3733920"/>
            <a:chExt cx="7467120" cy="2895480"/>
          </a:xfrm>
        </p:grpSpPr>
        <p:pic>
          <p:nvPicPr>
            <p:cNvPr id="100" name="Picture 10" descr="04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21319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3" descr="Image0252"/>
            <p:cNvPicPr/>
            <p:nvPr/>
          </p:nvPicPr>
          <p:blipFill>
            <a:blip r:embed="rId2"/>
            <a:stretch/>
          </p:blipFill>
          <p:spPr>
            <a:xfrm>
              <a:off x="3047760" y="3733920"/>
              <a:ext cx="5333760" cy="287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от самый праведник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3"/>
          <p:cNvPicPr/>
          <p:nvPr/>
        </p:nvPicPr>
        <p:blipFill>
          <a:blip r:embed="rId1"/>
          <a:stretch/>
        </p:blipFill>
        <p:spPr>
          <a:xfrm>
            <a:off x="762120" y="1066680"/>
            <a:ext cx="7507080" cy="5035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609480" y="6156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епродукция картины В.Е.Попк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Хороший человек была бабка Анисья», 197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5742000" y="1445760"/>
            <a:ext cx="329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д эти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трогим сельсоветом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д эти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тадом у мост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д вс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таринны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Белым светом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Я клянусь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уша моя чиста..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усть он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танется чист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 конц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 тихого крест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Закли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7231680" y="61722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.Ру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5"/>
          <p:cNvPicPr/>
          <p:nvPr/>
        </p:nvPicPr>
        <p:blipFill>
          <a:blip r:embed="rId1"/>
          <a:stretch/>
        </p:blipFill>
        <p:spPr>
          <a:xfrm>
            <a:off x="2895480" y="1523880"/>
            <a:ext cx="2957760" cy="3810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91440" y="1445400"/>
            <a:ext cx="3503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 конц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 тихого крест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усть душ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танется чиста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д эт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кромн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Захолустн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торон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Болотистой моей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д жнив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елестной и грустно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дни осенних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Горестных дождей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838080"/>
            <a:ext cx="86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очитайте 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ак  и  поселился  я  у  Матрёны  Васильевны. Комнаты мы не делили. Её кровать была в дверном углу у печки, а я свою раскладушку развернул у окна и, оттесняя от света любимые Матрёнины фикусы, ещё у одного окна поставил столик.  Электричество же в деревне  было – его ещё в двадцатые годы подтянули от Шатуры. В газетах писали тогда "лампочки Ильича", а мужики, глаза тараща, говорили: "Царь Огонь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ожет,  кому из  деревни,  кто  побогаче,  изба Матрёны  и не  казалась доброжилой, нам же с ней в ту осень  и  зиму вполне была хороша: от дождей она ещё не протекала  и  ветрами студёными выдувало из нее печное грево не сразу, лишь под утро, особенно тогда, когда дул ветер с прохудившейся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роме Матрёны  и  меня, жили в избе еще – кошка, мыши  и  тараканы. Кошка была  немолода,  а главное – колченога.  Она  из  жалости  была  Матрёной   подобрана  и   прижилась. Хотя она   и  ходила на  четырех  ногах,  но сильно прихрамывала: одну ногу она  берегла, больная была  н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838080"/>
            <a:ext cx="8686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ыполните задание А1 – А5 с выбором одного правильного отв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1. Определите жанр произведения, из которого взят фрагмен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) рассказ, Б) повесть, В) быль, Г) ром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2. Какое место занимает фрагмент в произвед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) является экспозицией, Б) завершает повествов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) является кульминацией сюжета, Г) является кульминацией сюжетного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3. Главной темой данного фрагмента 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) образ жизни рассказчика, Б) дом Матрё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) внешность Матрёны, Г) при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4. Почему Матрёна приютила кош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) из материальных соображений, Б) из жал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) от нечего делать, Г) из любви к живо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5. С какой целью в данном фрагменте приводится описание избы Матрёны? А) показать её незаурядность, непохожесть на друг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Б) сопоставить Матрёну с рассказчи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) раскрыть характер героини, Г) заинтересовать чи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80880" y="152388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знакомить учащихся с историей написания расск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анализировать особенности проблемат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мочь понять характер главной герои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сознать нравственные уроки расск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явить уровень умения анализировать фрагмент эпического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40804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838080"/>
            <a:ext cx="8229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ыполните задание В1 - В5 с развёрнутым отве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1. Какое художественное изобразительно-выразительное средство помогает автору описать героиню и выразить своё отношение к ней: «изба доброжилая», «любимые фикусы», «с прохудившейся стороны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2. Какое художественное изобразительно-выразительное средство использует автор в предложении: «В газетах писали тогда «лампочки Ильича», а мужики, глаза тараща, говорили: «Царь Огонь!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3. Назовите средство создания образа героя, строящееся на описании его жилища: «Комнаты мы не делили…» и да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4. Напишите название любимого растения геро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5. Каким эпитетом характеризуется кошка Матрё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7920" y="1371600"/>
          <a:ext cx="6080040" cy="914400"/>
        </p:xfrm>
        <a:graphic>
          <a:graphicData uri="http://schemas.openxmlformats.org/drawingml/2006/table">
            <a:tbl>
              <a:tblPr/>
              <a:tblGrid>
                <a:gridCol w="1216080"/>
                <a:gridCol w="1215720"/>
                <a:gridCol w="1216080"/>
                <a:gridCol w="1216080"/>
                <a:gridCol w="1216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3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3200400"/>
          <a:ext cx="8686800" cy="914400"/>
        </p:xfrm>
        <a:graphic>
          <a:graphicData uri="http://schemas.openxmlformats.org/drawingml/2006/table">
            <a:tbl>
              <a:tblPr/>
              <a:tblGrid>
                <a:gridCol w="1558800"/>
                <a:gridCol w="1914480"/>
                <a:gridCol w="1740240"/>
                <a:gridCol w="1736640"/>
                <a:gridCol w="1736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т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ир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ь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ус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чен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спользован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04920" y="30481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сточники иллюстра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33520" y="3735000"/>
            <a:ext cx="829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zlatoriza.ru/uploads/items/big/01-1038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ruslania.com/pictures/big/978591631086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687.yfrog.com/img687/5968/13symbols72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labirint.ru/images/comments_pic/1022/01labn517127540030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roza.ru/pics/2009/09/06/2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rt-penza.ru/images/stories/artpenza/Hudogniki/Chumak/Postupleniya_24_12_09/IMG_069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roza.ru/pics/2008/06/20/4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5508/19411616.b4/0_79ccc_2290101f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usiks.ucoz.ru/photo/pisateli/rubcov/file0547/32-0-5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3520" y="99072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ипедия — свободная энциклопедия  http://ru.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нова Н.А. Тесты по литературе в 11 классе. - М.: Экзамен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рова Н.В.Поурочные разработки по русской литературе в 11 классе. - М.: Вако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рова Н.В. Литературоведческий анализ произведений русской литературы в 10-11 классе. - М.: Вако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ассказа: http://sch69.narod.ru/raz/1/271/mdvo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057400" y="45720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й сердце, имей душу, и будешь человек во всякое врем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548680" y="1600200"/>
            <a:ext cx="29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.И.Фонви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981080" y="2286000"/>
            <a:ext cx="6705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иния, разделяющая добро и зло, проходит не между государствами, не между классами, не между партиями, - она проходит через каждое человеческое сердце - и черезо все человеческие серд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326560" y="5867280"/>
            <a:ext cx="32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А.Солжениц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Тема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308480" cy="5333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304920" y="1941480"/>
            <a:ext cx="419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центре произведения - жизнь патриархального села, где отражается, как процветающие эгоизм и хищность обезображивают Рос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80880" y="5105520"/>
            <a:ext cx="4038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то ещё из российских писателей обращался к этой тем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История соз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121932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«Матрёнин двор» — второй из опубликованных в журнале «Новый мир» рассказов Александра Исаевича Солженицы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«Основополагающей вещью» всей русской «деревенской» литературы назвал это произведение литературовед Андрей Синявс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вторское название рассказа — «Не стоит село без праведника». Название «Матрёнин двор» предложено Александром Твардовским перед публикацией и утверждено в ходе редакционного обсуждения 26 ноября 1962 го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«Название не должно быть таким назидательным», — аргументировал Твардовский. «Да, не везёт мне у вас с названиями», — отозвался, впрочем довольно добродушно, Солженицы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5638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опоставьте оба наз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 чём вы видите главное отлич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Смысл названия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19810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ссийское село держится на людях, чей образ жизни основан на общечеловеческих ценностях добра, труда, сочувствия, помо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57200" y="419112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равственные начала имеют чёткие границы только в границах Матрёниного двора, в более широком масштабе села они размыты, окружающие героиню люди часто очень сильно отличаются от неё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04920" y="1295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«Не стоит село без праведн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3505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Изба М"/>
          <p:cNvPicPr/>
          <p:nvPr/>
        </p:nvPicPr>
        <p:blipFill>
          <a:blip r:embed="rId1"/>
          <a:srcRect l="3159" t="16041" r="5151" b="3260"/>
          <a:stretch/>
        </p:blipFill>
        <p:spPr>
          <a:xfrm>
            <a:off x="6781680" y="1143000"/>
            <a:ext cx="1935360" cy="4952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6607080" y="621648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ёна Васильевна Захарова (1956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304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Автобиографический характер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3520" y="1676520"/>
            <a:ext cx="8245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звестно, что этот рассказ полностью автобиографичен и достоверен. Жизнь Матрёны Васильевны Захаровой и смерть её воспроизведены как быль. Истинное название деревни — Мильцево, Курловского района, Владимирской обла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4920" y="3349800"/>
            <a:ext cx="4876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ак вы думае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сключает 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втобиографичность расск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осприятие обр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главной герои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ак типического характ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03"/>
          <p:cNvPicPr/>
          <p:nvPr/>
        </p:nvPicPr>
        <p:blipFill>
          <a:blip r:embed="rId1"/>
          <a:stretch/>
        </p:blipFill>
        <p:spPr>
          <a:xfrm>
            <a:off x="5257800" y="3124080"/>
            <a:ext cx="34290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Судьба главной геро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Изба М"/>
          <p:cNvPicPr/>
          <p:nvPr/>
        </p:nvPicPr>
        <p:blipFill>
          <a:blip r:embed="rId1"/>
          <a:srcRect l="3159" t="7347" r="5151" b="3260"/>
          <a:stretch/>
        </p:blipFill>
        <p:spPr>
          <a:xfrm>
            <a:off x="6853320" y="1143000"/>
            <a:ext cx="1935000" cy="5486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Изба М"/>
          <p:cNvPicPr/>
          <p:nvPr/>
        </p:nvPicPr>
        <p:blipFill>
          <a:blip r:embed="rId2"/>
          <a:stretch/>
        </p:blipFill>
        <p:spPr>
          <a:xfrm>
            <a:off x="304920" y="1143000"/>
            <a:ext cx="6400800" cy="3943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80880" y="5791320"/>
            <a:ext cx="617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зба Матрёны Васильевны Захаров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деревне Мильцево Владимир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Georgia"/>
              </a:rPr>
              <a:t>Судьба главной геро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1295280"/>
            <a:ext cx="609624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центре внимания писателя судьба деревенской женщины Матрёны Васильевны, которая всю жизнь проработала в совхоз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динокая, потерявшая на фронте мужа, похоронившая шестерых детей женщина много страданий претерпела от советской власти, всю жизнь работала не покладая рук, но так ничего за свой труд и не получи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Лекарством от всех недугов, тоски и отчаяния для Матрёны был труд. Переж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0" t="6385" r="0" b="0"/>
          <a:stretch/>
        </p:blipFill>
        <p:spPr>
          <a:xfrm>
            <a:off x="6477120" y="1371600"/>
            <a:ext cx="2390760" cy="3352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380880" y="4648320"/>
            <a:ext cx="847404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а своём веку множество испытаний, Матрёна Григорьева сумела сохранить общительный нрав и способность откликаться на чужую бе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   “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Лоб её недолго оставался омрачённым...”: Матрёна умеет прощать людям, не таит обиды на судьбу. Для неё нормальное состояние - не злоба и воинственность, а доброта и смир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 Степанова</cp:lastModifiedBy>
  <dcterms:modified xsi:type="dcterms:W3CDTF">2020-04-02T17:21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