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3.jpeg" ContentType="image/jpeg"/>
  <Override PartName="/ppt/media/image15.jpeg" ContentType="image/jpeg"/>
  <Override PartName="/ppt/media/image14.jpeg" ContentType="image/jpeg"/>
  <Override PartName="/ppt/media/image1.wmf" ContentType="image/x-wmf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png" ContentType="image/png"/>
  <Override PartName="/ppt/media/image10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818C2-DF63-4560-BB4C-F7B43ADB3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BA0EE-7E92-4397-9044-C7925D534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03533-B0B6-47ED-8AFE-611D403C9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5AB03-33FA-4C48-9DB7-D1396FFAC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E3019-BD97-44B2-B26A-2121D39F8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8CE11-1E3C-44C3-9CD9-4EFE56F11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CA326-6EBC-48C8-A0D6-544310063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B73DA-E342-4AB6-8C68-9A9C37CA8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B91CC-2494-4C4C-A30D-364A5BD51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279B8-F91C-4E00-907F-17E399F92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01A9B-CD0E-4C78-98C3-A298B7BBD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5CC0C-26B1-4E27-A23B-C2C531E16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3F5EA-FEEB-4F8A-8F8B-C8BEBA16805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zlatoriza.ru/uploads/items/big/01-10388.jpg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5"/>
          <p:cNvSpPr/>
          <p:nvPr/>
        </p:nvSpPr>
        <p:spPr>
          <a:xfrm>
            <a:off x="304920" y="762120"/>
            <a:ext cx="861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0000"/>
                </a:solidFill>
                <a:uFillTx/>
                <a:latin typeface="Georgia"/>
              </a:rPr>
              <a:t>Не стоит село без праведника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6"/>
          <p:cNvSpPr/>
          <p:nvPr/>
        </p:nvSpPr>
        <p:spPr>
          <a:xfrm>
            <a:off x="0" y="2209680"/>
            <a:ext cx="914400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Georgia"/>
              </a:rPr>
              <a:t>ЧИТАЕМ И ОБСУЖДАЕМ РАССКА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Georgia"/>
              </a:rPr>
              <a:t>А.И.Солженицы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Georgia"/>
              </a:rPr>
              <a:t>«Матрёнин двор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4"/>
          <p:cNvSpPr/>
          <p:nvPr/>
        </p:nvSpPr>
        <p:spPr>
          <a:xfrm>
            <a:off x="0" y="30492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0000"/>
                </a:solidFill>
                <a:uFillTx/>
                <a:latin typeface="Georgia"/>
              </a:rPr>
              <a:t>Идея и проблематика рассказ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5"/>
          <p:cNvSpPr/>
          <p:nvPr/>
        </p:nvSpPr>
        <p:spPr>
          <a:xfrm>
            <a:off x="228600" y="1143000"/>
            <a:ext cx="8534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подчинены одной цели - раскрыть красоту души Матрёны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"/>
          <p:cNvSpPr/>
          <p:nvPr/>
        </p:nvSpPr>
        <p:spPr>
          <a:xfrm>
            <a:off x="0" y="18288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Иде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7"/>
          <p:cNvSpPr/>
          <p:nvPr/>
        </p:nvSpPr>
        <p:spPr>
          <a:xfrm>
            <a:off x="228600" y="2438280"/>
            <a:ext cx="8534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на примере судьбы деревенской женщины показать, что жизненные потери и страдания только ярче проявляют меру человеческого в каждом из люде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8"/>
          <p:cNvSpPr/>
          <p:nvPr/>
        </p:nvSpPr>
        <p:spPr>
          <a:xfrm>
            <a:off x="0" y="38098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Проблематик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9"/>
          <p:cNvSpPr/>
          <p:nvPr/>
        </p:nvSpPr>
        <p:spPr>
          <a:xfrm>
            <a:off x="304920" y="4495680"/>
            <a:ext cx="853416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Русская деревня начала 50-х годов 20 века, её жизнь, обычаи, нравы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Взаимоотношения власти и человека-труженик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Карающая сила любв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Особая святость помыслов героини 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2"/>
          <p:cNvSpPr/>
          <p:nvPr/>
        </p:nvSpPr>
        <p:spPr>
          <a:xfrm>
            <a:off x="0" y="30492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0000"/>
                </a:solidFill>
                <a:uFillTx/>
                <a:latin typeface="Georgia"/>
              </a:rPr>
              <a:t>Композиция рассказ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228600" y="1143000"/>
            <a:ext cx="8534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А.И.Солженицын разделил свой рассказ на три част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7"/>
          <p:cNvSpPr/>
          <p:nvPr/>
        </p:nvSpPr>
        <p:spPr>
          <a:xfrm>
            <a:off x="304920" y="2743200"/>
            <a:ext cx="8534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Русская деревня начала 50-х годов 20 века, её жизнь, обычаи, нравы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Жизнь и судьба героини рассказ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Уроки нравственност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8"/>
          <p:cNvSpPr/>
          <p:nvPr/>
        </p:nvSpPr>
        <p:spPr>
          <a:xfrm>
            <a:off x="380880" y="1676520"/>
            <a:ext cx="8382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Georgia"/>
              </a:rPr>
              <a:t>Как бы вы озаглавил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Georgia"/>
              </a:rPr>
              <a:t>композиционные части рассказ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1" descr="06"/>
          <p:cNvPicPr/>
          <p:nvPr/>
        </p:nvPicPr>
        <p:blipFill>
          <a:blip r:embed="rId1"/>
          <a:stretch/>
        </p:blipFill>
        <p:spPr>
          <a:xfrm>
            <a:off x="3581280" y="4191120"/>
            <a:ext cx="1905120" cy="24588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9" descr="01"/>
          <p:cNvPicPr/>
          <p:nvPr/>
        </p:nvPicPr>
        <p:blipFill>
          <a:blip r:embed="rId2"/>
          <a:stretch/>
        </p:blipFill>
        <p:spPr>
          <a:xfrm>
            <a:off x="6934320" y="4191120"/>
            <a:ext cx="1868400" cy="24382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3" descr="03"/>
          <p:cNvPicPr/>
          <p:nvPr/>
        </p:nvPicPr>
        <p:blipFill>
          <a:blip r:embed="rId3"/>
          <a:stretch/>
        </p:blipFill>
        <p:spPr>
          <a:xfrm>
            <a:off x="380880" y="4191120"/>
            <a:ext cx="190512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4"/>
          <p:cNvSpPr/>
          <p:nvPr/>
        </p:nvSpPr>
        <p:spPr>
          <a:xfrm>
            <a:off x="0" y="30492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0000"/>
                </a:solidFill>
                <a:uFillTx/>
                <a:latin typeface="Georgia"/>
              </a:rPr>
              <a:t>Не стоит село без праведника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304920" y="5638680"/>
            <a:ext cx="8381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Georgia"/>
              </a:rPr>
              <a:t>Прав ли Солженицын, называя отнюдь не идеальную Матрёну праведницей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6"/>
          <p:cNvSpPr/>
          <p:nvPr/>
        </p:nvSpPr>
        <p:spPr>
          <a:xfrm>
            <a:off x="380880" y="1143000"/>
            <a:ext cx="85345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4680" indent="-274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ПРАВЕДНИК 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человек с чистой совестью и душой (В.И.Даль«Толковый словарь живого великорусского языка»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праведно живущий; во всем по закону Божью поступающий, безгрешник; человек, ни в чём не погрешающий против правил нравственности, морали  (С.И.Ожегов «Толковый словарь русского языка»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тот, кто во всём руководствуется принципами справедливости, честности, не нарушает правил нравственности («Академический словарь русского языка»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4" descr="2"/>
          <p:cNvPicPr/>
          <p:nvPr/>
        </p:nvPicPr>
        <p:blipFill>
          <a:blip r:embed="rId1"/>
          <a:stretch/>
        </p:blipFill>
        <p:spPr>
          <a:xfrm>
            <a:off x="609480" y="990720"/>
            <a:ext cx="7786800" cy="522288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6"/>
          <p:cNvSpPr/>
          <p:nvPr/>
        </p:nvSpPr>
        <p:spPr>
          <a:xfrm>
            <a:off x="533520" y="6216480"/>
            <a:ext cx="784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Репродукция картины В.Е.Попкова «Старость», 1969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7"/>
          <p:cNvSpPr/>
          <p:nvPr/>
        </p:nvSpPr>
        <p:spPr>
          <a:xfrm>
            <a:off x="0" y="15228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0000"/>
                </a:solidFill>
                <a:uFillTx/>
                <a:latin typeface="Georgia"/>
              </a:rPr>
              <a:t>В чём праведность Матрёны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2"/>
          <p:cNvSpPr/>
          <p:nvPr/>
        </p:nvSpPr>
        <p:spPr>
          <a:xfrm>
            <a:off x="0" y="30492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0000"/>
                </a:solidFill>
                <a:uFillTx/>
                <a:latin typeface="Georgia"/>
              </a:rPr>
              <a:t>Не стоит село без праведника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304920" y="1295280"/>
            <a:ext cx="8534160" cy="54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Моральные качества Матрёны Григорьевны, такие как честность, терпение, отсутствие зависти, позволяют нам считать её праведницей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Автор отмечает простоту и неприметность героини и в то же время исходящий от неё внутренний свет, добавляя, что она “всегда... обезоруживала лучезарной улыбкой”. К тому же, она живёт по правилам, которые считает непоколебимыми, то есть, по своей правде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Праведность Матрёны основана на безразличии к материальным ценностям. Героиня не предаётся греху гордыни, умеет быть благодарной за каждый прожитый миг, довольствуется тем, что у неё есть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После смерти Матрёны многие её укоряли: “...и нечистоплотная была, и за обзаводком не гналась, и не бережная; ...и глупая, помогала чужим бесплатно”, и лишь Игнатьич встал на её сторону, осознав её моральные принципы: “Все мы жили рядом с ней и не поняли, что есть она тот самый праведник, без которого, по пословице, не стоит село, ни город, ни вся земля наша...”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5"/>
          <p:cNvSpPr/>
          <p:nvPr/>
        </p:nvSpPr>
        <p:spPr>
          <a:xfrm>
            <a:off x="0" y="30492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0000"/>
                </a:solidFill>
                <a:uFillTx/>
                <a:latin typeface="Georgia"/>
              </a:rPr>
              <a:t>Нравственный идеал писател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9"/>
          <p:cNvSpPr/>
          <p:nvPr/>
        </p:nvSpPr>
        <p:spPr>
          <a:xfrm>
            <a:off x="228600" y="1143000"/>
            <a:ext cx="85345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Праведница Матрёна - нравственный идеал писателя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По А.И.Солженицыну, «смысл земного существования - не в благоденствии, а в развитии души». Солженицын продолжает одну из главных традиций русской литературы, согласно которой писатель видит своё назначение в проповедовании истины, духовности, в необходимости ставить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«вечные» вопросы и искать на них ответ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Group 14"/>
          <p:cNvGrpSpPr/>
          <p:nvPr/>
        </p:nvGrpSpPr>
        <p:grpSpPr>
          <a:xfrm>
            <a:off x="914400" y="3733920"/>
            <a:ext cx="7467120" cy="2895480"/>
            <a:chOff x="914400" y="3733920"/>
            <a:chExt cx="7467120" cy="2895480"/>
          </a:xfrm>
        </p:grpSpPr>
        <p:pic>
          <p:nvPicPr>
            <p:cNvPr id="100" name="Picture 10" descr="04"/>
            <p:cNvPicPr/>
            <p:nvPr/>
          </p:nvPicPr>
          <p:blipFill>
            <a:blip r:embed="rId1"/>
            <a:stretch/>
          </p:blipFill>
          <p:spPr>
            <a:xfrm>
              <a:off x="914400" y="3733920"/>
              <a:ext cx="2131920" cy="289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" name="Picture 13" descr="Image0252"/>
            <p:cNvPicPr/>
            <p:nvPr/>
          </p:nvPicPr>
          <p:blipFill>
            <a:blip r:embed="rId2"/>
            <a:stretch/>
          </p:blipFill>
          <p:spPr>
            <a:xfrm>
              <a:off x="3047760" y="3733920"/>
              <a:ext cx="5333760" cy="28782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4"/>
          <p:cNvSpPr/>
          <p:nvPr/>
        </p:nvSpPr>
        <p:spPr>
          <a:xfrm>
            <a:off x="0" y="30492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0000"/>
                </a:solidFill>
                <a:uFillTx/>
                <a:latin typeface="Georgia"/>
              </a:rPr>
              <a:t>Тот самый праведник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2" descr="3"/>
          <p:cNvPicPr/>
          <p:nvPr/>
        </p:nvPicPr>
        <p:blipFill>
          <a:blip r:embed="rId1"/>
          <a:stretch/>
        </p:blipFill>
        <p:spPr>
          <a:xfrm>
            <a:off x="762120" y="1066680"/>
            <a:ext cx="7507080" cy="503568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6"/>
          <p:cNvSpPr/>
          <p:nvPr/>
        </p:nvSpPr>
        <p:spPr>
          <a:xfrm>
            <a:off x="609480" y="6156360"/>
            <a:ext cx="784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Репродукция картины В.Е.Попков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«Хороший человек была бабка Анисья», 1973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5"/>
          <p:cNvSpPr/>
          <p:nvPr/>
        </p:nvSpPr>
        <p:spPr>
          <a:xfrm>
            <a:off x="5742000" y="1445760"/>
            <a:ext cx="329436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Перед этим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Строгим сельсоветом,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Перед этим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Стадом у моста,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Перед всем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Старинным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Белым светом,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Я клянусь,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Душа моя чиста...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Пусть она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Останется чиста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До конца,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До тихого креста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0" y="30492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0000"/>
                </a:solidFill>
                <a:uFillTx/>
                <a:latin typeface="Georgia"/>
              </a:rPr>
              <a:t>Заклин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7"/>
          <p:cNvSpPr/>
          <p:nvPr/>
        </p:nvSpPr>
        <p:spPr>
          <a:xfrm>
            <a:off x="7231680" y="6172200"/>
            <a:ext cx="154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Н.Рубц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8" descr="05"/>
          <p:cNvPicPr/>
          <p:nvPr/>
        </p:nvPicPr>
        <p:blipFill>
          <a:blip r:embed="rId1"/>
          <a:stretch/>
        </p:blipFill>
        <p:spPr>
          <a:xfrm>
            <a:off x="2895480" y="1523880"/>
            <a:ext cx="2957760" cy="381024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4"/>
          <p:cNvSpPr/>
          <p:nvPr/>
        </p:nvSpPr>
        <p:spPr>
          <a:xfrm>
            <a:off x="91440" y="1445400"/>
            <a:ext cx="350316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До конца,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До тихого креста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Пусть душа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Останется чиста!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Перед этой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Скромной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Захолустной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Стороной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Болотистой моей,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Перед жнивой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Прелестной и грустной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В дни осенних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Горестных дождей,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4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0000"/>
                </a:solidFill>
                <a:uFillTx/>
                <a:latin typeface="Georgia"/>
              </a:rPr>
              <a:t>ТЕС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228600" y="838080"/>
            <a:ext cx="868680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Прочитайте текс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Так  и  поселился  я  у  Матрёны  Васильевны. Комнаты мы не делили. Её кровать была в дверном углу у печки, а я свою раскладушку развернул у окна и, оттесняя от света любимые Матрёнины фикусы, ещё у одного окна поставил столик.  Электричество же в деревне  было – его ещё в двадцатые годы подтянули от Шатуры. В газетах писали тогда "лампочки Ильича", а мужики, глаза тараща, говорили: "Царь Огонь!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Может,  кому из  деревни,  кто  побогаче,  изба Матрёны  и не  казалась доброжилой, нам же с ней в ту осень  и  зиму вполне была хороша: от дождей она ещё не протекала  и  ветрами студёными выдувало из нее печное грево не сразу, лишь под утро, особенно тогда, когда дул ветер с прохудившейся сторо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Кроме Матрёны  и  меня, жили в избе еще – кошка, мыши  и  тараканы. Кошка была  немолода,  а главное – колченога.  Она  из  жалости  была  Матрёной   подобрана  и   прижилась. Хотя она   и  ходила на  четырех  ногах,  но сильно прихрамывала: одну ногу она  берегла, больная была  ног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2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0000"/>
                </a:solidFill>
                <a:uFillTx/>
                <a:latin typeface="Georgia"/>
              </a:rPr>
              <a:t>ТЕС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228600" y="838080"/>
            <a:ext cx="8686800" cy="64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Выполните задание А1 – А5 с выбором одного правильного ответ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А1. Определите жанр произведения, из которого взят фрагмент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А) рассказ, Б) повесть, В) быль, Г) рома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А2. Какое место занимает фрагмент в произведении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А) является экспозицией, Б) завершает повествование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В) является кульминацией сюжета, Г) является кульминацией сюжетного действ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А3. Главной темой данного фрагмента является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А) образ жизни рассказчика, Б) дом Матрёны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В) внешность Матрёны, Г) приро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А4. Почему Матрёна приютила кошку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А) из материальных соображений, Б) из жалост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В) от нечего делать, Г) из любви к животны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А5. С какой целью в данном фрагменте приводится описание избы Матрёны? А) показать её незаурядность, непохожесть на других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Б) сопоставить Матрёну с рассказчиком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В) раскрыть характер героини, Г) заинтересовать читател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6"/>
          <p:cNvSpPr/>
          <p:nvPr/>
        </p:nvSpPr>
        <p:spPr>
          <a:xfrm>
            <a:off x="0" y="38088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0000"/>
                </a:solidFill>
                <a:uFillTx/>
                <a:latin typeface="Georgia"/>
              </a:rPr>
              <a:t>Цел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380880" y="1523880"/>
            <a:ext cx="85345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познакомить учащихся с историей написания рассказ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проанализировать особенности проблематик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помочь понять характер главной героин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осознать нравственные уроки рассказ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выявить уровень умения анализировать фрагмент эпического произвед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8" descr=""/>
          <p:cNvPicPr/>
          <p:nvPr/>
        </p:nvPicPr>
        <p:blipFill>
          <a:blip r:embed="rId1"/>
          <a:stretch/>
        </p:blipFill>
        <p:spPr>
          <a:xfrm>
            <a:off x="3505320" y="3962520"/>
            <a:ext cx="2408040" cy="267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2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0000"/>
                </a:solidFill>
                <a:uFillTx/>
                <a:latin typeface="Georgia"/>
              </a:rPr>
              <a:t>ТЕС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380880" y="838080"/>
            <a:ext cx="822960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Выполните задание В1 - В5 с развёрнутым ответом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В1. Какое художественное изобразительно-выразительное средство помогает автору описать героиню и выразить своё отношение к ней: «изба доброжилая», «любимые фикусы», «с прохудившейся стороны»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В2. Какое художественное изобразительно-выразительное средство использует автор в предложении: «В газетах писали тогда «лампочки Ильича», а мужики, глаза тараща, говорили: «Царь Огонь!»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В3. Назовите средство создания образа героя, строящееся на описании его жилища: «Комнаты мы не делили…» и дале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В4. Напишите название любимого растения герои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В5. Каким эпитетом характеризуется кошка Матрёны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4"/>
          <p:cNvSpPr/>
          <p:nvPr/>
        </p:nvSpPr>
        <p:spPr>
          <a:xfrm>
            <a:off x="0" y="2286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0000"/>
                </a:solidFill>
                <a:uFillTx/>
                <a:latin typeface="Georgia"/>
              </a:rPr>
              <a:t>Проверь себ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1447920" y="1371600"/>
          <a:ext cx="6080040" cy="914400"/>
        </p:xfrm>
        <a:graphic>
          <a:graphicData uri="http://schemas.openxmlformats.org/drawingml/2006/table">
            <a:tbl>
              <a:tblPr/>
              <a:tblGrid>
                <a:gridCol w="1216080"/>
                <a:gridCol w="1215720"/>
                <a:gridCol w="1216080"/>
                <a:gridCol w="1216080"/>
                <a:gridCol w="12160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А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А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А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А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А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8" name="Rectangle 32"/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228600" y="3200400"/>
          <a:ext cx="8686800" cy="914400"/>
        </p:xfrm>
        <a:graphic>
          <a:graphicData uri="http://schemas.openxmlformats.org/drawingml/2006/table">
            <a:tbl>
              <a:tblPr/>
              <a:tblGrid>
                <a:gridCol w="1558800"/>
                <a:gridCol w="1914480"/>
                <a:gridCol w="1740240"/>
                <a:gridCol w="1736640"/>
                <a:gridCol w="17366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пите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итирова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терье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кусы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ченог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4"/>
          <p:cNvSpPr/>
          <p:nvPr/>
        </p:nvSpPr>
        <p:spPr>
          <a:xfrm>
            <a:off x="304920" y="30492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Bookman Old Style"/>
              </a:rPr>
              <a:t>Использованный материа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5"/>
          <p:cNvSpPr/>
          <p:nvPr/>
        </p:nvSpPr>
        <p:spPr>
          <a:xfrm>
            <a:off x="304920" y="3048120"/>
            <a:ext cx="84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Bookman Old Style"/>
              </a:rPr>
              <a:t>Источники иллюстраций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7"/>
          <p:cNvSpPr/>
          <p:nvPr/>
        </p:nvSpPr>
        <p:spPr>
          <a:xfrm>
            <a:off x="533520" y="3735000"/>
            <a:ext cx="8299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zlatoriza.ru/uploads/items/big/01-10388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www.ruslania.com/pictures/big/9785916310863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img687.yfrog.com/img687/5968/13symbols72i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img.labirint.ru/images/comments_pic/1022/01labn5171275400305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www.proza.ru/pics/2009/09/06/203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www.art-penza.ru/images/stories/artpenza/Hudogniki/Chumak/Postupleniya_24_12_09/IMG_0694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www.proza.ru/pics/2008/06/20/470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img-fotki.yandex.ru/get/5508/19411616.b4/0_79ccc_2290101f_X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tusiks.ucoz.ru/photo/pisateli/rubcov/file0547/32-0-5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8"/>
          <p:cNvSpPr/>
          <p:nvPr/>
        </p:nvSpPr>
        <p:spPr>
          <a:xfrm>
            <a:off x="533520" y="990720"/>
            <a:ext cx="82296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икипедия — свободная энциклопедия  http://ru.wikipe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иронова Н.А. Тесты по литературе в 11 классе. - М.: Экзамен, 200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горова Н.В.Поурочные разработки по русской литературе в 11 классе. - М.: Вако, 2007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горова Н.В. Литературоведческий анализ произведений русской литературы в 10-11 классе. - М.: Вако, 2007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нализ рассказа: http://sch69.narod.ru/raz/1/271/mdvor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4"/>
          <p:cNvSpPr/>
          <p:nvPr/>
        </p:nvSpPr>
        <p:spPr>
          <a:xfrm>
            <a:off x="2057400" y="457200"/>
            <a:ext cx="6705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Имей сердце, имей душу, и будешь человек во всякое время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5"/>
          <p:cNvSpPr/>
          <p:nvPr/>
        </p:nvSpPr>
        <p:spPr>
          <a:xfrm>
            <a:off x="5548680" y="1600200"/>
            <a:ext cx="293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Georgia"/>
              </a:rPr>
              <a:t>Д.И.Фонвизи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6"/>
          <p:cNvSpPr/>
          <p:nvPr/>
        </p:nvSpPr>
        <p:spPr>
          <a:xfrm>
            <a:off x="1981080" y="2286000"/>
            <a:ext cx="6705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…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линия, разделяющая добро и зло, проходит не между государствами, не между классами, не между партиями, - она проходит через каждое человеческое сердце - и черезо все человеческие сердца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7"/>
          <p:cNvSpPr/>
          <p:nvPr/>
        </p:nvSpPr>
        <p:spPr>
          <a:xfrm>
            <a:off x="5326560" y="5867280"/>
            <a:ext cx="324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Georgia"/>
              </a:rPr>
              <a:t>А.Солженицы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4"/>
          <p:cNvSpPr/>
          <p:nvPr/>
        </p:nvSpPr>
        <p:spPr>
          <a:xfrm>
            <a:off x="0" y="30492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0000"/>
                </a:solidFill>
                <a:uFillTx/>
                <a:latin typeface="Georgia"/>
              </a:rPr>
              <a:t>Тема рассказ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8" descr=""/>
          <p:cNvPicPr/>
          <p:nvPr/>
        </p:nvPicPr>
        <p:blipFill>
          <a:blip r:embed="rId1"/>
          <a:stretch/>
        </p:blipFill>
        <p:spPr>
          <a:xfrm>
            <a:off x="4572000" y="1219320"/>
            <a:ext cx="4308480" cy="5333760"/>
          </a:xfrm>
          <a:prstGeom prst="rect">
            <a:avLst/>
          </a:prstGeom>
          <a:ln w="0">
            <a:noFill/>
          </a:ln>
        </p:spPr>
      </p:pic>
      <p:sp>
        <p:nvSpPr>
          <p:cNvPr id="52" name="Text Box 12"/>
          <p:cNvSpPr/>
          <p:nvPr/>
        </p:nvSpPr>
        <p:spPr>
          <a:xfrm>
            <a:off x="304920" y="1941480"/>
            <a:ext cx="41907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В центре произведения - жизнь патриархального села, где отражается, как процветающие эгоизм и хищность обезображивают Росс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3"/>
          <p:cNvSpPr/>
          <p:nvPr/>
        </p:nvSpPr>
        <p:spPr>
          <a:xfrm>
            <a:off x="380880" y="5105520"/>
            <a:ext cx="40388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Georgia"/>
              </a:rPr>
              <a:t>Кто ещё из российских писателей обращался к этой тем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4"/>
          <p:cNvSpPr/>
          <p:nvPr/>
        </p:nvSpPr>
        <p:spPr>
          <a:xfrm>
            <a:off x="0" y="30492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0000"/>
                </a:solidFill>
                <a:uFillTx/>
                <a:latin typeface="Georgia"/>
              </a:rPr>
              <a:t>История созд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304920" y="1219320"/>
            <a:ext cx="845820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«Матрёнин двор» — второй из опубликованных в журнале «Новый мир» рассказов Александра Исаевича Солженицын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«Основополагающей вещью» всей русской «деревенской» литературы назвал это произведение литературовед Андрей Синявски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Авторское название рассказа — «Не стоит село без праведника». Название «Матрёнин двор» предложено Александром Твардовским перед публикацией и утверждено в ходе редакционного обсуждения 26 ноября 1962 года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«Название не должно быть таким назидательным», — аргументировал Твардовский. «Да, не везёт мне у вас с названиями», — отозвался, впрочем довольно добродушно, Солженицын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6"/>
          <p:cNvSpPr/>
          <p:nvPr/>
        </p:nvSpPr>
        <p:spPr>
          <a:xfrm>
            <a:off x="0" y="563868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Georgia"/>
              </a:rPr>
              <a:t>Сопоставьте оба назван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Georgia"/>
              </a:rPr>
              <a:t>В чём вы видите главное отличи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4"/>
          <p:cNvSpPr/>
          <p:nvPr/>
        </p:nvSpPr>
        <p:spPr>
          <a:xfrm>
            <a:off x="0" y="30492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0000"/>
                </a:solidFill>
                <a:uFillTx/>
                <a:latin typeface="Georgia"/>
              </a:rPr>
              <a:t>Смысл названия рассказ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457200" y="1981080"/>
            <a:ext cx="6172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Российское село держится на людях, чей образ жизни основан на общечеловеческих ценностях добра, труда, сочувствия, помощ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457200" y="4191120"/>
            <a:ext cx="6095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Нравственные начала имеют чёткие границы только в границах Матрёниного двора, в более широком масштабе села они размыты, окружающие героиню люди часто очень сильно отличаются от неё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7"/>
          <p:cNvSpPr/>
          <p:nvPr/>
        </p:nvSpPr>
        <p:spPr>
          <a:xfrm>
            <a:off x="304920" y="1295280"/>
            <a:ext cx="63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Georgia"/>
              </a:rPr>
              <a:t>«Не стоит село без праведник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9"/>
          <p:cNvSpPr/>
          <p:nvPr/>
        </p:nvSpPr>
        <p:spPr>
          <a:xfrm>
            <a:off x="0" y="3505320"/>
            <a:ext cx="670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Georgia"/>
              </a:rPr>
              <a:t>«Матрёнин двор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10" descr="Изба М"/>
          <p:cNvPicPr/>
          <p:nvPr/>
        </p:nvPicPr>
        <p:blipFill>
          <a:blip r:embed="rId1"/>
          <a:srcRect l="3159" t="16041" r="5151" b="3260"/>
          <a:stretch/>
        </p:blipFill>
        <p:spPr>
          <a:xfrm>
            <a:off x="6781680" y="1143000"/>
            <a:ext cx="1935360" cy="495288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11"/>
          <p:cNvSpPr/>
          <p:nvPr/>
        </p:nvSpPr>
        <p:spPr>
          <a:xfrm>
            <a:off x="6607080" y="6216480"/>
            <a:ext cx="253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трёна Васильевна Захарова (1956 год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4"/>
          <p:cNvSpPr/>
          <p:nvPr/>
        </p:nvSpPr>
        <p:spPr>
          <a:xfrm>
            <a:off x="0" y="30492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0000"/>
                </a:solidFill>
                <a:uFillTx/>
                <a:latin typeface="Georgia"/>
              </a:rPr>
              <a:t>Автобиографический характер рассказ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5"/>
          <p:cNvSpPr/>
          <p:nvPr/>
        </p:nvSpPr>
        <p:spPr>
          <a:xfrm>
            <a:off x="533520" y="1676520"/>
            <a:ext cx="824544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Известно, что этот рассказ полностью автобиографичен и достоверен. Жизнь Матрёны Васильевны Захаровой и смерть её воспроизведены как быль. Истинное название деревни — Мильцево, Курловского района, Владимирской области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6"/>
          <p:cNvSpPr/>
          <p:nvPr/>
        </p:nvSpPr>
        <p:spPr>
          <a:xfrm>
            <a:off x="304920" y="3349800"/>
            <a:ext cx="48765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Georgia"/>
              </a:rPr>
              <a:t>Как вы думаете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Georgia"/>
              </a:rPr>
              <a:t>исключает л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Georgia"/>
              </a:rPr>
              <a:t>автобиографичность рассказ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Georgia"/>
              </a:rPr>
              <a:t>восприятие образ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Georgia"/>
              </a:rPr>
              <a:t>главной героин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Georgia"/>
              </a:rPr>
              <a:t>как типического характер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7" descr="03"/>
          <p:cNvPicPr/>
          <p:nvPr/>
        </p:nvPicPr>
        <p:blipFill>
          <a:blip r:embed="rId1"/>
          <a:stretch/>
        </p:blipFill>
        <p:spPr>
          <a:xfrm>
            <a:off x="5257800" y="3124080"/>
            <a:ext cx="3429000" cy="35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2"/>
          <p:cNvSpPr/>
          <p:nvPr/>
        </p:nvSpPr>
        <p:spPr>
          <a:xfrm>
            <a:off x="0" y="30492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0000"/>
                </a:solidFill>
                <a:uFillTx/>
                <a:latin typeface="Georgia"/>
              </a:rPr>
              <a:t>Судьба главной героин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Изба М"/>
          <p:cNvPicPr/>
          <p:nvPr/>
        </p:nvPicPr>
        <p:blipFill>
          <a:blip r:embed="rId1"/>
          <a:srcRect l="3159" t="7347" r="5151" b="3260"/>
          <a:stretch/>
        </p:blipFill>
        <p:spPr>
          <a:xfrm>
            <a:off x="6853320" y="1143000"/>
            <a:ext cx="1935000" cy="54864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5" descr="Изба М"/>
          <p:cNvPicPr/>
          <p:nvPr/>
        </p:nvPicPr>
        <p:blipFill>
          <a:blip r:embed="rId2"/>
          <a:stretch/>
        </p:blipFill>
        <p:spPr>
          <a:xfrm>
            <a:off x="304920" y="1143000"/>
            <a:ext cx="6400800" cy="394344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6"/>
          <p:cNvSpPr/>
          <p:nvPr/>
        </p:nvSpPr>
        <p:spPr>
          <a:xfrm>
            <a:off x="380880" y="5791320"/>
            <a:ext cx="61722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Изба Матрёны Васильевны Захаровой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в деревне Мильцево Владимирской област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4"/>
          <p:cNvSpPr/>
          <p:nvPr/>
        </p:nvSpPr>
        <p:spPr>
          <a:xfrm>
            <a:off x="0" y="30492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0000"/>
                </a:solidFill>
                <a:uFillTx/>
                <a:latin typeface="Georgia"/>
              </a:rPr>
              <a:t>Судьба главной героин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5"/>
          <p:cNvSpPr/>
          <p:nvPr/>
        </p:nvSpPr>
        <p:spPr>
          <a:xfrm>
            <a:off x="380880" y="1295280"/>
            <a:ext cx="6096240" cy="371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В центре внимания писателя судьба деревенской женщины Матрёны Васильевны, которая всю жизнь проработала в совхозе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Одинокая, потерявшая на фронте мужа, похоронившая шестерых детей женщина много страданий претерпела от советской власти, всю жизнь работала не покладая рук, но так ничего за свой труд и не получила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Лекарством от всех недугов, тоски и отчаяния для Матрёны был труд. Пережи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rcRect l="0" t="6385" r="0" b="0"/>
          <a:stretch/>
        </p:blipFill>
        <p:spPr>
          <a:xfrm>
            <a:off x="6477120" y="1371600"/>
            <a:ext cx="2390760" cy="3352680"/>
          </a:xfrm>
          <a:prstGeom prst="rect">
            <a:avLst/>
          </a:prstGeom>
          <a:ln w="0">
            <a:noFill/>
          </a:ln>
        </p:spPr>
      </p:pic>
      <p:sp>
        <p:nvSpPr>
          <p:cNvPr id="75" name="Text Box 7"/>
          <p:cNvSpPr/>
          <p:nvPr/>
        </p:nvSpPr>
        <p:spPr>
          <a:xfrm>
            <a:off x="380880" y="4648320"/>
            <a:ext cx="8474040" cy="20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на своём веку множество испытаний, Матрёна Григорьева сумела сохранить общительный нрав и способность откликаться на чужую беду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       “</a:t>
            </a: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Лоб её недолго оставался омрачённым...”: Матрёна умеет прощать людям, не таит обиды на судьбу. Для неё нормальное состояние - не злоба и воинственность, а доброта и смирение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Галина Степанова</cp:lastModifiedBy>
  <dcterms:modified xsi:type="dcterms:W3CDTF">2020-04-02T17:21:36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