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0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6BF-65AF-44BB-A3EF-45B821D0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67C-717B-4B5C-BCED-3B178995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4F3-953E-462B-9FC2-DFA9E093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611-933A-465B-AA6B-9C2C6BB1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F96-EA93-486C-B809-CCB68A9F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989-BB60-48D4-8237-47BF77C0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59B-E59F-41AF-B6EE-C6049422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EC9-C13A-4F83-A972-E0C45DFC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EA3-49A2-426E-B9E7-BAB966B4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9EE-5BAC-4C1F-BA86-4CA24D75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193-2DC8-4782-A6B4-0DDC5F88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2E4-FE67-4113-96F0-ED60734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d9da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C385-3A02-49D3-A7C9-34AD97775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ОРМИРОВАНИЕ ФУНКЦИОНАЛЬНОЙ ГРАМОТНОСТИ НА УРОКАХ РУССКОГО ЯЗЫКА.</a:t>
            </a:r>
            <a:br>
              <a:rPr sz="4400"/>
            </a:br>
            <a:br>
              <a:rPr sz="66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br>
              <a:rPr sz="6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653440" y="4941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Фотка"/>
          <p:cNvPicPr/>
          <p:nvPr/>
        </p:nvPicPr>
        <p:blipFill>
          <a:blip r:embed="rId1"/>
          <a:stretch/>
        </p:blipFill>
        <p:spPr>
          <a:xfrm>
            <a:off x="0" y="4680"/>
            <a:ext cx="4525920" cy="329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IMG_0005"/>
          <p:cNvPicPr/>
          <p:nvPr/>
        </p:nvPicPr>
        <p:blipFill>
          <a:blip r:embed="rId2"/>
          <a:stretch/>
        </p:blipFill>
        <p:spPr>
          <a:xfrm>
            <a:off x="4618080" y="0"/>
            <a:ext cx="4525920" cy="329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0" y="3573360"/>
            <a:ext cx="4500720" cy="293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4716360" y="3573360"/>
            <a:ext cx="43196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34920" y="61920"/>
            <a:ext cx="9109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C:\Users\user\Desktop\мастер класс\словарные слова 2\36.jpg"/>
          <p:cNvPicPr/>
          <p:nvPr/>
        </p:nvPicPr>
        <p:blipFill>
          <a:blip r:embed="rId1"/>
          <a:stretch/>
        </p:blipFill>
        <p:spPr>
          <a:xfrm>
            <a:off x="60480" y="146160"/>
            <a:ext cx="4489200" cy="3143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C:\Users\user\Desktop\мастер класс\словарные слова 2\37.jpg"/>
          <p:cNvPicPr/>
          <p:nvPr/>
        </p:nvPicPr>
        <p:blipFill>
          <a:blip r:embed="rId2"/>
          <a:stretch/>
        </p:blipFill>
        <p:spPr>
          <a:xfrm>
            <a:off x="4638600" y="146160"/>
            <a:ext cx="4394160" cy="3114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C:\Users\user\Desktop\мастер класс\словарные слова 2\38.jpg"/>
          <p:cNvPicPr/>
          <p:nvPr/>
        </p:nvPicPr>
        <p:blipFill>
          <a:blip r:embed="rId3"/>
          <a:stretch/>
        </p:blipFill>
        <p:spPr>
          <a:xfrm>
            <a:off x="101520" y="3429000"/>
            <a:ext cx="4448160" cy="3114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C:\Users\user\Desktop\мастер класс\словарные слова 2\39.jpg"/>
          <p:cNvPicPr/>
          <p:nvPr/>
        </p:nvPicPr>
        <p:blipFill>
          <a:blip r:embed="rId4"/>
          <a:stretch/>
        </p:blipFill>
        <p:spPr>
          <a:xfrm>
            <a:off x="4638600" y="3397320"/>
            <a:ext cx="42735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826920" y="404640"/>
            <a:ext cx="81378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Calibri"/>
              </a:rPr>
              <a:t>Описание метода графических ассоци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1.Определить орфограм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2. Представить образ словарного слова и зарисовать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3. Выделить в образе запоминаемые бу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етод звуковых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(фонетических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ассоциац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52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вт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8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завтр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j0348283"/>
          <p:cNvPicPr/>
          <p:nvPr/>
        </p:nvPicPr>
        <p:blipFill>
          <a:blip r:embed="rId1"/>
          <a:stretch/>
        </p:blipFill>
        <p:spPr>
          <a:xfrm>
            <a:off x="7164360" y="3137040"/>
            <a:ext cx="16272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4"/>
          <p:cNvSpPr/>
          <p:nvPr/>
        </p:nvSpPr>
        <p:spPr>
          <a:xfrm>
            <a:off x="179280" y="189000"/>
            <a:ext cx="885672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юру подарил мн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А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– инж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 живут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то,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 п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то, у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ю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684360" y="476280"/>
            <a:ext cx="806436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Описание метода фонетических ассоци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Определить орфо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одобрать фонетическую ассоциацию к каждой орфограмме так, чтобы орфограммы гласные стояли под ударением, а орфограммы согласные четко звуч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ть и записать ключевую фразу, соединяющую по смыслу словарное слово и фонетические ассоци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8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бинирован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IMG_0001"/>
          <p:cNvPicPr/>
          <p:nvPr/>
        </p:nvPicPr>
        <p:blipFill>
          <a:blip r:embed="rId1"/>
          <a:stretch/>
        </p:blipFill>
        <p:spPr>
          <a:xfrm>
            <a:off x="2124000" y="1327320"/>
            <a:ext cx="5029200" cy="3912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692360" y="5661000"/>
            <a:ext cx="53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онезом запачкал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й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На Что Похожа Буква А В Картинках"/>
          <p:cNvPicPr/>
          <p:nvPr/>
        </p:nvPicPr>
        <p:blipFill>
          <a:blip r:embed="rId1"/>
          <a:stretch/>
        </p:blipFill>
        <p:spPr>
          <a:xfrm>
            <a:off x="179280" y="189000"/>
            <a:ext cx="88884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C:\Users\user\Desktop\мастер класс\словарные слова 2\16.jpg"/>
          <p:cNvPicPr/>
          <p:nvPr/>
        </p:nvPicPr>
        <p:blipFill>
          <a:blip r:embed="rId1"/>
          <a:stretch/>
        </p:blipFill>
        <p:spPr>
          <a:xfrm>
            <a:off x="539640" y="620640"/>
            <a:ext cx="3745080" cy="2611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C:\Users\user\Desktop\мастер класс\словарные слова 1\09.jpg"/>
          <p:cNvPicPr/>
          <p:nvPr/>
        </p:nvPicPr>
        <p:blipFill>
          <a:blip r:embed="rId2"/>
          <a:srcRect l="4635" t="52460" r="54596" b="9355"/>
          <a:stretch/>
        </p:blipFill>
        <p:spPr>
          <a:xfrm>
            <a:off x="5003640" y="620640"/>
            <a:ext cx="3772080" cy="2571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3"/>
          <a:stretch/>
        </p:blipFill>
        <p:spPr>
          <a:xfrm>
            <a:off x="2238480" y="3716280"/>
            <a:ext cx="36576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24000" y="1197000"/>
            <a:ext cx="849600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Функциональная грамот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пособность человека использовать все знания, умения и навыки для решения жизненных задач в различных сферах человеческой деятельности, общения и социальны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езультаты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вается эмоционально-образное мыш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ассоциативного метода способствует успешному запоминанию словарных с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шается интерес к обучению, учащиеся находятся в постоянном поиске, творческий процесс приносит радостные эмоции и удовольствие от работ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j0359235"/>
          <p:cNvPicPr/>
          <p:nvPr/>
        </p:nvPicPr>
        <p:blipFill>
          <a:blip r:embed="rId1"/>
          <a:stretch/>
        </p:blipFill>
        <p:spPr>
          <a:xfrm>
            <a:off x="7596360" y="5805360"/>
            <a:ext cx="91116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польз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енский Н.С. Обучение орфографии в школе.- М.: Владос, 1992.- 218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лева О.Л. Методические рекомендации к учебнику «Русский язык- 1 клас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югин И.Ю. Как запоминать слова- Д.: Сталкер, 1997.- 448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югин И.Ю. Как развивать хорошую память-Д.: Сталкер,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льгина В.П. Методическая копилка для учителя начальных классов- Р-на-Д.: Феникс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11280" y="549360"/>
            <a:ext cx="7848360" cy="60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функционально грамотной личности младшего шк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5"/>
                </a:solidFill>
                <a:latin typeface="Arial Narrow"/>
                <a:ea typeface="Times New Roman"/>
              </a:rPr>
              <a:t>1. Готовность взаимодействовать с окружающим миром, уверенная адапт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5"/>
                </a:solidFill>
                <a:latin typeface="Arial Narrow"/>
                <a:ea typeface="Times New Roman"/>
              </a:rPr>
              <a:t>2. Умение самостоятельно решать учебные и житейск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5"/>
                </a:solidFill>
                <a:latin typeface="Arial Narrow"/>
                <a:ea typeface="Times New Roman"/>
              </a:rPr>
              <a:t>3. Способность строить отношения в малой социальной группе, в частности — в школьном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5"/>
                </a:solidFill>
                <a:latin typeface="Arial Narrow"/>
                <a:ea typeface="Times New Roman"/>
              </a:rPr>
              <a:t>4. Владение навыками рефлексии, способность посмотреть на себя со стороны, оценить свою работ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684360" y="476280"/>
            <a:ext cx="806436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Компоненты функциональной грамо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ные компоненты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языков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гративные компонен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111115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коммуникативн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111115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читательск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111115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информационн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111115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общекультурн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826920" y="476280"/>
            <a:ext cx="79218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Языковая грамот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емление к развитию чувства языка, совершенствованию собственной языковой культу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есообразный отбор языковых средств для построения содержательных, связных и нормативно грамотных конструктов, как устных, так и письмен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товность к осознанию терминологических и понятийных характеристик системы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692280"/>
            <a:ext cx="7813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Орфографическая грамотность как компонент языковой грамот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ходить место орфограммы в слове и между словами на изученные пра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именять правила правопис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находить и исправлять орфографические и пунктуационные ошибки на изученные правила, опи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безошибочно списывать текст объемом 85 с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исать под диктовку тексты объемом 80 слов в соответствии с изученными правилами правопис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84360" y="981000"/>
            <a:ext cx="813564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кторы способствующие формированию грамо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1115"/>
                </a:solidFill>
                <a:latin typeface="Arial"/>
                <a:ea typeface="Times New Roman"/>
              </a:rPr>
              <a:t>Зрительный фактор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1115"/>
                </a:solidFill>
                <a:latin typeface="Arial"/>
                <a:ea typeface="Times New Roman"/>
              </a:rPr>
              <a:t>Слуховой факт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1115"/>
                </a:solidFill>
                <a:latin typeface="Arial"/>
                <a:ea typeface="Times New Roman"/>
              </a:rPr>
              <a:t>Рукодвигательный фактор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5120" y="274320"/>
            <a:ext cx="875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 графических ассоци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 запоминании написания словарного слова надо сделать рисунок, обозначающий само слово, и обыграть в нём запоминаемую букву. Она может быть большая или маленькая, печатная или письменная, любого шриф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G_0002"/>
          <p:cNvPicPr/>
          <p:nvPr/>
        </p:nvPicPr>
        <p:blipFill>
          <a:blip r:embed="rId1"/>
          <a:stretch/>
        </p:blipFill>
        <p:spPr>
          <a:xfrm>
            <a:off x="4618080" y="1700280"/>
            <a:ext cx="42019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4010040" cy="34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012680" y="4221000"/>
            <a:ext cx="6934320" cy="164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55440" y="255600"/>
            <a:ext cx="44546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17:05:14Z</dcterms:created>
  <dc:creator>ненадо</dc:creator>
  <dc:description/>
  <dc:language>en-US</dc:language>
  <cp:lastModifiedBy>user</cp:lastModifiedBy>
  <dcterms:modified xsi:type="dcterms:W3CDTF">2024-02-14T12:22:30Z</dcterms:modified>
  <cp:revision>52</cp:revision>
  <dc:subject/>
  <dc:title>Тема</dc:title>
</cp:coreProperties>
</file>