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B3A-F567-42B7-AA8D-3F5BEE32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49A-715A-4AD5-BE71-3804E72E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F1F-757B-4ABD-B600-4FC68945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010-FA44-4BC7-917E-71EE056E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D2A-F593-4753-B198-C601041F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0D1-617F-4EDF-982D-963E6CDD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D6A-3588-487D-BD0B-1EEA9FAF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9D3-C3E9-49A0-BCF2-58EBE01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C75-6A24-4403-85E9-F008EBD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31A-5535-4374-8510-9DAB2468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392-8285-4859-9727-473650C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BA7-FC41-4D84-B7A3-B99271A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9da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DAA-0EFF-4D3D-BD4B-D47BAA6CE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ОРМИРОВАНИЕ ФУНКЦИОНАЛЬНОЙ ГРАМОТНОСТИ НА УРОКАХ РУССКОГО ЯЗЫКА.</a:t>
            </a:r>
            <a:br>
              <a:rPr sz="4400"/>
            </a:br>
            <a:br>
              <a:rPr sz="66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6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653440" y="49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Фотка"/>
          <p:cNvPicPr/>
          <p:nvPr/>
        </p:nvPicPr>
        <p:blipFill>
          <a:blip r:embed="rId1"/>
          <a:stretch/>
        </p:blipFill>
        <p:spPr>
          <a:xfrm>
            <a:off x="0" y="4680"/>
            <a:ext cx="4525920" cy="329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IMG_0005"/>
          <p:cNvPicPr/>
          <p:nvPr/>
        </p:nvPicPr>
        <p:blipFill>
          <a:blip r:embed="rId2"/>
          <a:stretch/>
        </p:blipFill>
        <p:spPr>
          <a:xfrm>
            <a:off x="4618080" y="0"/>
            <a:ext cx="4525920" cy="329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0" y="3573360"/>
            <a:ext cx="4500720" cy="293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43196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34920" y="61920"/>
            <a:ext cx="9109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C:\Users\user\Desktop\мастер класс\словарные слова 2\36.jpg"/>
          <p:cNvPicPr/>
          <p:nvPr/>
        </p:nvPicPr>
        <p:blipFill>
          <a:blip r:embed="rId1"/>
          <a:stretch/>
        </p:blipFill>
        <p:spPr>
          <a:xfrm>
            <a:off x="60480" y="146160"/>
            <a:ext cx="4489200" cy="3143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C:\Users\user\Desktop\мастер класс\словарные слова 2\37.jpg"/>
          <p:cNvPicPr/>
          <p:nvPr/>
        </p:nvPicPr>
        <p:blipFill>
          <a:blip r:embed="rId2"/>
          <a:stretch/>
        </p:blipFill>
        <p:spPr>
          <a:xfrm>
            <a:off x="4638600" y="146160"/>
            <a:ext cx="4394160" cy="3114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C:\Users\user\Desktop\мастер класс\словарные слова 2\38.jpg"/>
          <p:cNvPicPr/>
          <p:nvPr/>
        </p:nvPicPr>
        <p:blipFill>
          <a:blip r:embed="rId3"/>
          <a:stretch/>
        </p:blipFill>
        <p:spPr>
          <a:xfrm>
            <a:off x="101520" y="3429000"/>
            <a:ext cx="4448160" cy="3114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C:\Users\user\Desktop\мастер класс\словарные слова 2\39.jpg"/>
          <p:cNvPicPr/>
          <p:nvPr/>
        </p:nvPicPr>
        <p:blipFill>
          <a:blip r:embed="rId4"/>
          <a:stretch/>
        </p:blipFill>
        <p:spPr>
          <a:xfrm>
            <a:off x="4638600" y="3397320"/>
            <a:ext cx="42735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404640"/>
            <a:ext cx="81378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Описание метода графических ассоци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1.Определить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2. Представить образ словарного слова и зарисоват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3. Выделить в образе запоминаемые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тод звуковых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фонетических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ассоциац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вт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8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завтр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j0348283"/>
          <p:cNvPicPr/>
          <p:nvPr/>
        </p:nvPicPr>
        <p:blipFill>
          <a:blip r:embed="rId1"/>
          <a:stretch/>
        </p:blipFill>
        <p:spPr>
          <a:xfrm>
            <a:off x="7164360" y="3137040"/>
            <a:ext cx="16272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179280" y="189000"/>
            <a:ext cx="885672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юру подарил мн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 инж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 живут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то,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 п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то, у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84360" y="476280"/>
            <a:ext cx="806436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Описание метода фонетических ассоци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пределить орф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добрать фонетическую ассоциацию к каждой орфограмме так, чтобы орфограммы гласные стояли под ударением, а орфограммы согласные четко зв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ть и записать ключевую фразу, соединяющую по смыслу словарное слово и фонетические ассоц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бинирован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MG_0001"/>
          <p:cNvPicPr/>
          <p:nvPr/>
        </p:nvPicPr>
        <p:blipFill>
          <a:blip r:embed="rId1"/>
          <a:stretch/>
        </p:blipFill>
        <p:spPr>
          <a:xfrm>
            <a:off x="2124000" y="1327320"/>
            <a:ext cx="5029200" cy="3912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692360" y="5661000"/>
            <a:ext cx="53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незом запачкал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й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На Что Похожа Буква А В Картинках"/>
          <p:cNvPicPr/>
          <p:nvPr/>
        </p:nvPicPr>
        <p:blipFill>
          <a:blip r:embed="rId1"/>
          <a:stretch/>
        </p:blipFill>
        <p:spPr>
          <a:xfrm>
            <a:off x="179280" y="189000"/>
            <a:ext cx="8888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C:\Users\user\Desktop\мастер класс\словарные слова 2\16.jpg"/>
          <p:cNvPicPr/>
          <p:nvPr/>
        </p:nvPicPr>
        <p:blipFill>
          <a:blip r:embed="rId1"/>
          <a:stretch/>
        </p:blipFill>
        <p:spPr>
          <a:xfrm>
            <a:off x="539640" y="620640"/>
            <a:ext cx="3745080" cy="261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:\Users\user\Desktop\мастер класс\словарные слова 1\09.jpg"/>
          <p:cNvPicPr/>
          <p:nvPr/>
        </p:nvPicPr>
        <p:blipFill>
          <a:blip r:embed="rId2"/>
          <a:srcRect l="4635" t="52460" r="54596" b="9355"/>
          <a:stretch/>
        </p:blipFill>
        <p:spPr>
          <a:xfrm>
            <a:off x="5003640" y="620640"/>
            <a:ext cx="3772080" cy="257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3"/>
          <a:stretch/>
        </p:blipFill>
        <p:spPr>
          <a:xfrm>
            <a:off x="2238480" y="3716280"/>
            <a:ext cx="365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24000" y="1197000"/>
            <a:ext cx="849600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ункциональная грамот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пособность человека использовать все знания, умения и навыки для решения жизненных задач в различных сферах человеческой деятельности, общения и социальны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зультаты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ется эмоционально-образное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ассоциативного метода способствует успешному запоминанию словарных 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ается интерес к обучению, учащиеся находятся в постоянном поиске, творческий процесс приносит радостные эмоции и удовольствие от работ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j0359235"/>
          <p:cNvPicPr/>
          <p:nvPr/>
        </p:nvPicPr>
        <p:blipFill>
          <a:blip r:embed="rId1"/>
          <a:stretch/>
        </p:blipFill>
        <p:spPr>
          <a:xfrm>
            <a:off x="7596360" y="5805360"/>
            <a:ext cx="91116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польз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й Н.С. Обучение орфографии в школе.- М.: Владос, 1992.- 21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лева О.Л. Методические рекомендации к учебнику «Русский язык- 1 клас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югин И.Ю. Как запоминать слова- Д.: Сталкер, 1997.- 44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югин И.Ю. Как развивать хорошую память-Д.: Сталкер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льгина В.П. Методическая копилка для учителя начальных классов- Р-на-Д.: Феник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11280" y="549360"/>
            <a:ext cx="7848360" cy="60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функционально грамотной личности младшего 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1. Готовность взаимодействовать с окружающим миром, уверенная адапт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2. Умение самостоятельно решать учебные и житейск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3. Способность строить отношения в малой социальной группе, в частности — в школьном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4. Владение навыками рефлексии, способность посмотреть на себя со стороны, оценить свою работ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84360" y="476280"/>
            <a:ext cx="806436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мпоненты функциональной грамо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ные компоненты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язык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ативные компон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коммуникативн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читательск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информационн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общекультурн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826920" y="476280"/>
            <a:ext cx="7921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Языковая грамот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мление к развитию чувства языка, совершенствованию собственной языковой куль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есообразный отбор языковых средств для построения содержательных, связных и нормативно грамотных конструктов, как устных, так и письме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ность к осознанию терминологических и понятийных характеристик системы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692280"/>
            <a:ext cx="7813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фографическая грамотность как компонент языковой грамот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ходить место орфограммы в слове и между словами на изученные пр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менять правила правопис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ходить и исправлять орфографические и пунктуационные ошибки на изученные правила, оп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безошибочно списывать текст объемом 85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исать под диктовку тексты объемом 80 слов в соответствии с изученными правилами правопис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981000"/>
            <a:ext cx="81356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ы способствующие формированию грамо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115"/>
                </a:solidFill>
                <a:latin typeface="Arial"/>
                <a:ea typeface="Times New Roman"/>
              </a:rPr>
              <a:t>Зрительный фактор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115"/>
                </a:solidFill>
                <a:latin typeface="Arial"/>
                <a:ea typeface="Times New Roman"/>
              </a:rPr>
              <a:t>Слуховой факт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115"/>
                </a:solidFill>
                <a:latin typeface="Arial"/>
                <a:ea typeface="Times New Roman"/>
              </a:rPr>
              <a:t>Рукодвигательный фактор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5120" y="274320"/>
            <a:ext cx="875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графических ассоци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запоминании написания словарного слова надо сделать рисунок, обозначающий само слово, и обыграть в нём запоминаемую букву. Она может быть большая или маленькая, печатная или письменная, любого шриф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G_0002"/>
          <p:cNvPicPr/>
          <p:nvPr/>
        </p:nvPicPr>
        <p:blipFill>
          <a:blip r:embed="rId1"/>
          <a:stretch/>
        </p:blipFill>
        <p:spPr>
          <a:xfrm>
            <a:off x="4618080" y="1700280"/>
            <a:ext cx="42019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010040" cy="34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012680" y="4221000"/>
            <a:ext cx="6934320" cy="164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55440" y="255600"/>
            <a:ext cx="44546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7:05:14Z</dcterms:created>
  <dc:creator>ненадо</dc:creator>
  <dc:description/>
  <dc:language>en-US</dc:language>
  <cp:lastModifiedBy>user</cp:lastModifiedBy>
  <dcterms:modified xsi:type="dcterms:W3CDTF">2024-02-14T12:22:30Z</dcterms:modified>
  <cp:revision>52</cp:revision>
  <dc:subject/>
  <dc:title>Тема</dc:title>
</cp:coreProperties>
</file>