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10.png" ContentType="image/png"/>
  <Override PartName="/ppt/media/image27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059-6135-4F8A-BB12-6275E64A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FAF-9D78-4422-92F3-836FD1DB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EE0-D7C9-44B4-A037-A7FBC6AA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680-660D-47DF-90D6-25D8FAB4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F23-3711-4001-87AA-7D2258E0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81FA-F655-4486-B484-5E2E6D81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B25-0086-47DE-855B-E77EA944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DF6-AFFC-461E-97DF-50CFFD2B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C799-CB3F-4EC0-9254-29FF6546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F06-F047-425F-88FE-764038EB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B97A-1B6D-43AB-B8A8-878D52E5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27B6-9BA4-4F7D-8436-42311F5D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69E3-AB67-47A3-B72C-2B52DCE10F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4.xml"/><Relationship Id="rId11" Type="http://schemas.openxmlformats.org/officeDocument/2006/relationships/slide" Target="slide26.xml"/><Relationship Id="rId12" Type="http://schemas.openxmlformats.org/officeDocument/2006/relationships/slide" Target="slide28.xml"/><Relationship Id="rId13" Type="http://schemas.openxmlformats.org/officeDocument/2006/relationships/slide" Target="slide30.xml"/><Relationship Id="rId14" Type="http://schemas.openxmlformats.org/officeDocument/2006/relationships/slide" Target="slide32.xml"/><Relationship Id="rId15" Type="http://schemas.openxmlformats.org/officeDocument/2006/relationships/slide" Target="slide33.xml"/><Relationship Id="rId16" Type="http://schemas.openxmlformats.org/officeDocument/2006/relationships/slide" Target="slide35.xml"/><Relationship Id="rId17" Type="http://schemas.openxmlformats.org/officeDocument/2006/relationships/slide" Target="slide37.xml"/><Relationship Id="rId18" Type="http://schemas.openxmlformats.org/officeDocument/2006/relationships/slide" Target="slide39.xml"/><Relationship Id="rId19" Type="http://schemas.openxmlformats.org/officeDocument/2006/relationships/slide" Target="slide41.xml"/><Relationship Id="rId20" Type="http://schemas.openxmlformats.org/officeDocument/2006/relationships/slide" Target="slide43.xml"/><Relationship Id="rId21" Type="http://schemas.openxmlformats.org/officeDocument/2006/relationships/slide" Target="slide45.xml"/><Relationship Id="rId22" Type="http://schemas.openxmlformats.org/officeDocument/2006/relationships/slide" Target="slide47.xml"/><Relationship Id="rId23" Type="http://schemas.openxmlformats.org/officeDocument/2006/relationships/slide" Target="slide49.xml"/><Relationship Id="rId24" Type="http://schemas.openxmlformats.org/officeDocument/2006/relationships/slide" Target="slide51.xml"/><Relationship Id="rId25" Type="http://schemas.openxmlformats.org/officeDocument/2006/relationships/slide" Target="slide55.xml"/><Relationship Id="rId26" Type="http://schemas.openxmlformats.org/officeDocument/2006/relationships/slide" Target="slide56.xml"/><Relationship Id="rId27" Type="http://schemas.openxmlformats.org/officeDocument/2006/relationships/slide" Target="slide57.xml"/><Relationship Id="rId28" Type="http://schemas.openxmlformats.org/officeDocument/2006/relationships/slide" Target="slide58.xml"/><Relationship Id="rId29" Type="http://schemas.openxmlformats.org/officeDocument/2006/relationships/image" Target="../media/image10.png"/><Relationship Id="rId30" Type="http://schemas.openxmlformats.org/officeDocument/2006/relationships/image" Target="../media/image11.png"/><Relationship Id="rId3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 rot="21015600">
            <a:off x="1350720" y="2193480"/>
            <a:ext cx="6296040" cy="17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lin ang="5982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Викторин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ff0000"/>
                  </a:gs>
                </a:gsLst>
                <a:lin ang="5982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2" name="Picture 7" descr="20df76943c2a"/>
          <p:cNvPicPr/>
          <p:nvPr/>
        </p:nvPicPr>
        <p:blipFill>
          <a:blip r:embed="rId2"/>
          <a:stretch/>
        </p:blipFill>
        <p:spPr>
          <a:xfrm rot="1386600">
            <a:off x="1064880" y="244080"/>
            <a:ext cx="906480" cy="738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20df76943c2a"/>
          <p:cNvPicPr/>
          <p:nvPr/>
        </p:nvPicPr>
        <p:blipFill>
          <a:blip r:embed="rId3"/>
          <a:stretch/>
        </p:blipFill>
        <p:spPr>
          <a:xfrm rot="19021200">
            <a:off x="192240" y="328320"/>
            <a:ext cx="1008000" cy="785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042920" y="83664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Жанр   +   ошиб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539640" y="206064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раз мы с Мишкой вошли в зал, где у нас бывают уроки рисования. Борис Сергеевич сидел за своим синтезатором и что-то играл потихоньку. Мы с Мишкой сели на подоконник и не стали ему мешать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1042920" y="83664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Жанр   +   ошиб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539640" y="206064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раз мы с Мишкой вошли в зал, где у нас бывают урок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Борис Сергеевич сидел за своим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оял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что-то играл потихоньку. Мы с Мишкой сели на подоконник и не стали ему мешать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813800" y="5519160"/>
            <a:ext cx="576000" cy="576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5003640" y="4869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Arial"/>
              </a:rPr>
              <a:t>расс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2"/>
          <p:cNvSpPr/>
          <p:nvPr/>
        </p:nvSpPr>
        <p:spPr>
          <a:xfrm>
            <a:off x="539640" y="227664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оз и солнце; день прелестный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ще ты дремлешь, друг чудесный —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а, красавица, проснис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ой сомкнуты негой взор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стречу северной Авроры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ездою севера яв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1042920" y="83664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Жанр   +   ошиб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2"/>
          <p:cNvSpPr/>
          <p:nvPr/>
        </p:nvSpPr>
        <p:spPr>
          <a:xfrm>
            <a:off x="539640" y="213372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оз и солнце; ден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удес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ще ты дремлешь, друг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елест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а, красавица, проснис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ой сомкнуты негой взор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стречу северной Авроры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ездою севера яв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042920" y="83664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Жанр   +   ошиб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5003640" y="51577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Arial"/>
              </a:rPr>
              <a:t>стихотво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958160" y="573516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2783520" y="292428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уд – рыб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2236320" y="981000"/>
            <a:ext cx="49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СЛОВ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2236320" y="981000"/>
            <a:ext cx="49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СЛОВ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958160" y="57351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611280" y="2421000"/>
            <a:ext cx="78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з труда не выловишь и рыбку из п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236320" y="981000"/>
            <a:ext cx="49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СЛОВ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2284560" y="2852640"/>
            <a:ext cx="499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ица – журав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236320" y="981000"/>
            <a:ext cx="49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СЛОВ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958160" y="57351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468360" y="2637000"/>
            <a:ext cx="799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чше синица в руке, чем журавль в не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2236320" y="981000"/>
            <a:ext cx="49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СЛОВ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2141280" y="2852640"/>
            <a:ext cx="462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енья – умень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2236320" y="981000"/>
            <a:ext cx="49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СЛОВ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958160" y="57351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684360" y="2781360"/>
            <a:ext cx="779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з ученья – нет умен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7"/>
          <p:cNvSpPr/>
          <p:nvPr/>
        </p:nvSpPr>
        <p:spPr>
          <a:xfrm>
            <a:off x="4067280" y="1197000"/>
            <a:ext cx="27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Р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 rot="789000">
            <a:off x="4437360" y="4183200"/>
            <a:ext cx="171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Л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 rot="20668800">
            <a:off x="6543000" y="2828880"/>
            <a:ext cx="160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Т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 rot="20605800">
            <a:off x="1258560" y="1684800"/>
            <a:ext cx="167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Р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1124640" y="4005360"/>
            <a:ext cx="157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Т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2236320" y="981000"/>
            <a:ext cx="49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СЛОВ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2482920" y="2708280"/>
            <a:ext cx="413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тает – зна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958160" y="57351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468360" y="285264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много читает, тот много зна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2236320" y="981000"/>
            <a:ext cx="49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СЛОВ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"/>
          <p:cNvSpPr/>
          <p:nvPr/>
        </p:nvSpPr>
        <p:spPr>
          <a:xfrm>
            <a:off x="2340000" y="76500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ртр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Юлия\Desktop\03-09-2015-10-23-11-img1.jpg"/>
          <p:cNvPicPr/>
          <p:nvPr/>
        </p:nvPicPr>
        <p:blipFill>
          <a:blip r:embed="rId1"/>
          <a:stretch/>
        </p:blipFill>
        <p:spPr>
          <a:xfrm>
            <a:off x="2771640" y="1773360"/>
            <a:ext cx="3810240" cy="4390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958160" y="57351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2340000" y="90792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ртр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1857960" y="5589720"/>
            <a:ext cx="58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андр Сергеевич 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Users\Юлия\Desktop\03-09-2015-10-23-11-img1.jpg"/>
          <p:cNvPicPr/>
          <p:nvPr/>
        </p:nvPicPr>
        <p:blipFill>
          <a:blip r:embed="rId3"/>
          <a:stretch/>
        </p:blipFill>
        <p:spPr>
          <a:xfrm>
            <a:off x="3059280" y="1916280"/>
            <a:ext cx="3187440" cy="3673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268360" y="765000"/>
            <a:ext cx="46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ртр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" descr="C:\Users\Юлия\Desktop\Iiek7kK5UII.jpg"/>
          <p:cNvPicPr/>
          <p:nvPr/>
        </p:nvPicPr>
        <p:blipFill>
          <a:blip r:embed="rId1"/>
          <a:stretch/>
        </p:blipFill>
        <p:spPr>
          <a:xfrm>
            <a:off x="2700360" y="1700280"/>
            <a:ext cx="3672000" cy="4465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958160" y="57351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2340000" y="90792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ртр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C:\Users\Юлия\Desktop\Iiek7kK5UII.jpg"/>
          <p:cNvPicPr/>
          <p:nvPr/>
        </p:nvPicPr>
        <p:blipFill>
          <a:blip r:embed="rId3"/>
          <a:stretch/>
        </p:blipFill>
        <p:spPr>
          <a:xfrm>
            <a:off x="2987640" y="1773360"/>
            <a:ext cx="3240000" cy="39384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2047320" y="5661000"/>
            <a:ext cx="49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в Николаевич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4"/>
          <p:cNvSpPr/>
          <p:nvPr/>
        </p:nvSpPr>
        <p:spPr>
          <a:xfrm>
            <a:off x="2340000" y="90792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ртр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C:\Users\Юлия\Desktop\cf1160dc667340c32df32633f3a39b7a.jpg"/>
          <p:cNvPicPr/>
          <p:nvPr/>
        </p:nvPicPr>
        <p:blipFill>
          <a:blip r:embed="rId1"/>
          <a:stretch/>
        </p:blipFill>
        <p:spPr>
          <a:xfrm>
            <a:off x="1116000" y="1773360"/>
            <a:ext cx="6878520" cy="4097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958160" y="57351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2340000" y="90792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ртр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" descr="C:\Users\Юлия\Desktop\cf1160dc667340c32df32633f3a39b7a.jpg"/>
          <p:cNvPicPr/>
          <p:nvPr/>
        </p:nvPicPr>
        <p:blipFill>
          <a:blip r:embed="rId3"/>
          <a:stretch/>
        </p:blipFill>
        <p:spPr>
          <a:xfrm>
            <a:off x="1403280" y="1773360"/>
            <a:ext cx="6519960" cy="38829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1783440" y="5661000"/>
            <a:ext cx="56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хаил Юрьевич Лермо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2340000" y="76500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ртр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C:\Users\Юлия\Desktop\esenin.jpg"/>
          <p:cNvPicPr/>
          <p:nvPr/>
        </p:nvPicPr>
        <p:blipFill>
          <a:blip r:embed="rId1"/>
          <a:stretch/>
        </p:blipFill>
        <p:spPr>
          <a:xfrm>
            <a:off x="3132000" y="1700280"/>
            <a:ext cx="3168720" cy="4437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958160" y="57351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2340000" y="76500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Портр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C:\Users\Юлия\Desktop\esenin.jpg"/>
          <p:cNvPicPr/>
          <p:nvPr/>
        </p:nvPicPr>
        <p:blipFill>
          <a:blip r:embed="rId3"/>
          <a:stretch/>
        </p:blipFill>
        <p:spPr>
          <a:xfrm>
            <a:off x="3203640" y="1628640"/>
            <a:ext cx="2881080" cy="4032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3139560" y="5732640"/>
            <a:ext cx="30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гей Есе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8280360" cy="18730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И-ТЕ-РА-ТУ-Р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e76aee9fd656"/>
          <p:cNvPicPr/>
          <p:nvPr/>
        </p:nvPicPr>
        <p:blipFill>
          <a:blip r:embed="rId2"/>
          <a:srcRect l="0" t="0" r="-6543" b="0"/>
          <a:stretch/>
        </p:blipFill>
        <p:spPr>
          <a:xfrm>
            <a:off x="1187280" y="2133720"/>
            <a:ext cx="432000" cy="50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e76aee9fd656"/>
          <p:cNvPicPr/>
          <p:nvPr/>
        </p:nvPicPr>
        <p:blipFill>
          <a:blip r:embed="rId3"/>
          <a:srcRect l="0" t="0" r="0" b="-24938"/>
          <a:stretch/>
        </p:blipFill>
        <p:spPr>
          <a:xfrm>
            <a:off x="7093080" y="2060640"/>
            <a:ext cx="431640" cy="720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3564000" y="907920"/>
            <a:ext cx="25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Ум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468360" y="2421000"/>
            <a:ext cx="79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ый известный ведущий одной из вечерних детских переда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958160" y="57351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564000" y="907920"/>
            <a:ext cx="25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Ум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C:\Users\Юлия\Desktop\i.jpg"/>
          <p:cNvPicPr/>
          <p:nvPr/>
        </p:nvPicPr>
        <p:blipFill>
          <a:blip r:embed="rId3"/>
          <a:stretch/>
        </p:blipFill>
        <p:spPr>
          <a:xfrm>
            <a:off x="2195640" y="1773360"/>
            <a:ext cx="4968720" cy="36446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3862800" y="5516640"/>
            <a:ext cx="187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9194d"/>
                </a:solidFill>
                <a:latin typeface="Arial"/>
              </a:rPr>
              <a:t>Хрю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3"/>
          <p:cNvSpPr/>
          <p:nvPr/>
        </p:nvSpPr>
        <p:spPr>
          <a:xfrm>
            <a:off x="971640" y="1844640"/>
            <a:ext cx="70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19194d"/>
                </a:solidFill>
                <a:latin typeface="Monotype Corsiva"/>
              </a:rPr>
              <a:t>Джекпот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3564000" y="907920"/>
            <a:ext cx="25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Ум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611280" y="2205000"/>
            <a:ext cx="78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ой зверь обидел нечетное количество маленьких детише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3564000" y="907920"/>
            <a:ext cx="25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Ум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958160" y="57351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C:\Users\Юлия\Desktop\59984_900.jpg"/>
          <p:cNvPicPr/>
          <p:nvPr/>
        </p:nvPicPr>
        <p:blipFill>
          <a:blip r:embed="rId2"/>
          <a:stretch/>
        </p:blipFill>
        <p:spPr>
          <a:xfrm>
            <a:off x="2195640" y="177336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3924360" y="5445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9194d"/>
                </a:solidFill>
                <a:latin typeface="Arial"/>
              </a:rPr>
              <a:t>Вол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3564000" y="907920"/>
            <a:ext cx="25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Ум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611280" y="1844640"/>
            <a:ext cx="7921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им очень необычным транспортом воспользовался герой русской народной сказки, чтобы попасть во дворец к цар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3564000" y="765000"/>
            <a:ext cx="25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Ум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" descr="C:\Users\Юлия\Desktop\3241fb8565828048e6510df55a058a57.jpg"/>
          <p:cNvPicPr/>
          <p:nvPr/>
        </p:nvPicPr>
        <p:blipFill>
          <a:blip r:embed="rId2"/>
          <a:srcRect l="0" t="20397" r="0" b="0"/>
          <a:stretch/>
        </p:blipFill>
        <p:spPr>
          <a:xfrm>
            <a:off x="2771640" y="1557360"/>
            <a:ext cx="3600720" cy="3970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3851280" y="5516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9194d"/>
                </a:solidFill>
                <a:latin typeface="Arial"/>
              </a:rPr>
              <a:t>Ем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1547640" y="907920"/>
            <a:ext cx="60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Шкату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C:\Users\Юлия\Desktop\18-подснежник.jpg"/>
          <p:cNvPicPr/>
          <p:nvPr/>
        </p:nvPicPr>
        <p:blipFill>
          <a:blip r:embed="rId1"/>
          <a:stretch/>
        </p:blipFill>
        <p:spPr>
          <a:xfrm>
            <a:off x="2627280" y="1916280"/>
            <a:ext cx="417672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1547640" y="907920"/>
            <a:ext cx="60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Шкату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3"/>
          <p:cNvSpPr/>
          <p:nvPr/>
        </p:nvSpPr>
        <p:spPr>
          <a:xfrm>
            <a:off x="684360" y="242100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.Я. Марша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Двенадцать месяцев»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1547640" y="907920"/>
            <a:ext cx="60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Шкату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" descr="C:\Users\Юлия\Desktop\maxresdefault.jpg"/>
          <p:cNvPicPr/>
          <p:nvPr/>
        </p:nvPicPr>
        <p:blipFill>
          <a:blip r:embed="rId1"/>
          <a:srcRect l="0" t="0" r="0" b="-2797"/>
          <a:stretch/>
        </p:blipFill>
        <p:spPr>
          <a:xfrm>
            <a:off x="1835280" y="1844640"/>
            <a:ext cx="577980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8"/>
          <p:cNvSpPr/>
          <p:nvPr/>
        </p:nvSpPr>
        <p:spPr>
          <a:xfrm>
            <a:off x="826920" y="836640"/>
            <a:ext cx="7561440" cy="504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900000" y="1413000"/>
            <a:ext cx="748980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Представление коман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. Наз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2. Деви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e76aee9fd656"/>
          <p:cNvPicPr/>
          <p:nvPr/>
        </p:nvPicPr>
        <p:blipFill>
          <a:blip r:embed="rId2"/>
          <a:stretch/>
        </p:blipFill>
        <p:spPr>
          <a:xfrm>
            <a:off x="971640" y="907920"/>
            <a:ext cx="43164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e76aee9fd656"/>
          <p:cNvPicPr/>
          <p:nvPr/>
        </p:nvPicPr>
        <p:blipFill>
          <a:blip r:embed="rId3"/>
          <a:stretch/>
        </p:blipFill>
        <p:spPr>
          <a:xfrm>
            <a:off x="7451640" y="836640"/>
            <a:ext cx="406440" cy="57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1547640" y="907920"/>
            <a:ext cx="60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Шкату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3"/>
          <p:cNvSpPr/>
          <p:nvPr/>
        </p:nvSpPr>
        <p:spPr>
          <a:xfrm>
            <a:off x="971640" y="249228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.П.Баж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Серебряное копытц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1547640" y="907920"/>
            <a:ext cx="60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Шкату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Users\Юлия\Desktop\img.jpg"/>
          <p:cNvPicPr/>
          <p:nvPr/>
        </p:nvPicPr>
        <p:blipFill>
          <a:blip r:embed="rId1"/>
          <a:stretch/>
        </p:blipFill>
        <p:spPr>
          <a:xfrm>
            <a:off x="1619280" y="2060640"/>
            <a:ext cx="623556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1547640" y="907920"/>
            <a:ext cx="60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Шкату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900000" y="256536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М. Гарш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Лягушка-путешественниц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1547640" y="907920"/>
            <a:ext cx="60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Шкату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C:\Users\Юлия\Desktop\i.jpg"/>
          <p:cNvPicPr/>
          <p:nvPr/>
        </p:nvPicPr>
        <p:blipFill>
          <a:blip r:embed="rId1"/>
          <a:stretch/>
        </p:blipFill>
        <p:spPr>
          <a:xfrm>
            <a:off x="1763640" y="1773360"/>
            <a:ext cx="5832720" cy="3887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2"/>
          <p:cNvSpPr/>
          <p:nvPr/>
        </p:nvSpPr>
        <p:spPr>
          <a:xfrm>
            <a:off x="900000" y="270828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. И. Чуко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утаниц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1547640" y="907920"/>
            <a:ext cx="60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Шкату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3040560" y="98100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Ребу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C:\Users\Юлия\Desktop\03ad3f80-0e9b-46d5-831d-9def8110158f.jpg"/>
          <p:cNvPicPr/>
          <p:nvPr/>
        </p:nvPicPr>
        <p:blipFill>
          <a:blip r:embed="rId1"/>
          <a:stretch/>
        </p:blipFill>
        <p:spPr>
          <a:xfrm>
            <a:off x="611280" y="2276640"/>
            <a:ext cx="7710480" cy="2304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3040560" y="98100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Ребу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"/>
          <p:cNvSpPr/>
          <p:nvPr/>
        </p:nvSpPr>
        <p:spPr>
          <a:xfrm>
            <a:off x="1116000" y="234936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орозк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3040560" y="98100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Ребу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Users\Юлия\Desktop\03ad3f80-0e9b-46d5-831d-9def8110158f.jpg"/>
          <p:cNvPicPr/>
          <p:nvPr/>
        </p:nvPicPr>
        <p:blipFill>
          <a:blip r:embed="rId1"/>
          <a:stretch/>
        </p:blipFill>
        <p:spPr>
          <a:xfrm>
            <a:off x="684360" y="2133720"/>
            <a:ext cx="7823160" cy="280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3040560" y="98100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Ребу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"/>
          <p:cNvSpPr/>
          <p:nvPr/>
        </p:nvSpPr>
        <p:spPr>
          <a:xfrm>
            <a:off x="971640" y="249228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негуроч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3040560" y="98100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Ребу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C:\Users\Юлия\Desktop\img9.jpg"/>
          <p:cNvPicPr/>
          <p:nvPr/>
        </p:nvPicPr>
        <p:blipFill>
          <a:blip r:embed="rId1"/>
          <a:srcRect l="1890" t="32762" r="4554" b="28183"/>
          <a:stretch/>
        </p:blipFill>
        <p:spPr>
          <a:xfrm>
            <a:off x="539640" y="2205000"/>
            <a:ext cx="804888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84360" y="1052640"/>
          <a:ext cx="7777080" cy="4765680"/>
        </p:xfrm>
        <a:graphic>
          <a:graphicData uri="http://schemas.openxmlformats.org/drawingml/2006/table">
            <a:tbl>
              <a:tblPr/>
              <a:tblGrid>
                <a:gridCol w="2736720"/>
                <a:gridCol w="1295280"/>
                <a:gridCol w="1297080"/>
                <a:gridCol w="1295280"/>
                <a:gridCol w="1152720"/>
              </a:tblGrid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АН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ОВ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Р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НИ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 карточка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АТУЛ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У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ТЮМ</a:t>
                      </a:r>
                      <a:r>
                        <a:rPr b="1" lang="ru-RU" sz="2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*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pic>
        <p:nvPicPr>
          <p:cNvPr id="57" name="Picture 5" descr="20df76943c2a"/>
          <p:cNvPicPr/>
          <p:nvPr/>
        </p:nvPicPr>
        <p:blipFill>
          <a:blip r:embed="rId29"/>
          <a:stretch/>
        </p:blipFill>
        <p:spPr>
          <a:xfrm>
            <a:off x="0" y="249228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20df76943c2a"/>
          <p:cNvPicPr/>
          <p:nvPr/>
        </p:nvPicPr>
        <p:blipFill>
          <a:blip r:embed="rId30"/>
          <a:stretch/>
        </p:blipFill>
        <p:spPr>
          <a:xfrm>
            <a:off x="8136000" y="2421000"/>
            <a:ext cx="1008000" cy="1203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3040560" y="98100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Ребу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3"/>
          <p:cNvSpPr/>
          <p:nvPr/>
        </p:nvSpPr>
        <p:spPr>
          <a:xfrm>
            <a:off x="826920" y="2349360"/>
            <a:ext cx="72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ерем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3040560" y="98100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Ребу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C:\Users\Юлия\Desktop\26597333-rebusy-pro-ptic-v-kartinkah-s-otvetami.jpg"/>
          <p:cNvPicPr/>
          <p:nvPr/>
        </p:nvPicPr>
        <p:blipFill>
          <a:blip r:embed="rId1"/>
          <a:srcRect l="4420" t="0" r="988" b="0"/>
          <a:stretch/>
        </p:blipFill>
        <p:spPr>
          <a:xfrm>
            <a:off x="539640" y="1989000"/>
            <a:ext cx="792504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3040560" y="98100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Ребу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3"/>
          <p:cNvSpPr/>
          <p:nvPr/>
        </p:nvSpPr>
        <p:spPr>
          <a:xfrm>
            <a:off x="755640" y="256536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олуш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Users\Юлия\Desktop\леопольд1.jpg"/>
          <p:cNvPicPr/>
          <p:nvPr/>
        </p:nvPicPr>
        <p:blipFill>
          <a:blip r:embed="rId1"/>
          <a:stretch/>
        </p:blipFill>
        <p:spPr>
          <a:xfrm>
            <a:off x="611280" y="1557360"/>
            <a:ext cx="7800840" cy="37432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3"/>
          <p:cNvSpPr/>
          <p:nvPr/>
        </p:nvSpPr>
        <p:spPr>
          <a:xfrm>
            <a:off x="3112560" y="83664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Ребу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971640" y="278136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Леополь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3040560" y="98100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Ребу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кнопочка"/>
          <p:cNvPicPr/>
          <p:nvPr/>
        </p:nvPicPr>
        <p:blipFill>
          <a:blip r:embed="rId1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C:\Users\Юлия\Desktop\3839-znakomstva-v-cheboksare.jpg"/>
          <p:cNvPicPr/>
          <p:nvPr/>
        </p:nvPicPr>
        <p:blipFill>
          <a:blip r:embed="rId1"/>
          <a:stretch/>
        </p:blipFill>
        <p:spPr>
          <a:xfrm>
            <a:off x="5292720" y="2852640"/>
            <a:ext cx="3297240" cy="329904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2"/>
          <p:cNvSpPr/>
          <p:nvPr/>
        </p:nvSpPr>
        <p:spPr>
          <a:xfrm>
            <a:off x="2935080" y="907920"/>
            <a:ext cx="297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Костю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кнопочка"/>
          <p:cNvPicPr/>
          <p:nvPr/>
        </p:nvPicPr>
        <p:blipFill>
          <a:blip r:embed="rId2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4"/>
          <p:cNvSpPr/>
          <p:nvPr/>
        </p:nvSpPr>
        <p:spPr>
          <a:xfrm>
            <a:off x="684360" y="213372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ртивный костюм Василисы Прекрас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Users\Юлия\Desktop\cwhh572.jpg"/>
          <p:cNvPicPr/>
          <p:nvPr/>
        </p:nvPicPr>
        <p:blipFill>
          <a:blip r:embed="rId1"/>
          <a:stretch/>
        </p:blipFill>
        <p:spPr>
          <a:xfrm>
            <a:off x="4932360" y="2637000"/>
            <a:ext cx="3527280" cy="345600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1"/>
          <p:cNvSpPr/>
          <p:nvPr/>
        </p:nvSpPr>
        <p:spPr>
          <a:xfrm>
            <a:off x="2935080" y="907920"/>
            <a:ext cx="297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Костю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кнопочка"/>
          <p:cNvPicPr/>
          <p:nvPr/>
        </p:nvPicPr>
        <p:blipFill>
          <a:blip r:embed="rId2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"/>
          <p:cNvSpPr/>
          <p:nvPr/>
        </p:nvSpPr>
        <p:spPr>
          <a:xfrm>
            <a:off x="684360" y="1989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адебное платье Бабы Я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Users\Юлия\Desktop\i.jpg"/>
          <p:cNvPicPr/>
          <p:nvPr/>
        </p:nvPicPr>
        <p:blipFill>
          <a:blip r:embed="rId1"/>
          <a:stretch/>
        </p:blipFill>
        <p:spPr>
          <a:xfrm>
            <a:off x="5003640" y="2490840"/>
            <a:ext cx="3494160" cy="353052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1"/>
          <p:cNvSpPr/>
          <p:nvPr/>
        </p:nvSpPr>
        <p:spPr>
          <a:xfrm>
            <a:off x="2935080" y="907920"/>
            <a:ext cx="297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Костю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кнопочка"/>
          <p:cNvPicPr/>
          <p:nvPr/>
        </p:nvPicPr>
        <p:blipFill>
          <a:blip r:embed="rId2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3"/>
          <p:cNvSpPr/>
          <p:nvPr/>
        </p:nvSpPr>
        <p:spPr>
          <a:xfrm>
            <a:off x="826920" y="1916280"/>
            <a:ext cx="72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пальный костюм Колоб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Users\Юлия\Desktop\7b3f638s-960.jpg"/>
          <p:cNvPicPr/>
          <p:nvPr/>
        </p:nvPicPr>
        <p:blipFill>
          <a:blip r:embed="rId1"/>
          <a:stretch/>
        </p:blipFill>
        <p:spPr>
          <a:xfrm>
            <a:off x="3203640" y="2131920"/>
            <a:ext cx="5376960" cy="403560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1"/>
          <p:cNvSpPr/>
          <p:nvPr/>
        </p:nvSpPr>
        <p:spPr>
          <a:xfrm>
            <a:off x="2935080" y="907920"/>
            <a:ext cx="297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Костю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кнопочка"/>
          <p:cNvPicPr/>
          <p:nvPr/>
        </p:nvPicPr>
        <p:blipFill>
          <a:blip r:embed="rId2"/>
          <a:stretch/>
        </p:blipFill>
        <p:spPr>
          <a:xfrm flipH="1" rot="10776600">
            <a:off x="7886880" y="55908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684360" y="177336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имний костюм Водя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539640" y="22863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Жил старик со своею старух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У самого синего м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ни жили в мелкой землян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овно тридцать лет и два г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1042920" y="83664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Жанр   +   ошиб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813800" y="5519160"/>
            <a:ext cx="576000" cy="576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684360" y="234936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Жил старик со своею старух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У самого синего м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ни жили в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етхо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землян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овно тридцать лет 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р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г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042920" y="83664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Жанр   +   ошиб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5003640" y="4869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Arial"/>
              </a:rPr>
              <a:t>сказ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1042920" y="83664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Жанр   +   ошиб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468360" y="235908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194d"/>
                </a:solidFill>
                <a:latin typeface="Arial"/>
                <a:ea typeface="Times New Roman"/>
              </a:rPr>
              <a:t>Попрыгунья Стрек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194d"/>
                </a:solidFill>
                <a:latin typeface="Arial"/>
                <a:ea typeface="Times New Roman"/>
              </a:rPr>
              <a:t>Лето красное пропел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194d"/>
                </a:solidFill>
                <a:latin typeface="Arial"/>
                <a:ea typeface="Times New Roman"/>
              </a:rPr>
              <a:t>Оглянуться не успе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194d"/>
                </a:solidFill>
                <a:latin typeface="Arial"/>
                <a:ea typeface="Calibri"/>
              </a:rPr>
              <a:t>Как снег летит в гла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1042920" y="83664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9194d"/>
                </a:solidFill>
                <a:latin typeface="Monotype Corsiva"/>
              </a:rPr>
              <a:t>Жанр   +   ошиб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468360" y="235908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194d"/>
                </a:solidFill>
                <a:latin typeface="Arial"/>
                <a:ea typeface="Times New Roman"/>
              </a:rPr>
              <a:t>Попрыгунья Стрек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194d"/>
                </a:solidFill>
                <a:latin typeface="Arial"/>
                <a:ea typeface="Times New Roman"/>
              </a:rPr>
              <a:t>Лето красное пропел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194d"/>
                </a:solidFill>
                <a:latin typeface="Arial"/>
                <a:ea typeface="Times New Roman"/>
              </a:rPr>
              <a:t>Оглянуться не успе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194d"/>
                </a:solidFill>
                <a:latin typeface="Arial"/>
                <a:ea typeface="Calibri"/>
              </a:rPr>
              <a:t>Как </a:t>
            </a:r>
            <a:r>
              <a:rPr b="0" lang="ru-RU" sz="3600" spc="-1" strike="noStrike" u="sng">
                <a:solidFill>
                  <a:srgbClr val="19194d"/>
                </a:solidFill>
                <a:uFillTx/>
                <a:latin typeface="Arial"/>
                <a:ea typeface="Calibri"/>
              </a:rPr>
              <a:t>зима катит </a:t>
            </a:r>
            <a:r>
              <a:rPr b="0" lang="ru-RU" sz="3600" spc="-1" strike="noStrike">
                <a:solidFill>
                  <a:srgbClr val="19194d"/>
                </a:solidFill>
                <a:latin typeface="Arial"/>
                <a:ea typeface="Calibri"/>
              </a:rPr>
              <a:t>в гла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кнопоч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 rot="10776600">
            <a:off x="7813800" y="5519160"/>
            <a:ext cx="576000" cy="576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5003640" y="4869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Arial"/>
              </a:rPr>
              <a:t>бас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08:30:08Z</dcterms:created>
  <dc:creator>Администратор</dc:creator>
  <dc:description/>
  <dc:language>en-US</dc:language>
  <cp:lastModifiedBy>Юлия</cp:lastModifiedBy>
  <dcterms:modified xsi:type="dcterms:W3CDTF">2015-12-16T20:17:01Z</dcterms:modified>
  <cp:revision>45</cp:revision>
  <dc:subject/>
  <dc:title>Слайд 1</dc:title>
</cp:coreProperties>
</file>