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FE7-FCCC-4231-9139-2A66BC8F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25F-3614-4C68-96BF-E6A5EDA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EA9-6065-4F63-BCB5-E04FAED5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2BC-095B-4EEA-B3F0-D505AA81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1CB-69EB-4790-8E96-C854CC9A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9E3-24EF-4B09-81B2-68BDE69A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703-107B-4EFD-B5EA-C0817E1C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520-99E7-4BBA-9064-CB3A7C99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250-1211-4044-A47F-28DF2B75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5FC-87E2-437D-A4F3-99E924F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5BB-4868-4517-A3B9-A376E18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676-DCA9-4AA2-A2A8-37CFEC3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B04-7C45-40AB-A293-A155F94B3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5.xml"/><Relationship Id="rId26" Type="http://schemas.openxmlformats.org/officeDocument/2006/relationships/slide" Target="slide56.xml"/><Relationship Id="rId27" Type="http://schemas.openxmlformats.org/officeDocument/2006/relationships/slide" Target="slide57.xml"/><Relationship Id="rId28" Type="http://schemas.openxmlformats.org/officeDocument/2006/relationships/slide" Target="slide58.xml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 rot="21015600">
            <a:off x="1350720" y="2193480"/>
            <a:ext cx="629604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lin ang="598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Виктор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lin ang="598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7" descr="20df76943c2a"/>
          <p:cNvPicPr/>
          <p:nvPr/>
        </p:nvPicPr>
        <p:blipFill>
          <a:blip r:embed="rId2"/>
          <a:stretch/>
        </p:blipFill>
        <p:spPr>
          <a:xfrm rot="1386600">
            <a:off x="1064880" y="244080"/>
            <a:ext cx="906480" cy="73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df76943c2a"/>
          <p:cNvPicPr/>
          <p:nvPr/>
        </p:nvPicPr>
        <p:blipFill>
          <a:blip r:embed="rId3"/>
          <a:stretch/>
        </p:blipFill>
        <p:spPr>
          <a:xfrm rot="19021200">
            <a:off x="192240" y="328320"/>
            <a:ext cx="10080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539640" y="20606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раз мы с Мишкой вошли в зал, где у нас бывают уроки рисования. Борис Сергеевич сидел за своим синтезатором и что-то играл потихоньку. Мы с Мишкой сели на подоконник и не стали ему мешать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39640" y="206064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раз мы с Мишкой вошли в зал, где у нас бывают урок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орис Сергеевич сидел за свои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оял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что-то играл потихоньку. Мы с Мишкой сели на подоконник и не стали ему мешать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813800" y="551916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5003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539640" y="22766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и солнце; день прелестны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ты дремлешь, друг чудесный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, красавица, проснис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ой сомкнуты негой взо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стречу северной Аврор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ою севера яв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539640" y="213372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и солнце;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уд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ты дремлешь, друг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лест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, красавица, проснис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ой сомкнуты негой взо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стречу северной Аврор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ою севера яв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00364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783520" y="2924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уд – рыб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611280" y="242100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труда не выловишь и рыбку из п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284560" y="2852640"/>
            <a:ext cx="499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ица – журав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68360" y="263700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е синица в руке, чем журавль в н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2141280" y="285264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ья – умень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684360" y="2781360"/>
            <a:ext cx="77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ученья – нет ум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4067280" y="119700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Р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 rot="789000">
            <a:off x="4437360" y="4183200"/>
            <a:ext cx="171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 rot="20668800">
            <a:off x="6543000" y="2828880"/>
            <a:ext cx="160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 rot="20605800">
            <a:off x="1258560" y="1684800"/>
            <a:ext cx="167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124640" y="4005360"/>
            <a:ext cx="157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482920" y="2708280"/>
            <a:ext cx="41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ет – зн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468360" y="2852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много читает, тот много зн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2340000" y="765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Юлия\Desktop\03-09-2015-10-23-11-img1.jpg"/>
          <p:cNvPicPr/>
          <p:nvPr/>
        </p:nvPicPr>
        <p:blipFill>
          <a:blip r:embed="rId1"/>
          <a:stretch/>
        </p:blipFill>
        <p:spPr>
          <a:xfrm>
            <a:off x="2771640" y="1773360"/>
            <a:ext cx="3810240" cy="43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857960" y="558972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Юлия\Desktop\03-09-2015-10-23-11-img1.jpg"/>
          <p:cNvPicPr/>
          <p:nvPr/>
        </p:nvPicPr>
        <p:blipFill>
          <a:blip r:embed="rId3"/>
          <a:stretch/>
        </p:blipFill>
        <p:spPr>
          <a:xfrm>
            <a:off x="3059280" y="1916280"/>
            <a:ext cx="318744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268360" y="765000"/>
            <a:ext cx="46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Users\Юлия\Desktop\Iiek7kK5UII.jpg"/>
          <p:cNvPicPr/>
          <p:nvPr/>
        </p:nvPicPr>
        <p:blipFill>
          <a:blip r:embed="rId1"/>
          <a:stretch/>
        </p:blipFill>
        <p:spPr>
          <a:xfrm>
            <a:off x="2700360" y="1700280"/>
            <a:ext cx="367200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C:\Users\Юлия\Desktop\Iiek7kK5UII.jpg"/>
          <p:cNvPicPr/>
          <p:nvPr/>
        </p:nvPicPr>
        <p:blipFill>
          <a:blip r:embed="rId3"/>
          <a:stretch/>
        </p:blipFill>
        <p:spPr>
          <a:xfrm>
            <a:off x="2987640" y="1773360"/>
            <a:ext cx="3240000" cy="3938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2047320" y="5661000"/>
            <a:ext cx="49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Николаевич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C:\Users\Юлия\Desktop\cf1160dc667340c32df32633f3a39b7a.jpg"/>
          <p:cNvPicPr/>
          <p:nvPr/>
        </p:nvPicPr>
        <p:blipFill>
          <a:blip r:embed="rId1"/>
          <a:stretch/>
        </p:blipFill>
        <p:spPr>
          <a:xfrm>
            <a:off x="1116000" y="1773360"/>
            <a:ext cx="687852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C:\Users\Юлия\Desktop\cf1160dc667340c32df32633f3a39b7a.jpg"/>
          <p:cNvPicPr/>
          <p:nvPr/>
        </p:nvPicPr>
        <p:blipFill>
          <a:blip r:embed="rId3"/>
          <a:stretch/>
        </p:blipFill>
        <p:spPr>
          <a:xfrm>
            <a:off x="1403280" y="1773360"/>
            <a:ext cx="6519960" cy="38829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783440" y="5661000"/>
            <a:ext cx="56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340000" y="765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Юлия\Desktop\esenin.jpg"/>
          <p:cNvPicPr/>
          <p:nvPr/>
        </p:nvPicPr>
        <p:blipFill>
          <a:blip r:embed="rId1"/>
          <a:stretch/>
        </p:blipFill>
        <p:spPr>
          <a:xfrm>
            <a:off x="3132000" y="1700280"/>
            <a:ext cx="3168720" cy="4437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2340000" y="765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C:\Users\Юлия\Desktop\esenin.jpg"/>
          <p:cNvPicPr/>
          <p:nvPr/>
        </p:nvPicPr>
        <p:blipFill>
          <a:blip r:embed="rId3"/>
          <a:stretch/>
        </p:blipFill>
        <p:spPr>
          <a:xfrm>
            <a:off x="3203640" y="1628640"/>
            <a:ext cx="2881080" cy="403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3139560" y="5732640"/>
            <a:ext cx="30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1873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-ТЕ-РА-ТУ-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76aee9fd656"/>
          <p:cNvPicPr/>
          <p:nvPr/>
        </p:nvPicPr>
        <p:blipFill>
          <a:blip r:embed="rId2"/>
          <a:srcRect l="0" t="0" r="-6543" b="0"/>
          <a:stretch/>
        </p:blipFill>
        <p:spPr>
          <a:xfrm>
            <a:off x="1187280" y="2133720"/>
            <a:ext cx="43200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e76aee9fd656"/>
          <p:cNvPicPr/>
          <p:nvPr/>
        </p:nvPicPr>
        <p:blipFill>
          <a:blip r:embed="rId3"/>
          <a:srcRect l="0" t="0" r="0" b="-24938"/>
          <a:stretch/>
        </p:blipFill>
        <p:spPr>
          <a:xfrm>
            <a:off x="7093080" y="2060640"/>
            <a:ext cx="431640" cy="72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42100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й известный ведущий одной из вечерних детских переда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Users\Юлия\Desktop\i.jpg"/>
          <p:cNvPicPr/>
          <p:nvPr/>
        </p:nvPicPr>
        <p:blipFill>
          <a:blip r:embed="rId3"/>
          <a:stretch/>
        </p:blipFill>
        <p:spPr>
          <a:xfrm>
            <a:off x="2195640" y="1773360"/>
            <a:ext cx="4968720" cy="3644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862800" y="5516640"/>
            <a:ext cx="18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Хрю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971640" y="184464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9194d"/>
                </a:solidFill>
                <a:latin typeface="Monotype Corsiva"/>
              </a:rPr>
              <a:t>Джекпот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611280" y="220500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зверь обидел нечетное количество маленьких детише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C:\Users\Юлия\Desktop\59984_900.jpg"/>
          <p:cNvPicPr/>
          <p:nvPr/>
        </p:nvPicPr>
        <p:blipFill>
          <a:blip r:embed="rId2"/>
          <a:stretch/>
        </p:blipFill>
        <p:spPr>
          <a:xfrm>
            <a:off x="2195640" y="177336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3924360" y="5445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611280" y="1844640"/>
            <a:ext cx="792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м очень необычным транспортом воспользовался герой русской народной сказки, чтобы попасть во дворец к цар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3564000" y="76500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C:\Users\Юлия\Desktop\3241fb8565828048e6510df55a058a57.jpg"/>
          <p:cNvPicPr/>
          <p:nvPr/>
        </p:nvPicPr>
        <p:blipFill>
          <a:blip r:embed="rId2"/>
          <a:srcRect l="0" t="20397" r="0" b="0"/>
          <a:stretch/>
        </p:blipFill>
        <p:spPr>
          <a:xfrm>
            <a:off x="2771640" y="1557360"/>
            <a:ext cx="3600720" cy="3970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851280" y="5516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Ем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Users\Юлия\Desktop\18-подснежник.jpg"/>
          <p:cNvPicPr/>
          <p:nvPr/>
        </p:nvPicPr>
        <p:blipFill>
          <a:blip r:embed="rId1"/>
          <a:stretch/>
        </p:blipFill>
        <p:spPr>
          <a:xfrm>
            <a:off x="2627280" y="1916280"/>
            <a:ext cx="417672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684360" y="242100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венадцать месяцев»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C:\Users\Юлия\Desktop\maxresdefault.jpg"/>
          <p:cNvPicPr/>
          <p:nvPr/>
        </p:nvPicPr>
        <p:blipFill>
          <a:blip r:embed="rId1"/>
          <a:srcRect l="0" t="0" r="0" b="-2797"/>
          <a:stretch/>
        </p:blipFill>
        <p:spPr>
          <a:xfrm>
            <a:off x="1835280" y="1844640"/>
            <a:ext cx="577980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8"/>
          <p:cNvSpPr/>
          <p:nvPr/>
        </p:nvSpPr>
        <p:spPr>
          <a:xfrm>
            <a:off x="826920" y="836640"/>
            <a:ext cx="756144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00000" y="1413000"/>
            <a:ext cx="7489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Представление коман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. Наз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. Деви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e76aee9fd656"/>
          <p:cNvPicPr/>
          <p:nvPr/>
        </p:nvPicPr>
        <p:blipFill>
          <a:blip r:embed="rId2"/>
          <a:stretch/>
        </p:blipFill>
        <p:spPr>
          <a:xfrm>
            <a:off x="971640" y="907920"/>
            <a:ext cx="43164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e76aee9fd656"/>
          <p:cNvPicPr/>
          <p:nvPr/>
        </p:nvPicPr>
        <p:blipFill>
          <a:blip r:embed="rId3"/>
          <a:stretch/>
        </p:blipFill>
        <p:spPr>
          <a:xfrm>
            <a:off x="7451640" y="836640"/>
            <a:ext cx="406440" cy="57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971640" y="24922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.П.Баж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еребряное копытц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Юлия\Desktop\img.jpg"/>
          <p:cNvPicPr/>
          <p:nvPr/>
        </p:nvPicPr>
        <p:blipFill>
          <a:blip r:embed="rId1"/>
          <a:stretch/>
        </p:blipFill>
        <p:spPr>
          <a:xfrm>
            <a:off x="1619280" y="2060640"/>
            <a:ext cx="62355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900000" y="25653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М. Гар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ягушка-путешественн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Юлия\Desktop\i.jpg"/>
          <p:cNvPicPr/>
          <p:nvPr/>
        </p:nvPicPr>
        <p:blipFill>
          <a:blip r:embed="rId1"/>
          <a:stretch/>
        </p:blipFill>
        <p:spPr>
          <a:xfrm>
            <a:off x="1763640" y="1773360"/>
            <a:ext cx="583272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900000" y="270828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. И. Чу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тан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Юлия\Desktop\03ad3f80-0e9b-46d5-831d-9def8110158f.jpg"/>
          <p:cNvPicPr/>
          <p:nvPr/>
        </p:nvPicPr>
        <p:blipFill>
          <a:blip r:embed="rId1"/>
          <a:stretch/>
        </p:blipFill>
        <p:spPr>
          <a:xfrm>
            <a:off x="611280" y="2276640"/>
            <a:ext cx="7710480" cy="23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1116000" y="234936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розк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Юлия\Desktop\03ad3f80-0e9b-46d5-831d-9def8110158f.jpg"/>
          <p:cNvPicPr/>
          <p:nvPr/>
        </p:nvPicPr>
        <p:blipFill>
          <a:blip r:embed="rId1"/>
          <a:stretch/>
        </p:blipFill>
        <p:spPr>
          <a:xfrm>
            <a:off x="684360" y="2133720"/>
            <a:ext cx="782316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971640" y="249228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негур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Юлия\Desktop\img9.jpg"/>
          <p:cNvPicPr/>
          <p:nvPr/>
        </p:nvPicPr>
        <p:blipFill>
          <a:blip r:embed="rId1"/>
          <a:srcRect l="1890" t="32762" r="4554" b="28183"/>
          <a:stretch/>
        </p:blipFill>
        <p:spPr>
          <a:xfrm>
            <a:off x="539640" y="2205000"/>
            <a:ext cx="80488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4360" y="1052640"/>
          <a:ext cx="7777080" cy="4765680"/>
        </p:xfrm>
        <a:graphic>
          <a:graphicData uri="http://schemas.openxmlformats.org/drawingml/2006/table">
            <a:tbl>
              <a:tblPr/>
              <a:tblGrid>
                <a:gridCol w="2736720"/>
                <a:gridCol w="1295280"/>
                <a:gridCol w="1297080"/>
                <a:gridCol w="1295280"/>
                <a:gridCol w="11527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карточка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ТУ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ЮМ</a:t>
                      </a:r>
                      <a:r>
                        <a:rPr b="1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5" descr="20df76943c2a"/>
          <p:cNvPicPr/>
          <p:nvPr/>
        </p:nvPicPr>
        <p:blipFill>
          <a:blip r:embed="rId29"/>
          <a:stretch/>
        </p:blipFill>
        <p:spPr>
          <a:xfrm>
            <a:off x="0" y="249228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20df76943c2a"/>
          <p:cNvPicPr/>
          <p:nvPr/>
        </p:nvPicPr>
        <p:blipFill>
          <a:blip r:embed="rId30"/>
          <a:stretch/>
        </p:blipFill>
        <p:spPr>
          <a:xfrm>
            <a:off x="8136000" y="2421000"/>
            <a:ext cx="1008000" cy="120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826920" y="234936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рем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Юлия\Desktop\26597333-rebusy-pro-ptic-v-kartinkah-s-otvetami.jpg"/>
          <p:cNvPicPr/>
          <p:nvPr/>
        </p:nvPicPr>
        <p:blipFill>
          <a:blip r:embed="rId1"/>
          <a:srcRect l="4420" t="0" r="988" b="0"/>
          <a:stretch/>
        </p:blipFill>
        <p:spPr>
          <a:xfrm>
            <a:off x="539640" y="1989000"/>
            <a:ext cx="7925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755640" y="2565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олу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Юлия\Desktop\леопольд1.jpg"/>
          <p:cNvPicPr/>
          <p:nvPr/>
        </p:nvPicPr>
        <p:blipFill>
          <a:blip r:embed="rId1"/>
          <a:stretch/>
        </p:blipFill>
        <p:spPr>
          <a:xfrm>
            <a:off x="611280" y="1557360"/>
            <a:ext cx="7800840" cy="3743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3112560" y="83664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971640" y="278136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ополь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Users\Юлия\Desktop\3839-znakomstva-v-cheboksare.jpg"/>
          <p:cNvPicPr/>
          <p:nvPr/>
        </p:nvPicPr>
        <p:blipFill>
          <a:blip r:embed="rId1"/>
          <a:stretch/>
        </p:blipFill>
        <p:spPr>
          <a:xfrm>
            <a:off x="5292720" y="2852640"/>
            <a:ext cx="3297240" cy="32990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684360" y="21337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ртивный костюм Василисы Прекрас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Юлия\Desktop\cwhh572.jpg"/>
          <p:cNvPicPr/>
          <p:nvPr/>
        </p:nvPicPr>
        <p:blipFill>
          <a:blip r:embed="rId1"/>
          <a:stretch/>
        </p:blipFill>
        <p:spPr>
          <a:xfrm>
            <a:off x="4932360" y="2637000"/>
            <a:ext cx="35272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684360" y="19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адебное платье Бабы Я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Юлия\Desktop\i.jpg"/>
          <p:cNvPicPr/>
          <p:nvPr/>
        </p:nvPicPr>
        <p:blipFill>
          <a:blip r:embed="rId1"/>
          <a:stretch/>
        </p:blipFill>
        <p:spPr>
          <a:xfrm>
            <a:off x="5003640" y="2490840"/>
            <a:ext cx="3494160" cy="35305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826920" y="1916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пальный костюм Коло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Юлия\Desktop\7b3f638s-960.jpg"/>
          <p:cNvPicPr/>
          <p:nvPr/>
        </p:nvPicPr>
        <p:blipFill>
          <a:blip r:embed="rId1"/>
          <a:stretch/>
        </p:blipFill>
        <p:spPr>
          <a:xfrm>
            <a:off x="3203640" y="2131920"/>
            <a:ext cx="5376960" cy="40356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684360" y="1773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имний костюм Водя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539640" y="2286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старик со своею стар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амого сине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жили в мелкой земля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вно тридцать лет и два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813800" y="551916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684360" y="234936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старик со своею стар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амого сине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жили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етх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земля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вно тридцать лет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р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003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468360" y="23590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Попрыгунья Стре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Лето красное пропе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Оглянуться не усп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Calibri"/>
              </a:rPr>
              <a:t>Как снег летит в гл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468360" y="23590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Попрыгунья Стре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Лето красное пропе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Оглянуться не усп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Calibri"/>
              </a:rPr>
              <a:t>Как </a:t>
            </a:r>
            <a:r>
              <a:rPr b="0" lang="ru-RU" sz="3600" spc="-1" strike="noStrike" u="sng">
                <a:solidFill>
                  <a:srgbClr val="19194d"/>
                </a:solidFill>
                <a:uFillTx/>
                <a:latin typeface="Arial"/>
                <a:ea typeface="Calibri"/>
              </a:rPr>
              <a:t>зима катит </a:t>
            </a: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Calibri"/>
              </a:rPr>
              <a:t>в гл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813800" y="551916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003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бас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Юлия</cp:lastModifiedBy>
  <dcterms:modified xsi:type="dcterms:W3CDTF">2015-12-16T20:17:01Z</dcterms:modified>
  <cp:revision>45</cp:revision>
  <dc:subject/>
  <dc:title>Слайд 1</dc:title>
</cp:coreProperties>
</file>