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4EB-700B-4AE9-9EB8-A509F41B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7EC-7424-4A33-8A7A-2A51E3C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0C9-CBA3-427F-B6F7-1A22B527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73A-1B35-4303-AB0F-92AA8082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5AC-A434-4C8D-AE6C-FFC2BCDF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8AD2-4ADD-42E2-B9E3-C11481D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F899-6AEE-4A2C-85FB-A2252E5F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F11-8962-4026-B56A-A5907A7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B2C3-9F07-43A2-9A13-399EBA1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317C-B3CA-4FDD-8510-CAFE6D1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5FB-5BD5-4CDA-866C-B11D8A5D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2C1-949D-49F0-A8F2-DDFDC9DF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A55-C8AE-453D-8003-71D10E8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1631-33E7-454A-9C33-75554AE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91F-8E45-4ABE-95C1-F468884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BDFC-6F50-4D96-AAF0-ECDF29F3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2233-93CB-4953-ABBA-9BCB53FB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ACC-B4A9-494D-BE80-571C9F3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C41-D87C-4E97-B697-EC6507A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F00-3FF8-4CFB-8AA7-4B406AD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030-3D9B-42F0-A76A-E7B43AA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006-FBF6-4D6E-A465-D94277AC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492-CC36-4F4F-85EB-99F65C3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7A1-D293-4A40-872E-B8D01C3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FF8-0508-42E5-A30C-41715BD1C0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C26-5EA2-4EB6-AB7E-F642A8AB94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шите анаграмм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ЛОЦЕ  ЛОС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ЗНАТЕНА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СЬЧ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ЬЧА  ЛАС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ЛОЕ  ЧИС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АСТЬ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 себ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990720" y="2438280"/>
            <a:ext cx="121896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7"/>
          <p:cNvSpPr/>
          <p:nvPr/>
        </p:nvSpPr>
        <p:spPr>
          <a:xfrm>
            <a:off x="99072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>
            <a:off x="16002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9"/>
          <p:cNvSpPr/>
          <p:nvPr/>
        </p:nvSpPr>
        <p:spPr>
          <a:xfrm>
            <a:off x="1600200" y="2438280"/>
            <a:ext cx="6094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2209680" y="2438280"/>
            <a:ext cx="60984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9"/>
          <p:cNvSpPr/>
          <p:nvPr/>
        </p:nvSpPr>
        <p:spPr>
          <a:xfrm>
            <a:off x="2209680" y="304812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22096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16002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9"/>
          <p:cNvSpPr/>
          <p:nvPr/>
        </p:nvSpPr>
        <p:spPr>
          <a:xfrm>
            <a:off x="990720" y="3657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3505320" y="2438280"/>
            <a:ext cx="1218960" cy="12193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7"/>
          <p:cNvSpPr/>
          <p:nvPr/>
        </p:nvSpPr>
        <p:spPr>
          <a:xfrm>
            <a:off x="350532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8"/>
          <p:cNvSpPr/>
          <p:nvPr/>
        </p:nvSpPr>
        <p:spPr>
          <a:xfrm>
            <a:off x="411480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9"/>
          <p:cNvSpPr/>
          <p:nvPr/>
        </p:nvSpPr>
        <p:spPr>
          <a:xfrm>
            <a:off x="4114800" y="2438280"/>
            <a:ext cx="60948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9"/>
          <p:cNvSpPr/>
          <p:nvPr/>
        </p:nvSpPr>
        <p:spPr>
          <a:xfrm>
            <a:off x="4724280" y="24382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5867280" y="2514600"/>
            <a:ext cx="1219320" cy="12193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7"/>
          <p:cNvSpPr/>
          <p:nvPr/>
        </p:nvSpPr>
        <p:spPr>
          <a:xfrm>
            <a:off x="586728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8"/>
          <p:cNvSpPr/>
          <p:nvPr/>
        </p:nvSpPr>
        <p:spPr>
          <a:xfrm>
            <a:off x="6477120" y="2514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6477120" y="2514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7086600" y="373392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6477120" y="373392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5867280" y="37339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2209680" y="365760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160020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4724280" y="2438280"/>
            <a:ext cx="60984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4724280" y="304812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9"/>
          <p:cNvSpPr/>
          <p:nvPr/>
        </p:nvSpPr>
        <p:spPr>
          <a:xfrm>
            <a:off x="4724280" y="3657600"/>
            <a:ext cx="6098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411480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9"/>
          <p:cNvSpPr/>
          <p:nvPr/>
        </p:nvSpPr>
        <p:spPr>
          <a:xfrm>
            <a:off x="3505320" y="3657600"/>
            <a:ext cx="6094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867280" y="3733920"/>
            <a:ext cx="60984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7086600" y="3124080"/>
            <a:ext cx="609480" cy="609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7086600" y="251460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9"/>
          <p:cNvSpPr/>
          <p:nvPr/>
        </p:nvSpPr>
        <p:spPr>
          <a:xfrm>
            <a:off x="7086600" y="373392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6477120" y="3733920"/>
            <a:ext cx="609480" cy="609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0"/>
              <p:cNvSpPr txBox="1"/>
              <p:nvPr/>
            </p:nvSpPr>
            <p:spPr>
              <a:xfrm>
                <a:off x="1676520" y="4419720"/>
                <a:ext cx="474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8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2"/>
              <p:cNvSpPr txBox="1"/>
              <p:nvPr/>
            </p:nvSpPr>
            <p:spPr>
              <a:xfrm>
                <a:off x="4191120" y="4495680"/>
                <a:ext cx="474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8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4"/>
              <p:cNvSpPr txBox="1"/>
              <p:nvPr/>
            </p:nvSpPr>
            <p:spPr>
              <a:xfrm>
                <a:off x="6629400" y="464832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Тема: Решение текстовых задач, содержащих дроб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361960" y="3962160"/>
            <a:ext cx="5105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4191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В коробке лежат 18 мячей. Из них 2/3 желтые. Сколько желтых мячей в короб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части цел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8:3*2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63" name="AutoShape 8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5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9"/>
              <p:cNvSpPr txBox="1"/>
              <p:nvPr/>
            </p:nvSpPr>
            <p:spPr>
              <a:xfrm>
                <a:off x="7543800" y="2819520"/>
                <a:ext cx="326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37"/>
          <p:cNvSpPr/>
          <p:nvPr/>
        </p:nvSpPr>
        <p:spPr>
          <a:xfrm>
            <a:off x="6858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1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часть целого нужно целое разделить на знаменатель и полученный результат умножить на числи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496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о время ремонта отрезали 12 метров проволоки, что составило  2/5  всей длины. Сколько было провол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целого числа по его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2:2*5=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79" name="AutoShape 5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1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2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7"/>
              <p:cNvSpPr txBox="1"/>
              <p:nvPr/>
            </p:nvSpPr>
            <p:spPr>
              <a:xfrm>
                <a:off x="7543800" y="2819520"/>
                <a:ext cx="326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6858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2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целое нужно часть от целого разделить числитель и полученный результат умножить на знамен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№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ассе 32 ученика 11 – мальчики. Какую часть класса составляют мальч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хождение соотношения части и цел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1:32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5334120" y="1828800"/>
            <a:ext cx="3809880" cy="1841400"/>
            <a:chOff x="5334120" y="1828800"/>
            <a:chExt cx="3809880" cy="1841400"/>
          </a:xfrm>
        </p:grpSpPr>
        <p:sp>
          <p:nvSpPr>
            <p:cNvPr id="195" name="AutoShape 5"/>
            <p:cNvSpPr/>
            <p:nvPr/>
          </p:nvSpPr>
          <p:spPr>
            <a:xfrm>
              <a:off x="5334120" y="1828800"/>
              <a:ext cx="380988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"/>
            <p:cNvSpPr/>
            <p:nvPr/>
          </p:nvSpPr>
          <p:spPr>
            <a:xfrm>
              <a:off x="533412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148160" y="18288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3412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7148160" y="2916000"/>
              <a:ext cx="1269720" cy="72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>
              <a:off x="6603840" y="2190960"/>
              <a:ext cx="54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>
              <a:off x="6603840" y="3278160"/>
              <a:ext cx="54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2"/>
          <p:cNvSpPr/>
          <p:nvPr/>
        </p:nvSpPr>
        <p:spPr>
          <a:xfrm>
            <a:off x="5334120" y="190512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410080" y="1828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53341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71629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8"/>
              <p:cNvSpPr txBox="1"/>
              <p:nvPr/>
            </p:nvSpPr>
            <p:spPr>
              <a:xfrm>
                <a:off x="3733920" y="4114800"/>
                <a:ext cx="506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Text Box 21"/>
          <p:cNvSpPr/>
          <p:nvPr/>
        </p:nvSpPr>
        <p:spPr>
          <a:xfrm>
            <a:off x="7162920" y="2895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6858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Правило 3.</a:t>
            </a:r>
            <a:r>
              <a:rPr b="0" lang="ru-RU" sz="2600" spc="-1" strike="noStrike">
                <a:solidFill>
                  <a:srgbClr val="660066"/>
                </a:solidFill>
                <a:latin typeface="Arial"/>
              </a:rPr>
              <a:t> Чтобы найти соотношение части и целого нужно часть от целого разделить на цел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верь себ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классе 12 дев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2:25:39Z</dcterms:created>
  <dc:creator>Лена</dc:creator>
  <dc:description/>
  <dc:language>en-US</dc:language>
  <cp:lastModifiedBy>user</cp:lastModifiedBy>
  <dcterms:modified xsi:type="dcterms:W3CDTF">2023-06-15T05:54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