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E33-2DD8-4193-93F3-A13004E4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AB3-7D32-4EE9-8CF2-6BBC387F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516-3848-4B28-AF60-23F8C5F3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72F-1232-40EA-866D-31DAB663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CAB-1C6C-4E3D-A81D-835748AA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EB49-258D-42BF-824A-0163228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224-079A-4A97-B86E-169A8E1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676-B97C-4657-9D0D-1D0C79B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18A6-6752-45CD-941A-6C601DC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E96-AFB2-422E-9DF1-CBA60423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9D70-B781-4C5C-AE91-8F78A37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78F-F069-4D50-91B8-9CEAA245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946-481E-4209-B710-4E60818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4D84-2964-4142-A07A-090C152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FFDE-3FED-46B6-A948-115E6DC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BD4-FDF5-4901-A52C-FBF65127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9664-6676-42DA-9D40-0809659D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DFBB-42C2-474D-8DF3-C9B09B4C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2A48-218C-46BA-B948-EA285578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8B37-094C-4EFD-9EA6-57D25E4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59E7-BB0B-4414-973C-54DC456A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B904-649E-473E-ADC4-91DC60D0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A5A-06FD-493C-8D1E-9D6CF1E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5664-D32A-451D-93F7-79CBEC5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03B8-5BD7-43BA-ABCF-6298150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A954-9057-4128-A994-0212419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BA12-2F00-4BC7-A37E-8F21A3D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EA66-3ACE-484D-A305-F6A9EFB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FFC1-61F4-4E25-B2B7-E79E66C1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E2F6-B45A-4A01-934E-71DF2D25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A20B-C3E8-4E98-8E7F-C35762C0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4C59-A8F5-4489-8D34-780F82C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4EDE-9A54-4243-865D-DC2B831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E5F-D42E-440B-ABD6-AAB668A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BF75-31E7-47A8-AC7A-3E1C2F3A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4E4E-10BC-439A-9EF4-A67935E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90CD-ADC5-4663-AC79-D59A01D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934E-6959-4189-AD7D-4E46434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4934-FE4B-4F31-8FA7-2479982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B3F1-2E1C-49F1-A5DE-BE202A30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2633-76A2-4F59-8FC0-289AE99E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DAEF-E884-4746-BF6A-C14CCF79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27D2-6121-4217-88E5-6C6B9949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273-73D7-460A-BBE6-814BC2D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3F4-A956-466E-8035-9BD40CA8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D5A-EBCA-4AD9-AC01-C45A69C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004-866F-4044-AD9E-56561FE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4F4-1158-424B-BC82-56EF916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CC70-9060-4259-B676-192397AA05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CCC-1FD2-4CBF-B215-F50CF079AF8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EE5-69D6-434C-B7B3-5C79624533B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1CB6-BF66-4C40-9C4F-1F0A9B6D310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0480" y="785520"/>
            <a:ext cx="708012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Практическая работа  </a:t>
            </a:r>
            <a:br>
              <a:rPr sz="2400"/>
            </a:br>
            <a:r>
              <a:rPr b="1" lang="ru-RU" sz="36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«Определение кислотности почв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574560"/>
            <a:ext cx="600084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Результаты  определения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кислотности   почв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4000" y="2205000"/>
          <a:ext cx="8353440" cy="3486240"/>
        </p:xfrm>
        <a:graphic>
          <a:graphicData uri="http://schemas.openxmlformats.org/drawingml/2006/table">
            <a:tbl>
              <a:tblPr/>
              <a:tblGrid>
                <a:gridCol w="1812600"/>
                <a:gridCol w="1355760"/>
                <a:gridCol w="1729080"/>
                <a:gridCol w="1871640"/>
                <a:gridCol w="1584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лакмусовой бумаж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природным индикато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тоду В.М.Клычни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помощи рН-м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кольный уча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пива, леб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рское 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вель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рошенный уча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а пахучая, клев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Вывод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1720" y="1915920"/>
            <a:ext cx="7118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в кислотность почвы на трех биотопах, наиболее точные количественные  показания получили при помощи датчи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иотоп – пришкольный участок, рН - 6,8, слабокислая почва с переходом в нейтральну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иотоп – фермерское поле, рН – 6,1, слабокислая поч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иотоп – заброшенный участок, рН – 6,5, слабокислая почва с переходом в нейтральну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стовые полоски (лакмусовая бумага) на базе индикаторов, метод В.М.Клычникова, природные индикаторы (растения) дают качественную оценку полученного результ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43280" y="691920"/>
            <a:ext cx="316872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Оборудование и материалы для работ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360"/>
            <a:ext cx="3743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равнительный анализ  данных кислотности почв, полученных различными методами измерени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ить особенности методов определения кислотности почв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кислотность почвы на трех типичных биотопах различными методам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ть оценку методам определения кислотности почвы по полученным данным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427280" y="2276280"/>
            <a:ext cx="410508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Н-метр и ноутбук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кмусовый индикатор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кости для сбора и оценки почвы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324000" y="679320"/>
            <a:ext cx="299088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19018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9"/>
          <p:cNvSpPr/>
          <p:nvPr/>
        </p:nvSpPr>
        <p:spPr>
          <a:xfrm>
            <a:off x="39528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717696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Кислотность почв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14200" y="692280"/>
            <a:ext cx="71056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главных характеристик почвы является ее кислотность. Кислотность почвы - это свойство почвы, обусловленное наличием ионов водорода, находящихся в ней. Ее можно выразить при помощи рН - показателя активности ионов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Шкала уровня кисло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Users\Ирина\Desktop\140593.q0labc.840.jpg"/>
          <p:cNvPicPr/>
          <p:nvPr/>
        </p:nvPicPr>
        <p:blipFill>
          <a:blip r:embed="rId1"/>
          <a:srcRect l="0" t="13308" r="0" b="0"/>
          <a:stretch/>
        </p:blipFill>
        <p:spPr>
          <a:xfrm>
            <a:off x="214200" y="4221000"/>
            <a:ext cx="7929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108000" y="1214280"/>
            <a:ext cx="45352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чвы проводились               в селе Кош-Елга Бижбулякского района Республики Башкортостан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чвенном составе данных земель преобладают карбонатные и выщелоченные черноземы, встречаются также лесные  и  темно-серые поч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ённые почвы: черноземы солонцеватые -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ее распространённые почвы: черноземы обыкновенные - 2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539640" y="333360"/>
            <a:ext cx="6818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Характеристика района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:\Users\Ирина\Desktop\img13.jpg"/>
          <p:cNvPicPr/>
          <p:nvPr/>
        </p:nvPicPr>
        <p:blipFill>
          <a:blip r:embed="rId1"/>
          <a:stretch/>
        </p:blipFill>
        <p:spPr>
          <a:xfrm>
            <a:off x="4788000" y="1357200"/>
            <a:ext cx="4141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Биотопы, на которых проводились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исследования почв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196640"/>
            <a:ext cx="450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чвы проводились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х видах биотопов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школьный участок, на котором произрастают: плодовые деревья, овощные культуры, кустарники, цве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ермерское поле, на котором произрастает овес и ячмен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4500720" y="530064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4a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брошенный участок, который в перспективе будет окультурен (предполагается разбить са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D:\СХ биотехнологии\!Пр.з.№3 Фото поле\29bf455b-c6bc-45f9-be82-0cfba1c76a92.jpg"/>
          <p:cNvPicPr/>
          <p:nvPr/>
        </p:nvPicPr>
        <p:blipFill>
          <a:blip r:embed="rId1"/>
          <a:stretch/>
        </p:blipFill>
        <p:spPr>
          <a:xfrm>
            <a:off x="357120" y="4929120"/>
            <a:ext cx="3959280" cy="1785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C:\Users\Лариса\Desktop\10b3471b-659d-4ad3-a7c2-f4a7b05468b9.jpg"/>
          <p:cNvPicPr/>
          <p:nvPr/>
        </p:nvPicPr>
        <p:blipFill>
          <a:blip r:embed="rId2"/>
          <a:srcRect l="0" t="16837" r="0" b="20626"/>
          <a:stretch/>
        </p:blipFill>
        <p:spPr>
          <a:xfrm>
            <a:off x="4572000" y="3286080"/>
            <a:ext cx="3887640" cy="1857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C:\Users\User\Desktop\Биотехнологии\IMG_20210618_105957.jpg"/>
          <p:cNvPicPr/>
          <p:nvPr/>
        </p:nvPicPr>
        <p:blipFill>
          <a:blip r:embed="rId3"/>
          <a:srcRect l="0" t="25795" r="0" b="8725"/>
          <a:stretch/>
        </p:blipFill>
        <p:spPr>
          <a:xfrm>
            <a:off x="4572000" y="1347840"/>
            <a:ext cx="392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2637000"/>
            <a:ext cx="6143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1. Лакмусовый индикатор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3212640"/>
            <a:ext cx="6049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1 част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4-5 час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мусовая бумаг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уровня кислот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чвенный раствор опускается                         на 2-3 секунды индикаторная бумага. Проявившийся на бумаге цвет сверяется со шкалой, и в результате  получается значение рН почвенного раство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39640" y="142920"/>
            <a:ext cx="7675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Методы определения кислотности почв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571680" y="785880"/>
            <a:ext cx="6715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ование лакмусовой бумаж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внешним признакам и природным индикат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 помощью метода В.М.Клычник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помощи рН-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0" t="0" r="0" b="8715"/>
          <a:stretch/>
        </p:blipFill>
        <p:spPr>
          <a:xfrm>
            <a:off x="7020000" y="2349360"/>
            <a:ext cx="1873080" cy="187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rcRect l="10584" t="9918" r="4745" b="10698"/>
          <a:stretch/>
        </p:blipFill>
        <p:spPr>
          <a:xfrm>
            <a:off x="7020000" y="4365720"/>
            <a:ext cx="1873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056360" cy="5373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"/>
          <p:cNvSpPr/>
          <p:nvPr/>
        </p:nvSpPr>
        <p:spPr>
          <a:xfrm>
            <a:off x="179280" y="7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2. По внешним признакам и  природными индикаторами (растен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64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3. Определение рH почвы с помощью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метода В.М. Клычнико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г подсушенной земли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 кипяченой воды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г измельченного мел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овые напальчник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ылк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лышко бутылки надевают резиновый напальчник, скатанный в плотный валик. Сосуд обертывают полотенцем (чтобы не нагревался от руки) и в течение 5 минут энергично взбалтывают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ислотности описанным способом определяют по состоянию резинки: если осталась сплюснутой — реакция почвенного раствора нейтральная (рН около 7), распрямилась наполовину — реакция среднекислая (рН 4,5-6), а распрямилась полностью — кислая (рН ниже 4,5)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Ирина\Desktop\Metod-Klychnikova-opredeleniya-kislotnosti.jpg"/>
          <p:cNvPicPr/>
          <p:nvPr/>
        </p:nvPicPr>
        <p:blipFill>
          <a:blip r:embed="rId1"/>
          <a:srcRect l="0" t="0" r="59251" b="0"/>
          <a:stretch/>
        </p:blipFill>
        <p:spPr>
          <a:xfrm>
            <a:off x="1476360" y="4869000"/>
            <a:ext cx="158292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rcRect l="11902" t="13885" r="6245" b="10703"/>
          <a:stretch/>
        </p:blipFill>
        <p:spPr>
          <a:xfrm>
            <a:off x="4067280" y="4508640"/>
            <a:ext cx="294624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71280" y="4284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4.Определение кислотности почвы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при помощи рН-метр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86120" y="2706480"/>
            <a:ext cx="3960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чик рН  предназначен для измерения водородного показателя в различных раство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rcRect l="0" t="0" r="4752" b="0"/>
          <a:stretch/>
        </p:blipFill>
        <p:spPr>
          <a:xfrm>
            <a:off x="539640" y="2276640"/>
            <a:ext cx="2590920" cy="3243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00:35Z</dcterms:created>
  <dc:creator>Костя</dc:creator>
  <dc:description/>
  <dc:language>en-US</dc:language>
  <cp:lastModifiedBy>Пользователь</cp:lastModifiedBy>
  <dcterms:modified xsi:type="dcterms:W3CDTF">2024-03-25T10:13:20Z</dcterms:modified>
  <cp:revision>184</cp:revision>
  <dc:subject/>
  <dc:title>Тема «Каменистые сады»</dc:title>
</cp:coreProperties>
</file>