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6448-CDD8-4377-825C-E62EA9D35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8172-AF05-4F95-A339-05FF9854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687F-9D76-4AF1-A22F-E467A35D5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7A3F-065E-44BB-A897-21C945DBD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A31D-1452-4204-A784-C6D63DF6E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25821-E986-4531-A4BE-896D85A5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18B5-12C7-4BE4-90D4-01816AC5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85961-ECD6-4033-93A5-F79E80A7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6529-1459-4337-A16D-8F8E7ABB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CF74-2033-493A-8D9C-080FACCB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0044-D0F4-4FF6-9BF6-1119E5E3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D0E3-7137-4DD8-81AC-FC100ED7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0578B-18AE-427D-AB4D-289C3F95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A13C-8855-41A4-83D4-1292F072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039F-8073-4DE7-9A6C-E3E821E1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6970-3C64-4483-A61C-6C8A48DD8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2A09-EAB5-49F2-AFFD-29B5CD3CA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B911A-1F0D-4677-880D-55904AD4D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5A10E-1BC7-4699-9936-1952E4FE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996B1-EC41-421F-8EE5-8A7914C1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1B2FD-D8D6-477D-8A38-B8C42DFE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344FF-5730-48CD-A3B0-2BD856E6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B69F-F108-4287-8E7A-6A6D81B9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A05E3-90E3-4854-8718-37539B23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598AB-91EA-442D-A66A-E720C2AB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D22C0-605A-4578-A211-62DD7A50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F7669-3E24-4C89-94EB-DED56C54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28170-B6B0-4A9F-A780-F43FA10A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9A749-7D9F-49CE-B09E-D94F1BBF0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14280-09B6-45C9-AA77-588828C3C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780A0-B559-42F2-86A5-7BC43445B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DCED9-80DB-4257-B555-24C33FB9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57D0F-93B7-41CB-8BB6-8136561C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1B6F-AFB5-4706-8280-B72B1B0F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8C0E8-AC54-4E5F-A029-9505BEE4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7F153-7075-4E06-B252-8D458861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649B6-BC73-49FA-8B32-3F0204E0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3FBB5-421D-4614-BEB4-46C34812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18A0B-5548-487C-8C76-8ACC7603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5CE6A-0DB2-4703-A57E-9289935C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A8CE6-CCD7-4AE1-9FD2-E4894DF7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59A3F-7308-41FD-B60F-40E843D49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10372-4F2D-4C7D-A69E-29A4490C4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E7FB-BD23-4C40-B71B-7EA18969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6C5A-EB4B-48B2-9B23-2042CD33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E90B-3184-44CD-B702-0D544EAF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288F-97A4-496E-BF64-3509FA63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D273-AA6F-4ED0-946E-88320809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937A-A026-411F-9EDE-BEBAA7807DD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6E1D-E704-4A81-BB3E-299C0B940E01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FECB-1370-4BB4-AE0A-A4F51499998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BE33-8E6F-4D4C-BF60-C41EF54E650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0480" y="785520"/>
            <a:ext cx="7080120" cy="300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4f951f"/>
                </a:solidFill>
                <a:latin typeface="Times New Roman"/>
                <a:ea typeface="Times New Roman"/>
              </a:rPr>
              <a:t>Практическая работа  </a:t>
            </a:r>
            <a:br>
              <a:rPr sz="2400"/>
            </a:br>
            <a:r>
              <a:rPr b="1" lang="ru-RU" sz="3600" spc="-1" strike="noStrike">
                <a:solidFill>
                  <a:srgbClr val="4f951f"/>
                </a:solidFill>
                <a:latin typeface="Times New Roman"/>
                <a:ea typeface="Times New Roman"/>
              </a:rPr>
              <a:t>«Определение кислотности почв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56800" y="574560"/>
            <a:ext cx="6000840" cy="9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f951f"/>
                </a:solidFill>
                <a:latin typeface="Times New Roman"/>
                <a:ea typeface="Times New Roman"/>
              </a:rPr>
              <a:t>Результаты  определения </a:t>
            </a:r>
            <a:br>
              <a:rPr sz="2800"/>
            </a:br>
            <a:r>
              <a:rPr b="1" lang="ru-RU" sz="2800" spc="-1" strike="noStrike">
                <a:solidFill>
                  <a:srgbClr val="4f951f"/>
                </a:solidFill>
                <a:latin typeface="Times New Roman"/>
                <a:ea typeface="Times New Roman"/>
              </a:rPr>
              <a:t>кислотности   почв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24000" y="2205000"/>
          <a:ext cx="8353440" cy="3486240"/>
        </p:xfrm>
        <a:graphic>
          <a:graphicData uri="http://schemas.openxmlformats.org/drawingml/2006/table">
            <a:tbl>
              <a:tblPr/>
              <a:tblGrid>
                <a:gridCol w="1812600"/>
                <a:gridCol w="1355760"/>
                <a:gridCol w="1729080"/>
                <a:gridCol w="1871640"/>
                <a:gridCol w="158436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 лакмусовой бумаж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 природным индикатор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 методу В.М.Клычник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 помощи рН-ме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</a:tr>
              <a:tr h="690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школьный учас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пива, лебе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я среднекисл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692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рмерское по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авель,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я среднекисл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брошенный учас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машка пахучая, клев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я среднекисл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59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f951f"/>
                </a:solidFill>
                <a:latin typeface="Times New Roman"/>
                <a:ea typeface="Times New Roman"/>
              </a:rPr>
              <a:t>Выводы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61720" y="1915920"/>
            <a:ext cx="71182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5856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пределив кислотность почвы на трех биотопах, наиболее точные количественные  показания получили при помощи датчик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358560" algn="just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биотоп – пришкольный участок, рН - 6,8, слабокислая почва с переходом в нейтральную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358560" algn="just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биотоп – фермерское поле, рН – 6,1, слабокислая почв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358560" algn="just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биотоп – заброшенный участок, рН – 6,5, слабокислая почва с переходом в нейтральную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358560" algn="just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Тестовые полоски (лакмусовая бумага) на базе индикаторов, метод В.М.Клычникова, природные индикаторы (растения) дают качественную оценку полученного результат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35856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35856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43280" y="691920"/>
            <a:ext cx="3168720" cy="15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f951f"/>
                </a:solidFill>
                <a:latin typeface="Times New Roman"/>
                <a:ea typeface="Times New Roman"/>
              </a:rPr>
              <a:t>Оборудование и материалы для работы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1341360"/>
            <a:ext cx="37432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работы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равнительный анализ  данных кислотности почв, полученных различными методами измерения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ыделить особенности методов определения кислотности почв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пределить кислотность почвы на трех типичных биотопах различными методами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ать оценку методам определения кислотности почвы по полученным данным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427280" y="2276280"/>
            <a:ext cx="4105080" cy="27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Н-метр и ноутбук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Лакмусовый индикатор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мкости для сбора и оценки почвы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Заголовок 1"/>
          <p:cNvSpPr/>
          <p:nvPr/>
        </p:nvSpPr>
        <p:spPr>
          <a:xfrm>
            <a:off x="324000" y="679320"/>
            <a:ext cx="2990880" cy="10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f951f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4f951f"/>
                </a:solidFill>
                <a:latin typeface="Times New Roman"/>
                <a:ea typeface="Times New Roman"/>
              </a:rPr>
              <a:t>Цели и за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"/>
          <p:cNvPicPr/>
          <p:nvPr/>
        </p:nvPicPr>
        <p:blipFill>
          <a:blip r:embed="rId1"/>
          <a:stretch/>
        </p:blipFill>
        <p:spPr>
          <a:xfrm>
            <a:off x="5435640" y="3860640"/>
            <a:ext cx="19018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9"/>
          <p:cNvSpPr/>
          <p:nvPr/>
        </p:nvSpPr>
        <p:spPr>
          <a:xfrm>
            <a:off x="395280" y="98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214200"/>
            <a:ext cx="7176960" cy="3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f951f"/>
                </a:solidFill>
                <a:latin typeface="Times New Roman"/>
                <a:ea typeface="Times New Roman"/>
              </a:rPr>
              <a:t>Кислотность почвы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Прямоугольник 3"/>
          <p:cNvSpPr/>
          <p:nvPr/>
        </p:nvSpPr>
        <p:spPr>
          <a:xfrm>
            <a:off x="214200" y="692280"/>
            <a:ext cx="7105680" cy="25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й из главных характеристик почвы является ее кислотность. Кислотность почвы - это свойство почвы, обусловленное наличием ионов водорода, находящихся в ней. Ее можно выразить при помощи рН - показателя активности ионов водор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200" spc="-1" strike="noStrike">
                <a:solidFill>
                  <a:srgbClr val="4f951f"/>
                </a:solidFill>
                <a:latin typeface="Times New Roman"/>
                <a:ea typeface="Times New Roman"/>
              </a:rPr>
              <a:t>Шкала уровня кислот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C:\Users\Ирина\Desktop\140593.q0labc.840.jpg"/>
          <p:cNvPicPr/>
          <p:nvPr/>
        </p:nvPicPr>
        <p:blipFill>
          <a:blip r:embed="rId1"/>
          <a:srcRect l="0" t="13308" r="0" b="0"/>
          <a:stretch/>
        </p:blipFill>
        <p:spPr>
          <a:xfrm>
            <a:off x="214200" y="4221000"/>
            <a:ext cx="792972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Содержимое 2"/>
          <p:cNvSpPr/>
          <p:nvPr/>
        </p:nvSpPr>
        <p:spPr>
          <a:xfrm>
            <a:off x="108000" y="1214280"/>
            <a:ext cx="453528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я почвы проводились               в селе Кош-Елга Бижбулякского района Республики Башкортостан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чвенном составе данных земель преобладают карбонатные и выщелоченные черноземы, встречаются также лесные  и  темно-серые почв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распространённые почвы: черноземы солонцеватые - 79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ее распространённые почвы: черноземы обыкновенные - 21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Заголовок 1"/>
          <p:cNvSpPr/>
          <p:nvPr/>
        </p:nvSpPr>
        <p:spPr>
          <a:xfrm>
            <a:off x="539640" y="333360"/>
            <a:ext cx="68184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f951f"/>
                </a:solidFill>
                <a:latin typeface="Times New Roman"/>
                <a:ea typeface="Times New Roman"/>
              </a:rPr>
              <a:t>Характеристика района иссле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3" descr="C:\Users\Ирина\Desktop\img13.jpg"/>
          <p:cNvPicPr/>
          <p:nvPr/>
        </p:nvPicPr>
        <p:blipFill>
          <a:blip r:embed="rId1"/>
          <a:stretch/>
        </p:blipFill>
        <p:spPr>
          <a:xfrm>
            <a:off x="4788000" y="1357200"/>
            <a:ext cx="41418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171360"/>
            <a:ext cx="822960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f951f"/>
                </a:solidFill>
                <a:latin typeface="Times New Roman"/>
                <a:ea typeface="Times New Roman"/>
              </a:rPr>
              <a:t>Биотопы, на которых проводились </a:t>
            </a:r>
            <a:br>
              <a:rPr sz="2800"/>
            </a:br>
            <a:r>
              <a:rPr b="1" lang="ru-RU" sz="2800" spc="-1" strike="noStrike">
                <a:solidFill>
                  <a:srgbClr val="4f951f"/>
                </a:solidFill>
                <a:latin typeface="Times New Roman"/>
                <a:ea typeface="Times New Roman"/>
              </a:rPr>
              <a:t>исследования почвы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0" y="1196640"/>
            <a:ext cx="4500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я почвы проводились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рех видах биотопов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90c226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ишкольный участок, на котором произрастают: плодовые деревья, овощные культуры, кустарники, цветы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90c226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90c226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Фермерское поле, на котором произрастает овес и ячмень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" name="Прямоугольник 10"/>
          <p:cNvSpPr/>
          <p:nvPr/>
        </p:nvSpPr>
        <p:spPr>
          <a:xfrm>
            <a:off x="4500720" y="5300640"/>
            <a:ext cx="403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54a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Заброшенный участок, который в перспективе будет окультурен (предполагается разбить сад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9" descr="D:\СХ биотехнологии\!Пр.з.№3 Фото поле\29bf455b-c6bc-45f9-be82-0cfba1c76a92.jpg"/>
          <p:cNvPicPr/>
          <p:nvPr/>
        </p:nvPicPr>
        <p:blipFill>
          <a:blip r:embed="rId1"/>
          <a:stretch/>
        </p:blipFill>
        <p:spPr>
          <a:xfrm>
            <a:off x="357120" y="4929120"/>
            <a:ext cx="3959280" cy="178596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0" descr="C:\Users\Лариса\Desktop\10b3471b-659d-4ad3-a7c2-f4a7b05468b9.jpg"/>
          <p:cNvPicPr/>
          <p:nvPr/>
        </p:nvPicPr>
        <p:blipFill>
          <a:blip r:embed="rId2"/>
          <a:srcRect l="0" t="16837" r="0" b="20626"/>
          <a:stretch/>
        </p:blipFill>
        <p:spPr>
          <a:xfrm>
            <a:off x="4572000" y="3286080"/>
            <a:ext cx="3887640" cy="1857600"/>
          </a:xfrm>
          <a:prstGeom prst="rect">
            <a:avLst/>
          </a:prstGeom>
          <a:ln w="0">
            <a:noFill/>
          </a:ln>
        </p:spPr>
      </p:pic>
      <p:sp>
        <p:nvSpPr>
          <p:cNvPr id="231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0" descr="C:\Users\User\Desktop\Биотехнологии\IMG_20210618_105957.jpg"/>
          <p:cNvPicPr/>
          <p:nvPr/>
        </p:nvPicPr>
        <p:blipFill>
          <a:blip r:embed="rId3"/>
          <a:srcRect l="0" t="25795" r="0" b="8725"/>
          <a:stretch/>
        </p:blipFill>
        <p:spPr>
          <a:xfrm>
            <a:off x="4572000" y="1347840"/>
            <a:ext cx="392904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28400" y="2637000"/>
            <a:ext cx="61434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f951f"/>
                </a:solidFill>
                <a:latin typeface="Times New Roman"/>
                <a:ea typeface="Times New Roman"/>
              </a:rPr>
              <a:t>1. Лакмусовый индикатор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50560" y="3212640"/>
            <a:ext cx="60498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ва – 1 часть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– 4-5 частей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мусовая бумаг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ала уровня кислотност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чвенный раствор опускается                         на 2-3 секунды индикаторная бумага. Проявившийся на бумаге цвет сверяется со шкалой, и в результате  получается значение рН почвенного раствор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Заголовок 1"/>
          <p:cNvSpPr/>
          <p:nvPr/>
        </p:nvSpPr>
        <p:spPr>
          <a:xfrm>
            <a:off x="539640" y="142920"/>
            <a:ext cx="7675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f951f"/>
                </a:solidFill>
                <a:latin typeface="Times New Roman"/>
                <a:ea typeface="Times New Roman"/>
              </a:rPr>
              <a:t>Методы определения кислотности почв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Содержимое 2"/>
          <p:cNvSpPr/>
          <p:nvPr/>
        </p:nvSpPr>
        <p:spPr>
          <a:xfrm>
            <a:off x="571680" y="785880"/>
            <a:ext cx="671508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спользование лакмусовой бумаж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 внешним признакам и природным индикатор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 помощью метода В.М.Клычнико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ри помощи рН-мет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8" descr=""/>
          <p:cNvPicPr/>
          <p:nvPr/>
        </p:nvPicPr>
        <p:blipFill>
          <a:blip r:embed="rId1"/>
          <a:srcRect l="0" t="0" r="0" b="8715"/>
          <a:stretch/>
        </p:blipFill>
        <p:spPr>
          <a:xfrm>
            <a:off x="7020000" y="2349360"/>
            <a:ext cx="1873080" cy="1871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"/>
          <p:cNvPicPr/>
          <p:nvPr/>
        </p:nvPicPr>
        <p:blipFill>
          <a:blip r:embed="rId2"/>
          <a:srcRect l="10584" t="9918" r="4745" b="10698"/>
          <a:stretch/>
        </p:blipFill>
        <p:spPr>
          <a:xfrm>
            <a:off x="7020000" y="4365720"/>
            <a:ext cx="187308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Объект 4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056360" cy="5373720"/>
          </a:xfrm>
          <a:prstGeom prst="rect">
            <a:avLst/>
          </a:prstGeom>
          <a:ln w="0">
            <a:noFill/>
          </a:ln>
        </p:spPr>
      </p:pic>
      <p:sp>
        <p:nvSpPr>
          <p:cNvPr id="240" name="Прямоугольник 1"/>
          <p:cNvSpPr/>
          <p:nvPr/>
        </p:nvSpPr>
        <p:spPr>
          <a:xfrm>
            <a:off x="179280" y="7920"/>
            <a:ext cx="72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951f"/>
                </a:solidFill>
                <a:latin typeface="Times New Roman"/>
                <a:ea typeface="Times New Roman"/>
              </a:rPr>
              <a:t>2. По внешним признакам и  природными индикаторами (растения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7644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f951f"/>
                </a:solidFill>
                <a:latin typeface="Times New Roman"/>
                <a:ea typeface="Times New Roman"/>
              </a:rPr>
              <a:t>3. Определение рH почвы с помощью </a:t>
            </a:r>
            <a:br>
              <a:rPr sz="2800"/>
            </a:br>
            <a:r>
              <a:rPr b="1" lang="ru-RU" sz="2800" spc="-1" strike="noStrike">
                <a:solidFill>
                  <a:srgbClr val="4f951f"/>
                </a:solidFill>
                <a:latin typeface="Times New Roman"/>
                <a:ea typeface="Times New Roman"/>
              </a:rPr>
              <a:t>метода В.М. Клычникова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0" y="980640"/>
            <a:ext cx="8820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58560" algn="just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г подсушенной земли;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358560" algn="just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 г кипяченой воды;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358560" algn="just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г измельченного мела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358560" algn="just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иновые напальчники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358560" algn="just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ылки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358560" algn="just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35856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горлышко бутылки надевают резиновый напальчник, скатанный в плотный валик. Сосуд обертывают полотенцем (чтобы не нагревался от руки) и в течение 5 минут энергично взбалтывают.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35856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ь кислотности описанным способом определяют по состоянию резинки: если осталась сплюснутой — реакция почвенного раствора нейтральная (рН около 7), распрямилась наполовину — реакция среднекислая (рН 4,5-6), а распрямилась полностью — кислая (рН ниже 4,5)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3585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3" name="Picture 2" descr="C:\Users\Ирина\Desktop\Metod-Klychnikova-opredeleniya-kislotnosti.jpg"/>
          <p:cNvPicPr/>
          <p:nvPr/>
        </p:nvPicPr>
        <p:blipFill>
          <a:blip r:embed="rId1"/>
          <a:srcRect l="0" t="0" r="59251" b="0"/>
          <a:stretch/>
        </p:blipFill>
        <p:spPr>
          <a:xfrm>
            <a:off x="1476360" y="4869000"/>
            <a:ext cx="1582920" cy="1655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"/>
          <p:cNvPicPr/>
          <p:nvPr/>
        </p:nvPicPr>
        <p:blipFill>
          <a:blip r:embed="rId2"/>
          <a:srcRect l="11902" t="13885" r="6245" b="10703"/>
          <a:stretch/>
        </p:blipFill>
        <p:spPr>
          <a:xfrm>
            <a:off x="4067280" y="4508640"/>
            <a:ext cx="2946240" cy="20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71280" y="42840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f951f"/>
                </a:solidFill>
                <a:latin typeface="Times New Roman"/>
                <a:ea typeface="Times New Roman"/>
              </a:rPr>
              <a:t>4.Определение кислотности почвы </a:t>
            </a:r>
            <a:br>
              <a:rPr sz="2800"/>
            </a:br>
            <a:r>
              <a:rPr b="1" lang="ru-RU" sz="2800" spc="-1" strike="noStrike">
                <a:solidFill>
                  <a:srgbClr val="4f951f"/>
                </a:solidFill>
                <a:latin typeface="Times New Roman"/>
                <a:ea typeface="Times New Roman"/>
              </a:rPr>
              <a:t>при помощи рН-метра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786120" y="2706480"/>
            <a:ext cx="3960720" cy="18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чик рН  предназначен для измерения водородного показателя в различных растворах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rcRect l="0" t="0" r="4752" b="0"/>
          <a:stretch/>
        </p:blipFill>
        <p:spPr>
          <a:xfrm>
            <a:off x="539640" y="2276640"/>
            <a:ext cx="2590920" cy="32432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"/>
          <p:cNvPicPr/>
          <p:nvPr/>
        </p:nvPicPr>
        <p:blipFill>
          <a:blip r:embed="rId2"/>
          <a:stretch/>
        </p:blipFill>
        <p:spPr>
          <a:xfrm>
            <a:off x="5148360" y="4149720"/>
            <a:ext cx="2087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05:00:35Z</dcterms:created>
  <dc:creator>Костя</dc:creator>
  <dc:description/>
  <dc:language>en-US</dc:language>
  <cp:lastModifiedBy>Пользователь</cp:lastModifiedBy>
  <dcterms:modified xsi:type="dcterms:W3CDTF">2024-03-25T10:13:20Z</dcterms:modified>
  <cp:revision>184</cp:revision>
  <dc:subject/>
  <dc:title>Тема «Каменистые сады»</dc:title>
</cp:coreProperties>
</file>