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92C-717A-4059-8152-AA7B762D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3FF-C6F2-40CB-AB73-3D02AB2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75322-38FE-4185-94AB-680E264C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190EF-B189-4C4C-8CD3-B66F0ADA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1FF57-D190-4304-B67D-2EF72CA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63270-3AE7-4662-A298-0E26215C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229F4-F6E7-47CF-9826-324DE8B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C6EF7-3865-4856-AD5A-83461E24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D410-6141-4685-9FBE-B9B5C481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34DD9-B81C-4D75-A456-57D8910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98215-E4D3-4CB6-B411-DFF3A6C5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E1FD-89E8-491D-A185-524384CE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44C-9605-488F-B1F9-63EAB116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BE9E3-5D5E-403F-8E7C-2DCFC1E6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508A0-0FE9-46B8-9458-F6B0915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ADE6A-FEB0-4412-82A5-5C2ECB1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394F0-AA0F-428D-ADCD-F4ABA02B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E147-3556-4800-A625-4BBE422D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93E57-C074-4408-8160-951FB5D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ABBF9-3905-4D71-99C4-831805E6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63101-C542-4B71-9062-6C65FEF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B91D-599B-419E-892A-76B91DA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8F591-0902-471F-AF07-8CCEB51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585-D86D-45BD-8B5B-22754110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3CC9-D466-4AC8-8919-142DFC25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86D68-9331-4609-8F4B-B1BA6BC1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B34A8-F17C-4E46-9A35-F5BD180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BCDF-89C1-4C8F-8462-3405CA41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15231-C570-4509-955A-A13B4FF7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6DBE-4AE6-492F-9D48-F5E18E8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A9D62-0234-48B3-9D4C-FEB137A6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E223-4D01-4197-A0AF-EC28D459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36CF6-86CF-41A2-A0AD-98D8599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7127-30CF-493D-9A60-1E822D2D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E7A-9A17-4D2A-8C28-F8F22DBA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741C6-119F-454A-AA28-233DE076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3F50B-6338-4C56-AB3A-0DF826F1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4828-067D-4ED2-910F-62D3541F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3E2C7-9144-4A6C-80F9-804246C3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F87C4-EC64-4492-8D67-A4733F2E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64370-F1ED-40A4-BFA5-60620105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3E4C4-A17B-4EC9-B9D0-5A30C979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B0657-92CB-48C9-B12F-66028F2E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C6A40-AF10-4EAA-8C58-2C3BE812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59CB6-3152-4B0B-B850-724452A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061-7A3D-4A60-BC80-AE14EA24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06E21-F36E-4316-81D3-A0DB326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8D559-E4DB-406E-9829-DF43F95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9580C-4C81-445A-909D-55F69BD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96DEA-D4EA-4D28-9407-EBD5C272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D632C-FC51-4271-BA11-A9400E54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D9C-237B-4F9A-9174-D60DA12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924C-0BD7-47FB-8150-49887CF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A774-6948-4E0A-8CB5-9B152B5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677-AB10-40B7-B71C-BF86C153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615D-A0E3-471C-BC8E-0399B87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7F6-8EBA-44E4-858D-8C3267D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725-7F5C-4DE0-91D7-64836E6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9760-3307-4767-88BE-DE8FC80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F30-F4F2-4515-B860-95265AD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3BFC-1842-415C-94AC-4B10652E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4EF6-CE41-4473-B983-04879003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F730-B35B-44D3-8A43-D2705628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6448-A460-4D00-A6CC-BB7A31E8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F27A-87F1-4BD4-BF2C-4D33CFE7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C89A-F56B-4F78-B06E-46B0A229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7A91-8F65-4552-BD5B-754B9448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012-C8AD-439D-85D8-BD49876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0BE9-8952-43FA-8AE6-15D8EEB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1B9B-FCC5-47FD-9792-C19EA43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D00A-3883-448D-A02B-5FD50C2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5656-AFA4-4F73-9602-A487432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452F-48FF-4B94-AB97-F0C80B69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F84C-771B-4624-A36A-4BD75232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6A0C-C447-4FF0-89FE-752445F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B55A-D05A-414D-8DA1-32E6A941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2557-23DE-4D78-A4D2-505BF42F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EA93-6D54-4502-A542-15FE140C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0ED-6EE5-4FCE-9C21-9F3E64C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A779-EEA5-4A45-BB58-4EBD81A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85D8-4EE6-4627-9126-0F5EF86D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A38C-5CD5-484B-BA2C-EDC06FF1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8CEA-DB81-4730-A4CA-3B439AE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2DEA-35DB-4870-8B34-B52842B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AD8F-6821-454A-AD3A-C0B3627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22C04-1E73-407B-97BA-431DC34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40BC4-397D-4E2A-970B-0C296D47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66A3-11A8-4CA6-8608-AEBEB39E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11EB-EB74-4ABB-B1A0-B7E17B4A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36A-C41D-4CE0-8001-5CB03B5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F296-C2CE-4912-A480-FF93409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D952-89D6-4380-A0F2-63578A4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0882-C26A-4DB8-97F4-8E92A50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13D8-BA49-47E3-A7B1-6B4F80B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46471-A623-480A-95D4-1F2CAD2D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90F1-E570-4122-BEF7-C69BB6A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1CE1-D3CA-4288-BD73-5B2F350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CC14-DB3E-49F2-AB5D-AD562FE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32E3-39F9-43FC-9D11-4E968A7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4705-C2AF-4E09-8B46-985B7BC4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7FB-2885-4B3A-80D5-55A1FDAF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1F58-E747-49A0-A39E-E4AB4DB4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E18F-D43C-4D05-BB50-600F3994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C7DF-E404-4637-8B6F-14433FEE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CEE0-2192-4452-8BE9-DF7F2F1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A4EA-CFFE-4711-9A08-156D516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3DD6-A4DE-4899-991F-F347AE3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D3EC-244A-4956-9C7E-F6AC34B7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F15C-105B-4A6D-A9C1-6FE72A7C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FE13E-95E9-46FE-AADF-239D312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EACD-9914-4804-92A0-15ED20D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476-29B5-42C9-985A-FD3ECAD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7DF3-D92C-4964-9383-1AD9828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37A4-BEC8-4134-8704-3742C107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FC73-38B1-4E4D-832C-79C3E401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76D05-6DB2-4F98-9F55-197CDBBF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A873-1CDB-49BA-944A-1149A05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3EE0-481D-44E1-8AD2-8614B35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8820-6E2F-40AC-82D7-34BA560E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F795-7A79-4690-AC40-4BB7752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2A81F-CF0D-407D-B9B6-7C2F4EF6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7496-6513-4DB7-B018-1E0200D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319-0B03-4FA2-B8C8-8A3B2AC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50B5-E6BE-455B-A2E9-56D0356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79A0-20DD-4531-B808-72BECAF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9B34C-ED1E-44BA-B052-AB260801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C3AC8-050B-467F-8AC8-878BFCED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F378-AFD0-4825-B162-1444A340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BFFC7-5F21-4814-83AD-DAFF018A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4A9A-8263-440C-8BC9-BA5E720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C8C0-1CE5-48F2-9D38-837C148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94F50-ED3D-41FA-B8A3-04D7AD0C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7D18D-0E2B-4FD7-AAA4-A1359C3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4A5-5826-498A-AD30-9F23228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777F-3A9D-437D-A359-878F0853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DE24E-697E-4648-B4F4-57C2767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FAFEC-8434-4EEF-9F26-C238F9F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FE4FA-8992-473F-9D90-5B1B3A7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7AB7-F47E-42F4-BE57-EF116B89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EFD34-07CC-448E-8FE0-E90A483E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6FF34-242F-489E-B43C-1F67BED0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0024-56E7-4F0D-8992-559B2DB7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44499-FC78-47FC-B02C-8F7CFD19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898FB-DD9F-4086-99C8-3153AA4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343-1E58-4404-9F33-B15002B6A6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F1B3-4B5E-4168-A8AA-0B39CA9858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4D78-CA76-4172-883A-3BAF8644A0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A80-8FAA-48E2-BC90-6DCDB98C53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C8F5-142F-4BDB-B58A-CC90722BD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85D9-1B4B-467B-A72C-C34A459ED2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ED6F-39DB-46F8-BDAF-CDDB52E63B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DDDC-077D-44A2-935C-00D3A39621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9789-91F3-4022-87FB-996B46B42A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057-9A74-49A6-BB39-A5905D0481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F13-03FA-4C3F-9EEE-AA239154E6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A66E-A2E0-4812-9A91-A4E00E2A84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mosgid.ru/image/1320424502_510.jpg&amp;imgrefurl=http://www.mosgid.ru/shopping/answers/gde-okazivayut-uslugi-po-dostavke-podarkov-po-moskve.html&amp;usg=__inDYAlN9ZngQkXHTnGZUxK0JPn8=&amp;h=467&amp;w=700&amp;sz=62&amp;hl=ru&amp;start=7&amp;zoom=1&amp;tbnid=lni79IPEnSEyaM:&amp;tbnh=93&amp;tbnw=140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UQrQMwB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ru/imgres?imgurl=http://vyberi-podarki.ru/wp-content/uploads/2011/10/podarok.jpg&amp;imgrefurl=http://vyberi-podarki.ru/originalnye-sposoby-vrucheniya-podarkov-nashim-vozlyublennym.html&amp;usg=__sv5Iz8QQ98XBSpadW3UMe22-hXc=&amp;h=230&amp;w=222&amp;sz=8&amp;hl=ru&amp;start=11&amp;zoom=1&amp;tbnid=3d02t5kRCz54RM:&amp;tbnh=108&amp;tbnw=104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0QrQMwC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ru/imgres?imgurl=http://antonmakurin.ru/am_img/articles/gifts.jpg&amp;imgrefurl=http://antonmakurin.ru/blog/articles/article_174.html&amp;usg=__XDTHBx33YXDwOtpZlTRjsiwYxek=&amp;h=388&amp;w=350&amp;sz=92&amp;hl=ru&amp;start=6&amp;zoom=1&amp;tbnid=ORYi3a1oGOevRM:&amp;tbnh=123&amp;tbnw=111&amp;ei=YokfUfz9I-bh4QSu6IHwDA&amp;prev=/images%3Fq%3D%25D0%25BA%25D0%25B0%25D1%2580%25D1%2582%25D0%25B8%25D0%25BD%25D0%25BA%25D0%25B8%2B%25D0%25BF%25D0%25BE%25D0%25B4%25D0%25B0%25D1%2580%25D0%25BA%25D0%25BE%25D0%25B2%26hl%3Dru%26newwindow%3D1%26sa%3DX%26rlz%3D1T4PRFA_ruRU433RU436%26tbm%3Disch&amp;itbs=1&amp;sa=X&amp;ved=0CDMQrQMwBQ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ru/imgres?imgurl=http://aivari.ru/files/podarochek-lubimke.jpg&amp;imgrefurl=http://www.aivari.ru/idei-podark-k-prazd-kub-mug/index.html&amp;usg=__Wi6tjuThTgXGTcTPL9eWYq8j_U8=&amp;h=666&amp;w=800&amp;sz=202&amp;hl=ru&amp;start=30&amp;zoom=1&amp;tbnid=-TPXsd3nd4yF6M:&amp;tbnh=119&amp;tbnw=143&amp;ei=T5wfUZSrFeGm4ATU9ICgAw&amp;prev=/images%3Fq%3D%25D0%25BA%25D0%25B0%25D1%2580%25D1%2582%25D0%25B8%25D0%25BD%25D0%25BA%25D0%25B8%2B%25D0%25BF%25D0%25BE%25D0%25B4%25D0%25B0%25D1%2580%25D0%25BA%25D0%25BE%25D0%25B2%26start%3D20%26hl%3Dru%26newwindow%3D1%26sa%3DN%26rlz%3D1T4PRFA_ruRU433RU436%26tbm%3Disch&amp;itbs=1&amp;sa=X&amp;ved=0CDsQrQMwCTgU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gle.ru/imgres?imgurl=http://blogovk.com/_nw/7/41538381.jpg&amp;imgrefurl=http://blogovk.com/news/free_distribution_gifts_vkontakte_2/2012-03-14-753&amp;usg=__sLHtgsGHmV-_KSIBgwLA0dnv8cI=&amp;h=256&amp;w=256&amp;sz=26&amp;hl=ru&amp;start=35&amp;zoom=1&amp;tbnid=-c0GbYooiS79pM:&amp;tbnh=111&amp;tbnw=111&amp;ei=T5wfUZSrFeGm4ATU9ICgAw&amp;prev=/images%3Fq%3D%25D0%25BA%25D0%25B0%25D1%2580%25D1%2582%25D0%25B8%25D0%25BD%25D0%25BA%25D0%25B8%2B%25D0%25BF%25D0%25BE%25D0%25B4%25D0%25B0%25D1%2580%25D0%25BA%25D0%25BE%25D0%25B2%26start%3D20%26hl%3Dru%26newwindow%3D1%26sa%3DN%26rlz%3D1T4PRFA_ruRU433RU436%26tbm%3Disch&amp;itbs=1&amp;sa=X&amp;ved=0CEUQrQMwDjgU" TargetMode="External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crazys.info/files/img/samsung-yp-t5.jpg&amp;imgrefurl=http://crazys.info/interesting/42-mp3-pleeryi-plyusyi-i-minusyi-vseh-modeley.html&amp;usg=__unvzC6O5z_us01tEl-wUjwt6PbI=&amp;h=426&amp;w=440&amp;sz=35&amp;hl=ru&amp;start=5&amp;zoom=1&amp;tbnid=fwp9eQMflGOUDM:&amp;tbnh=123&amp;tbnw=127&amp;ei=fo8fUdK8CeOs4ATnlIFo&amp;prev=/images%3Fq%3D%25D1%2584%25D0%25BE%25D1%2582%25D0%25BE%2B%25D0%25BF%25D0%25BB%25D0%25B5%25D0%25B5%25D1%2580%25D0%25BE%25D0%25B2%26hl%3Dru%26newwindow%3D1%26sa%3DX%26rlz%3D1T4PRFA_ruRU433RU436%26tbm%3Disch&amp;itbs=1&amp;sa=X&amp;ved=0CDMQrQMwBA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fauntastic.net/wp-content/uploads/2012/01/110203_023.jpg&amp;imgrefurl=http://fauntastic.net/eda-dlya-sobak.html&amp;usg=__seYx3jcgXXUDVPQfiWqKQJ1m8os=&amp;h=531&amp;w=699&amp;sz=90&amp;hl=ru&amp;start=2&amp;zoom=1&amp;tbnid=qXYD_l2FGuDs7M:&amp;tbnh=106&amp;tbnw=139&amp;ei=D5cfUcm0M-rw4QTN-IDQBg&amp;prev=/images%3Fq%3D%25D1%2584%25D0%25BE%25D1%2582%25D0%25BE%2B%25D0%25B5%25D0%25B4%25D0%25B0%2B%25D0%25B4%25D0%25BB%25D1%258F%2B%25D1%2581%25D0%25BE%25D0%25B1%25D0%25B0%25D0%25BA%26hl%3Dru%26newwindow%3D1%26rlz%3D1T4PRFA_ruRU433RU436%26tbm%3Disch&amp;itbs=1&amp;sa=X&amp;ved=0CCsQrQMwAQ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ru/imgres?imgurl=http://www.stihi.ru/pics/2012/01/12/10873.jpg&amp;imgrefurl=http://www.stihi.ru/2012/01/12/10873&amp;usg=__7FuhR6KiSljin7GtU5jo68LZmo4=&amp;h=481&amp;w=720&amp;sz=93&amp;hl=ru&amp;start=1&amp;zoom=1&amp;tbnid=QqNhoupxd0m_OM:&amp;tbnh=94&amp;tbnw=140&amp;ei=bZcfUZm9BsyN4gTI6YDYBQ&amp;prev=/images%3Fq%3D%25D1%2584%25D0%25BE%25D1%2582%25D0%25BE%2B%25D0%25BA%25D1%2580%25D0%25B0%25D1%2581%25D0%25BD%25D0%25BE%25D0%25B3%25D0%25BE%2B%25D0%25BC%25D1%258F%25D1%2587%25D0%25B8%25D0%25BA%25D0%25B0%26hl%3Dru%26newwindow%3D1%26rlz%3D1T4PRFA_ruRU433RU436%26tbm%3Disch&amp;itbs=1&amp;sa=X&amp;ved=0CCkQrQMwAA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google.ru/imgres?imgurl=http://img-fotki.yandex.ru/get/4427/41134550.109/0_60c10_3402378a_orig.jpg&amp;imgrefurl=http://www.liveinternet.ru/users/leonidovich60/post199994566&amp;usg=__6ORmOjfjg93-AvX44uK00ZBuMAA=&amp;h=900&amp;w=856&amp;sz=256&amp;hl=ru&amp;start=8&amp;zoom=1&amp;tbnid=d2a-kFoy-g5oyM:&amp;tbnh=146&amp;tbnw=139&amp;ei=oZcfUfGcI4fZ4QTP0YCgBg&amp;prev=/images%3Fq%3D%25D1%2584%25D0%25BE%25D1%2582%25D0%25BE%2B%25D0%25BF%25D0%25BB%25D1%258E%25D1%2588%25D0%25B5%25D0%25B2%25D1%258B%25D1%2585%2B%25D0%25BC%25D0%25B8%25D1%2588%25D0%25B5%25D0%25BA%26hl%3Dru%26newwindow%3D1%26rlz%3D1T4PRFA_ruRU433RU436%26tbm%3Disch&amp;itbs=1&amp;sa=X&amp;ved=0CDcQrQMwBw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google.ru/imgres?imgurl=http://www.elitecakes.ru/imgs/actions/01.jpg&amp;imgrefurl=http://www.elitecakes.ru/&amp;usg=__lArZkqSlpQjsSDqkHkAG7PZMQfM=&amp;h=375&amp;w=501&amp;sz=60&amp;hl=ru&amp;start=3&amp;zoom=1&amp;tbnid=Tfaa-JTVz3qNoM:&amp;tbnh=97&amp;tbnw=130&amp;ei=DJgfUaauGcnw4QSd2IC4AQ&amp;prev=/images%3Fq%3D%25D1%2584%25D0%25BE%25D1%2582%25D0%25BE%2B%25D1%2582%25D0%25BE%25D1%2580%25D1%2582%25D0%25BE%25D0%25B2%26hl%3Dru%26newwindow%3D1%26sa%3DX%26rlz%3D1T4PRFA_ruRU433RU436%26tbm%3Disch&amp;itbs=1&amp;sa=X&amp;ved=0CC0QrQMwA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secretworlds.ru/fotki/fotki3/domashnie_zhivotnye_secretworlds.ru.jpg&amp;imgrefurl=http://secretworlds.ru/blog/khozjaeva_mogut_zarazit_domashnikh_zhivotnykh_grippom/2012-10-08-617&amp;usg=__6Ff920AxwKiSAvl8grG2_l-BnYg=&amp;h=768&amp;w=1024&amp;sz=163&amp;hl=ru&amp;start=16&amp;zoom=1&amp;tbnid=25PZBvtoqABQ_M:&amp;tbnh=113&amp;tbnw=150&amp;ei=IJofUe3DFcT54QSp4YGwCA&amp;prev=/images%3Fq%3D%25D1%2584%25D0%25BE%25D1%2582%25D0%25BE%2B%25D0%25B6%25D0%25B8%25D0%25B2%25D0%25BE%25D1%2582%25D0%25BD%25D1%258B%25D1%2585%26hl%3Dru%26newwindow%3D1%26sa%3DX%26rlz%3D1T4PRFA_ruRU433RU436%26tbm%3Disch&amp;itbs=1&amp;sa=X&amp;ved=0CEcQrQMwDw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oogle.ru/imgres?imgurl=http://antigorod.com/uploads/posts/2009-02/1234089512_great_animals_01.jpg&amp;imgrefurl=http://antigorod.com/photo/nature/2802-udivitelnyjj-mir.-fotografii-zhivotnykh.html&amp;usg=__L7IoI-Fh3_egHbLglufDp2Fh7GE=&amp;h=412&amp;w=550&amp;sz=48&amp;hl=ru&amp;start=18&amp;zoom=1&amp;tbnid=33s8BXM_E6OC4M:&amp;tbnh=100&amp;tbnw=133&amp;ei=IJofUe3DFcT54QSp4YGwCA&amp;prev=/images%3Fq%3D%25D1%2584%25D0%25BE%25D1%2582%25D0%25BE%2B%25D0%25B6%25D0%25B8%25D0%25B2%25D0%25BE%25D1%2582%25D0%25BD%25D1%258B%25D1%2585%26hl%3Dru%26newwindow%3D1%26sa%3DX%26rlz%3D1T4PRFA_ruRU433RU436%26tbm%3Disch&amp;itbs=1&amp;sa=X&amp;ved=0CEsQrQMwEQ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google.ru/imgres?imgurl=http://ianimal.ru/wp-content/uploads/2012/01/funny-hamster-800x600-wallpaper-2581.jpg&amp;imgrefurl=http://ianimal.ru/topics/smeshnye-kartinki-zhivotnykh-53&amp;usg=__valNdFuW4xmSx8QLE1aeJpagm0s=&amp;h=600&amp;w=800&amp;sz=378&amp;hl=ru&amp;start=40&amp;zoom=1&amp;tbnid=emKixvOiICkKLM:&amp;tbnh=107&amp;tbnw=143&amp;ei=WpofUYVix9XhBJrggagE&amp;prev=/images%3Fq%3D%25D1%2584%25D0%25BE%25D1%2582%25D0%25BE%2B%25D0%25B6%25D0%25B8%25D0%25B2%25D0%25BE%25D1%2582%25D0%25BD%25D1%258B%25D1%2585%26start%3D20%26hl%3Dru%26newwindow%3D1%26sa%3DN%26rlz%3D1T4PRFA_ruRU433RU436%26tbm%3Disch&amp;itbs=1&amp;sa=X&amp;ved=0CE8QrQMwEzgU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google.ru/imgres?imgurl=http://animalshome.ucoz.ru/vp4.jpg&amp;imgrefurl=http://animalshome.ucoz.ru/publ/pticy/priruchenie_i_obuchenie_volnistykh_popugajchikov/25-1-0-5&amp;usg=__JVKcXqueVaSryUsjtu4-Oein2mg=&amp;h=362&amp;w=400&amp;sz=46&amp;hl=ru&amp;start=19&amp;zoom=1&amp;tbnid=6e7LXargDXWEJM:&amp;tbnh=112&amp;tbnw=124&amp;ei=h5ofUcy7JIWh4gS9ooHgBA&amp;prev=/images%3Fq%3D%25D1%2584%25D0%25BE%25D1%2582%25D0%25BE%2B%25D0%25BF%25D0%25BE%25D0%25BF%25D1%2583%25D0%25B3%25D0%25B0%25D0%25B9%25D1%2587%25D0%25B8%25D0%25BA%25D0%25BE%25D0%25B2%26hl%3Dru%26newwindow%3D1%26sa%3DX%26rlz%3D1T4PRFA_ruRU433RU436%26tbm%3Disch&amp;itbs=1&amp;sa=X&amp;ved=0CE0QrQMwEg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www.google.ru/imgres?imgurl=http://www.povodok.ru/pics/art72/art7132_2.jpg&amp;imgrefurl=http://www.povodok.ru/rest/zoo/art7132.html&amp;usg=__cjr3aZsR54Rc0F-KjTRk2RVbwOM=&amp;h=446&amp;w=599&amp;sz=136&amp;hl=ru&amp;start=5&amp;zoom=1&amp;tbnid=SEC9LjrxAMPOXM:&amp;tbnh=101&amp;tbnw=135&amp;ei=DZsfUaSIL5DE4gTBxIFo&amp;prev=/images%3Fq%3D%25D1%2584%25D0%25BE%25D1%2582%25D0%25BE%2B%25D1%2587%25D0%25B5%25D1%2580%25D0%25B5%25D0%25BF%25D0%25B0%25D1%2585%26hl%3Dru%26newwindow%3D1%26sa%3DX%26rlz%3D1T4PRFA_ruRU433RU436%26tbm%3Disch&amp;itbs=1&amp;sa=X&amp;ved=0CDEQrQMwBA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www.google.ru/imgres?imgurl=http://www.elitecakes.ru/imgs/actions/01.jpg&amp;imgrefurl=http://www.elitecakes.ru/&amp;usg=__lArZkqSlpQjsSDqkHkAG7PZMQfM=&amp;h=375&amp;w=501&amp;sz=60&amp;hl=ru&amp;start=3&amp;zoom=1&amp;tbnid=Tfaa-JTVz3qNoM:&amp;tbnh=97&amp;tbnw=130&amp;ei=d5sfUeqJG6b44QTvnIDIDA&amp;prev=/images%3Fq%3D%25D1%2584%25D0%25BE%25D1%2582%25D0%25BE%2B%25D1%2582%25D0%25BE%25D1%2580%25D1%2582%25D0%25BE%25D0%25B2%26hl%3Dru%26newwindow%3D1%26sa%3DX%26rlz%3D1T4PRFA_ruRU433RU436%26tbm%3Disch&amp;itbs=1&amp;sa=X&amp;ved=0CC0QrQMwAg" TargetMode="External"/><Relationship Id="rId12" Type="http://schemas.openxmlformats.org/officeDocument/2006/relationships/image" Target="../media/image2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дарки на день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066680"/>
            <a:ext cx="2362320" cy="1568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505320"/>
            <a:ext cx="2090520" cy="21715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00760" y="3352680"/>
            <a:ext cx="2776680" cy="3076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9880" y="5029200"/>
            <a:ext cx="1362240" cy="1133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467480" y="3049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1" name="Объект 4" descr=""/>
          <p:cNvPicPr/>
          <p:nvPr/>
        </p:nvPicPr>
        <p:blipFill>
          <a:blip r:embed="rId1"/>
          <a:stretch/>
        </p:blipFill>
        <p:spPr>
          <a:xfrm>
            <a:off x="1725480" y="843120"/>
            <a:ext cx="6150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3" name="Объект 4" descr=""/>
          <p:cNvPicPr/>
          <p:nvPr/>
        </p:nvPicPr>
        <p:blipFill>
          <a:blip r:embed="rId1"/>
          <a:stretch/>
        </p:blipFill>
        <p:spPr>
          <a:xfrm>
            <a:off x="1447920" y="860400"/>
            <a:ext cx="637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95" name="Объект 4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8077320" cy="62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 71 ex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at would you like to have for your birth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d like to have a play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d like to have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2747880"/>
            <a:ext cx="167652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 72 ex 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en is Rex’s birth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 birthday is on the 2</a:t>
            </a: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i="1" lang="en-US" sz="2400" spc="-1" strike="noStrike" baseline="30000">
                <a:solidFill>
                  <a:srgbClr val="0066ff"/>
                </a:solidFill>
                <a:latin typeface="Arial"/>
              </a:rPr>
              <a:t>th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of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w old is R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 is th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Who comes to see R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Rex’s friends 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What have they got to ea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They have got a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Why are the friends hap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- They have got meat for Doggie, ham for Rex, carrots for Patrick and fish for Mu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438280"/>
            <a:ext cx="2590920" cy="1974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4419720"/>
            <a:ext cx="1752840" cy="1176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99072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4572000"/>
            <a:ext cx="12380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cc0099"/>
                </a:solidFill>
                <a:latin typeface="Times New Roman"/>
              </a:rPr>
              <a:t>My pet’s birthday par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1. I have go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It’s nice. It ca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3. Its birthday is 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4. On its birthday we would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5. My pet would get a lot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f presents: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05120"/>
            <a:ext cx="2266920" cy="1708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5391000"/>
            <a:ext cx="1981080" cy="1467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167652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5205240"/>
            <a:ext cx="1828800" cy="1652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5718240"/>
            <a:ext cx="1523880" cy="1139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9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15200" y="152280"/>
            <a:ext cx="1619280" cy="12081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1" descr=""/>
          <p:cNvPicPr/>
          <p:nvPr/>
        </p:nvPicPr>
        <p:blipFill>
          <a:blip r:embed="rId13"/>
          <a:stretch/>
        </p:blipFill>
        <p:spPr>
          <a:xfrm>
            <a:off x="228600" y="15228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5" name="Объект 4" descr=""/>
          <p:cNvPicPr/>
          <p:nvPr/>
        </p:nvPicPr>
        <p:blipFill>
          <a:blip r:embed="rId1"/>
          <a:stretch/>
        </p:blipFill>
        <p:spPr>
          <a:xfrm>
            <a:off x="914400" y="277920"/>
            <a:ext cx="77724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7" name="Объект 4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202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9" name="Объект 4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0102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1" name="Объект 4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967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3" name="Объект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405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5" name="Объект 4" descr=""/>
          <p:cNvPicPr/>
          <p:nvPr/>
        </p:nvPicPr>
        <p:blipFill>
          <a:blip r:embed="rId1"/>
          <a:stretch/>
        </p:blipFill>
        <p:spPr>
          <a:xfrm>
            <a:off x="1801800" y="1600200"/>
            <a:ext cx="5997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7" name="Объект 4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2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89" name="Объект 4" descr=""/>
          <p:cNvPicPr/>
          <p:nvPr/>
        </p:nvPicPr>
        <p:blipFill>
          <a:blip r:embed="rId1"/>
          <a:stretch/>
        </p:blipFill>
        <p:spPr>
          <a:xfrm>
            <a:off x="1614600" y="816120"/>
            <a:ext cx="637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ypk2023@outlook.com</cp:lastModifiedBy>
  <dcterms:modified xsi:type="dcterms:W3CDTF">2024-03-25T08:22:3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