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0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88A-87D1-4A8E-BEF3-1281DD9A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5E3-448E-4D80-9FC4-E65ABE78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249DB-39D5-4D9C-8E3F-47320D78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04447-909A-46F5-8424-FE592A69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83A79-DDCC-48D4-B3C6-1E3B058E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5CFAC-7E1D-4360-9EF5-F6DE1529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47B2B-D7F8-4C72-8ED1-2F2E42D2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4D6C8-97FD-4F83-B286-DB81AC7C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271B4-C147-4026-AF70-B72E2539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244A8-062D-4BB1-B62E-C168747F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0145B-A614-4B40-B426-7CEC84A9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DE609-9AA5-41E5-AE8B-B7678EC3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1CE-0789-4D99-8219-FAA2F7EA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EFCE7-2602-426D-BEA7-07FD6609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EC823-38E2-477C-BF9A-F75C2650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28FB5-E50F-41B2-A6D1-E5933F55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8B0DE-8B11-43BD-894D-6FC91DC0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FA1FD-898C-4829-BFA2-C6D8965F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FFE69-9FCE-45C1-AADE-198E21D5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21ED0-5C15-46FA-8909-E36BADA0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E611C-7C26-44E2-A76A-FD0F19FA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23C79-0FDF-4DBE-9202-CDFB5022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5C229-A245-4BD6-9767-6E0088D4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2D3F-25C5-4B7F-B6A8-CDA79DBB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09B15-B0CF-4574-B3E5-479D09D9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F91C0-94EF-40A7-B0D9-719ED96A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84F3A-8242-4914-8BAA-4DE1ECE3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ABE8B-A7F3-4FA9-AE56-98347133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4096F-8DE8-42DF-94BE-1EEAC166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1614E-AE36-44F0-83D1-3EBAA2AB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8D717-B030-44B0-9ED3-0A923ABE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A400B-6720-402A-A0DE-3044E468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3C58C-6C03-4678-8B16-BDBBFA30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FEB4A-890A-4607-903E-E8BCEC35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C3E5-08D2-404C-9359-DAC9381B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8BF05-7C97-44F6-8980-1FF98F73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F3A84-49BA-4A37-9382-4079B6F8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CD45B-590B-4B5F-B341-75B86A4C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E8316-17B5-4018-A7F6-792890FB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E1453-19D0-4F74-8A77-144244C2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8D1D1-A63C-4092-82AC-7D610206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AA1F0-6AD4-48A3-9ACE-E7D66BD8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D4FCD-E4F2-48AF-8F51-5B97F806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AA7AB-3F5C-418A-A3AA-9F57AF05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DB2C2-A979-4E83-8CA1-C9F49BE4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DC42-46A0-402E-AB48-87720E0A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FC47B-4C87-4461-9457-7E4218C7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CF0E0-7D90-4299-96CE-DE069C81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083DD-B3D8-44F2-91A2-C823AEE5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CD702-1621-4516-8703-6B0EF4A4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99C1C-C97B-4EDB-8BBA-C5936BA0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A8A0-75E8-472E-8DD7-F883DE42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E117-D104-453B-AAB6-7272E187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B4DC-61AB-4CC4-87CB-42E8B113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2224-B279-4F1D-9188-A4742E55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2312-657F-4B3F-B2FA-787E8985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F9B-5EFD-4738-91F8-0E95CFF7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CC5E-9CBD-4167-BB4D-45625A22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6623-7596-4D05-BBB9-47987959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83B1-24F4-4223-AA8D-2BE3FCC0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C232-117D-40C6-96EC-00F28BCA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5630-4374-4FD2-AB12-DE203B6A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34471-0CE4-4629-9A91-682F9019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F47AD-ACA1-46FA-B200-D36C9CB8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C6971-E39D-4731-9914-8D0B8A20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8187A-B364-485A-B0A4-43011AC6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A347A-2ED3-4FFA-8D5C-12488EF0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C91B-B8B3-42B1-BB3A-DF3C95D9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1451-76DA-4E36-87AA-C33AEFE5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37726-B059-4BE5-AC09-C679A669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E672E-C218-46BD-BD84-7CDFD0A4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B2EA3-1CD9-4C6C-83D9-6FF2D090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EFD82-22FD-4C59-BE9B-21B9715B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420B8-5BA4-4C05-851C-B26795DB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85AFA-CDDA-4D19-BA82-867619E8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61096-6689-4F73-9C86-435925A4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6B498-9459-4393-922F-EA863B72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922D9-F26A-46CF-9469-13C471EA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655-9FD6-4649-9806-5BC6900A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1255F-A3DB-4000-8B5A-318A2FF4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770B8-A5AF-4703-9C49-D705F738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259FB-3B4A-4DEF-A1E5-29AB1CFC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94112-D2FE-429E-9180-AC2CEF4A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A9FDA-BDA5-48D7-9341-E561C247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D0111-4E7D-4C77-96C0-F83A2279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25631-933A-4FD6-9BC6-FDFA3D89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49D94-593E-401A-B38A-EE3A9770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4B9A4-4016-4FA5-981C-332831ED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E108D-1A1D-43E2-8F31-2DECAFC1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0ABC-8976-43AD-A71B-8624F14A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D2DF8-F26B-44FA-AA12-F784A231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A0A4D-F019-4875-A30A-4FB273CC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572B1-B1A0-4AC3-BC96-4635FB59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1C68F-ADA3-4601-BE7B-26C457AA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8EB6B-7929-43CB-B94E-F07C06B5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C61A2-A84E-4770-B71E-A1CBD84E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E68F9-9891-4BA6-957D-6F3919B1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9CC3B-F477-4F50-BC16-ED2F1793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8C328-065F-4DD4-A09F-46955293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0A1B4-87D4-4300-A6FA-1FD7F91C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6BE5-D033-42AB-93A3-13EE9605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6BFF8-881C-4CC6-B698-A6FD7B4A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76707-47D9-45C3-89D6-2C6D41BD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3049C-9183-424D-A767-5000C9BD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F63E6-0879-418D-980C-1852F0A0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3AFAB-8CF1-442E-A382-DD425C6C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FD500-FD3E-469B-BB53-95F8BEC3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2CFEA-19C9-4847-AFF3-31295232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3FFBE-D90B-4512-B039-DC69DD4F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4D952-3E0C-42FE-BC7E-616FACEC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5B5EE-80CF-4E85-955F-D3281A02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505-04E1-4F59-86E8-A4BF4405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82666-F128-4F8E-AC45-3149CC94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CBEEC-DA09-4E9C-8C2F-B4BE89C9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760BD-80E6-40E5-9815-FCF4BB71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4DE8F-C333-4D9F-B2E9-E7037B7A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539DF-64CD-45A6-B963-7C5ED63A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ABF47-12AE-4E39-8A36-F2952EA3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189EE-B9FD-4FB7-A09F-52EED457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4E344-B228-43DD-8BF4-C81112CF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0A7D4-CBAD-4EA9-98F7-8B590523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29545-0918-4B06-9A9E-144B6D09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305-0E96-4DA5-ABAE-5A21324B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8E1CF-A7A4-4E38-BF3C-E18F9DB0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66895-982A-48DB-BB96-5EB863EE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2F702-9EEC-482F-A5EF-0F0C74F0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0D9FA-B1F3-4D1D-AF10-B5E81D5A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36183-B322-4ABA-8D9A-E81FB5FE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9E203-B125-4351-A648-AEB5E9C9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86BA0-0E6E-4945-9637-F183A6FE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A7DD2-618C-4DBE-8953-0228F489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6E087-11E7-4F42-BFD3-D8107C6E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4CBF9-3662-4D7C-8C9A-BDA9B892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DD0-BC0E-4AAA-A880-B9E205E8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B8DAC-F4BB-42A8-BDE8-39A57293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E32D0-DCEF-4C5D-86A2-374A06D1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3C77E-05D5-4679-824D-54AEE9CC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400B8-D233-48F8-BF29-F5F47591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52055-4AAB-48D2-9C35-6B5E38C4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E77CD-993F-4E1C-BFCF-F2A97772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F5EA9-B1D0-45A4-92E9-B9C3FA08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A7BCB-9E49-4BED-AAB8-F91AE514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59375-1F9B-4C3E-BF2D-962D963B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E4E0B-60FA-4484-8118-4DC87006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BEB8-0A48-40DF-8BF4-FE71BFE824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2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F164-41AF-4585-9AD0-C81C5C86C0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7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7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040D-EA2E-4026-B937-99409315A7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2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2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4DE4-5C47-41F0-9E4C-F552C82AF9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9032-2215-4CDD-8206-4C7F637535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A559-4C39-4FA5-BCE5-EB5D00D2C4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4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4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634C-3E71-467A-8E02-02A30BCFEB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9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1B3F-D0E0-4963-BF18-00FDF83933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3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4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F65C-9C96-4AEB-B0E0-89222EC16A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8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8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3834-B314-4E69-809A-677E756694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3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3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4FD2-D509-4C32-999E-44CD10A637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8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8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4A76-EF72-42E5-88CB-E1F6CCF93E1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www.mosgid.ru/image/1320424502_510.jpg&amp;imgrefurl=http://www.mosgid.ru/shopping/answers/gde-okazivayut-uslugi-po-dostavke-podarkov-po-moskve.html&amp;usg=__inDYAlN9ZngQkXHTnGZUxK0JPn8=&amp;h=467&amp;w=700&amp;sz=62&amp;hl=ru&amp;start=7&amp;zoom=1&amp;tbnid=lni79IPEnSEyaM:&amp;tbnh=93&amp;tbnw=140&amp;ei=YokfUfz9I-bh4QSu6IHwDA&amp;prev=/images%3Fq%3D%25D0%25BA%25D0%25B0%25D1%2580%25D1%2582%25D0%25B8%25D0%25BD%25D0%25BA%25D0%25B8%2B%25D0%25BF%25D0%25BE%25D0%25B4%25D0%25B0%25D1%2580%25D0%25BA%25D0%25BE%25D0%25B2%26hl%3Dru%26newwindow%3D1%26sa%3DX%26rlz%3D1T4PRFA_ruRU433RU436%26tbm%3Disch&amp;itbs=1&amp;sa=X&amp;ved=0CDUQrQMwB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ru/imgres?imgurl=http://vyberi-podarki.ru/wp-content/uploads/2011/10/podarok.jpg&amp;imgrefurl=http://vyberi-podarki.ru/originalnye-sposoby-vrucheniya-podarkov-nashim-vozlyublennym.html&amp;usg=__sv5Iz8QQ98XBSpadW3UMe22-hXc=&amp;h=230&amp;w=222&amp;sz=8&amp;hl=ru&amp;start=11&amp;zoom=1&amp;tbnid=3d02t5kRCz54RM:&amp;tbnh=108&amp;tbnw=104&amp;ei=YokfUfz9I-bh4QSu6IHwDA&amp;prev=/images%3Fq%3D%25D0%25BA%25D0%25B0%25D1%2580%25D1%2582%25D0%25B8%25D0%25BD%25D0%25BA%25D0%25B8%2B%25D0%25BF%25D0%25BE%25D0%25B4%25D0%25B0%25D1%2580%25D0%25BA%25D0%25BE%25D0%25B2%26hl%3Dru%26newwindow%3D1%26sa%3DX%26rlz%3D1T4PRFA_ruRU433RU436%26tbm%3Disch&amp;itbs=1&amp;sa=X&amp;ved=0CD0QrQMwC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ru/imgres?imgurl=http://antonmakurin.ru/am_img/articles/gifts.jpg&amp;imgrefurl=http://antonmakurin.ru/blog/articles/article_174.html&amp;usg=__XDTHBx33YXDwOtpZlTRjsiwYxek=&amp;h=388&amp;w=350&amp;sz=92&amp;hl=ru&amp;start=6&amp;zoom=1&amp;tbnid=ORYi3a1oGOevRM:&amp;tbnh=123&amp;tbnw=111&amp;ei=YokfUfz9I-bh4QSu6IHwDA&amp;prev=/images%3Fq%3D%25D0%25BA%25D0%25B0%25D1%2580%25D1%2582%25D0%25B8%25D0%25BD%25D0%25BA%25D0%25B8%2B%25D0%25BF%25D0%25BE%25D0%25B4%25D0%25B0%25D1%2580%25D0%25BA%25D0%25BE%25D0%25B2%26hl%3Dru%26newwindow%3D1%26sa%3DX%26rlz%3D1T4PRFA_ruRU433RU436%26tbm%3Disch&amp;itbs=1&amp;sa=X&amp;ved=0CDMQrQMwBQ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google.ru/imgres?imgurl=http://aivari.ru/files/podarochek-lubimke.jpg&amp;imgrefurl=http://www.aivari.ru/idei-podark-k-prazd-kub-mug/index.html&amp;usg=__Wi6tjuThTgXGTcTPL9eWYq8j_U8=&amp;h=666&amp;w=800&amp;sz=202&amp;hl=ru&amp;start=30&amp;zoom=1&amp;tbnid=-TPXsd3nd4yF6M:&amp;tbnh=119&amp;tbnw=143&amp;ei=T5wfUZSrFeGm4ATU9ICgAw&amp;prev=/images%3Fq%3D%25D0%25BA%25D0%25B0%25D1%2580%25D1%2582%25D0%25B8%25D0%25BD%25D0%25BA%25D0%25B8%2B%25D0%25BF%25D0%25BE%25D0%25B4%25D0%25B0%25D1%2580%25D0%25BA%25D0%25BE%25D0%25B2%26start%3D20%26hl%3Dru%26newwindow%3D1%26sa%3DN%26rlz%3D1T4PRFA_ruRU433RU436%26tbm%3Disch&amp;itbs=1&amp;sa=X&amp;ved=0CDsQrQMwCTgU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google.ru/imgres?imgurl=http://blogovk.com/_nw/7/41538381.jpg&amp;imgrefurl=http://blogovk.com/news/free_distribution_gifts_vkontakte_2/2012-03-14-753&amp;usg=__sLHtgsGHmV-_KSIBgwLA0dnv8cI=&amp;h=256&amp;w=256&amp;sz=26&amp;hl=ru&amp;start=35&amp;zoom=1&amp;tbnid=-c0GbYooiS79pM:&amp;tbnh=111&amp;tbnw=111&amp;ei=T5wfUZSrFeGm4ATU9ICgAw&amp;prev=/images%3Fq%3D%25D0%25BA%25D0%25B0%25D1%2580%25D1%2582%25D0%25B8%25D0%25BD%25D0%25BA%25D0%25B8%2B%25D0%25BF%25D0%25BE%25D0%25B4%25D0%25B0%25D1%2580%25D0%25BA%25D0%25BE%25D0%25B2%26start%3D20%26hl%3Dru%26newwindow%3D1%26sa%3DN%26rlz%3D1T4PRFA_ruRU433RU436%26tbm%3Disch&amp;itbs=1&amp;sa=X&amp;ved=0CEUQrQMwDjgU" TargetMode="External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crazys.info/files/img/samsung-yp-t5.jpg&amp;imgrefurl=http://crazys.info/interesting/42-mp3-pleeryi-plyusyi-i-minusyi-vseh-modeley.html&amp;usg=__unvzC6O5z_us01tEl-wUjwt6PbI=&amp;h=426&amp;w=440&amp;sz=35&amp;hl=ru&amp;start=5&amp;zoom=1&amp;tbnid=fwp9eQMflGOUDM:&amp;tbnh=123&amp;tbnw=127&amp;ei=fo8fUdK8CeOs4ATnlIFo&amp;prev=/images%3Fq%3D%25D1%2584%25D0%25BE%25D1%2582%25D0%25BE%2B%25D0%25BF%25D0%25BB%25D0%25B5%25D0%25B5%25D1%2580%25D0%25BE%25D0%25B2%26hl%3Dru%26newwindow%3D1%26sa%3DX%26rlz%3D1T4PRFA_ruRU433RU436%26tbm%3Disch&amp;itbs=1&amp;sa=X&amp;ved=0CDMQrQMwBA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fauntastic.net/wp-content/uploads/2012/01/110203_023.jpg&amp;imgrefurl=http://fauntastic.net/eda-dlya-sobak.html&amp;usg=__seYx3jcgXXUDVPQfiWqKQJ1m8os=&amp;h=531&amp;w=699&amp;sz=90&amp;hl=ru&amp;start=2&amp;zoom=1&amp;tbnid=qXYD_l2FGuDs7M:&amp;tbnh=106&amp;tbnw=139&amp;ei=D5cfUcm0M-rw4QTN-IDQBg&amp;prev=/images%3Fq%3D%25D1%2584%25D0%25BE%25D1%2582%25D0%25BE%2B%25D0%25B5%25D0%25B4%25D0%25B0%2B%25D0%25B4%25D0%25BB%25D1%258F%2B%25D1%2581%25D0%25BE%25D0%25B1%25D0%25B0%25D0%25BA%26hl%3Dru%26newwindow%3D1%26rlz%3D1T4PRFA_ruRU433RU436%26tbm%3Disch&amp;itbs=1&amp;sa=X&amp;ved=0CCsQrQMwAQ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google.ru/imgres?imgurl=http://www.stihi.ru/pics/2012/01/12/10873.jpg&amp;imgrefurl=http://www.stihi.ru/2012/01/12/10873&amp;usg=__7FuhR6KiSljin7GtU5jo68LZmo4=&amp;h=481&amp;w=720&amp;sz=93&amp;hl=ru&amp;start=1&amp;zoom=1&amp;tbnid=QqNhoupxd0m_OM:&amp;tbnh=94&amp;tbnw=140&amp;ei=bZcfUZm9BsyN4gTI6YDYBQ&amp;prev=/images%3Fq%3D%25D1%2584%25D0%25BE%25D1%2582%25D0%25BE%2B%25D0%25BA%25D1%2580%25D0%25B0%25D1%2581%25D0%25BD%25D0%25BE%25D0%25B3%25D0%25BE%2B%25D0%25BC%25D1%258F%25D1%2587%25D0%25B8%25D0%25BA%25D0%25B0%26hl%3Dru%26newwindow%3D1%26rlz%3D1T4PRFA_ruRU433RU436%26tbm%3Disch&amp;itbs=1&amp;sa=X&amp;ved=0CCkQrQMwAA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www.google.ru/imgres?imgurl=http://img-fotki.yandex.ru/get/4427/41134550.109/0_60c10_3402378a_orig.jpg&amp;imgrefurl=http://www.liveinternet.ru/users/leonidovich60/post199994566&amp;usg=__6ORmOjfjg93-AvX44uK00ZBuMAA=&amp;h=900&amp;w=856&amp;sz=256&amp;hl=ru&amp;start=8&amp;zoom=1&amp;tbnid=d2a-kFoy-g5oyM:&amp;tbnh=146&amp;tbnw=139&amp;ei=oZcfUfGcI4fZ4QTP0YCgBg&amp;prev=/images%3Fq%3D%25D1%2584%25D0%25BE%25D1%2582%25D0%25BE%2B%25D0%25BF%25D0%25BB%25D1%258E%25D1%2588%25D0%25B5%25D0%25B2%25D1%258B%25D1%2585%2B%25D0%25BC%25D0%25B8%25D1%2588%25D0%25B5%25D0%25BA%26hl%3Dru%26newwindow%3D1%26rlz%3D1T4PRFA_ruRU433RU436%26tbm%3Disch&amp;itbs=1&amp;sa=X&amp;ved=0CDcQrQMwBw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www.google.ru/imgres?imgurl=http://www.elitecakes.ru/imgs/actions/01.jpg&amp;imgrefurl=http://www.elitecakes.ru/&amp;usg=__lArZkqSlpQjsSDqkHkAG7PZMQfM=&amp;h=375&amp;w=501&amp;sz=60&amp;hl=ru&amp;start=3&amp;zoom=1&amp;tbnid=Tfaa-JTVz3qNoM:&amp;tbnh=97&amp;tbnw=130&amp;ei=DJgfUaauGcnw4QSd2IC4AQ&amp;prev=/images%3Fq%3D%25D1%2584%25D0%25BE%25D1%2582%25D0%25BE%2B%25D1%2582%25D0%25BE%25D1%2580%25D1%2582%25D0%25BE%25D0%25B2%26hl%3Dru%26newwindow%3D1%26sa%3DX%26rlz%3D1T4PRFA_ruRU433RU436%26tbm%3Disch&amp;itbs=1&amp;sa=X&amp;ved=0CC0QrQMwAg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secretworlds.ru/fotki/fotki3/domashnie_zhivotnye_secretworlds.ru.jpg&amp;imgrefurl=http://secretworlds.ru/blog/khozjaeva_mogut_zarazit_domashnikh_zhivotnykh_grippom/2012-10-08-617&amp;usg=__6Ff920AxwKiSAvl8grG2_l-BnYg=&amp;h=768&amp;w=1024&amp;sz=163&amp;hl=ru&amp;start=16&amp;zoom=1&amp;tbnid=25PZBvtoqABQ_M:&amp;tbnh=113&amp;tbnw=150&amp;ei=IJofUe3DFcT54QSp4YGwCA&amp;prev=/images%3Fq%3D%25D1%2584%25D0%25BE%25D1%2582%25D0%25BE%2B%25D0%25B6%25D0%25B8%25D0%25B2%25D0%25BE%25D1%2582%25D0%25BD%25D1%258B%25D1%2585%26hl%3Dru%26newwindow%3D1%26sa%3DX%26rlz%3D1T4PRFA_ruRU433RU436%26tbm%3Disch&amp;itbs=1&amp;sa=X&amp;ved=0CEcQrQMwDw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google.ru/imgres?imgurl=http://antigorod.com/uploads/posts/2009-02/1234089512_great_animals_01.jpg&amp;imgrefurl=http://antigorod.com/photo/nature/2802-udivitelnyjj-mir.-fotografii-zhivotnykh.html&amp;usg=__L7IoI-Fh3_egHbLglufDp2Fh7GE=&amp;h=412&amp;w=550&amp;sz=48&amp;hl=ru&amp;start=18&amp;zoom=1&amp;tbnid=33s8BXM_E6OC4M:&amp;tbnh=100&amp;tbnw=133&amp;ei=IJofUe3DFcT54QSp4YGwCA&amp;prev=/images%3Fq%3D%25D1%2584%25D0%25BE%25D1%2582%25D0%25BE%2B%25D0%25B6%25D0%25B8%25D0%25B2%25D0%25BE%25D1%2582%25D0%25BD%25D1%258B%25D1%2585%26hl%3Dru%26newwindow%3D1%26sa%3DX%26rlz%3D1T4PRFA_ruRU433RU436%26tbm%3Disch&amp;itbs=1&amp;sa=X&amp;ved=0CEsQrQMwEQ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www.google.ru/imgres?imgurl=http://ianimal.ru/wp-content/uploads/2012/01/funny-hamster-800x600-wallpaper-2581.jpg&amp;imgrefurl=http://ianimal.ru/topics/smeshnye-kartinki-zhivotnykh-53&amp;usg=__valNdFuW4xmSx8QLE1aeJpagm0s=&amp;h=600&amp;w=800&amp;sz=378&amp;hl=ru&amp;start=40&amp;zoom=1&amp;tbnid=emKixvOiICkKLM:&amp;tbnh=107&amp;tbnw=143&amp;ei=WpofUYVix9XhBJrggagE&amp;prev=/images%3Fq%3D%25D1%2584%25D0%25BE%25D1%2582%25D0%25BE%2B%25D0%25B6%25D0%25B8%25D0%25B2%25D0%25BE%25D1%2582%25D0%25BD%25D1%258B%25D1%2585%26start%3D20%26hl%3Dru%26newwindow%3D1%26sa%3DN%26rlz%3D1T4PRFA_ruRU433RU436%26tbm%3Disch&amp;itbs=1&amp;sa=X&amp;ved=0CE8QrQMwEzgU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www.google.ru/imgres?imgurl=http://animalshome.ucoz.ru/vp4.jpg&amp;imgrefurl=http://animalshome.ucoz.ru/publ/pticy/priruchenie_i_obuchenie_volnistykh_popugajchikov/25-1-0-5&amp;usg=__JVKcXqueVaSryUsjtu4-Oein2mg=&amp;h=362&amp;w=400&amp;sz=46&amp;hl=ru&amp;start=19&amp;zoom=1&amp;tbnid=6e7LXargDXWEJM:&amp;tbnh=112&amp;tbnw=124&amp;ei=h5ofUcy7JIWh4gS9ooHgBA&amp;prev=/images%3Fq%3D%25D1%2584%25D0%25BE%25D1%2582%25D0%25BE%2B%25D0%25BF%25D0%25BE%25D0%25BF%25D1%2583%25D0%25B3%25D0%25B0%25D0%25B9%25D1%2587%25D0%25B8%25D0%25BA%25D0%25BE%25D0%25B2%26hl%3Dru%26newwindow%3D1%26sa%3DX%26rlz%3D1T4PRFA_ruRU433RU436%26tbm%3Disch&amp;itbs=1&amp;sa=X&amp;ved=0CE0QrQMwEg" TargetMode="External"/><Relationship Id="rId8" Type="http://schemas.openxmlformats.org/officeDocument/2006/relationships/image" Target="../media/image25.jpeg"/><Relationship Id="rId9" Type="http://schemas.openxmlformats.org/officeDocument/2006/relationships/hyperlink" Target="http://www.google.ru/imgres?imgurl=http://www.povodok.ru/pics/art72/art7132_2.jpg&amp;imgrefurl=http://www.povodok.ru/rest/zoo/art7132.html&amp;usg=__cjr3aZsR54Rc0F-KjTRk2RVbwOM=&amp;h=446&amp;w=599&amp;sz=136&amp;hl=ru&amp;start=5&amp;zoom=1&amp;tbnid=SEC9LjrxAMPOXM:&amp;tbnh=101&amp;tbnw=135&amp;ei=DZsfUaSIL5DE4gTBxIFo&amp;prev=/images%3Fq%3D%25D1%2584%25D0%25BE%25D1%2582%25D0%25BE%2B%25D1%2587%25D0%25B5%25D1%2580%25D0%25B5%25D0%25BF%25D0%25B0%25D1%2585%26hl%3Dru%26newwindow%3D1%26sa%3DX%26rlz%3D1T4PRFA_ruRU433RU436%26tbm%3Disch&amp;itbs=1&amp;sa=X&amp;ved=0CDEQrQMwBA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www.google.ru/imgres?imgurl=http://www.elitecakes.ru/imgs/actions/01.jpg&amp;imgrefurl=http://www.elitecakes.ru/&amp;usg=__lArZkqSlpQjsSDqkHkAG7PZMQfM=&amp;h=375&amp;w=501&amp;sz=60&amp;hl=ru&amp;start=3&amp;zoom=1&amp;tbnid=Tfaa-JTVz3qNoM:&amp;tbnh=97&amp;tbnw=130&amp;ei=d5sfUeqJG6b44QTvnIDIDA&amp;prev=/images%3Fq%3D%25D1%2584%25D0%25BE%25D1%2582%25D0%25BE%2B%25D1%2582%25D0%25BE%25D1%2580%25D1%2582%25D0%25BE%25D0%25B2%26hl%3Dru%26newwindow%3D1%26sa%3DX%26rlz%3D1T4PRFA_ruRU433RU436%26tbm%3Disch&amp;itbs=1&amp;sa=X&amp;ved=0CC0QrQMwAg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ма у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одарки на день р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1066680"/>
            <a:ext cx="2362320" cy="15685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3505320"/>
            <a:ext cx="2090520" cy="21715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00760" y="3352680"/>
            <a:ext cx="2776680" cy="30765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09880" y="5029200"/>
            <a:ext cx="1362240" cy="11336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9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467480" y="304920"/>
            <a:ext cx="10573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91" name="Объект 4" descr=""/>
          <p:cNvPicPr/>
          <p:nvPr/>
        </p:nvPicPr>
        <p:blipFill>
          <a:blip r:embed="rId1"/>
          <a:stretch/>
        </p:blipFill>
        <p:spPr>
          <a:xfrm>
            <a:off x="1725480" y="843120"/>
            <a:ext cx="6150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93" name="Объект 4" descr=""/>
          <p:cNvPicPr/>
          <p:nvPr/>
        </p:nvPicPr>
        <p:blipFill>
          <a:blip r:embed="rId1"/>
          <a:stretch/>
        </p:blipFill>
        <p:spPr>
          <a:xfrm>
            <a:off x="1447920" y="860400"/>
            <a:ext cx="637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95" name="Объект 4" descr=""/>
          <p:cNvPicPr/>
          <p:nvPr/>
        </p:nvPicPr>
        <p:blipFill>
          <a:blip r:embed="rId1"/>
          <a:stretch/>
        </p:blipFill>
        <p:spPr>
          <a:xfrm>
            <a:off x="685800" y="76320"/>
            <a:ext cx="8077320" cy="62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 71 ex 2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at would you like to have for your birth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d like to have a play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d like to have 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2747880"/>
            <a:ext cx="167652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 72 ex 5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When is Rex’s birthd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Rex birthday is on the 2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1" i="1" lang="en-US" sz="2400" spc="-1" strike="noStrike" baseline="30000">
                <a:solidFill>
                  <a:srgbClr val="0066ff"/>
                </a:solidFill>
                <a:latin typeface="Arial"/>
              </a:rPr>
              <a:t>th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of Febr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How old is Re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Rex is th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Who comes to see Re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Rex’s friends 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What have they got to ea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They have got a birthday c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Why are the friends happ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- They have got meat for Doggie, ham for Rex, carrots for Patrick and fish for Mus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2438280"/>
            <a:ext cx="2590920" cy="19749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8880" y="4419720"/>
            <a:ext cx="1752840" cy="11761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0120" y="990720"/>
            <a:ext cx="1323720" cy="13906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91320" y="4572000"/>
            <a:ext cx="12380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cc0099"/>
                </a:solidFill>
                <a:latin typeface="Times New Roman"/>
              </a:rPr>
              <a:t>My pet’s birthday par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1. I have got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2. It’s nice. It ca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3. Its birthday is 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4. On its birthday we would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5. My pet would get a lot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of presents: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1905120"/>
            <a:ext cx="2266920" cy="17082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5391000"/>
            <a:ext cx="1981080" cy="1467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57800" y="167652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57800" y="5205240"/>
            <a:ext cx="1828800" cy="16527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7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57600" y="5718240"/>
            <a:ext cx="1523880" cy="11397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9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315200" y="152280"/>
            <a:ext cx="1619280" cy="12081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1" descr=""/>
          <p:cNvPicPr/>
          <p:nvPr/>
        </p:nvPicPr>
        <p:blipFill>
          <a:blip r:embed="rId13"/>
          <a:stretch/>
        </p:blipFill>
        <p:spPr>
          <a:xfrm>
            <a:off x="228600" y="152280"/>
            <a:ext cx="19810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75" name="Объект 4" descr=""/>
          <p:cNvPicPr/>
          <p:nvPr/>
        </p:nvPicPr>
        <p:blipFill>
          <a:blip r:embed="rId1"/>
          <a:stretch/>
        </p:blipFill>
        <p:spPr>
          <a:xfrm>
            <a:off x="914400" y="277920"/>
            <a:ext cx="777240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77" name="Объект 4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202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79" name="Объект 4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01028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81" name="Объект 4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967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83" name="Объект 4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614052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85" name="Объект 4" descr=""/>
          <p:cNvPicPr/>
          <p:nvPr/>
        </p:nvPicPr>
        <p:blipFill>
          <a:blip r:embed="rId1"/>
          <a:stretch/>
        </p:blipFill>
        <p:spPr>
          <a:xfrm>
            <a:off x="1801800" y="1600200"/>
            <a:ext cx="5997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87" name="Объект 4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472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89" name="Объект 4" descr=""/>
          <p:cNvPicPr/>
          <p:nvPr/>
        </p:nvPicPr>
        <p:blipFill>
          <a:blip r:embed="rId1"/>
          <a:stretch/>
        </p:blipFill>
        <p:spPr>
          <a:xfrm>
            <a:off x="1614600" y="816120"/>
            <a:ext cx="6372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ypk2023@outlook.com</cp:lastModifiedBy>
  <dcterms:modified xsi:type="dcterms:W3CDTF">2024-03-25T08:22:3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