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BBA-F04A-48DF-9D90-7E60726F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A5D-EC06-4AB1-A3E9-F37286A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2AF-010C-4B25-B895-039DECA4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6DD-7269-4CA3-A243-FAE891F9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4ACB-0031-4B55-9D86-3524F893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E82-79A9-4C99-BC69-3134FD78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5FC2-6D0C-4D72-B35B-A6F9EC2B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45CD-CBE8-427C-A969-B561905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1800-F151-4AF6-B7FB-8A8B1732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664-32C8-44D7-A82E-710E1F7C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2FF6-42C5-40FB-9DDD-7645002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482-66C3-4F7C-BF21-38D77DE3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91DB-5A79-49C1-AAFE-7EDF609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148B-10AB-4B27-BD10-7B73C87F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2C06-77CB-473B-BA45-39D4C451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7324-94FD-4ED1-AC7F-9944B367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9F12-0606-414D-9F3B-700BDBFA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EBB0-5B14-4F4D-8EAD-446FD1B0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D87E-525A-4FBE-AF47-D4E713F0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3B3A-3A68-43AF-A0CB-FCCC258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C613-8504-4E43-B90A-C9CBD61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87AF-8009-4123-BB44-F6460449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EF9-EC2E-4FF5-93C2-D5583E5F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2BE3-24B9-4902-9086-D942290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C337-84DF-472B-BEAC-89170236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AFD0-39B4-40C5-A1CE-DC5E7F0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19CC-274E-4A9E-8DE8-AA147CF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5DB1-0789-4B40-AE27-98676DC1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F504-6BC3-4321-86DF-D1F32DD8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96C1-1536-4969-9F8B-C76BDC1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61A11-61DA-4F74-84D4-9E186F6D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4C38-E242-46DC-8AE6-86C914C2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668B-6521-4F47-9F2C-53512E8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557-0416-463A-B219-B820D6E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0DC3-4CE8-4018-B4CF-F52CABF7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3F7A-DDE9-46CD-AB91-638CE9A5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4C0A-F03D-4AEB-A626-966A8E9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28F3B-544F-4280-815F-EC1B9E29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027E-E6FD-427D-8ED4-BD0787BE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139F-C053-46EE-BA9F-5C6CDB6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EDB5-EAF3-4D94-A078-33C62A87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9933-B395-4752-B0B0-E7AB9A56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12F3-E08A-4F1A-BC52-A0510D47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B4B-478F-4D69-AC7F-01529862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57F-168E-4D5A-8257-9C1DACA6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E93-4E25-429E-92C1-080B53C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064-3A84-4B7A-8A5D-B477CC32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027-6558-41F0-A33C-7259CEC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2942-263A-4E16-8A41-9E1C30235FB5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E16E-3E9C-439C-8814-1DC13C1A2775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192-60E6-477A-A77B-622B2996A3DC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CD4B-A0A3-4B7F-8203-9B5918DEFD35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5601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ФУНКЦИОНАЛИСТСКИЙ ПОДХОД УИЛЬЯМА ДЖЕЙМС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791320" y="474300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f496f"/>
                </a:solidFill>
                <a:latin typeface="Century Gothic"/>
              </a:rPr>
              <a:t>Подготовила учитель МКОУ Латненской сельской СОШ Филипцова С.Н. 2024 г.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969920" y="20628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КОУ Латненская сельская СОШ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75960" y="4487400"/>
            <a:ext cx="853452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entury Gothic"/>
              </a:rPr>
              <a:t>УИЛЬЯМ ДЖЕЙМС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11 ЯНВАРЯ 1842, НЬЮ-ЙОРК — 16 АВГУСТА 1910, ЧОКОРУА, НЬЮ-ХЭМПШИР) —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МЕРИКАНСКИЙ ФИЛОСОФ И ПСИХОЛОГ, ОДИН ИЗ ОСНОВАТЕЛЕЙ И ВИДНЫЙ ПРЕДСТАВИТЕЛЬ ПРАГМАТИЗМА И ФУНКЦИОНАЛИЗМ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5" name="Объект 3" descr=""/>
          <p:cNvPicPr/>
          <p:nvPr/>
        </p:nvPicPr>
        <p:blipFill>
          <a:blip r:embed="rId1"/>
          <a:stretch/>
        </p:blipFill>
        <p:spPr>
          <a:xfrm>
            <a:off x="4419720" y="412920"/>
            <a:ext cx="314460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2080" y="2047680"/>
            <a:ext cx="92160" cy="50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3960" y="339840"/>
            <a:ext cx="5283360" cy="42465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03960" y="1108080"/>
            <a:ext cx="453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У.Джеймс писал: «Психология — это наука о функциях сознания»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9280" y="20592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РОЦЕССЫ СОЗНАН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58840" y="32094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1468080" y="256392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епроизвольны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7918560" y="25639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роизвольны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03" name="Прямая со стрелкой 6"/>
          <p:cNvCxnSpPr/>
          <p:nvPr/>
        </p:nvCxnSpPr>
        <p:spPr>
          <a:xfrm flipH="1">
            <a:off x="3768480" y="1454040"/>
            <a:ext cx="1178640" cy="984960"/>
          </a:xfrm>
          <a:prstGeom prst="straightConnector1">
            <a:avLst/>
          </a:prstGeom>
          <a:ln cap="rnd" w="38160">
            <a:solidFill>
              <a:srgbClr val="0d0d0d">
                <a:alpha val="60000"/>
              </a:srgbClr>
            </a:solidFill>
            <a:miter/>
            <a:tailEnd len="med" type="triangle" w="med"/>
          </a:ln>
        </p:spPr>
      </p:cxnSp>
      <p:cxnSp>
        <p:nvCxnSpPr>
          <p:cNvPr id="204" name="Прямая со стрелкой 9"/>
          <p:cNvCxnSpPr/>
          <p:nvPr/>
        </p:nvCxnSpPr>
        <p:spPr>
          <a:xfrm>
            <a:off x="7661160" y="1453680"/>
            <a:ext cx="915120" cy="1110600"/>
          </a:xfrm>
          <a:prstGeom prst="straightConnector1">
            <a:avLst/>
          </a:prstGeom>
          <a:ln cap="rnd" w="38160">
            <a:solidFill>
              <a:srgbClr val="0d0d0d">
                <a:alpha val="60000"/>
              </a:srgbClr>
            </a:solidFill>
            <a:miter/>
            <a:tailEnd len="med" type="triangle" w="med"/>
          </a:ln>
        </p:spPr>
      </p:cxnSp>
      <p:pic>
        <p:nvPicPr>
          <p:cNvPr id="205" name="Picture 9" descr="&quot;Измененное состояние сознания&quot; медитация &quot; BE HAPPY"/>
          <p:cNvPicPr/>
          <p:nvPr/>
        </p:nvPicPr>
        <p:blipFill>
          <a:blip r:embed="rId2"/>
          <a:stretch/>
        </p:blipFill>
        <p:spPr>
          <a:xfrm>
            <a:off x="3954600" y="3132000"/>
            <a:ext cx="437652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22520" y="52398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«ВСЯ ЖИЗНЬ ЕСТЬ ЛИШЬ СУММА ПРИВЫЧЕК, НЕОТВРАТИМО ВЛЕКУЩИХ НАС К НАШЕЙ СУДЬБЕ, КАКОВА БЫ ОНА НИ БЫЛ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62480" cy="2263680"/>
          </a:xfrm>
          <a:prstGeom prst="rect">
            <a:avLst/>
          </a:prstGeom>
          <a:ln w="0">
            <a:noFill/>
          </a:ln>
        </p:spPr>
      </p:pic>
      <p:sp>
        <p:nvSpPr>
          <p:cNvPr id="208" name="Рисунок 4"/>
          <p:cNvSpPr/>
          <p:nvPr/>
        </p:nvSpPr>
        <p:spPr>
          <a:xfrm>
            <a:off x="3462480" y="0"/>
            <a:ext cx="312408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Рисунок 5"/>
          <p:cNvSpPr/>
          <p:nvPr/>
        </p:nvSpPr>
        <p:spPr>
          <a:xfrm>
            <a:off x="0" y="2249640"/>
            <a:ext cx="317808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Рисунок 6"/>
          <p:cNvSpPr/>
          <p:nvPr/>
        </p:nvSpPr>
        <p:spPr>
          <a:xfrm>
            <a:off x="6581880" y="-38160"/>
            <a:ext cx="3124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Рисунок 7"/>
          <p:cNvSpPr/>
          <p:nvPr/>
        </p:nvSpPr>
        <p:spPr>
          <a:xfrm>
            <a:off x="3119400" y="2263680"/>
            <a:ext cx="34671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Рисунок 8"/>
          <p:cNvSpPr/>
          <p:nvPr/>
        </p:nvSpPr>
        <p:spPr>
          <a:xfrm>
            <a:off x="6581880" y="2340000"/>
            <a:ext cx="4014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Рисунок 9"/>
          <p:cNvSpPr/>
          <p:nvPr/>
        </p:nvSpPr>
        <p:spPr>
          <a:xfrm>
            <a:off x="9701280" y="-60480"/>
            <a:ext cx="254484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13" descr="9 полезных привычек: Блог Стартапера!"/>
          <p:cNvPicPr/>
          <p:nvPr/>
        </p:nvPicPr>
        <p:blipFill>
          <a:blip r:embed="rId2"/>
          <a:stretch/>
        </p:blipFill>
        <p:spPr>
          <a:xfrm>
            <a:off x="0" y="-4680"/>
            <a:ext cx="3849840" cy="2517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Ведем здоровый образ жизни :: Здоровье :: Очарование"/>
          <p:cNvPicPr/>
          <p:nvPr/>
        </p:nvPicPr>
        <p:blipFill>
          <a:blip r:embed="rId3"/>
          <a:stretch/>
        </p:blipFill>
        <p:spPr>
          <a:xfrm>
            <a:off x="3849840" y="0"/>
            <a:ext cx="3528720" cy="24955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"/>
          <p:cNvPicPr/>
          <p:nvPr/>
        </p:nvPicPr>
        <p:blipFill>
          <a:blip r:embed="rId4"/>
          <a:stretch/>
        </p:blipFill>
        <p:spPr>
          <a:xfrm>
            <a:off x="-31680" y="2495520"/>
            <a:ext cx="2873160" cy="2705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5"/>
          <a:stretch/>
        </p:blipFill>
        <p:spPr>
          <a:xfrm>
            <a:off x="2873520" y="2495520"/>
            <a:ext cx="4187520" cy="27860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6"/>
          <a:stretch/>
        </p:blipFill>
        <p:spPr>
          <a:xfrm>
            <a:off x="7402680" y="11160"/>
            <a:ext cx="2003400" cy="2522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"/>
          <p:cNvPicPr/>
          <p:nvPr/>
        </p:nvPicPr>
        <p:blipFill>
          <a:blip r:embed="rId7"/>
          <a:stretch/>
        </p:blipFill>
        <p:spPr>
          <a:xfrm>
            <a:off x="9429840" y="-38160"/>
            <a:ext cx="2738520" cy="2739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"/>
          <p:cNvPicPr/>
          <p:nvPr/>
        </p:nvPicPr>
        <p:blipFill>
          <a:blip r:embed="rId8"/>
          <a:stretch/>
        </p:blipFill>
        <p:spPr>
          <a:xfrm>
            <a:off x="7121520" y="2459160"/>
            <a:ext cx="50943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166680"/>
          <a:ext cx="11916000" cy="6539040"/>
        </p:xfrm>
        <a:graphic>
          <a:graphicData uri="http://schemas.openxmlformats.org/drawingml/2006/table">
            <a:tbl>
              <a:tblPr/>
              <a:tblGrid>
                <a:gridCol w="3114720"/>
                <a:gridCol w="8801280"/>
              </a:tblGrid>
              <a:tr h="138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оциальные отно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оциальные отношения — это источник формирования социального Я, набора социальных привычек. Человеку объективно необходимо чувство принадлежности, включенности в социальные отношения, необходимо быть признанным другими людь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ля — это главное качество личности. Но развитая личность уже не сталкивается с трудностями при принятии решений, она чувствует свое единство с миром, и ей не надо совершать волевые усилия, чтобы действова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Эмо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. Джеймс — автор периферической теории эмоций. Они имеют своим источником телесные ощущения. Изменяя позу тела, можно изменить эмоции, управлять ими. Развитие личности — это освоение эмоций более высокого порядка, которые высвобождаются при участии созн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нтелле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ыделяет два вида знаний у человек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♦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ыденное, или интуитивное, знание (по сходству, по привычке, они эмоционально окрашены, а по способу получения интуитивны, случайны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♦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обственно интеллект — фокусирование не на свойствах, а на отношениях, они являются обобщенными, объективными знаниями о сущности предметов, явл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5280" y="152280"/>
          <a:ext cx="11914200" cy="4426200"/>
        </p:xfrm>
        <a:graphic>
          <a:graphicData uri="http://schemas.openxmlformats.org/drawingml/2006/table">
            <a:tbl>
              <a:tblPr/>
              <a:tblGrid>
                <a:gridCol w="1981440"/>
                <a:gridCol w="9932760"/>
              </a:tblGrid>
              <a:tr h="656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а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амость, центр личности — ее духовное Я. Оно источник внимания и воли, личностн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ход к психотерапевтической пом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и психотерапии — развитие произвольности, воли у человека, т. е. ее роль состоит в том, чтобы научить человека управлять своим вниманием, волей, эмоциями. Основа для этого — собственная мотивация человека и ее развит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епятствия для развития личност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Segoe UI Symbol"/>
                          <a:ea typeface="Calibri"/>
                        </a:rPr>
                        <a:t>♦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«телесные привычки»: действия, которые совершаются без специального осознания, являются неадекватным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Segoe UI Symbol"/>
                          <a:ea typeface="Calibri"/>
                        </a:rPr>
                        <a:t>♦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шибка преувеличения: если какие-то черты у человека являются преувеличенно развитыми, они перерастают в свою противоположность, становятся неадекватным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9:49:15Z</dcterms:created>
  <dc:creator>арп</dc:creator>
  <dc:description/>
  <dc:language>en-US</dc:language>
  <cp:lastModifiedBy>Пользователь</cp:lastModifiedBy>
  <dcterms:modified xsi:type="dcterms:W3CDTF">2024-03-25T10:46:44Z</dcterms:modified>
  <cp:revision>17</cp:revision>
  <dc:subject/>
  <dc:title>Презентация PowerPoint</dc:title>
</cp:coreProperties>
</file>