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278-0D7E-4E6D-9528-98581415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351-9C3F-42D6-B372-CB0A0E63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410-E2AF-4DC6-AD35-C9C184D2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C3C-9259-45DE-8FE3-57C424D6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E99-6383-4CBD-AF63-D1AD9EDA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2EC6-A293-4F92-BF03-D9D91E4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D64A-E285-4A9E-8CC2-67C7AF50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44A3-AFA2-40EE-91B5-636FA105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698F-ADD2-44DA-951F-B3D35AD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D71-9AFC-4A9F-8C19-6FE15F3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3BC-6B33-4847-BC17-EA293D3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DF6-C313-47A9-A0CA-A4062E3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1643-180F-4DDF-874B-02E8CA3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A9FF-EE64-4889-8238-6342E992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8925-1A2B-4111-88E0-7264384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9DB1-CD03-4A76-9FA6-D87BFD5E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F84-6D03-453E-B411-6926365C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F9C3-DBB3-4484-B2C0-FA164EFD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3493-C6A2-4340-94D2-4B0D5B2C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1727-5815-4992-8CA8-FDE2DD4B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85F7-4C25-405B-84A2-97863BA3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0257-0F79-4809-ABA0-6BC3C56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9D2-1A20-48F7-8C58-5D8A0BC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9806-179C-4B22-9717-101B8BC1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9BF7-8A11-4833-90C8-096A316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670A-3E8A-4497-B1C0-931103F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47C8-5F3B-4E99-B120-492E82A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9084-91ED-4444-A9B9-D20D4F87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3199-8FC2-4187-B8AF-3654EBCA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1176-E0A5-4C47-97AB-6B506EDB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DABD-4F04-4E42-A7AD-0F149C0A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1E1A-365A-42E2-9B63-5B43A98D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F55F-5D40-4595-8225-43C5B1E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2F4-BC15-4ACA-9177-15BB649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6196-4F89-4F37-AA29-8500F985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E9D5-A180-46B7-9A65-D6D83B26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8BFB-90BF-456D-8F38-7EE09276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F1A3-23BD-440F-8F49-3614B6C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9504-D4B8-4677-BD12-8121C296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4CE2-253B-4E71-BB79-D90B1511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BF15-B81F-4D0D-9A68-B71B13F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271A5-F9DF-48D5-BA72-3707F1EC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1BAF-C625-4EF2-BC8E-93C9C50E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BB7-D34C-42A0-9495-169C937B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D2C-E501-4383-A0C7-6ABF4CB6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FDA-B8CE-43C7-9465-70C25E1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365-5D79-4286-9D78-BFF72EB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E6F-8B6F-4E81-8B98-326D4E58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6DA2-839A-4932-8F21-61B9F4C97548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CE13-073D-4A9C-A933-7BD93A3D684A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99" name="TextBox 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D6A9-1817-4E16-81DD-2E8CD3785A36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8" name="TextBox 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0E4-5CC8-47FC-9EBC-B503FC595CD3}" type="slidenum">
              <a:rPr b="0" lang="ru-RU" sz="32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5601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ФУНКЦИОНАЛИСТСКИЙ ПОДХОД УИЛЬЯМА ДЖЕЙМС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791320" y="474300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100" spc="-1" strike="noStrike">
                <a:solidFill>
                  <a:srgbClr val="0f496f"/>
                </a:solidFill>
                <a:latin typeface="Century Gothic"/>
              </a:rPr>
              <a:t>Подготовила учитель МКОУ Латненской сельской СОШ Филипцова С.Н. 2024 г.</a:t>
            </a:r>
            <a:endParaRPr b="0" lang="en-US" sz="21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1969920" y="20628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КОУ Латненская сельская СОШ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75960" y="4487400"/>
            <a:ext cx="85345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entury Gothic"/>
              </a:rPr>
              <a:t>УИЛЬЯМ ДЖЕЙМС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11 ЯНВАРЯ 1842, НЬЮ-ЙОРК — 16 АВГУСТА 1910, ЧОКОРУА, НЬЮ-ХЭМПШИР) —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МЕРИКАНСКИЙ ФИЛОСОФ И ПСИХОЛОГ, ОДИН ИЗ ОСНОВАТЕЛЕЙ И ВИДНЫЙ ПРЕДСТАВИТЕЛЬ ПРАГМАТИЗМА И ФУНКЦИОНАЛИЗМ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5" name="Объект 3" descr=""/>
          <p:cNvPicPr/>
          <p:nvPr/>
        </p:nvPicPr>
        <p:blipFill>
          <a:blip r:embed="rId1"/>
          <a:stretch/>
        </p:blipFill>
        <p:spPr>
          <a:xfrm>
            <a:off x="4419720" y="412920"/>
            <a:ext cx="31446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2080" y="2047680"/>
            <a:ext cx="92160" cy="50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3960" y="339840"/>
            <a:ext cx="5283360" cy="42465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03960" y="1108080"/>
            <a:ext cx="453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У.Джеймс писал: «Психология — это наука о функциях сознания»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9280" y="20592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ОЦЕССЫ СОЗНАН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58840" y="32094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1468080" y="256392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епроизвольны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7918560" y="25639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оизвольные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203" name="Прямая со стрелкой 6"/>
          <p:cNvCxnSpPr/>
          <p:nvPr/>
        </p:nvCxnSpPr>
        <p:spPr>
          <a:xfrm flipH="1">
            <a:off x="3768480" y="1454040"/>
            <a:ext cx="1178640" cy="984960"/>
          </a:xfrm>
          <a:prstGeom prst="straightConnector1">
            <a:avLst/>
          </a:prstGeom>
          <a:ln cap="rnd" w="38160">
            <a:solidFill>
              <a:srgbClr val="0d0d0d">
                <a:alpha val="60000"/>
              </a:srgbClr>
            </a:solidFill>
            <a:miter/>
            <a:tailEnd len="med" type="triangle" w="med"/>
          </a:ln>
        </p:spPr>
      </p:cxnSp>
      <p:cxnSp>
        <p:nvCxnSpPr>
          <p:cNvPr id="204" name="Прямая со стрелкой 9"/>
          <p:cNvCxnSpPr/>
          <p:nvPr/>
        </p:nvCxnSpPr>
        <p:spPr>
          <a:xfrm>
            <a:off x="7661160" y="1453680"/>
            <a:ext cx="915120" cy="1110600"/>
          </a:xfrm>
          <a:prstGeom prst="straightConnector1">
            <a:avLst/>
          </a:prstGeom>
          <a:ln cap="rnd" w="38160">
            <a:solidFill>
              <a:srgbClr val="0d0d0d">
                <a:alpha val="60000"/>
              </a:srgbClr>
            </a:solidFill>
            <a:miter/>
            <a:tailEnd len="med" type="triangle" w="med"/>
          </a:ln>
        </p:spPr>
      </p:cxnSp>
      <p:pic>
        <p:nvPicPr>
          <p:cNvPr id="205" name="Picture 9" descr="&quot;Измененное состояние сознания&quot; медитация &quot; BE HAPPY"/>
          <p:cNvPicPr/>
          <p:nvPr/>
        </p:nvPicPr>
        <p:blipFill>
          <a:blip r:embed="rId2"/>
          <a:stretch/>
        </p:blipFill>
        <p:spPr>
          <a:xfrm>
            <a:off x="3954600" y="3132000"/>
            <a:ext cx="437652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22520" y="52398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«ВСЯ ЖИЗНЬ ЕСТЬ ЛИШЬ СУММА ПРИВЫЧЕК, НЕОТВРАТИМО ВЛЕКУЩИХ НАС К НАШЕЙ СУДЬБЕ, КАКОВА БЫ ОНА НИ БЫЛ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62480" cy="2263680"/>
          </a:xfrm>
          <a:prstGeom prst="rect">
            <a:avLst/>
          </a:prstGeom>
          <a:ln w="0">
            <a:noFill/>
          </a:ln>
        </p:spPr>
      </p:pic>
      <p:sp>
        <p:nvSpPr>
          <p:cNvPr id="208" name="Рисунок 4"/>
          <p:cNvSpPr/>
          <p:nvPr/>
        </p:nvSpPr>
        <p:spPr>
          <a:xfrm>
            <a:off x="3462480" y="0"/>
            <a:ext cx="312408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Рисунок 5"/>
          <p:cNvSpPr/>
          <p:nvPr/>
        </p:nvSpPr>
        <p:spPr>
          <a:xfrm>
            <a:off x="0" y="2249640"/>
            <a:ext cx="317808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Рисунок 6"/>
          <p:cNvSpPr/>
          <p:nvPr/>
        </p:nvSpPr>
        <p:spPr>
          <a:xfrm>
            <a:off x="6581880" y="-38160"/>
            <a:ext cx="3124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Рисунок 7"/>
          <p:cNvSpPr/>
          <p:nvPr/>
        </p:nvSpPr>
        <p:spPr>
          <a:xfrm>
            <a:off x="3119400" y="2263680"/>
            <a:ext cx="34671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Рисунок 8"/>
          <p:cNvSpPr/>
          <p:nvPr/>
        </p:nvSpPr>
        <p:spPr>
          <a:xfrm>
            <a:off x="6581880" y="2340000"/>
            <a:ext cx="4014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Рисунок 9"/>
          <p:cNvSpPr/>
          <p:nvPr/>
        </p:nvSpPr>
        <p:spPr>
          <a:xfrm>
            <a:off x="9701280" y="-60480"/>
            <a:ext cx="254484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13" descr="9 полезных привычек: Блог Стартапера!"/>
          <p:cNvPicPr/>
          <p:nvPr/>
        </p:nvPicPr>
        <p:blipFill>
          <a:blip r:embed="rId2"/>
          <a:stretch/>
        </p:blipFill>
        <p:spPr>
          <a:xfrm>
            <a:off x="0" y="-4680"/>
            <a:ext cx="3849840" cy="2517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Ведем здоровый образ жизни :: Здоровье :: Очарование"/>
          <p:cNvPicPr/>
          <p:nvPr/>
        </p:nvPicPr>
        <p:blipFill>
          <a:blip r:embed="rId3"/>
          <a:stretch/>
        </p:blipFill>
        <p:spPr>
          <a:xfrm>
            <a:off x="3849840" y="0"/>
            <a:ext cx="3528720" cy="24955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"/>
          <p:cNvPicPr/>
          <p:nvPr/>
        </p:nvPicPr>
        <p:blipFill>
          <a:blip r:embed="rId4"/>
          <a:stretch/>
        </p:blipFill>
        <p:spPr>
          <a:xfrm>
            <a:off x="-31680" y="2495520"/>
            <a:ext cx="2873160" cy="2705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5"/>
          <a:stretch/>
        </p:blipFill>
        <p:spPr>
          <a:xfrm>
            <a:off x="2873520" y="2495520"/>
            <a:ext cx="4187520" cy="27860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6"/>
          <a:stretch/>
        </p:blipFill>
        <p:spPr>
          <a:xfrm>
            <a:off x="7402680" y="11160"/>
            <a:ext cx="2003400" cy="2522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7"/>
          <a:stretch/>
        </p:blipFill>
        <p:spPr>
          <a:xfrm>
            <a:off x="9429840" y="-38160"/>
            <a:ext cx="2738520" cy="2739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"/>
          <p:cNvPicPr/>
          <p:nvPr/>
        </p:nvPicPr>
        <p:blipFill>
          <a:blip r:embed="rId8"/>
          <a:stretch/>
        </p:blipFill>
        <p:spPr>
          <a:xfrm>
            <a:off x="7121520" y="2459160"/>
            <a:ext cx="5094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66680"/>
          <a:ext cx="11916000" cy="6539040"/>
        </p:xfrm>
        <a:graphic>
          <a:graphicData uri="http://schemas.openxmlformats.org/drawingml/2006/table">
            <a:tbl>
              <a:tblPr/>
              <a:tblGrid>
                <a:gridCol w="3114720"/>
                <a:gridCol w="8801280"/>
              </a:tblGrid>
              <a:tr h="138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оциальные отно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оциальные отношения — это источник формирования социального Я, набора социальных привычек. Человеку объективно необходимо чувство принадлежности, включенности в социальные отношения, необходимо быть признанным другими людь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ля — это главное качество личности. Но развитая личность уже не сталкивается с трудностями при принятии решений, она чувствует свое единство с миром, и ей не надо совершать волевые усилия, чтобы действоват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Эмо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. Джеймс — автор периферической теории эмоций. Они имеют своим источником телесные ощущения. Изменяя позу тела, можно изменить эмоции, управлять ими. Развитие личности — это освоение эмоций более высокого порядка, которые высвобождаются при участии созн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нтелле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ыделяет два вида знаний у человек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♦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ыденное, или интуитивное, знание (по сходству, по привычке, они эмоционально окрашены, а по способу получения интуитивны, случайны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♦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обственно интеллект — фокусирование не на свойствах, а на отношениях, они являются обобщенными, объективными знаниями о сущности предметов, явл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5280" y="152280"/>
          <a:ext cx="11914200" cy="4426200"/>
        </p:xfrm>
        <a:graphic>
          <a:graphicData uri="http://schemas.openxmlformats.org/drawingml/2006/table">
            <a:tbl>
              <a:tblPr/>
              <a:tblGrid>
                <a:gridCol w="1981440"/>
                <a:gridCol w="9932760"/>
              </a:tblGrid>
              <a:tr h="656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а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амость, центр личности — ее духовное Я. Оно источник внимания и воли, личностного разви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9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ход к психотерапевтической помощ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адачи психотерапии — развитие произвольности, воли у человека, т. е. ее роль состоит в том, чтобы научить человека управлять своим вниманием, волей, эмоциями. Основа для этого — собственная мотивация человека и ее развит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епятствия для развития личност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Segoe UI Symbol"/>
                          <a:ea typeface="Calibri"/>
                        </a:rPr>
                        <a:t>♦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«телесные привычки»: действия, которые совершаются без специального осознания, являются неадекватным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Segoe UI Symbol"/>
                          <a:ea typeface="Calibri"/>
                        </a:rPr>
                        <a:t>♦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шибка преувеличения: если какие-то черты у человека являются преувеличенно развитыми, они перерастают в свою противоположность, становятся неадекватным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9:49:15Z</dcterms:created>
  <dc:creator>арп</dc:creator>
  <dc:description/>
  <dc:language>en-US</dc:language>
  <cp:lastModifiedBy>Пользователь</cp:lastModifiedBy>
  <dcterms:modified xsi:type="dcterms:W3CDTF">2024-03-25T10:46:44Z</dcterms:modified>
  <cp:revision>17</cp:revision>
  <dc:subject/>
  <dc:title>Презентация PowerPoint</dc:title>
</cp:coreProperties>
</file>