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E90-1094-447D-B3C0-1FA62B24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B62-E55D-4743-BEEF-F5E07633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149-21C1-47C5-AA79-9EE333A0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096-B778-4030-81D9-7B99B5CD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D547-0A75-408B-879C-07FEB7DA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B8BB-6792-48C1-88D9-488EC316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B8D7-F6D7-4427-AA69-E4C6D0BB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ECFD-17D7-4C91-8C40-309E7970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99D2-34E8-4A9A-BB5C-CC6CB40D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0926-817E-430E-BFD9-89CEC133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9AC2-1377-4146-9EB6-929AAA2A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6D5-683F-4841-983E-3A32C98D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C357-98DD-4CD3-93A8-4E6F347F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46A3-DCC5-4F17-B63D-EFFC2740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602E-7382-4892-8462-357C08BC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6D62-560A-44FD-9F6E-860A7846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5541-5B8C-4B04-8918-25EABD26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7C819-0C5E-484C-A12C-35B6C271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0554-6FAE-44F3-92AF-CF95C4DC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F937E-81C6-4BCE-B269-33D54CBF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9FB87-5C4B-4A26-A5F0-79BDCE82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2F23-6E8E-4C68-B6EB-7A24AD58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0AA-44CC-484B-A83E-79723342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7A0F5-4513-4F5F-86B3-AB7E8FFD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7E889-AAD3-4236-87F7-F0E1C735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2E760-C889-435A-A111-FE7C9F5A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FF22-4278-4CC9-99C9-4D51096A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382D3-AD58-4315-B929-5B9F8A5D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DD131-EDAF-4362-80D3-6F655F8A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C210D-4DAB-4E6A-A3A7-A8794617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06F71-190D-4475-9C2E-1BBB5AEE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D5826-31F3-4213-8354-22DD74FC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CDC92-C134-4E88-AD81-B1C3FCAA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481-4AC2-48FE-893E-FC1B2207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3AAA1-B8C2-45C4-8C50-EBBB4798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600C7-257D-4998-ACA8-C6EF9AA9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D9AEC-8DFB-4789-931B-038346C3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1BBB9-986F-451D-A92E-CA3374BD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494A3-2FAA-4B2C-85CD-DF7BA0F3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531C7-A4A9-48D3-820F-DCE85C26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B561C-7DC6-466D-8FA1-3150963D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118B5-32ED-4435-8D92-6AAF5608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4724D-DDEE-4AF0-8157-D85858AD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A9D-E772-4040-B53D-42C601D5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6E8-0A4B-4E9E-B5B0-32BF3E66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8AF-F91C-44D0-B151-B23BC7EF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3A9-51C1-46A5-899A-A862E1C4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0D4-4F56-4D44-9AC0-F3177AF0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9E5C-3FBB-4F20-A084-F3EB9D3F95F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6233-B213-44A2-B335-2E0A4A5458C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8524-728D-415E-83FD-4C362058BDE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B6B8-9CCE-458C-BE00-E229F05B944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2838600" y="2890800"/>
            <a:ext cx="5103720" cy="38322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06240" y="137916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Психологическое понимание личности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642840" y="5533560"/>
            <a:ext cx="83185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Выполнил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Учитель математики Филипцова С.Н. 2024 г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2627280" y="270000"/>
            <a:ext cx="61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КОУ Латненская сельская СОШ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Личность в когнитивном подходе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Личность - система, моделирующая внешний мир с целью адаптации к нем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Рисунок 3" descr=""/>
          <p:cNvPicPr/>
          <p:nvPr/>
        </p:nvPicPr>
        <p:blipFill>
          <a:blip r:embed="rId1"/>
          <a:stretch/>
        </p:blipFill>
        <p:spPr>
          <a:xfrm>
            <a:off x="3195720" y="3413160"/>
            <a:ext cx="404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Личность в деятельностном подходе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Arial"/>
                <a:ea typeface="Times New Roman"/>
              </a:rPr>
              <a:t>Естественная сущность личности – постоянное стремление развиваться и изменяться («выходить за пределы самой себя»)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Arial"/>
              </a:rPr>
              <a:t>Личностный рост-процесс усложнения и усовершенствования личности в ходе ее становле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0c226"/>
                </a:solidFill>
                <a:latin typeface="Trebuchet MS"/>
              </a:rPr>
              <a:t>Личность в гуманистической психологии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Естественная сущность личности – «бескорыстная» (неадаптивная) активность и постоянное стремление развиваться и изменяться («выходить за пределы самой себя»)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7520" y="20365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 u="sng">
                <a:solidFill>
                  <a:srgbClr val="90c226"/>
                </a:solidFill>
                <a:uFillTx/>
                <a:latin typeface="Trebuchet MS"/>
              </a:rPr>
              <a:t>СПАСИБО ЗА ВНИМАНИЕ!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 психологии имеются разные подходы к пониманию личности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1 подход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Личность-уникальная система личностных смыслов, индивидуально своеобразных способов систематизации внешних впечатлений и внутренних переживаний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 психологии имеются разные подходы к понимании личности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2 подход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Личность-система черт, которые запечатлены в суждениях субъекта о самом себе, а также в суждениях других людей о нем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 психологии имеются разные подходы к понимании личности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3 подход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Личность-это деятельное «Я» субъекта, рассматриваемое как система планов, отношений, смысловых образований, регулирующих выход ее поведения за пределы исходных плано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 психологии имеются разные подходы к понимании личности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4 подход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Личность-субъект персонализации, т. е. потребности и способности индивида вызывать изменения в других людя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8211960" y="2878200"/>
            <a:ext cx="3980160" cy="39798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-655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7520" y="94140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Личность возникает в результате культурного и социального развит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Глубина и богатство личности предполагают глубину и богатство ее связей с миром, с другими людьми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Личность-социализированный индивид, рассматриваемый со стороны наиболее значимых свойст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555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Личность по У. Джеймсу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По У. Джеймсу, составные элементы личности могут быть подразделены на три класса: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физическую личность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социальную лич­ность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духовную личность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8491680" y="5240160"/>
            <a:ext cx="85960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5" descr="http://www.psychologos.ru/images/220px-William_James_b1842c_1397704388.jpg"/>
          <p:cNvPicPr/>
          <p:nvPr/>
        </p:nvPicPr>
        <p:blipFill>
          <a:blip r:embed="rId1"/>
          <a:stretch/>
        </p:blipFill>
        <p:spPr>
          <a:xfrm>
            <a:off x="9628200" y="39600"/>
            <a:ext cx="20955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Личность в бихевиоризме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«Будем подразумевать под термином “личность” все то, чем обладает индивид (в действительности или в потенции), и его возможности (действительные или потенциальные) в отношении реакций» (Дж.Б. Уотсон)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Личность в психоанализе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По З.Фрейду, личность - ансамбль бессознательных влечений, а содержание внутренней жизни личности и ее динамика - это вечная борьба между Ид (бессознательными влечениями) и Сверх-Я (представленными в сознании требованиями общества)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Picture 4" descr="http://ic.pics.livejournal.com/anchiktigra/18346223/720249/720249_original.jpg"/>
          <p:cNvPicPr/>
          <p:nvPr/>
        </p:nvPicPr>
        <p:blipFill>
          <a:blip r:embed="rId1"/>
          <a:stretch/>
        </p:blipFill>
        <p:spPr>
          <a:xfrm>
            <a:off x="9274320" y="206280"/>
            <a:ext cx="22921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6T13:45:30Z</dcterms:created>
  <dc:creator>арп</dc:creator>
  <dc:description/>
  <dc:language>en-US</dc:language>
  <cp:lastModifiedBy>Пользователь</cp:lastModifiedBy>
  <dcterms:modified xsi:type="dcterms:W3CDTF">2024-03-25T10:46:24Z</dcterms:modified>
  <cp:revision>20</cp:revision>
  <dc:subject/>
  <dc:title>Презентация PowerPoint</dc:title>
</cp:coreProperties>
</file>