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F9D2-7B92-4F9F-942D-2BF4464C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1506-0BF4-4DBA-8E51-3C64CEC6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E7CB-6833-4F38-817A-61B37F33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F7F-01AA-4FDF-9876-E30FBCD9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AE3B-BB8B-4E9A-8D98-D2FFE2BA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C79D-789C-4EBB-9093-14BEEA92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597A-9F81-4925-A508-9BCA2468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5607-476B-4F07-9B9E-888CE8DD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EB6A-2338-409C-914E-43E20914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54B1-8488-4EF0-8559-AF915171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BC67-E14B-444D-A82B-E3F9FDE5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C21D-872F-43C0-A786-7A790B5D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C6EA-172C-4353-9D87-F7551FD5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B2A3-2005-47C3-9147-04E7AF6F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F243-770F-4E48-83A8-8B39E255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DA2E-B7E7-444A-B46C-A64D2068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A36B-B21D-4BE4-848C-6013DE9A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661-C838-4343-B1BC-622A7303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1BAE-EF1F-4D23-8F3D-CA4E090F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84CD-C0DB-49FF-AF58-A55C0432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DFCB-D9DD-4F70-8AEE-6404EBA2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4D8A-438B-4769-86B0-A931D005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C343-752A-4863-94E7-B4743CD5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9E6C-22B3-4029-BE47-3135785C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spcBef>
                <a:spcPts val="8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27160" indent="-38736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476360" indent="-347760">
              <a:spcBef>
                <a:spcPts val="82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1852560" indent="-374760">
              <a:spcBef>
                <a:spcPts val="82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1852560" indent="-374760">
              <a:spcBef>
                <a:spcPts val="8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1852560" indent="-374760">
              <a:spcBef>
                <a:spcPts val="8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1760"/>
            <a:ext cx="235116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1760"/>
            <a:ext cx="235260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1DC8AD-D969-4891-A33D-CCCE2FB7D2D9}" type="slidenum">
              <a:rPr b="0" lang="ru-RU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20840" y="252360"/>
            <a:ext cx="9072360" cy="67140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504720" y="6804000"/>
            <a:ext cx="907272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71400" y="1344600"/>
            <a:ext cx="8737560" cy="10080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2184480" y="4367160"/>
            <a:ext cx="717876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58920">
              <a:spcBef>
                <a:spcPts val="8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27160" indent="-38736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476360" indent="-347760">
              <a:spcBef>
                <a:spcPts val="82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1852560" indent="-374760">
              <a:spcBef>
                <a:spcPts val="82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1852560" indent="-374760">
              <a:spcBef>
                <a:spcPts val="8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1852560" indent="-374760">
              <a:spcBef>
                <a:spcPts val="8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4360" y="6881760"/>
            <a:ext cx="235116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44840" y="6881760"/>
            <a:ext cx="31910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224480" y="6881760"/>
            <a:ext cx="235260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B9773F-650A-462D-B394-9FB8CD837E26}" type="slidenum">
              <a:rPr b="0" lang="ru-RU" sz="13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9640" y="289080"/>
            <a:ext cx="6940440" cy="33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1960"/>
                <a:tab algn="l" pos="5065560"/>
                <a:tab algn="l" pos="5791320"/>
                <a:tab algn="l" pos="6513480"/>
                <a:tab algn="l" pos="7236000"/>
                <a:tab algn="l" pos="7958160"/>
                <a:tab algn="l" pos="8686800"/>
                <a:tab algn="l" pos="9058320"/>
                <a:tab algn="l" pos="10064880"/>
              </a:tabLst>
            </a:pPr>
            <a:r>
              <a:rPr b="1" i="1" lang="en-GB" sz="4400" spc="-1" strike="noStrike">
                <a:solidFill>
                  <a:srgbClr val="006633"/>
                </a:solidFill>
                <a:latin typeface="Garamond"/>
              </a:rPr>
              <a:t>Элементы математического моделирования в школьном </a:t>
            </a: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курсе информатики и ИКТ</a:t>
            </a:r>
            <a:r>
              <a:rPr b="1" i="1" lang="en-GB" sz="44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468320" y="4923000"/>
            <a:ext cx="507204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3794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94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072720"/>
                <a:tab algn="l" pos="100807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3120" y="250920"/>
            <a:ext cx="8607600" cy="79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600" spc="-1" strike="noStrike">
                <a:solidFill>
                  <a:srgbClr val="006633"/>
                </a:solidFill>
                <a:latin typeface="Garamond"/>
              </a:rPr>
              <a:t>.</a:t>
            </a:r>
            <a:r>
              <a:rPr b="0" lang="en-GB" sz="4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4160" y="323640"/>
            <a:ext cx="8207280" cy="431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ебник Н. Д. Угринович - 11класс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60360" y="1187280"/>
          <a:ext cx="8929800" cy="5761080"/>
        </p:xfrm>
        <a:graphic>
          <a:graphicData uri="http://schemas.openxmlformats.org/drawingml/2006/table">
            <a:tbl>
              <a:tblPr/>
              <a:tblGrid>
                <a:gridCol w="774720"/>
                <a:gridCol w="5430960"/>
                <a:gridCol w="2724120"/>
              </a:tblGrid>
              <a:tr h="50400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урока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граф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рование как метод познания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представления моделей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ный подход в моделировании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ы информационных моделей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этапы разработки и исследования моделей на компьютере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е математических моделей. Приближенное решение уравнений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е математических моделей. Вероятностные модели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е физических моделей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ие химических моделей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мизационное моделирование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- 5.1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Object 50"/>
          <p:cNvGraphicFramePr/>
          <p:nvPr/>
        </p:nvGraphicFramePr>
        <p:xfrm>
          <a:off x="936720" y="7559640"/>
          <a:ext cx="7632720" cy="183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7559640"/>
                    <a:ext cx="763272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Типовые задачи по «Математическому моделированию»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717480" indent="-7174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формационное моделирование с использованием таблиц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Математическое моделирование с использованием электронных таблиц (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crosoft Excel)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Математическое моделирование  с использованием языков программирования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 частности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scal)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сследование математических моделей: (Приближенное решение уравнений и приближенное вычисление площадей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Моделирование задач оптимального уровн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Моделирование искусственного языка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215640" cy="1892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Задача :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700" spc="-1" strike="noStrike">
                <a:solidFill>
                  <a:srgbClr val="006633"/>
                </a:solidFill>
                <a:latin typeface="Garamond"/>
              </a:rPr>
              <a:t>«На шоссе расположены пункты А и В, удаленные друг от друга на 20 км. Мотоциклист выехал из пункта В в направлении, противоположном А, со скоростью 50 км/ч»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2703240"/>
            <a:ext cx="9072360" cy="3956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575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ля решения составим математическую модель, описывающую положение мотоциклиста относительно пункта А через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час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75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75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Решение: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За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часов мотоциклист пройдет 5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км и будет находиться от А на расстоянии 5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км + 20км. Обозначим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– расстояние мотоциклиста до пункта А, тогда зависимость этого расстояния от времени движения можно выразить формулой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 +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20, где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&gt;=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900" spc="-1" strike="noStrike">
                <a:solidFill>
                  <a:srgbClr val="006633"/>
                </a:solidFill>
                <a:latin typeface="Garamond"/>
              </a:rPr>
              <a:t>Задача:</a:t>
            </a: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«Найдите в электронных таблицах корень уравнения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x – sin x = 0</a:t>
            </a: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приближенными методами.»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692360"/>
            <a:ext cx="9072720" cy="33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Решение: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электронных таблицах определим корни уравн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В диапазон ячеек В1 : В2 ввести значение аргумента функции от -1,4 до 1,4 с шагом 0,2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В ячейку В2 ввести формулу вычисления значений функции =В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^3-SIN(B1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 скопируем ее в диапазон ячеек С2 : Р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Для грубо приближенного определения корней ур-ия постройте диаграмму типа Графи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По графику видно корни: х1=-0,9; х2=0; х3=0,9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284560" y="1019160"/>
            <a:ext cx="25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04720" y="5508720"/>
          <a:ext cx="9072720" cy="1307880"/>
        </p:xfrm>
        <a:graphic>
          <a:graphicData uri="http://schemas.openxmlformats.org/drawingml/2006/table">
            <a:tbl>
              <a:tblPr/>
              <a:tblGrid>
                <a:gridCol w="432000"/>
                <a:gridCol w="1439640"/>
                <a:gridCol w="501840"/>
                <a:gridCol w="506520"/>
                <a:gridCol w="501480"/>
                <a:gridCol w="506520"/>
                <a:gridCol w="501480"/>
                <a:gridCol w="506520"/>
                <a:gridCol w="501480"/>
                <a:gridCol w="362160"/>
                <a:gridCol w="504720"/>
                <a:gridCol w="503280"/>
                <a:gridCol w="504720"/>
                <a:gridCol w="503280"/>
                <a:gridCol w="432000"/>
                <a:gridCol w="431640"/>
                <a:gridCol w="4334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=x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³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sinx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469440"/>
            <a:ext cx="9072720" cy="716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6633"/>
                </a:solidFill>
                <a:latin typeface="Garamond"/>
              </a:rPr>
              <a:t>ЗАДАЧА: «</a:t>
            </a:r>
            <a:r>
              <a:rPr b="0" lang="ru-RU" sz="2700" spc="-1" strike="noStrike">
                <a:solidFill>
                  <a:srgbClr val="006633"/>
                </a:solidFill>
                <a:latin typeface="Garamond"/>
              </a:rPr>
              <a:t>ВЫЧИСЛИМ</a:t>
            </a:r>
            <a:r>
              <a:rPr b="1" lang="ru-RU" sz="27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700" spc="-1" strike="noStrike">
                <a:solidFill>
                  <a:srgbClr val="006633"/>
                </a:solidFill>
                <a:latin typeface="Garamond"/>
              </a:rPr>
              <a:t>ЧАСТНОЕ</a:t>
            </a:r>
            <a:r>
              <a:rPr b="1" lang="ru-RU" sz="27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700" spc="-1" strike="noStrike">
                <a:solidFill>
                  <a:srgbClr val="006633"/>
                </a:solidFill>
                <a:latin typeface="Garamond"/>
              </a:rPr>
              <a:t>ДВУХ</a:t>
            </a:r>
            <a:r>
              <a:rPr b="1" lang="ru-RU" sz="27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700" spc="-1" strike="noStrike">
                <a:solidFill>
                  <a:srgbClr val="006633"/>
                </a:solidFill>
                <a:latin typeface="Garamond"/>
              </a:rPr>
              <a:t>ЧИСЕЛ</a:t>
            </a:r>
            <a:r>
              <a:rPr b="0" lang="ru-RU" sz="3100" spc="-1" strike="noStrike">
                <a:solidFill>
                  <a:srgbClr val="006633"/>
                </a:solidFill>
                <a:latin typeface="Garamond"/>
              </a:rPr>
              <a:t>».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8783640" cy="547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ноль делить нельзя, следовательно, делитель не равен нулю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=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зуем нашу задачу на языке программирова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bo Pasca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delen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, b: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zul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‘Введи значение делимого а ‘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‘Введи значение делител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‘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writel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‘На ноль делить нельзя ‘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zult: = a/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l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‘ Частное чисел ‘, а,’ и ‘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’ = ’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zul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устим программу на выполнение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) и получим результаты. Если есть ошибки – устраняем 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04720" y="1326240"/>
            <a:ext cx="9072720" cy="46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8000" indent="-378000"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математического моделирования – выполняет развивающую функцию, поскольку при его изучении уч-ся продолжают знакомство еще с одним методом познания окружающей действ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оде изучения математического моделирования формируется системно-информационная, научная картина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 algn="just">
              <a:spcBef>
                <a:spcPts val="60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вленные нами задачи были выполнены. К сожалению, были рассмотрены не все методические вопросы и не все задачи, но это станет темой других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04720" y="2622600"/>
            <a:ext cx="9072720" cy="2163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142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57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42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5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5700" spc="-1" strike="noStrike">
                <a:solidFill>
                  <a:srgbClr val="000000"/>
                </a:solidFill>
                <a:latin typeface="Arial"/>
              </a:rPr>
              <a:t>за внимание.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19280" y="1258920"/>
            <a:ext cx="8858160" cy="4897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Объект исследования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лементы математического моделирования  в школьном курсе информатики и ИКТ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825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Цель исследования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тодическая поддержка темы «математическое моделирование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600" spc="-1" strike="noStrike">
                <a:solidFill>
                  <a:srgbClr val="006633"/>
                </a:solidFill>
                <a:latin typeface="Garamond"/>
              </a:rPr>
              <a:t>                </a:t>
            </a:r>
            <a:r>
              <a:rPr b="1" lang="ru-RU" sz="4400" spc="-1" strike="noStrike">
                <a:solidFill>
                  <a:srgbClr val="006633"/>
                </a:solidFill>
                <a:latin typeface="Garamond"/>
              </a:rPr>
              <a:t>Задачи :</a:t>
            </a:r>
            <a:r>
              <a:rPr b="0" lang="ru-RU" sz="4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зучить теоретическую и методическую литературу по теме «Математическое моделирование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Проанализировать тематическое планирование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Рассмотреть типовые задачи по «Математическому моделированию» в школьном курсе информатики и ИКТ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588960"/>
            <a:ext cx="8440920" cy="13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1960"/>
                <a:tab algn="l" pos="5065560"/>
                <a:tab algn="l" pos="5791320"/>
                <a:tab algn="l" pos="6513480"/>
                <a:tab algn="l" pos="7236000"/>
                <a:tab algn="l" pos="7958160"/>
                <a:tab algn="l" pos="8051760"/>
                <a:tab algn="l" pos="9058320"/>
                <a:tab algn="l" pos="10064880"/>
              </a:tabLst>
            </a:pPr>
            <a:r>
              <a:rPr b="0" lang="ru-RU" sz="4500" spc="-1" strike="noStrike">
                <a:solidFill>
                  <a:srgbClr val="006633"/>
                </a:solidFill>
                <a:latin typeface="Garamond"/>
              </a:rPr>
              <a:t>Развитие математического моделирования.</a:t>
            </a:r>
            <a:endParaRPr b="0" lang="en-US" sz="4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41240" y="2572920"/>
            <a:ext cx="8609040" cy="35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ие модели – широкий класс знаковых моделей широко использующих те или иные математические мет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ое моделирование – это описание, воспроизведение, изучение и прогнозирование всевозможных процессов и явлений с помощью математических и вычислительных сре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0000" y="303120"/>
            <a:ext cx="7704000" cy="160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400" spc="-1" strike="noStrike">
                <a:solidFill>
                  <a:srgbClr val="006633"/>
                </a:solidFill>
                <a:latin typeface="Garamond"/>
              </a:rPr>
              <a:t>      </a:t>
            </a:r>
            <a:r>
              <a:rPr b="0" lang="ru-RU" sz="4400" spc="-1" strike="noStrike">
                <a:solidFill>
                  <a:srgbClr val="006633"/>
                </a:solidFill>
                <a:latin typeface="Garamond"/>
              </a:rPr>
              <a:t>Этапы построения математической модели: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06560" y="2555640"/>
            <a:ext cx="8137440" cy="3740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ЫДЕЛИТЬ СУЩЕСТВЕННЫЕ ЭЛЕМЕНТЫ, ОПИСАННЫЕ В ЗАДАЧЕ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БОЗНАЧИТЬ ИХ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УСТАНОВИТЬ ОТНОШЕНИЕ МЕЖДУ ЭЛЕМЕНТАМИ И МАТЕМАТИЧЕСКИМИ ОПЕРАЦИЯМИ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ЗАПИСАТЬ С ИСПОЛЬЗОВАНИЕМ МАТЕМАТИЧЕСКОЙ СИМВОЛИКИ ЭТИ СООТНОШЕНИ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2360" y="205920"/>
            <a:ext cx="772488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1960"/>
                <a:tab algn="l" pos="5065560"/>
                <a:tab algn="l" pos="5791320"/>
                <a:tab algn="l" pos="6513480"/>
                <a:tab algn="l" pos="7236000"/>
                <a:tab algn="l" pos="7958160"/>
                <a:tab algn="l" pos="8051760"/>
                <a:tab algn="l" pos="9058320"/>
                <a:tab algn="l" pos="10064880"/>
              </a:tabLst>
            </a:pPr>
            <a:r>
              <a:rPr b="0" lang="ru-RU" sz="4400" spc="-1" strike="noStrike">
                <a:solidFill>
                  <a:srgbClr val="006633"/>
                </a:solidFill>
                <a:latin typeface="Garamond"/>
              </a:rPr>
              <a:t>Классификация математических моделей.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18920" y="2315160"/>
            <a:ext cx="8629560" cy="42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ческие модели классифицирую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различным призна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ая классифик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дескриптивные (описательные) мод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птимизационные мод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многокритериальные мод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гровые мод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митационные мо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РАСКРЫТИЕ ТЕМЫ В УЧЕБНОЙ ЛИТЕРАТУРЕ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4720" y="2340000"/>
            <a:ext cx="9072720" cy="3527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едевтический курс инфор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зовый курс информатики (рассмотрены учебники: И.Г. Семакина, Н.Д. Угриновича, Л.Л. Босово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ильный курс информатики (рассмотрены учебники: Н.Д. Угриновича, С.А. Семакин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2000" y="542520"/>
            <a:ext cx="7923240" cy="71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ематическое планирование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4720" y="1402920"/>
            <a:ext cx="9072720" cy="647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ебник Л. Л. Босовой 7 класс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19280" y="1908000"/>
          <a:ext cx="8607240" cy="5270760"/>
        </p:xfrm>
        <a:graphic>
          <a:graphicData uri="http://schemas.openxmlformats.org/drawingml/2006/table">
            <a:tbl>
              <a:tblPr/>
              <a:tblGrid>
                <a:gridCol w="812520"/>
                <a:gridCol w="5693040"/>
                <a:gridCol w="2101680"/>
              </a:tblGrid>
              <a:tr h="50328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урока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граф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 объектов и их назначение</a:t>
                      </a: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ые модели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есные информационные модели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2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ческие модели</a:t>
                      </a:r>
                      <a:r>
                        <a:rPr b="0" lang="ru-RU" sz="2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ичные информационные модели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ичное решение логических задач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слительные таблицы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ые таблицы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ки и диаграммы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хемы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Object 2"/>
          <p:cNvGraphicFramePr/>
          <p:nvPr/>
        </p:nvGraphicFramePr>
        <p:xfrm>
          <a:off x="792000" y="6372360"/>
          <a:ext cx="7632720" cy="50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6372360"/>
                    <a:ext cx="76327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3120" y="250920"/>
            <a:ext cx="8607600" cy="79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600" spc="-1" strike="noStrike">
                <a:solidFill>
                  <a:srgbClr val="006633"/>
                </a:solidFill>
                <a:latin typeface="Garamond"/>
              </a:rPr>
              <a:t>.</a:t>
            </a:r>
            <a:r>
              <a:rPr b="0" lang="en-GB" sz="4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4160" y="323640"/>
            <a:ext cx="8207280" cy="431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ебник Н. Д. Угринович - 9 класс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31640" y="1042920"/>
          <a:ext cx="8929800" cy="5808600"/>
        </p:xfrm>
        <a:graphic>
          <a:graphicData uri="http://schemas.openxmlformats.org/drawingml/2006/table">
            <a:tbl>
              <a:tblPr/>
              <a:tblGrid>
                <a:gridCol w="774720"/>
                <a:gridCol w="5432400"/>
                <a:gridCol w="2722680"/>
              </a:tblGrid>
              <a:tr h="4874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урока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граф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рование как метод познания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.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е и информационные модели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.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лизация и визуализация моделей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.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этапы разработки и исследования моделей на компьютере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роение и исследование математических моделей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лиженное решение уравнений с использованием языка программирования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 Basic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.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лиженное решение уравнений  с использованием электронных таблиц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.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ое решение уравнений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00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476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ие модели развития популяций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Object 54"/>
          <p:cNvGraphicFramePr/>
          <p:nvPr/>
        </p:nvGraphicFramePr>
        <p:xfrm>
          <a:off x="936720" y="7559640"/>
          <a:ext cx="7632720" cy="183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Object 5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7559640"/>
                    <a:ext cx="763272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2</cp:lastModifiedBy>
  <dcterms:modified xsi:type="dcterms:W3CDTF">2015-03-11T17:26:10Z</dcterms:modified>
  <cp:revision>15</cp:revision>
  <dc:subject/>
  <dc:title>Элементы математического моделирования в школьном курсе информатики.</dc:title>
</cp:coreProperties>
</file>