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FE2F-F663-4CBC-A877-B1252453B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14D3-E856-4F28-98C6-F9F6FE62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484C-E432-4C7E-A02B-2F3C4EBAB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7228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984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472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7228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984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067E-CC11-4676-AD8B-A147D1965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72DA-84A8-48E4-BEBB-4B4D74A56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3D8C-EE23-4E9A-83F7-1652D100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4A39-0739-421A-84A8-D4FA497B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D0AB-E4E7-4995-8B0A-681E4C27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DD51-3FEE-4CEF-B64B-AF01F981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04720" y="306360"/>
            <a:ext cx="90727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75E7-3588-493D-87F5-124643DE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D46B-1341-4137-8935-70AFFF9F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361D-6B38-4215-A031-5B8027B8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189F-4AF3-4584-812D-AE31D443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91D2-5F56-49EA-A643-81C07C41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A48B-C557-4D67-BF2B-DCEF15C8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88AE-43C1-4E49-9F86-CB55DA903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7228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3984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72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7228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3984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4826-2A81-4ABB-9B03-92102628B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FAE8-F3AF-46EB-BC91-57A6C0AD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848F-2479-4CA2-BBD4-F66B3147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3A78-1203-482B-8559-98D3FE74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4720" y="306360"/>
            <a:ext cx="90727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75BE-C1B4-4F17-9061-4CABB851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4F17-ECFA-4D79-9D1C-FE9CF183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5FF3-8BD8-4182-ABC6-4BB42AD5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F01B-BDE7-4A3B-8122-D7BF4F56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spcBef>
                <a:spcPts val="8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27160" indent="-387360"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476360" indent="-347760">
              <a:spcBef>
                <a:spcPts val="82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1852560" indent="-374760">
              <a:spcBef>
                <a:spcPts val="82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1852560" indent="-374760">
              <a:spcBef>
                <a:spcPts val="8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1852560" indent="-374760">
              <a:spcBef>
                <a:spcPts val="8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1760"/>
            <a:ext cx="235116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1760"/>
            <a:ext cx="235260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2B29810-8602-4B9C-996E-2A7609A59295}" type="slidenum">
              <a:rPr b="0" lang="ru-RU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20840" y="252360"/>
            <a:ext cx="9072360" cy="67140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504720" y="6804000"/>
            <a:ext cx="907272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71400" y="1344600"/>
            <a:ext cx="8737560" cy="10080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2184480" y="4367160"/>
            <a:ext cx="717876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spcBef>
                <a:spcPts val="8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27160" indent="-387360"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476360" indent="-347760">
              <a:spcBef>
                <a:spcPts val="82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1852560" indent="-374760">
              <a:spcBef>
                <a:spcPts val="82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1852560" indent="-374760">
              <a:spcBef>
                <a:spcPts val="8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1852560" indent="-374760">
              <a:spcBef>
                <a:spcPts val="8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04360" y="6881760"/>
            <a:ext cx="235116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44840" y="6881760"/>
            <a:ext cx="319104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224480" y="6881760"/>
            <a:ext cx="235260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FE2D2A8-15F7-4A9F-9117-C20C41F08BB2}" type="slidenum">
              <a:rPr b="0" lang="ru-RU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9640" y="289080"/>
            <a:ext cx="6940440" cy="33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1960"/>
                <a:tab algn="l" pos="5065560"/>
                <a:tab algn="l" pos="5791320"/>
                <a:tab algn="l" pos="6513480"/>
                <a:tab algn="l" pos="7236000"/>
                <a:tab algn="l" pos="7958160"/>
                <a:tab algn="l" pos="8686800"/>
                <a:tab algn="l" pos="9058320"/>
                <a:tab algn="l" pos="10064880"/>
              </a:tabLst>
            </a:pPr>
            <a:r>
              <a:rPr b="1" i="1" lang="en-GB" sz="4400" spc="-1" strike="noStrike">
                <a:solidFill>
                  <a:srgbClr val="006633"/>
                </a:solidFill>
                <a:latin typeface="Garamond"/>
              </a:rPr>
              <a:t>Элементы математического моделирования в школьном </a:t>
            </a:r>
            <a:r>
              <a:rPr b="1" i="1" lang="ru-RU" sz="4400" spc="-1" strike="noStrike">
                <a:solidFill>
                  <a:srgbClr val="006633"/>
                </a:solidFill>
                <a:latin typeface="Garamond"/>
              </a:rPr>
              <a:t>курсе информатики и ИКТ</a:t>
            </a:r>
            <a:r>
              <a:rPr b="1" i="1" lang="en-GB" sz="4400" spc="-1" strike="noStrike">
                <a:solidFill>
                  <a:srgbClr val="006633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468320" y="4923000"/>
            <a:ext cx="507204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37944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7944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072720"/>
                <a:tab algn="l" pos="100807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73120" y="250920"/>
            <a:ext cx="8607600" cy="79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600" spc="-1" strike="noStrike">
                <a:solidFill>
                  <a:srgbClr val="006633"/>
                </a:solidFill>
                <a:latin typeface="Garamond"/>
              </a:rPr>
              <a:t>.</a:t>
            </a:r>
            <a:r>
              <a:rPr b="0" lang="en-GB" sz="46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4160" y="323640"/>
            <a:ext cx="8207280" cy="431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ебник Н. Д. Угринович - 11класс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60360" y="1187280"/>
          <a:ext cx="8929800" cy="5761080"/>
        </p:xfrm>
        <a:graphic>
          <a:graphicData uri="http://schemas.openxmlformats.org/drawingml/2006/table">
            <a:tbl>
              <a:tblPr/>
              <a:tblGrid>
                <a:gridCol w="774720"/>
                <a:gridCol w="5430960"/>
                <a:gridCol w="2724120"/>
              </a:tblGrid>
              <a:tr h="50400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 урока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граф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елирование как метод познания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представления моделей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ный подход в моделировании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ы информационных моделей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этапы разработки и исследования моделей на компьютере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3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ние математических моделей. Приближенное решение уравнений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ние математических моделей. Вероятностные модели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ние физических моделей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-1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ние химических моделей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тимизационное моделирование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- 5.1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Object 50"/>
          <p:cNvGraphicFramePr/>
          <p:nvPr/>
        </p:nvGraphicFramePr>
        <p:xfrm>
          <a:off x="936720" y="7559640"/>
          <a:ext cx="7632720" cy="1835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720" y="7559640"/>
                    <a:ext cx="7632720" cy="18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Типовые задачи по «Математическому моделированию»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717480" indent="-7174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формационное моделирование с использованием таблиц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717480" indent="-7174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Математическое моделирование с использованием электронных таблиц (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icrosoft Excel)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717480" indent="-7174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Математическое моделирование  с использованием языков программирования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 частности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ascal)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717480" indent="-7174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сследование математических моделей: (Приближенное решение уравнений и приближенное вычисление площадей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717480" indent="-7174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Моделирование задач оптимального уровня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717480" indent="-7174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Моделирование искусственного языка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360" y="539280"/>
            <a:ext cx="9215640" cy="1892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Задача :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700" spc="-1" strike="noStrike">
                <a:solidFill>
                  <a:srgbClr val="006633"/>
                </a:solidFill>
                <a:latin typeface="Garamond"/>
              </a:rPr>
              <a:t>«На шоссе расположены пункты А и В, удаленные друг от друга на 20 км. Мотоциклист выехал из пункта В в направлении, противоположном А, со скоростью 50 км/ч»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2703240"/>
            <a:ext cx="9072360" cy="3956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575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Для решения составим математическую модель, описывающую положение мотоциклиста относительно пункта А через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часо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75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75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Решение: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За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часов мотоциклист пройдет 5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км и будет находиться от А на расстоянии 5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км + 20км. Обозначим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– расстояние мотоциклиста до пункта А, тогда зависимость этого расстояния от времени движения можно выразить формулой: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 +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20, где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t&gt;=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900" spc="-1" strike="noStrike">
                <a:solidFill>
                  <a:srgbClr val="006633"/>
                </a:solidFill>
                <a:latin typeface="Garamond"/>
              </a:rPr>
              <a:t>Задача:</a:t>
            </a: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 «Найдите в электронных таблицах корень уравнения 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x – sin x = 0</a:t>
            </a: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 приближенными методами.»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692360"/>
            <a:ext cx="9072720" cy="33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Решение: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электронных таблицах определим корни уравн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1.В диапазон ячеек В1 : В2 ввести значение аргумента функции от -1,4 до 1,4 с шагом 0,2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2.В ячейку В2 ввести формулу вычисления значений функции =В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^3-SIN(B1)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и скопируем ее в диапазон ячеек С2 : Р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.Для грубо приближенного определения корней ур-ия постройте диаграмму типа Графи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По графику видно корни: х1=-0,9; х2=0; х3=0,9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284560" y="1019160"/>
            <a:ext cx="25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04720" y="5508720"/>
          <a:ext cx="9072720" cy="1307880"/>
        </p:xfrm>
        <a:graphic>
          <a:graphicData uri="http://schemas.openxmlformats.org/drawingml/2006/table">
            <a:tbl>
              <a:tblPr/>
              <a:tblGrid>
                <a:gridCol w="432000"/>
                <a:gridCol w="1439640"/>
                <a:gridCol w="501840"/>
                <a:gridCol w="506520"/>
                <a:gridCol w="501480"/>
                <a:gridCol w="506520"/>
                <a:gridCol w="501480"/>
                <a:gridCol w="506520"/>
                <a:gridCol w="501480"/>
                <a:gridCol w="362160"/>
                <a:gridCol w="504720"/>
                <a:gridCol w="503280"/>
                <a:gridCol w="504720"/>
                <a:gridCol w="503280"/>
                <a:gridCol w="432000"/>
                <a:gridCol w="431640"/>
                <a:gridCol w="43344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=x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³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sinx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469440"/>
            <a:ext cx="9072720" cy="716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6633"/>
                </a:solidFill>
                <a:latin typeface="Garamond"/>
              </a:rPr>
              <a:t>ЗАДАЧА: «</a:t>
            </a:r>
            <a:r>
              <a:rPr b="0" lang="ru-RU" sz="2700" spc="-1" strike="noStrike">
                <a:solidFill>
                  <a:srgbClr val="006633"/>
                </a:solidFill>
                <a:latin typeface="Garamond"/>
              </a:rPr>
              <a:t>ВЫЧИСЛИМ</a:t>
            </a:r>
            <a:r>
              <a:rPr b="1" lang="ru-RU" sz="27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700" spc="-1" strike="noStrike">
                <a:solidFill>
                  <a:srgbClr val="006633"/>
                </a:solidFill>
                <a:latin typeface="Garamond"/>
              </a:rPr>
              <a:t>ЧАСТНОЕ</a:t>
            </a:r>
            <a:r>
              <a:rPr b="1" lang="ru-RU" sz="27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700" spc="-1" strike="noStrike">
                <a:solidFill>
                  <a:srgbClr val="006633"/>
                </a:solidFill>
                <a:latin typeface="Garamond"/>
              </a:rPr>
              <a:t>ДВУХ</a:t>
            </a:r>
            <a:r>
              <a:rPr b="1" lang="ru-RU" sz="27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700" spc="-1" strike="noStrike">
                <a:solidFill>
                  <a:srgbClr val="006633"/>
                </a:solidFill>
                <a:latin typeface="Garamond"/>
              </a:rPr>
              <a:t>ЧИСЕЛ</a:t>
            </a:r>
            <a:r>
              <a:rPr b="0" lang="ru-RU" sz="3100" spc="-1" strike="noStrike">
                <a:solidFill>
                  <a:srgbClr val="006633"/>
                </a:solidFill>
                <a:latin typeface="Garamond"/>
              </a:rPr>
              <a:t>».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8783640" cy="547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ноль делить нельзя, следовательно, делитель не равен нулю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=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ализуем нашу задачу на языке программирован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rbo Pasca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 deleni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, b: integ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zul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‘Введи значение делимого а ‘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а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‘Введи значение делител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‘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writel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‘На ноль делить нельзя ‘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zult: = a/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l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‘ Частное чисел ‘, а,’ и ‘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’ = ’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zul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устим программу на выполнение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tr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) и получим результаты. Если есть ошибки – устраняем 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04720" y="1326240"/>
            <a:ext cx="9072720" cy="469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78000" indent="-378000" algn="just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математического моделирования – выполняет развивающую функцию, поскольку при его изучении уч-ся продолжают знакомство еще с одним методом познания окружающей действи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 algn="just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 algn="just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ходе изучения математического моделирования формируется системно-информационная, научная картина м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 algn="just">
              <a:spcBef>
                <a:spcPts val="60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 algn="just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вленные нами задачи были выполнены. К сожалению, были рассмотрены не все методические вопросы и не все задачи, но это станет темой других раб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04720" y="2622600"/>
            <a:ext cx="9072720" cy="2163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142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5700" spc="-1" strike="noStrike">
                <a:solidFill>
                  <a:srgbClr val="000000"/>
                </a:solidFill>
                <a:latin typeface="Arial"/>
              </a:rPr>
              <a:t>Спасибо 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142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5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5700" spc="-1" strike="noStrike">
                <a:solidFill>
                  <a:srgbClr val="000000"/>
                </a:solidFill>
                <a:latin typeface="Arial"/>
              </a:rPr>
              <a:t>за внимание.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19280" y="1258920"/>
            <a:ext cx="8858160" cy="489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Объект исследования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лементы математического моделирования  в школьном курсе информатики и ИКТ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825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Цель исследования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тодическая поддержка темы «математическое моделирование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600" spc="-1" strike="noStrike">
                <a:solidFill>
                  <a:srgbClr val="006633"/>
                </a:solidFill>
                <a:latin typeface="Garamond"/>
              </a:rPr>
              <a:t>                </a:t>
            </a:r>
            <a:r>
              <a:rPr b="1" lang="ru-RU" sz="4400" spc="-1" strike="noStrike">
                <a:solidFill>
                  <a:srgbClr val="006633"/>
                </a:solidFill>
                <a:latin typeface="Garamond"/>
              </a:rPr>
              <a:t>Задачи :</a:t>
            </a:r>
            <a:r>
              <a:rPr b="0" lang="ru-RU" sz="46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зучить теоретическую и методическую литературу по теме «Математическое моделирование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Проанализировать тематическое планирование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 Рассмотреть типовые задачи по «Математическому моделированию» в школьном курсе информатики и ИКТ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588960"/>
            <a:ext cx="844092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1960"/>
                <a:tab algn="l" pos="5065560"/>
                <a:tab algn="l" pos="5791320"/>
                <a:tab algn="l" pos="6513480"/>
                <a:tab algn="l" pos="7236000"/>
                <a:tab algn="l" pos="7958160"/>
                <a:tab algn="l" pos="8051760"/>
                <a:tab algn="l" pos="9058320"/>
                <a:tab algn="l" pos="10064880"/>
              </a:tabLst>
            </a:pPr>
            <a:r>
              <a:rPr b="0" lang="ru-RU" sz="4500" spc="-1" strike="noStrike">
                <a:solidFill>
                  <a:srgbClr val="006633"/>
                </a:solidFill>
                <a:latin typeface="Garamond"/>
              </a:rPr>
              <a:t>Развитие математического моделирования.</a:t>
            </a:r>
            <a:endParaRPr b="0" lang="en-US" sz="4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41240" y="2572920"/>
            <a:ext cx="8609040" cy="35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матические модели – широкий класс знаковых моделей широко использующих те или иные математические мет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матическое моделирование – это описание, воспроизведение, изучение и прогнозирование всевозможных процессов и явлений с помощью математических и вычислительных сред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0000" y="303120"/>
            <a:ext cx="7704000" cy="16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400" spc="-1" strike="noStrike">
                <a:solidFill>
                  <a:srgbClr val="006633"/>
                </a:solidFill>
                <a:latin typeface="Garamond"/>
              </a:rPr>
              <a:t>      </a:t>
            </a:r>
            <a:r>
              <a:rPr b="0" lang="ru-RU" sz="4400" spc="-1" strike="noStrike">
                <a:solidFill>
                  <a:srgbClr val="006633"/>
                </a:solidFill>
                <a:latin typeface="Garamond"/>
              </a:rPr>
              <a:t>Этапы построения математической модели: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06560" y="2555640"/>
            <a:ext cx="8137440" cy="3740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ЫДЕЛИТЬ СУЩЕСТВЕННЫЕ ЭЛЕМЕНТЫ, ОПИСАННЫЕ В ЗАДАЧЕ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ОБОЗНАЧИТЬ ИХ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УСТАНОВИТЬ ОТНОШЕНИЕ МЕЖДУ ЭЛЕМЕНТАМИ И МАТЕМАТИЧЕСКИМИ ОПЕРАЦИЯМИ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ЗАПИСАТЬ С ИСПОЛЬЗОВАНИЕМ МАТЕМАТИЧЕСКОЙ СИМВОЛИКИ ЭТИ СООТНОШЕНИЯ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2360" y="205920"/>
            <a:ext cx="772488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1960"/>
                <a:tab algn="l" pos="5065560"/>
                <a:tab algn="l" pos="5791320"/>
                <a:tab algn="l" pos="6513480"/>
                <a:tab algn="l" pos="7236000"/>
                <a:tab algn="l" pos="7958160"/>
                <a:tab algn="l" pos="8051760"/>
                <a:tab algn="l" pos="9058320"/>
                <a:tab algn="l" pos="10064880"/>
              </a:tabLst>
            </a:pPr>
            <a:r>
              <a:rPr b="0" lang="ru-RU" sz="4400" spc="-1" strike="noStrike">
                <a:solidFill>
                  <a:srgbClr val="006633"/>
                </a:solidFill>
                <a:latin typeface="Garamond"/>
              </a:rPr>
              <a:t>Классификация математических моделей.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18920" y="2315160"/>
            <a:ext cx="8629560" cy="42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матические модели классифицирую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различным призна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ая классифика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дескриптивные (описательные) моде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оптимизационные моде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многокритериальные моде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игровые моде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имитационные мо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РАСКРЫТИЕ ТЕМЫ В УЧЕБНОЙ ЛИТЕРАТУРЕ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4720" y="2340000"/>
            <a:ext cx="9072720" cy="3527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педевтический курс информа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зовый курс информатики (рассмотрены учебники: И.Г. Семакина, Н.Д. Угриновича, Л.Л. Босово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ильный курс информатики (рассмотрены учебники: Н.Д. Угриновича, С.А. Семакин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2000" y="542520"/>
            <a:ext cx="7923240" cy="71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Тематическое планирование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4720" y="1402920"/>
            <a:ext cx="9072720" cy="647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ебник Л. Л. Босовой 7 класс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19280" y="1908000"/>
          <a:ext cx="8607240" cy="5270760"/>
        </p:xfrm>
        <a:graphic>
          <a:graphicData uri="http://schemas.openxmlformats.org/drawingml/2006/table">
            <a:tbl>
              <a:tblPr/>
              <a:tblGrid>
                <a:gridCol w="812520"/>
                <a:gridCol w="5693040"/>
                <a:gridCol w="2101680"/>
              </a:tblGrid>
              <a:tr h="50328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 урока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граф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ели объектов и их назначение</a:t>
                      </a: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ые модели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весные информационные модели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ческие модели</a:t>
                      </a:r>
                      <a:r>
                        <a:rPr b="0" lang="ru-RU" sz="2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бличные информационные модели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бличное решение логических задач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слительные таблицы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нные таблицы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ки и диаграммы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хемы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Object 2"/>
          <p:cNvGraphicFramePr/>
          <p:nvPr/>
        </p:nvGraphicFramePr>
        <p:xfrm>
          <a:off x="792000" y="6372360"/>
          <a:ext cx="7632720" cy="50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6372360"/>
                    <a:ext cx="76327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3120" y="250920"/>
            <a:ext cx="8607600" cy="79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600" spc="-1" strike="noStrike">
                <a:solidFill>
                  <a:srgbClr val="006633"/>
                </a:solidFill>
                <a:latin typeface="Garamond"/>
              </a:rPr>
              <a:t>.</a:t>
            </a:r>
            <a:r>
              <a:rPr b="0" lang="en-GB" sz="46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54160" y="323640"/>
            <a:ext cx="8207280" cy="431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ебник Н. Д. Угринович - 9 класс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31640" y="1042920"/>
          <a:ext cx="8929800" cy="5808600"/>
        </p:xfrm>
        <a:graphic>
          <a:graphicData uri="http://schemas.openxmlformats.org/drawingml/2006/table">
            <a:tbl>
              <a:tblPr/>
              <a:tblGrid>
                <a:gridCol w="774720"/>
                <a:gridCol w="5432400"/>
                <a:gridCol w="2722680"/>
              </a:tblGrid>
              <a:tr h="48744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 урока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граф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елирование как метод познания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.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ьные и информационные модели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.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лизация и визуализация моделей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.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этапы разработки и исследования моделей на компьютере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роение и исследование математических моделей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ближенное решение уравнений с использованием языка программирования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 Basic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.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ближенное решение уравнений  с использованием электронных таблиц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.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ое решение уравнений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00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ческие модели развития популяций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Object 54"/>
          <p:cNvGraphicFramePr/>
          <p:nvPr/>
        </p:nvGraphicFramePr>
        <p:xfrm>
          <a:off x="936720" y="7559640"/>
          <a:ext cx="7632720" cy="1835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Object 5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720" y="7559640"/>
                    <a:ext cx="7632720" cy="18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К2</cp:lastModifiedBy>
  <dcterms:modified xsi:type="dcterms:W3CDTF">2015-03-11T17:26:10Z</dcterms:modified>
  <cp:revision>15</cp:revision>
  <dc:subject/>
  <dc:title>Элементы математического моделирования в школьном курсе информатики.</dc:title>
</cp:coreProperties>
</file>