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wind.wav" ContentType="audio/x-wav"/>
  <Override PartName="/ppt/media/image7.jpeg" ContentType="image/jpeg"/>
  <Override PartName="/ppt/media/image11.png" ContentType="image/png"/>
  <Override PartName="/ppt/media/image1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2EDA-7BB6-42A9-B0BE-09A38ABC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EDC1-8C70-47C8-A77F-08DBEB03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5049-2042-43A9-A8F2-C7B4A294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AAB5-3FEF-48B0-BDD0-96052BD4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BA39-6463-4B83-98A5-97DC1B91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40DF-6725-41BA-8DD9-94A0D7D9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9AAF-0335-46B4-A2FC-87426169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26BA-2AB8-4A82-BF90-9E426ABE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D65B-453F-4485-B727-5006B2D7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9F69-5A20-4B3D-B376-F624EDF3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AB77-150D-4B33-B3F0-E0F913CC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60A8-FD9D-424B-A56B-70BCB9B0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3A34-49A9-401A-906E-84ED80CA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FF0F-ADD2-4110-B265-F65BF3E6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7DAD-3FC7-4C4E-8E85-102A28C0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9F5E-FF4F-43C9-9229-06908926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022A-751D-4F9A-A89E-CBB46E58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CED0-1518-4EF6-91E7-EB52D5BD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5568-74DA-4070-BF79-B8073A4A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9456-A784-47E4-8FF5-D6C95CD2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1BDA-0476-44F5-A970-69F4866A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B5EB-3749-4A19-8899-A260896F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1AD6-9D2A-4CFA-9055-8B564139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B457-6A45-488E-A231-7A5FB3CE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E273-EF33-4A27-911E-CF457FA817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5EB9-8938-4504-AE32-C34C2624EA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149840" y="404640"/>
            <a:ext cx="7096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КАЖДЫЙ, КТО ЛЮБИТ ПРАВДУ,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ПРИХОДИТ К СВЕТУ; ОН НЕ БОИ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ОБНАРУЖИТЬ ДЕЛА СВОИ,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                              ЛЕВИ ДОУЛИН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059280" y="2637000"/>
            <a:ext cx="2782800" cy="3671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2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763640" y="115920"/>
            <a:ext cx="60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Tahoma"/>
              </a:rPr>
              <a:t>ПРАВДА В ПЬЕСЕ М. ГОРЬКОГ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Tahoma"/>
              </a:rPr>
              <a:t>«НА ДНЕ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720072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2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3311640" cy="28303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132000" y="3789360"/>
            <a:ext cx="3168720" cy="2879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292720" y="692280"/>
            <a:ext cx="3456000" cy="2881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4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796000" y="404640"/>
            <a:ext cx="3097080" cy="5040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50920" y="228600"/>
            <a:ext cx="532908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В ЧЕМ ПРАВДА САТИ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«ВСЁ- В ЧЕЛОВЕКЕ, ВСЁ ДЛЯ ЧЕЛОВЕКА. СУЩЕСТВУЕТ ТОЛЬКО ЧЕЛОВЕК. ВСЕ ЖЕ ОСТАЛЬНОЕ – ДЕЛО ЕГО РУК И МОЗГА! ЧЕ-ЛО-ВЕК – ЭТО ВЕЛИКОЛЕПНО! ЭТО ЗВУЧИТ ГОРДО! НАДО УВАЖАТЬ ЧЕЛОВЕКА! НЕ ЖАЛЕТЬ, НЕ УНИЖАТЬ ЕГО ЖАЛОСТЬЮ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«ЧТО ТАКОЕ ПРАВДА? ЧЕЛОВЕК – ВОТ ПРАВДА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«ЛОЖЬ – РЕЛИГИЯ РАБОВ И ХОЗЯЕВ… ПРАВДА – БОГ СВОБОДНОГО ЧЕЛОВЕКА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55080" y="5608800"/>
            <a:ext cx="252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МИТРИЙ НАЗАРОВ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В РОЛИ САТ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  <p:sndAc>
      <p:stSnd>
        <p:snd r:embed="rId2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435640" y="260280"/>
            <a:ext cx="3708360" cy="6048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588960"/>
            <a:ext cx="53640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В  ЧЕМ ПРАВДА БУБНО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«НА ЧТО МНЕ СОВЕСТЬ? Я – НЕ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БОГАТЫЙ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«ЛЮДИ ВСЕ ЖИВУТ…КАК ЩЕПКИ ПО РЕКЕ ПЛЫВУТ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«ВСЕ ЛЮДИ НА ЗЕМЛЕ ЛИШНИЕ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«ВСЁ СКАЗКИ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«ВСЕ ТАК: РОДЯТСЯ, ПОЖИВУТ, УМИРАЮТ. И Я ПОМРУ…И ТЫ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5950080"/>
            <a:ext cx="29163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ИКИТА ТОЛУБЕЕ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РОЛИ   БУБ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  <p:sndAc>
      <p:stSnd>
        <p:snd r:embed="rId2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219640" y="404640"/>
            <a:ext cx="3810240" cy="6000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115920"/>
            <a:ext cx="521964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В ЧЁМ ПРАВДА ЛУ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«ВО ЧТО ВЕРИШЬ, ТО И ЕСТЬ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«ХРИСТОС ВСЕХ ЖАЛЕЛ И НАМ ВЕЛЕЛ»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«ЧЕЛОВЕК -  ВСЕ МОЖЕТ…ЛИШЬ БЫ ЗАХОТЕЛ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«…ЕСЛИ КТО КОМУ ХОРОШО НЕ СДЕЛАЛ, ТОТ И ХУДО ПОСТУПИЛ…»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«ВСЯКО ЖИВЕТ ЧЕЛОВЕК…КАК СЕРДЦЕ НАЛАЖЕНО, ТАК И ЖИВЕТ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8880" y="5734080"/>
            <a:ext cx="207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ВАН МОСКВИН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В РОЛИ ЛУ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  <p:sndAc>
      <p:stSnd>
        <p:snd r:embed="rId2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2376360" cy="2016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156360" y="4005360"/>
            <a:ext cx="2808360" cy="23050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3276720" y="4508640"/>
            <a:ext cx="2158920" cy="1944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250920" y="3068640"/>
            <a:ext cx="2520720" cy="3672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6372360" y="333360"/>
            <a:ext cx="2376360" cy="30970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3203640" y="260280"/>
            <a:ext cx="280836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7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4:53:27Z</dcterms:created>
  <dc:creator>Альберт</dc:creator>
  <dc:description/>
  <dc:language>en-US</dc:language>
  <cp:lastModifiedBy>Альберт</cp:lastModifiedBy>
  <dcterms:modified xsi:type="dcterms:W3CDTF">2008-12-07T11:27:20Z</dcterms:modified>
  <cp:revision>3</cp:revision>
  <dc:subject/>
  <dc:title>Слайд 1</dc:title>
</cp:coreProperties>
</file>