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wind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CEB-46F7-406E-B642-8F43D0C8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2A1-21CD-421B-8B50-11EA40B5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487-BA83-49BE-A2FF-BF94CC1A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9EE-01E6-4D72-A987-8F5A7A86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FF19-4EDB-40C2-BADD-3163ACA0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6B1A-2D2E-479E-BF7A-D93950C2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028C-6B5E-42E4-B11B-9CF44F1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BFAF-DB76-4248-B1AF-88DE5CFF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2B62-A145-4BB2-AC65-3A91470C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1A72-D6C5-4FAA-AD12-BFD7EAC0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ED14-0FB4-4FE1-92D7-FC3FD1B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240-1DB4-4FB0-9919-8778815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DDDD-7554-49BE-A33C-8A2F2AC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8BE5-58B7-4F89-B652-0584B03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8782-D63D-44A1-9D1D-E270F589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BC78-DD50-4630-95A2-A0DD92D8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A84F-3D19-44D4-A97C-38BC44DE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164-E8B8-4274-89C3-CF8C4F75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BA4-22BD-4CE1-A9F0-CB85560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466-AECA-4F74-8303-E6BC277B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D50-DF72-4D7F-9357-B151FAB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A5B-6D68-480C-94C8-F824A43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6D2-B25F-4453-AE02-65BD1D3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C8D-0194-4E06-AE22-F949850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5863-5BDF-4D8A-B8ED-5BE95E5329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230-49D1-4C9D-A1BF-11AF8B45E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9840" y="404640"/>
            <a:ext cx="7096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АЖДЫЙ, КТО ЛЮБИТ ПРАВДУ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РИХОДИТ К СВЕТУ; ОН НЕ БОИ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БНАРУЖИТЬ ДЕЛА СВОИ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ЛЕВИ ДОУЛ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278280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63640" y="11592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ahoma"/>
              </a:rPr>
              <a:t>ПРАВДА В ПЬЕСЕ М. ГОРЬКО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ahoma"/>
              </a:rPr>
              <a:t>«НА ДН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20072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3311640" cy="2830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132000" y="378936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292720" y="692280"/>
            <a:ext cx="345600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4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96000" y="404640"/>
            <a:ext cx="3097080" cy="5040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0920" y="228600"/>
            <a:ext cx="53290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В ЧЕМ ПРАВДА САТИ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ВСЁ- В ЧЕЛОВЕКЕ, ВСЁ ДЛЯ ЧЕЛОВЕКА. СУЩЕСТВУЕТ ТОЛЬКО ЧЕЛОВЕК. ВСЕ ЖЕ ОСТАЛЬНОЕ – ДЕЛО ЕГО РУК И МОЗГА! ЧЕ-ЛО-ВЕК – ЭТО ВЕЛИКОЛЕПНО! ЭТО ЗВУЧИТ ГОРДО! НАДО УВАЖАТЬ ЧЕЛОВЕКА! НЕ ЖАЛЕТЬ, НЕ УНИЖАТЬ ЕГО ЖАЛОСТЬЮ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ЧТО ТАКОЕ ПРАВДА? ЧЕЛОВЕК – ВОТ ПРАВД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ЛОЖЬ – РЕЛИГИЯ РАБОВ И ХОЗЯЕВ… ПРАВДА – БОГ СВОБОДНОГО ЧЕЛОВЕК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55080" y="5608800"/>
            <a:ext cx="252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МИТРИЙ НАЗАР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В РОЛИ СА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3708360" cy="604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588960"/>
            <a:ext cx="5364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  ЧЕМ ПРАВДА БУБН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НА ЧТО МНЕ СОВЕСТЬ? Я – НЕ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БОГАТЫЙ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ЛЮДИ ВСЕ ЖИВУТ…КАК ЩЕПКИ ПО РЕКЕ ПЛЫВУТ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СЕ ЛЮДИ НА ЗЕМЛЕ ЛИШНИ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СЁ СКАЗКИ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СЕ ТАК: РОДЯТСЯ, ПОЖИВУТ, УМИРАЮТ. И Я ПОМРУ…И ТЫ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5950080"/>
            <a:ext cx="2916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ИКИТА ТОЛУБЕ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РОЛИ   БУБ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2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810240" cy="6000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5920"/>
            <a:ext cx="5219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 ЧЁМ ПРАВДА ЛУ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О ЧТО ВЕРИШЬ, ТО И ЕСТЬ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ХРИСТОС ВСЕХ ЖАЛЕЛ И НАМ ВЕЛЕЛ»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ЧЕЛОВЕК -  ВСЕ МОЖЕТ…ЛИШЬ БЫ ЗАХОТЕЛ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…ЕСЛИ КТО КОМУ ХОРОШО НЕ СДЕЛАЛ, ТОТ И ХУДО ПОСТУПИЛ…»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СЯКО ЖИВЕТ ЧЕЛОВЕК…КАК СЕРДЦЕ НАЛАЖЕНО, ТАК И ЖИВЕТ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8880" y="5734080"/>
            <a:ext cx="207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ВАН МОСКВИН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В РОЛИ Л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376360" cy="2016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76720" y="4508640"/>
            <a:ext cx="21589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2520720" cy="36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6372360" y="333360"/>
            <a:ext cx="2376360" cy="3097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203640" y="260280"/>
            <a:ext cx="2808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7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4:53:27Z</dcterms:created>
  <dc:creator>Альберт</dc:creator>
  <dc:description/>
  <dc:language>en-US</dc:language>
  <cp:lastModifiedBy>Альберт</cp:lastModifiedBy>
  <dcterms:modified xsi:type="dcterms:W3CDTF">2008-12-07T11:27:20Z</dcterms:modified>
  <cp:revision>3</cp:revision>
  <dc:subject/>
  <dc:title>Слайд 1</dc:title>
</cp:coreProperties>
</file>