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DFC-436F-4452-BDDE-1F067A8D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1D4-9B02-44A8-9F22-FBC6A8E5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6B2-A9B4-40F8-A3EB-0F94612F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DEC-73A9-4990-864F-8AB20157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939-37B8-435F-B974-B9D68DB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8B9-43B2-44A8-A63C-8D8CE64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AF8-FB68-4562-BC83-13B1ADA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E87-478A-499B-9AE9-264A0A9E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43E-233D-478B-A358-AAFF6141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6E5-A7FB-4D1B-9B90-98D99F8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430-BC59-4F6B-8C5D-AF21E39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C43-5962-4B07-90F7-9D1CA03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ED8-1264-41DD-B0B8-0BB0C2838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>
                <a:alpha val="0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773800" y="5375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:\Users\Admin\Desktop\р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9"/>
          <p:cNvSpPr/>
          <p:nvPr/>
        </p:nvSpPr>
        <p:spPr>
          <a:xfrm>
            <a:off x="1143000" y="1000080"/>
            <a:ext cx="67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чистоту озер и рек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твечает 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5929200" y="296712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 студенты группы П – 415 –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атор: Корнеева К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dmin\Desktop\ком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214200" y="214200"/>
            <a:ext cx="8715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ое отрицательное влияние человека на состояние рек и озер заключается в их загрязнении отходами химических производств  целлюлозно-бумажных  комбинат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0" y="1720800"/>
            <a:ext cx="914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и и озера являются источниками питьевой воды. Для контроля качества пресных вод со стороны государства разработан Водный кодекс. В законе Российской Федерации «Об охране окружающей природной среды имеется отдельная статья о защите пресных вод. Разработаны предельно допустимые концентрации и предельно допустимые нормы сбросов вредных веществ промышленных предприятий. За выполнение этих законов и за контроль по качеству сточных вод отвечает Главное управление природных ресурсов и охраны окружающей сред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Admin\Desktop\сто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14200" y="0"/>
            <a:ext cx="8715600" cy="65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м источником загрязнения рек и озер являются бытовые стоки. Большое количество недостаточно очищенных сточных вод может попадать в реки и далее в море. Для поддержания высокого качества воды в реках и  озерах и, для сохранения разнообразной флоры и фауны промышленные предприятия должны соблюдать нормы выброса загрязняющих веществ, а население — выполнять природоохранные законы и бережно относиться к тем богатствам, которыми наградила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1200" y="692280"/>
            <a:ext cx="8002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C:\Users\Admin\Desktop\озе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1"/>
          <p:cNvSpPr/>
          <p:nvPr/>
        </p:nvSpPr>
        <p:spPr>
          <a:xfrm>
            <a:off x="214200" y="642960"/>
            <a:ext cx="84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сные водоемы выполняют несколько функций. С одной стороны, реки и озера составляют важную часть круговорота воды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пещеры 04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4000320"/>
            <a:ext cx="83912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ругой стороны — это важная среда жизни на планете со своим уникальным комплексом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\Desktop\перел.jpg"/>
          <p:cNvPicPr/>
          <p:nvPr/>
        </p:nvPicPr>
        <p:blipFill>
          <a:blip r:embed="rId1"/>
          <a:srcRect l="0" t="0" r="0" b="83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85840" y="64296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упные реки и озера являются своеобразной ловушкой тепла, поскольку вода обладает высокой теплоемкостью. В холодные дни рядом с водоемами температура выше, так как вода отдает запасенное тепло, а в жаркие дни воздух над озерами и реками прохладнее вследствие того, что вода аккумулирует в себе избыток тепла. В весенний период озера и реки становятся местом отдыха перелетных водоплавающих птиц, которые мигрируют дальше на север, в тундру, к местам гнез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\Desktop\плотина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0" y="0"/>
            <a:ext cx="914400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ки и озера служат единственным доступным источником пресной воды на нашей планете. В настоящее время многие реки перегорожены плотинами гидроэлектростанций, поэтому вода в реках играет роль источника энерг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ухона 03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68360" y="500040"/>
            <a:ext cx="820728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писные берега рек и озер позволяют человеку насладиться красотой природы. Именно поэтому одно из важнейших значений наземных водоемов — источник кра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пещеры 04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имо этого реки играют роль транспортных путей, по которым перевозят различные гру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Сухона 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400" y="0"/>
            <a:ext cx="8258040" cy="74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ее по рекам осуществлялся молевой сплав древесины. При этом способе большое количество бревен во время весеннего паводка самостоятельно сплавлялось по течению. Таким образом древесина бесплатно доставлялась из районов лесозаготовки к крупным лесопильным предприятиям. При таком способе сплава деревьев природе наносился невосполнимый ущерб. Дно рек, на которых осуществлялся молевой сплав, было сильно засорено гниющими бревнами. Такие реки становились в летний период несудоходными. В результате гниения древесины в воде отмечалось пониженное содержание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795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смотря на высокую экономическую эффективность, этот способ транспортировки древесины приносил природе большой вред. Поэтому в настоящее время от него отказались. Сейчас древесину транспортируют по рекам в виде больших плотов. При этом не происходит потери бревен, а следовательно, не загрязняются реки и м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31:41Z</dcterms:created>
  <dc:creator>Большаков</dc:creator>
  <dc:description/>
  <dc:language>en-US</dc:language>
  <cp:lastModifiedBy>Admin</cp:lastModifiedBy>
  <dcterms:modified xsi:type="dcterms:W3CDTF">2021-02-14T23:19:40Z</dcterms:modified>
  <cp:revision>22</cp:revision>
  <dc:subject/>
  <dc:title>Значение и охрана пресных водоёмов</dc:title>
</cp:coreProperties>
</file>