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7AF3-9AF1-4159-9BF1-FD9A19A15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051E-79BE-4E19-AEC4-C2F054087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7119-CF87-4263-B194-44FEE9E11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2649-9204-4D1C-BAC6-116923F75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E999-F405-466C-9B54-77BE9F9BD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44D8-9477-4D25-80B5-38CEB2D89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8AB6-A570-4172-8373-2703E49EB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F287-147D-43CC-A43B-23FC4BECD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8801-C992-4EE2-86CA-712D6FE67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1D94-933F-4E21-A010-4EEF0C2D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88B7-B90B-4810-BB74-1216865E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5B1C-6875-4048-A8F2-5AB259F5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D55DF-A23D-4F35-896F-2F3871C111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>
                <a:alpha val="0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2773800" y="5375520"/>
            <a:ext cx="24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C:\Users\Admin\Desktop\р.jpg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9"/>
          <p:cNvSpPr/>
          <p:nvPr/>
        </p:nvSpPr>
        <p:spPr>
          <a:xfrm>
            <a:off x="1143000" y="1000080"/>
            <a:ext cx="678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 чистоту озер и рек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отвечает челове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10"/>
          <p:cNvSpPr/>
          <p:nvPr/>
        </p:nvSpPr>
        <p:spPr>
          <a:xfrm>
            <a:off x="5929200" y="2967120"/>
            <a:ext cx="3214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у выполнили студенты группы П – 415 – 2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атор: Корнеева К.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Users\Admin\Desktop\ком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2"/>
          <p:cNvSpPr/>
          <p:nvPr/>
        </p:nvSpPr>
        <p:spPr>
          <a:xfrm>
            <a:off x="214200" y="214200"/>
            <a:ext cx="87156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сновное отрицательное влияние человека на состояние рек и озер заключается в их загрязнении отходами химических производств  целлюлозно-бумажных  комбинатов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4"/>
          <p:cNvSpPr/>
          <p:nvPr/>
        </p:nvSpPr>
        <p:spPr>
          <a:xfrm>
            <a:off x="0" y="1720800"/>
            <a:ext cx="9144000" cy="38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ки и озера являются источниками питьевой воды. Для контроля качества пресных вод со стороны государства разработан Водный кодекс. В законе Российской Федерации «Об охране окружающей природной среды имеется отдельная статья о защите пресных вод. Разработаны предельно допустимые концентрации и предельно допустимые нормы сбросов вредных веществ промышленных предприятий. За выполнение этих законов и за контроль по качеству сточных вод отвечает Главное управление природных ресурсов и охраны окружающей среды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Users\Admin\Desktop\сток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2"/>
          <p:cNvSpPr/>
          <p:nvPr/>
        </p:nvSpPr>
        <p:spPr>
          <a:xfrm>
            <a:off x="214200" y="0"/>
            <a:ext cx="8715600" cy="65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ругим источником загрязнения рек и озер являются бытовые стоки. Большое количество недостаточно очищенных сточных вод может попадать в реки и далее в море. Для поддержания высокого качества воды в реках и  озерах и, для сохранения разнообразной флоры и фауны промышленные предприятия должны соблюдать нормы выброса загрязняющих веществ, а население — выполнять природоохранные законы и бережно относиться к тем богатствам, которыми наградила прир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141200" y="692280"/>
            <a:ext cx="800244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0" descr="C:\Users\Admin\Desktop\озеро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11"/>
          <p:cNvSpPr/>
          <p:nvPr/>
        </p:nvSpPr>
        <p:spPr>
          <a:xfrm>
            <a:off x="214200" y="642960"/>
            <a:ext cx="84297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есные водоемы выполняют несколько функций. С одной стороны, реки и озера составляют важную часть круговорота воды в приро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" descr="пещеры 045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23640" y="4000320"/>
            <a:ext cx="839124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 другой стороны — это важная среда жизни на планете со своим уникальным комплексом живых организм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Users\Admin\Desktop\перел.jpg"/>
          <p:cNvPicPr/>
          <p:nvPr/>
        </p:nvPicPr>
        <p:blipFill>
          <a:blip r:embed="rId1"/>
          <a:srcRect l="0" t="0" r="0" b="834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2"/>
          <p:cNvSpPr/>
          <p:nvPr/>
        </p:nvSpPr>
        <p:spPr>
          <a:xfrm>
            <a:off x="285840" y="642960"/>
            <a:ext cx="88581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рупные реки и озера являются своеобразной ловушкой тепла, поскольку вода обладает высокой теплоемкостью. В холодные дни рядом с водоемами температура выше, так как вода отдает запасенное тепло, а в жаркие дни воздух над озерами и реками прохладнее вследствие того, что вода аккумулирует в себе избыток тепла. В весенний период озера и реки становятся местом отдыха перелетных водоплавающих птиц, которые мигрируют дальше на север, в тундру, к местам гнезд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Admin\Desktop\плотина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2"/>
          <p:cNvSpPr/>
          <p:nvPr/>
        </p:nvSpPr>
        <p:spPr>
          <a:xfrm>
            <a:off x="0" y="0"/>
            <a:ext cx="9144000" cy="42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ки и озера служат единственным доступным источником пресной воды на нашей планете. В настоящее время многие реки перегорожены плотинами гидроэлектростанций, поэтому вода в реках играет роль источника энерги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Сухона 031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7"/>
          <p:cNvSpPr/>
          <p:nvPr/>
        </p:nvSpPr>
        <p:spPr>
          <a:xfrm>
            <a:off x="468360" y="500040"/>
            <a:ext cx="8207280" cy="38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Живописные берега рек и озер позволяют человеку насладиться красотой природы. Именно поэтому одно из важнейших значений наземных водоемов — источник крас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8" descr="пещеры 041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35164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marL="178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82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82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82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82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82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82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мимо этого реки играют роль транспортных путей, по которым перевозят различные груз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Сухона 0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28400" y="0"/>
            <a:ext cx="8258040" cy="742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нее по рекам осуществлялся молевой сплав древесины. При этом способе большое количество бревен во время весеннего паводка самостоятельно сплавлялось по течению. Таким образом древесина бесплатно доставлялась из районов лесозаготовки к крупным лесопильным предприятиям. При таком способе сплава деревьев природе наносился невосполнимый ущерб. Дно рек, на которых осуществлялся молевой сплав, было сильно засорено гниющими бревнами. Такие реки становились в летний период несудоходными. В результате гниения древесины в воде отмечалось пониженное содержание кислор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00040" y="571680"/>
            <a:ext cx="79596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смотря на высокую экономическую эффективность, этот способ транспортировки древесины приносил природе большой вред. Поэтому в настоящее время от него отказались. Сейчас древесину транспортируют по рекам в виде больших плотов. При этом не происходит потери бревен, а следовательно, не загрязняются реки и м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1T10:31:41Z</dcterms:created>
  <dc:creator>Большаков</dc:creator>
  <dc:description/>
  <dc:language>en-US</dc:language>
  <cp:lastModifiedBy>Admin</cp:lastModifiedBy>
  <dcterms:modified xsi:type="dcterms:W3CDTF">2021-02-14T23:19:40Z</dcterms:modified>
  <cp:revision>22</cp:revision>
  <dc:subject/>
  <dc:title>Значение и охрана пресных водоёмов</dc:title>
</cp:coreProperties>
</file>