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5D1-5E9D-450C-92A6-20DAEB3E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B92-928D-418A-9D44-A5E2473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63E-1032-4068-92A1-3728E022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C3D-309E-4B62-B64D-B9F16449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152-41A2-4572-AB58-B405E270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7FD6-84E6-4AB9-89B3-6425EF52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BC83-CA76-4D55-B59B-C824CBB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2145-E523-4E78-96B2-D444E7B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4D59-DD92-40F5-8938-6D72754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C8B-7C01-42E8-BFA8-07C2D346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35B-A8AB-4445-B030-79AEBDC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850-6008-401B-9221-730EC7F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563-D41A-456B-8D9F-92FF2FA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8D4-F089-4098-9C59-B118F95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AFAD-5849-4C3B-9827-314B6A4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37D-FD17-4BDC-8E3B-E984BEC1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1E0-2E16-4DEB-88CB-25AEFF90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F2E8-E98F-43B7-B563-AA7B18F6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853D-B7AD-43A7-8C7F-0FC48AE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A72F-7ABA-47AA-803E-16A5E26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A2BB-73E6-4C36-BED6-24FE9E9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F9AC-A84F-4236-ACD0-7E256B9E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813-AC9E-4524-8E5A-2C7CF1D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D887-1E7F-423B-9C24-105173E7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8E17-3542-4494-8BC4-A084F99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F74A-2DC1-4974-8D93-3EE2342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ABA6-A5CE-462D-AAEF-E8E6EEC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8441-CFF6-4829-B81B-E7B5435B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83D1-BE7D-4E8C-B516-CC591D2B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4CE7-E375-4EC4-A2CA-1F29AD17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A633-5A3F-42F3-9902-B9004441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6E26-BC2A-47BC-99B1-3C9F436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8F9D-E7C2-4D82-84D6-3022DB3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F54-3B8B-4325-8767-EFB887EB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2185-2006-4577-8B72-7F7F4AF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8EEB-CC77-44AB-988F-E2336EE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6ABD-B655-4CF8-BC7A-A8C922E9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8AF6-E3F2-4165-AE92-199F54EA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B533-B019-45A5-B2A1-EDCD92A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C459-CA57-4F47-BFD5-AD127D3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6FE2-11F6-47F9-8EB2-6EA66BF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1D0D-293A-4A50-8430-72094771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B0C4-4FEB-4EDA-B073-3D465D67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7CF-3C7A-44D9-8EC7-F83BB56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4FE-BD9B-4D77-99A4-ACF73E2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D7C-A3F0-4E78-B51B-6A24E25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2E9-D792-498D-BDC8-545DCC4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FAD-DDBD-44C5-8038-58F5ECB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3E64A-4E4B-4F3B-ABEF-A72A1DB617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6B6C6-1535-422B-8F38-11CC89A460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0E0757-E6DF-4E16-B0BC-D3906F331C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7E2B5E-5EFD-4BCC-8B48-5EAE8CF79F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1428840"/>
            <a:ext cx="74883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Лёгкое дыхание…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 чем мы дышим?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500800" y="5357880"/>
            <a:ext cx="3500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Работу выполнили студенты группы П – 415 –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Нестерова Л., Полещенко Л., Давыдов Н., Кинжишева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Куратор: Корнеева К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Admin\Desktop\лес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0" y="1859400"/>
            <a:ext cx="8929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блема вырубки лесов является одной из самых острых экологических проблем на планете. Ее влияние на экологию трудно переоценить. Не зря ведь деревья называют легкими Зем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Admin\Desktop\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428760" y="2828880"/>
            <a:ext cx="807228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и в целом составляют единую экосистему, которая влияет на жизнь различных видов флоры, фауны, на почву, атмосферу, водны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Admin\Desktop\images2.jpg"/>
          <p:cNvPicPr/>
          <p:nvPr/>
        </p:nvPicPr>
        <p:blipFill>
          <a:blip r:embed="rId1"/>
          <a:stretch/>
        </p:blipFill>
        <p:spPr>
          <a:xfrm>
            <a:off x="0" y="0"/>
            <a:ext cx="4500360" cy="3499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\Desktop\images3.jpg"/>
          <p:cNvPicPr/>
          <p:nvPr/>
        </p:nvPicPr>
        <p:blipFill>
          <a:blip r:embed="rId2"/>
          <a:stretch/>
        </p:blipFill>
        <p:spPr>
          <a:xfrm>
            <a:off x="4500720" y="0"/>
            <a:ext cx="4642920" cy="349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Admin\Desktop\5.jpg"/>
          <p:cNvPicPr/>
          <p:nvPr/>
        </p:nvPicPr>
        <p:blipFill>
          <a:blip r:embed="rId3"/>
          <a:stretch/>
        </p:blipFill>
        <p:spPr>
          <a:xfrm>
            <a:off x="4572000" y="3500280"/>
            <a:ext cx="4571640" cy="33573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357120" y="642960"/>
            <a:ext cx="85006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C:\Users\Admin\Desktop\10.jpg"/>
          <p:cNvPicPr/>
          <p:nvPr/>
        </p:nvPicPr>
        <p:blipFill>
          <a:blip r:embed="rId4"/>
          <a:stretch/>
        </p:blipFill>
        <p:spPr>
          <a:xfrm>
            <a:off x="0" y="3500280"/>
            <a:ext cx="4571640" cy="33573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7"/>
          <p:cNvSpPr/>
          <p:nvPr/>
        </p:nvSpPr>
        <p:spPr>
          <a:xfrm>
            <a:off x="571320" y="2357280"/>
            <a:ext cx="82148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ие люди даже и не догадываются, к какой катастрофе приведет вырубка лесов, если не прекратить 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Users\Admin\Desktop\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214200" y="5000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Пути решения проблемы вырубки лес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285840" y="1443960"/>
            <a:ext cx="864360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ним из путей решения проблемы вырубки лесов поможет посадка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 полностью компенсировать нанесенный урон она не сможет. Подход к этой проблеме должен быть комплек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ля этого необходимо придерживаться следующих направ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  Планировать лесопольз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Усилить охрану и контроль за использованием природных рес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Разработать систему мониторинга и учета лесного фо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  Совершенствовать лесное законодатель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Admin\Desktop\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C:\Users\Admin\Desktop\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7"/>
          <p:cNvSpPr/>
          <p:nvPr/>
        </p:nvSpPr>
        <p:spPr>
          <a:xfrm>
            <a:off x="428760" y="785880"/>
            <a:ext cx="84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5400" spc="-151" strike="noStrike">
                <a:solidFill>
                  <a:srgbClr val="ff0000"/>
                </a:solidFill>
                <a:latin typeface="Times New Roman"/>
              </a:rPr>
              <a:t>Сохраним  ЛЕС  вмест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index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571320" y="1071720"/>
            <a:ext cx="80006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600" spc="-151" strike="noStrike">
                <a:solidFill>
                  <a:srgbClr val="ff0000"/>
                </a:solidFill>
                <a:latin typeface="Times New Roman"/>
              </a:rPr>
              <a:t>Всем известно, что леса - легкие планеты. Деревья, растущие в лесах, да и любые другие зеленые растения, в процессе фотосинтеза производят кислород, необходимый для дыхания всем живущим на земле 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7640" y="571320"/>
            <a:ext cx="87847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 - очистные сооружения нашей планеты. Каждый листочек, каждая травинка улавливают из воздуха пыль и  вредные для организмов газы. Осенью листья опадают вместе со своей опасной «начинкой». Листья перегнивают, а опасные вещества – разрушаютс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0360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выделяют летучие вещества – ФИТОНЦИДЫ, которые убивают микробов. Леса это очистители воздуха от микроорганизмов, которые могут принести вре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4920" y="428760"/>
            <a:ext cx="8928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-  участники образования почвы. Именно перегной растений позволяет планете  наращивать почвенный сл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1640" y="214200"/>
            <a:ext cx="8892000" cy="55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– участвует в круговороте веществ в природе и поэтому   является регулятором климата на плане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64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– место обитания не только растений, но и животных. Именно все эти организмы в сообществе и образуют Л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5768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 также  является источником древесины для человека,  кроме того лес дает человеку много съедобных растений, грибов, яго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79722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Растения леса скрепляют своими корнями почву, защищают её от разруш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  <Words>35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35:04Z</dcterms:created>
  <dc:creator>Alex</dc:creator>
  <dc:description/>
  <dc:language>en-US</dc:language>
  <cp:lastModifiedBy>Admin</cp:lastModifiedBy>
  <dcterms:modified xsi:type="dcterms:W3CDTF">2021-02-15T21:00:07Z</dcterms:modified>
  <cp:revision>49</cp:revision>
  <dc:subject/>
  <dc:title>Лес – лёгкие планеты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