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03C6-520C-40C6-AE2F-7DCDB4E3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CABB-96A3-49C9-B574-CE4A35B2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016-BF4E-45C8-93A6-17E624A9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268-0B1A-4E9E-A0F3-759A099D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9D7F-9ED7-4053-8E36-766E777D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46C4-963F-45DA-AF8D-90F98830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4558-59C2-4019-868E-0D131FEB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2708-DA62-41DC-B83A-3B0C03B4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E9A1-DA0A-4A30-9644-833585CC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4F23-064C-45F7-9972-6FC9CF5C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4340-E733-4E34-8461-EAB3768C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150-AABF-40CC-910D-7A993403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48FE-4F45-4AB5-BA6C-7837AB10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FDF7-BBB6-42CF-9412-1DE4F684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2F66-2599-4AFB-9BF3-A5C1BDF0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890D-C9C0-4516-86D1-176174F8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97AE-8735-4731-8CB0-AF227B41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72427-B463-4503-9EF6-DAAE7A65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88FB9-C92C-4E70-BC6B-8F5C583B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F0864-568C-4C1B-9062-DADA90D2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C2A6A-603D-46B2-AA83-0118F21B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FCB04-9CF9-40F3-977A-7A7E41DC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A68-A155-4AA1-A6E2-77E90A97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0553F-8671-4E76-ABD2-70E36185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1F832-6FD5-4B3D-BDB0-5042ABA2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17EC3-43E0-419E-83C2-F3D0F168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7CCA4-09DE-4A85-A603-AB2C61B7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24BD3-7F7C-423F-8EDA-D9FF991E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94C06-15C8-4195-98A8-8573B11A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81AD2-C611-4D11-8BF8-7B568651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F006D-2A36-4AD6-90C9-314EE843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4B683-8D3A-4C88-86D6-3F971E56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10C24-8BF7-4A43-9EA0-ABFB6151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506-1A91-4FBE-B738-A47FDB0B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7D227-7761-4375-B3E4-9DB14937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4CE40-2C65-48F3-8EE2-079C49C6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2916C-F856-43FE-AD46-CBA52085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A8708-3358-4022-93AB-A1E2F479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916D4-3086-43E3-A1B9-763064B3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BE366-0123-4476-9BF4-C61B70D6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7036A-41EF-4CB6-91DA-5C8F5223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6A766-FCB5-488B-934B-818766D5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9F368-B3FD-4B8A-955C-21DA6B76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521A-4899-4ED8-A58B-8EC6B685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347-499A-467E-B01E-920BB5C6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BAD-073D-4E5F-BB76-DDC2F427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83D-7858-425D-A101-176F3477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9BB0-C7BA-49E6-A283-C919FD07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D0F7FA-8BB8-414F-938E-D85DF018442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47A70D-5CDF-4A1E-B6C5-6F01996C27C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8D81F3-1977-44CD-92AE-C42F5B79799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8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D929CC-3A89-4C04-ABB1-DEFC2AC4157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1428840"/>
            <a:ext cx="748836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Лёгкое дыхание…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А чем мы дышим?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5500800" y="5357880"/>
            <a:ext cx="35002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4bd97"/>
                </a:solidFill>
                <a:latin typeface="Times New Roman"/>
              </a:rPr>
              <a:t>Работу выполнили студенты группы П – 415 – 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4bd97"/>
                </a:solidFill>
                <a:latin typeface="Times New Roman"/>
              </a:rPr>
              <a:t>Нестерова Л., Полещенко Л., Давыдов Н., Кинжишева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4bd97"/>
                </a:solidFill>
                <a:latin typeface="Times New Roman"/>
              </a:rPr>
              <a:t>Куратор: Корнеева К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4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Users\Admin\Desktop\лес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2"/>
          <p:cNvSpPr/>
          <p:nvPr/>
        </p:nvSpPr>
        <p:spPr>
          <a:xfrm>
            <a:off x="0" y="1859400"/>
            <a:ext cx="89294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блема вырубки лесов является одной из самых острых экологических проблем на планете. Ее влияние на экологию трудно переоценить. Не зря ведь деревья называют легкими Зем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Users\Admin\Desktop\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2"/>
          <p:cNvSpPr/>
          <p:nvPr/>
        </p:nvSpPr>
        <p:spPr>
          <a:xfrm>
            <a:off x="428760" y="2828880"/>
            <a:ext cx="8072280" cy="36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ни в целом составляют единую экосистему, которая влияет на жизнь различных видов флоры, фауны, на почву, атмосферу, водный реж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Users\Admin\Desktop\images2.jpg"/>
          <p:cNvPicPr/>
          <p:nvPr/>
        </p:nvPicPr>
        <p:blipFill>
          <a:blip r:embed="rId1"/>
          <a:stretch/>
        </p:blipFill>
        <p:spPr>
          <a:xfrm>
            <a:off x="0" y="0"/>
            <a:ext cx="4500360" cy="3499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Users\Admin\Desktop\images3.jpg"/>
          <p:cNvPicPr/>
          <p:nvPr/>
        </p:nvPicPr>
        <p:blipFill>
          <a:blip r:embed="rId2"/>
          <a:stretch/>
        </p:blipFill>
        <p:spPr>
          <a:xfrm>
            <a:off x="4500720" y="0"/>
            <a:ext cx="4642920" cy="3499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Users\Admin\Desktop\5.jpg"/>
          <p:cNvPicPr/>
          <p:nvPr/>
        </p:nvPicPr>
        <p:blipFill>
          <a:blip r:embed="rId3"/>
          <a:stretch/>
        </p:blipFill>
        <p:spPr>
          <a:xfrm>
            <a:off x="4572000" y="3500280"/>
            <a:ext cx="4571640" cy="33573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5"/>
          <p:cNvSpPr/>
          <p:nvPr/>
        </p:nvSpPr>
        <p:spPr>
          <a:xfrm>
            <a:off x="357120" y="642960"/>
            <a:ext cx="85006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C:\Users\Admin\Desktop\10.jpg"/>
          <p:cNvPicPr/>
          <p:nvPr/>
        </p:nvPicPr>
        <p:blipFill>
          <a:blip r:embed="rId4"/>
          <a:stretch/>
        </p:blipFill>
        <p:spPr>
          <a:xfrm>
            <a:off x="0" y="3500280"/>
            <a:ext cx="4571640" cy="335736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7"/>
          <p:cNvSpPr/>
          <p:nvPr/>
        </p:nvSpPr>
        <p:spPr>
          <a:xfrm>
            <a:off x="571320" y="2357280"/>
            <a:ext cx="82148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ногие люди даже и не догадываются, к какой катастрофе приведет вырубка лесов, если не прекратить 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C:\Users\Admin\Desktop\1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3"/>
          <p:cNvSpPr/>
          <p:nvPr/>
        </p:nvSpPr>
        <p:spPr>
          <a:xfrm>
            <a:off x="214200" y="50004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Пути решения проблемы вырубки лес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285840" y="1443960"/>
            <a:ext cx="8643600" cy="53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дним из путей решения проблемы вырубки лесов поможет посадка дерев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о полностью компенсировать нанесенный урон она не сможет. Подход к этой проблеме должен быть комплекс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ля этого необходимо придерживаться следующих направ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-    Планировать лесопользов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- Усилить охрану и контроль за использованием природных ресур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-  Разработать систему мониторинга и учета лесного фон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-    Совершенствовать лесное законодательств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:\Users\Admin\Desktop\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C:\Users\Admin\Desktop\16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7"/>
          <p:cNvSpPr/>
          <p:nvPr/>
        </p:nvSpPr>
        <p:spPr>
          <a:xfrm>
            <a:off x="428760" y="785880"/>
            <a:ext cx="8429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5400" spc="-151" strike="noStrike">
                <a:solidFill>
                  <a:srgbClr val="ff0000"/>
                </a:solidFill>
                <a:latin typeface="Times New Roman"/>
              </a:rPr>
              <a:t>Сохраним  ЛЕС  вместе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2" descr="index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3"/>
          <p:cNvSpPr/>
          <p:nvPr/>
        </p:nvSpPr>
        <p:spPr>
          <a:xfrm>
            <a:off x="571320" y="1071720"/>
            <a:ext cx="800064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600" spc="-151" strike="noStrike">
                <a:solidFill>
                  <a:srgbClr val="ff0000"/>
                </a:solidFill>
                <a:latin typeface="Times New Roman"/>
              </a:rPr>
              <a:t>Всем известно, что леса - легкие планеты. Деревья, растущие в лесах, да и любые другие зеленые растения, в процессе фотосинтеза производят кислород, необходимый для дыхания всем живущим на земле организм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7640" y="571320"/>
            <a:ext cx="878472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стения  - очистные сооружения нашей планеты. Каждый листочек, каждая травинка улавливают из воздуха пыль и  вредные для организмов газы. Осенью листья опадают вместе со своей опасной «начинкой». Листья перегнивают, а опасные вещества – разрушаютс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285840"/>
            <a:ext cx="90360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стения выделяют летучие вещества – ФИТОНЦИДЫ, которые убивают микробов. Леса это очистители воздуха от микроорганизмов, которые могут принести вред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14920" y="428760"/>
            <a:ext cx="8928720" cy="612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стения -  участники образования почвы. Именно перегной растений позволяет планете  наращивать почвенный сло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1640" y="214200"/>
            <a:ext cx="8892000" cy="55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51" strike="noStrike">
                <a:solidFill>
                  <a:srgbClr val="ff0000"/>
                </a:solidFill>
                <a:latin typeface="Times New Roman"/>
              </a:rPr>
              <a:t>Лес – участвует в круговороте веществ в природе и поэтому   является регулятором климата на планет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8229240" cy="64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51" strike="noStrike">
                <a:solidFill>
                  <a:srgbClr val="ff0000"/>
                </a:solidFill>
                <a:latin typeface="Times New Roman"/>
              </a:rPr>
              <a:t>Лес – место обитания не только растений, но и животных. Именно все эти организмы в сообществе и образуют ЛЕС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332640"/>
            <a:ext cx="825768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51" strike="noStrike">
                <a:solidFill>
                  <a:srgbClr val="ff0000"/>
                </a:solidFill>
                <a:latin typeface="Times New Roman"/>
              </a:rPr>
              <a:t>Лес  также  является источником древесины для человека,  кроме того лес дает человеку много съедобных растений, грибов, ягод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332640"/>
            <a:ext cx="797220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51" strike="noStrike">
                <a:solidFill>
                  <a:srgbClr val="ff0000"/>
                </a:solidFill>
                <a:latin typeface="Times New Roman"/>
              </a:rPr>
              <a:t>Растения леса скрепляют своими корнями почву, защищают её от разруш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  <Words>350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9:35:04Z</dcterms:created>
  <dc:creator>Alex</dc:creator>
  <dc:description/>
  <dc:language>en-US</dc:language>
  <cp:lastModifiedBy>Admin</cp:lastModifiedBy>
  <dcterms:modified xsi:type="dcterms:W3CDTF">2021-02-15T21:00:07Z</dcterms:modified>
  <cp:revision>49</cp:revision>
  <dc:subject/>
  <dc:title>Лес – лёгкие планеты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