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8F3-4C25-4BA0-9FEA-A1ABA2F9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365-EB89-4DE6-93FA-4448CCC0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4BF7-64AE-4BC5-A298-883F0901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CFFC-8815-4448-BDE1-083A561A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F56-D190-404E-9BA8-3C52BB1D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7648-912D-4ACD-8F7C-A954E098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F4F-EBCD-4ABB-AE91-9D8B0090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F5D-5F10-4330-B782-7D62F6C6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860A-D8C3-4C1D-B3FC-D781FABD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2F3-A62E-42A9-87CC-C89DD469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FF3-3608-44D7-876F-61944B72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C34-C1B2-4EB8-9EE2-DBA2F19A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B4A9-455D-4C72-9550-973F8D263A4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festival.1september.ru/articles/534468/2.JPG"/>
          <p:cNvPicPr/>
          <p:nvPr/>
        </p:nvPicPr>
        <p:blipFill>
          <a:blip r:embed="rId1"/>
          <a:stretch/>
        </p:blipFill>
        <p:spPr>
          <a:xfrm>
            <a:off x="684360" y="1125360"/>
            <a:ext cx="4762440" cy="33148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4140360" y="189000"/>
            <a:ext cx="4572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этой буквой на носу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ин прячется в ле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900000" y="5013360"/>
            <a:ext cx="457200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- футбольный судь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ый день с мальчишкам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а футбольных мяч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меня под мыш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4D51586.wav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Helen\Desktop\схемы\буквы\0_4af5f_2aa3e423_L.png"/>
          <p:cNvPicPr/>
          <p:nvPr/>
        </p:nvPicPr>
        <p:blipFill>
          <a:blip r:embed="rId3"/>
          <a:stretch/>
        </p:blipFill>
        <p:spPr>
          <a:xfrm>
            <a:off x="4897440" y="3429000"/>
            <a:ext cx="4246560" cy="4246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2556000" y="404640"/>
            <a:ext cx="410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что похожа буква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1" descr="1613766817_46-p-fon-zolotoi-klyuchik-60.jpg"/>
          <p:cNvPicPr/>
          <p:nvPr/>
        </p:nvPicPr>
        <p:blipFill>
          <a:blip r:embed="rId1"/>
          <a:stretch/>
        </p:blipFill>
        <p:spPr>
          <a:xfrm rot="4903800">
            <a:off x="694800" y="2517840"/>
            <a:ext cx="2479680" cy="15872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2" descr="IMG-20201208-WA0011.jpg"/>
          <p:cNvPicPr/>
          <p:nvPr/>
        </p:nvPicPr>
        <p:blipFill>
          <a:blip r:embed="rId2"/>
          <a:srcRect l="0" t="9181" r="0" b="0"/>
          <a:stretch/>
        </p:blipFill>
        <p:spPr>
          <a:xfrm rot="20998800">
            <a:off x="928440" y="1362240"/>
            <a:ext cx="1765080" cy="2139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4" descr="tijeras-2-colegio-pintado-por-anmo10-9736165.jpg"/>
          <p:cNvPicPr/>
          <p:nvPr/>
        </p:nvPicPr>
        <p:blipFill>
          <a:blip r:embed="rId3"/>
          <a:srcRect l="15981" t="6570" r="13461" b="6570"/>
          <a:stretch/>
        </p:blipFill>
        <p:spPr>
          <a:xfrm rot="19011000">
            <a:off x="6230880" y="1604520"/>
            <a:ext cx="2608200" cy="25131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6" descr="1610108981_90434.jpg"/>
          <p:cNvPicPr/>
          <p:nvPr/>
        </p:nvPicPr>
        <p:blipFill>
          <a:blip r:embed="rId4"/>
          <a:stretch/>
        </p:blipFill>
        <p:spPr>
          <a:xfrm>
            <a:off x="3492360" y="3357720"/>
            <a:ext cx="2880000" cy="2879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7" descr="IMG-20201208-WA0011.jpg"/>
          <p:cNvPicPr/>
          <p:nvPr/>
        </p:nvPicPr>
        <p:blipFill>
          <a:blip r:embed="rId5"/>
          <a:srcRect l="0" t="9181" r="0" b="0"/>
          <a:stretch/>
        </p:blipFill>
        <p:spPr>
          <a:xfrm>
            <a:off x="3924360" y="2997360"/>
            <a:ext cx="1765080" cy="21380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8" descr="IMG-20201208-WA0011.jpg"/>
          <p:cNvPicPr/>
          <p:nvPr/>
        </p:nvPicPr>
        <p:blipFill>
          <a:blip r:embed="rId6"/>
          <a:srcRect l="0" t="9181" r="0" b="0"/>
          <a:stretch/>
        </p:blipFill>
        <p:spPr>
          <a:xfrm>
            <a:off x="6732720" y="1197000"/>
            <a:ext cx="1765080" cy="2138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rcRect l="19150" t="8420" r="18252" b="5984"/>
          <a:stretch/>
        </p:blipFill>
        <p:spPr>
          <a:xfrm>
            <a:off x="971640" y="428760"/>
            <a:ext cx="7483320" cy="5759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20061" t="7556" r="20854" b="6513"/>
          <a:stretch/>
        </p:blipFill>
        <p:spPr>
          <a:xfrm>
            <a:off x="826920" y="260280"/>
            <a:ext cx="7705800" cy="6388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2124000" y="40464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ют волны, ветер свищет.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Скругленный прямоугольник 10"/>
          <p:cNvGrpSpPr/>
          <p:nvPr/>
        </p:nvGrpSpPr>
        <p:grpSpPr>
          <a:xfrm>
            <a:off x="5237280" y="1809720"/>
            <a:ext cx="2700360" cy="1189080"/>
            <a:chOff x="5237280" y="1809720"/>
            <a:chExt cx="2700360" cy="1189080"/>
          </a:xfrm>
        </p:grpSpPr>
        <p:pic>
          <p:nvPicPr>
            <p:cNvPr id="57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5237280" y="1809720"/>
              <a:ext cx="27003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345280" y="1897200"/>
              <a:ext cx="248580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Рисунок 14" descr="70-1-1.png"/>
          <p:cNvPicPr/>
          <p:nvPr/>
        </p:nvPicPr>
        <p:blipFill>
          <a:blip r:embed="rId2"/>
          <a:stretch/>
        </p:blipFill>
        <p:spPr>
          <a:xfrm>
            <a:off x="1403280" y="1327320"/>
            <a:ext cx="6264360" cy="5054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539640" y="260280"/>
            <a:ext cx="842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йский флот пошёл от царя Петра Первого. Пётр Первый — первый русский флотоводец. Он хотел, чтобы Россия была великой морской державой, и поэтому построил город на Неве, назвал его Санкт- Петербургом. В городе были построены здания на европейский ман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ttp://gztzara.by/isimages/001339_425128.jpg"/>
          <p:cNvPicPr/>
          <p:nvPr/>
        </p:nvPicPr>
        <p:blipFill>
          <a:blip r:embed="rId1"/>
          <a:stretch/>
        </p:blipFill>
        <p:spPr>
          <a:xfrm>
            <a:off x="5508720" y="2205000"/>
            <a:ext cx="3252600" cy="425772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2" name="Picture 6" descr="http://charts.finam.ru/distedu/00000042.jpg"/>
          <p:cNvPicPr/>
          <p:nvPr/>
        </p:nvPicPr>
        <p:blipFill>
          <a:blip r:embed="rId2"/>
          <a:stretch/>
        </p:blipFill>
        <p:spPr>
          <a:xfrm>
            <a:off x="611280" y="3068640"/>
            <a:ext cx="4465440" cy="317988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3" name="Запи602.WAV" descr=""/>
          <p:cNvPicPr/>
          <p:nvPr/>
        </p:nvPicPr>
        <p:blipFill>
          <a:blip r:embed="rId3"/>
          <a:stretch/>
        </p:blipFill>
        <p:spPr>
          <a:xfrm>
            <a:off x="8459640" y="1052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1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748400" cy="635328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05:49:42Z</dcterms:created>
  <dc:creator>Helen</dc:creator>
  <dc:description/>
  <dc:language>en-US</dc:language>
  <cp:lastModifiedBy>user</cp:lastModifiedBy>
  <cp:lastPrinted>2024-01-31T18:22:02Z</cp:lastPrinted>
  <dcterms:modified xsi:type="dcterms:W3CDTF">2024-02-01T14:55:56Z</dcterms:modified>
  <cp:revision>38</cp:revision>
  <dc:subject/>
  <dc:title>Слайд 1</dc:title>
</cp:coreProperties>
</file>