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5DB-B135-41DB-944D-93E577E5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A49-F739-4C6D-B98E-3BC98CD7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990-D513-4215-BF97-709260FC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427-8CAE-4750-A3AA-31DAFE41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B7DE-6C75-4D93-9A2E-1560A7B4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3213-DF5A-44B7-8755-165C076B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9108-4750-4FEA-BD1B-30334063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9D72-4DC4-4616-8621-64144527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AA9A-5996-4B7E-8E09-68FF058F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C544-CFDF-4720-8DE7-2B7CEAC5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56D5-4610-4E2B-BF64-5F95596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630-FC47-439D-94F8-D68ACEC8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E465-99AA-4084-A137-1EE92E9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3E07-CD3E-45D0-9B4E-15C45D5E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45DE-F93E-4153-9103-2FC3E0E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1EE9-29CB-498C-9059-646F009E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0FF1-426A-4284-A858-E3D1899E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0E8F-6D5C-43B5-9872-6B3A93C9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D3D9-7294-4DE0-92AD-8A795BDE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4A9A-C07C-4C4B-BA20-A5133B8B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131F-C52A-4250-8C3E-B3026812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42FF-50FC-4646-AF16-F5B05F1E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F58-2B63-402F-B990-FF4E0244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EFA0-5E89-45D9-B74C-156485BD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9338-BF84-47B5-8F09-20D5AEE9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CE2F-AE59-4CE4-B5DF-02A1B24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DFF9-D016-467A-AD9B-0C81AA31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97B0-2B20-4743-B807-2893107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8202-E352-4A09-B097-DCCA357C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729F-F9CA-465E-9191-448D0F4B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E331-487B-422A-B85F-75D616B4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840A-E6F0-4FA4-9247-05C2585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1EFB1-7070-4988-88D7-36F69E0E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2F1-F950-4A51-B36B-A24C7FF8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C06F-3950-4107-B881-2F228191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8B52-3B18-4D63-8F62-85150DAC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81A1-B85D-4C80-9D1D-82384B19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EE65C-0EF7-4273-B1DA-2A02FBA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491D0-1281-473C-9B5A-FADAF4A2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B3BE-F943-4094-9CE0-B0671E6F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81FF-2388-4954-AEBA-E8D2E4CD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91D78-6DA0-4E40-8186-52B6F91B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F05F-A69F-4699-935A-6AE0233C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73D-A753-445E-9416-2DBCA47C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6FF-7558-4DDA-9875-6E92D24B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0AE-0C40-49B5-AA5A-85CBF77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971-31B7-44E6-9016-C1CE428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DF6-D16D-415F-9BF5-13BB6913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4A7E-CA44-4B8E-A371-4D64641BE6F4}" type="slidenum">
              <a:rPr b="0" lang="ru-RU" sz="11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B7C3-36EF-4488-8032-681528B44A02}" type="slidenum">
              <a:rPr b="0" lang="ru-RU" sz="11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B269-6887-48C8-A30D-1E89886500B6}" type="slidenum">
              <a:rPr b="0" lang="ru-RU" sz="11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3F21-8BEF-49DB-AB73-3FEC0A93DEAB}" type="slidenum">
              <a:rPr b="0" lang="ru-RU" sz="11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ИОЛОГИЧЕСКОЕ ОРУЖИЕ И ЕГО ВОЗДЕЙСТВИЕ НА ЧЕЛОВЕКА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" name="Picture 5" descr="http://obg33.narod.ru/bakor.jpg"/>
          <p:cNvPicPr/>
          <p:nvPr/>
        </p:nvPicPr>
        <p:blipFill>
          <a:blip r:embed="rId1"/>
          <a:stretch/>
        </p:blipFill>
        <p:spPr>
          <a:xfrm>
            <a:off x="2556000" y="2276640"/>
            <a:ext cx="396072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18440" cy="1036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НАЯ ЭФФЕКТИВНОСТЬ БАКТЕРИОЛОГИЧЕСКОГО ОРУЖИЯ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1628280"/>
            <a:ext cx="8991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килограмм спор, распыленных с самолета,  покрывают территорию в 20 квадратных километров. При этом будут поражены все жители, находящиеся в помещениях и на улице. При этом (по расчетам ВОЗ), на каждые 5 млн. жителей будет 250 тыс. заболевших и до 100 тыс. жерт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ценкам американских военных достаточно 100 кг спор для уничтожения до 3 млн. человек в г. Вашингтоне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 ОБНАРУЖЕНИИ ПРИЗНАКОВ ПРИМЕНЕНИЯ ДАННОГО ОРУЖИЯ НЕМЕДЛЕННО НАДЕВАЮТ ПРОТИВОГАЗЫ (РЕСПИРАТОРЫ, МАСКИ, А ТАКЖЕ СРЕДСТВА ДЛЯ ЗАЩИТЫ КОЖИ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987640" y="2090880"/>
            <a:ext cx="3024360" cy="2288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108000" y="443700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3"/>
          <a:stretch/>
        </p:blipFill>
        <p:spPr>
          <a:xfrm>
            <a:off x="6012000" y="4400640"/>
            <a:ext cx="297792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ОЛЕВАНИЕ ЛЮДЕЙ ПРОИСХОДИТ В РЕЗУЛЬТАТЕ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773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дыхания ими заражённого воздуха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адания микробов или токсинов на слизистую оболочку и повреждённую кожу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ления в пищу заражённых продуктов питания и воды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усов заражённых насекомых и клещей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прикосновения с заражёнными предметами или непосредственного общения с больными людьми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ения осколками боеприпасов, снаряжённых бактериальными средствами;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ряд заболеваний быстро передаётся от больных людей к здоровым и вызывает эпидемии(чумы, холеры, тифа, гриппа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 МЕДИЦИНСКИМ СРЕДСТВАМ ЗАЩИТЫ НАСЕЛЕНИЯ ОТ БАКТЕРИОЛОГИЧЕСКОГО ОРУЖИЯ ОТНОСЯТСЯ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4920" y="2565000"/>
            <a:ext cx="8450280" cy="31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акцина-сывороточные препараты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нтибиотики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екарственные вещества, используемые для специальной и экстренной профилактики инфекционных болезней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ециальные химические веществ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&amp;Zcy;&amp;ncy;&amp;acy;&amp;kcy; &amp;bcy;&amp;icy;&amp;ocy;&amp;lcy;&amp;ocy;&amp;gcy;&amp;icy;&amp;chcy;&amp;iecy;&amp;scy;&amp;kcy;&amp;ocy;&amp;gcy;&amp;ocy; &amp;ocy;&amp;rcy;&amp;ucy;&amp;zhcy;&amp;icy;&amp;yacy;"/>
          <p:cNvPicPr/>
          <p:nvPr/>
        </p:nvPicPr>
        <p:blipFill>
          <a:blip r:embed="rId1"/>
          <a:stretch/>
        </p:blipFill>
        <p:spPr>
          <a:xfrm>
            <a:off x="1547640" y="765000"/>
            <a:ext cx="64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914400"/>
            <a:ext cx="8915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у поражающего действия бактериологического оружия составляют болезнетворные микроорганизмы-бактерии, вирусы, риккетсии, грибки и бактериальные яды (токсины), вырабатываемые ими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39280" y="256536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Разновидности биологического оружия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ИОЛОГИЧЕСКОЕ ОРУЖИЕ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СПЕЦИАЛЬНЫЕ БОЕПРИПАСЫ И БОЕВЫЕ ПРИБОРЫ, СНАРЯЖЁННЫЕ БИОЛОГИЧЕСКИМИ СРЕДСТВАМИ. </a:t>
            </a: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125892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464328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788508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132000" y="36450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72360" y="371628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18320" y="429264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Бактер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511360" y="49417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Вирус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731760" y="42926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Риккетс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719680" y="47973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Гриб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560" y="43657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Токсин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0948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иды во внешней среде образуют защитные оболочки, повышающие их устойчивость к дезинфицирующими средства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Пример заболеваний: чума, холера, бруцеллез, сибирская язва, столбняк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0060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АКТЕРИ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ОДНОКЛЕТОЧНЫЕ МИКРООРГАНИЗМЫ РАСТИТЕЛЬНОГО ПРОИСХОЖДЕНИЯ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Ecoli.jpg"/>
          <p:cNvPicPr/>
          <p:nvPr/>
        </p:nvPicPr>
        <p:blipFill>
          <a:blip r:embed="rId1"/>
          <a:stretch/>
        </p:blipFill>
        <p:spPr>
          <a:xfrm>
            <a:off x="4716360" y="1628640"/>
            <a:ext cx="42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68000" y="134136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отличие от бактерий могут расти и размножаться только в живых тканях. Хорошо переносят высушивани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Вызывают у человека натуральную оспу, жёлтую лихорадку</a:t>
            </a:r>
            <a:r>
              <a:rPr b="1" lang="ru-RU" sz="20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ИРУС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ЛЬЧАЙШИЕ МИКРООРГАНИЗМ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124000" y="3429000"/>
            <a:ext cx="482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73960" cy="41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ИККЕТС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НИМАЮТ ПРОМЕЖУТОЧНОЕ ПОЛОЖЕНИЕ МЕЖДУ БАКТЕРИЯМИ И ВИРУСАМИ. ПО РАЗМЕРАМ И ФОРМЕ БЛИЗКИ К БАКТЕРИЯМ, РАЗМНОЖАЮТСЯ ПРОСТЫМ ДЕЛЕНИЕМ, НО ЖИВУТ ТОЛЬКО В ТКАНЯХ ПОРАЖАЕМОГО ИМИ ОРГАНА.</a:t>
            </a:r>
            <a:br>
              <a:rPr sz="2400"/>
            </a:br>
            <a:br>
              <a:rPr sz="2400"/>
            </a:br>
            <a:r>
              <a:rPr b="0" lang="ru-RU" sz="28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ОПАДАЯ В ОРГАНИЗМ ЧЕЛОВЕКА, ВЫЗЫВАЮТ У НЕГО СЫПНОЙ ТИФ, ЛИХОРАДКУ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8" descr="http://www.mikrobchik.ru/img/rikketsii_clip_image001_0000.jpg"/>
          <p:cNvPicPr/>
          <p:nvPr/>
        </p:nvPicPr>
        <p:blipFill>
          <a:blip r:embed="rId1"/>
          <a:stretch/>
        </p:blipFill>
        <p:spPr>
          <a:xfrm>
            <a:off x="2556000" y="3860640"/>
            <a:ext cx="2952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842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Могут образовывать споры. Хорошо переносят высушивание, воздействие солнечного света и дезинфицирующих средств.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Вызываемые ими заболевания у человека и животных называются </a:t>
            </a:r>
            <a:r>
              <a:rPr b="1" lang="ru-RU" sz="25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кандидозами.</a:t>
            </a:r>
            <a:r>
              <a:rPr b="1" lang="ru-RU" sz="25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  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ИБ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ОДНОКЛЕТОЧНЫЕ И МНОГОКЛЕТОЧНЫЕ ОРГАНИЗМ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843280" y="1413000"/>
            <a:ext cx="316872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620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ОКСИНЫ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ПРОДУКТЫ ЖИЗНЕДЕЯТЕЛЬНОСТИ НЕКОТОРЫХ БАКТЕРИЙ.</a:t>
            </a:r>
            <a:br>
              <a:rPr sz="3400"/>
            </a:b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ЫСУШЕННОМ СОСТОЯНИИ СОХРАНЯЮТ ТОКСИЧНОСТЬ ДО НЕСКОЛЬКИХ МЕСЯЦЕВ. ЧРЕЗВЫЧАЙНО ЯДОВИТЫМ ЯВЛЯЕТСЯ ТОКСИН БОТУЛИЗМА, ОН ВЫЗЫВАЕТ У ЧЕЛОВЕКА ТЯЖЁЛЫЕ ОТРАВЛЕНИЯ.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ЗНАКИ ПРИМЕНЯЕМОГО БАКТЕРИОЛОГИЧЕСКОГО ОРУЖИЯ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1413000"/>
            <a:ext cx="83772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хой, в отличие от обычных боеприпасов, звук разрыва снарядов и бомб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ичие в местах разрывов крупных осколков и отдельных частей боеприпасов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ение капель жидкости или порошкообразных веществ на местности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ычное скопление насекомых и клещей в местах разрыва боеприпасов и падения контейнеров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овые заболевание людей и животных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908000" y="4579920"/>
            <a:ext cx="5400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 Е.В. Подшибякин</cp:lastModifiedBy>
  <dcterms:modified xsi:type="dcterms:W3CDTF">2024-01-24T07:03:52Z</dcterms:modified>
  <cp:revision>25</cp:revision>
  <dc:subject/>
  <dc:title>PowerPoint Presentation</dc:title>
</cp:coreProperties>
</file>