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8B5-3AFB-4F7B-9032-B5497D51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6BF-0421-451B-954A-BE1FD1B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41C-8248-40D8-BA81-2103E872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344-5501-4D0A-995C-80E373D6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62F-2CD4-4A6F-91F7-819B2D7A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999-264B-49EC-9E5D-61EA720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753-295D-429E-9C27-4AF527D3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A5D-C921-40D4-963A-AA39828B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3C35-9B0D-4CEC-A456-EB7A813F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F770-D6BC-453C-9FBC-6E2A3C1A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3528-48A6-4886-9682-C4E26DC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97B-A802-4AC4-A96E-4A1ACA1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6F68-4AA2-45E3-82B0-E6E333B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D739-523E-49A9-9E63-023CA9E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5148-A226-4608-A403-A7C623FC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B082-C655-4819-908F-B1678AAE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7F4-2C08-472D-A09D-0161D219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24DC-9154-4AC6-9D7D-8BC37120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9D772-3F64-4D49-9545-BDB38BE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630D-0284-4D42-9140-92965F6A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F3BC-5135-4E72-9EC5-7E3B744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637D-4359-4FF2-849A-C60769F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7C1-583C-4A89-9E99-D0FDAE06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2383-8CE3-4927-9E18-DF19C3C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3E90-A1F9-4334-9D52-4676D96B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D7E5-8B1C-4967-BBB0-3E38FE01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BA17-1814-40C9-A166-212FC20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943A-1817-477B-B4D0-501F9E1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DBC5-28A8-44DB-8AB4-747234FE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865E-A21E-4FF8-BD9F-C9F5B5C2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4075-801C-40F1-A7F0-0A947BD2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D149-3CE5-42B8-8834-5DE25699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87B9-5021-409D-8AD0-67BD909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39F-E315-47BE-AEE8-F6BB142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A91E-1A09-4A64-9E92-5159F7EE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5F83-AF5D-4160-8DDE-519BF533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11CA-3C86-4DE4-A762-9D48EBF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EDE2A-C1B3-4E46-90F8-32CF714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C360-08B8-4DFE-B834-0174D1E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2618-0CAB-4EBA-B7A3-845BB3A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E297-29A7-439D-B743-0FEEEE6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5EAD-D434-495C-B1A6-1145BBC9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4136-8C2C-44A8-960D-4D5340D1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A64-9156-40A4-A0D9-7AB29D7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763-3AE4-4B88-BA8C-2C88A996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980-5A14-45B7-8F9B-4B191ED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134-EF11-4C01-8F6D-87F666B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20C-2081-450F-A290-4EF0E93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D367-AF93-44AF-AE7E-545A7E14AB4C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E0A2-12E4-49F8-9B82-713DE0FDC9F7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C33F-CD0D-44BE-80F5-6B58C1D39671}" type="slidenum">
              <a:rPr b="0" lang="ru-RU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30D-2905-42ED-A1C4-6B2673DF6B22}" type="slidenum">
              <a:rPr b="0" lang="ru-RU" sz="11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ИОЛОГИЧЕСКОЕ ОРУЖИЕ И ЕГО ВОЗДЕЙСТВИЕ НА ЧЕЛОВЕКА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Picture 5" descr="http://obg33.narod.ru/bakor.jpg"/>
          <p:cNvPicPr/>
          <p:nvPr/>
        </p:nvPicPr>
        <p:blipFill>
          <a:blip r:embed="rId1"/>
          <a:stretch/>
        </p:blipFill>
        <p:spPr>
          <a:xfrm>
            <a:off x="2556000" y="2276640"/>
            <a:ext cx="396072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18440" cy="1036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НАЯ ЭФФЕКТИВНОСТЬ БАКТЕРИОЛОГИЧЕСКОГО ОРУЖИЯ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628280"/>
            <a:ext cx="8991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килограмм спор, распыленных с самолета,  покрывают территорию в 20 квадратных километров. При этом будут поражены все жители, находящиеся в помещениях и на улице. При этом (по расчетам ВОЗ), на каждые 5 млн. жителей будет 250 тыс. заболевших и до 100 тыс. жерт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ценкам американских военных достаточно 100 кг спор для уничтожения до 3 млн. человек в г. Вашингтоне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 ОБНАРУЖЕНИИ ПРИЗНАКОВ ПРИМЕНЕНИЯ ДАННОГО ОРУЖИЯ НЕМЕДЛЕННО НАДЕВАЮТ ПРОТИВОГАЗЫ (РЕСПИРАТОРЫ, МАСКИ, А ТАКЖЕ СРЕДСТВА ДЛЯ ЗАЩИТЫ КОЖИ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987640" y="2090880"/>
            <a:ext cx="3024360" cy="2288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108000" y="443700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3"/>
          <a:stretch/>
        </p:blipFill>
        <p:spPr>
          <a:xfrm>
            <a:off x="6012000" y="4400640"/>
            <a:ext cx="29779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ОЛЕВАНИЕ ЛЮДЕЙ ПРОИСХОДИТ В РЕЗУЛЬТАТЕ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773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дыхания ими заражённого воздух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адания микробов или токсинов на слизистую оболочку и повреждённую кожу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я в пищу заражённых продуктов питания и воды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усов заражённых насекомых и клещей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рикосновения с заражёнными предметами или непосредственного общения с больными людьм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ния осколками боеприпасов, снаряжённых бактериальными средствами;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ряд заболеваний быстро передаётся от больных людей к здоровым и вызывает эпидемии(чумы, холеры, тифа, гриппа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 МЕДИЦИНСКИМ СРЕДСТВАМ ЗАЩИТЫ НАСЕЛЕНИЯ ОТ БАКТЕРИОЛОГИЧЕСКОГО ОРУЖИЯ ОТНОСЯТСЯ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4920" y="2565000"/>
            <a:ext cx="845028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кцина-сывороточные препараты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тибиотик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екарственные вещества, используемые для специальной и экстренной профилактики инфекционных болезней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ециальные химические веществ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&amp;Zcy;&amp;ncy;&amp;acy;&amp;kcy; &amp;bcy;&amp;icy;&amp;ocy;&amp;lcy;&amp;ocy;&amp;gcy;&amp;icy;&amp;chcy;&amp;iecy;&amp;scy;&amp;kcy;&amp;ocy;&amp;gcy;&amp;ocy; &amp;ocy;&amp;rcy;&amp;ucy;&amp;zhcy;&amp;icy;&amp;yacy;"/>
          <p:cNvPicPr/>
          <p:nvPr/>
        </p:nvPicPr>
        <p:blipFill>
          <a:blip r:embed="rId1"/>
          <a:stretch/>
        </p:blipFill>
        <p:spPr>
          <a:xfrm>
            <a:off x="1547640" y="765000"/>
            <a:ext cx="64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914400"/>
            <a:ext cx="8915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у поражающего действия бактериологического оружия составляют болезнетворные микроорганизмы-бактерии, вирусы, риккетсии, грибки и бактериальные яды (токсины), вырабатываемые ими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9280" y="2565360"/>
            <a:ext cx="820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Разновидности биологического оружи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ИОЛОГИЧЕСКОЕ ОРУЖИЕ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ПЕЦИАЛЬНЫЕ БОЕПРИПАСЫ И БОЕВЫЕ ПРИБОРЫ, СНАРЯЖЁННЫЕ БИОЛОГИЧЕСКИМИ СРЕДСТВАМИ. 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25892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64328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788508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132000" y="3645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372360" y="3716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18320" y="429264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511360" y="49417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ирус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731760" y="42926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Риккетс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719680" y="47973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Гриб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560" y="436572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Токсин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094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иды во внешней среде образуют защитные оболочки, повышающие их устойчивость к дезинфицирующими средства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Пример заболеваний: чума, холера, бруцеллез, сибирская язва, столбняк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60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АКТЕРИ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ДНОКЛЕТОЧНЫЕ МИКРООРГАНИЗМЫ РАСТИТЕЛЬНОГО ПРОИСХОЖДЕНИЯ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Ecoli.jpg"/>
          <p:cNvPicPr/>
          <p:nvPr/>
        </p:nvPicPr>
        <p:blipFill>
          <a:blip r:embed="rId1"/>
          <a:stretch/>
        </p:blipFill>
        <p:spPr>
          <a:xfrm>
            <a:off x="4716360" y="162864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отличие от бактерий могут расти и размножаться только в живых тканях. Хорошо переносят высушивани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Вызывают у человека натуральную оспу, жёлтую лихорадку</a:t>
            </a:r>
            <a:r>
              <a:rPr b="1" lang="ru-RU" sz="20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РУС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ЛЬЧАЙШИЕ МИКРООРГАНИЗМЫ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482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373960" cy="41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ИККЕТ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НИМАЮТ ПРОМЕЖУТОЧНОЕ ПОЛОЖЕНИЕ МЕЖДУ БАКТЕРИЯМИ И ВИРУСАМИ. ПО РАЗМЕРАМ И ФОРМЕ БЛИЗКИ К БАКТЕРИЯМ, РАЗМНОЖАЮТСЯ ПРОСТЫМ ДЕЛЕНИЕМ, НО ЖИВУТ ТОЛЬКО В ТКАНЯХ ПОРАЖАЕМОГО ИМИ ОРГАНА.</a:t>
            </a:r>
            <a:br>
              <a:rPr sz="2400"/>
            </a:br>
            <a:br>
              <a:rPr sz="2400"/>
            </a:br>
            <a:r>
              <a:rPr b="0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ОПАДАЯ В ОРГАНИЗМ ЧЕЛОВЕКА, ВЫЗЫВАЮТ У НЕГО СЫПНОЙ ТИФ, ЛИХОРАДКУ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8" descr="http://www.mikrobchik.ru/img/rikketsii_clip_image001_0000.jpg"/>
          <p:cNvPicPr/>
          <p:nvPr/>
        </p:nvPicPr>
        <p:blipFill>
          <a:blip r:embed="rId1"/>
          <a:stretch/>
        </p:blipFill>
        <p:spPr>
          <a:xfrm>
            <a:off x="2556000" y="3860640"/>
            <a:ext cx="2952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842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Могут образовывать споры. Хорошо переносят высушивание, воздействие солнечного света и дезинфицирующих средств.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Вызываемые ими заболевания у человека и животных называются </a:t>
            </a:r>
            <a:r>
              <a:rPr b="1" lang="ru-RU" sz="2500" spc="-1" strike="noStrike" u="sng">
                <a:solidFill>
                  <a:srgbClr val="dc9e1f"/>
                </a:solidFill>
                <a:uFillTx/>
                <a:latin typeface="Times New Roman"/>
                <a:ea typeface="Times New Roman"/>
              </a:rPr>
              <a:t>кандидозами.</a:t>
            </a:r>
            <a:r>
              <a:rPr b="1" lang="ru-RU" sz="2500" spc="-1" strike="noStrike">
                <a:solidFill>
                  <a:srgbClr val="dc9e1f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ИБ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ДНОКЛЕТОЧНЫЕ И МНОГОКЛЕТОЧНЫЕ ОРГАНИЗМ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16872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620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ОКСИНЫ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ПРОДУКТЫ ЖИЗНЕДЕЯТЕЛЬНОСТИ НЕКОТОРЫХ БАКТЕРИЙ.</a:t>
            </a: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ВЫСУШЕННОМ СОСТОЯНИИ СОХРАНЯЮТ ТОКСИЧНОСТЬ ДО НЕСКОЛЬКИХ МЕСЯЦЕВ. ЧРЕЗВЫЧАЙНО ЯДОВИТЫМ ЯВЛЯЕТСЯ ТОКСИН БОТУЛИЗМА, ОН ВЫЗЫВАЕТ У ЧЕЛОВЕКА ТЯЖЁЛЫЕ ОТРАВЛЕНИЯ.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2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ЗНАКИ ПРИМЕНЯЕМОГО БАКТЕРИОЛОГИЧЕСКОГО ОРУЖИЯ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1413000"/>
            <a:ext cx="8377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й, в отличие от обычных боеприпасов, звук разрыва снарядов и бомб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ичие в местах разрывов крупных осколков и отдельных частей боеприпасов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ение капель жидкости или порошкообразных веществ на местност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ычное скопление насекомых и клещей в местах разрыва боеприпасов и падения контейнеров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овые заболевание людей и животных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908000" y="4579920"/>
            <a:ext cx="5400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 Е.В. Подшибякин</cp:lastModifiedBy>
  <dcterms:modified xsi:type="dcterms:W3CDTF">2024-01-24T07:03:52Z</dcterms:modified>
  <cp:revision>25</cp:revision>
  <dc:subject/>
  <dc:title>PowerPoint Presentation</dc:title>
</cp:coreProperties>
</file>