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1E8-AC78-4A13-8F47-4E065B95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475-0ED6-442E-B31E-3DBF0C2B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8EF-4A38-4571-820F-AE85C4F8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837-DD98-48C8-BE58-F4FCF129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F88-2722-4C2D-9881-ACB50C72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E6C-A6F0-48DE-B0F1-77AC2867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321-9525-416B-8A2A-71554D0C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2F6-837D-4378-9A82-E8CCEEB3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A71-B428-4578-9455-8B07444A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5BA-06B7-4AB3-8D0E-C436D50D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883-FBF7-42A4-87F5-5420D3AA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9E4-80BE-4708-ACBA-57476E6F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9C8C-C93A-47F4-ABD4-E9C7E4020F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005360" y="428400"/>
            <a:ext cx="513864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ОССИЯ В ЭПОХУ ПЕТРОВСКИХ ПРЕОБРАЗОВАНИЙ. СТАНОВЛЕНИЕ И РАЗВИТИЕ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КУЛЬТУРЫ. ТЕНДЕНЦИИ ПЕТРОВСКОГО ВРЕМЕ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760320" y="5589720"/>
            <a:ext cx="28796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:\Users\Admin\Desktop\п1.jpg"/>
          <p:cNvPicPr/>
          <p:nvPr/>
        </p:nvPicPr>
        <p:blipFill>
          <a:blip r:embed="rId1"/>
          <a:stretch/>
        </p:blipFill>
        <p:spPr>
          <a:xfrm>
            <a:off x="214200" y="500040"/>
            <a:ext cx="3857760" cy="4857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357120" y="6000840"/>
            <a:ext cx="464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студентка 2-го курса, Полещенко Л.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 руководитель: преподаватель истории Корнеева К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Ф ГБПОУ АО «Астраханский технологический технику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55720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е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бовались  учебники,  для этого налад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уск учебной литературы, буква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а реформы алфавита, введ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абские циф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C:\Users\Admin\Desktop\конференция петр 1\index6.jpg"/>
          <p:cNvPicPr/>
          <p:nvPr/>
        </p:nvPicPr>
        <p:blipFill>
          <a:blip r:embed="rId1"/>
          <a:stretch/>
        </p:blipFill>
        <p:spPr>
          <a:xfrm>
            <a:off x="142920" y="3571920"/>
            <a:ext cx="3643200" cy="3286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:\Users\Admin\Desktop\конференция петр 1\index7.jpg"/>
          <p:cNvPicPr/>
          <p:nvPr/>
        </p:nvPicPr>
        <p:blipFill>
          <a:blip r:embed="rId2"/>
          <a:stretch/>
        </p:blipFill>
        <p:spPr>
          <a:xfrm>
            <a:off x="4143240" y="4500720"/>
            <a:ext cx="4714920" cy="2143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C:\Users\Admin\Desktop\конференция петр 1\b34b26a69ac3a2b5cc63bd36162e1a74.fileR9Pm04.jpg"/>
          <p:cNvPicPr/>
          <p:nvPr/>
        </p:nvPicPr>
        <p:blipFill>
          <a:blip r:embed="rId3"/>
          <a:stretch/>
        </p:blipFill>
        <p:spPr>
          <a:xfrm>
            <a:off x="5715000" y="214200"/>
            <a:ext cx="3143160" cy="3786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1"/>
          <p:cNvSpPr/>
          <p:nvPr/>
        </p:nvSpPr>
        <p:spPr>
          <a:xfrm>
            <a:off x="214200" y="207180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2 3 4 5 6 7 8 9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C:\Users\Admin\Desktop\конференция петр 1\27.jpg"/>
          <p:cNvPicPr/>
          <p:nvPr/>
        </p:nvPicPr>
        <p:blipFill>
          <a:blip r:embed="rId4"/>
          <a:stretch/>
        </p:blipFill>
        <p:spPr>
          <a:xfrm>
            <a:off x="2714760" y="1785960"/>
            <a:ext cx="307152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6"/>
          <p:cNvSpPr/>
          <p:nvPr/>
        </p:nvSpPr>
        <p:spPr>
          <a:xfrm>
            <a:off x="785880" y="28584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714 г. в России был создан естественнонаучный музей – Кунстка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C:\Users\Admin\Desktop\конференция петр 1\8.jpg"/>
          <p:cNvPicPr/>
          <p:nvPr/>
        </p:nvPicPr>
        <p:blipFill>
          <a:blip r:embed="rId1"/>
          <a:stretch/>
        </p:blipFill>
        <p:spPr>
          <a:xfrm>
            <a:off x="785880" y="1214280"/>
            <a:ext cx="3857400" cy="2571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Users\Admin\Desktop\конференция петр 1\index9.jpg"/>
          <p:cNvPicPr/>
          <p:nvPr/>
        </p:nvPicPr>
        <p:blipFill>
          <a:blip r:embed="rId2"/>
          <a:stretch/>
        </p:blipFill>
        <p:spPr>
          <a:xfrm>
            <a:off x="5286240" y="1143000"/>
            <a:ext cx="3243240" cy="285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:\Users\Admin\Desktop\конференция петр 1\images10.jpg"/>
          <p:cNvPicPr/>
          <p:nvPr/>
        </p:nvPicPr>
        <p:blipFill>
          <a:blip r:embed="rId3"/>
          <a:stretch/>
        </p:blipFill>
        <p:spPr>
          <a:xfrm>
            <a:off x="428760" y="4000680"/>
            <a:ext cx="3643200" cy="2643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:\Users\Admin\Desktop\конференция петр 1\images11.jpg"/>
          <p:cNvPicPr/>
          <p:nvPr/>
        </p:nvPicPr>
        <p:blipFill>
          <a:blip r:embed="rId4"/>
          <a:stretch/>
        </p:blipFill>
        <p:spPr>
          <a:xfrm>
            <a:off x="4286160" y="4214880"/>
            <a:ext cx="4429080" cy="2390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85840" y="500076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724 г. для развития и распространения научных знаний в Петербурге была учреждена Академия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:\Users\Admin\Desktop\конференция петр 1\15.jpg"/>
          <p:cNvPicPr/>
          <p:nvPr/>
        </p:nvPicPr>
        <p:blipFill>
          <a:blip r:embed="rId1"/>
          <a:stretch/>
        </p:blipFill>
        <p:spPr>
          <a:xfrm>
            <a:off x="5643720" y="3000240"/>
            <a:ext cx="321444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Users\Admin\Desktop\конференция петр 1\13.jpg"/>
          <p:cNvPicPr/>
          <p:nvPr/>
        </p:nvPicPr>
        <p:blipFill>
          <a:blip r:embed="rId2"/>
          <a:stretch/>
        </p:blipFill>
        <p:spPr>
          <a:xfrm>
            <a:off x="3000240" y="285840"/>
            <a:ext cx="4786560" cy="2643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Users\Admin\Desktop\конференция петр 1\12.jpg"/>
          <p:cNvPicPr/>
          <p:nvPr/>
        </p:nvPicPr>
        <p:blipFill>
          <a:blip r:embed="rId3"/>
          <a:stretch/>
        </p:blipFill>
        <p:spPr>
          <a:xfrm>
            <a:off x="214200" y="2500200"/>
            <a:ext cx="3429000" cy="2490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702 г.  в Москве на Красной площади открывается общедоступ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C:\Users\Admin\Desktop\конференция петр 1\17.jpg"/>
          <p:cNvPicPr/>
          <p:nvPr/>
        </p:nvPicPr>
        <p:blipFill>
          <a:blip r:embed="rId1"/>
          <a:stretch/>
        </p:blipFill>
        <p:spPr>
          <a:xfrm>
            <a:off x="642960" y="1714680"/>
            <a:ext cx="2786040" cy="2371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Users\Admin\Desktop\конференция петр 1\116886_640.jpg"/>
          <p:cNvPicPr/>
          <p:nvPr/>
        </p:nvPicPr>
        <p:blipFill>
          <a:blip r:embed="rId2"/>
          <a:stretch/>
        </p:blipFill>
        <p:spPr>
          <a:xfrm>
            <a:off x="4143240" y="1285920"/>
            <a:ext cx="4572000" cy="4214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:\Users\Admin\Desktop\конференция петр 1\a6916d1009292936ca4e6b12163ae99e.jpg"/>
          <p:cNvPicPr/>
          <p:nvPr/>
        </p:nvPicPr>
        <p:blipFill>
          <a:blip r:embed="rId3"/>
          <a:stretch/>
        </p:blipFill>
        <p:spPr>
          <a:xfrm>
            <a:off x="214200" y="4000680"/>
            <a:ext cx="471492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428760" y="35712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тровские преобразования внесли кардинальные изменения в старые архитектурны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:\Users\Admin\Desktop\конференция петр 1\20.jpg"/>
          <p:cNvPicPr/>
          <p:nvPr/>
        </p:nvPicPr>
        <p:blipFill>
          <a:blip r:embed="rId1"/>
          <a:stretch/>
        </p:blipFill>
        <p:spPr>
          <a:xfrm>
            <a:off x="214200" y="1428840"/>
            <a:ext cx="3000600" cy="264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Users\Admin\Desktop\конференция петр 1\18.jpg"/>
          <p:cNvPicPr/>
          <p:nvPr/>
        </p:nvPicPr>
        <p:blipFill>
          <a:blip r:embed="rId2"/>
          <a:stretch/>
        </p:blipFill>
        <p:spPr>
          <a:xfrm>
            <a:off x="4857840" y="4500720"/>
            <a:ext cx="4000320" cy="214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:\Users\Admin\Desktop\конференция петр 1\19.jpg"/>
          <p:cNvPicPr/>
          <p:nvPr/>
        </p:nvPicPr>
        <p:blipFill>
          <a:blip r:embed="rId3"/>
          <a:stretch/>
        </p:blipFill>
        <p:spPr>
          <a:xfrm>
            <a:off x="6143760" y="1428840"/>
            <a:ext cx="2786040" cy="314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:\Users\Admin\Desktop\конференция петр 1\22.jpg"/>
          <p:cNvPicPr/>
          <p:nvPr/>
        </p:nvPicPr>
        <p:blipFill>
          <a:blip r:embed="rId4"/>
          <a:stretch/>
        </p:blipFill>
        <p:spPr>
          <a:xfrm>
            <a:off x="214200" y="4143240"/>
            <a:ext cx="4500720" cy="253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:\Users\Admin\Desktop\конференция петр 1\21.jpg"/>
          <p:cNvPicPr/>
          <p:nvPr/>
        </p:nvPicPr>
        <p:blipFill>
          <a:blip r:embed="rId5"/>
          <a:stretch/>
        </p:blipFill>
        <p:spPr>
          <a:xfrm>
            <a:off x="2857680" y="1214280"/>
            <a:ext cx="4000320" cy="3500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7"/>
          <p:cNvSpPr/>
          <p:nvPr/>
        </p:nvSpPr>
        <p:spPr>
          <a:xfrm>
            <a:off x="1000080" y="785880"/>
            <a:ext cx="79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718 г. широкое распространение получили ассамбл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C:\Users\Admin\Desktop\конференция петр 1\Peter_I_assembly.jpg"/>
          <p:cNvPicPr/>
          <p:nvPr/>
        </p:nvPicPr>
        <p:blipFill>
          <a:blip r:embed="rId1"/>
          <a:stretch/>
        </p:blipFill>
        <p:spPr>
          <a:xfrm>
            <a:off x="5715000" y="1643040"/>
            <a:ext cx="3192480" cy="25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:\Users\Admin\Desktop\конференция петр 1\23.jpg"/>
          <p:cNvPicPr/>
          <p:nvPr/>
        </p:nvPicPr>
        <p:blipFill>
          <a:blip r:embed="rId2"/>
          <a:stretch/>
        </p:blipFill>
        <p:spPr>
          <a:xfrm>
            <a:off x="214200" y="150012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C:\Users\Admin\Desktop\конференция петр 1\25.jpg"/>
          <p:cNvPicPr/>
          <p:nvPr/>
        </p:nvPicPr>
        <p:blipFill>
          <a:blip r:embed="rId3"/>
          <a:stretch/>
        </p:blipFill>
        <p:spPr>
          <a:xfrm>
            <a:off x="5143680" y="421488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Users\Admin\Desktop\конференция петр 1\26.jpg"/>
          <p:cNvPicPr/>
          <p:nvPr/>
        </p:nvPicPr>
        <p:blipFill>
          <a:blip r:embed="rId4"/>
          <a:stretch/>
        </p:blipFill>
        <p:spPr>
          <a:xfrm>
            <a:off x="214200" y="4500720"/>
            <a:ext cx="3286080" cy="2071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C:\Users\Admin\Desktop\конференция петр 1\24.jpg"/>
          <p:cNvPicPr/>
          <p:nvPr/>
        </p:nvPicPr>
        <p:blipFill>
          <a:blip r:embed="rId5"/>
          <a:stretch/>
        </p:blipFill>
        <p:spPr>
          <a:xfrm>
            <a:off x="2786040" y="2428920"/>
            <a:ext cx="35719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571680" y="2071800"/>
            <a:ext cx="385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ликий реформатор Петр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однял Россию с колен,  заложил мощные основы развития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Users\Admin\Desktop\конференция петр 1\1d8fd5049a6806fb71bded86bdro--kartiny-i-panno-petr-pervyj.jpg"/>
          <p:cNvPicPr/>
          <p:nvPr/>
        </p:nvPicPr>
        <p:blipFill>
          <a:blip r:embed="rId1"/>
          <a:stretch/>
        </p:blipFill>
        <p:spPr>
          <a:xfrm>
            <a:off x="4500720" y="571680"/>
            <a:ext cx="421452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378648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1682 г. на Российский престол взошел молодой царь Петр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:\Users\Admin\Desktop\Peter_I_by_Kneller.jpg"/>
          <p:cNvPicPr/>
          <p:nvPr/>
        </p:nvPicPr>
        <p:blipFill>
          <a:blip r:embed="rId1"/>
          <a:stretch/>
        </p:blipFill>
        <p:spPr>
          <a:xfrm>
            <a:off x="4786200" y="214200"/>
            <a:ext cx="4071960" cy="6000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C:\Users\Admin\Desktop\конференция петр 1\index.jpg"/>
          <p:cNvPicPr/>
          <p:nvPr/>
        </p:nvPicPr>
        <p:blipFill>
          <a:blip r:embed="rId1"/>
          <a:stretch/>
        </p:blipFill>
        <p:spPr>
          <a:xfrm>
            <a:off x="5572080" y="428760"/>
            <a:ext cx="2928960" cy="3071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Users\Admin\Desktop\конференция петр 1\36fe156bc1be716f.jpeg"/>
          <p:cNvPicPr/>
          <p:nvPr/>
        </p:nvPicPr>
        <p:blipFill>
          <a:blip r:embed="rId2"/>
          <a:stretch/>
        </p:blipFill>
        <p:spPr>
          <a:xfrm>
            <a:off x="3786120" y="3357720"/>
            <a:ext cx="5214960" cy="3105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214200" y="357120"/>
            <a:ext cx="35006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66840" y="509760"/>
            <a:ext cx="44910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28760" y="571680"/>
            <a:ext cx="564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ой реформатор Петр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 большим энтузиазмом взялся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преобразование общества и внедрение реформ, встречая сопротивление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 стороны самых различных социальных слоев общест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зывая скрыто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крытое недовольств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95280" y="216360"/>
            <a:ext cx="41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экономи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бовало создание новой ар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Admin\Desktop\конференция петр 1\b9c64c213bf8d21997e6be32e9894d0995eb1cfd.jpeg"/>
          <p:cNvPicPr/>
          <p:nvPr/>
        </p:nvPicPr>
        <p:blipFill>
          <a:blip r:embed="rId1"/>
          <a:stretch/>
        </p:blipFill>
        <p:spPr>
          <a:xfrm>
            <a:off x="4714920" y="0"/>
            <a:ext cx="2733480" cy="32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Admin\Desktop\конференция петр 1\istoriya-35254-armiya-petra-velikogo.jpg"/>
          <p:cNvPicPr/>
          <p:nvPr/>
        </p:nvPicPr>
        <p:blipFill>
          <a:blip r:embed="rId2"/>
          <a:stretch/>
        </p:blipFill>
        <p:spPr>
          <a:xfrm>
            <a:off x="214200" y="1143000"/>
            <a:ext cx="4392720" cy="2695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5143680" y="32148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тр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ынужден приглашать в страну иностранных специал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Users\Admin\Desktop\конференция петр 1\ptr-pic330-330x220-85441.jpg"/>
          <p:cNvPicPr/>
          <p:nvPr/>
        </p:nvPicPr>
        <p:blipFill>
          <a:blip r:embed="rId3"/>
          <a:stretch/>
        </p:blipFill>
        <p:spPr>
          <a:xfrm>
            <a:off x="5143680" y="4357800"/>
            <a:ext cx="3417840" cy="21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Users\Admin\Desktop\конференция петр 1\original-1udn.jpg"/>
          <p:cNvPicPr/>
          <p:nvPr/>
        </p:nvPicPr>
        <p:blipFill>
          <a:blip r:embed="rId4"/>
          <a:stretch/>
        </p:blipFill>
        <p:spPr>
          <a:xfrm>
            <a:off x="1214280" y="4214880"/>
            <a:ext cx="4071960" cy="2476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571920" y="435960"/>
            <a:ext cx="52862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арь заставил учиться молодых дворян, отправляя их загран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C:\Users\Admin\Desktop\конференция петр 1\f0fd591fb79afad48279bd530bb89209f14eb79f.jpeg"/>
          <p:cNvPicPr/>
          <p:nvPr/>
        </p:nvPicPr>
        <p:blipFill>
          <a:blip r:embed="rId1"/>
          <a:stretch/>
        </p:blipFill>
        <p:spPr>
          <a:xfrm>
            <a:off x="357120" y="1000080"/>
            <a:ext cx="321480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C:\Users\Admin\Desktop\конференция петр 1\c67384f2e26110bccf187868ecaedfb55a845b17.jpeg"/>
          <p:cNvPicPr/>
          <p:nvPr/>
        </p:nvPicPr>
        <p:blipFill>
          <a:blip r:embed="rId2"/>
          <a:stretch/>
        </p:blipFill>
        <p:spPr>
          <a:xfrm>
            <a:off x="4000680" y="2357280"/>
            <a:ext cx="485748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338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55640" y="33336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701 г. в Москве в Сухоревой башне была открыта первая в России Школа математических и навигацких на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Users\Admin\Desktop\конференция петр 1\image061.jpg"/>
          <p:cNvPicPr/>
          <p:nvPr/>
        </p:nvPicPr>
        <p:blipFill>
          <a:blip r:embed="rId1"/>
          <a:stretch/>
        </p:blipFill>
        <p:spPr>
          <a:xfrm>
            <a:off x="2214720" y="1285920"/>
            <a:ext cx="3357360" cy="221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Admin\Desktop\конференция петр 1\270px-Suhareva_Tower_by_Prohorov.jpg"/>
          <p:cNvPicPr/>
          <p:nvPr/>
        </p:nvPicPr>
        <p:blipFill>
          <a:blip r:embed="rId2"/>
          <a:stretch/>
        </p:blipFill>
        <p:spPr>
          <a:xfrm>
            <a:off x="5715000" y="2143080"/>
            <a:ext cx="3000240" cy="471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Admin\Desktop\конференция петр 1\c67384f2e26110bccf187868ecaedfb55a845b17.jpeg"/>
          <p:cNvPicPr/>
          <p:nvPr/>
        </p:nvPicPr>
        <p:blipFill>
          <a:blip r:embed="rId3"/>
          <a:stretch/>
        </p:blipFill>
        <p:spPr>
          <a:xfrm>
            <a:off x="214200" y="3571920"/>
            <a:ext cx="494532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3640" y="285480"/>
            <a:ext cx="8373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705 г. открылась общеобразовательная 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:\Users\Admin\Desktop\конференция петр 1\Инженерная школа.jpg"/>
          <p:cNvPicPr/>
          <p:nvPr/>
        </p:nvPicPr>
        <p:blipFill>
          <a:blip r:embed="rId1"/>
          <a:stretch/>
        </p:blipFill>
        <p:spPr>
          <a:xfrm>
            <a:off x="0" y="3571920"/>
            <a:ext cx="5321160" cy="307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Admin\Desktop\конференция петр 1\images.jpg"/>
          <p:cNvPicPr/>
          <p:nvPr/>
        </p:nvPicPr>
        <p:blipFill>
          <a:blip r:embed="rId2"/>
          <a:stretch/>
        </p:blipFill>
        <p:spPr>
          <a:xfrm>
            <a:off x="5095800" y="4214880"/>
            <a:ext cx="4048200" cy="264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:\Users\Admin\Desktop\конференция петр 1\e7a90121fe2e5770beeffd5c388b9b78.png"/>
          <p:cNvPicPr/>
          <p:nvPr/>
        </p:nvPicPr>
        <p:blipFill>
          <a:blip r:embed="rId3"/>
          <a:stretch/>
        </p:blipFill>
        <p:spPr>
          <a:xfrm>
            <a:off x="4214880" y="107172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:\Users\Admin\Desktop\конференция петр 1\slavyano-greko-latinskaya-akademiya1.jpg"/>
          <p:cNvPicPr/>
          <p:nvPr/>
        </p:nvPicPr>
        <p:blipFill>
          <a:blip r:embed="rId4"/>
          <a:stretch/>
        </p:blipFill>
        <p:spPr>
          <a:xfrm>
            <a:off x="285840" y="714240"/>
            <a:ext cx="391464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42920" y="285840"/>
            <a:ext cx="42148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707 г. была открыта медицинская академия при московском военном госпита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:\Users\Admin\Desktop\конференция петр 1\image001 - копия.jpg"/>
          <p:cNvPicPr/>
          <p:nvPr/>
        </p:nvPicPr>
        <p:blipFill>
          <a:blip r:embed="rId1"/>
          <a:stretch/>
        </p:blipFill>
        <p:spPr>
          <a:xfrm>
            <a:off x="714240" y="4857840"/>
            <a:ext cx="8001000" cy="171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Users\Admin\Desktop\конференция петр 1\image0011.jpg"/>
          <p:cNvPicPr/>
          <p:nvPr/>
        </p:nvPicPr>
        <p:blipFill>
          <a:blip r:embed="rId2"/>
          <a:stretch/>
        </p:blipFill>
        <p:spPr>
          <a:xfrm>
            <a:off x="4500720" y="785880"/>
            <a:ext cx="4357440" cy="401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C:\Users\Admin\Desktop\конференция петр 1\index1.jpg"/>
          <p:cNvPicPr/>
          <p:nvPr/>
        </p:nvPicPr>
        <p:blipFill>
          <a:blip r:embed="rId3"/>
          <a:stretch/>
        </p:blipFill>
        <p:spPr>
          <a:xfrm>
            <a:off x="500040" y="1571760"/>
            <a:ext cx="3929040" cy="3214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4868640"/>
            <a:ext cx="85899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581976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упные мануфактуры в Карели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ала, готовили квалифициров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ов для металлург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мыш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C:\Users\Admin\Desktop\конференция петр 1\index3.jpg"/>
          <p:cNvPicPr/>
          <p:nvPr/>
        </p:nvPicPr>
        <p:blipFill>
          <a:blip r:embed="rId1"/>
          <a:stretch/>
        </p:blipFill>
        <p:spPr>
          <a:xfrm>
            <a:off x="357120" y="3214800"/>
            <a:ext cx="407196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C:\Users\Admin\Desktop\конференция петр 1\index4.jpg"/>
          <p:cNvPicPr/>
          <p:nvPr/>
        </p:nvPicPr>
        <p:blipFill>
          <a:blip r:embed="rId2"/>
          <a:stretch/>
        </p:blipFill>
        <p:spPr>
          <a:xfrm>
            <a:off x="4786200" y="3571920"/>
            <a:ext cx="3857760" cy="307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C:\Users\Admin\Desktop\конференция петр 1\index5.jpg"/>
          <p:cNvPicPr/>
          <p:nvPr/>
        </p:nvPicPr>
        <p:blipFill>
          <a:blip r:embed="rId3"/>
          <a:stretch/>
        </p:blipFill>
        <p:spPr>
          <a:xfrm>
            <a:off x="4500720" y="1357200"/>
            <a:ext cx="3929040" cy="2357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1T09:43:24Z</dcterms:created>
  <dc:creator>Андрей</dc:creator>
  <dc:description/>
  <dc:language>en-US</dc:language>
  <cp:lastModifiedBy>Admin</cp:lastModifiedBy>
  <dcterms:modified xsi:type="dcterms:W3CDTF">2022-04-27T22:09:24Z</dcterms:modified>
  <cp:revision>60</cp:revision>
  <dc:subject/>
  <dc:title>День Знаний</dc:title>
</cp:coreProperties>
</file>