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8FD-6825-4CE1-B182-E9ADB2A9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F65-E23F-4C7E-9AD5-AB069C2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E81-C33F-452A-BD41-DF46CBC8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8EB-D72E-40F1-84EC-408D5F52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BE69-F3C5-499E-ADC3-B5C9ED1F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342E-4CB0-49D1-933D-8772E554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42AE-8925-4C1B-A676-AA96E2A3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0A66-DE0A-47F6-870E-B85B3A04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C352-BB20-4430-85B1-44D6A9DF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315-CCBF-4058-A7F7-C07E3364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3A36-5251-4C81-AE4D-B8387C2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B7E-D99C-4728-B1D5-A93FDCA9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865D-8321-4FC5-885F-832148C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8BC-FDDC-4780-B8D8-B7AA08FE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BD8F-3835-40ED-9240-06E70CDE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BBA8-3238-4BC9-9D46-6F2A6529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56F7-3194-4D76-B361-0E4A008B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341A-23C2-474E-B3DC-11943566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8B8A-0DAE-4C0F-AF39-EDF13126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E5FD-DA15-41F5-B662-788D339A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E84B-B73C-4F65-A6B8-21249D63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8341-895F-48AF-A1A2-CC95350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651-046D-4723-B34E-CFAC575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017E-3A1F-48EE-BB41-C71D404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2CAC-7ADB-4BCE-B70B-8F737C8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1822-7447-4E1B-80F0-24C55BB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789E-23A3-4379-8E36-5EC6FE75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1112-9101-4575-9A31-EED2DB93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537B-A265-498D-8C5F-6DACB33C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3996-DF71-40DD-989A-FE8DDCF5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422EE-8B41-43D6-B4D6-114AD5CB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EA4DE-4A3E-42E8-AC5E-267153BF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A1FF-9EA3-4D2F-9ABC-8779D7D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D57-EFAA-47E9-A8BE-F239E753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5691-4C35-4477-959A-1FB2D91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3106-C61B-4618-85ED-BCDBB79E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A34D-502D-46AE-924C-F876E09C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91B9D-5DF7-4239-BEF2-DF814D0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9BEA-CBBC-4691-AC25-E551736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5D6C-EFA2-4462-B384-DF0C98B4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A0D4A-F9EB-44C6-B6CF-FD122A02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B597-BB93-432E-B4B1-C7081AEF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E196-FB38-4532-BE37-C331EA1F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262-4AAB-498A-83BE-823A5259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353-DBBA-401C-A4E3-A374DC99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9E4-A9C1-40BA-B184-66FBCCA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87F-19C5-4C88-AD74-8C407035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CD9-544F-41E1-BB1E-4C02FB6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DF35-A6E6-4E62-9E4A-58A54CE43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2027-B429-4086-A77B-C60CFC8C4C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BB40-9604-412D-B7E3-30FE1BD49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7200-192C-4B24-8DBB-E192386915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3"/>
          <p:cNvSpPr/>
          <p:nvPr/>
        </p:nvSpPr>
        <p:spPr>
          <a:xfrm>
            <a:off x="2286000" y="5072040"/>
            <a:ext cx="4297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43"/>
          <p:cNvSpPr/>
          <p:nvPr/>
        </p:nvSpPr>
        <p:spPr>
          <a:xfrm>
            <a:off x="674640" y="44280"/>
            <a:ext cx="785808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МЧС РОСС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ОСУДАРСТВЕННОЕ 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ДОПОЛНИТЕЛЬНОГО ПРОФЕССИОНАЛЬНОГО ОБРАЗ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ЧЕБНЫЙ ЦЕ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ФЕДЕРАЛЬНОЙ ПРОТИВОПОЖАРНОЙ СЛУЖБ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5" descr="mchs1"/>
          <p:cNvPicPr/>
          <p:nvPr/>
        </p:nvPicPr>
        <p:blipFill>
          <a:blip r:embed="rId1"/>
          <a:stretch/>
        </p:blipFill>
        <p:spPr>
          <a:xfrm>
            <a:off x="4140360" y="1795320"/>
            <a:ext cx="1008000" cy="9860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2"/>
          <p:cNvSpPr/>
          <p:nvPr/>
        </p:nvSpPr>
        <p:spPr>
          <a:xfrm>
            <a:off x="1042920" y="3116160"/>
            <a:ext cx="764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Предмет: «Газодымозащитная служба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4920" y="399564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ем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«Дыхательный аппарат на сжатом воздухе АП Север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826920" y="595620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Разработал: Оборкин А.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Запорный венти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едназнач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одачи воздуха из баллона в   систему высокого д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IMG_0558"/>
          <p:cNvPicPr/>
          <p:nvPr/>
        </p:nvPicPr>
        <p:blipFill>
          <a:blip r:embed="rId1"/>
          <a:stretch/>
        </p:blipFill>
        <p:spPr>
          <a:xfrm>
            <a:off x="2195640" y="3187800"/>
            <a:ext cx="5400720" cy="36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Редуктор с предохранительным клапано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Редуктор предназначе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для преобразования переменного высокого давления в постоянное низко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Предохранительный клапа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защищает корпус редуктора от разрушения при повышения давления сверх нормативного.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н срабатывает при давлении 11-18 ат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Манометр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Предназначен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контроля за давлением воздуха в дыхательном аппарат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Звуковое сигнальное </a:t>
            </a:r>
            <a:br>
              <a:rPr sz="4400"/>
            </a:b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устро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2707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Предназначено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оповещения работающего в аппарате об исчерпании основного запаса воздуха и о необходимости выхода из непригодной для дыхания сре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2960" y="115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Легочный автомат с</a:t>
            </a:r>
            <a:br>
              <a:rPr sz="4000"/>
            </a:b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клапаном аварийной подачи воздух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2276640"/>
            <a:ext cx="87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едназнач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одачи воздуха во внутреннюю полость маски с избыточным давлением, включения дополнительной непрерывной подачи воздуха при отказе легочного автомата или нехватке воздуха пользователю и принудительного выключения подачи воздуха после снятия мас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Arial Black"/>
              </a:rPr>
              <a:t>Панорамная мас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1999800"/>
            <a:ext cx="87231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едназначе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изоляции органов дыхания и зрения человека от окружающей среды, подачи воздуха от легочного автомата в органы дыхания человека через клапаны вдоха и удаления выдыхаемого воздуха через клапан выдоха  в окружающую сре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 Black"/>
              </a:rPr>
              <a:t>Тактико-технические характеристики </a:t>
            </a: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 Black"/>
              </a:rPr>
              <a:t>дыхательного аппарата</a:t>
            </a: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3399ff"/>
                </a:solidFill>
                <a:latin typeface="Arial Black"/>
              </a:rPr>
              <a:t>АП-СЕВЕР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-757080" y="-411120"/>
            <a:ext cx="91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9144000" cy="7007400"/>
        </p:xfrm>
        <a:graphic>
          <a:graphicData uri="http://schemas.openxmlformats.org/drawingml/2006/table">
            <a:tbl>
              <a:tblPr/>
              <a:tblGrid>
                <a:gridCol w="511200"/>
                <a:gridCol w="5584680"/>
                <a:gridCol w="304812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чее 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дуцированное 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 ат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до 9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вление срабатывания предохранительного клап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вление срабатывания сигнального устр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давление в подмасочном пространстве при нулевом расходе возду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±100 Па (0, 003±0,001 атм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противление дыханию на выдох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+ 25 °С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 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°С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 П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92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са снаряженного аппарата без спасательного устройства  с баллоном металлокомпозитны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аллическ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к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балл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8 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ое время 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+ 25 °С – 60 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t 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°С – 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пазон рабочих температу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–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до + 60 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6" name="Rectangle 410"/>
          <p:cNvSpPr/>
          <p:nvPr/>
        </p:nvSpPr>
        <p:spPr>
          <a:xfrm>
            <a:off x="0" y="521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F:\АП Север\АП Север\ап севе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468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 Black"/>
              </a:rPr>
              <a:t>Дыхательный аппарат </a:t>
            </a:r>
            <a:br>
              <a:rPr sz="4400"/>
            </a:br>
            <a:r>
              <a:rPr b="1" lang="ru-RU" sz="4400" spc="-1" strike="noStrike">
                <a:solidFill>
                  <a:srgbClr val="3399ff"/>
                </a:solidFill>
                <a:latin typeface="Arial Black"/>
              </a:rPr>
              <a:t> АП-СЕВ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851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Предназначе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индивидуальной защиты органов дыхания и зрения человека от вредного воздействия непригодной для дыхания токсичной, обедненной кислородом и задымленной газовой среды при тушении пожаров в зданиях, сооружениях и на производственных объектах различного назначения в диапазоне температур окружающей среды от – 50 С до + 60 С и относительной влажности до 9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работает по открытой схеме дых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33"/>
                </a:solidFill>
                <a:latin typeface="Arial Black"/>
              </a:rPr>
              <a:t>Устройство </a:t>
            </a:r>
            <a:r>
              <a:rPr b="1" lang="ru-RU" sz="4400" spc="-1" strike="noStrike">
                <a:solidFill>
                  <a:srgbClr val="3399ff"/>
                </a:solidFill>
                <a:latin typeface="Arial Black"/>
              </a:rPr>
              <a:t>АП-СЕВЕР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13840" y="428400"/>
            <a:ext cx="8929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есная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Универсальная спинка (осн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ремень для крепления балл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 плечевых рем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 регулировочных 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1 поясной рем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о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ный вент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единительный мах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уктор с предохранительным клапа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 Black"/>
              </a:rPr>
              <a:t>Устройство </a:t>
            </a:r>
            <a:r>
              <a:rPr b="1" lang="ru-RU" sz="4000" spc="-1" strike="noStrike">
                <a:solidFill>
                  <a:srgbClr val="3399ff"/>
                </a:solidFill>
                <a:latin typeface="Arial Black"/>
              </a:rPr>
              <a:t>АП-СЕВЕР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929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ланг переменно высокого д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ланг постоянно низкого д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ланг для подсоединения спасательного устройства с быстроразъемным штуце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гочный автомат с клапаном аварийной подачи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ометр со звуковым сигнальным устрой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орамная ма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гочный автомат и маска для пострадав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F:\АП Север\АП Север\Безимени-1.jpg"/>
          <p:cNvPicPr/>
          <p:nvPr/>
        </p:nvPicPr>
        <p:blipFill>
          <a:blip r:embed="rId1"/>
          <a:stretch/>
        </p:blipFill>
        <p:spPr>
          <a:xfrm>
            <a:off x="1143000" y="0"/>
            <a:ext cx="71438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F:\АП Север\АП Север\Безимени-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4764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F:\АП Север\АП Север\Безимени-4.jpg"/>
          <p:cNvPicPr/>
          <p:nvPr/>
        </p:nvPicPr>
        <p:blipFill>
          <a:blip r:embed="rId2"/>
          <a:stretch/>
        </p:blipFill>
        <p:spPr>
          <a:xfrm>
            <a:off x="4714920" y="1500120"/>
            <a:ext cx="4143240" cy="51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Подвесная систе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2643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ужит для монтажа на ней всех частей аппарата и его крепления на теле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Arial Black"/>
              </a:rPr>
              <a:t>Балл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53276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едназнач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хранения рабочего запаса сжатого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IMG_0554"/>
          <p:cNvPicPr/>
          <p:nvPr/>
        </p:nvPicPr>
        <p:blipFill>
          <a:blip r:embed="rId1"/>
          <a:stretch/>
        </p:blipFill>
        <p:spPr>
          <a:xfrm>
            <a:off x="5462640" y="1413000"/>
            <a:ext cx="34574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рханов</dc:creator>
  <dc:description/>
  <dc:language>en-US</dc:language>
  <cp:lastModifiedBy>Пользователь Windows</cp:lastModifiedBy>
  <dcterms:modified xsi:type="dcterms:W3CDTF">2024-03-25T04:43:24Z</dcterms:modified>
  <cp:revision>31</cp:revision>
  <dc:subject/>
  <dc:title>PowerPoint Presentation</dc:title>
</cp:coreProperties>
</file>