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4E5-134B-42D4-9E37-25A0CC20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BAC9-387A-4F29-A5A9-73D9E516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064-8D40-4255-B5FD-2DB8F799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22D-86E0-4020-81B5-0F07B8D2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547B-B249-41A2-BA8E-6700484F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A05D-B2B4-4E33-A11D-273B5E5B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0FF2-6347-4FAB-8852-11F893C7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A8C9-A506-4726-9109-827A012C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00E7-1264-4173-9FAA-D8900918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B421-3BAF-4285-AD80-32F9AC42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DFC2-3F95-4414-AADD-79987AAB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544-C042-43AC-BA01-2703EFD6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ED23-A595-45E6-82E8-9CF3335C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5BC7-5128-4E8A-BB70-1916B253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BA27-4CD8-49D6-908C-9628B5E0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D95D-0440-4941-8AD2-989E7AF1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53DD-55B6-4615-8776-0F0CFCD1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38FE3-2BB9-4A87-AF26-3357DCEC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6C26D-8F50-4C18-A320-5A25C0DE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0334C-D0A7-4C88-8FEE-ACECD18E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013E4-A5A4-4A15-92C8-53FECEA0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1AAD1-BC3A-4D8B-97BD-316A9FDF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F16-746C-470C-AC7C-B47E70AE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791A-FA93-4A4A-B370-AAAB43B7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05333-190F-4105-A67B-A4584773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AF90-EE4D-4590-9015-346FC3C5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F0223-89C1-49BC-8373-6EAE2208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CF2CB-C48A-440F-AA03-A85D357D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F760A-E37B-4FEA-A3C3-33D66C47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27A0-3BB6-4A4E-8940-4698FEF1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3FFBE-9E15-4692-A5F4-586550E8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32CA6-8505-485C-8D0F-B0251B92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89EC3-D4A7-4AA0-8942-0D21DD6B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E45-4C78-4E53-82E5-1378026B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4F3F9-5B2D-4376-BF23-D5D217DD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2A98C-552A-4E7C-8A12-CCFD3BF4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0A19-3578-489A-B8AE-AF0B9980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97A9C-EC02-4A09-87F6-021D8A52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EC61B-36D4-4B37-8C89-1CE5493E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30DBD-F26D-48E7-A9FD-140D8F8E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AB66-9A08-4025-BBB7-65EDDBAE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344E0-E291-4B3E-89A9-B28E734E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B83DB-608F-4A67-80FE-B05979C6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02A-E2B9-413A-817F-91FFF682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5FE-9FDC-45C1-9319-070B1A8D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B7B-4278-4F92-A6BA-4AD1F32B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A35-8AC2-4C1E-B65B-9F851A01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AD2-943D-4FC2-BFB4-FB889FED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840D-9C76-476F-BB31-71486200E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CBA4-91B9-47EC-A0BE-C37882B496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A1CC-F3A6-4035-8964-974244F1C5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5556-F733-43C8-B66C-DC5F5B3145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3"/>
          <p:cNvSpPr/>
          <p:nvPr/>
        </p:nvSpPr>
        <p:spPr>
          <a:xfrm>
            <a:off x="2286000" y="5072040"/>
            <a:ext cx="4297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43"/>
          <p:cNvSpPr/>
          <p:nvPr/>
        </p:nvSpPr>
        <p:spPr>
          <a:xfrm>
            <a:off x="674640" y="44280"/>
            <a:ext cx="785808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МЧС РОСС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ГОСУДАРСТВЕННОЕ ОБРАЗОВАТЕЛЬНОЕ УЧРЕЖД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ДОПОЛНИТЕЛЬНОГО ПРОФЕССИОНАЛЬНОГО ОБРАЗО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ЧЕБНЫЙ ЦЕН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ФЕДЕРАЛЬНОЙ ПРОТИВОПОЖАРНОЙ СЛУЖБ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5" descr="mchs1"/>
          <p:cNvPicPr/>
          <p:nvPr/>
        </p:nvPicPr>
        <p:blipFill>
          <a:blip r:embed="rId1"/>
          <a:stretch/>
        </p:blipFill>
        <p:spPr>
          <a:xfrm>
            <a:off x="4140360" y="1795320"/>
            <a:ext cx="1008000" cy="9860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12"/>
          <p:cNvSpPr/>
          <p:nvPr/>
        </p:nvSpPr>
        <p:spPr>
          <a:xfrm>
            <a:off x="1042920" y="3116160"/>
            <a:ext cx="764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Предмет: «Газодымозащитная служба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Прямоугольник 13"/>
          <p:cNvSpPr/>
          <p:nvPr/>
        </p:nvSpPr>
        <p:spPr>
          <a:xfrm>
            <a:off x="34920" y="399564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Тем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«Дыхательный аппарат на сжатом воздухе АП Север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Прямоугольник 14"/>
          <p:cNvSpPr/>
          <p:nvPr/>
        </p:nvSpPr>
        <p:spPr>
          <a:xfrm>
            <a:off x="826920" y="595620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Разработал: Оборкин А.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 Black"/>
              </a:rPr>
              <a:t>Запорный венти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редназнач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одачи воздуха из баллона в   систему высокого д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IMG_0558"/>
          <p:cNvPicPr/>
          <p:nvPr/>
        </p:nvPicPr>
        <p:blipFill>
          <a:blip r:embed="rId1"/>
          <a:stretch/>
        </p:blipFill>
        <p:spPr>
          <a:xfrm>
            <a:off x="2195640" y="3187800"/>
            <a:ext cx="5400720" cy="36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 Black"/>
              </a:rPr>
              <a:t>Редуктор с предохранительным клапано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Редуктор предназначен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для преобразования переменного высокого давления в постоянное низко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Предохранительный клапан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защищает корпус редуктора от разрушения при повышения давления сверх нормативного.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Он срабатывает при давлении 11-18 ат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 Black"/>
              </a:rPr>
              <a:t>Манометр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Предназначен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контроля за давлением воздуха в дыхательном аппарат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 Black"/>
              </a:rPr>
              <a:t>Звуковое сигнальное </a:t>
            </a:r>
            <a:br>
              <a:rPr sz="4400"/>
            </a:br>
            <a:r>
              <a:rPr b="1" lang="ru-RU" sz="4400" spc="-1" strike="noStrike">
                <a:solidFill>
                  <a:srgbClr val="66ff33"/>
                </a:solidFill>
                <a:latin typeface="Arial Black"/>
              </a:rPr>
              <a:t>устрой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000" y="2707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Предназначено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оповещения работающего в аппарате об исчерпании основного запаса воздуха и о необходимости выхода из непригодной для дыхания сре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2960" y="115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 Black"/>
              </a:rPr>
              <a:t>Легочный автомат с</a:t>
            </a:r>
            <a:br>
              <a:rPr sz="4000"/>
            </a:br>
            <a:r>
              <a:rPr b="1" lang="ru-RU" sz="4000" spc="-1" strike="noStrike">
                <a:solidFill>
                  <a:srgbClr val="66ff33"/>
                </a:solidFill>
                <a:latin typeface="Arial Black"/>
              </a:rPr>
              <a:t>клапаном аварийной подачи воздух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2276640"/>
            <a:ext cx="87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Предназнач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одачи воздуха во внутреннюю полость маски с избыточным давлением, включения дополнительной непрерывной подачи воздуха при отказе легочного автомата или нехватке воздуха пользователю и принудительного выключения подачи воздуха после снятия мас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 Black"/>
              </a:rPr>
              <a:t>Панорамная мас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360" y="1999800"/>
            <a:ext cx="87231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Предназначе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изоляции органов дыхания и зрения человека от окружающей среды, подачи воздуха от легочного автомата в органы дыхания человека через клапаны вдоха и удаления выдыхаемого воздуха через клапан выдоха  в окружающую сре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33"/>
                </a:solidFill>
                <a:latin typeface="Arial Black"/>
              </a:rPr>
              <a:t>Тактико-технические характеристики </a:t>
            </a:r>
            <a:br>
              <a:rPr sz="4800"/>
            </a:br>
            <a:r>
              <a:rPr b="1" lang="ru-RU" sz="4800" spc="-1" strike="noStrike">
                <a:solidFill>
                  <a:srgbClr val="66ff33"/>
                </a:solidFill>
                <a:latin typeface="Arial Black"/>
              </a:rPr>
              <a:t>дыхательного аппарата</a:t>
            </a:r>
            <a:br>
              <a:rPr sz="4800"/>
            </a:br>
            <a:r>
              <a:rPr b="1" lang="ru-RU" sz="4800" spc="-1" strike="noStrike">
                <a:solidFill>
                  <a:srgbClr val="66ff33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3399ff"/>
                </a:solidFill>
                <a:latin typeface="Arial Black"/>
              </a:rPr>
              <a:t>АП-СЕВЕР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-757080" y="-411120"/>
            <a:ext cx="9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9144000" cy="7007400"/>
        </p:xfrm>
        <a:graphic>
          <a:graphicData uri="http://schemas.openxmlformats.org/drawingml/2006/table">
            <a:tbl>
              <a:tblPr/>
              <a:tblGrid>
                <a:gridCol w="511200"/>
                <a:gridCol w="5584680"/>
                <a:gridCol w="3048120"/>
              </a:tblGrid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чее д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ат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дуцированное д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 ат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до 9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79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вление срабатывания предохранительного клап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вление срабатывания сигнального устрой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чное давление в подмасочном пространстве при нулевом расходе воздух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±100 Па (0, 003±0,001 атм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противление дыханию на выдох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t  + 25 °С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 П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t 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°С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 П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с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92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са снаряженного аппарата без спасательного устройства  с баллоном металлокомпозитны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аллическ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 балл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 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79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щитное время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t  + 25 °С – 60 м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t 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°С – 4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апазон рабочих темпера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до + 60 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6" name="Rectangle 410"/>
          <p:cNvSpPr/>
          <p:nvPr/>
        </p:nvSpPr>
        <p:spPr>
          <a:xfrm>
            <a:off x="0" y="521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F:\АП Север\АП Север\ап севе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468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33"/>
                </a:solidFill>
                <a:latin typeface="Arial Black"/>
              </a:rPr>
              <a:t>Дыхательный аппарат </a:t>
            </a:r>
            <a:br>
              <a:rPr sz="4400"/>
            </a:br>
            <a:r>
              <a:rPr b="1" lang="ru-RU" sz="4400" spc="-1" strike="noStrike">
                <a:solidFill>
                  <a:srgbClr val="3399ff"/>
                </a:solidFill>
                <a:latin typeface="Arial Black"/>
              </a:rPr>
              <a:t> АП-СЕВЕ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14200" y="1357200"/>
            <a:ext cx="8515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Предназначе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индивидуальной защиты органов дыхания и зрения человека от вредного воздействия непригодной для дыхания токсичной, обедненной кислородом и задымленной газовой среды при тушении пожаров в зданиях, сооружениях и на производственных объектах различного назначения в диапазоне температур окружающей среды от – 50 С до + 60 С и относительной влажности до 9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работает по открытой схеме дых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33"/>
                </a:solidFill>
                <a:latin typeface="Arial Black"/>
              </a:rPr>
              <a:t>Устройство </a:t>
            </a:r>
            <a:r>
              <a:rPr b="1" lang="ru-RU" sz="4400" spc="-1" strike="noStrike">
                <a:solidFill>
                  <a:srgbClr val="3399ff"/>
                </a:solidFill>
                <a:latin typeface="Arial Black"/>
              </a:rPr>
              <a:t>АП-СЕВЕР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13840" y="428400"/>
            <a:ext cx="8929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весная сист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Универсальная спинка (осн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ремень для крепления балл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2 плечевых рем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2 регулировочных 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1 поясной рем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лло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рный венти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единительный мах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дуктор с предохранительным клапа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Arial Black"/>
              </a:rPr>
              <a:t>Устройство </a:t>
            </a:r>
            <a:r>
              <a:rPr b="1" lang="ru-RU" sz="4000" spc="-1" strike="noStrike">
                <a:solidFill>
                  <a:srgbClr val="3399ff"/>
                </a:solidFill>
                <a:latin typeface="Arial Black"/>
              </a:rPr>
              <a:t>АП-СЕВЕР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929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ланг переменно высокого д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ланг постоянно низкого д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ланг для подсоединения спасательного устройства с быстроразъемным штуце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гочный автомат с клапаном аварийной подачи возду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ометр со звуковым сигнальным устрой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норамная ма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гочный автомат и маска для пострадавш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F:\АП Север\АП Север\Безимени-1.jpg"/>
          <p:cNvPicPr/>
          <p:nvPr/>
        </p:nvPicPr>
        <p:blipFill>
          <a:blip r:embed="rId1"/>
          <a:stretch/>
        </p:blipFill>
        <p:spPr>
          <a:xfrm>
            <a:off x="1143000" y="0"/>
            <a:ext cx="71438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F:\АП Север\АП Север\Безимени-3.jpg"/>
          <p:cNvPicPr/>
          <p:nvPr/>
        </p:nvPicPr>
        <p:blipFill>
          <a:blip r:embed="rId1"/>
          <a:stretch/>
        </p:blipFill>
        <p:spPr>
          <a:xfrm>
            <a:off x="0" y="0"/>
            <a:ext cx="4643280" cy="4764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F:\АП Север\АП Север\Безимени-4.jpg"/>
          <p:cNvPicPr/>
          <p:nvPr/>
        </p:nvPicPr>
        <p:blipFill>
          <a:blip r:embed="rId2"/>
          <a:stretch/>
        </p:blipFill>
        <p:spPr>
          <a:xfrm>
            <a:off x="4714920" y="1500120"/>
            <a:ext cx="4143240" cy="5149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 Black"/>
              </a:rPr>
              <a:t>Подвесная систем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2643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ужит для монтажа на ней всех частей аппарата и его крепления на теле че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 Black"/>
              </a:rPr>
              <a:t>Балло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-360" y="2492280"/>
            <a:ext cx="53276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редназнач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хранения рабочего запаса сжатого возд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IMG_0554"/>
          <p:cNvPicPr/>
          <p:nvPr/>
        </p:nvPicPr>
        <p:blipFill>
          <a:blip r:embed="rId1"/>
          <a:stretch/>
        </p:blipFill>
        <p:spPr>
          <a:xfrm>
            <a:off x="5462640" y="1413000"/>
            <a:ext cx="34574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рханов</dc:creator>
  <dc:description/>
  <dc:language>en-US</dc:language>
  <cp:lastModifiedBy>Пользователь Windows</cp:lastModifiedBy>
  <dcterms:modified xsi:type="dcterms:W3CDTF">2024-03-25T04:43:24Z</dcterms:modified>
  <cp:revision>31</cp:revision>
  <dc:subject/>
  <dc:title>PowerPoint Presentation</dc:title>
</cp:coreProperties>
</file>